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3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31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B75-7C9D-403B-9590-F32A4EFC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CDF-4E0E-47D3-B5A4-CD876627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0A5-DA03-42BE-B927-47811429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0B4F-C4B5-4795-9FE4-D61A4F65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46D-1E8C-4150-90CD-D67DC8F4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37F-F5B1-4EAF-9080-66B70B97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8E7F-42DF-485D-87E1-0E9C1DCB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BC8-B436-459F-A322-ADE28F40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810-20D8-4FC1-AA11-0CB7A124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DB4-AF37-406D-A9DC-B4116C24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400-FF22-4600-88CF-E5C420AD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85C-A492-4F2B-9452-6D101D56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FFFC-9AD3-409D-AB46-F3919A1029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hyperlink" Target="https://yandex.ru/images/search?text=&#1079;&#1085;&#1072;&#1095;&#1082;&#1080;%20&#1043;&#1058;&#1054;%20&#1088;&#1072;&#1085;&#1100;&#1096;&#1077;%20&#1080;%20&#1090;&#1077;&#1087;&#1077;&#1088;&#1100;&amp;redircnt=1438676516.1&amp;img_url=http://img.novoteka.ru/2013-03/13%25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szaopressa.ru/sitefiles/rn/655/News/gto.jpg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zaopressa.ru/sitefiles/rn/655/News/vystavka-gto-12.jpg03.&#1054;&#1088;&#1075;&#1072;&#1085;&#1080;&#1079;&#1072;&#1094;&#1080;&#1103;%20%20&#1088;&#1072;&#1073;&#1086;&#1090;&#1099;%20&#1087;&#1086;%20&#1054;&#1058;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viewport=wide&amp;text=&#1043;&#1058;&#1054;%20&#1080;%20&#1055;&#1059;&#1058;&#1048;&#1053;&amp;img_url=http://test.fmba.dev.armd.ru/common/upload/news/cover/1.jpeg.resize_72_108.jpg&amp;pos=2&amp;rpt=simage&amp;_=1438660926174&amp;pin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livekuban.ru.images.1c-bitrix-cdn.ru/upload/resize_cache/iblock/5aa/570_0_1/5aa5dfcfa89dbabdd100a9cfcf13ac9a.jpg?14290035796568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dn.static3.rtr-vesti.ru/vh/pictures/o/524/77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msport.ru/image/gto/207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российски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тов к труду и оборон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 flipV="1">
            <a:off x="0" y="6858000"/>
            <a:ext cx="9144000" cy="46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8" descr="http://www.cheboksary.ru/images/41542.jpg"/>
          <p:cNvPicPr/>
          <p:nvPr/>
        </p:nvPicPr>
        <p:blipFill>
          <a:blip r:embed="rId1"/>
          <a:stretch/>
        </p:blipFill>
        <p:spPr>
          <a:xfrm>
            <a:off x="214200" y="214200"/>
            <a:ext cx="2071800" cy="158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0" descr="http://school32-nv.ru/sites/default/files/u298/gto.jpg"/>
          <p:cNvPicPr/>
          <p:nvPr/>
        </p:nvPicPr>
        <p:blipFill>
          <a:blip r:embed="rId2"/>
          <a:stretch/>
        </p:blipFill>
        <p:spPr>
          <a:xfrm>
            <a:off x="1143000" y="2786040"/>
            <a:ext cx="68580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начки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img0.liveinternet.ru/images/attach/c/4/84/516/84516506_Gotov_k_trudu_i_oborone_SSSR_30th_anniversar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1571760"/>
            <a:ext cx="4030560" cy="457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szaopressa.ru/sitefiles/rn/655/News/gto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571760"/>
            <a:ext cx="4205160" cy="45860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8"/>
          <p:cNvSpPr/>
          <p:nvPr/>
        </p:nvSpPr>
        <p:spPr>
          <a:xfrm>
            <a:off x="428760" y="6072120"/>
            <a:ext cx="4000320" cy="7146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е зна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4500720" y="6072120"/>
            <a:ext cx="4214520" cy="7146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5772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получить значок советские граждане должны были сдавать нормативы по бегу, метанию гранаты, плаванию, отжиманию, бегу на лыжах, стрельбе и т. 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лучение и дальнейшее ношение значка ГТО было почет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dixinews.ru/up2/news/article/2015/06/11/big.jpg"/>
          <p:cNvPicPr/>
          <p:nvPr/>
        </p:nvPicPr>
        <p:blipFill>
          <a:blip r:embed="rId1"/>
          <a:stretch/>
        </p:blipFill>
        <p:spPr>
          <a:xfrm>
            <a:off x="1857240" y="14292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«От значка ГТО - к олимпийской медали!»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так гласил лозунг, вдохновлявший миллионы советских граждан на ежедневные занятия спортом, как минимум утренней гимнаст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ww.mordovmedia.ru/media/contests/24/profiles/ea3b14345d2bbbad0e6c6e3021962d1b.JPG"/>
          <p:cNvPicPr/>
          <p:nvPr/>
        </p:nvPicPr>
        <p:blipFill>
          <a:blip r:embed="rId1"/>
          <a:stretch/>
        </p:blipFill>
        <p:spPr>
          <a:xfrm>
            <a:off x="1147680" y="3000240"/>
            <a:ext cx="6604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parabadges.com/images/phocagallery/GTO%201972-1991/thumbs/phoca_thumb_l_1972_GTO_SEREBRO_3_A.jpg"/>
          <p:cNvPicPr/>
          <p:nvPr/>
        </p:nvPicPr>
        <p:blipFill>
          <a:blip r:embed="rId1"/>
          <a:stretch/>
        </p:blipFill>
        <p:spPr>
          <a:xfrm>
            <a:off x="571680" y="142920"/>
            <a:ext cx="3214440" cy="311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znachkov.net/spaw2/uploads/images/Zoloto_GTO_8_stupen.jpg"/>
          <p:cNvPicPr/>
          <p:nvPr/>
        </p:nvPicPr>
        <p:blipFill>
          <a:blip r:embed="rId2"/>
          <a:stretch/>
        </p:blipFill>
        <p:spPr>
          <a:xfrm>
            <a:off x="4857840" y="142920"/>
            <a:ext cx="3357360" cy="314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http://www.znachkov.net/spaw2/uploads/images/Znachki_GTO_1_stupen.jpg"/>
          <p:cNvPicPr/>
          <p:nvPr/>
        </p:nvPicPr>
        <p:blipFill>
          <a:blip r:embed="rId3"/>
          <a:stretch/>
        </p:blipFill>
        <p:spPr>
          <a:xfrm>
            <a:off x="1000080" y="3857760"/>
            <a:ext cx="6667560" cy="21906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6"/>
          <p:cNvSpPr/>
          <p:nvPr/>
        </p:nvSpPr>
        <p:spPr>
          <a:xfrm>
            <a:off x="1000080" y="6000840"/>
            <a:ext cx="66438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вые значки ГТО образца 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285840" y="3214800"/>
            <a:ext cx="371484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яный значок Г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4857840" y="3214800"/>
            <a:ext cx="33462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й значок Г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4000680" y="4500720"/>
            <a:ext cx="49291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2 годы значок ГТО в России имели  более 58 миллионов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cs625427.vk.me/v625427660/32f8d/aNQa8G3DQMM.jpg"/>
          <p:cNvPicPr/>
          <p:nvPr/>
        </p:nvPicPr>
        <p:blipFill>
          <a:blip r:embed="rId1"/>
          <a:stretch/>
        </p:blipFill>
        <p:spPr>
          <a:xfrm>
            <a:off x="642960" y="142920"/>
            <a:ext cx="6215040" cy="4394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www.virtualrm.spb.ru/files/images/%20%D0%AF.%D0%91.%D0%93%D0%BE%D1%82%D0%BE%D0%B2%20%D0%BB%D0%B8%20%D1%82%D1%8B%20%D0%BA%20%D1%81%D0%B4%D0%B0%D1%87%D0%B5%20%D0%BD%D0%BE%D1%80%D0%BC%20%D0%BD%D0%B0%20%D0%B7%D0%BD%D0%B0%D1%87%D0%BE%D0%BA%20%D0%93%D0%BE%D1%82%D0%BE%D0%B2%20%D1%83%20%D1%82%D1%80%D1%83%D0%B4%D1%83%20%D0%B8%20%D0%BE%D0%B1%D0%BE%D1%80%D0%BE%D0%BD%D0%B5,1932,%D0%B1%D1%83%D0%BC,%D1%85%D1%80%D0%BE%D0%BC%D0%BE%D0%BB%D0%B8%D1%82%D0%BE%D0%B3%D1%80.preview.jpg"/>
          <p:cNvPicPr/>
          <p:nvPr/>
        </p:nvPicPr>
        <p:blipFill>
          <a:blip r:embed="rId2"/>
          <a:stretch/>
        </p:blipFill>
        <p:spPr>
          <a:xfrm>
            <a:off x="642960" y="4500720"/>
            <a:ext cx="3417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357120" y="2858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Структура комплекса включает 11 ступе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142920" y="65988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357120" y="890640"/>
            <a:ext cx="8501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ступень: 1—2 классы (6—8 лет); 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 ступень: 3—4 классы (9—10 лет);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ступень: 5—6 классы (11—12 лет); 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V ступень: 7—9 классы (13—15 лет);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ступень: 10—11 классы, среднее профессиональное образование (16—17 лет); 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 ступень: 18—29 лет;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ступень: 30—39 лет; 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II ступень: 40—49 лет;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 ступень: 50—59 лет; 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ступень: 60—69 лет;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 ступень: 70 лет и старш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gor-reklama33.ru/images/Uslugi/stendy/1/stend_gto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Овал 2" descr=""/>
          <p:cNvPicPr/>
          <p:nvPr/>
        </p:nvPicPr>
        <p:blipFill>
          <a:blip r:embed="rId1"/>
          <a:stretch/>
        </p:blipFill>
        <p:spPr>
          <a:xfrm>
            <a:off x="768240" y="73080"/>
            <a:ext cx="6321600" cy="7318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2714760" y="683280"/>
            <a:ext cx="60004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 быть здоров, не бояться доктор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трам ты поднимай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рядку отправля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онечно, не забудь чистить зуб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ду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трак должен быть полез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было боле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ешь морковку и шпина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 твой будет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дома не сиди, а на улицу 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им воздухом дыши, не спе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и, лыжи и сне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иг избавят от т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где движенье места нет хандре и лени!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http://yamac.ru/wp-content/uploads/media/%D0%BA%D0%BE%D0%BD%D1%81%D0%BF%D0%B5%D0%BA%D1%82-%D0%9D%D0%9E%D0%94-%D0%A4%D0%B8%D0%B7%D0%B8%D1%87%D0%B5%D1%81%D0%BA%D0%B0%D1%8F-%D0%BA%D1%83%D0%BB%D1%8C%D1%82%D1%83%D1%80%D0%B0-%D1%83%D1%87%D0%B5%D0%B1%D0%BD%D0%BE-%D1%82%D1%80%D0%B5%D0%BD%D0%B8%D1%80%D1%83%D1%8E%D1%89%D0%B5%D0%B3%D0%BE-%D1%85%D0%B0%D1%80%D0%B0%D0%BA%D1%82%D0%B5%D1%80%D0%B0/image1.gif"/>
          <p:cNvPicPr/>
          <p:nvPr/>
        </p:nvPicPr>
        <p:blipFill>
          <a:blip r:embed="rId2"/>
          <a:stretch/>
        </p:blipFill>
        <p:spPr>
          <a:xfrm>
            <a:off x="0" y="2143080"/>
            <a:ext cx="27147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2762280"/>
            <a:ext cx="5846760" cy="1187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s://im2-tub-ru.yandex.net/i?id=531a605e0757bb4ecbefb28945d2a26b&amp;n=33&amp;h=170"/>
          <p:cNvPicPr/>
          <p:nvPr/>
        </p:nvPicPr>
        <p:blipFill>
          <a:blip r:embed="rId2"/>
          <a:stretch/>
        </p:blipFill>
        <p:spPr>
          <a:xfrm>
            <a:off x="214200" y="142920"/>
            <a:ext cx="2476440" cy="2476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cs421018.vk.me/v421018159/30f2/t6XuuLUj9Bg.jpg"/>
          <p:cNvPicPr/>
          <p:nvPr/>
        </p:nvPicPr>
        <p:blipFill>
          <a:blip r:embed="rId3"/>
          <a:stretch/>
        </p:blipFill>
        <p:spPr>
          <a:xfrm>
            <a:off x="2786040" y="142920"/>
            <a:ext cx="3530520" cy="2495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fotohomka.ru/images/Dec/06/de0076c64956ebbff0bc81f08c536dff/1.jpg"/>
          <p:cNvPicPr/>
          <p:nvPr/>
        </p:nvPicPr>
        <p:blipFill>
          <a:blip r:embed="rId4"/>
          <a:stretch/>
        </p:blipFill>
        <p:spPr>
          <a:xfrm>
            <a:off x="5715000" y="2500200"/>
            <a:ext cx="3219480" cy="2643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kamchat.info/images/cms/thumbs/562ea2fb1e6442bc25a636c4af9437d225fcf9eb/6581_253_auto_1_95.jpeg"/>
          <p:cNvPicPr/>
          <p:nvPr/>
        </p:nvPicPr>
        <p:blipFill>
          <a:blip r:embed="rId5"/>
          <a:stretch/>
        </p:blipFill>
        <p:spPr>
          <a:xfrm>
            <a:off x="214200" y="4071960"/>
            <a:ext cx="2409840" cy="2476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http://15klspb.caduk.ru/images/psi.gif"/>
          <p:cNvPicPr/>
          <p:nvPr/>
        </p:nvPicPr>
        <p:blipFill>
          <a:blip r:embed="rId6"/>
          <a:stretch/>
        </p:blipFill>
        <p:spPr>
          <a:xfrm>
            <a:off x="6215040" y="4714920"/>
            <a:ext cx="3263760" cy="248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http://www.lpgzt.ru/photo/news/1_5619.jpg"/>
          <p:cNvPicPr/>
          <p:nvPr/>
        </p:nvPicPr>
        <p:blipFill>
          <a:blip r:embed="rId7"/>
          <a:stretch/>
        </p:blipFill>
        <p:spPr>
          <a:xfrm>
            <a:off x="2928960" y="407196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9" descr=""/>
          <p:cNvPicPr/>
          <p:nvPr/>
        </p:nvPicPr>
        <p:blipFill>
          <a:blip r:embed="rId8"/>
          <a:stretch/>
        </p:blipFill>
        <p:spPr>
          <a:xfrm>
            <a:off x="4352760" y="109440"/>
            <a:ext cx="4589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8 класс\Рабочий стол\КАБЛУКОВ\ВСЁ СПОРТ\фотоКРОСС 2014\DSCF9273.JPG"/>
          <p:cNvPicPr/>
          <p:nvPr/>
        </p:nvPicPr>
        <p:blipFill>
          <a:blip r:embed="rId1"/>
          <a:stretch/>
        </p:blipFill>
        <p:spPr>
          <a:xfrm>
            <a:off x="0" y="0"/>
            <a:ext cx="7143840" cy="5357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2286000" y="54291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артуют вс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еликий врач Древнего Востока Авицен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 гимнастикой дружи, всегда веселым буд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 проживешь 100 лет, а может быть, и бол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икстуры, порошки – к здоровью ложный пу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родою лечись – в саду и чистом п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8 класс\Рабочий стол\КАБЛУКОВ\Звёзды К расноярья\Photo0371.jpg"/>
          <p:cNvPicPr/>
          <p:nvPr/>
        </p:nvPicPr>
        <p:blipFill>
          <a:blip r:embed="rId1"/>
          <a:stretch/>
        </p:blipFill>
        <p:spPr>
          <a:xfrm>
            <a:off x="0" y="0"/>
            <a:ext cx="7405560" cy="5554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1500120" y="557208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ревнования «Звёзды Красноярья-2015г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. Красноя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8 класс\Рабочий стол\КАБЛУКОВ\Звёзды К расноярья\Photo0369.jpg"/>
          <p:cNvPicPr/>
          <p:nvPr/>
        </p:nvPicPr>
        <p:blipFill>
          <a:blip r:embed="rId1"/>
          <a:stretch/>
        </p:blipFill>
        <p:spPr>
          <a:xfrm>
            <a:off x="0" y="0"/>
            <a:ext cx="7143840" cy="5357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357120" y="542916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 с игроками баскетбольного клуба «Енисей»-2015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слева Террико Решард Уайт, справа А. Комар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ВИЗ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ЗДОРОВАЯ НАЦИ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ЦВЕТАНИЕ РОССИ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 ТЫ ГОТОВ К ТРУДУ И ОБОРО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хема 2" descr=""/>
          <p:cNvPicPr/>
          <p:nvPr/>
        </p:nvPicPr>
        <p:blipFill>
          <a:blip r:embed="rId1"/>
          <a:stretch/>
        </p:blipFill>
        <p:spPr>
          <a:xfrm>
            <a:off x="55440" y="208080"/>
            <a:ext cx="891252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т чего зависит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ги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каз от вредных привы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иль жизни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14316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программа физкультурной подготовки. Программа ГТО была создана в Советском Союзе и просуществовала с 1931 до 1991 г. Она охватывала население от 10 до 60 ле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й предусматривалось всестороннее физическое развитие населения страны, укрепление и сохранение здоровья, подготовка к труду и защите Родины.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szaopressa.ru/sitefiles/rn/655/News/vystavka-gto-1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71280"/>
            <a:ext cx="48034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9120" cy="621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4 году Президент Российской Федерации Владимир Путин подписал указ о возвращении системы ГТО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имир Пут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заявил о том, что, несмотря на усилия по продвижению ценностей здорового образа жизни, сейчас многие дети имеют хронические заболевания, и ситуация с массовым и с детским спортом требует серьезных изме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novosti-ukrainy.com/uploads/posts/2014-09/putin-sobiraetsya-na-sammit-bolshoy-dvadcatki-v-avstraliyu-soobschil-peskov_1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6429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www.livekuban.ru.images.1c-bitrix-cdn.ru/upload/resize_cache/iblock/5aa/570_0_1/5aa5dfcfa89dbabdd100a9cfcf13ac9a.jpg?1429003579656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3500280"/>
            <a:ext cx="3786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321480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ловам министра образования РФ Дмитрия Ливанова, начиная с 2015 года,  результаты сдачи комплекса ГТО будут учитываться при поступлении в высшие учебные за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cdn.static3.rtr-vesti.ru/vh/pictures/o/524/7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21420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четный значок 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www.smsport.ru/image/gto/207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035000"/>
            <a:ext cx="35719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9-11-20T12:31:39Z</dcterms:modified>
  <cp:revision>289</cp:revision>
  <dc:subject/>
  <dc:title>Diapositiva 1</dc:title>
</cp:coreProperties>
</file>