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91C-754B-4F13-81AC-49A33A1E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55F-8281-462D-AAB6-FCB08703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F77-D3A1-4D0E-8614-F988903B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EE0E-0EA0-471E-A97A-56EFF9F4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989E-754D-432F-845F-57FE8674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3593-8EB1-4886-A71E-6065F0A3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6E0F-F64D-4BB5-993B-0A9E3994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86A4-1A82-432A-82E2-E062C7C1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4E25-44C2-4D4E-B2C0-0C09C22E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83AD-9B0C-4D1E-9FA9-4A3204EA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12F2-7D58-4F3F-AD1D-7015CA4D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5C1-1315-4966-89BF-605C7BD8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8BBD-3D13-44DF-818A-028A4F08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E7B8-DDD0-4A6D-A9E6-C99E7714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1441-3EE2-4B92-8EB3-D9BD367C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E604-3606-47FC-9A74-18C35DB5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FF31-DA98-414C-BCBB-6F99910D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259-8C53-4ECD-B746-1BDF2018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50D-9A64-4E63-BF48-C3B46A00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C45-9CF1-4FD4-BD0B-5D5F7C77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60A-C1F1-4EAF-A758-EFA8287F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F89F-09FB-4004-882C-E3130BA4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C521-E79E-4B0C-B096-584F3832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C1B-A88C-4848-93F3-97486E80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C055-AA5C-4EAB-AA22-329948CA96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489E-8432-47EB-9EFC-0AFAECAFF0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47ff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Здоровое питание».Проек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: Ермилова В.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гутова О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равильное питание: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МОЛОЧНЫЕ ПРОДУКТ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очных продук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лучше выбирать кисломолочные (кефир, ряженка, бифидок), натуральный творог, хотя не  следует пренебрегать и обычным молоком. В  молочных продуктах  содержатся белки, жиры,  углеводы, минеральные соли, витамины, необходимые нашему организ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равильное питание: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ОВОЩ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вощ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ы стать основой рацион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людей следящих за свои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оровьем. Капуста всех сор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цветная, брокколи, обыч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окочанная) болгарский перец, салат, бобовые, томаты, огурцы, репчатый лук, чеснок, картофель и зелень (петрушка, укроп, кинза, зеленый лук, сельдерей) должны появляться на вашем столе каждый день в большом количестве. Употреблять овощи можно в вареном, тушеном и сыром виде. Жаренная картошка, конечно же, вещь вкусная, но для фигуры это блюдо – враг №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DSC02448"/>
          <p:cNvPicPr/>
          <p:nvPr/>
        </p:nvPicPr>
        <p:blipFill>
          <a:blip r:embed="rId2"/>
          <a:stretch/>
        </p:blipFill>
        <p:spPr>
          <a:xfrm>
            <a:off x="7772400" y="59436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DSC02454"/>
          <p:cNvPicPr/>
          <p:nvPr/>
        </p:nvPicPr>
        <p:blipFill>
          <a:blip r:embed="rId3"/>
          <a:stretch/>
        </p:blipFill>
        <p:spPr>
          <a:xfrm>
            <a:off x="0" y="0"/>
            <a:ext cx="2181240" cy="3276720"/>
          </a:xfrm>
          <a:prstGeom prst="rect">
            <a:avLst/>
          </a:prstGeom>
          <a:ln w="0">
            <a:noFill/>
          </a:ln>
        </p:spPr>
      </p:pic>
    </p:spTree>
  </p:cSld>
  <p:transition advTm="20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00"/>
            </a:gs>
            <a:gs pos="50000">
              <a:srgbClr val="cccc00"/>
            </a:gs>
            <a:gs pos="100000">
              <a:srgbClr val="cc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авильное питание: </a:t>
            </a:r>
            <a:br>
              <a:rPr sz="3400"/>
            </a:b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ФРУКТЫ И ЯГОД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укты и яг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но есть, 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асаясь за свою фигуру, они 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вкусны и полезны, но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рят хорошее настро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зны все без исклю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: виноград, бана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насы, яблоки, груши, апельси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наты, сливы, вишни, персики, крыжовник, клубника, грейпфруты, лимоны и т.д. Фрукты сохраняют свои полезные свойства и в сушеном виде – изюм, курага, финики, инжир, хурма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DSC02431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4172040"/>
          </a:xfrm>
          <a:prstGeom prst="rect">
            <a:avLst/>
          </a:prstGeom>
          <a:ln w="0">
            <a:noFill/>
          </a:ln>
        </p:spPr>
      </p:pic>
    </p:spTree>
  </p:cSld>
  <p:transition advTm="20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cc"/>
            </a:gs>
            <a:gs pos="50000">
              <a:srgbClr val="c2279b"/>
            </a:gs>
            <a:gs pos="100000">
              <a:srgbClr val="ff33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едостережени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и никто в современном мире не способен контролировать химический состав пищи, которую он употребляет. Все чаще в качестве «обязательной добавки» с фруктами, овощами, мясом и рыбой мы получаем остаточные элементы десятка видов пестицидов, нитратов, солей тяжелых металлов, радиоактивных веществ, биохимических добавок. В результате в организме накапливается «запас» опасных химических веществ, которые могут привести к мутации органов и тканей, развитию тяжелых заболеваний, в том числе и рак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100000">
              <a:srgbClr val="fe98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едостережени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знать, что больше всего вредных химических веществ накапливается в кожуре овощей, корнеплодов, фруктов. Поэтому их нужно тщательно промывать под струей теплой воды или срезать кожуру. Таким образом можно существенно снизить содержание вредных веществ. Можно прибегнуть к вымачиванию нарезанных овощей в течении 45-60 минут в подсоленной воде. Затем воду слить, овощи промыть и использовать для приготовления 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риготовлении мясных блюд мясо сначала помещают в холодную воду, доводят до кипения и через 3 – 4 минуты сливают воду. Затем снова заливают водой и  готов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бу также следует хорошо промыть и очистить. Предварительное вымачивание рыбы в подсоленной воде значительно снижает уровень вредных примес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авильное питание: </a:t>
            </a: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КРУП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ярное употребление блюд из различн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у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гречки, пшена, овсянки) способствует очищению организма, укреплению стенок сосудов, выведению вредных химических и радиоактивных веществ из организма, что благоприятно сказывается на здоровье и внешнем ви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61800"/>
            </a:gs>
            <a:gs pos="50000">
              <a:srgbClr val="ff3300"/>
            </a:gs>
            <a:gs pos="100000">
              <a:srgbClr val="761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ринципы правильного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ща должна поступать в организм дробными, не слишком большими порциями. Вечерняя порция (ужин) должна быть по калорийности меньше оста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ренность и разнообразие в пище помогут сохранить и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ощи и фрукты должны количественно преобладать над мясными продук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ы должно быть больше , чем мя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отдавать предпочтение растительным жир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ционе должны присутствовать кисломолочные проду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хар лучше заменить медом, или употреблять в незначительных количеств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о включите в свой рацион различные крупы, особенно овсяную, гречневую и пш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еная и приготовленная на пару пища должна преобладать над жарен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ообразнейшие приправы (карри, гвоздика, имбирь, красный, черный и белый перец, лавровый лист, розмарин, мускатный орех, майоран, кориандр, душица и т.д.) должны употреблять чаще, чем соль (а то и вовсе заменять со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итательные вещест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ищей человек получает необходим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му питательные вещества. Какие же это вещества?  Давайте познакомимся с н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514600" y="1447920"/>
            <a:ext cx="50292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Скажи,  что  ты  ешь, и  я  скажу, кто  ты"</a:t>
            </a:r>
            <a:endParaRPr b="1" i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762120" y="2057400"/>
            <a:ext cx="6858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Человек - это то, что он ест и когда он ест"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advTm="20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итательные вещест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елки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щества, которые служат основным «строительным материалом» для тела человека. Особенно нужен такой материал детям – для роста и развития. Белки содержатся во многих продуктах. Ими богаты творог, яйца, мясо, рыба, горох, фас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ир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ют организм энергией, а также служат «строительным материалом» тела. Источником жиров являются сливочные и растительные масла, маргарин, смет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ffff"/>
            </a:gs>
            <a:gs pos="100000">
              <a:srgbClr val="00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итательные вещест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глев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главный поставщик энергии для нашего тела. К ним относятся сахар и крахмал. Углеводами богаты хлеб, крупы, картофель, макароны, кондитерские изделия, фрук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ы для сохранения и укрепления здоровья. Их много в овощах и фрук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ринцип правильного пит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правильного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сформулировать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их слов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учше меньше, да лучш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льно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ноц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но отвеч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им норм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ища должна поступать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м регулярно, мел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ища должна быть разнообразн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ясо, рыба, молочные продукты, круп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ощи, фру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DSC02456"/>
          <p:cNvPicPr/>
          <p:nvPr/>
        </p:nvPicPr>
        <p:blipFill>
          <a:blip r:embed="rId1"/>
          <a:stretch/>
        </p:blipFill>
        <p:spPr>
          <a:xfrm>
            <a:off x="6553080" y="1447920"/>
            <a:ext cx="2590920" cy="4419360"/>
          </a:xfrm>
          <a:prstGeom prst="rect">
            <a:avLst/>
          </a:prstGeom>
          <a:ln w="0">
            <a:noFill/>
          </a:ln>
        </p:spPr>
      </p:pic>
    </p:spTree>
  </p:cSld>
  <p:transition advTm="20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00"/>
            </a:gs>
            <a:gs pos="100000">
              <a:srgbClr val="e4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авильное питание: </a:t>
            </a: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МЯС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око распространено мнение, что употребление мяса в пищу вредно, однако это совсем не так. Мясо отве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насыщ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его организма желез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ым для вырабо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моглобина в крови. Гемоглоб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чает за переноску кислор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рганизме. Самые богат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езом мясные продукт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ядина, печень и п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DSC02441"/>
          <p:cNvPicPr/>
          <p:nvPr/>
        </p:nvPicPr>
        <p:blipFill>
          <a:blip r:embed="rId1"/>
          <a:stretch/>
        </p:blipFill>
        <p:spPr>
          <a:xfrm>
            <a:off x="6477120" y="3124080"/>
            <a:ext cx="2666880" cy="3733920"/>
          </a:xfrm>
          <a:prstGeom prst="rect">
            <a:avLst/>
          </a:prstGeom>
          <a:ln w="0">
            <a:noFill/>
          </a:ln>
        </p:spPr>
      </p:pic>
    </p:spTree>
  </p:cSld>
  <p:transition advTm="20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авильное 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                      питание: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РЫБ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ационе рыбы должно быть в полтора-два раза больше, чем мяса. В молодом возрасте лучше выбирать нежирные сорта морской и речной рыбы. (минтай, навага, треска, судак, камбала, окунь). В пожилом возрасте полезнее жирная рыба – семга, кета, горбуша, лос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DSC02449"/>
          <p:cNvPicPr/>
          <p:nvPr/>
        </p:nvPicPr>
        <p:blipFill>
          <a:blip r:embed="rId1"/>
          <a:stretch/>
        </p:blipFill>
        <p:spPr>
          <a:xfrm>
            <a:off x="0" y="0"/>
            <a:ext cx="4495680" cy="2209680"/>
          </a:xfrm>
          <a:prstGeom prst="rect">
            <a:avLst/>
          </a:prstGeom>
          <a:ln w="0">
            <a:noFill/>
          </a:ln>
        </p:spPr>
      </p:pic>
    </p:spTree>
  </p:cSld>
  <p:transition advTm="20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равильное питание: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ЖИВОТНЫЕ ЖИ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Животные жи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ливочное масло, свиной или говяжий жир) должны присутствовать в незначительн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е. Совсем исключить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из рациона неразумно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, ежеднев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терброд с 5-ю грамм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ивочного масла полезен дл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ки туберкуле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DSC02462"/>
          <p:cNvPicPr/>
          <p:nvPr/>
        </p:nvPicPr>
        <p:blipFill>
          <a:blip r:embed="rId2"/>
          <a:stretch/>
        </p:blipFill>
        <p:spPr>
          <a:xfrm>
            <a:off x="0" y="3429000"/>
            <a:ext cx="2362320" cy="3429000"/>
          </a:xfrm>
          <a:prstGeom prst="rect">
            <a:avLst/>
          </a:prstGeom>
          <a:ln w="0">
            <a:noFill/>
          </a:ln>
        </p:spPr>
      </p:pic>
    </p:spTree>
  </p:cSld>
  <p:transition advTm="20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авильное питание: </a:t>
            </a: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й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употреблять не 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3 штук в неделю, поскольку 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ща, тяжелая для желуд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следнее время в продаже появились перепелиные яйца. Их можно безбоязненно есть в сыром виде, потому что в перепелиных яйцах не бывает бактерий сальмонеллы, можно варить и добавлять в салаты. Употребление перепелиных яиц способствует выведению радионуклидов из организма. По содержанию витамина А и микроэлементов перепелиные яйца в несколько раз превосходят кур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DSC02458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p:transition advTm="20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рмилова В.Б.</dc:creator>
  <dc:description/>
  <dc:language>en-US</dc:language>
  <cp:lastModifiedBy>Ольга Николаевна</cp:lastModifiedBy>
  <dcterms:modified xsi:type="dcterms:W3CDTF">2019-11-15T11:13:0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