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DFD8-2713-44C8-A781-2EF1BD0E9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F36B-9F5C-494B-BB99-992077519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2F7F-7862-4078-85A9-BCD552D14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4040-4FCC-42FB-9F79-F27E962F0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9CE94-A579-41E2-8666-C7F8806A9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0F022-283B-4BAC-BCF6-D4A9468E7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5B9A7-3502-4E3B-938C-E43975F29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136F0-96EE-4A47-8000-94F70C936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97D95-8E87-40E8-A6DE-825F19646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237CD-1A7A-4660-8C1E-138144611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FE08C-5E18-4F71-A643-0FC2B818C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D737-5EDA-40F6-9817-F2C94A15B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B38F7-F51D-42C3-AEC6-D5112DC08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359A4-B6A6-49F0-BA3B-D5B9BC6ED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E06F4-2D36-45EE-8441-699513A72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592AA-BF61-4659-934F-DB8EA222D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3C53B-23AD-434D-9C04-0EA7D90C7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B105-1C90-4BAA-AA38-E21C0F529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565E-F240-4BDA-AB13-86E59AA2B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85C7-2121-4C02-97FE-DA0434E4B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818A-F81E-4551-9B30-93A16D4A7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EED2-DAD2-4F8A-B6E2-DAAA81896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A0BA-887C-4C20-8453-1AE95F8CF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B08A-4EBC-459B-8C19-6C71AE959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CECEF-324E-49DE-889F-A25B954372B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44A74-16DC-4A74-B532-FE89BC15393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47ff"/>
            </a:gs>
            <a:gs pos="100000">
              <a:srgbClr val="0047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Здоровое питание».Проек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спитатель: Ермилова В.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Жгутова О.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0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Правильное питание: </a:t>
            </a:r>
            <a:r>
              <a:rPr b="1" i="1" lang="ru-RU" sz="3400" spc="-1" strike="noStrike">
                <a:solidFill>
                  <a:srgbClr val="000000"/>
                </a:solidFill>
                <a:latin typeface="Arial"/>
              </a:rPr>
              <a:t>МОЛОЧНЫЕ ПРОДУКТЫ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520" y="167616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лочных продукто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лучше выбирать кисломолочные (кефир, ряженка, бифидок), натуральный творог, хотя не  следует пренебрегать и обычным молоком. В  молочных продуктах  содержатся белки, жиры,  углеводы, минеральные соли, витамины, необходимые нашему организ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0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Правильное питание: </a:t>
            </a:r>
            <a:r>
              <a:rPr b="1" i="1" lang="ru-RU" sz="3400" spc="-1" strike="noStrike">
                <a:solidFill>
                  <a:srgbClr val="000000"/>
                </a:solidFill>
                <a:latin typeface="Arial"/>
              </a:rPr>
              <a:t>ОВОЩИ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вощи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лжны стать основой рациона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ля людей следящих за своим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доровьем. Капуста всех сорт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цветная, брокколи, обычн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елокочанная) болгарский перец, салат, бобовые, томаты, огурцы, репчатый лук, чеснок, картофель и зелень (петрушка, укроп, кинза, зеленый лук, сельдерей) должны появляться на вашем столе каждый день в большом количестве. Употреблять овощи можно в вареном, тушеном и сыром виде. Жаренная картошка, конечно же, вещь вкусная, но для фигуры это блюдо – враг №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DSC02448"/>
          <p:cNvPicPr/>
          <p:nvPr/>
        </p:nvPicPr>
        <p:blipFill>
          <a:blip r:embed="rId2"/>
          <a:stretch/>
        </p:blipFill>
        <p:spPr>
          <a:xfrm>
            <a:off x="7772400" y="5943600"/>
            <a:ext cx="1371600" cy="9144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DSC02454"/>
          <p:cNvPicPr/>
          <p:nvPr/>
        </p:nvPicPr>
        <p:blipFill>
          <a:blip r:embed="rId3"/>
          <a:stretch/>
        </p:blipFill>
        <p:spPr>
          <a:xfrm>
            <a:off x="0" y="0"/>
            <a:ext cx="2181240" cy="3276720"/>
          </a:xfrm>
          <a:prstGeom prst="rect">
            <a:avLst/>
          </a:prstGeom>
          <a:ln w="0">
            <a:noFill/>
          </a:ln>
        </p:spPr>
      </p:pic>
    </p:spTree>
  </p:cSld>
  <p:transition advTm="20000"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00"/>
            </a:gs>
            <a:gs pos="50000">
              <a:srgbClr val="cccc00"/>
            </a:gs>
            <a:gs pos="100000">
              <a:srgbClr val="cccc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Правильное питание: </a:t>
            </a:r>
            <a:br>
              <a:rPr sz="3400"/>
            </a:br>
            <a:r>
              <a:rPr b="1" i="1" lang="ru-RU" sz="3400" spc="-1" strike="noStrike">
                <a:solidFill>
                  <a:srgbClr val="000000"/>
                </a:solidFill>
                <a:latin typeface="Arial"/>
              </a:rPr>
              <a:t>ФРУКТЫ И ЯГОДЫ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89917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рукты и ягод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можно есть, н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асаясь за свою фигуру, они н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олько вкусны и полезны, но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арят хорошее настроени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лезны все без исключ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рукты: виноград, бананы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нанасы, яблоки, груши, апельсины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ранаты, сливы, вишни, персики, крыжовник, клубника, грейпфруты, лимоны и т.д. Фрукты сохраняют свои полезные свойства и в сушеном виде – изюм, курага, финики, инжир, хурма и т.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DSC02431"/>
          <p:cNvPicPr/>
          <p:nvPr/>
        </p:nvPicPr>
        <p:blipFill>
          <a:blip r:embed="rId1"/>
          <a:stretch/>
        </p:blipFill>
        <p:spPr>
          <a:xfrm>
            <a:off x="6324480" y="0"/>
            <a:ext cx="2819520" cy="4172040"/>
          </a:xfrm>
          <a:prstGeom prst="rect">
            <a:avLst/>
          </a:prstGeom>
          <a:ln w="0">
            <a:noFill/>
          </a:ln>
        </p:spPr>
      </p:pic>
    </p:spTree>
  </p:cSld>
  <p:transition advTm="20000"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33cc"/>
            </a:gs>
            <a:gs pos="50000">
              <a:srgbClr val="c2279b"/>
            </a:gs>
            <a:gs pos="100000">
              <a:srgbClr val="ff33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Предостережение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ктически никто в современном мире не способен контролировать химический состав пищи, которую он употребляет. Все чаще в качестве «обязательной добавки» с фруктами, овощами, мясом и рыбой мы получаем остаточные элементы десятка видов пестицидов, нитратов, солей тяжелых металлов, радиоактивных веществ, биохимических добавок. В результате в организме накапливается «запас» опасных химических веществ, которые могут привести к мутации органов и тканей, развитию тяжелых заболеваний, в том числе и раков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0"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9900"/>
            </a:gs>
            <a:gs pos="100000">
              <a:srgbClr val="fe98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Предостережение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240" y="761760"/>
            <a:ext cx="89154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обходимо знать, что больше всего вредных химических веществ накапливается в кожуре овощей, корнеплодов, фруктов. Поэтому их нужно тщательно промывать под струей теплой воды или срезать кожуру. Таким образом можно существенно снизить содержание вредных веществ. Можно прибегнуть к вымачиванию нарезанных овощей в течении 45-60 минут в подсоленной воде. Затем воду слить, овощи промыть и использовать для приготовления е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приготовлении мясных блюд мясо сначала помещают в холодную воду, доводят до кипения и через 3 – 4 минуты сливают воду. Затем снова заливают водой и  готовя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ыбу также следует хорошо промыть и очистить. Предварительное вымачивание рыбы в подсоленной воде значительно снижает уровень вредных примес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0">
    <p:randomBa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Правильное питание: </a:t>
            </a:r>
            <a:r>
              <a:rPr b="1" i="1" lang="ru-RU" sz="3800" spc="-1" strike="noStrike">
                <a:solidFill>
                  <a:srgbClr val="000000"/>
                </a:solidFill>
                <a:latin typeface="Arial"/>
              </a:rPr>
              <a:t>КРУПЫ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гулярное употребление блюд из различных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руп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гречки, пшена, овсянки) способствует очищению организма, укреплению стенок сосудов, выведению вредных химических и радиоактивных веществ из организма, что благоприятно сказывается на здоровье и внешнем ви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0"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761800"/>
            </a:gs>
            <a:gs pos="50000">
              <a:srgbClr val="ff3300"/>
            </a:gs>
            <a:gs pos="100000">
              <a:srgbClr val="7618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новные принципы правильного пит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ища должна поступать в организм дробными, не слишком большими порциями. Вечерняя порция (ужин) должна быть по калорийности меньше остальны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меренность и разнообразие в пище помогут сохранить и здоровь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вощи и фрукты должны количественно преобладать над мясными продукт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ыбы должно быть больше , чем мя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ужно отдавать предпочтение растительным жир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рационе должны присутствовать кисломолочные продук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хар лучше заменить медом, или употреблять в незначительных количеств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язательно включите в свой рацион различные крупы, особенно овсяную, гречневую и пшенну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ареная и приготовленная на пару пища должна преобладать над жаренно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нообразнейшие приправы (карри, гвоздика, имбирь, красный, черный и белый перец, лавровый лист, розмарин, мускатный орех, майоран, кориандр, душица и т.д.) должны употреблять чаще, чем соль (а то и вовсе заменять соль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0">
    <p:randomBa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2120" y="1828440"/>
            <a:ext cx="914400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0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Питательные вещества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 пищей человек получает необходимы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рганизму питательные вещества. Какие же это вещества?  Давайте познакомимся с ни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WordArt 4"/>
          <p:cNvSpPr txBox="1"/>
          <p:nvPr/>
        </p:nvSpPr>
        <p:spPr>
          <a:xfrm>
            <a:off x="2514600" y="1447920"/>
            <a:ext cx="5029200" cy="42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00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"Скажи,  что  ты  ешь, и  я  скажу, кто  ты"</a:t>
            </a:r>
            <a:endParaRPr b="1" i="1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ff00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0" name="WordArt 5"/>
          <p:cNvSpPr txBox="1"/>
          <p:nvPr/>
        </p:nvSpPr>
        <p:spPr>
          <a:xfrm>
            <a:off x="762120" y="2057400"/>
            <a:ext cx="685800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"Человек - это то, что он ест и когда он ест"</a:t>
            </a:r>
            <a:endParaRPr b="1" i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ransition advTm="20000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Питательные вещества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Белки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щества, которые служат основным «строительным материалом» для тела человека. Особенно нужен такой материал детям – для роста и развития. Белки содержатся во многих продуктах. Ими богаты творог, яйца, мясо, рыба, горох, фасол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Жиры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еспечивают организм энергией, а также служат «строительным материалом» тела. Источником жиров являются сливочные и растительные масла, маргарин, смета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0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50000">
              <a:srgbClr val="00ffff"/>
            </a:gs>
            <a:gs pos="100000">
              <a:srgbClr val="0000cc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Питательные вещества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Углевод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главный поставщик энергии для нашего тела. К ним относятся сахар и крахмал. Углеводами богаты хлеб, крупы, картофель, макароны, кондитерские изделия, фрук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Витамины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обходимы для сохранения и укрепления здоровья. Их много в овощах и фрукт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5000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00"/>
            </a:gs>
            <a:gs pos="100000">
              <a:srgbClr val="ff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Arial"/>
              </a:rPr>
              <a:t>Принцип правильного питания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нцип правильного пит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жно сформулировать 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скольких словах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Лучше меньше, да лучше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рмально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лноценн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ита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должно отвеча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едующим норма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Пища должна поступать 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ганизм регулярно, мелки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рци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Пища должна быть разнообразной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ясо, рыба, молочные продукты, крупы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вощи, фрук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DSC02456"/>
          <p:cNvPicPr/>
          <p:nvPr/>
        </p:nvPicPr>
        <p:blipFill>
          <a:blip r:embed="rId1"/>
          <a:stretch/>
        </p:blipFill>
        <p:spPr>
          <a:xfrm>
            <a:off x="6553080" y="1447920"/>
            <a:ext cx="2590920" cy="4419360"/>
          </a:xfrm>
          <a:prstGeom prst="rect">
            <a:avLst/>
          </a:prstGeom>
          <a:ln w="0">
            <a:noFill/>
          </a:ln>
        </p:spPr>
      </p:pic>
    </p:spTree>
  </p:cSld>
  <p:transition advTm="20000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0000"/>
            </a:gs>
            <a:gs pos="100000">
              <a:srgbClr val="e476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Правильное питание: </a:t>
            </a:r>
            <a:r>
              <a:rPr b="1" i="1" lang="ru-RU" sz="3800" spc="-1" strike="noStrike">
                <a:solidFill>
                  <a:srgbClr val="000000"/>
                </a:solidFill>
                <a:latin typeface="Arial"/>
              </a:rPr>
              <a:t>МЯСО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Широко распространено мнение, что употребление мяса в пищу вредно, однако это совсем не так. Мясо отвечае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 насыще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шего организма железом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обходимым для выработ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емоглобина в крови. Гемоглоби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вечает за переноску кислород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организме. Самые богаты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железом мясные продукты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овядина, печень и поч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DSC02441"/>
          <p:cNvPicPr/>
          <p:nvPr/>
        </p:nvPicPr>
        <p:blipFill>
          <a:blip r:embed="rId1"/>
          <a:stretch/>
        </p:blipFill>
        <p:spPr>
          <a:xfrm>
            <a:off x="6477120" y="3124080"/>
            <a:ext cx="2666880" cy="3733920"/>
          </a:xfrm>
          <a:prstGeom prst="rect">
            <a:avLst/>
          </a:prstGeom>
          <a:ln w="0">
            <a:noFill/>
          </a:ln>
        </p:spPr>
      </p:pic>
    </p:spTree>
  </p:cSld>
  <p:transition advTm="20000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9900"/>
            </a:gs>
            <a:gs pos="100000">
              <a:srgbClr val="ff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Правильное  </a:t>
            </a:r>
            <a:br>
              <a:rPr sz="3400"/>
            </a:b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                                  питание: </a:t>
            </a:r>
            <a:r>
              <a:rPr b="1" i="1" lang="ru-RU" sz="3400" spc="-1" strike="noStrike">
                <a:solidFill>
                  <a:srgbClr val="000000"/>
                </a:solidFill>
                <a:latin typeface="Arial"/>
              </a:rPr>
              <a:t>РЫБА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рационе рыбы должно быть в полтора-два раза больше, чем мяса. В молодом возрасте лучше выбирать нежирные сорта морской и речной рыбы. (минтай, навага, треска, судак, камбала, окунь). В пожилом возрасте полезнее жирная рыба – семга, кета, горбуша, лосо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DSC02449"/>
          <p:cNvPicPr/>
          <p:nvPr/>
        </p:nvPicPr>
        <p:blipFill>
          <a:blip r:embed="rId1"/>
          <a:stretch/>
        </p:blipFill>
        <p:spPr>
          <a:xfrm>
            <a:off x="0" y="0"/>
            <a:ext cx="4495680" cy="2209680"/>
          </a:xfrm>
          <a:prstGeom prst="rect">
            <a:avLst/>
          </a:prstGeom>
          <a:ln w="0">
            <a:noFill/>
          </a:ln>
        </p:spPr>
      </p:pic>
    </p:spTree>
  </p:cSld>
  <p:transition advTm="20000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Правильное питание: </a:t>
            </a:r>
            <a:r>
              <a:rPr b="1" i="1" lang="ru-RU" sz="3400" spc="-1" strike="noStrike">
                <a:solidFill>
                  <a:srgbClr val="000000"/>
                </a:solidFill>
                <a:latin typeface="Arial"/>
              </a:rPr>
              <a:t>ЖИВОТНЫЕ ЖИРЫ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Животные жир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сливочное масло, свиной или говяжий жир) должны присутствовать в незначительно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личестве. Совсем исключить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х из рациона неразумно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пример, ежедневны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утерброд с 5-ю граммам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ливочного масла полезен для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филактики туберкулез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DSC02462"/>
          <p:cNvPicPr/>
          <p:nvPr/>
        </p:nvPicPr>
        <p:blipFill>
          <a:blip r:embed="rId2"/>
          <a:stretch/>
        </p:blipFill>
        <p:spPr>
          <a:xfrm>
            <a:off x="0" y="3429000"/>
            <a:ext cx="2362320" cy="3429000"/>
          </a:xfrm>
          <a:prstGeom prst="rect">
            <a:avLst/>
          </a:prstGeom>
          <a:ln w="0">
            <a:noFill/>
          </a:ln>
        </p:spPr>
      </p:pic>
    </p:spTree>
  </p:cSld>
  <p:transition advTm="20000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Правильное питание: </a:t>
            </a:r>
            <a:r>
              <a:rPr b="1" i="1" lang="ru-RU" sz="3800" spc="-1" strike="noStrike">
                <a:solidFill>
                  <a:srgbClr val="000000"/>
                </a:solidFill>
                <a:latin typeface="Arial"/>
              </a:rPr>
              <a:t>ЯЙЦА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240" y="838080"/>
            <a:ext cx="89154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Яйца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едует употреблять не боле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-3 штук в неделю, поскольку эт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ища, тяжелая для желудк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последнее время в продаже появились перепелиные яйца. Их можно безбоязненно есть в сыром виде, потому что в перепелиных яйцах не бывает бактерий сальмонеллы, можно варить и добавлять в салаты. Употребление перепелиных яиц способствует выведению радионуклидов из организма. По содержанию витамина А и микроэлементов перепелиные яйца в несколько раз превосходят курны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DSC02458"/>
          <p:cNvPicPr/>
          <p:nvPr/>
        </p:nvPicPr>
        <p:blipFill>
          <a:blip r:embed="rId2"/>
          <a:stretch/>
        </p:blipFill>
        <p:spPr>
          <a:xfrm>
            <a:off x="6629400" y="0"/>
            <a:ext cx="2514600" cy="2438280"/>
          </a:xfrm>
          <a:prstGeom prst="rect">
            <a:avLst/>
          </a:prstGeom>
          <a:ln w="0">
            <a:noFill/>
          </a:ln>
        </p:spPr>
      </p:pic>
    </p:spTree>
  </p:cSld>
  <p:transition advTm="20000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Ермилова В.Б.</dc:creator>
  <dc:description/>
  <dc:language>en-US</dc:language>
  <cp:lastModifiedBy>Ольга Николаевна</cp:lastModifiedBy>
  <dcterms:modified xsi:type="dcterms:W3CDTF">2019-11-15T11:13:00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