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FEE-06EA-40DB-B14F-A2945A77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FA2-B3EC-47CF-AA6A-83D2E172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C76-BCA7-4564-A9CA-4FC53E27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0B9-08E3-496B-846A-C5552199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B905-C302-4C18-8A7D-634DC339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C229-F39A-4E9E-91F4-60B8FB89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CF07-6ACC-4514-8F88-894EC2C8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C214-CE7D-498D-A483-BD6EEE95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CF32-60B5-4405-B3E9-759155E6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0680-449E-4583-B9C3-C735C622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262A-E4A7-4917-A12C-DE2F1A4E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054-0BB5-4998-9EAA-E93D71DE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4BAB-BB15-4798-9C21-5129B34D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7587-53DC-4958-8AD2-EA4EB62D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1AA1-083B-4DBE-8851-290361FC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2531-DD4C-4ACA-9444-A9C0D8D9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1283-7B61-484C-9039-CBBD5E90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A34-CC5D-42FB-A17B-7D076CCC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72D-3EC0-465F-9D14-6FE61498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BBC-481A-44F3-9262-2AD2DE95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52D1-F806-4E27-904C-26FA96A3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CB1B-722A-431F-B126-C13791AE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D38-4EEB-448A-B8BC-0FB3BF88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488-969D-4ABC-9A3D-02532F1A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424A-F2EA-4CBE-B397-44C40211705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3C76-F7C2-47F6-B815-80AA72F7E63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доровое питание и ребенок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Picture 4" descr="00012573"/>
          <p:cNvPicPr/>
          <p:nvPr/>
        </p:nvPicPr>
        <p:blipFill>
          <a:blip r:embed="rId1"/>
          <a:stretch/>
        </p:blipFill>
        <p:spPr>
          <a:xfrm>
            <a:off x="1403280" y="2276640"/>
            <a:ext cx="2781360" cy="417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00012774"/>
          <p:cNvPicPr/>
          <p:nvPr/>
        </p:nvPicPr>
        <p:blipFill>
          <a:blip r:embed="rId2"/>
          <a:stretch/>
        </p:blipFill>
        <p:spPr>
          <a:xfrm>
            <a:off x="5219640" y="2276640"/>
            <a:ext cx="275292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2"/>
          <p:cNvSpPr/>
          <p:nvPr/>
        </p:nvSpPr>
        <p:spPr>
          <a:xfrm>
            <a:off x="1042920" y="2133720"/>
            <a:ext cx="2952720" cy="381636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Недостаточ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потреб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итаминов, бел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микроэлемен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4427640" y="4005360"/>
            <a:ext cx="1081080" cy="115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6804000" y="1989000"/>
            <a:ext cx="1728720" cy="158436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6443640" y="4005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дболезнь ил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лез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6"/>
          <p:cNvSpPr/>
          <p:nvPr/>
        </p:nvSpPr>
        <p:spPr>
          <a:xfrm rot="18066000">
            <a:off x="5404680" y="1667160"/>
            <a:ext cx="143964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нагруз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правильное питание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овет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Rectangle 4"/>
          <p:cNvSpPr/>
          <p:nvPr/>
        </p:nvSpPr>
        <p:spPr>
          <a:xfrm flipV="1" rot="10800000">
            <a:off x="1258920" y="2271600"/>
            <a:ext cx="57513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вайте  наглядно продемонстрируем ребенку преимущества здорового пита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льчиков можно «воодушевить» с помощью объяснения, что  полезные продукты – путь к физической силе, высокому рост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 девочек можно повлиять с помощью рассказов о красоте волос и кожи. Возможные последствия переедания сладкого или жирного: кариес, ожирение, выпадение волос, угревая сып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«Забота о здоровье – это важнейший труд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воспитателя. От жизнерадостности, бодрости детей зависит их духовная жизнь, мировоззрение, умственное развитие, прочность знаний и вера в</a:t>
            </a:r>
            <a:br>
              <a:rPr sz="1800"/>
            </a:b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свои силы» В.А.Сухомлинский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облема здоровья – проблема питани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доровое питание должно являться неотъемлемой частью повседневной жизни и способствовать крепкому физиологическому, психическому и социальному здоровью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j0240719"/>
          <p:cNvPicPr/>
          <p:nvPr/>
        </p:nvPicPr>
        <p:blipFill>
          <a:blip r:embed="rId1"/>
          <a:stretch/>
        </p:blipFill>
        <p:spPr>
          <a:xfrm>
            <a:off x="1258920" y="2060640"/>
            <a:ext cx="266076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Что такое качественное питание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чественное питание обеспечивается путем потребления 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безопасных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пищевых продуктов в рамках сбалансированной диеты, в результате чего полностью удовлетворяются потребности организма ребенка в питательных веществ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00012799"/>
          <p:cNvPicPr/>
          <p:nvPr/>
        </p:nvPicPr>
        <p:blipFill>
          <a:blip r:embed="rId1"/>
          <a:stretch/>
        </p:blipFill>
        <p:spPr>
          <a:xfrm>
            <a:off x="1174680" y="1916280"/>
            <a:ext cx="3438720" cy="4941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4"/>
          <p:cNvSpPr/>
          <p:nvPr/>
        </p:nvSpPr>
        <p:spPr>
          <a:xfrm>
            <a:off x="0" y="3429000"/>
            <a:ext cx="2735280" cy="1008000"/>
          </a:xfrm>
          <a:prstGeom prst="flowChartTerminator">
            <a:avLst/>
          </a:prstGeom>
          <a:gradFill rotWithShape="0">
            <a:gsLst>
              <a:gs pos="0">
                <a:srgbClr val="66ccff"/>
              </a:gs>
              <a:gs pos="50000">
                <a:srgbClr val="2f5e76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Недостат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питатель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е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5580000" y="2060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теря вниман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5580000" y="3284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лабость и переутомляем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5580000" y="4581360"/>
            <a:ext cx="3241800" cy="79092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худшение памяти 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аботы моз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5580000" y="573408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егкий доступ к вирусны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 инфекционны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болевания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2916360" y="3213000"/>
            <a:ext cx="2233440" cy="1468440"/>
          </a:xfrm>
          <a:custGeom>
            <a:avLst/>
            <a:gdLst>
              <a:gd name="textAreaLeft" fmla="*/ 348840 w 2233440"/>
              <a:gd name="textAreaRight" fmla="*/ 2078280 w 2233440"/>
              <a:gd name="textAreaTop" fmla="*/ 533520 h 1468440"/>
              <a:gd name="textAreaBottom" fmla="*/ 934920 h 1468440"/>
            </a:gdLst>
            <a:ahLst/>
            <a:rect l="textAreaLeft" t="textAreaTop" r="textAreaRight" b="textAreaBottom"/>
            <a:pathLst>
              <a:path w="21600" h="21600">
                <a:moveTo>
                  <a:pt x="16105" y="0"/>
                </a:moveTo>
                <a:lnTo>
                  <a:pt x="16105" y="7846"/>
                </a:lnTo>
                <a:lnTo>
                  <a:pt x="3375" y="7846"/>
                </a:lnTo>
                <a:lnTo>
                  <a:pt x="3375" y="13754"/>
                </a:lnTo>
                <a:lnTo>
                  <a:pt x="16105" y="13754"/>
                </a:lnTo>
                <a:lnTo>
                  <a:pt x="16105" y="21600"/>
                </a:lnTo>
                <a:lnTo>
                  <a:pt x="21600" y="10800"/>
                </a:lnTo>
                <a:lnTo>
                  <a:pt x="16105" y="0"/>
                </a:lnTo>
                <a:close/>
              </a:path>
              <a:path w="21600" h="21600">
                <a:moveTo>
                  <a:pt x="1350" y="7846"/>
                </a:moveTo>
                <a:lnTo>
                  <a:pt x="1350" y="13754"/>
                </a:lnTo>
                <a:lnTo>
                  <a:pt x="2700" y="13754"/>
                </a:lnTo>
                <a:lnTo>
                  <a:pt x="2700" y="7846"/>
                </a:lnTo>
                <a:lnTo>
                  <a:pt x="1350" y="7846"/>
                </a:lnTo>
                <a:close/>
              </a:path>
              <a:path w="21600" h="21600">
                <a:moveTo>
                  <a:pt x="0" y="7846"/>
                </a:moveTo>
                <a:lnTo>
                  <a:pt x="0" y="13754"/>
                </a:lnTo>
                <a:lnTo>
                  <a:pt x="675" y="13754"/>
                </a:lnTo>
                <a:lnTo>
                  <a:pt x="675" y="7846"/>
                </a:lnTo>
                <a:lnTo>
                  <a:pt x="0" y="784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 что из этого следует?..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Здоровое питание – условие хорошей успеваемости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4" descr="00012812"/>
          <p:cNvPicPr/>
          <p:nvPr/>
        </p:nvPicPr>
        <p:blipFill>
          <a:blip r:embed="rId1"/>
          <a:stretch/>
        </p:blipFill>
        <p:spPr>
          <a:xfrm>
            <a:off x="4932360" y="1989000"/>
            <a:ext cx="3970440" cy="4681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2962440"/>
            <a:ext cx="3433680" cy="26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втрак (дома)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юсли, хлопья, воздушный рис и т.п. с молоком и (желательно) с фрукт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втрак  обязателен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Picture 5" descr="00012835"/>
          <p:cNvPicPr/>
          <p:nvPr/>
        </p:nvPicPr>
        <p:blipFill>
          <a:blip r:embed="rId1"/>
          <a:stretch/>
        </p:blipFill>
        <p:spPr>
          <a:xfrm>
            <a:off x="1116000" y="1989000"/>
            <a:ext cx="3640320" cy="4653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19640" y="2060280"/>
            <a:ext cx="367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орошее самочувствие в течение уроков обеспечивает вовремя съеденный завтрак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 еще о завтраке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25236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втрак очень важен для школьников, обеспечивая их необходимой энергией для наиболее активной части дня. Исследования показали, что регулярно и правильно завтракающие дети, проявляют большую энергию на уроках, лучше воспринимают информацию и достигают более высоких результат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Object 7"/>
          <p:cNvGraphicFramePr/>
          <p:nvPr/>
        </p:nvGraphicFramePr>
        <p:xfrm>
          <a:off x="3657600" y="1981080"/>
          <a:ext cx="4952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495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8"/>
          <p:cNvSpPr/>
          <p:nvPr/>
        </p:nvSpPr>
        <p:spPr>
          <a:xfrm>
            <a:off x="3924360" y="2349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следования показываю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сследования показывают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вые признаки хронических заболеваний (ожирение, сердечно-сосудистые заболевания, онкология, нарушения пищеварения) проявляются в ю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свещение в области питания оказывает существенное влияние на формирование полезных для здоровья привычек и ведет к уменьшению опасности возникновения болезней, связанных с пита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53:20Z</dcterms:created>
  <dc:creator>Ермилова В.Б.</dc:creator>
  <dc:description/>
  <dc:language>en-US</dc:language>
  <cp:lastModifiedBy>user</cp:lastModifiedBy>
  <dcterms:modified xsi:type="dcterms:W3CDTF">2019-11-06T20:44:14Z</dcterms:modified>
  <cp:revision>9</cp:revision>
  <dc:subject/>
  <dc:title>Здоровое питание и мой ребенок</dc:title>
</cp:coreProperties>
</file>