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8F5-40EF-4000-92BD-BBB2AEF4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F17-5FD9-4402-93DA-2F615906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43E-59D1-4BA9-95EB-5AE9522C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984-94F8-48D3-91AE-2C22D2B4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DD6E-D56B-47B9-8BF6-82F5A4EF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BCF-305F-4293-8109-18846C3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6917-0063-4759-A4BC-6E2C1435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B775-06D6-442D-B02A-9A4F33AD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4E9B-6122-4C7D-A1D6-73A75443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56AA-C317-4794-8952-9B1B0189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B08-B4A7-488B-8C71-B3D29C9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F05-082D-47D4-A9F4-E73914B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FEAF-E40E-41D6-9EB9-41A6EB70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977-7733-43E1-8F0A-B30A5B3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E936-21EE-478A-AC53-3A3926B8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E117-4B13-4EAC-9ABC-AB639D36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05CF-F90A-497E-AF49-E26B8ED1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5BA-3568-4C29-96A5-F3BA61F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67F-7B43-43E5-8647-CFE3EB3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2B8-C6ED-4C69-BE80-42899089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12F-D666-4E39-91D0-EFF62C6A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530-BA38-4A5E-8A8C-44AD03A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231-2998-4C87-9C9D-1555B78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7FA-7687-482C-8536-F998EBDC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2A02-3F2D-4A37-A846-5351A90EA8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5BD-2B5E-4785-B051-6048AFFDA6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доровое питание и ребено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4" descr="00012573"/>
          <p:cNvPicPr/>
          <p:nvPr/>
        </p:nvPicPr>
        <p:blipFill>
          <a:blip r:embed="rId1"/>
          <a:stretch/>
        </p:blipFill>
        <p:spPr>
          <a:xfrm>
            <a:off x="1403280" y="2276640"/>
            <a:ext cx="278136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00012774"/>
          <p:cNvPicPr/>
          <p:nvPr/>
        </p:nvPicPr>
        <p:blipFill>
          <a:blip r:embed="rId2"/>
          <a:stretch/>
        </p:blipFill>
        <p:spPr>
          <a:xfrm>
            <a:off x="5219640" y="2276640"/>
            <a:ext cx="27529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6443640" y="4005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правильное питание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ве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 flipV="1" rot="10800000">
            <a:off x="1258920" y="2271600"/>
            <a:ext cx="5751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вайте  наглядно продемонстрируем ребенку преимущества здорового пит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льчиков можно «воодушевить» с помощью объяснения, что  полезные продукты – путь к физической силе, высокому рост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девочек можно повлиять с помощью рассказов о красоте волос и кожи. Возможные последствия переедания сладкого или жирного: кариес, ожирение, выпадение волос, угревая сы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Забота о здоровье – это важнейший труд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оспитателя. От жизнерадостности, бодрости детей зависит их духовная жизнь, мировоззрение, умственное развитие, прочность знаний и вера в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вои силы» В.А.Сухомлинск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а здоровья – проблема пита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доров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j0240719"/>
          <p:cNvPicPr/>
          <p:nvPr/>
        </p:nvPicPr>
        <p:blipFill>
          <a:blip r:embed="rId1"/>
          <a:stretch/>
        </p:blipFill>
        <p:spPr>
          <a:xfrm>
            <a:off x="1258920" y="206064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то такое качественное питани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чественное питание обеспечивается путем потребления </a:t>
            </a: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безопасны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ищевых продуктов в рамках сбалансированной диеты, в результате чего полностью удовлетворяются потребности организма ребенка в питательных веществ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00012799"/>
          <p:cNvPicPr/>
          <p:nvPr/>
        </p:nvPicPr>
        <p:blipFill>
          <a:blip r:embed="rId1"/>
          <a:stretch/>
        </p:blipFill>
        <p:spPr>
          <a:xfrm>
            <a:off x="1174680" y="1916280"/>
            <a:ext cx="343872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0" y="3429000"/>
            <a:ext cx="2735280" cy="1008000"/>
          </a:xfrm>
          <a:prstGeom prst="flowChartTerminator">
            <a:avLst/>
          </a:prstGeom>
          <a:gradFill rotWithShape="0">
            <a:gsLst>
              <a:gs pos="0">
                <a:srgbClr val="66ccff"/>
              </a:gs>
              <a:gs pos="50000">
                <a:srgbClr val="2f5e76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916360" y="3213000"/>
            <a:ext cx="2233440" cy="1468440"/>
          </a:xfrm>
          <a:custGeom>
            <a:avLst/>
            <a:gdLst>
              <a:gd name="textAreaLeft" fmla="*/ 348840 w 2233440"/>
              <a:gd name="textAreaRight" fmla="*/ 2078280 w 2233440"/>
              <a:gd name="textAreaTop" fmla="*/ 533520 h 1468440"/>
              <a:gd name="textAreaBottom" fmla="*/ 934920 h 1468440"/>
            </a:gdLst>
            <a:ahLst/>
            <a:rect l="textAreaLeft" t="textAreaTop" r="textAreaRight" b="textAreaBottom"/>
            <a:pathLst>
              <a:path w="21600" h="21600">
                <a:moveTo>
                  <a:pt x="16105" y="0"/>
                </a:moveTo>
                <a:lnTo>
                  <a:pt x="16105" y="7846"/>
                </a:lnTo>
                <a:lnTo>
                  <a:pt x="3375" y="7846"/>
                </a:lnTo>
                <a:lnTo>
                  <a:pt x="3375" y="13754"/>
                </a:lnTo>
                <a:lnTo>
                  <a:pt x="16105" y="13754"/>
                </a:lnTo>
                <a:lnTo>
                  <a:pt x="16105" y="21600"/>
                </a:lnTo>
                <a:lnTo>
                  <a:pt x="21600" y="10800"/>
                </a:lnTo>
                <a:lnTo>
                  <a:pt x="16105" y="0"/>
                </a:lnTo>
                <a:close/>
              </a:path>
              <a:path w="21600" h="21600">
                <a:moveTo>
                  <a:pt x="1350" y="7846"/>
                </a:moveTo>
                <a:lnTo>
                  <a:pt x="1350" y="13754"/>
                </a:lnTo>
                <a:lnTo>
                  <a:pt x="2700" y="13754"/>
                </a:lnTo>
                <a:lnTo>
                  <a:pt x="2700" y="7846"/>
                </a:lnTo>
                <a:lnTo>
                  <a:pt x="1350" y="7846"/>
                </a:lnTo>
                <a:close/>
              </a:path>
              <a:path w="21600" h="21600">
                <a:moveTo>
                  <a:pt x="0" y="7846"/>
                </a:moveTo>
                <a:lnTo>
                  <a:pt x="0" y="13754"/>
                </a:lnTo>
                <a:lnTo>
                  <a:pt x="675" y="13754"/>
                </a:lnTo>
                <a:lnTo>
                  <a:pt x="675" y="7846"/>
                </a:lnTo>
                <a:lnTo>
                  <a:pt x="0" y="7846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 что из этого следует?.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доровое питание – условие хорошей успеваемост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00012812"/>
          <p:cNvPicPr/>
          <p:nvPr/>
        </p:nvPicPr>
        <p:blipFill>
          <a:blip r:embed="rId1"/>
          <a:stretch/>
        </p:blipFill>
        <p:spPr>
          <a:xfrm>
            <a:off x="4932360" y="1989000"/>
            <a:ext cx="3970440" cy="4681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2962440"/>
            <a:ext cx="343368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трак (дома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юсли, хлопья, воздушный рис и т.п. с молоком и (желательно) с фрук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втрак  обязателе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5" descr="00012835"/>
          <p:cNvPicPr/>
          <p:nvPr/>
        </p:nvPicPr>
        <p:blipFill>
          <a:blip r:embed="rId1"/>
          <a:stretch/>
        </p:blipFill>
        <p:spPr>
          <a:xfrm>
            <a:off x="1116000" y="1989000"/>
            <a:ext cx="3640320" cy="4653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19640" y="2060280"/>
            <a:ext cx="367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шее самочувствие в течение уроков обеспечивает вовремя съеденный завтра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 еще о завтраке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25236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трак очень важен для школьников, обеспечивая их необходимой энергией для наиболее активной части дня. Исследования показали, что регулярно и правильно завтракающие дети, проявляют большую энергию на уроках, лучше воспринимают информацию и достигают более высоких результа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3657600" y="1981080"/>
          <a:ext cx="495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8"/>
          <p:cNvSpPr/>
          <p:nvPr/>
        </p:nvSpPr>
        <p:spPr>
          <a:xfrm>
            <a:off x="392436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ния показываю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следования показываю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ые признаки хронических заболеваний (ожирение, сердечно-сосудистые заболевания, онкология, нарушения пищеварения) проявляются в ю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вещение в области питания оказывает существенное влияние на формирование полезных для здоровья привычек и ведет к уменьшению опасности возникновения болезней, связанных с пит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Ермилова В.Б.</dc:creator>
  <dc:description/>
  <dc:language>en-US</dc:language>
  <cp:lastModifiedBy>user</cp:lastModifiedBy>
  <dcterms:modified xsi:type="dcterms:W3CDTF">2019-11-06T20:44:14Z</dcterms:modified>
  <cp:revision>9</cp:revision>
  <dc:subject/>
  <dc:title>Здоровое питание и мой ребенок</dc:title>
</cp:coreProperties>
</file>