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DE18-794A-4945-B027-06B7788A2E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509C-125E-43E8-9205-82FA18D86D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0026-A41A-44D1-AD63-70BAD9E6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B66C-36C2-489A-A144-10B70B1C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ABFC-E094-4E69-9F38-7D984C57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EAFB-17C8-46BF-9F7E-DC4C8704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2E5F-D4E1-429B-ADB3-BE4F6009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A199-430F-4CF4-A634-0A975B45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5559-4AFC-45EF-A61E-F2732363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00B7-D09A-44F3-B9F8-C3711275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0C71-3741-4BD3-897E-CD6C6801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1ED4-BC08-4ED7-8D6C-5DB3DCE7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F488-2B95-4D2A-BCC7-D23A82C8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14EC-786D-40D6-AB13-3B97B5AC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F4E8-B7CD-4762-B442-CD370BF67E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1357200"/>
            <a:ext cx="9144000" cy="3019680"/>
          </a:xfrm>
          <a:prstGeom prst="rect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ологическая безопасность России</a:t>
            </a:r>
            <a:br>
              <a:rPr sz="4800"/>
            </a:b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4140360" y="5229360"/>
            <a:ext cx="4824360" cy="461880"/>
          </a:xfrm>
          <a:prstGeom prst="rect">
            <a:avLst/>
          </a:prstGeom>
          <a:solidFill>
            <a:srgbClr val="ffffff">
              <a:alpha val="64000"/>
            </a:srgbClr>
          </a:solidFill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f3c7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179280" y="1666800"/>
            <a:ext cx="4321440" cy="3751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Экологическая безопасность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— состояние защищенности природной среды и жизненно важных интересов человека от возможного негативного воздействия хозяйственной и иной деятельности, чрезвычайных ситуаций природного и техногенного характера, их последств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179280" y="115920"/>
            <a:ext cx="885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Что такое экологическая безопасность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4694400" y="1898640"/>
            <a:ext cx="43243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f3c7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395280" y="1197000"/>
            <a:ext cx="8353440" cy="19227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ормирование воздействий на окружающую сред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Контроль источников воздействия на окружающую сред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Контроль качества компонентов окружающей сред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ониторинг экологических риск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ониторинг индикаторов устойчивого развит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79280" y="115920"/>
            <a:ext cx="88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Экологический мониторинг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2409840" y="3357720"/>
            <a:ext cx="43243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-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"/>
          <p:cNvSpPr/>
          <p:nvPr/>
        </p:nvSpPr>
        <p:spPr>
          <a:xfrm>
            <a:off x="2916360" y="115920"/>
            <a:ext cx="60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22"/>
                </a:solidFill>
                <a:latin typeface="Arial"/>
              </a:rPr>
              <a:t>Экологическая безопасность</a:t>
            </a: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 (</a:t>
            </a:r>
            <a:r>
              <a:rPr b="1" lang="ru-RU" sz="2400" spc="-1" strike="noStrike">
                <a:solidFill>
                  <a:srgbClr val="222222"/>
                </a:solidFill>
                <a:latin typeface="Arial"/>
              </a:rPr>
              <a:t>ЭБ</a:t>
            </a:r>
            <a:r>
              <a:rPr b="0" lang="ru-RU" sz="2400" spc="-1" strike="noStrike">
                <a:solidFill>
                  <a:srgbClr val="222222"/>
                </a:solidFill>
                <a:latin typeface="Arial"/>
              </a:rPr>
              <a:t>) — допустимый уровень негативного воздействия природных и антропогенных факторов экологической опасности на окружающую среду и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214200" y="14292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диным критерием оценки экологической безопасности искусственной экосистемы является качество жизни и здоровья населения.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ffd1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2"/>
          <p:cNvSpPr/>
          <p:nvPr/>
        </p:nvSpPr>
        <p:spPr>
          <a:xfrm>
            <a:off x="395280" y="1481040"/>
            <a:ext cx="4321080" cy="49726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экологической политик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из и корректировка индикаторов устойчивого развит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равление экологическими рисками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Предупреждение проявления антропогенных факторов экологической опасност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Минимизация последствий проявления природных факторов экологической опаснос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ка и совершенствование природоохранного законодательства и методов формирования экологического мировоззр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593640" y="260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Управленческие решения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5364000" y="1481040"/>
            <a:ext cx="3168720" cy="472464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f3c7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14200" y="357120"/>
            <a:ext cx="3857760" cy="29289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5786280" y="857160"/>
            <a:ext cx="3143520" cy="1922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ые рубки лесов привели к обезлесению во многих частях стра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5"/>
          <p:cNvSpPr/>
          <p:nvPr/>
        </p:nvSpPr>
        <p:spPr>
          <a:xfrm>
            <a:off x="285840" y="5000760"/>
            <a:ext cx="45720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миллионов гектаров леса ежегодно уничтожаются в результате вырубок, пожаров и загрязнения окружающей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7"/>
          <p:cNvSpPr/>
          <p:nvPr/>
        </p:nvSpPr>
        <p:spPr>
          <a:xfrm>
            <a:off x="5286240" y="4429080"/>
            <a:ext cx="357192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эффективные рубки приводят к тому, что 40 % срубленных деревьев не используются в дальнейш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Стрелка вправо 8"/>
          <p:cNvSpPr/>
          <p:nvPr/>
        </p:nvSpPr>
        <p:spPr>
          <a:xfrm rot="1701600">
            <a:off x="4100400" y="1247760"/>
            <a:ext cx="1649520" cy="53964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Стрелка вправо 9"/>
          <p:cNvSpPr/>
          <p:nvPr/>
        </p:nvSpPr>
        <p:spPr>
          <a:xfrm rot="2595600">
            <a:off x="3889440" y="3635280"/>
            <a:ext cx="1649520" cy="54000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Стрелка вправо 10"/>
          <p:cNvSpPr/>
          <p:nvPr/>
        </p:nvSpPr>
        <p:spPr>
          <a:xfrm rot="5400000">
            <a:off x="1445400" y="3912120"/>
            <a:ext cx="1649160" cy="540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f3c7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3357720" cy="35719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571680" y="0"/>
            <a:ext cx="758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грязнение водного бассейна – это оч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ерьезная проблем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4286160" y="1428840"/>
            <a:ext cx="485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75 % поверхностных вод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50 % всех вод страны сейчас загрязнены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4286160" y="30718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ерьезные проблемы со здоровьем у многих жителей как российских городов, так и деревень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рямоугольник 5"/>
          <p:cNvSpPr/>
          <p:nvPr/>
        </p:nvSpPr>
        <p:spPr>
          <a:xfrm>
            <a:off x="357120" y="507204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токи промышленных предприятий часто попадают в реки и моря: по некоторым данным, именно попадание в Черное и Каспийское море сероводорода привело к массовому замору рыбы в этих водоемах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Стрелка вправо 6"/>
          <p:cNvSpPr/>
          <p:nvPr/>
        </p:nvSpPr>
        <p:spPr>
          <a:xfrm>
            <a:off x="3643200" y="1714680"/>
            <a:ext cx="571680" cy="5713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Стрелка вправо 7"/>
          <p:cNvSpPr/>
          <p:nvPr/>
        </p:nvSpPr>
        <p:spPr>
          <a:xfrm>
            <a:off x="3643200" y="3286080"/>
            <a:ext cx="571680" cy="571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Стрелка вправо 8"/>
          <p:cNvSpPr/>
          <p:nvPr/>
        </p:nvSpPr>
        <p:spPr>
          <a:xfrm rot="3796200">
            <a:off x="2741040" y="4670280"/>
            <a:ext cx="571680" cy="5713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ffd1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2"/>
          <p:cNvSpPr/>
          <p:nvPr/>
        </p:nvSpPr>
        <p:spPr>
          <a:xfrm>
            <a:off x="324000" y="1197000"/>
            <a:ext cx="8640720" cy="456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етоды контроля качества окружающей сред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етоды измерени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 строго количественные, результат которых выражается конкретным числовым параметром (физические, химические, оптические и другие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иологические метод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 качественные (результат выражается словесно, например, в терминах «много-мало», «часто-редко» и др.) или частично количественны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ы моделирования и прогноза, в том числе методы системного анализа, системной динамики, информатики и др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мбинированные методы, например, эколого-токсикологические методы, включающие различные группы методов (физико-химических, биологических, токсикологических и др.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ы управления качеством окружающей сред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настоящее время существуют две основные концепции развития региона с позиции возникших экологических проблем: техногенная (ресурсная) и биосферная (Коробкин, Передельский, 2003). Согласно первой концепции, решение экологических проблем заключается в оценках загрязнения окружающей среды, разработке нормирования допустимого загрязнения различных сред, создании очистных систем и ресурсосберегающих технологий. В рамках этой концепции сформировалось современное направление конкретной природоохранной деятельности, как системы локальных очисток среды от загрязнения и нормирования показателей качества окружающей среды по узкому (несколько десятков) набору показателей, а также внедрения ресурсосберегающих технологий (Лобанова, 1999, Мазур, Молдаванов, 1999). Вторая концепция главным направлением определяет установление области устойчивости любой экосистемы, что позволит найти допустимую величину возмущения — нагрузки на экосистему, определить пороги устойчивости конкретных экосисте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593640" y="260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Методы обеспечения Э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ветлана Анатольевна</dc:creator>
  <dc:description/>
  <dc:language>en-US</dc:language>
  <cp:lastModifiedBy>Пользователь</cp:lastModifiedBy>
  <dcterms:modified xsi:type="dcterms:W3CDTF">2019-11-21T20:16:16Z</dcterms:modified>
  <cp:revision>42</cp:revision>
  <dc:subject/>
  <dc:title>PowerPoint Presentation</dc:title>
</cp:coreProperties>
</file>