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262-36AD-442E-95A6-BC8816D3C1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56CC-1881-4538-8D4A-C1E36156C1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1B0-0F52-46E2-97FC-B80F0405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6DF-4C38-44E7-A7CB-E8FD89DB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F8A-08F4-4D6D-B680-E8428CFE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09C-2B20-4397-96C4-A8643773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B14-26E5-4E6A-98B1-04F10699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3A6-CCBB-453E-B00A-F94ADD92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C33-BB33-4BDF-BF99-BF3B430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BE7-9965-4044-86D2-14E5FDDF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ED7-0D7C-4791-BB9D-DC3978FB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D3C-3A51-45D0-80EC-1E5678B6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E57-BF8F-4177-BEB0-0AFCF69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E7F-B6B5-4D4C-B809-6DD7093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9FF9-CDE5-4E97-B487-3C3F439929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1357200"/>
            <a:ext cx="9144000" cy="301968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логическая безопасность России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140360" y="5229360"/>
            <a:ext cx="4824360" cy="461880"/>
          </a:xfrm>
          <a:prstGeom prst="rect">
            <a:avLst/>
          </a:prstGeom>
          <a:solidFill>
            <a:srgbClr val="ffffff">
              <a:alpha val="64000"/>
            </a:srgbClr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79280" y="1666800"/>
            <a:ext cx="4321440" cy="3751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Экологическая безопасность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— состояние защищенности природной среды и жизненно важных интересов человека от возможного негативного воздействия хозяйственной и иной деятельности, чрезвычайных ситуаций природного и техногенного характера, их послед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79280" y="11592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Что такое экологическая безопаснос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694400" y="1898640"/>
            <a:ext cx="4324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ормирование воздействий на окружающую сре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онтроль источников воздействия на окружающую сре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онтроль качества компонентов окружающей сре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ониторинг экологических рис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ониторинг индикаторов устойчивого разви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Экологический мониторинг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2409840" y="3357720"/>
            <a:ext cx="4324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2916360" y="11592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Arial"/>
              </a:rPr>
              <a:t>Экологическая безопасность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 (</a:t>
            </a:r>
            <a:r>
              <a:rPr b="1" lang="ru-RU" sz="2400" spc="-1" strike="noStrike">
                <a:solidFill>
                  <a:srgbClr val="222222"/>
                </a:solidFill>
                <a:latin typeface="Arial"/>
              </a:rPr>
              <a:t>ЭБ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) — допустимый уровень негативного воздействия природных и антропогенных факторов экологической опасности на окружающую среду и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14200" y="1429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ым критерием оценки экологической безопасности искусственной экосистемы является качество жизни и здоровья населения.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ffd1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395280" y="1481040"/>
            <a:ext cx="4321080" cy="4972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экологической полити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и корректировка индикаторов устойчивого разви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е экологическими рискам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Предупреждение проявления антропогенных факторов экологической опас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Минимизация последствий проявления природных факторов экологической опас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и совершенствование природоохранного законодательства и методов формирования экологического мировоззр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593640" y="260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Управленческие решения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364000" y="1481040"/>
            <a:ext cx="3168720" cy="472464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5786280" y="857160"/>
            <a:ext cx="314352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ые рубки лесов привели к обезлесению во многих частях стра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285840" y="5000760"/>
            <a:ext cx="45720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миллионов гектаров леса ежегодно уничтожаются в результате вырубок, пожаров и загрязнения окружающ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5286240" y="4429080"/>
            <a:ext cx="357192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эффективные рубки приводят к тому, что 40 % срубленных деревьев не используются в дальнейш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8"/>
          <p:cNvSpPr/>
          <p:nvPr/>
        </p:nvSpPr>
        <p:spPr>
          <a:xfrm rot="1701600">
            <a:off x="4100400" y="1247760"/>
            <a:ext cx="1649520" cy="539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право 9"/>
          <p:cNvSpPr/>
          <p:nvPr/>
        </p:nvSpPr>
        <p:spPr>
          <a:xfrm rot="2595600">
            <a:off x="3889440" y="3635280"/>
            <a:ext cx="1649520" cy="540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трелка вправо 10"/>
          <p:cNvSpPr/>
          <p:nvPr/>
        </p:nvSpPr>
        <p:spPr>
          <a:xfrm rot="5400000">
            <a:off x="1445400" y="3912120"/>
            <a:ext cx="1649160" cy="54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3357720" cy="3571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571680" y="0"/>
            <a:ext cx="75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грязнение водного бассейна – это оч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рьезная пробле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286160" y="142884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75 % поверхностных вод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0 % всех вод страны сейчас загрязнен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4286160" y="3071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рьезные проблемы со здоровьем у многих жителей как российских городов, так и деревень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357120" y="507204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оки промышленных предприятий часто попадают в реки и моря: по некоторым данным, именно попадание в Черное и Каспийское море сероводорода привело к массовому замору рыбы в этих водоемах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трелка вправо 6"/>
          <p:cNvSpPr/>
          <p:nvPr/>
        </p:nvSpPr>
        <p:spPr>
          <a:xfrm>
            <a:off x="3643200" y="1714680"/>
            <a:ext cx="571680" cy="571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право 7"/>
          <p:cNvSpPr/>
          <p:nvPr/>
        </p:nvSpPr>
        <p:spPr>
          <a:xfrm>
            <a:off x="3643200" y="3286080"/>
            <a:ext cx="57168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трелка вправо 8"/>
          <p:cNvSpPr/>
          <p:nvPr/>
        </p:nvSpPr>
        <p:spPr>
          <a:xfrm rot="3796200">
            <a:off x="2741040" y="4670280"/>
            <a:ext cx="571680" cy="571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ffd1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2"/>
          <p:cNvSpPr/>
          <p:nvPr/>
        </p:nvSpPr>
        <p:spPr>
          <a:xfrm>
            <a:off x="324000" y="1197000"/>
            <a:ext cx="8640720" cy="456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ы контроля качества окружающей сред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ы измере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 строго количественные, результат которых выражается конкретным числовым параметром (физические, химические, оптические и другие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логические метод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 качественные (результат выражается словесно, например, в терминах «много-мало», «часто-редко» и др.) или частично количественны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моделирования и прогноза, в том числе методы системного анализа, системной динамики, информатики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бинированные методы, например, эколого-токсикологические методы, включающие различные группы методов (физико-химических, биологических, токсикологических и др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управления качеством окружающей сред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существуют две основные концепции развития региона с позиции возникших экологических проблем: техногенная (ресурсная) и биосферная (Коробкин, Передельский, 2003). Согласно первой концепции, решение экологических проблем заключается в оценках загрязнения окружающей среды, разработке нормирования допустимого загрязнения различных сред, создании очистных систем и ресурсосберегающих технологий. В рамках этой концепции сформировалось современное направление конкретной природоохранной деятельности, как системы локальных очисток среды от загрязнения и нормирования показателей качества окружающей среды по узкому (несколько десятков) набору показателей, а также внедрения ресурсосберегающих технологий (Лобанова, 1999, Мазур, Молдаванов, 1999). Вторая концепция главным направлением определяет установление области устойчивости любой экосистемы, что позволит найти допустимую величину возмущения — нагрузки на экосистему, определить пороги устойчивости конкретных экосист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93640" y="260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етоды обеспечения Э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 Анатольевна</dc:creator>
  <dc:description/>
  <dc:language>en-US</dc:language>
  <cp:lastModifiedBy>Пользователь</cp:lastModifiedBy>
  <dcterms:modified xsi:type="dcterms:W3CDTF">2019-11-21T20:16:16Z</dcterms:modified>
  <cp:revision>42</cp:revision>
  <dc:subject/>
  <dc:title>PowerPoint Presentation</dc:title>
</cp:coreProperties>
</file>