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C25B5-93BE-4CE8-85AD-98904D85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0B45-12EA-4FB4-A260-D83D632B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C3E3B-2CE3-4CCB-AAC3-38CF04A0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3E8BC-151E-412F-A9F4-8C0C39A8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489D-32DC-4DB1-BD5E-D5F446F1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4026-AF88-44DC-9661-CA5DA641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A46F-C4AE-4A50-84F4-E9EBCBAE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A7B3-2FAC-4855-8301-0963810B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825D-5714-4B50-93DD-79ADBD2C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97D0-A33D-409D-A214-DCE2EF89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3F76-4F9A-4F2A-A9F7-0CFD817D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B17AE-D65F-47E7-B271-54A04DB0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433D-8B59-4C9B-BC0D-E63B30C0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96CC-5369-42B3-973A-7E60D9BB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178B-ECB1-4906-9C2C-3FAB3855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B4FE-D83B-4FA4-9661-767D5E40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DAB0-34AF-4199-BCDA-4B829CD7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49CA7-1388-48AD-BA23-BCD46591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D1124-061C-4297-86BA-43BEC565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4CA65-3636-4D63-A88D-F66D2688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30CB3-B8EC-43A7-806A-1255FF14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F50EE-CF0F-4B3D-8126-18DD8CA4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B8147-3344-4CEB-AA59-7767999F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4C1D2-65AE-4363-ABC2-2C08C0B1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2343-9060-46D9-B473-08F06A2BE7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F2C5-4128-496B-9671-C9CF495661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e5e5ff"/>
                </a:solidFill>
                <a:latin typeface="comic"/>
              </a:rPr>
              <a:t>Детская агрессивность</a:t>
            </a: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076360" y="3284640"/>
            <a:ext cx="377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удь готов на 10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34" descr="dhdhnedhunndhdhdhdhnnnoe"/>
          <p:cNvPicPr/>
          <p:nvPr/>
        </p:nvPicPr>
        <p:blipFill>
          <a:blip r:embed="rId1"/>
          <a:stretch/>
        </p:blipFill>
        <p:spPr>
          <a:xfrm>
            <a:off x="179280" y="2781360"/>
            <a:ext cx="4967280" cy="392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сихологическ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ЛИЧНОСТНЫ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ностные установки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ировозз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пособности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адекватная самооцен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ОВЕДЕНЧЕСКИ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Шаблон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ест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ленг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грессивный имидж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правление коррекционной рабо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зитивное мыш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вышение самооцен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реагирование агрессии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говор , переговоры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верие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тие навыков саморегуляции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бота с телом, снятие телесных зажимов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music.wma" descr=""/>
          <p:cNvPicPr/>
          <p:nvPr/>
        </p:nvPicPr>
        <p:blipFill>
          <a:blip r:embed="rId1"/>
          <a:stretch/>
        </p:blipFill>
        <p:spPr>
          <a:xfrm>
            <a:off x="5796000" y="386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нципы взаимодейств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еры в перспективы ребен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адекватности отношения к возрасту, и соответствия возрасту предъявляемых требований                     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ддержки и одобрения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показать ребенку ,что его понимают и хотят ему помочь)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ложительного эмоционального контакта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личного примера                              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амостоятельности , активности и инициатив-ности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важно давать ребенку выполнять самостоятельно задания , чтобы он почувствовал свою автономность , поощрять его инициативу , побуждать к ней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чины возникновения детской агресс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428760" y="1720800"/>
            <a:ext cx="828648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тсутствие проявление родителями безусловной любви к своему ребенку, ссоры взрослых между собо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толкновение ребенка с невыполнением его желаний и запреты на определенные потребност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 необходимо грамотно устанавливать запреты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Установление личных границ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Есть наиболее важные периоды, когда ребенок решает эту задачу: это 3 года, начало школьной жизни и подростковый период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213840"/>
            <a:ext cx="85726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резмерный контроль над поведением ребенка не менее вреден, чем полное отсутствие таковог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давляемый гнев в какой-то момент обязательно вырвется наруж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уважение к личности ребен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ип темперамента и особенности характера как возможные причины агрессив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обо чувствительные и впечатлительные дети могут выдавать агрессивные реакции как следствие общего, а также нервного или эмоционального переутомл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циально-биологические причи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к помочь справиться с агрессивным поведением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214200" y="1571760"/>
            <a:ext cx="8715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роявление со стороны родителей безусловной любв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Контроль собственных агрессивных импульсов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Научить ребенка выражать свои враждебные чувства социально приемлемым способом: словом, при помощи игрушек, или действий, безобидных для окружающих, в спорт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сли ребенок капризничает, злится, кричит, бросается на вас с </a:t>
            </a: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кулаками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Прямоугольник 3"/>
          <p:cNvSpPr/>
          <p:nvPr/>
        </p:nvSpPr>
        <p:spPr>
          <a:xfrm>
            <a:off x="500040" y="235728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нимите его, прижмите к себе. Позже, когда он успокоится, вы можете поговорить с ним Уважать личность в ребенке, считаться с его мнением, воспринимать всерьез его чувства. Покажите ребенку конечную неэффективность агрессивного поведения. Объясните ему, что даже если в начале он и достигнет для себя выгоды то впоследствии с ним никто из детей не захочет дружить. Если вы видите, как ваш ребенок ударил другого, то, сначала подойдите к его жертв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КАЗАНИЕ значимо, если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214200" y="1428840"/>
            <a:ext cx="8715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НО СЛЕДУЕТ НЕМЕДЛЕННО ЗА ПОСТУПКОМ; ОНО СУРОВОЕ, НО НЕ ЖЕСТОКОЕ; ОБЪЯСНЕНО РЕБЕНКУ; ОНО ОЦЕНИВАЕТ ДЕЙСТВИЯ РЕБЕНКА, А НЕ ЕГО ЧЕЛОВЕЧЕСКИЕ КАЧЕСТВА; НАКАЗЫВАЯ РЕБЕНКА, ПРОЯВЛЯЙТЕ ТЕРПЕНИЕ, СПОКОЙСТВИЕ, ВЫДЕРЖКУ; ВСЕ ЧЛЕНЫ СЕМЬИ ДОЛЖНЫ ВЫРАЖАТЬ ЕДИНСТВО В ОЦЕНКЕ ТЕХ ИЛИ ИНЫХ ДЕЙСТВИЙ РЕБЕНКА. . Не забывайте хвалить за успех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грессивность ребенка проявляется, есл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357120" y="1500120"/>
            <a:ext cx="8786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бенка бьют, издеваются,  зло шутят,  заставляют испытывать чувство незаслуженного стыд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одители заведомо лгут, пьют и устраивают дебоши, воспитывают ребенка двойной моралью, нетребовательны и неавторитетны для своего ребенка, не умеют любить одинаково своих детей; родители ребенку не доверяют, настраивают ребенка друг против друга, не общаются со своим ребенко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ход в дом закрыт для друзей ребенка; родители проявляют по отношению к ребенку мелочную опеку и заботу, живут своей жизнью, ребенок чувствует, что его не любя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едупреждение детской агрессивно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Прямоугольник 3"/>
          <p:cNvSpPr/>
          <p:nvPr/>
        </p:nvSpPr>
        <p:spPr>
          <a:xfrm>
            <a:off x="214200" y="1571760"/>
            <a:ext cx="89298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тарайтесь сохранить в своей семье атмосферу открытости и доверия. не давайте несбыточных обещаний,  не ставьте своему ребенку каких бы то ни было условий, будьте тактичны в проявлении мер воздействия на ребенка. не наказывайте ребенка за то, что позволяете делать себ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 изменяйте своим требованиям по отношению к ребенку в угоду чему-либо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 шантажируйте ребенка своими отношениями друг с другом. не бойтесь поделиться со своим ребенком своими чувствами и слабостям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 ставьте свои отношения с собственным ребенком в зависимости от его учебных успех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Что такое агрессивность?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Виды агресси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Всегда ли она несет негатив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Причины агрессивност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Как справиться с агрессивным поведением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чем нужна агрессия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грессия является инстинктивной формой поведения, основной целью которой является самозащита и выживание в мире Но с возрастом человек приучается трансформировать, социализировать агрессию Родителям важно научить ребенка не подавлять, а контролировать свою агресси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гресс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Поведение, противоречащее нормам и правилам сосуществования людей в обществе, приносящее физический и психологический ущерб людям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рицательные переживания, состояние напряженности, страха, подавленности и т.д.),наносящее вред объектам нападения.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endParaRPr b="1" lang="en-US" sz="37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581280" y="3276720"/>
            <a:ext cx="19814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Раздражение</a:t>
            </a:r>
            <a:r>
              <a:rPr b="0" lang="en-US" sz="12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вспыльчивость, грубость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447920" y="2895480"/>
            <a:ext cx="1752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Вербальная А </a:t>
            </a:r>
            <a:r>
              <a:rPr b="0" lang="en-US" sz="20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(угрозы, крики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3809880"/>
            <a:ext cx="137160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Физическая (</a:t>
            </a:r>
            <a:r>
              <a:rPr b="0" lang="en-US" sz="20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действия против кого – либо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5867280" y="1752480"/>
            <a:ext cx="1981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Косвенная 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971800" y="304920"/>
            <a:ext cx="32767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514"/>
                </a:solidFill>
                <a:latin typeface="Times New Roman"/>
              </a:rPr>
              <a:t>АГРЕСС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1523880" y="1905120"/>
            <a:ext cx="2362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Прямая 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724360" y="2781360"/>
            <a:ext cx="152424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Направленная</a:t>
            </a:r>
            <a:r>
              <a:rPr b="0" lang="en-US" sz="12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сплетни, шутки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600200" y="4876920"/>
            <a:ext cx="35812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Негативизм (</a:t>
            </a:r>
            <a:r>
              <a:rPr b="0" lang="en-US" sz="20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оппозиционная манера поведения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7315200" y="3886200"/>
            <a:ext cx="18288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Не направленная</a:t>
            </a:r>
            <a:r>
              <a:rPr b="0" lang="en-US" sz="12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крик в толпе топанье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Line 12"/>
          <p:cNvSpPr/>
          <p:nvPr/>
        </p:nvSpPr>
        <p:spPr>
          <a:xfrm flipH="1">
            <a:off x="2895120" y="1447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5562720" y="13716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3429000" y="23623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15"/>
          <p:cNvSpPr/>
          <p:nvPr/>
        </p:nvSpPr>
        <p:spPr>
          <a:xfrm flipH="1">
            <a:off x="609480" y="2362320"/>
            <a:ext cx="10670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16"/>
          <p:cNvSpPr/>
          <p:nvPr/>
        </p:nvSpPr>
        <p:spPr>
          <a:xfrm flipH="1">
            <a:off x="2514240" y="23623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7"/>
          <p:cNvSpPr/>
          <p:nvPr/>
        </p:nvSpPr>
        <p:spPr>
          <a:xfrm flipH="1">
            <a:off x="3276360" y="2362320"/>
            <a:ext cx="759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Line 18"/>
          <p:cNvSpPr/>
          <p:nvPr/>
        </p:nvSpPr>
        <p:spPr>
          <a:xfrm flipH="1">
            <a:off x="5943600" y="22096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19"/>
          <p:cNvSpPr/>
          <p:nvPr/>
        </p:nvSpPr>
        <p:spPr>
          <a:xfrm>
            <a:off x="7543800" y="2209680"/>
            <a:ext cx="6094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Diagram 45"/>
          <p:cNvGrpSpPr/>
          <p:nvPr/>
        </p:nvGrpSpPr>
        <p:grpSpPr>
          <a:xfrm>
            <a:off x="1595880" y="508680"/>
            <a:ext cx="5653080" cy="5880960"/>
            <a:chOff x="1595880" y="508680"/>
            <a:chExt cx="5653080" cy="5880960"/>
          </a:xfrm>
        </p:grpSpPr>
        <p:sp>
          <p:nvSpPr>
            <p:cNvPr id="126" name="_s1028"/>
            <p:cNvSpPr/>
            <p:nvPr/>
          </p:nvSpPr>
          <p:spPr>
            <a:xfrm flipH="1" flipV="1">
              <a:off x="3390120" y="2022840"/>
              <a:ext cx="687240" cy="95184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" name="_s1029"/>
            <p:cNvSpPr/>
            <p:nvPr/>
          </p:nvSpPr>
          <p:spPr>
            <a:xfrm>
              <a:off x="2450520" y="955440"/>
              <a:ext cx="1180440" cy="11804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Garamond"/>
                </a:rPr>
                <a:t>ревность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" name="_s1030"/>
            <p:cNvSpPr/>
            <p:nvPr/>
          </p:nvSpPr>
          <p:spPr>
            <a:xfrm flipH="1" flipV="1">
              <a:off x="2748960" y="2903400"/>
              <a:ext cx="1115640" cy="36504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" name="_s1031"/>
            <p:cNvSpPr/>
            <p:nvPr/>
          </p:nvSpPr>
          <p:spPr>
            <a:xfrm>
              <a:off x="1595880" y="2132280"/>
              <a:ext cx="1180080" cy="1180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Garamond"/>
                </a:rPr>
                <a:t>карьера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0" name="_s1032"/>
            <p:cNvSpPr/>
            <p:nvPr/>
          </p:nvSpPr>
          <p:spPr>
            <a:xfrm flipH="1">
              <a:off x="2747160" y="3631680"/>
              <a:ext cx="1117440" cy="35964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1" name="_s1033"/>
            <p:cNvSpPr/>
            <p:nvPr/>
          </p:nvSpPr>
          <p:spPr>
            <a:xfrm>
              <a:off x="1595880" y="3585600"/>
              <a:ext cx="1180080" cy="1180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Garamond"/>
                </a:rPr>
                <a:t>неспра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Garamond"/>
                </a:rPr>
                <a:t>ведли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2500" spc="-1" strike="noStrike">
                  <a:solidFill>
                    <a:srgbClr val="ffffff"/>
                  </a:solidFill>
                  <a:latin typeface="Garamond"/>
                </a:rPr>
                <a:t>вость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2" name="_s1034"/>
            <p:cNvSpPr/>
            <p:nvPr/>
          </p:nvSpPr>
          <p:spPr>
            <a:xfrm flipH="1">
              <a:off x="3386880" y="3925080"/>
              <a:ext cx="692280" cy="94824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_s1035"/>
            <p:cNvSpPr/>
            <p:nvPr/>
          </p:nvSpPr>
          <p:spPr>
            <a:xfrm>
              <a:off x="2450520" y="4761000"/>
              <a:ext cx="1180440" cy="1180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Garamond"/>
                </a:rPr>
                <a:t>злость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_s1036"/>
            <p:cNvSpPr/>
            <p:nvPr/>
          </p:nvSpPr>
          <p:spPr>
            <a:xfrm>
              <a:off x="4422600" y="4035960"/>
              <a:ext cx="1440" cy="117360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_s1037"/>
            <p:cNvSpPr/>
            <p:nvPr/>
          </p:nvSpPr>
          <p:spPr>
            <a:xfrm>
              <a:off x="3832200" y="5209560"/>
              <a:ext cx="1180440" cy="1180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Garamond"/>
                </a:rPr>
                <a:t>антипатия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_s1038"/>
            <p:cNvSpPr/>
            <p:nvPr/>
          </p:nvSpPr>
          <p:spPr>
            <a:xfrm>
              <a:off x="4768920" y="3923640"/>
              <a:ext cx="689040" cy="95004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_s1039"/>
            <p:cNvSpPr/>
            <p:nvPr/>
          </p:nvSpPr>
          <p:spPr>
            <a:xfrm>
              <a:off x="5214240" y="4761000"/>
              <a:ext cx="1180080" cy="1180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психи 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ческие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заболе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вания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_s1040"/>
            <p:cNvSpPr/>
            <p:nvPr/>
          </p:nvSpPr>
          <p:spPr>
            <a:xfrm>
              <a:off x="4982040" y="3629880"/>
              <a:ext cx="1115640" cy="36360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_s1041"/>
            <p:cNvSpPr/>
            <p:nvPr/>
          </p:nvSpPr>
          <p:spPr>
            <a:xfrm>
              <a:off x="6068520" y="3585600"/>
              <a:ext cx="1180440" cy="1180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Garamond"/>
                </a:rPr>
                <a:t>любовь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_s1042"/>
            <p:cNvSpPr/>
            <p:nvPr/>
          </p:nvSpPr>
          <p:spPr>
            <a:xfrm flipV="1">
              <a:off x="4982040" y="2904840"/>
              <a:ext cx="1115640" cy="36144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_s1043"/>
            <p:cNvSpPr/>
            <p:nvPr/>
          </p:nvSpPr>
          <p:spPr>
            <a:xfrm>
              <a:off x="6068520" y="2132280"/>
              <a:ext cx="1180440" cy="11800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ffff"/>
                  </a:solidFill>
                  <a:latin typeface="Garamond"/>
                </a:rPr>
                <a:t>сопер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ffff"/>
                  </a:solidFill>
                  <a:latin typeface="Garamond"/>
                </a:rPr>
                <a:t>ни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ffff"/>
                  </a:solidFill>
                  <a:latin typeface="Garamond"/>
                </a:rPr>
                <a:t>чество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_s1044"/>
            <p:cNvSpPr/>
            <p:nvPr/>
          </p:nvSpPr>
          <p:spPr>
            <a:xfrm flipV="1">
              <a:off x="4768920" y="2025000"/>
              <a:ext cx="689040" cy="94824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_s1045"/>
            <p:cNvSpPr/>
            <p:nvPr/>
          </p:nvSpPr>
          <p:spPr>
            <a:xfrm>
              <a:off x="5214240" y="956880"/>
              <a:ext cx="1180080" cy="11804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Garamond"/>
                </a:rPr>
                <a:t>защита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" name="_s1046"/>
            <p:cNvSpPr/>
            <p:nvPr/>
          </p:nvSpPr>
          <p:spPr>
            <a:xfrm flipV="1">
              <a:off x="4422600" y="1688400"/>
              <a:ext cx="0" cy="117180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_s1047"/>
            <p:cNvSpPr/>
            <p:nvPr/>
          </p:nvSpPr>
          <p:spPr>
            <a:xfrm>
              <a:off x="3832200" y="508680"/>
              <a:ext cx="1180440" cy="118008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Garamond"/>
                </a:rPr>
                <a:t>гнев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_s1048"/>
            <p:cNvSpPr/>
            <p:nvPr/>
          </p:nvSpPr>
          <p:spPr>
            <a:xfrm>
              <a:off x="3832200" y="2860920"/>
              <a:ext cx="1180440" cy="118008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Garamond"/>
                </a:rPr>
                <a:t>агрессия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зитивные факто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95280" y="1267920"/>
            <a:ext cx="604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ривлечение внимани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Защит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Карьер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Защита от стрессо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Достижение цели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перничеств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Достижение независимост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Инициатива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гативные факто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63280" y="170028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Непонимани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диночеств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Разрыв отношени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заимная неприязн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ред здоровью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Увеличение конфликтност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Дефицит положительных эмоци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клонность к насилию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чины агрессивного повед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11000" spc="-1" strike="noStrike">
                <a:solidFill>
                  <a:srgbClr val="ffffff"/>
                </a:solidFill>
                <a:latin typeface="Garamond"/>
              </a:rPr>
              <a:t>??</a:t>
            </a:r>
            <a:endParaRPr b="0" lang="en-US" sz="11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3" name="Organization Chart 19"/>
          <p:cNvGrpSpPr/>
          <p:nvPr/>
        </p:nvGrpSpPr>
        <p:grpSpPr>
          <a:xfrm>
            <a:off x="3995640" y="1600200"/>
            <a:ext cx="4038480" cy="5256000"/>
            <a:chOff x="3995640" y="1600200"/>
            <a:chExt cx="4038480" cy="5256000"/>
          </a:xfrm>
        </p:grpSpPr>
        <p:cxnSp>
          <p:nvCxnSpPr>
            <p:cNvPr id="154" name="_s2052"/>
            <p:cNvCxnSpPr>
              <a:stCxn id="155" idx="0"/>
              <a:endCxn id="156" idx="2"/>
            </p:cNvCxnSpPr>
            <p:nvPr/>
          </p:nvCxnSpPr>
          <p:spPr>
            <a:xfrm flipV="1" rot="16200000">
              <a:off x="6196320" y="3520080"/>
              <a:ext cx="1051920" cy="1415520"/>
            </a:xfrm>
            <a:prstGeom prst="bentConnector3">
              <a:avLst>
                <a:gd name="adj1" fmla="val 127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7" name="_s2053"/>
            <p:cNvCxnSpPr>
              <a:stCxn id="158" idx="0"/>
              <a:endCxn id="156" idx="2"/>
            </p:cNvCxnSpPr>
            <p:nvPr/>
          </p:nvCxnSpPr>
          <p:spPr>
            <a:xfrm flipV="1">
              <a:off x="6014520" y="3702240"/>
              <a:ext cx="1800" cy="1051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9" name="_s2054"/>
            <p:cNvCxnSpPr>
              <a:stCxn id="160" idx="0"/>
              <a:endCxn id="156" idx="2"/>
            </p:cNvCxnSpPr>
            <p:nvPr/>
          </p:nvCxnSpPr>
          <p:spPr>
            <a:xfrm flipH="1" flipV="1" rot="5400000">
              <a:off x="4781880" y="3521160"/>
              <a:ext cx="1051920" cy="1414080"/>
            </a:xfrm>
            <a:prstGeom prst="bentConnector3">
              <a:avLst>
                <a:gd name="adj1" fmla="val 127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6" name="_s2055"/>
            <p:cNvSpPr/>
            <p:nvPr/>
          </p:nvSpPr>
          <p:spPr>
            <a:xfrm>
              <a:off x="5409000" y="1600200"/>
              <a:ext cx="1211400" cy="2102400"/>
            </a:xfrm>
            <a:custGeom>
              <a:avLst/>
              <a:gdLst>
                <a:gd name="textAreaLeft" fmla="*/ 59040 w 1211400"/>
                <a:gd name="textAreaRight" fmla="*/ 1152360 w 1211400"/>
                <a:gd name="textAreaTop" fmla="*/ 59040 h 2102400"/>
                <a:gd name="textAreaBottom" fmla="*/ 2043360 h 2102400"/>
              </a:gdLst>
              <a:ahLst/>
              <a:rect l="textAreaLeft" t="textAreaTop" r="textAreaRight" b="textAreaBottom"/>
              <a:pathLst>
                <a:path w="21600" h="37482">
                  <a:moveTo>
                    <a:pt x="3600" y="0"/>
                  </a:moveTo>
                  <a:arcTo wR="3600" hR="3600" stAng="16200000" swAng="-5400000"/>
                  <a:lnTo>
                    <a:pt x="0" y="33882"/>
                  </a:lnTo>
                  <a:arcTo wR="3600" hR="3600" stAng="10800000" swAng="-5400000"/>
                  <a:lnTo>
                    <a:pt x="18000" y="374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Причины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_s2056"/>
            <p:cNvSpPr/>
            <p:nvPr/>
          </p:nvSpPr>
          <p:spPr>
            <a:xfrm>
              <a:off x="3995640" y="4753800"/>
              <a:ext cx="1211400" cy="2102400"/>
            </a:xfrm>
            <a:custGeom>
              <a:avLst/>
              <a:gdLst>
                <a:gd name="textAreaLeft" fmla="*/ 59040 w 1211400"/>
                <a:gd name="textAreaRight" fmla="*/ 1152360 w 1211400"/>
                <a:gd name="textAreaTop" fmla="*/ 59040 h 2102400"/>
                <a:gd name="textAreaBottom" fmla="*/ 2043360 h 2102400"/>
              </a:gdLst>
              <a:ahLst/>
              <a:rect l="textAreaLeft" t="textAreaTop" r="textAreaRight" b="textAreaBottom"/>
              <a:pathLst>
                <a:path w="21600" h="37482">
                  <a:moveTo>
                    <a:pt x="3600" y="0"/>
                  </a:moveTo>
                  <a:arcTo wR="3600" hR="3600" stAng="16200000" swAng="-5400000"/>
                  <a:lnTo>
                    <a:pt x="0" y="33882"/>
                  </a:lnTo>
                  <a:arcTo wR="3600" hR="3600" stAng="10800000" swAng="-5400000"/>
                  <a:lnTo>
                    <a:pt x="18000" y="374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Внешние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_s2057"/>
            <p:cNvSpPr/>
            <p:nvPr/>
          </p:nvSpPr>
          <p:spPr>
            <a:xfrm>
              <a:off x="5409000" y="4753800"/>
              <a:ext cx="1211400" cy="2102400"/>
            </a:xfrm>
            <a:custGeom>
              <a:avLst/>
              <a:gdLst>
                <a:gd name="textAreaLeft" fmla="*/ 59040 w 1211400"/>
                <a:gd name="textAreaRight" fmla="*/ 1152360 w 1211400"/>
                <a:gd name="textAreaTop" fmla="*/ 59040 h 2102400"/>
                <a:gd name="textAreaBottom" fmla="*/ 2043360 h 2102400"/>
              </a:gdLst>
              <a:ahLst/>
              <a:rect l="textAreaLeft" t="textAreaTop" r="textAreaRight" b="textAreaBottom"/>
              <a:pathLst>
                <a:path w="21600" h="37482">
                  <a:moveTo>
                    <a:pt x="3600" y="0"/>
                  </a:moveTo>
                  <a:arcTo wR="3600" hR="3600" stAng="16200000" swAng="-5400000"/>
                  <a:lnTo>
                    <a:pt x="0" y="33882"/>
                  </a:lnTo>
                  <a:arcTo wR="3600" hR="3600" stAng="10800000" swAng="-5400000"/>
                  <a:lnTo>
                    <a:pt x="18000" y="374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Физиоло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гические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особен-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ности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личности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_s2058"/>
            <p:cNvSpPr/>
            <p:nvPr/>
          </p:nvSpPr>
          <p:spPr>
            <a:xfrm>
              <a:off x="6822720" y="4753800"/>
              <a:ext cx="1211400" cy="2102400"/>
            </a:xfrm>
            <a:custGeom>
              <a:avLst/>
              <a:gdLst>
                <a:gd name="textAreaLeft" fmla="*/ 59040 w 1211400"/>
                <a:gd name="textAreaRight" fmla="*/ 1152360 w 1211400"/>
                <a:gd name="textAreaTop" fmla="*/ 59040 h 2102400"/>
                <a:gd name="textAreaBottom" fmla="*/ 2043360 h 2102400"/>
              </a:gdLst>
              <a:ahLst/>
              <a:rect l="textAreaLeft" t="textAreaTop" r="textAreaRight" b="textAreaBottom"/>
              <a:pathLst>
                <a:path w="21600" h="37482">
                  <a:moveTo>
                    <a:pt x="3600" y="0"/>
                  </a:moveTo>
                  <a:arcTo wR="3600" hR="3600" stAng="16200000" swAng="-5400000"/>
                  <a:lnTo>
                    <a:pt x="0" y="33882"/>
                  </a:lnTo>
                  <a:arcTo wR="3600" hR="3600" stAng="10800000" swAng="-5400000"/>
                  <a:lnTo>
                    <a:pt x="18000" y="374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Психо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логичес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кие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неш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ЕМЬЯ                     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Холодность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Агрессивность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Гиперопе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РЕД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ключенность в агрессивную сред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Защита от агрессивной сред.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46715998"/>
          <p:cNvPicPr/>
          <p:nvPr/>
        </p:nvPicPr>
        <p:blipFill>
          <a:blip r:embed="rId1"/>
          <a:stretch/>
        </p:blipFill>
        <p:spPr>
          <a:xfrm>
            <a:off x="5435640" y="98100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xrjofq9t"/>
          <p:cNvPicPr/>
          <p:nvPr/>
        </p:nvPicPr>
        <p:blipFill>
          <a:blip r:embed="rId2"/>
          <a:stretch/>
        </p:blipFill>
        <p:spPr>
          <a:xfrm>
            <a:off x="6372360" y="4869000"/>
            <a:ext cx="25207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6:49:08Z</dcterms:created>
  <dc:creator>1</dc:creator>
  <dc:description/>
  <dc:language>en-US</dc:language>
  <cp:lastModifiedBy>PhoenIX</cp:lastModifiedBy>
  <dcterms:modified xsi:type="dcterms:W3CDTF">2018-02-07T01:54:19Z</dcterms:modified>
  <cp:revision>22</cp:revision>
  <dc:subject/>
  <dc:title>Агрессия</dc:title>
</cp:coreProperties>
</file>