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DF979-D028-4311-A12E-A5123CEEA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7AC26-5ACA-4C21-A176-D0E7FEF57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A9E38-DE74-4B74-97A1-E81C9A2BD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00F54-1EA3-4D4D-ADCC-46F37CE7C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CBD10-D8B3-4237-99BC-2112CF774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5A57C-0B24-44F2-A1E6-F7926B339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28334-4887-44B2-833C-53C0A8D41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C05B8-4B8B-4118-87FD-056AA6EBF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B8116-DEB1-477C-B2A7-01D77DB47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0F348-9418-4CCD-83C8-9619023DA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C075A-9D54-4B73-BB39-7EA4D63F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553A1-AE9A-428E-8A3A-6EC55624D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DD891-05F9-4282-9664-C5515597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377E0-F144-418D-9265-6E0EB20E0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55852-73C3-481D-919A-9838995FE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04FBD-6927-4F37-9CA7-CA70E29BA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F4E82-8A3B-428F-B37E-69218A5DF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18D59-10CA-4263-BD70-93BD49CA6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6D5B2-951B-414D-B7A3-E0C25AD7A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335FF-0482-41FD-BBD6-6BD4DEE42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B3572-5CA1-4D8A-893E-36C938DFB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EDE9F-8B91-47BA-B905-10D9C0817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FC71E-A527-49BF-BFCA-08E938051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625E7-EE96-4190-B9ED-974D18BBF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204B5-FBF0-43CD-8916-9223D9D9E76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C503E-9B39-442E-BE20-34A6DE99C97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e5e5ff"/>
                </a:solidFill>
                <a:latin typeface="comic"/>
              </a:rPr>
              <a:t>Детская агрессивность</a:t>
            </a:r>
            <a:endParaRPr b="1" lang="en-US" sz="8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5076360" y="3284640"/>
            <a:ext cx="37767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удь готов на 100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34" descr="dhdhnedhunndhdhdhdhnnnoe"/>
          <p:cNvPicPr/>
          <p:nvPr/>
        </p:nvPicPr>
        <p:blipFill>
          <a:blip r:embed="rId1"/>
          <a:stretch/>
        </p:blipFill>
        <p:spPr>
          <a:xfrm>
            <a:off x="179280" y="2781360"/>
            <a:ext cx="4967280" cy="3927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сихологически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360" y="764640"/>
            <a:ext cx="822960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ЛИЧНОСТНЫЕ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Ценностные установки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Мировоззр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пособности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еадекватная самооцен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ПОВЕДЕНЧЕСКИЕ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Шаблоны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Жесты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ленг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грессивный имидж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Направление коррекционной работ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31640" y="184464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зитивное мышл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вышение самооценк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треагирование агрессии                 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оговор , переговоры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оверие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азвитие навыков саморегуляции     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абота с телом, снятие телесных зажимов               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9" name="music.wma" descr=""/>
          <p:cNvPicPr/>
          <p:nvPr/>
        </p:nvPicPr>
        <p:blipFill>
          <a:blip r:embed="rId1"/>
          <a:stretch/>
        </p:blipFill>
        <p:spPr>
          <a:xfrm>
            <a:off x="5796000" y="3860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0" dur="1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ринципы взаимодействи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964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веры в перспективы ребенк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адекватности отношения к возрасту, и соответствия возрасту предъявляемых требований                            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поддержки и одобрения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(показать ребенку ,что его понимают и хотят ему помочь)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положительного эмоционального контакта                                                                     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личного примера                                     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амостоятельности , активности и инициатив-ности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(важно давать ребенку выполнять самостоятельно задания , чтобы он почувствовал свою автономность , поощрять его инициативу , побуждать к ней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ричины возникновения детской агресси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3" name="Прямоугольник 3"/>
          <p:cNvSpPr/>
          <p:nvPr/>
        </p:nvSpPr>
        <p:spPr>
          <a:xfrm>
            <a:off x="428760" y="1720800"/>
            <a:ext cx="8286480" cy="62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Отсутствие проявление родителями безусловной любви к своему ребенку, ссоры взрослых между собой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Столкновение ребенка с невыполнением его желаний и запреты на определенные потребности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( необходимо грамотно устанавливать запреты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Установление личных границ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(Есть наиболее важные периоды, когда ребенок решает эту задачу: это 3 года, начало школьной жизни и подростковый период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356760" y="213840"/>
            <a:ext cx="857268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Чрезмерный контроль над поведением ребенка не менее вреден, чем полное отсутствие такового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одавляемый гнев в какой-то момент обязательно вырвется наружу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еуважение к личности ребенк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Тип темперамента и особенности характера как возможные причины агрессивност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собо чувствительные и впечатлительные дети могут выдавать агрессивные реакции как следствие общего, а также нервного или эмоционального переутомле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оциально-биологические причин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Как помочь справиться с агрессивным поведением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Прямоугольник 3"/>
          <p:cNvSpPr/>
          <p:nvPr/>
        </p:nvSpPr>
        <p:spPr>
          <a:xfrm>
            <a:off x="214200" y="1571760"/>
            <a:ext cx="8715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Проявление со стороны родителей безусловной любви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Контроль собственных агрессивных импульсов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Научить ребенка выражать свои враждебные чувства социально приемлемым способом: словом, при помощи игрушек, или действий, безобидных для окружающих, в спорте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78688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Если ребенок капризничает, злится, кричит, бросается на вас с </a:t>
            </a:r>
            <a:r>
              <a:rPr b="1" lang="ru-RU" sz="4800" spc="-1" strike="noStrike">
                <a:solidFill>
                  <a:srgbClr val="e5e5ff"/>
                </a:solidFill>
                <a:latin typeface="Garamond"/>
              </a:rPr>
              <a:t>кулаками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8" name="Прямоугольник 3"/>
          <p:cNvSpPr/>
          <p:nvPr/>
        </p:nvSpPr>
        <p:spPr>
          <a:xfrm>
            <a:off x="500040" y="2357280"/>
            <a:ext cx="83581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бнимите его, прижмите к себе. Позже, когда он успокоится, вы можете поговорить с ним Уважать личность в ребенке, считаться с его мнением, воспринимать всерьез его чувства. Покажите ребенку конечную неэффективность агрессивного поведения. Объясните ему, что даже если в начале он и достигнет для себя выгоды то впоследствии с ним никто из детей не захочет дружить. Если вы видите, как ваш ребенок ударил другого, то, сначала подойдите к его жертв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НАКАЗАНИЕ значимо, если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0" name="Прямоугольник 3"/>
          <p:cNvSpPr/>
          <p:nvPr/>
        </p:nvSpPr>
        <p:spPr>
          <a:xfrm>
            <a:off x="214200" y="1428840"/>
            <a:ext cx="87156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НО СЛЕДУЕТ НЕМЕДЛЕННО ЗА ПОСТУПКОМ; ОНО СУРОВОЕ, НО НЕ ЖЕСТОКОЕ; ОБЪЯСНЕНО РЕБЕНКУ; ОНО ОЦЕНИВАЕТ ДЕЙСТВИЯ РЕБЕНКА, А НЕ ЕГО ЧЕЛОВЕЧЕСКИЕ КАЧЕСТВА; НАКАЗЫВАЯ РЕБЕНКА, ПРОЯВЛЯЙТЕ ТЕРПЕНИЕ, СПОКОЙСТВИЕ, ВЫДЕРЖКУ; ВСЕ ЧЛЕНЫ СЕМЬИ ДОЛЖНЫ ВЫРАЖАТЬ ЕДИНСТВО В ОЦЕНКЕ ТЕХ ИЛИ ИНЫХ ДЕЙСТВИЙ РЕБЕНКА. . Не забывайте хвалить за успех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Агрессивность ребенка проявляется, если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Прямоугольник 3"/>
          <p:cNvSpPr/>
          <p:nvPr/>
        </p:nvSpPr>
        <p:spPr>
          <a:xfrm>
            <a:off x="357120" y="1500120"/>
            <a:ext cx="87868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ебенка бьют, издеваются,  зло шутят,  заставляют испытывать чувство незаслуженного стыда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одители заведомо лгут, пьют и устраивают дебоши, воспитывают ребенка двойной моралью, нетребовательны и неавторитетны для своего ребенка, не умеют любить одинаково своих детей; родители ребенку не доверяют, настраивают ребенка друг против друга, не общаются со своим ребенком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ход в дом закрыт для друзей ребенка; родители проявляют по отношению к ребенку мелочную опеку и заботу, живут своей жизнью, ребенок чувствует, что его не любят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редупреждение детской агрессивност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4" name="Прямоугольник 3"/>
          <p:cNvSpPr/>
          <p:nvPr/>
        </p:nvSpPr>
        <p:spPr>
          <a:xfrm>
            <a:off x="214200" y="1571760"/>
            <a:ext cx="892980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старайтесь сохранить в своей семье атмосферу открытости и доверия. не давайте несбыточных обещаний,  не ставьте своему ребенку каких бы то ни было условий, будьте тактичны в проявлении мер воздействия на ребенка. не наказывайте ребенка за то, что позволяете делать себ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е изменяйте своим требованиям по отношению к ребенку в угоду чему-либо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е шантажируйте ребенка своими отношениями друг с другом. не бойтесь поделиться со своим ребенком своими чувствами и слабостями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е ставьте свои отношения с собственным ребенком в зависимости от его учебных успехов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5e5ff"/>
                </a:solidFill>
                <a:latin typeface="Garamond"/>
              </a:rPr>
              <a:t>Что такое агрессивность?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Виды агрессии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Всегда ли она несет негатив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Причины агрессивности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Как справиться с агрессивным поведением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Зачем нужна агрессия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грессия является инстинктивной формой поведения, основной целью которой является самозащита и выживание в мире Но с возрастом человек приучается трансформировать, социализировать агрессию Родителям важно научить ребенка не подавлять, а контролировать свою агрессию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Агресси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Поведение, противоречащее нормам и правилам сосуществования людей в обществе, приносящее физический и психологический ущерб людям 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трицательные переживания, состояние напряженности, страха, подавленности и т.д.),наносящее вред объектам нападения.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push dir="r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9144000" cy="15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700"/>
            </a:br>
            <a:endParaRPr b="1" lang="en-US" sz="37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3581280" y="3276720"/>
            <a:ext cx="198144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Раздражение</a:t>
            </a:r>
            <a:r>
              <a:rPr b="0" lang="en-US" sz="12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 (</a:t>
            </a:r>
            <a:r>
              <a:rPr b="0" lang="en-US" sz="20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вспыльчивость, грубость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1447920" y="2895480"/>
            <a:ext cx="1752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Вербальная А </a:t>
            </a:r>
            <a:r>
              <a:rPr b="0" lang="en-US" sz="20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(угрозы, крики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0" y="3809880"/>
            <a:ext cx="1371600" cy="243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Физическая (</a:t>
            </a:r>
            <a:r>
              <a:rPr b="0" lang="en-US" sz="20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действия против кого – либо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5867280" y="1752480"/>
            <a:ext cx="19814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Косвенная 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2971800" y="304920"/>
            <a:ext cx="327672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514"/>
                </a:solidFill>
                <a:latin typeface="Times New Roman"/>
              </a:rPr>
              <a:t>АГРЕССИЯ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1523880" y="1905120"/>
            <a:ext cx="2362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Times New Roman"/>
              </a:rPr>
              <a:t>Прямая 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5724360" y="2781360"/>
            <a:ext cx="152424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Направленная</a:t>
            </a:r>
            <a:r>
              <a:rPr b="0" lang="en-US" sz="12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 (</a:t>
            </a:r>
            <a:r>
              <a:rPr b="0" lang="en-US" sz="20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сплетни, шутки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1600200" y="4876920"/>
            <a:ext cx="358128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Негативизм (</a:t>
            </a:r>
            <a:r>
              <a:rPr b="0" lang="en-US" sz="20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оппозиционная манера поведения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7315200" y="3886200"/>
            <a:ext cx="1828800" cy="22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Не направленная</a:t>
            </a:r>
            <a:r>
              <a:rPr b="0" lang="en-US" sz="12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 (</a:t>
            </a:r>
            <a:r>
              <a:rPr b="0" lang="en-US" sz="20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крик в толпе топанье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Line 12"/>
          <p:cNvSpPr/>
          <p:nvPr/>
        </p:nvSpPr>
        <p:spPr>
          <a:xfrm flipH="1">
            <a:off x="2895120" y="14479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Line 13"/>
          <p:cNvSpPr/>
          <p:nvPr/>
        </p:nvSpPr>
        <p:spPr>
          <a:xfrm>
            <a:off x="5562720" y="1371600"/>
            <a:ext cx="1218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Line 14"/>
          <p:cNvSpPr/>
          <p:nvPr/>
        </p:nvSpPr>
        <p:spPr>
          <a:xfrm>
            <a:off x="3429000" y="236232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Line 15"/>
          <p:cNvSpPr/>
          <p:nvPr/>
        </p:nvSpPr>
        <p:spPr>
          <a:xfrm flipH="1">
            <a:off x="609480" y="2362320"/>
            <a:ext cx="106704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Line 16"/>
          <p:cNvSpPr/>
          <p:nvPr/>
        </p:nvSpPr>
        <p:spPr>
          <a:xfrm flipH="1">
            <a:off x="2514240" y="2362320"/>
            <a:ext cx="2286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Line 17"/>
          <p:cNvSpPr/>
          <p:nvPr/>
        </p:nvSpPr>
        <p:spPr>
          <a:xfrm flipH="1">
            <a:off x="3276360" y="2362320"/>
            <a:ext cx="7596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Line 18"/>
          <p:cNvSpPr/>
          <p:nvPr/>
        </p:nvSpPr>
        <p:spPr>
          <a:xfrm flipH="1">
            <a:off x="5943600" y="22096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Line 19"/>
          <p:cNvSpPr/>
          <p:nvPr/>
        </p:nvSpPr>
        <p:spPr>
          <a:xfrm>
            <a:off x="7543800" y="2209680"/>
            <a:ext cx="60948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Diagram 45"/>
          <p:cNvGrpSpPr/>
          <p:nvPr/>
        </p:nvGrpSpPr>
        <p:grpSpPr>
          <a:xfrm>
            <a:off x="1595880" y="508680"/>
            <a:ext cx="5653080" cy="5880960"/>
            <a:chOff x="1595880" y="508680"/>
            <a:chExt cx="5653080" cy="5880960"/>
          </a:xfrm>
        </p:grpSpPr>
        <p:sp>
          <p:nvSpPr>
            <p:cNvPr id="126" name="_s1028"/>
            <p:cNvSpPr/>
            <p:nvPr/>
          </p:nvSpPr>
          <p:spPr>
            <a:xfrm flipH="1" flipV="1">
              <a:off x="3390120" y="2022840"/>
              <a:ext cx="687240" cy="951840"/>
            </a:xfrm>
            <a:prstGeom prst="line">
              <a:avLst/>
            </a:prstGeom>
            <a:ln w="2844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7" name="_s1029"/>
            <p:cNvSpPr/>
            <p:nvPr/>
          </p:nvSpPr>
          <p:spPr>
            <a:xfrm>
              <a:off x="2450520" y="955440"/>
              <a:ext cx="1180440" cy="11804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a886e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Garamond"/>
                </a:rPr>
                <a:t>ревность</a:t>
              </a:r>
              <a:endParaRPr b="0" lang="en-US" sz="25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8" name="_s1030"/>
            <p:cNvSpPr/>
            <p:nvPr/>
          </p:nvSpPr>
          <p:spPr>
            <a:xfrm flipH="1" flipV="1">
              <a:off x="2748960" y="2903400"/>
              <a:ext cx="1115640" cy="365040"/>
            </a:xfrm>
            <a:prstGeom prst="line">
              <a:avLst/>
            </a:prstGeom>
            <a:ln w="2844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9" name="_s1031"/>
            <p:cNvSpPr/>
            <p:nvPr/>
          </p:nvSpPr>
          <p:spPr>
            <a:xfrm>
              <a:off x="1595880" y="2132280"/>
              <a:ext cx="1180080" cy="11800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a886e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Garamond"/>
                </a:rPr>
                <a:t>карьера</a:t>
              </a:r>
              <a:endParaRPr b="0" lang="en-US" sz="25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0" name="_s1032"/>
            <p:cNvSpPr/>
            <p:nvPr/>
          </p:nvSpPr>
          <p:spPr>
            <a:xfrm flipH="1">
              <a:off x="2747160" y="3631680"/>
              <a:ext cx="1117440" cy="359640"/>
            </a:xfrm>
            <a:prstGeom prst="line">
              <a:avLst/>
            </a:prstGeom>
            <a:ln w="2844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1" name="_s1033"/>
            <p:cNvSpPr/>
            <p:nvPr/>
          </p:nvSpPr>
          <p:spPr>
            <a:xfrm>
              <a:off x="1595880" y="3585600"/>
              <a:ext cx="1180080" cy="1180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a886e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ffffff"/>
                  </a:solidFill>
                  <a:latin typeface="Garamond"/>
                </a:rPr>
                <a:t>неспра</a:t>
              </a:r>
              <a:endParaRPr b="0" lang="en-US" sz="25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ffffff"/>
                  </a:solidFill>
                  <a:latin typeface="Garamond"/>
                </a:rPr>
                <a:t>ведли</a:t>
              </a:r>
              <a:endParaRPr b="0" lang="en-US" sz="25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ffffff"/>
                  </a:solidFill>
                  <a:latin typeface="Garamond"/>
                </a:rPr>
                <a:t> </a:t>
              </a:r>
              <a:r>
                <a:rPr b="0" lang="ru-RU" sz="2500" spc="-1" strike="noStrike">
                  <a:solidFill>
                    <a:srgbClr val="ffffff"/>
                  </a:solidFill>
                  <a:latin typeface="Garamond"/>
                </a:rPr>
                <a:t>вость</a:t>
              </a:r>
              <a:endParaRPr b="0" lang="en-US" sz="25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2" name="_s1034"/>
            <p:cNvSpPr/>
            <p:nvPr/>
          </p:nvSpPr>
          <p:spPr>
            <a:xfrm flipH="1">
              <a:off x="3386880" y="3925080"/>
              <a:ext cx="692280" cy="948240"/>
            </a:xfrm>
            <a:prstGeom prst="line">
              <a:avLst/>
            </a:prstGeom>
            <a:ln w="2844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3" name="_s1035"/>
            <p:cNvSpPr/>
            <p:nvPr/>
          </p:nvSpPr>
          <p:spPr>
            <a:xfrm>
              <a:off x="2450520" y="4761000"/>
              <a:ext cx="1180440" cy="11804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a886e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Garamond"/>
                </a:rPr>
                <a:t>злость</a:t>
              </a:r>
              <a:endParaRPr b="0" lang="en-US" sz="25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4" name="_s1036"/>
            <p:cNvSpPr/>
            <p:nvPr/>
          </p:nvSpPr>
          <p:spPr>
            <a:xfrm>
              <a:off x="4422600" y="4035960"/>
              <a:ext cx="1440" cy="1173600"/>
            </a:xfrm>
            <a:prstGeom prst="line">
              <a:avLst/>
            </a:prstGeom>
            <a:ln w="2844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5" name="_s1037"/>
            <p:cNvSpPr/>
            <p:nvPr/>
          </p:nvSpPr>
          <p:spPr>
            <a:xfrm>
              <a:off x="3832200" y="5209560"/>
              <a:ext cx="1180440" cy="11800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a886e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Garamond"/>
                </a:rPr>
                <a:t>антипатия</a:t>
              </a:r>
              <a:endParaRPr b="0" lang="en-US" sz="25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6" name="_s1038"/>
            <p:cNvSpPr/>
            <p:nvPr/>
          </p:nvSpPr>
          <p:spPr>
            <a:xfrm>
              <a:off x="4768920" y="3923640"/>
              <a:ext cx="689040" cy="950040"/>
            </a:xfrm>
            <a:prstGeom prst="line">
              <a:avLst/>
            </a:prstGeom>
            <a:ln w="2844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7" name="_s1039"/>
            <p:cNvSpPr/>
            <p:nvPr/>
          </p:nvSpPr>
          <p:spPr>
            <a:xfrm>
              <a:off x="5214240" y="4761000"/>
              <a:ext cx="1180080" cy="11804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a886e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Garamond"/>
                </a:rPr>
                <a:t>психи </a:t>
              </a: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Garamond"/>
                </a:rPr>
                <a:t>ческие</a:t>
              </a: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Garamond"/>
                </a:rPr>
                <a:t>заболе</a:t>
              </a: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Garamond"/>
                </a:rPr>
                <a:t>вания</a:t>
              </a: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8" name="_s1040"/>
            <p:cNvSpPr/>
            <p:nvPr/>
          </p:nvSpPr>
          <p:spPr>
            <a:xfrm>
              <a:off x="4982040" y="3629880"/>
              <a:ext cx="1115640" cy="363600"/>
            </a:xfrm>
            <a:prstGeom prst="line">
              <a:avLst/>
            </a:prstGeom>
            <a:ln w="2844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9" name="_s1041"/>
            <p:cNvSpPr/>
            <p:nvPr/>
          </p:nvSpPr>
          <p:spPr>
            <a:xfrm>
              <a:off x="6068520" y="3585600"/>
              <a:ext cx="1180440" cy="11800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a886e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Garamond"/>
                </a:rPr>
                <a:t>любовь</a:t>
              </a:r>
              <a:endParaRPr b="0" lang="en-US" sz="25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0" name="_s1042"/>
            <p:cNvSpPr/>
            <p:nvPr/>
          </p:nvSpPr>
          <p:spPr>
            <a:xfrm flipV="1">
              <a:off x="4982040" y="2904840"/>
              <a:ext cx="1115640" cy="361440"/>
            </a:xfrm>
            <a:prstGeom prst="line">
              <a:avLst/>
            </a:prstGeom>
            <a:ln w="2844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1" name="_s1043"/>
            <p:cNvSpPr/>
            <p:nvPr/>
          </p:nvSpPr>
          <p:spPr>
            <a:xfrm>
              <a:off x="6068520" y="2132280"/>
              <a:ext cx="1180440" cy="118008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a886e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500" spc="-1" strike="noStrike">
                  <a:solidFill>
                    <a:srgbClr val="ffffff"/>
                  </a:solidFill>
                  <a:latin typeface="Garamond"/>
                </a:rPr>
                <a:t>сопер</a:t>
              </a:r>
              <a:endParaRPr b="0" lang="en-US" sz="25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500" spc="-1" strike="noStrike">
                  <a:solidFill>
                    <a:srgbClr val="ffffff"/>
                  </a:solidFill>
                  <a:latin typeface="Garamond"/>
                </a:rPr>
                <a:t>ни</a:t>
              </a:r>
              <a:endParaRPr b="0" lang="en-US" sz="25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500" spc="-1" strike="noStrike">
                  <a:solidFill>
                    <a:srgbClr val="ffffff"/>
                  </a:solidFill>
                  <a:latin typeface="Garamond"/>
                </a:rPr>
                <a:t>чество</a:t>
              </a:r>
              <a:endParaRPr b="0" lang="en-US" sz="25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2" name="_s1044"/>
            <p:cNvSpPr/>
            <p:nvPr/>
          </p:nvSpPr>
          <p:spPr>
            <a:xfrm flipV="1">
              <a:off x="4768920" y="2025000"/>
              <a:ext cx="689040" cy="948240"/>
            </a:xfrm>
            <a:prstGeom prst="line">
              <a:avLst/>
            </a:prstGeom>
            <a:ln w="2844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3" name="_s1045"/>
            <p:cNvSpPr/>
            <p:nvPr/>
          </p:nvSpPr>
          <p:spPr>
            <a:xfrm>
              <a:off x="5214240" y="956880"/>
              <a:ext cx="1180080" cy="11804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a886e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Garamond"/>
                </a:rPr>
                <a:t>защита</a:t>
              </a:r>
              <a:endParaRPr b="0" lang="en-US" sz="25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4" name="_s1046"/>
            <p:cNvSpPr/>
            <p:nvPr/>
          </p:nvSpPr>
          <p:spPr>
            <a:xfrm flipV="1">
              <a:off x="4422600" y="1688400"/>
              <a:ext cx="0" cy="1171800"/>
            </a:xfrm>
            <a:prstGeom prst="line">
              <a:avLst/>
            </a:prstGeom>
            <a:ln w="2844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5" name="_s1047"/>
            <p:cNvSpPr/>
            <p:nvPr/>
          </p:nvSpPr>
          <p:spPr>
            <a:xfrm>
              <a:off x="3832200" y="508680"/>
              <a:ext cx="1180440" cy="118008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a886e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Garamond"/>
                </a:rPr>
                <a:t>гнев</a:t>
              </a:r>
              <a:endParaRPr b="0" lang="en-US" sz="25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6" name="_s1048"/>
            <p:cNvSpPr/>
            <p:nvPr/>
          </p:nvSpPr>
          <p:spPr>
            <a:xfrm>
              <a:off x="3832200" y="2860920"/>
              <a:ext cx="1180440" cy="1180080"/>
            </a:xfrm>
            <a:prstGeom prst="rect">
              <a:avLst/>
            </a:prstGeom>
            <a:blipFill rotWithShape="0">
              <a:blip r:embed="rId11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ffff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Garamond"/>
                </a:rPr>
                <a:t>агрессия</a:t>
              </a:r>
              <a:endParaRPr b="0" lang="en-US" sz="25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озитивные фактор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195280" y="1267920"/>
            <a:ext cx="60483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Привлечение внимания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Защит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Карьер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Защита от стрессов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Достижение цели   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Соперничество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Достижение независимости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Инициатива     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Негативные фактор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763280" y="1700280"/>
            <a:ext cx="699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Непонимание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Одиночество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Разрыв отношений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Взаимная неприязнь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Вред здоровью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Увеличение конфликтности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Дефицит положительных эмоций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Склонность к насилию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ричины агрессивного поведени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11000" spc="-1" strike="noStrike">
                <a:solidFill>
                  <a:srgbClr val="ffffff"/>
                </a:solidFill>
                <a:latin typeface="Garamond"/>
              </a:rPr>
              <a:t>??</a:t>
            </a:r>
            <a:endParaRPr b="0" lang="en-US" sz="110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53" name="Organization Chart 19"/>
          <p:cNvGrpSpPr/>
          <p:nvPr/>
        </p:nvGrpSpPr>
        <p:grpSpPr>
          <a:xfrm>
            <a:off x="3995640" y="1600200"/>
            <a:ext cx="4038480" cy="5256000"/>
            <a:chOff x="3995640" y="1600200"/>
            <a:chExt cx="4038480" cy="5256000"/>
          </a:xfrm>
        </p:grpSpPr>
        <p:cxnSp>
          <p:nvCxnSpPr>
            <p:cNvPr id="154" name="_s2052"/>
            <p:cNvCxnSpPr>
              <a:stCxn id="155" idx="0"/>
              <a:endCxn id="156" idx="2"/>
            </p:cNvCxnSpPr>
            <p:nvPr/>
          </p:nvCxnSpPr>
          <p:spPr>
            <a:xfrm flipV="1" rot="16200000">
              <a:off x="6196320" y="3520080"/>
              <a:ext cx="1051920" cy="1415520"/>
            </a:xfrm>
            <a:prstGeom prst="bentConnector3">
              <a:avLst>
                <a:gd name="adj1" fmla="val 1270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7" name="_s2053"/>
            <p:cNvCxnSpPr>
              <a:stCxn id="158" idx="0"/>
              <a:endCxn id="156" idx="2"/>
            </p:cNvCxnSpPr>
            <p:nvPr/>
          </p:nvCxnSpPr>
          <p:spPr>
            <a:xfrm flipV="1">
              <a:off x="6014520" y="3702240"/>
              <a:ext cx="1800" cy="1051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9" name="_s2054"/>
            <p:cNvCxnSpPr>
              <a:stCxn id="160" idx="0"/>
              <a:endCxn id="156" idx="2"/>
            </p:cNvCxnSpPr>
            <p:nvPr/>
          </p:nvCxnSpPr>
          <p:spPr>
            <a:xfrm flipH="1" flipV="1" rot="5400000">
              <a:off x="4781880" y="3521160"/>
              <a:ext cx="1051920" cy="1414080"/>
            </a:xfrm>
            <a:prstGeom prst="bentConnector3">
              <a:avLst>
                <a:gd name="adj1" fmla="val 1270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56" name="_s2055"/>
            <p:cNvSpPr/>
            <p:nvPr/>
          </p:nvSpPr>
          <p:spPr>
            <a:xfrm>
              <a:off x="5409000" y="1600200"/>
              <a:ext cx="1211400" cy="2102400"/>
            </a:xfrm>
            <a:custGeom>
              <a:avLst/>
              <a:gdLst>
                <a:gd name="textAreaLeft" fmla="*/ 59040 w 1211400"/>
                <a:gd name="textAreaRight" fmla="*/ 1152360 w 1211400"/>
                <a:gd name="textAreaTop" fmla="*/ 59040 h 2102400"/>
                <a:gd name="textAreaBottom" fmla="*/ 2043360 h 2102400"/>
              </a:gdLst>
              <a:ahLst/>
              <a:rect l="textAreaLeft" t="textAreaTop" r="textAreaRight" b="textAreaBottom"/>
              <a:pathLst>
                <a:path w="21600" h="37482">
                  <a:moveTo>
                    <a:pt x="3600" y="0"/>
                  </a:moveTo>
                  <a:arcTo wR="3600" hR="3600" stAng="16200000" swAng="-5400000"/>
                  <a:lnTo>
                    <a:pt x="0" y="33882"/>
                  </a:lnTo>
                  <a:arcTo wR="3600" hR="3600" stAng="10800000" swAng="-5400000"/>
                  <a:lnTo>
                    <a:pt x="18000" y="374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Garamond"/>
                </a:rPr>
                <a:t>Причины</a:t>
              </a: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0" name="_s2056"/>
            <p:cNvSpPr/>
            <p:nvPr/>
          </p:nvSpPr>
          <p:spPr>
            <a:xfrm>
              <a:off x="3995640" y="4753800"/>
              <a:ext cx="1211400" cy="2102400"/>
            </a:xfrm>
            <a:custGeom>
              <a:avLst/>
              <a:gdLst>
                <a:gd name="textAreaLeft" fmla="*/ 59040 w 1211400"/>
                <a:gd name="textAreaRight" fmla="*/ 1152360 w 1211400"/>
                <a:gd name="textAreaTop" fmla="*/ 59040 h 2102400"/>
                <a:gd name="textAreaBottom" fmla="*/ 2043360 h 2102400"/>
              </a:gdLst>
              <a:ahLst/>
              <a:rect l="textAreaLeft" t="textAreaTop" r="textAreaRight" b="textAreaBottom"/>
              <a:pathLst>
                <a:path w="21600" h="37482">
                  <a:moveTo>
                    <a:pt x="3600" y="0"/>
                  </a:moveTo>
                  <a:arcTo wR="3600" hR="3600" stAng="16200000" swAng="-5400000"/>
                  <a:lnTo>
                    <a:pt x="0" y="33882"/>
                  </a:lnTo>
                  <a:arcTo wR="3600" hR="3600" stAng="10800000" swAng="-5400000"/>
                  <a:lnTo>
                    <a:pt x="18000" y="374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Garamond"/>
                </a:rPr>
                <a:t>Внешние</a:t>
              </a: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8" name="_s2057"/>
            <p:cNvSpPr/>
            <p:nvPr/>
          </p:nvSpPr>
          <p:spPr>
            <a:xfrm>
              <a:off x="5409000" y="4753800"/>
              <a:ext cx="1211400" cy="2102400"/>
            </a:xfrm>
            <a:custGeom>
              <a:avLst/>
              <a:gdLst>
                <a:gd name="textAreaLeft" fmla="*/ 59040 w 1211400"/>
                <a:gd name="textAreaRight" fmla="*/ 1152360 w 1211400"/>
                <a:gd name="textAreaTop" fmla="*/ 59040 h 2102400"/>
                <a:gd name="textAreaBottom" fmla="*/ 2043360 h 2102400"/>
              </a:gdLst>
              <a:ahLst/>
              <a:rect l="textAreaLeft" t="textAreaTop" r="textAreaRight" b="textAreaBottom"/>
              <a:pathLst>
                <a:path w="21600" h="37482">
                  <a:moveTo>
                    <a:pt x="3600" y="0"/>
                  </a:moveTo>
                  <a:arcTo wR="3600" hR="3600" stAng="16200000" swAng="-5400000"/>
                  <a:lnTo>
                    <a:pt x="0" y="33882"/>
                  </a:lnTo>
                  <a:arcTo wR="3600" hR="3600" stAng="10800000" swAng="-5400000"/>
                  <a:lnTo>
                    <a:pt x="18000" y="374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Garamond"/>
                </a:rPr>
                <a:t>Физиоло</a:t>
              </a: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Garamond"/>
                </a:rPr>
                <a:t>гические</a:t>
              </a: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Garamond"/>
                </a:rPr>
                <a:t>особен-</a:t>
              </a: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Garamond"/>
                </a:rPr>
                <a:t>ности</a:t>
              </a: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Garamond"/>
                </a:rPr>
                <a:t>личности</a:t>
              </a: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5" name="_s2058"/>
            <p:cNvSpPr/>
            <p:nvPr/>
          </p:nvSpPr>
          <p:spPr>
            <a:xfrm>
              <a:off x="6822720" y="4753800"/>
              <a:ext cx="1211400" cy="2102400"/>
            </a:xfrm>
            <a:custGeom>
              <a:avLst/>
              <a:gdLst>
                <a:gd name="textAreaLeft" fmla="*/ 59040 w 1211400"/>
                <a:gd name="textAreaRight" fmla="*/ 1152360 w 1211400"/>
                <a:gd name="textAreaTop" fmla="*/ 59040 h 2102400"/>
                <a:gd name="textAreaBottom" fmla="*/ 2043360 h 2102400"/>
              </a:gdLst>
              <a:ahLst/>
              <a:rect l="textAreaLeft" t="textAreaTop" r="textAreaRight" b="textAreaBottom"/>
              <a:pathLst>
                <a:path w="21600" h="37482">
                  <a:moveTo>
                    <a:pt x="3600" y="0"/>
                  </a:moveTo>
                  <a:arcTo wR="3600" hR="3600" stAng="16200000" swAng="-5400000"/>
                  <a:lnTo>
                    <a:pt x="0" y="33882"/>
                  </a:lnTo>
                  <a:arcTo wR="3600" hR="3600" stAng="10800000" swAng="-5400000"/>
                  <a:lnTo>
                    <a:pt x="18000" y="374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Garamond"/>
                </a:rPr>
                <a:t>Психо</a:t>
              </a: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Garamond"/>
                </a:rPr>
                <a:t>логичес</a:t>
              </a: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Garamond"/>
                </a:rPr>
                <a:t>кие</a:t>
              </a: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нешни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СЕМЬЯ                            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          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Холодность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Агрессивность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Гиперопек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СРЕД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Включенность в агрессивную среду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Защита от агрессивной сред.                                                   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4" descr="46715998"/>
          <p:cNvPicPr/>
          <p:nvPr/>
        </p:nvPicPr>
        <p:blipFill>
          <a:blip r:embed="rId1"/>
          <a:stretch/>
        </p:blipFill>
        <p:spPr>
          <a:xfrm>
            <a:off x="5435640" y="981000"/>
            <a:ext cx="3240000" cy="2430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xrjofq9t"/>
          <p:cNvPicPr/>
          <p:nvPr/>
        </p:nvPicPr>
        <p:blipFill>
          <a:blip r:embed="rId2"/>
          <a:stretch/>
        </p:blipFill>
        <p:spPr>
          <a:xfrm>
            <a:off x="6372360" y="4869000"/>
            <a:ext cx="2520720" cy="1904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16:49:08Z</dcterms:created>
  <dc:creator>1</dc:creator>
  <dc:description/>
  <dc:language>en-US</dc:language>
  <cp:lastModifiedBy>PhoenIX</cp:lastModifiedBy>
  <dcterms:modified xsi:type="dcterms:W3CDTF">2018-02-07T01:54:19Z</dcterms:modified>
  <cp:revision>22</cp:revision>
  <dc:subject/>
  <dc:title>Агрессия</dc:title>
</cp:coreProperties>
</file>