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2B3-0F6C-421A-9AD3-4D453E5D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4E4-5FB9-4965-8856-E91958AA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6E5B0-2DEB-47E9-99BE-7141C6F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4B545-A8EA-4449-A600-E391ED78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1942F-983E-4D28-B8E4-CD5CE01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33E5E-0B42-4C50-ABC6-2EC05430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2FC0-8A68-401D-A0E4-46191DA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4504-F46B-4D42-8194-A4251119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523AD-F34B-4B65-9A59-38893BDF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F8D91-DF0B-40BE-864D-1FCB25D9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88BE1-C29D-4207-BE9D-BFA0D1BF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368-19B3-44CC-A412-3BF1B3E9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A30-AA81-47E3-BF0B-38CFF348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522B-6939-43A0-9F78-CF9F2F22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3C26-3B38-418A-91A2-5E9CF3B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4E7-379D-4069-B520-23E16ADA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FBC5-32F8-4246-803C-9FBBCD66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C91E-8FF4-424C-BC9F-E21BE174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7B6-EBC7-4D3B-AE65-B4A53D15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840-42B6-4CA1-8560-512FB8A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E3B-139A-4A65-B4FA-4574845B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11F6-488D-42B5-8AB1-84122BF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8B8C-71CB-4A2E-9883-E78AED71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9470-D545-4077-818F-B6FC705E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9C9C-9924-4762-BFDC-F528F272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85A3-CF62-4B5C-B1B3-AA3B971A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92E2-4908-48EE-A742-BD0EAEF3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1F99-0A7D-4354-A8ED-02415446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88B8-D457-4ACB-9BDE-8780F0C5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154C-1E88-4C56-82CA-F58B123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2642-6966-4C49-A762-33B4D996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7F8-855A-4CB9-B2C6-D861FCA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E2F6-01AE-4108-9DC1-5FBB0CA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EBB40-B56A-4B28-9299-96EA2C62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A636-806B-433E-AA17-78EB55D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767D-96CF-49E5-9955-0679BCB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54EA-CCD0-4E7A-AD34-F2EB507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ABE7-62EE-484B-AEAD-68DEE083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EF96-497C-4731-8683-EA74A262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3B27-42E3-4FA2-95AB-393EB167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07E7-7679-4E4B-8D48-93E261F3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1658-0245-4196-A134-BB6EB36B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073-9419-4D21-94FF-A76B08F9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E334-E65F-40FD-86BE-71314E11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D96C-6CB4-4359-8B8E-6A4C949F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B176-9648-4121-BBF1-CECB1477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8A13-8BA9-4495-BFF5-49015FC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146D-9374-4897-9E29-53F6EE4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DE72-38FD-44CC-B56D-A8C3FDB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C2BB8-A719-4104-9477-0A2932C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48FC-2CB5-4DE8-9D08-7AA5BCC7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B81D-6930-4553-B3FB-1869335C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8DD6-D6ED-4C82-952F-E760D4B0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3AC-19F4-45D1-94F1-E32A8112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13DE-294B-4CC6-91F4-9B656726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57D84-6B6F-463B-A593-E95B6F8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11AC-C272-48C7-95BE-B09F7319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EBB3-0B23-4701-B71B-98C433B0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4D71-3BD5-499D-9BB6-D474228F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584AE-E52A-45DB-B8C3-7F75C46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ACCC-15F3-4A4B-9C85-DF9D2ED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6BB7-0A60-4AC4-A28B-EF4BB91B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64A28-C54B-4542-BB79-3FA0932C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2752-FE19-4332-9970-13824818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3A1-3C43-424E-A540-4BDBFEE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F922-46AC-4C09-9D1C-0571545D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49037-5D38-4607-9191-986EEE22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25A6-1A36-4050-9388-59922A46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3D29-D8A9-4E4F-9B40-FB516DB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839A5-4F99-42E4-88B6-6224549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D2582-69D2-4879-815E-F6ED7736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E007F-7A98-4AD3-8964-62F8C20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AE45-E834-4C5E-95CE-B28C19B2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4EAAC-FFEB-4238-997F-BED2801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E329C-2B6F-4C98-A854-A68C1F33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E6B-51D8-414D-A193-926DD575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1139-2E3A-46DD-801A-FCC18CF7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5E7E7-C247-47FC-B9D6-977B8067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3337-CAD1-499B-885F-74F61D94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9AC3-3BBC-46A1-89C9-C81179B0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9215-0531-445B-9C39-3A928C7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218D2-EA84-4B02-9120-2F46CB1D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6DB3-31AF-48DF-A4CD-A1175CE2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3B476-30D8-4156-AA0F-15A5D6A2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7D355-158C-40DF-8FE1-B879C605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FCC0-2636-4DE6-B4F0-3A54680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E9E-7D76-426F-A30F-1A494D33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63A7-D403-40D4-9051-0D4C14C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FDB30-FAEE-4FEC-B231-EE533999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D44E-A527-4967-9A11-F27C54E4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6484-E88B-4D1D-BA6A-FF9D8A5F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83B19-4A3B-4D77-804C-A6682DF7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60BE-1DCB-4464-B3E8-EB88E898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0CE9D-18A5-4B81-8202-24C1507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E6262-CDF7-4C57-9F70-7CB2C09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9BA1-87B0-43EB-BCBC-A5CEC4E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6282B-E59B-479D-896C-0595AAEE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BC7-EE8D-4B07-ABCE-BCAF8AD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D8C96-A951-41A0-B85D-E3F5A09F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D022-CBEC-433B-9761-33CE4DE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6CFC4-BA68-4983-8687-F908F71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C8DA-22DE-4A27-B98C-1699B86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DE67-C0D3-4B3C-B487-FB5E5A13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42FCC-4CC8-4296-9D2E-0EC39508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BD0A7-EC7B-4064-AD56-53AEFC69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08B60-F8C3-41BA-B8EA-1ACF4F49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A01C9-8A07-4026-8E32-1B561DE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9540E-FB54-4BED-92C7-ED2098B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E682-05BA-4CF9-A7BA-2CF437E553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1592-D437-4A38-8BEC-C6B0CE4392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2A5C-817E-43C8-BD56-1CB35A8F32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DF2-627B-4792-B223-B69A220A940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E7F1-8742-4964-BE83-01C98260FA1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2F7B-0C1F-48CC-B3DD-973423DF89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119-B253-43D8-943C-8031178FA7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1E4B-D7EC-4514-8A68-EB540BA280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FE24-AAAD-4FE2-B179-0359B83FC4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208080" y="1712880"/>
            <a:ext cx="9480600" cy="3084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85010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9126720" cy="1878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J:\Практика 10 лицей\Окружающий мир\родной край-частица родины\0b450baa18b26d12c8a948cf924f2c99.jpg"/>
          <p:cNvPicPr/>
          <p:nvPr/>
        </p:nvPicPr>
        <p:blipFill>
          <a:blip r:embed="rId2"/>
          <a:stretch/>
        </p:blipFill>
        <p:spPr>
          <a:xfrm>
            <a:off x="1785960" y="1500120"/>
            <a:ext cx="52149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689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J:\Практика 10 лицей\Окружающий мир\родной край-частица родины\imgB.asp.jpg"/>
          <p:cNvPicPr/>
          <p:nvPr/>
        </p:nvPicPr>
        <p:blipFill>
          <a:blip r:embed="rId2"/>
          <a:stretch/>
        </p:blipFill>
        <p:spPr>
          <a:xfrm>
            <a:off x="826920" y="1341360"/>
            <a:ext cx="7786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4" descr=""/>
          <p:cNvPicPr/>
          <p:nvPr/>
        </p:nvPicPr>
        <p:blipFill>
          <a:blip r:embed="rId1"/>
          <a:stretch/>
        </p:blipFill>
        <p:spPr>
          <a:xfrm>
            <a:off x="450720" y="5430960"/>
            <a:ext cx="8474040" cy="873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Он  находится в центре города, на площади  Революции  и  представляет собой скульптуру "Скорбящая мать" и две стелы "Слава героям" - на них фигуры воина и рабочего, склонивших знамена в знак скорби о погибших товарищах, и мемориальные плиты с фамилиями 167 известных воинов, павших в боях за Белгоро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Содержимое 3" descr="Belg16_0.tmp"/>
          <p:cNvPicPr/>
          <p:nvPr/>
        </p:nvPicPr>
        <p:blipFill>
          <a:blip r:embed="rId2"/>
          <a:stretch/>
        </p:blipFill>
        <p:spPr>
          <a:xfrm>
            <a:off x="3478320" y="1285920"/>
            <a:ext cx="5437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4"/>
          <p:cNvSpPr/>
          <p:nvPr/>
        </p:nvSpPr>
        <p:spPr>
          <a:xfrm>
            <a:off x="214200" y="5394240"/>
            <a:ext cx="8715600" cy="1455480"/>
          </a:xfrm>
          <a:prstGeom prst="roundRect">
            <a:avLst>
              <a:gd name="adj" fmla="val 16667"/>
            </a:avLst>
          </a:prstGeom>
          <a:solidFill>
            <a:srgbClr val="c3986d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Открыта и освящена 8 мая 2001 года в парке Победы. На аллее установлены бюсты 20 Героям Советского Союза и Героям России. Авторы бюстов - белгородские скульпторы Д.Ф. Горин, А.А. Пшеничный, А.С. Смелый, А.А. Шиш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Содержимое 13" descr="Аллея Героев.jpeg"/>
          <p:cNvPicPr/>
          <p:nvPr/>
        </p:nvPicPr>
        <p:blipFill>
          <a:blip r:embed="rId1"/>
          <a:stretch/>
        </p:blipFill>
        <p:spPr>
          <a:xfrm>
            <a:off x="1979640" y="1197000"/>
            <a:ext cx="5448240" cy="40784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429" name="Прямоугольник 8" descr=""/>
          <p:cNvPicPr/>
          <p:nvPr/>
        </p:nvPicPr>
        <p:blipFill>
          <a:blip r:embed="rId2"/>
          <a:stretch/>
        </p:blipFill>
        <p:spPr>
          <a:xfrm>
            <a:off x="109440" y="109440"/>
            <a:ext cx="8901360" cy="11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4"/>
          <p:cNvSpPr/>
          <p:nvPr/>
        </p:nvSpPr>
        <p:spPr>
          <a:xfrm>
            <a:off x="142920" y="5572080"/>
            <a:ext cx="8786880" cy="1455480"/>
          </a:xfrm>
          <a:prstGeom prst="roundRect">
            <a:avLst>
              <a:gd name="adj" fmla="val 16667"/>
            </a:avLst>
          </a:prstGeom>
          <a:solidFill>
            <a:srgbClr val="c3986d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Авторы проекта А.Н. Берсенев, А.А. Шишков. Внутри ротонды размещена статуя ангела, который «встречает и благословляет» каждого въезжающего в город. Открыта и освящена 7 января 200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Прямоугольник 8" descr=""/>
          <p:cNvPicPr/>
          <p:nvPr/>
        </p:nvPicPr>
        <p:blipFill>
          <a:blip r:embed="rId1"/>
          <a:stretch/>
        </p:blipFill>
        <p:spPr>
          <a:xfrm>
            <a:off x="23760" y="49320"/>
            <a:ext cx="9132840" cy="69984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11" descr="0_15e3f_26b0757f_XL.jpeg"/>
          <p:cNvPicPr/>
          <p:nvPr/>
        </p:nvPicPr>
        <p:blipFill>
          <a:blip r:embed="rId2"/>
          <a:stretch/>
        </p:blipFill>
        <p:spPr>
          <a:xfrm>
            <a:off x="1619280" y="1125360"/>
            <a:ext cx="5807160" cy="4354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214280" y="0"/>
          <a:ext cx="6357960" cy="4714920"/>
        </p:xfrm>
        <a:graphic>
          <a:graphicData uri="http://schemas.openxmlformats.org/drawingml/2006/table">
            <a:tbl>
              <a:tblPr/>
              <a:tblGrid>
                <a:gridCol w="695520"/>
                <a:gridCol w="696960"/>
                <a:gridCol w="779400"/>
                <a:gridCol w="698400"/>
                <a:gridCol w="696960"/>
                <a:gridCol w="698400"/>
                <a:gridCol w="696960"/>
                <a:gridCol w="698760"/>
                <a:gridCol w="696600"/>
              </a:tblGrid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1"/>
          <p:cNvSpPr/>
          <p:nvPr/>
        </p:nvSpPr>
        <p:spPr>
          <a:xfrm>
            <a:off x="0" y="4745160"/>
            <a:ext cx="9144000" cy="21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1. Разгадай кроссвор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еревянный сосуд с двумя круглыми днищами и выпуклыми стен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туденистое кушанье, сваренное из ягодного, фруктового сока, молока, овсяной мук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Узкая и глубокая яма для добывания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оселение, огороженное и укрепленное стеной для защиты от неприя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Животное рода лошадей, невысокое с длинными уш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Уважительное значение слова стар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Яровой злак, зерна которого обычно идут на корм лоша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Сладкое густое вещество, вырабатываемое пчелами из нект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2. Отгадай ключевое слово по вертик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5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J:\Практика 10 лицей\Окружающий мир\родной край-частица родины\13857381657868.gif"/>
          <p:cNvPicPr/>
          <p:nvPr/>
        </p:nvPicPr>
        <p:blipFill>
          <a:blip r:embed="rId2"/>
          <a:stretch/>
        </p:blipFill>
        <p:spPr>
          <a:xfrm>
            <a:off x="585720" y="1600200"/>
            <a:ext cx="3629160" cy="472428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4" descr=""/>
          <p:cNvPicPr/>
          <p:nvPr/>
        </p:nvPicPr>
        <p:blipFill>
          <a:blip r:embed="rId3"/>
          <a:stretch/>
        </p:blipFill>
        <p:spPr>
          <a:xfrm>
            <a:off x="4505400" y="1517760"/>
            <a:ext cx="45226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189000" y="1620720"/>
            <a:ext cx="9588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6891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J:\Практика 10 лицей\Окружающий мир\родной край-частица родины\17.jpg"/>
          <p:cNvPicPr/>
          <p:nvPr/>
        </p:nvPicPr>
        <p:blipFill>
          <a:blip r:embed="rId2"/>
          <a:stretch/>
        </p:blipFill>
        <p:spPr>
          <a:xfrm>
            <a:off x="250920" y="155736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J:\Практика 10 лицей\Окружающий мир\родной край-частица родины\67_0sqh7.jpg"/>
          <p:cNvPicPr/>
          <p:nvPr/>
        </p:nvPicPr>
        <p:blipFill>
          <a:blip r:embed="rId3"/>
          <a:stretch/>
        </p:blipFill>
        <p:spPr>
          <a:xfrm>
            <a:off x="4357800" y="38098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689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J:\Практика 10 лицей\Окружающий мир\родной край-частица родины\a857839fbad6.jpg"/>
          <p:cNvPicPr/>
          <p:nvPr/>
        </p:nvPicPr>
        <p:blipFill>
          <a:blip r:embed="rId2"/>
          <a:stretch/>
        </p:blipFill>
        <p:spPr>
          <a:xfrm>
            <a:off x="357120" y="1571760"/>
            <a:ext cx="6096240" cy="4066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J:\Практика 10 лицей\Окружающий мир\родной край-частица родины\gallery_promo21186416.jpg"/>
          <p:cNvPicPr/>
          <p:nvPr/>
        </p:nvPicPr>
        <p:blipFill>
          <a:blip r:embed="rId3"/>
          <a:stretch/>
        </p:blipFill>
        <p:spPr>
          <a:xfrm>
            <a:off x="4357800" y="4278240"/>
            <a:ext cx="46432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J:\Практика 10 лицей\Окружающий мир\родной край-частица родины\belgorod_belgorodskij_akademicheskij_dramaticheskij_teatr_im_ms_wepkina.jpg"/>
          <p:cNvPicPr/>
          <p:nvPr/>
        </p:nvPicPr>
        <p:blipFill>
          <a:blip r:embed="rId2"/>
          <a:stretch/>
        </p:blipFill>
        <p:spPr>
          <a:xfrm>
            <a:off x="1214280" y="1571760"/>
            <a:ext cx="64296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639800" y="390600"/>
            <a:ext cx="8699760" cy="1298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500280" y="1571760"/>
            <a:ext cx="5491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амятник открыт 4 августа 1998 года в Белгороде на Харьковской гор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амятник изготовлен из меди, в технике выколотки, на Калужской скульптурной фабрик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втор проекта скульптор В.Клык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амятник - символ единения православия и государства, символ объединительной идеи, братства славянских народов. С именем князя Владимира связано создание огромного и сильного государства. Своим расцветом оно во многом обязано его политической мудрости, непреклонной воле, воинской доблести, разумной хозяйственной деятель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Содержимое 3" descr="vladimir_0.tmp"/>
          <p:cNvPicPr/>
          <p:nvPr/>
        </p:nvPicPr>
        <p:blipFill>
          <a:blip r:embed="rId2"/>
          <a:stretch/>
        </p:blipFill>
        <p:spPr>
          <a:xfrm>
            <a:off x="357120" y="357120"/>
            <a:ext cx="271476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J:\Практика 10 лицей\Окружающий мир\родной край-частица родины\sm_users_img-42911.jpg"/>
          <p:cNvPicPr/>
          <p:nvPr/>
        </p:nvPicPr>
        <p:blipFill>
          <a:blip r:embed="rId2"/>
          <a:stretch/>
        </p:blipFill>
        <p:spPr>
          <a:xfrm>
            <a:off x="785880" y="1500120"/>
            <a:ext cx="700092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08:32:00Z</dcterms:created>
  <dc:creator>Пользователь</dc:creator>
  <dc:description/>
  <dc:language>en-US</dc:language>
  <cp:lastModifiedBy>Windows User</cp:lastModifiedBy>
  <dcterms:modified xsi:type="dcterms:W3CDTF">2019-11-21T10:41:44Z</dcterms:modified>
  <cp:revision>30</cp:revision>
  <dc:subject/>
  <dc:title>Белгород – частица нашей родины</dc:title>
</cp:coreProperties>
</file>