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3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2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085-BEE1-4756-9003-AD3FA37C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8F1C-A748-4E04-B69E-339AE3D9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98EC0-F3AC-43BC-BAAE-E7A83FA6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66420-2AF7-4A83-BC27-8F5E04AB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5756E-5B31-404F-8831-6FD75D41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82BB0-2ACA-449C-8A73-4CAB4DFC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19312-499E-47FD-9595-D459EBA5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63575-2FD9-4EAB-9554-1272902A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8676C-9791-44B4-B2E5-20B01D85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32840-F1D0-4E4B-A18C-1F5FCC18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474D4-DAF0-4CF5-8DB9-96AD7C30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BBC6-30DB-45F0-A2BB-17BBB554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C4CB-F66E-4C8C-8663-862CE7BB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280C-73ED-4E73-9D91-5E28CAE7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F224-B0ED-4AAE-BC92-5FB02F15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ADF0-E40F-4604-AE59-7EE159D7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9497-BF7A-49C9-81DC-373D692B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5158-1F02-434B-A8C8-61D8A84C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1760-C223-4E46-82B4-8E3CD660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DAFC-47F6-4950-9703-16B347C2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4BC-4BFC-4973-803A-4FBECEE0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873B-D94B-45AA-92BE-F297A857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7801-1D6C-4314-B797-81476985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A7F5-C9DE-4ED3-9D4E-A163F1B1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084E-1407-436A-8AC1-644334A7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9D55-DF9B-4D86-8C4A-65273420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F6E5-E08B-49AD-8ACA-CD84DB07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2D8F5-2C5E-488B-AD71-05811321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81F5E-5ECD-486E-955A-9AA7B056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AE0C3-9844-40A3-BD56-F0EC2882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1CECB-0E75-4338-AC05-0F0416A1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51E-A529-4CE0-8BF9-6F41B426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DEFD2-BDF6-43CD-B7CE-97AEAD87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1EFB8-801F-48C0-817C-14C22D22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B29CF-3353-439C-8FEE-E71B775B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6D6EC-027C-469C-B572-71DA218A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C4CE6-8767-430C-9EB7-0782C2A3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FCE18-DAE4-4D10-833C-3F0E3115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ABA6F-F9D8-4AD7-AC70-B493341B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EA2E7-4C2E-432B-894B-83942C2B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5F8E3-F978-4484-B21E-10A051A2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0DBFA-FDEE-41E4-8D89-D996285D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C83-F8FC-4F08-9A9A-86C96B87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275FC-EF06-4DA9-922D-5D164CB6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8409B-CB30-4267-98F9-6F704F4C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379BE-C7BF-4D24-8847-CAE01CB4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30F7E-2952-42B8-AA25-79D2D206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8FBCC-EA49-404E-BE6A-E4346FAE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42C0D-E59F-404B-B00E-E301BE8B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B2245-1155-456A-9EBA-B8A0BAEA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05354-29AB-47FA-973B-4C27A0C9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88BD6-7145-4EF4-8297-8B4C1882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93796-5D03-45A0-925B-68386CAF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2BB9-EE76-41F4-8F10-A5F16366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56CF4-333C-494E-9027-E822B04A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8D23D-F238-49E5-906E-8AA91945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CAD10-0BF0-447D-AF31-D39A4FBB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BC40A-756A-418B-A072-F03C2F58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04039-D419-47E2-B431-0585B190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3B178-2549-4CD3-8DF0-EE7609A6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ED4FE-4102-47D8-BDF3-E78D008B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76D24-4407-4BCB-A9D0-836162EE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56A50-C56D-4B0C-9CE2-75C40303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6CB05-F246-41B9-B93E-9A6A4259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0D2-DDA0-4228-940A-0E2FE946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42492-9C10-464A-A60A-459DA8ED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180FA-B2AF-4E96-B4C2-EF3939DE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D7753-A586-4A66-BEDF-C9B07E97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EED75-8EF3-4EC9-8BFC-1B166FE7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47704-B670-476D-8578-73DA4FE3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D30E2-0775-44AC-B15B-06513173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AC2F9-50A0-4A0C-AAC5-B2552F23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C2F31-1E21-4F14-934D-63775D24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42A20-923F-493E-9FE9-29E3FF98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BF8EA-F13A-4871-9E99-BCD65A5D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9B1D-45BA-4922-BACA-B78DB555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39DDD-EB51-4259-9373-3B5C075B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2E132-3CB3-4EE7-891F-8A4F943B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C5432-EE3B-4B60-AE6B-52C4455D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9706A-514D-4A24-A965-974354F4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8B4DD-0D13-4967-9BDA-B15D3B70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113B8-4655-493E-8161-2BB07785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E0448-EB3E-40FC-8620-6C094469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882FF-07F5-464E-89BA-810B31E6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D537F-1710-43EF-8D78-3FB96AF2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86203-7C9A-4E52-AB00-BC5D0270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7E5-666B-4954-B7C4-C3A0800B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FCC24-1AC6-42C5-9291-F00BB4FE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69261-2452-4877-A681-BF071119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7D018-F51F-4F75-A6B3-1DE84DE0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B0D7A-06F1-4DE5-BF58-1DE868AE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9B32A-CC6B-49CF-8F1D-A5644392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D4DB5-755B-443A-B98B-B0EE32CA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48FBF-3F20-49D0-A182-24F1652F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F593C-6A46-431E-87AD-6AE844B9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12039-07F7-4082-9FE6-D5AF05B7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BE42F-39AD-4206-8186-4844B8D9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42C-393D-440E-8AAE-93FDC132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45199-BC95-4E93-A54B-1CF05522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81513-A2DA-42BA-9DAD-98E93095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B1810-398E-4BA3-B53B-33FD11D3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E4728-0C31-4390-8DF8-82975210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C5519-F47D-4368-84FF-BAFF01B9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CA803-224C-4112-B905-EEE098E7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A16F6-9927-4AF5-83AE-6E257B3F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D52B3-9F8C-42E0-8935-48C90399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713BC-72A7-4ED3-9C19-AB6AF43F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1A997-2D27-4BB5-9072-AF3FB776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8F6F-D69C-4745-BB07-D6297AA9B94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98B9-7A7D-423D-A4D9-07CD098AB7D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C450-01EF-418F-B721-496CEE0AD97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FAA1-2273-4171-841C-5B5B329E281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2D03-0A12-41BB-96E0-7857F8CC638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6EA7-07F6-4DEE-9271-68C82F3679B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D440-A182-49A6-8813-4E64D30D588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31EB-EC8A-4325-A1E4-53DCAD12569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40D0-EBC9-4D5C-A4F7-8AFF54E2630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-208080" y="1712880"/>
            <a:ext cx="9480600" cy="30844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28760" y="4357800"/>
            <a:ext cx="85010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33200" y="109440"/>
            <a:ext cx="9126720" cy="18781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J:\Практика 10 лицей\Окружающий мир\родной край-частица родины\0b450baa18b26d12c8a948cf924f2c99.jpg"/>
          <p:cNvPicPr/>
          <p:nvPr/>
        </p:nvPicPr>
        <p:blipFill>
          <a:blip r:embed="rId2"/>
          <a:stretch/>
        </p:blipFill>
        <p:spPr>
          <a:xfrm>
            <a:off x="1785960" y="1500120"/>
            <a:ext cx="521496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298440" y="189000"/>
            <a:ext cx="8699400" cy="16891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J:\Практика 10 лицей\Окружающий мир\родной край-частица родины\imgB.asp.jpg"/>
          <p:cNvPicPr/>
          <p:nvPr/>
        </p:nvPicPr>
        <p:blipFill>
          <a:blip r:embed="rId2"/>
          <a:stretch/>
        </p:blipFill>
        <p:spPr>
          <a:xfrm>
            <a:off x="826920" y="1341360"/>
            <a:ext cx="77868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4" descr=""/>
          <p:cNvPicPr/>
          <p:nvPr/>
        </p:nvPicPr>
        <p:blipFill>
          <a:blip r:embed="rId1"/>
          <a:stretch/>
        </p:blipFill>
        <p:spPr>
          <a:xfrm>
            <a:off x="450720" y="5430960"/>
            <a:ext cx="8474040" cy="873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Он  находится в центре города, на площади  Революции  и  представляет собой скульптуру "Скорбящая мать" и две стелы "Слава героям" - на них фигуры воина и рабочего, склонивших знамена в знак скорби о погибших товарищах, и мемориальные плиты с фамилиями 167 известных воинов, павших в боях за Белгород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Содержимое 3" descr="Belg16_0.tmp"/>
          <p:cNvPicPr/>
          <p:nvPr/>
        </p:nvPicPr>
        <p:blipFill>
          <a:blip r:embed="rId2"/>
          <a:stretch/>
        </p:blipFill>
        <p:spPr>
          <a:xfrm>
            <a:off x="3478320" y="1285920"/>
            <a:ext cx="54370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4"/>
          <p:cNvSpPr/>
          <p:nvPr/>
        </p:nvSpPr>
        <p:spPr>
          <a:xfrm>
            <a:off x="214200" y="5394240"/>
            <a:ext cx="8715600" cy="1455480"/>
          </a:xfrm>
          <a:prstGeom prst="roundRect">
            <a:avLst>
              <a:gd name="adj" fmla="val 16667"/>
            </a:avLst>
          </a:prstGeom>
          <a:solidFill>
            <a:srgbClr val="c3986d"/>
          </a:solidFill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Открыта и освящена 8 мая 2001 года в парке Победы. На аллее установлены бюсты 20 Героям Советского Союза и Героям России. Авторы бюстов - белгородские скульпторы Д.Ф. Горин, А.А. Пшеничный, А.С. Смелый, А.А. Шиш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Содержимое 13" descr="Аллея Героев.jpeg"/>
          <p:cNvPicPr/>
          <p:nvPr/>
        </p:nvPicPr>
        <p:blipFill>
          <a:blip r:embed="rId1"/>
          <a:stretch/>
        </p:blipFill>
        <p:spPr>
          <a:xfrm>
            <a:off x="1979640" y="1197000"/>
            <a:ext cx="5448240" cy="40784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429" name="Прямоугольник 8" descr=""/>
          <p:cNvPicPr/>
          <p:nvPr/>
        </p:nvPicPr>
        <p:blipFill>
          <a:blip r:embed="rId2"/>
          <a:stretch/>
        </p:blipFill>
        <p:spPr>
          <a:xfrm>
            <a:off x="109440" y="109440"/>
            <a:ext cx="8901360" cy="11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Box 4"/>
          <p:cNvSpPr/>
          <p:nvPr/>
        </p:nvSpPr>
        <p:spPr>
          <a:xfrm>
            <a:off x="142920" y="5572080"/>
            <a:ext cx="8786880" cy="1455480"/>
          </a:xfrm>
          <a:prstGeom prst="roundRect">
            <a:avLst>
              <a:gd name="adj" fmla="val 16667"/>
            </a:avLst>
          </a:prstGeom>
          <a:solidFill>
            <a:srgbClr val="c3986d"/>
          </a:solidFill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Авторы проекта А.Н. Берсенев, А.А. Шишков. Внутри ротонды размещена статуя ангела, который «встречает и благословляет» каждого въезжающего в город. Открыта и освящена 7 января 2000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Прямоугольник 8" descr=""/>
          <p:cNvPicPr/>
          <p:nvPr/>
        </p:nvPicPr>
        <p:blipFill>
          <a:blip r:embed="rId1"/>
          <a:stretch/>
        </p:blipFill>
        <p:spPr>
          <a:xfrm>
            <a:off x="23760" y="49320"/>
            <a:ext cx="9132840" cy="699840"/>
          </a:xfrm>
          <a:prstGeom prst="rect">
            <a:avLst/>
          </a:prstGeom>
          <a:ln w="0">
            <a:noFill/>
          </a:ln>
        </p:spPr>
      </p:pic>
      <p:pic>
        <p:nvPicPr>
          <p:cNvPr id="432" name="Содержимое 11" descr="0_15e3f_26b0757f_XL.jpeg"/>
          <p:cNvPicPr/>
          <p:nvPr/>
        </p:nvPicPr>
        <p:blipFill>
          <a:blip r:embed="rId2"/>
          <a:stretch/>
        </p:blipFill>
        <p:spPr>
          <a:xfrm>
            <a:off x="1619280" y="1125360"/>
            <a:ext cx="5807160" cy="43545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214280" y="0"/>
          <a:ext cx="6357960" cy="4714920"/>
        </p:xfrm>
        <a:graphic>
          <a:graphicData uri="http://schemas.openxmlformats.org/drawingml/2006/table">
            <a:tbl>
              <a:tblPr/>
              <a:tblGrid>
                <a:gridCol w="695520"/>
                <a:gridCol w="696960"/>
                <a:gridCol w="779400"/>
                <a:gridCol w="698400"/>
                <a:gridCol w="696960"/>
                <a:gridCol w="698400"/>
                <a:gridCol w="696960"/>
                <a:gridCol w="698760"/>
                <a:gridCol w="696600"/>
              </a:tblGrid>
              <a:tr h="58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Rectangle 1"/>
          <p:cNvSpPr/>
          <p:nvPr/>
        </p:nvSpPr>
        <p:spPr>
          <a:xfrm>
            <a:off x="0" y="4745160"/>
            <a:ext cx="9144000" cy="21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 1. Разгадай кроссвор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горизонтали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Деревянный сосуд с двумя круглыми днищами и выпуклыми стенк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туденистое кушанье, сваренное из ягодного, фруктового сока, молока, овсяной муки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Узкая и глубокая яма для добывания в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оселение, огороженное и укрепленное стеной для защиты от неприя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Животное рода лошадей, невысокое с длинными уша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Уважительное значение слова стар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7. Яровой злак, зерна которого обычно идут на корм лошад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8. Сладкое густое вещество, вырабатываемое пчелами из некта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 2. Отгадай ключевое слово по вертик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298440" y="324000"/>
            <a:ext cx="8699400" cy="1517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J:\Практика 10 лицей\Окружающий мир\родной край-частица родины\13857381657868.gif"/>
          <p:cNvPicPr/>
          <p:nvPr/>
        </p:nvPicPr>
        <p:blipFill>
          <a:blip r:embed="rId2"/>
          <a:stretch/>
        </p:blipFill>
        <p:spPr>
          <a:xfrm>
            <a:off x="585720" y="1600200"/>
            <a:ext cx="3629160" cy="4724280"/>
          </a:xfrm>
          <a:prstGeom prst="rect">
            <a:avLst/>
          </a:prstGeom>
          <a:ln w="0">
            <a:noFill/>
          </a:ln>
        </p:spPr>
      </p:pic>
      <p:pic>
        <p:nvPicPr>
          <p:cNvPr id="405" name="Содержимое 4" descr=""/>
          <p:cNvPicPr/>
          <p:nvPr/>
        </p:nvPicPr>
        <p:blipFill>
          <a:blip r:embed="rId3"/>
          <a:stretch/>
        </p:blipFill>
        <p:spPr>
          <a:xfrm>
            <a:off x="4505400" y="1517760"/>
            <a:ext cx="45226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-189000" y="1620720"/>
            <a:ext cx="9588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189000"/>
            <a:ext cx="8699400" cy="16891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J:\Практика 10 лицей\Окружающий мир\родной край-частица родины\17.jpg"/>
          <p:cNvPicPr/>
          <p:nvPr/>
        </p:nvPicPr>
        <p:blipFill>
          <a:blip r:embed="rId2"/>
          <a:stretch/>
        </p:blipFill>
        <p:spPr>
          <a:xfrm>
            <a:off x="250920" y="155736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J:\Практика 10 лицей\Окружающий мир\родной край-частица родины\67_0sqh7.jpg"/>
          <p:cNvPicPr/>
          <p:nvPr/>
        </p:nvPicPr>
        <p:blipFill>
          <a:blip r:embed="rId3"/>
          <a:stretch/>
        </p:blipFill>
        <p:spPr>
          <a:xfrm>
            <a:off x="4357800" y="380988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189000"/>
            <a:ext cx="8699400" cy="16891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J:\Практика 10 лицей\Окружающий мир\родной край-частица родины\a857839fbad6.jpg"/>
          <p:cNvPicPr/>
          <p:nvPr/>
        </p:nvPicPr>
        <p:blipFill>
          <a:blip r:embed="rId2"/>
          <a:stretch/>
        </p:blipFill>
        <p:spPr>
          <a:xfrm>
            <a:off x="357120" y="1571760"/>
            <a:ext cx="6096240" cy="4066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J:\Практика 10 лицей\Окружающий мир\родной край-частица родины\gallery_promo21186416.jpg"/>
          <p:cNvPicPr/>
          <p:nvPr/>
        </p:nvPicPr>
        <p:blipFill>
          <a:blip r:embed="rId3"/>
          <a:stretch/>
        </p:blipFill>
        <p:spPr>
          <a:xfrm>
            <a:off x="4357800" y="4278240"/>
            <a:ext cx="46432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J:\Практика 10 лицей\Окружающий мир\родной край-частица родины\belgorod_belgorodskij_akademicheskij_dramaticheskij_teatr_im_ms_wepkina.jpg"/>
          <p:cNvPicPr/>
          <p:nvPr/>
        </p:nvPicPr>
        <p:blipFill>
          <a:blip r:embed="rId2"/>
          <a:stretch/>
        </p:blipFill>
        <p:spPr>
          <a:xfrm>
            <a:off x="1214280" y="1571760"/>
            <a:ext cx="642960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639800" y="390600"/>
            <a:ext cx="8699760" cy="12985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500280" y="1571760"/>
            <a:ext cx="5491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амятник открыт 4 августа 1998 года в Белгороде на Харьковской гор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амятник изготовлен из меди, в технике выколотки, на Калужской скульптурной фабрик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Автор проекта скульптор В.Клыко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амятник - символ единения православия и государства, символ объединительной идеи, братства славянских народов. С именем князя Владимира связано создание огромного и сильного государства. Своим расцветом оно во многом обязано его политической мудрости, непреклонной воле, воинской доблести, разумной хозяйственной деятель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Содержимое 3" descr="vladimir_0.tmp"/>
          <p:cNvPicPr/>
          <p:nvPr/>
        </p:nvPicPr>
        <p:blipFill>
          <a:blip r:embed="rId2"/>
          <a:stretch/>
        </p:blipFill>
        <p:spPr>
          <a:xfrm>
            <a:off x="357120" y="357120"/>
            <a:ext cx="2714760" cy="68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J:\Практика 10 лицей\Окружающий мир\родной край-частица родины\sm_users_img-42911.jpg"/>
          <p:cNvPicPr/>
          <p:nvPr/>
        </p:nvPicPr>
        <p:blipFill>
          <a:blip r:embed="rId2"/>
          <a:stretch/>
        </p:blipFill>
        <p:spPr>
          <a:xfrm>
            <a:off x="785880" y="1500120"/>
            <a:ext cx="700092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6T08:32:00Z</dcterms:created>
  <dc:creator>Пользователь</dc:creator>
  <dc:description/>
  <dc:language>en-US</dc:language>
  <cp:lastModifiedBy>Windows User</cp:lastModifiedBy>
  <dcterms:modified xsi:type="dcterms:W3CDTF">2019-11-21T10:41:44Z</dcterms:modified>
  <cp:revision>30</cp:revision>
  <dc:subject/>
  <dc:title>Белгород – частица нашей родины</dc:title>
</cp:coreProperties>
</file>