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636-6666-4B41-9224-BABBBD34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583-C9BB-4663-BDAA-EA1034C1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471-8E9B-444C-B29E-DB10073F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25D-CC7D-428D-AE7F-67AC0784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C359-0376-4A6B-8DF0-59A472BA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B38A-31B7-4C48-9940-8AD1175D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7895-5771-4BD6-BFF2-77F6820E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5212-25EC-4319-A29F-03AF87D2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A743-4EB4-43A6-9485-B5426FEB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283A-70C6-4F2C-A801-17066742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A8AE-E28E-4C71-B8C1-8B9C8FD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3F8-7D7B-4BE0-81E9-A259CE83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DCD0-63ED-44F4-B779-C9844C1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2264-978B-497B-BA1B-186F1E56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832E-E3C9-4D2B-BA4F-4A807D8D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5B9D-9AC7-4CB0-BC92-8A5C7EC9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0303-579D-43A0-BEDC-7DA2C9BB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E7E-A830-4962-B08F-4F542EB2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9D5-4D9A-47D2-8A45-FC23ED15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141-7004-43DA-BFE7-194AC2CC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835-12E1-4DFF-ADC5-9D826B61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754-8D22-49B9-8F0D-867537D3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F8C4-FA97-4A1C-82D3-D184FCE9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2DA-8713-463C-AD6D-11B6C3F3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A0A8-F213-4FD2-8580-375AD9288A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6B6F-3264-42E7-9814-4505FF8C265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993366"/>
                </a:solidFill>
                <a:latin typeface="Garamond"/>
              </a:rPr>
              <a:t>НАПИТКИ ПОЛЕЗНЫЕ ДЛЯ ЗДОРОВЬЯ</a:t>
            </a:r>
            <a:br>
              <a:rPr sz="2400"/>
            </a:br>
            <a:br>
              <a:rPr sz="2400"/>
            </a:br>
            <a:r>
              <a:rPr b="1" i="1" lang="en-US" sz="4400" spc="-1" strike="noStrike">
                <a:solidFill>
                  <a:srgbClr val="996600"/>
                </a:solidFill>
                <a:latin typeface="Garamond"/>
              </a:rPr>
              <a:t>Ч А Й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008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Выполнила: Никит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Елена Владими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ГБОУ школа №4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Колпин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4365720"/>
            <a:ext cx="18273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64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71640" y="457200"/>
            <a:ext cx="70038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223920"/>
            <a:ext cx="883944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77840"/>
            <a:ext cx="9144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ходите, тараканы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Я вас чаем угощу!"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араканы прибегали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се стаканы выпивали,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А букашки -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 три чашки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 молоком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 крендельком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ынче Муха-Цокотуха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менинница!</a:t>
            </a:r>
            <a:br>
              <a:rPr sz="30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ходили к Мухе блошки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носили ей сапожки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А сапожки не простые -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 них застежки золотые.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ходила к Мухе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абушка-пчела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Мухе-Цокотухе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Меду принесла...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"Бабочка-красавица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ушайте варенье!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ли вам не нравится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ше угощенье?"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друг какой-то старичок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учок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шу Муху в уголок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волок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Хочет бедную убить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Цокотуху погубить!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Дорогие гости, помогите!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аука-злодея зарубите!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 кормила я вас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 поила я вас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е покиньте меня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 мой последний час!"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о жуки-червяки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угалися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 углам, по щелям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бежалися: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араканы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д диваны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козявочки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д лавочки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букашки под кровать -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желают воевать!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 никто даже с места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сдвинется: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падай-погибай,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менинница!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А кузнечик, а кузнечик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у, совсем как человечек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кок, скок, скок, скок!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За кусток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д мосток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 молчок!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друг откуда-то летит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аленький Комарик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в руке его горит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аленький фонарик.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"Где убийца, где злодей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боюсь его когтей!"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длетает к Пауку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блю вынимает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ему на всём скаку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Голову срубает!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200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6502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19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2652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9912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5T06:46:09Z</dcterms:created>
  <dc:creator>Ученик</dc:creator>
  <dc:description/>
  <dc:language>en-US</dc:language>
  <cp:lastModifiedBy>Ученик</cp:lastModifiedBy>
  <dcterms:modified xsi:type="dcterms:W3CDTF">2019-11-21T13:21:26Z</dcterms:modified>
  <cp:revision>11</cp:revision>
  <dc:subject/>
  <dc:title>ЧАЙ</dc:title>
</cp:coreProperties>
</file>