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509-F680-4F77-8F21-F0D8E546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F9C-217E-4D16-AD5B-62C1E497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BE5-59DE-42E5-ADBA-A62D05EA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E0C-AADD-4F4B-8FEC-4FFE6760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D9FC-6DE0-4A27-8619-AB8F4953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606C-7A95-48FF-AE38-9DF91735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7564-EF34-4676-9753-394CB169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E24E-E2F8-449D-8AA6-27F2AD27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2AD8-B3BC-491F-BCCD-55E18898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E349-0073-44E3-96F5-C3372A13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BDAB-07B6-4844-A173-CFFA4D2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F99-EFB5-47BE-87D2-0CBAEB04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36F7-1F16-4E91-BEF1-B1CB3503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D149-90B0-441E-965E-EC6BE59B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44EB-3BD5-442E-A006-85E564D0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B4E2-43A7-4996-A210-F1A704FF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F29A-2DC5-4705-AE1A-C3150B6B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208-AED6-46F1-B360-F04DF307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43D-8DF5-4080-ADD0-D5F6E5E9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F1E-FA7E-4BF7-A2F7-B9610529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566-0DE9-4529-BB71-9A0B9462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4C2-27D0-468F-9E68-F86E0EF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A42-1FA2-4FEE-9EAD-D4033EC0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8BB-7F55-4A4A-8472-3135EF87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31F5-4C73-4107-A1F9-883D812729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1474-35C4-49A8-86CC-2F7D1C6775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993366"/>
                </a:solidFill>
                <a:latin typeface="Garamond"/>
              </a:rPr>
              <a:t>НАПИТКИ ПОЛЕЗНЫЕ ДЛЯ ЗДОРОВЬЯ</a:t>
            </a:r>
            <a:br>
              <a:rPr sz="2400"/>
            </a:br>
            <a:br>
              <a:rPr sz="2400"/>
            </a:br>
            <a:r>
              <a:rPr b="1" i="1" lang="en-US" sz="4400" spc="-1" strike="noStrike">
                <a:solidFill>
                  <a:srgbClr val="996600"/>
                </a:solidFill>
                <a:latin typeface="Garamond"/>
              </a:rPr>
              <a:t>Ч А Й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Выполнила: Никит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Елена Владими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ГБОУ школа №4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Колпин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4365720"/>
            <a:ext cx="18273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64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457200"/>
            <a:ext cx="70038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223920"/>
            <a:ext cx="883944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9144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ходите, тараканы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Я вас чаем угощу!"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араканы прибегали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се стаканы выпивали,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 букашки -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 три чашки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 молоком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 крендельком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ынче Муха-Цокотуха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менинница!</a:t>
            </a:r>
            <a:br>
              <a:rPr sz="30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ходили к Мухе блошки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носили ей сапожки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 сапожки не простые -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 них застежки золотые.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ходила к Мухе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абушка-пчела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ухе-Цокотухе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еду принесла...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"Бабочка-красавица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ушайте варенье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 вам не нравится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ше угощенье?"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друг какой-то старичок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учок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шу Муху в уголок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волок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Хочет бедную убить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Цокотуху погубить!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Дорогие гости, помогите!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аука-злодея зарубите!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 кормила я вас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 поила я вас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е покиньте меня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 мой последний час!"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о жуки-червяк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угалися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 углам, по щелям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бежалися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араканы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д диваны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козявочк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д лавочки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букашки под кровать -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желают воевать!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никто даже с места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сдвинется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падай-погибай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менинница!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 кузнечик, а кузнечик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у, совсем как человечек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кок, скок, скок, скок!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 кусток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д мосток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 молчок!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друг откуда-то летит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аленький Комарик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в руке его горит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аленький фонарик.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"Где убийца, где злодей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боюсь его когтей!"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длетает к Пауку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блю вынимает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ему на всём скаку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олову срубает!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20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6502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19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2652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9912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5T06:46:09Z</dcterms:created>
  <dc:creator>Ученик</dc:creator>
  <dc:description/>
  <dc:language>en-US</dc:language>
  <cp:lastModifiedBy>Ученик</cp:lastModifiedBy>
  <dcterms:modified xsi:type="dcterms:W3CDTF">2019-11-21T13:21:26Z</dcterms:modified>
  <cp:revision>11</cp:revision>
  <dc:subject/>
  <dc:title>ЧАЙ</dc:title>
</cp:coreProperties>
</file>