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8.jpeg" ContentType="image/jpeg"/>
  <Override PartName="/ppt/media/image10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2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17.jpeg" ContentType="image/jpeg"/>
  <Override PartName="/ppt/media/image3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47BA9-8AD2-43EA-A3BE-3C5995E927E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D9869-9826-4F00-9F66-C5CA2A691FB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29015-2127-4C36-A825-CB4E4C1D9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9E78F-95CD-4322-B9CE-7812A5DF4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8136C-A68F-42E7-A918-AE0402527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2A825-EFC2-4450-90CD-A46419C2C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BFAFE-5803-4C99-8F0D-20945EDCD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8A117-7BAD-48A0-875C-BE5AA08C5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1DF9B-81CF-4096-88E1-A533BDDE7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E2E50-3A37-4D8E-9587-20FB82160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B9AE0-070C-4A7B-8BB6-5B2C77C01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945F4-05A1-4444-8809-E21C738C4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4C774-256E-4DEA-882D-505B589B2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8DD9C-230F-4485-B992-27D0AC706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37DFA-968B-4AC8-9024-437C02DDE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2F717-EB7C-47BB-8174-F5BD6EFDB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74D46-63C0-4675-9B23-201B49ABF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C54B2-E8A8-4029-B3D1-CB22FA525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23790-C691-4B38-8913-531E815A3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A4DA3A-A57B-4FB6-AE1B-569D636F0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0424B0-BC8B-481E-879C-C16489EBE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8B57BA-0958-4F0D-8741-D1FE71607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CC8796-F990-4EF9-903A-20B204BB0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92ED62-0C29-4A8A-8CC0-905A05594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64892-968C-4127-90EC-8E340377B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A9DB3B-D74A-4F9B-A020-68D957381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E5E80D-9043-4788-AA01-7347D55FC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9E4B85-96E1-4D42-A14F-2B8845717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125E43-1413-4C87-A744-474C674A5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85A6A1-95D3-45DF-A632-B3F51C89C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304E7D-B384-48A5-8040-8CAE1E618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3BC08C-169A-4B2C-BE2C-A31CA6748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D9C009-E74B-4D8E-B49F-D4E2E2EF5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D06917-BF7F-4B5E-A124-B5CD4689A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4031EE-9721-4A1E-853D-B6CDACED3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89D40-DB3C-474B-9009-B9F17C48C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BE96FE-0292-4A96-9611-C15890671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7FB8CD-3C0D-45B2-B847-3BDE72025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D4FC0A-78D4-4D77-AFEE-B5EE79C09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6AB62B-440D-4E43-8407-80268D7FD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A54FCD-0B50-473D-A8D0-1151DB6B6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D372FF-C609-42EE-8762-3B237C34F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F9B12A-8A83-4D74-8889-AD506C652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E1E404-51AE-408F-93D3-0AA65FF8B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3B180E-C8A8-4F1B-91DB-E9FE0E601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60BDFE-0F74-4392-AC1B-8C4D0C151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DD0BB-4CBF-4660-B65F-DF0C42D82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D05873-C758-4F41-AB4B-FA88C7F91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CA5FC5-7B1E-4C34-BE73-DE61E1324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481B4C-4F8E-46E7-A96E-EE3B42396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85605F-A689-4E5E-9CFF-C90E503D9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5B9368-CFD8-4187-86AF-A7CBA417E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1F6145-4D95-478D-ADF6-651043C78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257BC4-C986-4538-BF23-3E9F1EC88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665363-8573-4A36-B345-7D4CE0C5C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7CC522-E435-4A09-8227-F703C4C9D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DD3CDD-BC95-4998-992F-0AEC55BB6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D803E-AA59-47E7-9B40-8F367132D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843BB7-1717-497E-8C42-9903B4747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B162B-55B3-4948-A2CA-577A2956E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3A926-57B2-4423-AB51-4EF1539B6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50DA1-5B9E-4371-A13D-C93F68592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78B34-CD46-4EC6-ACC6-B5D4102C32F6}" type="datetime">
              <a:rPr b="0" lang="ru-RU" sz="1000" spc="-1" strike="noStrike">
                <a:solidFill>
                  <a:srgbClr val="a7a399"/>
                </a:solidFill>
                <a:latin typeface="Arial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D09ED-2BC9-4C59-AC38-09D2FED3A2F6}" type="slidenum">
              <a:rPr b="0" lang="ru-RU" sz="1000" spc="-1" strike="noStrike">
                <a:solidFill>
                  <a:srgbClr val="a7a3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20840" y="433440"/>
            <a:ext cx="8302320" cy="3108240"/>
            <a:chOff x="420840" y="433440"/>
            <a:chExt cx="8302320" cy="310824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310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E446A-379F-4588-A3CB-95B4FC40FF3F}" type="datetime">
              <a:rPr b="0" lang="ru-RU" sz="1000" spc="-1" strike="noStrike">
                <a:solidFill>
                  <a:srgbClr val="a7a399"/>
                </a:solidFill>
                <a:latin typeface="Arial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D735C-342C-4DB1-8A1A-5D2D547CC5FB}" type="slidenum">
              <a:rPr b="0" lang="ru-RU" sz="1000" spc="-1" strike="noStrike">
                <a:solidFill>
                  <a:srgbClr val="a7a3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20840" y="433440"/>
            <a:ext cx="8302320" cy="4340160"/>
            <a:chOff x="420840" y="433440"/>
            <a:chExt cx="8302320" cy="434016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434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2D18E-1A73-4ACB-B590-019BAE970B77}" type="datetime">
              <a:rPr b="0" lang="ru-RU" sz="1000" spc="-1" strike="noStrike">
                <a:solidFill>
                  <a:srgbClr val="a7a399"/>
                </a:solidFill>
                <a:latin typeface="Arial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CADBC-9E95-4E89-86AD-BA603D2ABC83}" type="slidenum">
              <a:rPr b="0" lang="ru-RU" sz="1000" spc="-1" strike="noStrike">
                <a:solidFill>
                  <a:srgbClr val="a7a3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DF359-6478-4219-9D51-62AF45C01414}" type="datetime">
              <a:rPr b="0" lang="ru-RU" sz="1000" spc="-1" strike="noStrike">
                <a:solidFill>
                  <a:srgbClr val="a7a399"/>
                </a:solidFill>
                <a:latin typeface="Arial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0F50E-8383-4EC4-8084-84077246C5E0}" type="slidenum">
              <a:rPr b="0" lang="ru-RU" sz="1000" spc="-1" strike="noStrike">
                <a:solidFill>
                  <a:srgbClr val="a7a3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/>
            <a:ahLst/>
            <a:rect l="l" t="t" r="r" b="b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cubicBezTo>
                  <a:pt x="2295506" y="0"/>
                  <a:pt x="2324100" y="28594"/>
                  <a:pt x="2324100" y="63866"/>
                </a:cubicBezTo>
                <a:lnTo>
                  <a:pt x="2324100" y="4343400"/>
                </a:lnTo>
                <a:lnTo>
                  <a:pt x="0" y="4343400"/>
                </a:lnTo>
                <a:lnTo>
                  <a:pt x="0" y="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FBA82-484D-40C5-9536-B86CC72202DD}" type="datetime">
              <a:rPr b="0" lang="ru-RU" sz="1000" spc="-1" strike="noStrike">
                <a:solidFill>
                  <a:srgbClr val="a7a399"/>
                </a:solidFill>
                <a:latin typeface="Arial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51683-8E3D-4670-B1C5-3F6D2FBED5A1}" type="slidenum">
              <a:rPr b="0" lang="ru-RU" sz="1000" spc="-1" strike="noStrike">
                <a:solidFill>
                  <a:srgbClr val="a7a3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10.jpeg"/><Relationship Id="rId8" Type="http://schemas.openxmlformats.org/officeDocument/2006/relationships/image" Target="../media/image11.jpeg"/><Relationship Id="rId9" Type="http://schemas.openxmlformats.org/officeDocument/2006/relationships/image" Target="../media/image12.jpeg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image" Target="../media/image19.jpeg"/><Relationship Id="rId8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5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37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1.jpeg"/><Relationship Id="rId3" Type="http://schemas.openxmlformats.org/officeDocument/2006/relationships/image" Target="../media/image4.jpe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image" Target="../media/image25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03280" y="836280"/>
            <a:ext cx="818352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Arial"/>
              </a:rPr>
              <a:t>Поставьте букву, которая есть в названии предметов группы</a:t>
            </a:r>
            <a:br>
              <a:rPr sz="3200"/>
            </a:br>
            <a:endParaRPr b="1" lang="en-US" sz="32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228" name="Номер слайда 1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1DD3E-97F5-4A6B-9EE3-434578BC9739}" type="slidenum">
              <a:rPr b="0" lang="ru-RU" sz="1000" spc="-1" strike="noStrike">
                <a:solidFill>
                  <a:srgbClr val="a7a3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Прямоугольник 3"/>
          <p:cNvSpPr/>
          <p:nvPr/>
        </p:nvSpPr>
        <p:spPr>
          <a:xfrm>
            <a:off x="755640" y="1700280"/>
            <a:ext cx="1800360" cy="792000"/>
          </a:xfrm>
          <a:prstGeom prst="rect">
            <a:avLst/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Прямоугольник 4"/>
          <p:cNvSpPr/>
          <p:nvPr/>
        </p:nvSpPr>
        <p:spPr>
          <a:xfrm>
            <a:off x="3492360" y="1700280"/>
            <a:ext cx="1871640" cy="792000"/>
          </a:xfrm>
          <a:prstGeom prst="rect">
            <a:avLst/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Прямоугольник 5"/>
          <p:cNvSpPr/>
          <p:nvPr/>
        </p:nvSpPr>
        <p:spPr>
          <a:xfrm>
            <a:off x="6156360" y="1700280"/>
            <a:ext cx="1655640" cy="792000"/>
          </a:xfrm>
          <a:prstGeom prst="rect">
            <a:avLst/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2" descr="C:\Users\root\Pictures\i33.jpeg"/>
          <p:cNvPicPr/>
          <p:nvPr/>
        </p:nvPicPr>
        <p:blipFill>
          <a:blip r:embed="rId1"/>
          <a:stretch/>
        </p:blipFill>
        <p:spPr>
          <a:xfrm>
            <a:off x="539640" y="2781360"/>
            <a:ext cx="1139760" cy="122400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3" descr="C:\Users\root\Pictures\i17.jpeg"/>
          <p:cNvPicPr/>
          <p:nvPr/>
        </p:nvPicPr>
        <p:blipFill>
          <a:blip r:embed="rId2"/>
          <a:stretch/>
        </p:blipFill>
        <p:spPr>
          <a:xfrm>
            <a:off x="3492360" y="2852640"/>
            <a:ext cx="935280" cy="129060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4" descr="C:\Users\root\Pictures\i40.jpeg"/>
          <p:cNvPicPr/>
          <p:nvPr/>
        </p:nvPicPr>
        <p:blipFill>
          <a:blip r:embed="rId3"/>
          <a:stretch/>
        </p:blipFill>
        <p:spPr>
          <a:xfrm>
            <a:off x="5867280" y="2781360"/>
            <a:ext cx="1141560" cy="122400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5" descr="C:\Users\root\Pictures\i38.jpeg"/>
          <p:cNvPicPr/>
          <p:nvPr/>
        </p:nvPicPr>
        <p:blipFill>
          <a:blip r:embed="rId4"/>
          <a:stretch/>
        </p:blipFill>
        <p:spPr>
          <a:xfrm>
            <a:off x="4427640" y="2852640"/>
            <a:ext cx="1081080" cy="129708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6" descr="C:\Users\root\Pictures\i37.jpeg"/>
          <p:cNvPicPr/>
          <p:nvPr/>
        </p:nvPicPr>
        <p:blipFill>
          <a:blip r:embed="rId5"/>
          <a:stretch/>
        </p:blipFill>
        <p:spPr>
          <a:xfrm>
            <a:off x="3492360" y="4076640"/>
            <a:ext cx="2016360" cy="122400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7" descr="C:\Users\root\Pictures\i42.jpeg"/>
          <p:cNvPicPr/>
          <p:nvPr/>
        </p:nvPicPr>
        <p:blipFill>
          <a:blip r:embed="rId6"/>
          <a:stretch/>
        </p:blipFill>
        <p:spPr>
          <a:xfrm>
            <a:off x="6948360" y="2781360"/>
            <a:ext cx="1428840" cy="122400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8" descr="C:\Users\root\Pictures\i41.jpeg"/>
          <p:cNvPicPr/>
          <p:nvPr/>
        </p:nvPicPr>
        <p:blipFill>
          <a:blip r:embed="rId7"/>
          <a:stretch/>
        </p:blipFill>
        <p:spPr>
          <a:xfrm>
            <a:off x="5867280" y="3933720"/>
            <a:ext cx="2521080" cy="142884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9" descr="C:\Users\root\Pictures\i35.jpeg"/>
          <p:cNvPicPr/>
          <p:nvPr/>
        </p:nvPicPr>
        <p:blipFill>
          <a:blip r:embed="rId8"/>
          <a:stretch/>
        </p:blipFill>
        <p:spPr>
          <a:xfrm>
            <a:off x="1619280" y="2781360"/>
            <a:ext cx="1104840" cy="122400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10" descr="C:\Users\root\Pictures\i36.jpeg"/>
          <p:cNvPicPr/>
          <p:nvPr/>
        </p:nvPicPr>
        <p:blipFill>
          <a:blip r:embed="rId9"/>
          <a:stretch/>
        </p:blipFill>
        <p:spPr>
          <a:xfrm>
            <a:off x="539640" y="4005360"/>
            <a:ext cx="2160720" cy="1727280"/>
          </a:xfrm>
          <a:prstGeom prst="rect">
            <a:avLst/>
          </a:prstGeom>
          <a:ln w="0">
            <a:noFill/>
          </a:ln>
        </p:spPr>
      </p:pic>
      <p:sp>
        <p:nvSpPr>
          <p:cNvPr id="241" name="Прямоугольник 17"/>
          <p:cNvSpPr/>
          <p:nvPr/>
        </p:nvSpPr>
        <p:spPr>
          <a:xfrm>
            <a:off x="3203640" y="5300640"/>
            <a:ext cx="647640" cy="649440"/>
          </a:xfrm>
          <a:prstGeom prst="rect">
            <a:avLst/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Прямоугольник 18"/>
          <p:cNvSpPr/>
          <p:nvPr/>
        </p:nvSpPr>
        <p:spPr>
          <a:xfrm>
            <a:off x="4067280" y="5300640"/>
            <a:ext cx="649080" cy="649440"/>
          </a:xfrm>
          <a:prstGeom prst="rect">
            <a:avLst/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Прямоугольник 19"/>
          <p:cNvSpPr/>
          <p:nvPr/>
        </p:nvSpPr>
        <p:spPr>
          <a:xfrm>
            <a:off x="4932360" y="5300640"/>
            <a:ext cx="647640" cy="649440"/>
          </a:xfrm>
          <a:prstGeom prst="rect">
            <a:avLst/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Прямоугольник 20"/>
          <p:cNvSpPr/>
          <p:nvPr/>
        </p:nvSpPr>
        <p:spPr>
          <a:xfrm>
            <a:off x="5724360" y="5300640"/>
            <a:ext cx="648000" cy="649440"/>
          </a:xfrm>
          <a:prstGeom prst="rect">
            <a:avLst/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Прямоугольник 21"/>
          <p:cNvSpPr/>
          <p:nvPr/>
        </p:nvSpPr>
        <p:spPr>
          <a:xfrm>
            <a:off x="6443640" y="5300640"/>
            <a:ext cx="649440" cy="649440"/>
          </a:xfrm>
          <a:prstGeom prst="rect">
            <a:avLst/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Прямоугольник 22"/>
          <p:cNvSpPr/>
          <p:nvPr/>
        </p:nvSpPr>
        <p:spPr>
          <a:xfrm>
            <a:off x="7236000" y="5300640"/>
            <a:ext cx="649080" cy="649440"/>
          </a:xfrm>
          <a:prstGeom prst="rect">
            <a:avLst/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Прямоугольник 23"/>
          <p:cNvSpPr/>
          <p:nvPr/>
        </p:nvSpPr>
        <p:spPr>
          <a:xfrm>
            <a:off x="8028000" y="5300640"/>
            <a:ext cx="647640" cy="649440"/>
          </a:xfrm>
          <a:prstGeom prst="rect">
            <a:avLst/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Прямоугольник 24"/>
          <p:cNvSpPr/>
          <p:nvPr/>
        </p:nvSpPr>
        <p:spPr>
          <a:xfrm>
            <a:off x="2411280" y="5300640"/>
            <a:ext cx="648000" cy="649440"/>
          </a:xfrm>
          <a:prstGeom prst="rect">
            <a:avLst/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Полилиния 6"/>
          <p:cNvSpPr/>
          <p:nvPr/>
        </p:nvSpPr>
        <p:spPr>
          <a:xfrm>
            <a:off x="6754680" y="5595840"/>
            <a:ext cx="17640" cy="38160"/>
          </a:xfrm>
          <a:custGeom>
            <a:avLst/>
            <a:gdLst>
              <a:gd name="textAreaLeft" fmla="*/ 0 w 17640"/>
              <a:gd name="textAreaRight" fmla="*/ 18000 w 17640"/>
              <a:gd name="textAreaTop" fmla="*/ 0 h 38160"/>
              <a:gd name="textAreaBottom" fmla="*/ 38520 h 38160"/>
            </a:gdLst>
            <a:ahLst/>
            <a:rect l="textAreaLeft" t="textAreaTop" r="textAreaRight" b="textAreaBottom"/>
            <a:pathLst>
              <a:path w="17797" h="39003">
                <a:moveTo>
                  <a:pt x="16895" y="-26534"/>
                </a:moveTo>
                <a:lnTo>
                  <a:pt x="16895" y="24781"/>
                </a:lnTo>
                <a:lnTo>
                  <a:pt x="15903" y="19599"/>
                </a:lnTo>
                <a:lnTo>
                  <a:pt x="14247" y="15153"/>
                </a:lnTo>
                <a:lnTo>
                  <a:pt x="12150" y="11197"/>
                </a:lnTo>
                <a:lnTo>
                  <a:pt x="11745" y="11535"/>
                </a:lnTo>
                <a:lnTo>
                  <a:pt x="12468" y="14738"/>
                </a:lnTo>
                <a:lnTo>
                  <a:pt x="13944" y="19849"/>
                </a:lnTo>
                <a:lnTo>
                  <a:pt x="14928" y="20280"/>
                </a:lnTo>
                <a:lnTo>
                  <a:pt x="15584" y="17591"/>
                </a:lnTo>
                <a:lnTo>
                  <a:pt x="16022" y="12822"/>
                </a:lnTo>
                <a:lnTo>
                  <a:pt x="15319" y="9642"/>
                </a:lnTo>
                <a:lnTo>
                  <a:pt x="13859" y="7523"/>
                </a:lnTo>
                <a:lnTo>
                  <a:pt x="11892" y="6110"/>
                </a:lnTo>
                <a:lnTo>
                  <a:pt x="10579" y="6160"/>
                </a:lnTo>
                <a:lnTo>
                  <a:pt x="9704" y="7186"/>
                </a:lnTo>
                <a:lnTo>
                  <a:pt x="8302" y="11220"/>
                </a:lnTo>
                <a:lnTo>
                  <a:pt x="8186" y="10559"/>
                </a:lnTo>
                <a:lnTo>
                  <a:pt x="8110" y="9126"/>
                </a:lnTo>
                <a:lnTo>
                  <a:pt x="8058" y="7179"/>
                </a:lnTo>
                <a:lnTo>
                  <a:pt x="8024" y="6872"/>
                </a:lnTo>
                <a:lnTo>
                  <a:pt x="8002" y="7661"/>
                </a:lnTo>
                <a:lnTo>
                  <a:pt x="7965" y="16054"/>
                </a:lnTo>
                <a:lnTo>
                  <a:pt x="7956" y="5319"/>
                </a:lnTo>
                <a:lnTo>
                  <a:pt x="7956" y="13975"/>
                </a:lnTo>
                <a:lnTo>
                  <a:pt x="7956" y="5083"/>
                </a:lnTo>
                <a:lnTo>
                  <a:pt x="7956" y="11130"/>
                </a:lnTo>
                <a:lnTo>
                  <a:pt x="7956" y="7151"/>
                </a:lnTo>
                <a:lnTo>
                  <a:pt x="6963" y="6854"/>
                </a:lnTo>
                <a:lnTo>
                  <a:pt x="5307" y="7648"/>
                </a:lnTo>
                <a:lnTo>
                  <a:pt x="3210" y="9170"/>
                </a:lnTo>
                <a:lnTo>
                  <a:pt x="2805" y="10184"/>
                </a:lnTo>
                <a:lnTo>
                  <a:pt x="3529" y="10861"/>
                </a:lnTo>
                <a:lnTo>
                  <a:pt x="5005" y="11311"/>
                </a:lnTo>
                <a:lnTo>
                  <a:pt x="4994" y="9627"/>
                </a:lnTo>
                <a:lnTo>
                  <a:pt x="3994" y="6520"/>
                </a:lnTo>
                <a:lnTo>
                  <a:pt x="2336" y="2465"/>
                </a:lnTo>
                <a:lnTo>
                  <a:pt x="1229" y="753"/>
                </a:lnTo>
                <a:lnTo>
                  <a:pt x="492" y="605"/>
                </a:lnTo>
                <a:lnTo>
                  <a:pt x="0" y="1498"/>
                </a:lnTo>
                <a:lnTo>
                  <a:pt x="665" y="3085"/>
                </a:lnTo>
                <a:lnTo>
                  <a:pt x="2102" y="5135"/>
                </a:lnTo>
                <a:lnTo>
                  <a:pt x="4053" y="7495"/>
                </a:lnTo>
                <a:lnTo>
                  <a:pt x="5354" y="7083"/>
                </a:lnTo>
                <a:lnTo>
                  <a:pt x="6221" y="4824"/>
                </a:lnTo>
                <a:lnTo>
                  <a:pt x="6800" y="1334"/>
                </a:lnTo>
                <a:lnTo>
                  <a:pt x="7186" y="0"/>
                </a:lnTo>
                <a:lnTo>
                  <a:pt x="7441" y="102"/>
                </a:lnTo>
                <a:lnTo>
                  <a:pt x="7613" y="1162"/>
                </a:lnTo>
                <a:lnTo>
                  <a:pt x="7727" y="3854"/>
                </a:lnTo>
                <a:lnTo>
                  <a:pt x="7888" y="13154"/>
                </a:lnTo>
                <a:lnTo>
                  <a:pt x="7925" y="8993"/>
                </a:lnTo>
                <a:lnTo>
                  <a:pt x="6942" y="7090"/>
                </a:lnTo>
                <a:lnTo>
                  <a:pt x="5294" y="5821"/>
                </a:lnTo>
                <a:lnTo>
                  <a:pt x="3201" y="4975"/>
                </a:lnTo>
                <a:lnTo>
                  <a:pt x="1806" y="5403"/>
                </a:lnTo>
                <a:lnTo>
                  <a:pt x="876" y="6681"/>
                </a:lnTo>
                <a:lnTo>
                  <a:pt x="257" y="8525"/>
                </a:lnTo>
                <a:lnTo>
                  <a:pt x="836" y="9754"/>
                </a:lnTo>
                <a:lnTo>
                  <a:pt x="2216" y="10574"/>
                </a:lnTo>
                <a:lnTo>
                  <a:pt x="4129" y="11120"/>
                </a:lnTo>
                <a:lnTo>
                  <a:pt x="5405" y="10492"/>
                </a:lnTo>
                <a:lnTo>
                  <a:pt x="6255" y="9081"/>
                </a:lnTo>
                <a:lnTo>
                  <a:pt x="6822" y="7148"/>
                </a:lnTo>
                <a:lnTo>
                  <a:pt x="7200" y="6853"/>
                </a:lnTo>
                <a:lnTo>
                  <a:pt x="7452" y="7647"/>
                </a:lnTo>
                <a:lnTo>
                  <a:pt x="7621" y="9169"/>
                </a:lnTo>
                <a:lnTo>
                  <a:pt x="7732" y="11176"/>
                </a:lnTo>
                <a:lnTo>
                  <a:pt x="7856" y="16052"/>
                </a:lnTo>
                <a:lnTo>
                  <a:pt x="7889" y="15764"/>
                </a:lnTo>
                <a:lnTo>
                  <a:pt x="7947" y="5319"/>
                </a:lnTo>
                <a:lnTo>
                  <a:pt x="7954" y="13367"/>
                </a:lnTo>
                <a:lnTo>
                  <a:pt x="8948" y="13975"/>
                </a:lnTo>
                <a:lnTo>
                  <a:pt x="10603" y="12395"/>
                </a:lnTo>
                <a:lnTo>
                  <a:pt x="12701" y="9357"/>
                </a:lnTo>
                <a:lnTo>
                  <a:pt x="13106" y="7333"/>
                </a:lnTo>
                <a:lnTo>
                  <a:pt x="12382" y="5983"/>
                </a:lnTo>
                <a:lnTo>
                  <a:pt x="10906" y="5083"/>
                </a:lnTo>
                <a:lnTo>
                  <a:pt x="9923" y="5476"/>
                </a:lnTo>
                <a:lnTo>
                  <a:pt x="9268" y="6729"/>
                </a:lnTo>
                <a:lnTo>
                  <a:pt x="8831" y="8557"/>
                </a:lnTo>
                <a:lnTo>
                  <a:pt x="9532" y="12753"/>
                </a:lnTo>
                <a:lnTo>
                  <a:pt x="10993" y="18525"/>
                </a:lnTo>
                <a:lnTo>
                  <a:pt x="12961" y="25351"/>
                </a:lnTo>
                <a:lnTo>
                  <a:pt x="15266" y="29901"/>
                </a:lnTo>
                <a:lnTo>
                  <a:pt x="17796" y="-32601"/>
                </a:lnTo>
                <a:lnTo>
                  <a:pt x="16895" y="-26534"/>
                </a:lnTo>
                <a:close/>
              </a:path>
            </a:pathLst>
          </a:custGeom>
          <a:solidFill>
            <a:srgbClr val="f07f09"/>
          </a:solidFill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280" bIns="-8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SMARTInkAnnotation1"/>
          <p:cNvSpPr/>
          <p:nvPr/>
        </p:nvSpPr>
        <p:spPr>
          <a:xfrm>
            <a:off x="6807240" y="5464080"/>
            <a:ext cx="27000" cy="17640"/>
          </a:xfrm>
          <a:custGeom>
            <a:avLst/>
            <a:gdLst>
              <a:gd name="textAreaLeft" fmla="*/ 0 w 27000"/>
              <a:gd name="textAreaRight" fmla="*/ 27360 w 27000"/>
              <a:gd name="textAreaTop" fmla="*/ 0 h 17640"/>
              <a:gd name="textAreaBottom" fmla="*/ 18000 h 17640"/>
            </a:gdLst>
            <a:ahLst/>
            <a:rect l="textAreaLeft" t="textAreaTop" r="textAreaRight" b="textAreaBottom"/>
            <a:pathLst>
              <a:path w="26820" h="17870">
                <a:moveTo>
                  <a:pt x="0" y="1206"/>
                </a:moveTo>
                <a:lnTo>
                  <a:pt x="0" y="10687"/>
                </a:lnTo>
                <a:lnTo>
                  <a:pt x="993" y="12488"/>
                </a:lnTo>
                <a:lnTo>
                  <a:pt x="2649" y="12695"/>
                </a:lnTo>
                <a:lnTo>
                  <a:pt x="4745" y="11842"/>
                </a:lnTo>
                <a:lnTo>
                  <a:pt x="5151" y="11274"/>
                </a:lnTo>
                <a:lnTo>
                  <a:pt x="4427" y="10894"/>
                </a:lnTo>
                <a:lnTo>
                  <a:pt x="2951" y="10641"/>
                </a:lnTo>
                <a:lnTo>
                  <a:pt x="1967" y="11465"/>
                </a:lnTo>
                <a:lnTo>
                  <a:pt x="1312" y="13006"/>
                </a:lnTo>
                <a:lnTo>
                  <a:pt x="874" y="15025"/>
                </a:lnTo>
                <a:lnTo>
                  <a:pt x="1576" y="16372"/>
                </a:lnTo>
                <a:lnTo>
                  <a:pt x="3037" y="17270"/>
                </a:lnTo>
                <a:lnTo>
                  <a:pt x="5005" y="17869"/>
                </a:lnTo>
                <a:lnTo>
                  <a:pt x="6316" y="17275"/>
                </a:lnTo>
                <a:lnTo>
                  <a:pt x="7191" y="15888"/>
                </a:lnTo>
                <a:lnTo>
                  <a:pt x="8595" y="11272"/>
                </a:lnTo>
                <a:lnTo>
                  <a:pt x="8710" y="11885"/>
                </a:lnTo>
                <a:lnTo>
                  <a:pt x="8787" y="13286"/>
                </a:lnTo>
                <a:lnTo>
                  <a:pt x="8838" y="15213"/>
                </a:lnTo>
                <a:lnTo>
                  <a:pt x="8872" y="13520"/>
                </a:lnTo>
                <a:lnTo>
                  <a:pt x="8926" y="0"/>
                </a:lnTo>
                <a:lnTo>
                  <a:pt x="8937" y="10449"/>
                </a:lnTo>
                <a:lnTo>
                  <a:pt x="9931" y="11336"/>
                </a:lnTo>
                <a:lnTo>
                  <a:pt x="11587" y="9944"/>
                </a:lnTo>
                <a:lnTo>
                  <a:pt x="13685" y="7031"/>
                </a:lnTo>
                <a:lnTo>
                  <a:pt x="14090" y="5089"/>
                </a:lnTo>
                <a:lnTo>
                  <a:pt x="13366" y="3795"/>
                </a:lnTo>
                <a:lnTo>
                  <a:pt x="11891" y="2932"/>
                </a:lnTo>
                <a:lnTo>
                  <a:pt x="10906" y="4341"/>
                </a:lnTo>
                <a:lnTo>
                  <a:pt x="10251" y="7264"/>
                </a:lnTo>
                <a:lnTo>
                  <a:pt x="9814" y="11198"/>
                </a:lnTo>
                <a:lnTo>
                  <a:pt x="10516" y="12829"/>
                </a:lnTo>
                <a:lnTo>
                  <a:pt x="11977" y="12923"/>
                </a:lnTo>
                <a:lnTo>
                  <a:pt x="13944" y="11994"/>
                </a:lnTo>
                <a:lnTo>
                  <a:pt x="16249" y="11375"/>
                </a:lnTo>
                <a:lnTo>
                  <a:pt x="18779" y="10962"/>
                </a:lnTo>
                <a:lnTo>
                  <a:pt x="26819" y="10136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0" bIns="-28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49618 -0.525 E">
                                      <p:cBhvr>
                                        <p:cTn id="6" dur="2000" fill="hold"/>
                                        <p:tgtEl>
                                          <p:spTgt spid="2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94444E-006 -4.07407E-006 L 0.06303 -0.51435 E">
                                      <p:cBhvr>
                                        <p:cTn id="10" dur="2000" fill="hold"/>
                                        <p:tgtEl>
                                          <p:spTgt spid="2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-4.07407E-006 L -5.55556E-007 -0.50393 E">
                                      <p:cBhvr>
                                        <p:cTn id="14" dur="2000" fill="hold"/>
                                        <p:tgtEl>
                                          <p:spTgt spid="2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Номер слайда 1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3ED69-800B-4215-B9EB-AC57F6C0E104}" type="slidenum">
              <a:rPr b="0" lang="ru-RU" sz="1000" spc="-1" strike="noStrike">
                <a:solidFill>
                  <a:srgbClr val="a7a3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Прямоугольник 2" descr=""/>
          <p:cNvPicPr/>
          <p:nvPr/>
        </p:nvPicPr>
        <p:blipFill>
          <a:blip r:embed="rId1"/>
          <a:stretch/>
        </p:blipFill>
        <p:spPr>
          <a:xfrm>
            <a:off x="92160" y="201600"/>
            <a:ext cx="8959680" cy="1285920"/>
          </a:xfrm>
          <a:prstGeom prst="rect">
            <a:avLst/>
          </a:prstGeom>
          <a:ln w="0">
            <a:noFill/>
          </a:ln>
        </p:spPr>
      </p:pic>
      <p:sp>
        <p:nvSpPr>
          <p:cNvPr id="253" name="Прямоугольник 16"/>
          <p:cNvSpPr/>
          <p:nvPr/>
        </p:nvSpPr>
        <p:spPr>
          <a:xfrm>
            <a:off x="684360" y="2708280"/>
            <a:ext cx="1726920" cy="914400"/>
          </a:xfrm>
          <a:prstGeom prst="rect">
            <a:avLst/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Прямоугольник 17"/>
          <p:cNvSpPr/>
          <p:nvPr/>
        </p:nvSpPr>
        <p:spPr>
          <a:xfrm>
            <a:off x="2916360" y="2852640"/>
            <a:ext cx="2016000" cy="936720"/>
          </a:xfrm>
          <a:prstGeom prst="rect">
            <a:avLst/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Прямоугольник 18"/>
          <p:cNvSpPr/>
          <p:nvPr/>
        </p:nvSpPr>
        <p:spPr>
          <a:xfrm>
            <a:off x="5508720" y="2852640"/>
            <a:ext cx="2808360" cy="914400"/>
          </a:xfrm>
          <a:prstGeom prst="rect">
            <a:avLst/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Равнобедренный треугольник 19"/>
          <p:cNvSpPr/>
          <p:nvPr/>
        </p:nvSpPr>
        <p:spPr>
          <a:xfrm>
            <a:off x="684360" y="1773360"/>
            <a:ext cx="1726920" cy="914400"/>
          </a:xfrm>
          <a:prstGeom prst="triangle">
            <a:avLst>
              <a:gd name="adj" fmla="val 50000"/>
            </a:avLst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Равнобедренный треугольник 20"/>
          <p:cNvSpPr/>
          <p:nvPr/>
        </p:nvSpPr>
        <p:spPr>
          <a:xfrm>
            <a:off x="2843280" y="1989000"/>
            <a:ext cx="2160360" cy="863640"/>
          </a:xfrm>
          <a:prstGeom prst="triangle">
            <a:avLst>
              <a:gd name="adj" fmla="val 50000"/>
            </a:avLst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Равнобедренный треугольник 21"/>
          <p:cNvSpPr/>
          <p:nvPr/>
        </p:nvSpPr>
        <p:spPr>
          <a:xfrm>
            <a:off x="5435640" y="1989000"/>
            <a:ext cx="2881440" cy="914400"/>
          </a:xfrm>
          <a:prstGeom prst="triangle">
            <a:avLst>
              <a:gd name="adj" fmla="val 50000"/>
            </a:avLst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Picture 18" descr="C:\Users\root\Pictures\i11.jpeg"/>
          <p:cNvPicPr/>
          <p:nvPr/>
        </p:nvPicPr>
        <p:blipFill>
          <a:blip r:embed="rId2"/>
          <a:stretch/>
        </p:blipFill>
        <p:spPr>
          <a:xfrm>
            <a:off x="468360" y="3860640"/>
            <a:ext cx="1428840" cy="140976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19" descr="C:\Users\root\Pictures\i12.jpeg"/>
          <p:cNvPicPr/>
          <p:nvPr/>
        </p:nvPicPr>
        <p:blipFill>
          <a:blip r:embed="rId3"/>
          <a:stretch/>
        </p:blipFill>
        <p:spPr>
          <a:xfrm>
            <a:off x="1979640" y="4005360"/>
            <a:ext cx="1076400" cy="142848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20" descr="C:\Users\root\Pictures\i13.jpeg"/>
          <p:cNvPicPr/>
          <p:nvPr/>
        </p:nvPicPr>
        <p:blipFill>
          <a:blip r:embed="rId4"/>
          <a:stretch/>
        </p:blipFill>
        <p:spPr>
          <a:xfrm>
            <a:off x="3059280" y="4437000"/>
            <a:ext cx="1428480" cy="109548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21" descr="C:\Users\root\Pictures\i14.jpeg"/>
          <p:cNvPicPr/>
          <p:nvPr/>
        </p:nvPicPr>
        <p:blipFill>
          <a:blip r:embed="rId5"/>
          <a:stretch/>
        </p:blipFill>
        <p:spPr>
          <a:xfrm>
            <a:off x="4643280" y="4076640"/>
            <a:ext cx="1019160" cy="142884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22" descr="C:\Users\root\Pictures\i15.jpeg"/>
          <p:cNvPicPr/>
          <p:nvPr/>
        </p:nvPicPr>
        <p:blipFill>
          <a:blip r:embed="rId6"/>
          <a:stretch/>
        </p:blipFill>
        <p:spPr>
          <a:xfrm>
            <a:off x="6012000" y="4076640"/>
            <a:ext cx="990360" cy="142884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23" descr="C:\Users\root\Pictures\i16.jpeg"/>
          <p:cNvPicPr/>
          <p:nvPr/>
        </p:nvPicPr>
        <p:blipFill>
          <a:blip r:embed="rId7"/>
          <a:stretch/>
        </p:blipFill>
        <p:spPr>
          <a:xfrm>
            <a:off x="7164360" y="4005360"/>
            <a:ext cx="936720" cy="1428480"/>
          </a:xfrm>
          <a:prstGeom prst="rect">
            <a:avLst/>
          </a:prstGeom>
          <a:ln w="0">
            <a:noFill/>
          </a:ln>
        </p:spPr>
      </p:pic>
    </p:spTree>
  </p:cSld>
  <p:transition advTm="5000">
    <p:wipe dir="d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-1.48148E-006 L 0.53542 -0.18889 E">
                                      <p:cBhvr>
                                        <p:cTn id="20" dur="2000" fill="hold"/>
                                        <p:tgtEl>
                                          <p:spTgt spid="2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82 -0.07268 L -0.16129 -0.23009 E">
                                      <p:cBhvr>
                                        <p:cTn id="24" dur="2000" fill="hold"/>
                                        <p:tgtEl>
                                          <p:spTgt spid="2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851 0.075 L 0.00851 -0.25833 E">
                                      <p:cBhvr>
                                        <p:cTn id="28" dur="2000" fill="hold"/>
                                        <p:tgtEl>
                                          <p:spTgt spid="2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1.11111E-006 L 0.3066 -0.24051 E">
                                      <p:cBhvr>
                                        <p:cTn id="32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4.81481E-006 L 0.05521 -0.31274 E">
                                      <p:cBhvr>
                                        <p:cTn id="36" dur="2000" fill="hold"/>
                                        <p:tgtEl>
                                          <p:spTgt spid="2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542 0.01135 L -0.61823 -0.19861 E">
                                      <p:cBhvr>
                                        <p:cTn id="40" dur="2000" fill="hold"/>
                                        <p:tgtEl>
                                          <p:spTgt spid="2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Номер слайда 1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E469D-3249-46E4-A9E5-0E818292A69C}" type="slidenum">
              <a:rPr b="0" lang="ru-RU" sz="1000" spc="-1" strike="noStrike">
                <a:solidFill>
                  <a:srgbClr val="a7a3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Прямоугольник 4"/>
          <p:cNvSpPr/>
          <p:nvPr/>
        </p:nvSpPr>
        <p:spPr>
          <a:xfrm>
            <a:off x="1009800" y="2319480"/>
            <a:ext cx="1935000" cy="1752480"/>
          </a:xfrm>
          <a:prstGeom prst="rect">
            <a:avLst/>
          </a:prstGeom>
          <a:solidFill>
            <a:srgbClr val="00b050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Прямоугольник 5"/>
          <p:cNvSpPr/>
          <p:nvPr/>
        </p:nvSpPr>
        <p:spPr>
          <a:xfrm>
            <a:off x="3924360" y="2492280"/>
            <a:ext cx="1800000" cy="1513080"/>
          </a:xfrm>
          <a:prstGeom prst="rect">
            <a:avLst/>
          </a:prstGeom>
          <a:solidFill>
            <a:srgbClr val="0070c0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Прямоугольник 6"/>
          <p:cNvSpPr/>
          <p:nvPr/>
        </p:nvSpPr>
        <p:spPr>
          <a:xfrm>
            <a:off x="6443640" y="2205000"/>
            <a:ext cx="1346400" cy="1582920"/>
          </a:xfrm>
          <a:prstGeom prst="rect">
            <a:avLst/>
          </a:prstGeom>
          <a:solidFill>
            <a:srgbClr val="ff0000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Равнобедренный треугольник 7"/>
          <p:cNvSpPr/>
          <p:nvPr/>
        </p:nvSpPr>
        <p:spPr>
          <a:xfrm>
            <a:off x="900000" y="1413000"/>
            <a:ext cx="2070360" cy="91440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Равнобедренный треугольник 8"/>
          <p:cNvSpPr/>
          <p:nvPr/>
        </p:nvSpPr>
        <p:spPr>
          <a:xfrm>
            <a:off x="3924360" y="1557360"/>
            <a:ext cx="1800000" cy="914400"/>
          </a:xfrm>
          <a:prstGeom prst="triangle">
            <a:avLst>
              <a:gd name="adj" fmla="val 50000"/>
            </a:avLst>
          </a:prstGeom>
          <a:solidFill>
            <a:srgbClr val="0070c0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Равнобедренный треугольник 9"/>
          <p:cNvSpPr/>
          <p:nvPr/>
        </p:nvSpPr>
        <p:spPr>
          <a:xfrm>
            <a:off x="6372360" y="1268280"/>
            <a:ext cx="1439640" cy="91440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Picture 5" descr="C:\Users\root\Pictures\i13.jpeg"/>
          <p:cNvPicPr/>
          <p:nvPr/>
        </p:nvPicPr>
        <p:blipFill>
          <a:blip r:embed="rId1"/>
          <a:stretch/>
        </p:blipFill>
        <p:spPr>
          <a:xfrm>
            <a:off x="755640" y="5013360"/>
            <a:ext cx="1224000" cy="109548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6" descr="C:\Users\root\Pictures\i17.jpeg"/>
          <p:cNvPicPr/>
          <p:nvPr/>
        </p:nvPicPr>
        <p:blipFill>
          <a:blip r:embed="rId2"/>
          <a:stretch/>
        </p:blipFill>
        <p:spPr>
          <a:xfrm>
            <a:off x="2340000" y="4869000"/>
            <a:ext cx="1295280" cy="128412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8" descr="C:\Users\root\Pictures\i28.jpeg"/>
          <p:cNvPicPr/>
          <p:nvPr/>
        </p:nvPicPr>
        <p:blipFill>
          <a:blip r:embed="rId3"/>
          <a:stretch/>
        </p:blipFill>
        <p:spPr>
          <a:xfrm>
            <a:off x="4067280" y="4941720"/>
            <a:ext cx="1368360" cy="145440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13" descr="C:\Users\root\Pictures\i31.jpeg"/>
          <p:cNvPicPr/>
          <p:nvPr/>
        </p:nvPicPr>
        <p:blipFill>
          <a:blip r:embed="rId4"/>
          <a:stretch/>
        </p:blipFill>
        <p:spPr>
          <a:xfrm>
            <a:off x="6372360" y="4724280"/>
            <a:ext cx="1123920" cy="1428840"/>
          </a:xfrm>
          <a:prstGeom prst="rect">
            <a:avLst/>
          </a:prstGeom>
          <a:ln w="0">
            <a:noFill/>
          </a:ln>
        </p:spPr>
      </p:pic>
    </p:spTree>
  </p:cSld>
  <p:transition advTm="6000">
    <p:wipe dir="d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542 -0.05116 L -0.03542 -0.38449 E">
                                      <p:cBhvr>
                                        <p:cTn id="46" dur="2000" fill="hold"/>
                                        <p:tgtEl>
                                          <p:spTgt spid="2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1805 -0.11435 L 0.18107 -0.31389 E">
                                      <p:cBhvr>
                                        <p:cTn id="50" dur="2000" fill="hold"/>
                                        <p:tgtEl>
                                          <p:spTgt spid="2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5121 -0.01134 L -0.24792 -0.36852 E">
                                      <p:cBhvr>
                                        <p:cTn id="54" dur="2000" fill="hold"/>
                                        <p:tgtEl>
                                          <p:spTgt spid="2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518 -0.04121 L 0.01736 -0.36667 E">
                                      <p:cBhvr>
                                        <p:cTn id="58" dur="2000" fill="hold"/>
                                        <p:tgtEl>
                                          <p:spTgt spid="2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03280" y="836640"/>
            <a:ext cx="77407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8d3e"/>
                </a:solidFill>
                <a:latin typeface="Arial"/>
              </a:rPr>
              <a:t>Игра: </a:t>
            </a:r>
            <a:r>
              <a:rPr b="1" lang="ru-RU" sz="4000" spc="-1" strike="noStrike">
                <a:solidFill>
                  <a:srgbClr val="ff8d3e"/>
                </a:solidFill>
                <a:latin typeface="Arial"/>
              </a:rPr>
              <a:t>«Найди пару»</a:t>
            </a:r>
            <a:endParaRPr b="1" lang="en-US" sz="40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277" name="Номер слайда 1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330C8-FC48-433A-89E7-3B4CC6D15969}" type="slidenum">
              <a:rPr b="0" lang="ru-RU" sz="1000" spc="-1" strike="noStrike">
                <a:solidFill>
                  <a:srgbClr val="a7a3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17"/>
          <p:cNvSpPr/>
          <p:nvPr/>
        </p:nvSpPr>
        <p:spPr>
          <a:xfrm>
            <a:off x="611280" y="3537720"/>
            <a:ext cx="7993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0000"/>
                </a:solidFill>
                <a:latin typeface="Calibri"/>
              </a:rPr>
              <a:t>        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Picture 6" descr="C:\Users\root\Pictures\i29.jpeg"/>
          <p:cNvPicPr/>
          <p:nvPr/>
        </p:nvPicPr>
        <p:blipFill>
          <a:blip r:embed="rId1"/>
          <a:stretch/>
        </p:blipFill>
        <p:spPr>
          <a:xfrm>
            <a:off x="900000" y="2279520"/>
            <a:ext cx="1076400" cy="142884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7" descr="C:\Users\root\Pictures\i31.jpeg"/>
          <p:cNvPicPr/>
          <p:nvPr/>
        </p:nvPicPr>
        <p:blipFill>
          <a:blip r:embed="rId2"/>
          <a:stretch/>
        </p:blipFill>
        <p:spPr>
          <a:xfrm>
            <a:off x="3203640" y="2205000"/>
            <a:ext cx="1123920" cy="142884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8" descr="C:\Users\root\Pictures\i33.jpeg"/>
          <p:cNvPicPr/>
          <p:nvPr/>
        </p:nvPicPr>
        <p:blipFill>
          <a:blip r:embed="rId3"/>
          <a:stretch/>
        </p:blipFill>
        <p:spPr>
          <a:xfrm>
            <a:off x="5970600" y="2227320"/>
            <a:ext cx="1428840" cy="142884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9" descr="C:\Users\root\Pictures\i30.jpeg"/>
          <p:cNvPicPr/>
          <p:nvPr/>
        </p:nvPicPr>
        <p:blipFill>
          <a:blip r:embed="rId4"/>
          <a:stretch/>
        </p:blipFill>
        <p:spPr>
          <a:xfrm>
            <a:off x="6099120" y="4154400"/>
            <a:ext cx="1171800" cy="142884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10" descr="C:\Users\root\Pictures\i32.jpeg"/>
          <p:cNvPicPr/>
          <p:nvPr/>
        </p:nvPicPr>
        <p:blipFill>
          <a:blip r:embed="rId5"/>
          <a:stretch/>
        </p:blipFill>
        <p:spPr>
          <a:xfrm>
            <a:off x="974880" y="4384800"/>
            <a:ext cx="984240" cy="119844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11" descr="C:\Users\root\Pictures\i34.jpeg"/>
          <p:cNvPicPr/>
          <p:nvPr/>
        </p:nvPicPr>
        <p:blipFill>
          <a:blip r:embed="rId6"/>
          <a:stretch/>
        </p:blipFill>
        <p:spPr>
          <a:xfrm>
            <a:off x="3051000" y="4083120"/>
            <a:ext cx="1428840" cy="1428840"/>
          </a:xfrm>
          <a:prstGeom prst="rect">
            <a:avLst/>
          </a:prstGeom>
          <a:ln w="0">
            <a:noFill/>
          </a:ln>
        </p:spPr>
      </p:pic>
    </p:spTree>
  </p:cSld>
  <p:transition advTm="5000">
    <p:wipe dir="d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7.03704E-006 L -0.44879 -0.18888 E">
                                      <p:cBhvr>
                                        <p:cTn id="64" dur="2000" fill="hold"/>
                                        <p:tgtEl>
                                          <p:spTgt spid="2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6423 0.02801 L 0.41875 -0.21343 E">
                                      <p:cBhvr>
                                        <p:cTn id="68" dur="2000" fill="hold"/>
                                        <p:tgtEl>
                                          <p:spTgt spid="2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0295 0.02176 L 0.45747 -0.21968 E">
                                      <p:cBhvr>
                                        <p:cTn id="72" dur="2000" fill="hold"/>
                                        <p:tgtEl>
                                          <p:spTgt spid="2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3T19:39:39Z</dcterms:created>
  <dc:creator>Admin</dc:creator>
  <dc:description/>
  <dc:language>en-US</dc:language>
  <cp:lastModifiedBy>admin</cp:lastModifiedBy>
  <dcterms:modified xsi:type="dcterms:W3CDTF">2016-11-25T15:52:01Z</dcterms:modified>
  <cp:revision>138</cp:revision>
  <dc:subject/>
  <dc:title>Автоматизация звука [С] в игре «Четвёртый лишний»</dc:title>
</cp:coreProperties>
</file>