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7BA-7C0B-4254-BB4B-F1E87D4289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BE9B-3A5E-4480-BE8C-8EF421D4E1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DCF-278E-48F8-B615-F5025EDA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6D5-623B-4D76-BDE7-35F9B74A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68E-3D1D-47CB-B161-18C22D4F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067-BEF6-4584-96A7-B76AA476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E6BF-618D-49AF-A2A5-2F2568FF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E0D3-6AD0-4911-9233-EC8F7F6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23C2-5079-45C2-9CE3-C7F8700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47F-9643-494A-985F-4FC4FF5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6B62-649C-4317-9CF8-4B118D15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2C76-8A42-4C26-9A60-E83D660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5FDD-47DD-41FB-BE87-AC71051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275-3DC8-4BCA-8818-5B3CC343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59F-6EE0-4F72-99C0-FC3E6C6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9A12-11C0-4B40-95A3-42A776D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6EC6-63A4-4B13-B812-3397E76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ED1-7D29-4462-AF67-6B5C50AC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AA72-269E-480A-925F-01B0F6B0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68CD-8652-4CEE-AF11-07D69BF3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A056-5326-4683-A160-EE43DF1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11AD-6D0A-44D2-B19C-95D59006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DC6B-1209-4D6F-808D-AD1AB1F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9ED8-FE8F-4858-9FD4-1A56E955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81D-DF3F-44D2-B85B-6479F03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77D2-7838-4F27-867A-1848FDCB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9734-275C-4F59-9C80-2E0882C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493C-2B93-4A65-B595-B62BCB4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B267-8A2F-4B06-AE61-942A5C7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2B98-BCC1-4CF1-ADDD-EAC4EE67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14AC-73B8-4452-B107-D09EC18B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A8FF-1A5C-4A6C-8EF3-1705DB6C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4C4C-AF16-4881-9E2A-6DFDE102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B9AD-8BD1-4ABD-8603-08EDB057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031E-E81F-44A8-BADE-7E180CCA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83E-BDAB-4E6E-B765-3B6ED6D3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03B0-A2C8-4D83-8A0E-699C81AE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DCC3-014C-4049-B7D4-E45079C7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78C1-9E5E-41FF-B2F3-CA78A7BF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B5EB-9590-462D-9AC4-C69BF39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A12C-06DA-4826-B34E-C6E571D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1F70-832C-48D5-B8D8-1788D51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A6FB-15C4-4403-B763-B7431F09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3123-6AA2-4FB0-896A-BAAC0351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47F4-F189-44E3-899F-FCE3CB8B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E5C7-B364-432A-B11E-E9C9A05D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AF8-48A2-4D4F-9D65-A612ACE9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0BC81-1407-4691-856C-C27BB11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64E7-038B-4A9A-84B9-D33E0B9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59C71-3673-4BDC-9FC4-79646712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45D84-D289-4CB2-9C47-1CFAB7DA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F1A8-E4B0-4018-943D-79F96D4D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6D53-4AAB-4E5C-A258-0E61FD6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8B8C-DEAB-4C0A-A978-3B6BE7B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FBD7F-23E6-4F13-A3B5-236AE613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8853-1902-4424-844E-3E489DD0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085D-8DF2-4AC1-A960-53BCFBDD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62E-3007-4456-98DA-C7A8A659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2EEC-2B88-4D3B-AA24-87D23A32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CBC-CC38-429C-A54F-EAC6289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036-74C1-4F49-84A3-53E0059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94E-9287-423F-9A8E-A386AA46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E761-90D0-4454-9DA8-7CDBF4FC3AD4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B63-4363-473A-A0E4-070E269ECFC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8848-EC8F-4F45-A196-44976C000458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72F7-4733-4E60-A126-127C84D9795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0CC3-0A0E-4923-A829-94ED5ABB3543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90AF-64C4-45CA-A5AB-2C5D6E017E4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A4E-EFFB-4201-96A1-8C1EBD54E9B4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6B6B-401E-4E1A-BB1D-860FC76E910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555-E597-4354-87F9-7CF7F2D6443C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2B6-E97C-482E-8DA1-F0E6CD36CFF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836280"/>
            <a:ext cx="8183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ставьте букву, которая есть в названии предметов группы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8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5401-15A9-4908-BAAB-D2CD8CE6D77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755640" y="1700280"/>
            <a:ext cx="1800360" cy="792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492360" y="1700280"/>
            <a:ext cx="1871640" cy="792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6156360" y="1700280"/>
            <a:ext cx="1655640" cy="792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root\Pictures\i33.jpeg"/>
          <p:cNvPicPr/>
          <p:nvPr/>
        </p:nvPicPr>
        <p:blipFill>
          <a:blip r:embed="rId1"/>
          <a:stretch/>
        </p:blipFill>
        <p:spPr>
          <a:xfrm>
            <a:off x="539640" y="2781360"/>
            <a:ext cx="1139760" cy="122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root\Pictures\i17.jpeg"/>
          <p:cNvPicPr/>
          <p:nvPr/>
        </p:nvPicPr>
        <p:blipFill>
          <a:blip r:embed="rId2"/>
          <a:stretch/>
        </p:blipFill>
        <p:spPr>
          <a:xfrm>
            <a:off x="3492360" y="2852640"/>
            <a:ext cx="935280" cy="129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root\Pictures\i40.jpeg"/>
          <p:cNvPicPr/>
          <p:nvPr/>
        </p:nvPicPr>
        <p:blipFill>
          <a:blip r:embed="rId3"/>
          <a:stretch/>
        </p:blipFill>
        <p:spPr>
          <a:xfrm>
            <a:off x="5867280" y="2781360"/>
            <a:ext cx="114156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root\Pictures\i38.jpeg"/>
          <p:cNvPicPr/>
          <p:nvPr/>
        </p:nvPicPr>
        <p:blipFill>
          <a:blip r:embed="rId4"/>
          <a:stretch/>
        </p:blipFill>
        <p:spPr>
          <a:xfrm>
            <a:off x="442764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root\Pictures\i37.jpeg"/>
          <p:cNvPicPr/>
          <p:nvPr/>
        </p:nvPicPr>
        <p:blipFill>
          <a:blip r:embed="rId5"/>
          <a:stretch/>
        </p:blipFill>
        <p:spPr>
          <a:xfrm>
            <a:off x="3492360" y="4076640"/>
            <a:ext cx="2016360" cy="122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C:\Users\root\Pictures\i42.jpeg"/>
          <p:cNvPicPr/>
          <p:nvPr/>
        </p:nvPicPr>
        <p:blipFill>
          <a:blip r:embed="rId6"/>
          <a:stretch/>
        </p:blipFill>
        <p:spPr>
          <a:xfrm>
            <a:off x="6948360" y="2781360"/>
            <a:ext cx="1428840" cy="1224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root\Pictures\i41.jpeg"/>
          <p:cNvPicPr/>
          <p:nvPr/>
        </p:nvPicPr>
        <p:blipFill>
          <a:blip r:embed="rId7"/>
          <a:stretch/>
        </p:blipFill>
        <p:spPr>
          <a:xfrm>
            <a:off x="5867280" y="3933720"/>
            <a:ext cx="2521080" cy="142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C:\Users\root\Pictures\i35.jpeg"/>
          <p:cNvPicPr/>
          <p:nvPr/>
        </p:nvPicPr>
        <p:blipFill>
          <a:blip r:embed="rId8"/>
          <a:stretch/>
        </p:blipFill>
        <p:spPr>
          <a:xfrm>
            <a:off x="1619280" y="2781360"/>
            <a:ext cx="1104840" cy="122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C:\Users\root\Pictures\i36.jpeg"/>
          <p:cNvPicPr/>
          <p:nvPr/>
        </p:nvPicPr>
        <p:blipFill>
          <a:blip r:embed="rId9"/>
          <a:stretch/>
        </p:blipFill>
        <p:spPr>
          <a:xfrm>
            <a:off x="539640" y="4005360"/>
            <a:ext cx="2160720" cy="1727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7"/>
          <p:cNvSpPr/>
          <p:nvPr/>
        </p:nvSpPr>
        <p:spPr>
          <a:xfrm>
            <a:off x="3203640" y="5300640"/>
            <a:ext cx="6476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8"/>
          <p:cNvSpPr/>
          <p:nvPr/>
        </p:nvSpPr>
        <p:spPr>
          <a:xfrm>
            <a:off x="4067280" y="5300640"/>
            <a:ext cx="64908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9"/>
          <p:cNvSpPr/>
          <p:nvPr/>
        </p:nvSpPr>
        <p:spPr>
          <a:xfrm>
            <a:off x="4932360" y="5300640"/>
            <a:ext cx="6476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0"/>
          <p:cNvSpPr/>
          <p:nvPr/>
        </p:nvSpPr>
        <p:spPr>
          <a:xfrm>
            <a:off x="5724360" y="5300640"/>
            <a:ext cx="64800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6443640" y="5300640"/>
            <a:ext cx="6494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2"/>
          <p:cNvSpPr/>
          <p:nvPr/>
        </p:nvSpPr>
        <p:spPr>
          <a:xfrm>
            <a:off x="7236000" y="5300640"/>
            <a:ext cx="64908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3"/>
          <p:cNvSpPr/>
          <p:nvPr/>
        </p:nvSpPr>
        <p:spPr>
          <a:xfrm>
            <a:off x="8028000" y="5300640"/>
            <a:ext cx="6476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4"/>
          <p:cNvSpPr/>
          <p:nvPr/>
        </p:nvSpPr>
        <p:spPr>
          <a:xfrm>
            <a:off x="2411280" y="5300640"/>
            <a:ext cx="64800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6"/>
          <p:cNvSpPr/>
          <p:nvPr/>
        </p:nvSpPr>
        <p:spPr>
          <a:xfrm>
            <a:off x="6754680" y="5595840"/>
            <a:ext cx="17640" cy="38160"/>
          </a:xfrm>
          <a:custGeom>
            <a:avLst/>
            <a:gdLst>
              <a:gd name="textAreaLeft" fmla="*/ 0 w 17640"/>
              <a:gd name="textAreaRight" fmla="*/ 18000 w 17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797" h="39003">
                <a:moveTo>
                  <a:pt x="16895" y="-26534"/>
                </a:moveTo>
                <a:lnTo>
                  <a:pt x="16895" y="24781"/>
                </a:lnTo>
                <a:lnTo>
                  <a:pt x="15903" y="19599"/>
                </a:lnTo>
                <a:lnTo>
                  <a:pt x="14247" y="15153"/>
                </a:lnTo>
                <a:lnTo>
                  <a:pt x="12150" y="11197"/>
                </a:lnTo>
                <a:lnTo>
                  <a:pt x="11745" y="11535"/>
                </a:lnTo>
                <a:lnTo>
                  <a:pt x="12468" y="14738"/>
                </a:lnTo>
                <a:lnTo>
                  <a:pt x="13944" y="19849"/>
                </a:lnTo>
                <a:lnTo>
                  <a:pt x="14928" y="20280"/>
                </a:lnTo>
                <a:lnTo>
                  <a:pt x="15584" y="17591"/>
                </a:lnTo>
                <a:lnTo>
                  <a:pt x="16022" y="12822"/>
                </a:lnTo>
                <a:lnTo>
                  <a:pt x="15319" y="9642"/>
                </a:lnTo>
                <a:lnTo>
                  <a:pt x="13859" y="7523"/>
                </a:lnTo>
                <a:lnTo>
                  <a:pt x="11892" y="6110"/>
                </a:lnTo>
                <a:lnTo>
                  <a:pt x="10579" y="6160"/>
                </a:lnTo>
                <a:lnTo>
                  <a:pt x="9704" y="7186"/>
                </a:lnTo>
                <a:lnTo>
                  <a:pt x="8302" y="11220"/>
                </a:lnTo>
                <a:lnTo>
                  <a:pt x="8186" y="10559"/>
                </a:lnTo>
                <a:lnTo>
                  <a:pt x="8110" y="9126"/>
                </a:lnTo>
                <a:lnTo>
                  <a:pt x="8058" y="7179"/>
                </a:lnTo>
                <a:lnTo>
                  <a:pt x="8024" y="6872"/>
                </a:lnTo>
                <a:lnTo>
                  <a:pt x="8002" y="7661"/>
                </a:lnTo>
                <a:lnTo>
                  <a:pt x="7965" y="16054"/>
                </a:lnTo>
                <a:lnTo>
                  <a:pt x="7956" y="5319"/>
                </a:lnTo>
                <a:lnTo>
                  <a:pt x="7956" y="13975"/>
                </a:lnTo>
                <a:lnTo>
                  <a:pt x="7956" y="5083"/>
                </a:lnTo>
                <a:lnTo>
                  <a:pt x="7956" y="11130"/>
                </a:lnTo>
                <a:lnTo>
                  <a:pt x="7956" y="7151"/>
                </a:lnTo>
                <a:lnTo>
                  <a:pt x="6963" y="6854"/>
                </a:lnTo>
                <a:lnTo>
                  <a:pt x="5307" y="7648"/>
                </a:lnTo>
                <a:lnTo>
                  <a:pt x="3210" y="9170"/>
                </a:lnTo>
                <a:lnTo>
                  <a:pt x="2805" y="10184"/>
                </a:lnTo>
                <a:lnTo>
                  <a:pt x="3529" y="10861"/>
                </a:lnTo>
                <a:lnTo>
                  <a:pt x="5005" y="11311"/>
                </a:lnTo>
                <a:lnTo>
                  <a:pt x="4994" y="9627"/>
                </a:lnTo>
                <a:lnTo>
                  <a:pt x="3994" y="6520"/>
                </a:lnTo>
                <a:lnTo>
                  <a:pt x="2336" y="2465"/>
                </a:lnTo>
                <a:lnTo>
                  <a:pt x="1229" y="753"/>
                </a:lnTo>
                <a:lnTo>
                  <a:pt x="492" y="605"/>
                </a:lnTo>
                <a:lnTo>
                  <a:pt x="0" y="1498"/>
                </a:lnTo>
                <a:lnTo>
                  <a:pt x="665" y="3085"/>
                </a:lnTo>
                <a:lnTo>
                  <a:pt x="2102" y="5135"/>
                </a:lnTo>
                <a:lnTo>
                  <a:pt x="4053" y="7495"/>
                </a:lnTo>
                <a:lnTo>
                  <a:pt x="5354" y="7083"/>
                </a:lnTo>
                <a:lnTo>
                  <a:pt x="6221" y="4824"/>
                </a:lnTo>
                <a:lnTo>
                  <a:pt x="6800" y="1334"/>
                </a:lnTo>
                <a:lnTo>
                  <a:pt x="7186" y="0"/>
                </a:lnTo>
                <a:lnTo>
                  <a:pt x="7441" y="102"/>
                </a:lnTo>
                <a:lnTo>
                  <a:pt x="7613" y="1162"/>
                </a:lnTo>
                <a:lnTo>
                  <a:pt x="7727" y="3854"/>
                </a:lnTo>
                <a:lnTo>
                  <a:pt x="7888" y="13154"/>
                </a:lnTo>
                <a:lnTo>
                  <a:pt x="7925" y="8993"/>
                </a:lnTo>
                <a:lnTo>
                  <a:pt x="6942" y="7090"/>
                </a:lnTo>
                <a:lnTo>
                  <a:pt x="5294" y="5821"/>
                </a:lnTo>
                <a:lnTo>
                  <a:pt x="3201" y="4975"/>
                </a:lnTo>
                <a:lnTo>
                  <a:pt x="1806" y="5403"/>
                </a:lnTo>
                <a:lnTo>
                  <a:pt x="876" y="6681"/>
                </a:lnTo>
                <a:lnTo>
                  <a:pt x="257" y="8525"/>
                </a:lnTo>
                <a:lnTo>
                  <a:pt x="836" y="9754"/>
                </a:lnTo>
                <a:lnTo>
                  <a:pt x="2216" y="10574"/>
                </a:lnTo>
                <a:lnTo>
                  <a:pt x="4129" y="11120"/>
                </a:lnTo>
                <a:lnTo>
                  <a:pt x="5405" y="10492"/>
                </a:lnTo>
                <a:lnTo>
                  <a:pt x="6255" y="9081"/>
                </a:lnTo>
                <a:lnTo>
                  <a:pt x="6822" y="7148"/>
                </a:lnTo>
                <a:lnTo>
                  <a:pt x="7200" y="6853"/>
                </a:lnTo>
                <a:lnTo>
                  <a:pt x="7452" y="7647"/>
                </a:lnTo>
                <a:lnTo>
                  <a:pt x="7621" y="9169"/>
                </a:lnTo>
                <a:lnTo>
                  <a:pt x="7732" y="11176"/>
                </a:lnTo>
                <a:lnTo>
                  <a:pt x="7856" y="16052"/>
                </a:lnTo>
                <a:lnTo>
                  <a:pt x="7889" y="15764"/>
                </a:lnTo>
                <a:lnTo>
                  <a:pt x="7947" y="5319"/>
                </a:lnTo>
                <a:lnTo>
                  <a:pt x="7954" y="13367"/>
                </a:lnTo>
                <a:lnTo>
                  <a:pt x="8948" y="13975"/>
                </a:lnTo>
                <a:lnTo>
                  <a:pt x="10603" y="12395"/>
                </a:lnTo>
                <a:lnTo>
                  <a:pt x="12701" y="9357"/>
                </a:lnTo>
                <a:lnTo>
                  <a:pt x="13106" y="7333"/>
                </a:lnTo>
                <a:lnTo>
                  <a:pt x="12382" y="5983"/>
                </a:lnTo>
                <a:lnTo>
                  <a:pt x="10906" y="5083"/>
                </a:lnTo>
                <a:lnTo>
                  <a:pt x="9923" y="5476"/>
                </a:lnTo>
                <a:lnTo>
                  <a:pt x="9268" y="6729"/>
                </a:lnTo>
                <a:lnTo>
                  <a:pt x="8831" y="8557"/>
                </a:lnTo>
                <a:lnTo>
                  <a:pt x="9532" y="12753"/>
                </a:lnTo>
                <a:lnTo>
                  <a:pt x="10993" y="18525"/>
                </a:lnTo>
                <a:lnTo>
                  <a:pt x="12961" y="25351"/>
                </a:lnTo>
                <a:lnTo>
                  <a:pt x="15266" y="29901"/>
                </a:lnTo>
                <a:lnTo>
                  <a:pt x="17796" y="-32601"/>
                </a:lnTo>
                <a:lnTo>
                  <a:pt x="16895" y="-26534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1"/>
          <p:cNvSpPr/>
          <p:nvPr/>
        </p:nvSpPr>
        <p:spPr>
          <a:xfrm>
            <a:off x="6807240" y="546408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6820" h="17870">
                <a:moveTo>
                  <a:pt x="0" y="1206"/>
                </a:moveTo>
                <a:lnTo>
                  <a:pt x="0" y="10687"/>
                </a:lnTo>
                <a:lnTo>
                  <a:pt x="993" y="12488"/>
                </a:lnTo>
                <a:lnTo>
                  <a:pt x="2649" y="12695"/>
                </a:lnTo>
                <a:lnTo>
                  <a:pt x="4745" y="11842"/>
                </a:lnTo>
                <a:lnTo>
                  <a:pt x="5151" y="11274"/>
                </a:lnTo>
                <a:lnTo>
                  <a:pt x="4427" y="10894"/>
                </a:lnTo>
                <a:lnTo>
                  <a:pt x="2951" y="10641"/>
                </a:lnTo>
                <a:lnTo>
                  <a:pt x="1967" y="11465"/>
                </a:lnTo>
                <a:lnTo>
                  <a:pt x="1312" y="13006"/>
                </a:lnTo>
                <a:lnTo>
                  <a:pt x="874" y="15025"/>
                </a:lnTo>
                <a:lnTo>
                  <a:pt x="1576" y="16372"/>
                </a:lnTo>
                <a:lnTo>
                  <a:pt x="3037" y="17270"/>
                </a:lnTo>
                <a:lnTo>
                  <a:pt x="5005" y="17869"/>
                </a:lnTo>
                <a:lnTo>
                  <a:pt x="6316" y="17275"/>
                </a:lnTo>
                <a:lnTo>
                  <a:pt x="7191" y="15888"/>
                </a:lnTo>
                <a:lnTo>
                  <a:pt x="8595" y="11272"/>
                </a:lnTo>
                <a:lnTo>
                  <a:pt x="8710" y="11885"/>
                </a:lnTo>
                <a:lnTo>
                  <a:pt x="8787" y="13286"/>
                </a:lnTo>
                <a:lnTo>
                  <a:pt x="8838" y="15213"/>
                </a:lnTo>
                <a:lnTo>
                  <a:pt x="8872" y="13520"/>
                </a:lnTo>
                <a:lnTo>
                  <a:pt x="8926" y="0"/>
                </a:lnTo>
                <a:lnTo>
                  <a:pt x="8937" y="10449"/>
                </a:lnTo>
                <a:lnTo>
                  <a:pt x="9931" y="11336"/>
                </a:lnTo>
                <a:lnTo>
                  <a:pt x="11587" y="9944"/>
                </a:lnTo>
                <a:lnTo>
                  <a:pt x="13685" y="7031"/>
                </a:lnTo>
                <a:lnTo>
                  <a:pt x="14090" y="5089"/>
                </a:lnTo>
                <a:lnTo>
                  <a:pt x="13366" y="3795"/>
                </a:lnTo>
                <a:lnTo>
                  <a:pt x="11891" y="2932"/>
                </a:lnTo>
                <a:lnTo>
                  <a:pt x="10906" y="4341"/>
                </a:lnTo>
                <a:lnTo>
                  <a:pt x="10251" y="7264"/>
                </a:lnTo>
                <a:lnTo>
                  <a:pt x="9814" y="11198"/>
                </a:lnTo>
                <a:lnTo>
                  <a:pt x="10516" y="12829"/>
                </a:lnTo>
                <a:lnTo>
                  <a:pt x="11977" y="12923"/>
                </a:lnTo>
                <a:lnTo>
                  <a:pt x="13944" y="11994"/>
                </a:lnTo>
                <a:lnTo>
                  <a:pt x="16249" y="11375"/>
                </a:lnTo>
                <a:lnTo>
                  <a:pt x="18779" y="10962"/>
                </a:lnTo>
                <a:lnTo>
                  <a:pt x="26819" y="101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618 -0.525 E">
                                      <p:cBhvr>
                                        <p:cTn id="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0.06303 -0.51435 E">
                                      <p:cBhvr>
                                        <p:cTn id="1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7407E-006 L -5.55556E-007 -0.50393 E">
                                      <p:cBhvr>
                                        <p:cTn id="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C73-F1AF-4ACD-A1F5-68B47986432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959680" cy="12859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6"/>
          <p:cNvSpPr/>
          <p:nvPr/>
        </p:nvSpPr>
        <p:spPr>
          <a:xfrm>
            <a:off x="684360" y="2708280"/>
            <a:ext cx="1726920" cy="914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2916360" y="2852640"/>
            <a:ext cx="2016000" cy="936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5508720" y="2852640"/>
            <a:ext cx="2808360" cy="914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Равнобедренный треугольник 19"/>
          <p:cNvSpPr/>
          <p:nvPr/>
        </p:nvSpPr>
        <p:spPr>
          <a:xfrm>
            <a:off x="684360" y="1773360"/>
            <a:ext cx="1726920" cy="91440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Равнобедренный треугольник 20"/>
          <p:cNvSpPr/>
          <p:nvPr/>
        </p:nvSpPr>
        <p:spPr>
          <a:xfrm>
            <a:off x="2843280" y="1989000"/>
            <a:ext cx="2160360" cy="86364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Равнобедренный треугольник 21"/>
          <p:cNvSpPr/>
          <p:nvPr/>
        </p:nvSpPr>
        <p:spPr>
          <a:xfrm>
            <a:off x="5435640" y="1989000"/>
            <a:ext cx="2881440" cy="91440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C:\Users\root\Pictures\i11.jpeg"/>
          <p:cNvPicPr/>
          <p:nvPr/>
        </p:nvPicPr>
        <p:blipFill>
          <a:blip r:embed="rId2"/>
          <a:stretch/>
        </p:blipFill>
        <p:spPr>
          <a:xfrm>
            <a:off x="468360" y="3860640"/>
            <a:ext cx="1428840" cy="140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9" descr="C:\Users\root\Pictures\i12.jpeg"/>
          <p:cNvPicPr/>
          <p:nvPr/>
        </p:nvPicPr>
        <p:blipFill>
          <a:blip r:embed="rId3"/>
          <a:stretch/>
        </p:blipFill>
        <p:spPr>
          <a:xfrm>
            <a:off x="1979640" y="400536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C:\Users\root\Pictures\i13.jpeg"/>
          <p:cNvPicPr/>
          <p:nvPr/>
        </p:nvPicPr>
        <p:blipFill>
          <a:blip r:embed="rId4"/>
          <a:stretch/>
        </p:blipFill>
        <p:spPr>
          <a:xfrm>
            <a:off x="3059280" y="4437000"/>
            <a:ext cx="1428480" cy="1095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1" descr="C:\Users\root\Pictures\i14.jpeg"/>
          <p:cNvPicPr/>
          <p:nvPr/>
        </p:nvPicPr>
        <p:blipFill>
          <a:blip r:embed="rId5"/>
          <a:stretch/>
        </p:blipFill>
        <p:spPr>
          <a:xfrm>
            <a:off x="4643280" y="4076640"/>
            <a:ext cx="1019160" cy="1428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C:\Users\root\Pictures\i15.jpeg"/>
          <p:cNvPicPr/>
          <p:nvPr/>
        </p:nvPicPr>
        <p:blipFill>
          <a:blip r:embed="rId6"/>
          <a:stretch/>
        </p:blipFill>
        <p:spPr>
          <a:xfrm>
            <a:off x="6012000" y="407664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C:\Users\root\Pictures\i16.jpeg"/>
          <p:cNvPicPr/>
          <p:nvPr/>
        </p:nvPicPr>
        <p:blipFill>
          <a:blip r:embed="rId7"/>
          <a:stretch/>
        </p:blipFill>
        <p:spPr>
          <a:xfrm>
            <a:off x="7164360" y="4005360"/>
            <a:ext cx="936720" cy="142848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0.53542 -0.18889 E">
                                      <p:cBhvr>
                                        <p:cTn id="2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7268 L -0.16129 -0.23009 E">
                                      <p:cBhvr>
                                        <p:cTn id="2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75 L 0.00851 -0.25833 E">
                                      <p:cBhvr>
                                        <p:cTn id="2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066 -0.24051 E">
                                      <p:cBhvr>
                                        <p:cTn id="3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05521 -0.31274 E">
                                      <p:cBhvr>
                                        <p:cTn id="3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1135 L -0.61823 -0.19861 E">
                                      <p:cBhvr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2C50-10CE-4212-A2B1-04E44F0E20C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1009800" y="2319480"/>
            <a:ext cx="1935000" cy="1752480"/>
          </a:xfrm>
          <a:prstGeom prst="rect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3924360" y="2492280"/>
            <a:ext cx="1800000" cy="1513080"/>
          </a:xfrm>
          <a:prstGeom prst="rect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6443640" y="2205000"/>
            <a:ext cx="1346400" cy="15829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внобедренный треугольник 7"/>
          <p:cNvSpPr/>
          <p:nvPr/>
        </p:nvSpPr>
        <p:spPr>
          <a:xfrm>
            <a:off x="900000" y="1413000"/>
            <a:ext cx="20703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Равнобедренный треугольник 8"/>
          <p:cNvSpPr/>
          <p:nvPr/>
        </p:nvSpPr>
        <p:spPr>
          <a:xfrm>
            <a:off x="3924360" y="1557360"/>
            <a:ext cx="1800000" cy="9144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Равнобедренный треугольник 9"/>
          <p:cNvSpPr/>
          <p:nvPr/>
        </p:nvSpPr>
        <p:spPr>
          <a:xfrm>
            <a:off x="6372360" y="1268280"/>
            <a:ext cx="143964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C:\Users\root\Pictures\i13.jpeg"/>
          <p:cNvPicPr/>
          <p:nvPr/>
        </p:nvPicPr>
        <p:blipFill>
          <a:blip r:embed="rId1"/>
          <a:stretch/>
        </p:blipFill>
        <p:spPr>
          <a:xfrm>
            <a:off x="755640" y="5013360"/>
            <a:ext cx="1224000" cy="109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Users\root\Pictures\i17.jpeg"/>
          <p:cNvPicPr/>
          <p:nvPr/>
        </p:nvPicPr>
        <p:blipFill>
          <a:blip r:embed="rId2"/>
          <a:stretch/>
        </p:blipFill>
        <p:spPr>
          <a:xfrm>
            <a:off x="2340000" y="486900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root\Pictures\i28.jpeg"/>
          <p:cNvPicPr/>
          <p:nvPr/>
        </p:nvPicPr>
        <p:blipFill>
          <a:blip r:embed="rId3"/>
          <a:stretch/>
        </p:blipFill>
        <p:spPr>
          <a:xfrm>
            <a:off x="4067280" y="4941720"/>
            <a:ext cx="1368360" cy="1454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C:\Users\root\Pictures\i31.jpeg"/>
          <p:cNvPicPr/>
          <p:nvPr/>
        </p:nvPicPr>
        <p:blipFill>
          <a:blip r:embed="rId4"/>
          <a:stretch/>
        </p:blipFill>
        <p:spPr>
          <a:xfrm>
            <a:off x="6372360" y="472428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5116 L -0.03542 -0.38449 E">
                                      <p:cBhvr>
                                        <p:cTn id="4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-0.11435 L 0.18107 -0.31389 E">
                                      <p:cBhvr>
                                        <p:cTn id="5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-0.01134 L -0.24792 -0.36852 E">
                                      <p:cBhvr>
                                        <p:cTn id="5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8 -0.04121 L 0.01736 -0.36667 E">
                                      <p:cBhvr>
                                        <p:cTn id="58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83664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Игра: </a:t>
            </a:r>
            <a:r>
              <a:rPr b="1" lang="ru-RU" sz="4000" spc="-1" strike="noStrike">
                <a:solidFill>
                  <a:srgbClr val="ff8d3e"/>
                </a:solidFill>
                <a:latin typeface="Arial"/>
              </a:rPr>
              <a:t>«Найди пару»</a:t>
            </a:r>
            <a:endParaRPr b="1" lang="en-US" sz="40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7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EECF-E7A7-49B2-95F7-78A0AE1144C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611280" y="35377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C:\Users\root\Pictures\i29.jpeg"/>
          <p:cNvPicPr/>
          <p:nvPr/>
        </p:nvPicPr>
        <p:blipFill>
          <a:blip r:embed="rId1"/>
          <a:stretch/>
        </p:blipFill>
        <p:spPr>
          <a:xfrm>
            <a:off x="900000" y="227952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C:\Users\root\Pictures\i31.jpeg"/>
          <p:cNvPicPr/>
          <p:nvPr/>
        </p:nvPicPr>
        <p:blipFill>
          <a:blip r:embed="rId2"/>
          <a:stretch/>
        </p:blipFill>
        <p:spPr>
          <a:xfrm>
            <a:off x="3203640" y="220500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C:\Users\root\Pictures\i33.jpeg"/>
          <p:cNvPicPr/>
          <p:nvPr/>
        </p:nvPicPr>
        <p:blipFill>
          <a:blip r:embed="rId3"/>
          <a:stretch/>
        </p:blipFill>
        <p:spPr>
          <a:xfrm>
            <a:off x="5970600" y="22273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Users\root\Pictures\i30.jpeg"/>
          <p:cNvPicPr/>
          <p:nvPr/>
        </p:nvPicPr>
        <p:blipFill>
          <a:blip r:embed="rId4"/>
          <a:stretch/>
        </p:blipFill>
        <p:spPr>
          <a:xfrm>
            <a:off x="6099120" y="4154400"/>
            <a:ext cx="1171800" cy="142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Users\root\Pictures\i32.jpeg"/>
          <p:cNvPicPr/>
          <p:nvPr/>
        </p:nvPicPr>
        <p:blipFill>
          <a:blip r:embed="rId5"/>
          <a:stretch/>
        </p:blipFill>
        <p:spPr>
          <a:xfrm>
            <a:off x="974880" y="4384800"/>
            <a:ext cx="984240" cy="1198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C:\Users\root\Pictures\i34.jpeg"/>
          <p:cNvPicPr/>
          <p:nvPr/>
        </p:nvPicPr>
        <p:blipFill>
          <a:blip r:embed="rId6"/>
          <a:stretch/>
        </p:blipFill>
        <p:spPr>
          <a:xfrm>
            <a:off x="3051000" y="40831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-0.44879 -0.18888 E">
                                      <p:cBhvr>
                                        <p:cTn id="6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23 0.02801 L 0.41875 -0.21343 E">
                                      <p:cBhvr>
                                        <p:cTn id="6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95 0.02176 L 0.45747 -0.21968 E">
                                      <p:cBhvr>
                                        <p:cTn id="7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9:39Z</dcterms:created>
  <dc:creator>Admin</dc:creator>
  <dc:description/>
  <dc:language>en-US</dc:language>
  <cp:lastModifiedBy>admin</cp:lastModifiedBy>
  <dcterms:modified xsi:type="dcterms:W3CDTF">2016-11-25T15:52:01Z</dcterms:modified>
  <cp:revision>138</cp:revision>
  <dc:subject/>
  <dc:title>Автоматизация звука [С] в игре «Четвёртый лишний»</dc:title>
</cp:coreProperties>
</file>