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B68E-2E4B-4312-880B-C27CAEAC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429-3848-4EB2-8A7C-11CD968F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240-D1CC-4194-8888-696352E4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E507-7F49-4F5C-BDDA-01669474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A92C-7DBB-49A6-B51B-4CCC7B1F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C76B-CB9A-42AC-8EC9-0669990D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7CC7-324D-4332-8379-2AE078BB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034A-716D-433E-B714-2F7312B3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AC03-689A-4546-B426-0703E06D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0384-5950-4C83-8391-E7286A2B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38FE-7218-475D-B21E-CF36B74F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6A7-AFED-43AE-A142-9F667F47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E440-DFC0-4A31-A304-161D1895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1BCE-14B9-4968-A9F5-473FF512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641B-3FEF-41FD-B7A9-2B927EEE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8F75-C9A0-45A3-8B72-6F82430A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06B6-668F-414E-AA07-A35EF47E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145-4123-4F86-8038-68D02EDF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1907-A391-4768-9F2C-D6ADF3B2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BE9-E3BA-474F-94B8-82FA37E8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061-4723-4D87-8FDD-60C95943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15D6-55F6-45C3-AADE-409F282B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C3B-BC7C-4A69-B1FE-03C16FBF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818-B759-495A-9CC3-BF2FC140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CA0B-118D-42F9-8682-69CEAFF559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B32E-848D-445B-B423-083E0C3CD183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oi/" TargetMode="External"/><Relationship Id="rId2" Type="http://schemas.openxmlformats.org/officeDocument/2006/relationships/hyperlink" Target="http://www.solnet.ee/" TargetMode="External"/><Relationship Id="rId3" Type="http://schemas.openxmlformats.org/officeDocument/2006/relationships/hyperlink" Target="http://www.twirpx.com/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information_items_4153"/>
          <p:cNvPicPr/>
          <p:nvPr/>
        </p:nvPicPr>
        <p:blipFill>
          <a:blip r:embed="rId1"/>
          <a:stretch/>
        </p:blipFill>
        <p:spPr>
          <a:xfrm>
            <a:off x="4067280" y="981000"/>
            <a:ext cx="4946400" cy="5040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596880"/>
            <a:ext cx="4032360" cy="398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ГБДОУ Центр развития ребенка детский сад № 115 Невского района С – Пб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Дидактическая игра в педагогическом процессе детского сада</a:t>
            </a: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8920" y="6165360"/>
            <a:ext cx="7272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резентация для педагог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809280" y="57348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оставитель: Федюнина Н.Н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404640"/>
            <a:ext cx="824400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Verdana"/>
              </a:rPr>
              <a:t>Словесные игры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остроены на словах и действиях играющих.В таких играх дети учатся, опираясь на имеющиеся представления о предметах, углублять знания о них. Так как в этих играх требуется использовать приобретенные ранее знания в новых связях, в новых обстоятельствах. Дети самостоятельно решают разнообразные </a:t>
            </a: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мыслительные задачи;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описывают предметы, выделяя характерные их признаки; отгадывают по описанию; находят признаки сходства и различия; группируют предметы по различным свойствам, признакам. Эти дидактические игры проводятся во всех возрастных группах, но особенно они важны в воспитании и обучении детей старшего дошкольного возраста, так как способствуют подготовке детей к школе: развивают умение внимательно слушать педагога, быстро находить ответ на поставленный вопрос, точно и четко формулировать свои мысли, применять знания в соответствии с поставленной задаче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Словесные игр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етыре группы игр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79280" y="2133720"/>
            <a:ext cx="1728720" cy="453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игры, с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омощью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которых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формируют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умение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ыделять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ущественные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изнаки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едметов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явлений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"Отгадай-ка?"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"Магазин"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"Да – нет"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050920" y="2133720"/>
            <a:ext cx="2089440" cy="453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игры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используемые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для развит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у детей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умен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равнивать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опоставлять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делать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авильные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умозаключения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"Похож –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не похож"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"Кто больше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заметит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небылиц?"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6804000" y="2133720"/>
            <a:ext cx="2232000" cy="4464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игры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на развитие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нимания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ообразительности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быстроты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ышления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ыдержки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чувства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юмора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"Испорченный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телефон"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"Краски"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"Летает –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не летает«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и др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4284720" y="2133720"/>
            <a:ext cx="2374920" cy="453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игры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 помощью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которых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развиваетс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умение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бобщать и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классифицировать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едметы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о различным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изнакам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бъединены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 третьей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группе: "Кому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что нужно?"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"Назови три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едмета"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«Назови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дним словом",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Структура дидактической игр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язательными структурными элементами дидактической игры являются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обучающая и воспитывающая </a:t>
            </a: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задача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игровые </a:t>
            </a: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действия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и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правила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Picture 5" descr="98915718_large_e8e00e8df2cd"/>
          <p:cNvPicPr/>
          <p:nvPr/>
        </p:nvPicPr>
        <p:blipFill>
          <a:blip r:embed="rId1"/>
          <a:stretch/>
        </p:blipFill>
        <p:spPr>
          <a:xfrm>
            <a:off x="6012000" y="4029120"/>
            <a:ext cx="300024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4400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Дидактическая задач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Для выбора дидактической игры необходимо знать уровень подготовленности воспитанников, так как в играх они должны оперировать уже имеющимися знаниями и представлениям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пределяя дидактическую задачу, надо, прежде всего, иметь в виду, </a:t>
            </a: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какие знания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представления детей о природе, об окружающих предметах, о социальных явлениях должны усваиваться, закрепляться детьми, </a:t>
            </a: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какие умственные операции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в связи с этим должны развиваться, </a:t>
            </a: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какие качества личности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в связи с этим можно формировать средствами данной игры (честность, скромность, наблюдательность, настойчивость и др.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игра "Магазин игрушек"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99"/>
                </a:solidFill>
                <a:uFillTx/>
                <a:latin typeface="Verdana"/>
              </a:rPr>
              <a:t>Дидактическая задача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"Закрепить знания детей об игрушках, их свойствах, назначении; развивать связную речь, умение определять существенные признаки предметов; воспитывать наблюдательность, вежливость, активность"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(При определении дидактической задачи следует избегать повторений в ее содержании, трафаретных фраз («воспитывать внимание, мышление, память» и др.).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Игровые правила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6778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Основная цель правил игры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– организовать действия, поведение детей. Правила могут разрешать, запрещать, предписывать что-то детям в игре, делает игру занимательной, напряженно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облюдение правил в игре требует от детей определенных усилий воли, умения обращаться со сверстниками, преодолевать отрицательные эмоции, проявляющиеся из-за отрицательного результата. Важно, определяя правила игры, ставить детей в такие условия, при которых они получали бы радость от выполнения зада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спользуя дидактическую игру в воспитательно-образовательном процессе, через ее правила и действия у детей формируется корректность, доброжелательность, выдержк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4" descr="06"/>
          <p:cNvPicPr/>
          <p:nvPr/>
        </p:nvPicPr>
        <p:blipFill>
          <a:blip r:embed="rId1"/>
          <a:stretch/>
        </p:blipFill>
        <p:spPr>
          <a:xfrm>
            <a:off x="6659640" y="4995720"/>
            <a:ext cx="22525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Игровые действ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идактическая игра отличается от игровых упражнений тем, что выполнение в ней игровых правил направляется, контролируется игровыми действиям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пример, в игре "Так бывает или нет?" правилами игры требуется заметить в стихотворении "Это правда или нет?" Л.Станчева все небылицы. Чтобы игра была интереснее и все дети были активны, воспитатель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вводит игровое действие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Тот, кто заметил небылицу по ходу чтения стихотворения, кладет перед собой фишку. В этом стих - ии шесть небылиц. Значит, у победителя будет шесть фишек - он получит приз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подготовка к проведению дидактической игр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тбор игры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в соответствии с задачами воспитания и обучения: углубление и обобщение знаний, развитие сенсорных способностей, активизация психических процессов (память, внимание, мышление, речь) и др.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установление соответствия отобранной игры программным требованиям воспитания и обучения детей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пределённой возрастной группы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пределение наиболее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удобного времени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проведения дидактической игры (в процессе организованного обучения на занятиях или в свободное от занятий и других режимных процессов время)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ыбор места для игры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, где дети могут спокойно играть, не мешая другим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пределение кол-ва играющих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(вся группа, небольшие подгруппы, индивидуально)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подготовка необходимого дидактического материал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для выбранной игры (игрушки, разные предметы, картинки…)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подготовка к игре самого воспитателя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: он должен изучить и осмыслить весь ход игры, своё место в игре, методы руководства игрой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подготовка к игре детей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: обогащение их знаниями, представлениями о предметах и явлениях окружающей жизни, необходимыми для решения игровой задачи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Проведение дидактических игр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знакомление детей с содержанием игры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, с дидактическим материалом, который будет использован в игре (показ предметов, картинок, краткая беседа, в ходе которой уточняются знания и представления детей о них)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бъяснение хода и правил игры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показ игровых действий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, в процессе которого воспитатель учит детей правильно выполнять действие, (например, если кто-то из ребят подсматривает, когда надо закрыть глаза)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пределение роли воспитателя в игре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, его участие в качестве играющего, болельщика или арбитра (определяется возрастом детей, уровнем их подготовки, сложностью дидактической задачи, игровых правил). Участвуя в игре, педагог направляет действия играющих (советом, вопросом, напоминанием)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подведение итогов игры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- это ответственный момент в руководстве игрой, т.к. по результатам, которых дети добиваются, можно судить об её эффективности, о том, будет ли она с интересом использоваться в самостоятельной игровой деятельности ребят. В конце игры педагог спрашивает у детей, понравилась ли им игра, и обещает, что в следующий раз можно играть в новую игру, она будет также интересной. Дети обычно ждут этого дня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Основные функции дидактической игр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идактическая игра представляет собой многоплановое, сложное педагогическое явление: она является и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6699"/>
                </a:solidFill>
                <a:uFillTx/>
                <a:latin typeface="Verdana"/>
              </a:rPr>
              <a:t>игровым методом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 обучения детей дошкольного возраста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2800" spc="-1" strike="noStrike" u="sng">
                <a:solidFill>
                  <a:srgbClr val="006699"/>
                </a:solidFill>
                <a:uFillTx/>
                <a:latin typeface="Verdana"/>
              </a:rPr>
              <a:t>формой обучения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с</a:t>
            </a:r>
            <a:r>
              <a:rPr b="1" i="1" lang="ru-RU" sz="2800" spc="-1" strike="noStrike" u="sng">
                <a:solidFill>
                  <a:srgbClr val="006699"/>
                </a:solidFill>
                <a:uFillTx/>
                <a:latin typeface="Verdana"/>
              </a:rPr>
              <a:t>амостоятельной игровой деятельностью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2800" spc="-1" strike="noStrike" u="sng">
                <a:solidFill>
                  <a:srgbClr val="006699"/>
                </a:solidFill>
                <a:uFillTx/>
                <a:latin typeface="Verdana"/>
              </a:rPr>
              <a:t>средством всестороннего воспитания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 личности ребен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Планирование дидактических игр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тром до завтрака, между завтраком и занятием, в перерывах между занятиями, на прогулке, во второй половине дн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ет характера предстоящего заняти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абота об усложнения игр, расширение их вариативности (возможно придумывание более сложных правил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овые игры, взятые на занятии, затем проходят в блоке совместной деятельности с детьми и используются  детьми в их самостоятельной деятельн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ак средство преодоления различных трудностей в умственном развитии детей - необходимо планировать использование д/игр в индивидуальной работе с детьми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СУРСЫ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www.mo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detsad.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www.solnet.e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www.twirpx.co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ttp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://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ww.kindereducation.co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0022-022-Spasibo-za-vnimanie[1]"/>
          <p:cNvPicPr/>
          <p:nvPr/>
        </p:nvPicPr>
        <p:blipFill>
          <a:blip r:embed="rId1"/>
          <a:stretch/>
        </p:blipFill>
        <p:spPr>
          <a:xfrm>
            <a:off x="1547640" y="21337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0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Презентацию подготовила и провела воспитатель</a:t>
            </a: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006666"/>
                </a:solidFill>
                <a:latin typeface="Verdana"/>
              </a:rPr>
              <a:t>ВКК </a:t>
            </a:r>
            <a:br>
              <a:rPr sz="3600"/>
            </a:br>
            <a:r>
              <a:rPr b="1" i="1" lang="ru-RU" sz="3600" spc="-1" strike="noStrike">
                <a:solidFill>
                  <a:srgbClr val="006666"/>
                </a:solidFill>
                <a:latin typeface="Verdana"/>
              </a:rPr>
              <a:t>Быкова Светлана Александровн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Verdana"/>
              </a:rPr>
              <a:t>Дидактическая игра </a:t>
            </a:r>
            <a:br>
              <a:rPr sz="3600"/>
            </a:br>
            <a:r>
              <a:rPr b="1" i="1" lang="ru-RU" sz="3600" spc="-1" strike="noStrike">
                <a:solidFill>
                  <a:srgbClr val="006666"/>
                </a:solidFill>
                <a:latin typeface="Verdana"/>
              </a:rPr>
              <a:t>как игровой метод обучения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6699"/>
                </a:solidFill>
                <a:uFillTx/>
                <a:latin typeface="Verdana"/>
              </a:rPr>
              <a:t>игры – занятия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  и </a:t>
            </a:r>
            <a:r>
              <a:rPr b="1" i="1" lang="ru-RU" sz="1800" spc="-1" strike="noStrike" u="sng">
                <a:solidFill>
                  <a:srgbClr val="006699"/>
                </a:solidFill>
                <a:uFillTx/>
                <a:latin typeface="Verdana"/>
              </a:rPr>
              <a:t>дидактические или автодидактические игры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, где ведущая роль принадлежит воспитателю, который для повышения у детей интереса к занятию использует разнообразные игровые приемы, создает игровую ситуацию, вносит элементы соревнования и др. Использование разнообразных компонентов игровой деятельности сочетается с вопросами, указаниями, объяснениями, показом и т.п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 помощью игр – занятий воспитатель не только передает определенные знания, формирует представления, но и учит детей играть. Основой для игр детей служат сформулированные представления о построении игрового сюжета, о разнообразных игровых действиях с предметами. Важно, чтобы затем были созданы условия для переноса этих знаний и представлений в самостоятельные, творческие игры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идактическая игра используется при обучении детей математике, родному языку, ознакомлению с природой и окружающим миром, в развитии сенсорной культуры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Дидактическая игра как форма обучения дете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держит два начала: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чебное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(познавательное) 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игровое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(занимательное). Воспитатель одновременно является и учителем, и участником игры. Он учит и играет, а дети, играя, учатся. Если на занятиях расширяются и углубляются знания об окружающем мире, то в дидактической игре (играх – занятиях, собственно дидактических играх) детям предлагаются задания в виде загадок, предложений, вопросо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5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Verdana"/>
              </a:rPr>
              <a:t>Дидактическая игра как самостоятельная игровая деятельность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основана на осознании этого процесса. Самостоятельная игровая деятельность осуществляется лишь в том случае, если дети проявляют интерес к игре, ее правилам и действиям, если ее правила ими усвоены. Как долго может интересовать ребенка игра, если ее правила и содержание хорошо ему известны? Дети любят игры, хорошо знакомые, с удовольствием играют в них.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Воспитатель заботится об усложнении игр, расширении их вариативности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. Если у ребят угасает интерес к игре (а это в большей мере относится к настольно- печатным играм),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необходимо вместе с ними придумать более сложные правил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амостоятельная игровая деятельность не исключает управления со стороны взрослого т. е. является равноправным участником игры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амостоятельно дети могут играть в дидактические игры как на занятиях, так и вне их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1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Verdana"/>
              </a:rPr>
              <a:t>Дидактическая игра- </a:t>
            </a: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метод обучения детей сюжетно – ролевым играм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мение взять на себя определённую роль, выполнить правила игры, развернуть её сюжет. Например, в дидактической игре "Уложи куклу спать" воспитатель учит детей младшей группы последовательности действий в процессе раздевания куклы – аккуратно складывать одежду на стоящий стул, заботливо относиться к кукле, укладывать её спать, петь колыбельные. Согласно правилам игры, дети должны отобрать из лежащих предметов только те, которые нужны для сн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Основные виды игр</a:t>
            </a:r>
            <a:br>
              <a:rPr sz="40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се дидактические игры можно разделить на три основных вида: 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игры с предметами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(игрушками, природным материалом)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настольно-печатные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словесные игр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5" descr="49165817"/>
          <p:cNvPicPr/>
          <p:nvPr/>
        </p:nvPicPr>
        <p:blipFill>
          <a:blip r:embed="rId1"/>
          <a:stretch/>
        </p:blipFill>
        <p:spPr>
          <a:xfrm>
            <a:off x="684360" y="4149720"/>
            <a:ext cx="76327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Игры с предметам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играх с предметами используются 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игрушки и реальные предметы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Играя с ними, дети учатся 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сравнивать, устанавливать сходство и различие предметов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Ценность этих игр в том, что с их помощью дети 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знакомятся со свойствами предметов и их признаками: цветом, величиной, формой, качеством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В играх решают задачи на классификацию, сравнение, установление последовательности в решении задач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гры с 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природным материалом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(семена растений, листья, разнообразные цветы, камушки, ракушки)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 играм с предметами относятся 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сюжетно-дидактические игры и игры-инсценировки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Настольно-печатные игр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ни разнообразны по видам: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арные картинки, лото, домино.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Различны и развивающие задачи, которые решаются при их использовани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(Подбор картинок по парам, по общему признаку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з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апоминание состава, количества и расположения картинок, составление разрезных картинок и кубиков, описание, рассказ о картине с показом действий, движени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6:30:00Z</dcterms:created>
  <dc:creator>Admin</dc:creator>
  <dc:description/>
  <dc:language>en-US</dc:language>
  <cp:lastModifiedBy>115</cp:lastModifiedBy>
  <dcterms:modified xsi:type="dcterms:W3CDTF">2019-11-21T13:43:26Z</dcterms:modified>
  <cp:revision>20</cp:revision>
  <dc:subject/>
  <dc:title>Дидактическая игра       в педагогическом процессе детского сада </dc:title>
</cp:coreProperties>
</file>