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61A4-57DB-4FE3-BCEE-6E807D34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588D-7A03-43F3-99E6-2F2759E5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0A7-2703-4DD2-B466-E87B9CB4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1DB-49E5-48C3-BDD6-013D410D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8FD3-A2A8-4820-B013-CDAE538C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24B9-CFC1-4773-AC4D-B5065B37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4AF7-6B0C-4ABA-B7B7-58C8E1DB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9898-46C8-4016-9A70-C39948BE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2A70-001D-4548-8B70-371D9779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867A-7FFE-4DC6-A128-B1E4BF25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8216-3F21-44D4-AB09-5198F459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78FE-F3C6-455E-A49A-8AA47DE7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1F90-F0C3-47E6-86AE-F149B24E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8302-D76A-4D12-A75C-1B3E7A69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1DDE-AC2A-432F-9CD3-DF2B4CDB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7A63-2BEB-418E-8B3D-F374B24C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15D6-CAEF-48E8-9B42-7AAD2AFE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BD8-A0B2-4D30-B9C8-BB7B1A34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B3A-23F2-43AE-A568-204BBC8A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F92F-B282-4266-B90B-7AE3A6D9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893-0368-4E82-AE2C-485F2658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716E-0AC8-4FF6-8927-D5A4A8CE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55C4-B73E-47BE-AA78-E8C85EF7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F942-7E3A-4D22-8528-5688FEC6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90FD-F3CC-44F2-A377-5947BE1A74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0B0F-1E94-49EB-AC8E-D0A687798234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oi/" TargetMode="External"/><Relationship Id="rId2" Type="http://schemas.openxmlformats.org/officeDocument/2006/relationships/hyperlink" Target="http://www.solnet.ee/" TargetMode="External"/><Relationship Id="rId3" Type="http://schemas.openxmlformats.org/officeDocument/2006/relationships/hyperlink" Target="http://www.twirpx.com/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information_items_4153"/>
          <p:cNvPicPr/>
          <p:nvPr/>
        </p:nvPicPr>
        <p:blipFill>
          <a:blip r:embed="rId1"/>
          <a:stretch/>
        </p:blipFill>
        <p:spPr>
          <a:xfrm>
            <a:off x="4067280" y="981000"/>
            <a:ext cx="4946400" cy="5040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596880"/>
            <a:ext cx="4032360" cy="398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ГБДОУ Центр развития ребенка детский сад № 115 Невского района С – Пб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Дидактическая игра в педагогическом процессе детского сада</a:t>
            </a: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8920" y="6165360"/>
            <a:ext cx="7272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резентация для педагог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809280" y="57348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оставитель: Федюнина Н.Н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404640"/>
            <a:ext cx="824400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Verdana"/>
              </a:rPr>
              <a:t>Словесные игры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остроены на словах и действиях играющих.В таких играх дети учатся, опираясь на имеющиеся представления о предметах, углублять знания о них. Так как в этих играх требуется использовать приобретенные ранее знания в новых связях, в новых обстоятельствах. Дети самостоятельно решают разнообразные </a:t>
            </a: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мыслительные задачи;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описывают предметы, выделяя характерные их признаки; отгадывают по описанию; находят признаки сходства и различия; группируют предметы по различным свойствам, признакам. Эти дидактические игры проводятся во всех возрастных группах, но особенно они важны в воспитании и обучении детей старшего дошкольного возраста, так как способствуют подготовке детей к школе: развивают умение внимательно слушать педагога, быстро находить ответ на поставленный вопрос, точно и четко формулировать свои мысли, применять знания в соответствии с поставленной задаче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Словесные игр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етыре группы игр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79280" y="2133720"/>
            <a:ext cx="1728720" cy="453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игры, с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омощью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которых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формируют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умение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ыделять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ущественные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изнаки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едметов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явлений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"Отгадай-ка?"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"Магазин"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"Да – нет"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050920" y="2133720"/>
            <a:ext cx="2089440" cy="453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игры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используемые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для развит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у детей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умен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равнивать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опоставлять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делать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авильные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умозаключения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"Похож –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не похож"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"Кто больше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заметит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небылиц?"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6804000" y="2133720"/>
            <a:ext cx="2232000" cy="4464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игры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на развитие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нимания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ообразительности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быстроты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ышления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ыдержки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чувства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юмора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"Испорченный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телефон"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"Краски"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"Летает –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не летает«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и др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4284720" y="2133720"/>
            <a:ext cx="2374920" cy="453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игры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 помощью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которых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развиваетс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умение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бобщать и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классифицировать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едметы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о различным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изнакам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бъединены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 третьей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группе: "Кому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что нужно?"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"Назови три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едмета"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«Назови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дним словом",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Структура дидактической игр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язательными структурными элементами дидактической игры являются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обучающая и воспитывающая </a:t>
            </a:r>
            <a:r>
              <a:rPr b="1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задача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игровые </a:t>
            </a:r>
            <a:r>
              <a:rPr b="1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действия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и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правила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8" name="Picture 5" descr="98915718_large_e8e00e8df2cd"/>
          <p:cNvPicPr/>
          <p:nvPr/>
        </p:nvPicPr>
        <p:blipFill>
          <a:blip r:embed="rId1"/>
          <a:stretch/>
        </p:blipFill>
        <p:spPr>
          <a:xfrm>
            <a:off x="6012000" y="4029120"/>
            <a:ext cx="300024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4400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Дидактическая задач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Для выбора дидактической игры необходимо знать уровень подготовленности воспитанников, так как в играх они должны оперировать уже имеющимися знаниями и представлениям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пределяя дидактическую задачу, надо, прежде всего, иметь в виду, </a:t>
            </a: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какие знания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представления детей о природе, об окружающих предметах, о социальных явлениях должны усваиваться, закрепляться детьми, </a:t>
            </a: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какие умственные операции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в связи с этим должны развиваться, </a:t>
            </a: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какие качества личности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в связи с этим можно формировать средствами данной игры (честность, скромность, наблюдательность, настойчивость и др.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игра "Магазин игрушек"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99"/>
                </a:solidFill>
                <a:uFillTx/>
                <a:latin typeface="Verdana"/>
              </a:rPr>
              <a:t>Дидактическая задача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"Закрепить знания детей об игрушках, их свойствах, назначении; развивать связную речь, умение определять существенные признаки предметов; воспитывать наблюдательность, вежливость, активность"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(При определении дидактической задачи следует избегать повторений в ее содержании, трафаретных фраз («воспитывать внимание, мышление, память» и др.).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Игровые правила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6778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Основная цель правил игры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– организовать действия, поведение детей. Правила могут разрешать, запрещать, предписывать что-то детям в игре, делает игру занимательной, напряженно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облюдение правил в игре требует от детей определенных усилий воли, умения обращаться со сверстниками, преодолевать отрицательные эмоции, проявляющиеся из-за отрицательного результата. Важно, определяя правила игры, ставить детей в такие условия, при которых они получали бы радость от выполнения зада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спользуя дидактическую игру в воспитательно-образовательном процессе, через ее правила и действия у детей формируется корректность, доброжелательность, выдержк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Picture 4" descr="06"/>
          <p:cNvPicPr/>
          <p:nvPr/>
        </p:nvPicPr>
        <p:blipFill>
          <a:blip r:embed="rId1"/>
          <a:stretch/>
        </p:blipFill>
        <p:spPr>
          <a:xfrm>
            <a:off x="6659640" y="4995720"/>
            <a:ext cx="22525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Игровые действ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идактическая игра отличается от игровых упражнений тем, что выполнение в ней игровых правил направляется, контролируется игровыми действиям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пример, в игре "Так бывает или нет?" правилами игры требуется заметить в стихотворении "Это правда или нет?" Л.Станчева все небылицы. Чтобы игра была интереснее и все дети были активны, воспитатель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вводит игровое действие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Тот, кто заметил небылицу по ходу чтения стихотворения, кладет перед собой фишку. В этом стих - ии шесть небылиц. Значит, у победителя будет шесть фишек - он получит приз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подготовка к проведению дидактической игр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тбор игры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в соответствии с задачами воспитания и обучения: углубление и обобщение знаний, развитие сенсорных способностей, активизация психических процессов (память, внимание, мышление, речь) и др.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установление соответствия отобранной игры программным требованиям воспитания и обучения детей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пределённой возрастной группы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пределение наиболее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удобного времени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проведения дидактической игры (в процессе организованного обучения на занятиях или в свободное от занятий и других режимных процессов время)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ыбор места для игры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, где дети могут спокойно играть, не мешая другим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пределение кол-ва играющих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(вся группа, небольшие подгруппы, индивидуально)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подготовка необходимого дидактического материала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для выбранной игры (игрушки, разные предметы, картинки…)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подготовка к игре самого воспитателя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: он должен изучить и осмыслить весь ход игры, своё место в игре, методы руководства игрой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подготовка к игре детей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: обогащение их знаниями, представлениями о предметах и явлениях окружающей жизни, необходимыми для решения игровой задачи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Проведение дидактических игр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знакомление детей с содержанием игры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, с дидактическим материалом, который будет использован в игре (показ предметов, картинок, краткая беседа, в ходе которой уточняются знания и представления детей о них)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бъяснение хода и правил игры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показ игровых действий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, в процессе которого воспитатель учит детей правильно выполнять действие, (например, если кто-то из ребят подсматривает, когда надо закрыть глаза)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пределение роли воспитателя в игре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, его участие в качестве играющего, болельщика или арбитра (определяется возрастом детей, уровнем их подготовки, сложностью дидактической задачи, игровых правил). Участвуя в игре, педагог направляет действия играющих (советом, вопросом, напоминанием)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подведение итогов игры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- это ответственный момент в руководстве игрой, т.к. по результатам, которых дети добиваются, можно судить об её эффективности, о том, будет ли она с интересом использоваться в самостоятельной игровой деятельности ребят. В конце игры педагог спрашивает у детей, понравилась ли им игра, и обещает, что в следующий раз можно играть в новую игру, она будет также интересной. Дети обычно ждут этого дня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Основные функции дидактической игр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Дидактическая игра представляет собой многоплановое, сложное педагогическое явление: она является и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6699"/>
                </a:solidFill>
                <a:uFillTx/>
                <a:latin typeface="Verdana"/>
              </a:rPr>
              <a:t>игровым методом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 обучения детей дошкольного возраста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2800" spc="-1" strike="noStrike" u="sng">
                <a:solidFill>
                  <a:srgbClr val="006699"/>
                </a:solidFill>
                <a:uFillTx/>
                <a:latin typeface="Verdana"/>
              </a:rPr>
              <a:t>формой обучения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с</a:t>
            </a:r>
            <a:r>
              <a:rPr b="1" i="1" lang="ru-RU" sz="2800" spc="-1" strike="noStrike" u="sng">
                <a:solidFill>
                  <a:srgbClr val="006699"/>
                </a:solidFill>
                <a:uFillTx/>
                <a:latin typeface="Verdana"/>
              </a:rPr>
              <a:t>амостоятельной игровой деятельностью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2800" spc="-1" strike="noStrike" u="sng">
                <a:solidFill>
                  <a:srgbClr val="006699"/>
                </a:solidFill>
                <a:uFillTx/>
                <a:latin typeface="Verdana"/>
              </a:rPr>
              <a:t>средством всестороннего воспитания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 личности ребен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Планирование дидактических игр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тром до завтрака, между завтраком и занятием, в перерывах между занятиями, на прогулке, во второй половине дн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чет характера предстоящего заняти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абота об усложнения игр, расширение их вариативности (возможно придумывание более сложных правил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овые игры, взятые на занятии, затем проходят в блоке совместной деятельности с детьми и используются  детьми в их самостоятельной деятельн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ак средство преодоления различных трудностей в умственном развитии детей - необходимо планировать использование д/игр в индивидуальной работе с детьми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СУРСЫ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www.mo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– detsad.r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www.solnet.e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www.twirpx.co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ttp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://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ww.kindereducation.co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0022-022-Spasibo-za-vnimanie[1]"/>
          <p:cNvPicPr/>
          <p:nvPr/>
        </p:nvPicPr>
        <p:blipFill>
          <a:blip r:embed="rId1"/>
          <a:stretch/>
        </p:blipFill>
        <p:spPr>
          <a:xfrm>
            <a:off x="1547640" y="21337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0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Презентацию подготовила и провела воспитатель</a:t>
            </a: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006666"/>
                </a:solidFill>
                <a:latin typeface="Verdana"/>
              </a:rPr>
              <a:t>ВКК </a:t>
            </a:r>
            <a:br>
              <a:rPr sz="3600"/>
            </a:br>
            <a:r>
              <a:rPr b="1" i="1" lang="ru-RU" sz="3600" spc="-1" strike="noStrike">
                <a:solidFill>
                  <a:srgbClr val="006666"/>
                </a:solidFill>
                <a:latin typeface="Verdana"/>
              </a:rPr>
              <a:t>Быкова Светлана Александровн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Verdana"/>
              </a:rPr>
              <a:t>Дидактическая игра </a:t>
            </a:r>
            <a:br>
              <a:rPr sz="3600"/>
            </a:br>
            <a:r>
              <a:rPr b="1" i="1" lang="ru-RU" sz="3600" spc="-1" strike="noStrike">
                <a:solidFill>
                  <a:srgbClr val="006666"/>
                </a:solidFill>
                <a:latin typeface="Verdana"/>
              </a:rPr>
              <a:t>как игровой метод обучения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6699"/>
                </a:solidFill>
                <a:uFillTx/>
                <a:latin typeface="Verdana"/>
              </a:rPr>
              <a:t>игры – занятия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  и </a:t>
            </a:r>
            <a:r>
              <a:rPr b="1" i="1" lang="ru-RU" sz="1800" spc="-1" strike="noStrike" u="sng">
                <a:solidFill>
                  <a:srgbClr val="006699"/>
                </a:solidFill>
                <a:uFillTx/>
                <a:latin typeface="Verdana"/>
              </a:rPr>
              <a:t>дидактические или автодидактические игры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, где ведущая роль принадлежит воспитателю, который для повышения у детей интереса к занятию использует разнообразные игровые приемы, создает игровую ситуацию, вносит элементы соревнования и др. Использование разнообразных компонентов игровой деятельности сочетается с вопросами, указаниями, объяснениями, показом и т.п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 помощью игр – занятий воспитатель не только передает определенные знания, формирует представления, но и учит детей играть. Основой для игр детей служат сформулированные представления о построении игрового сюжета, о разнообразных игровых действиях с предметами. Важно, чтобы затем были созданы условия для переноса этих знаний и представлений в самостоятельные, творческие игры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идактическая игра используется при обучении детей математике, родному языку, ознакомлению с природой и окружающим миром, в развитии сенсорной культуры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Дидактическая игра как форма обучения дете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держит два начала: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чебное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(познавательное) 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игровое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(занимательное). Воспитатель одновременно является и учителем, и участником игры. Он учит и играет, а дети, играя, учатся. Если на занятиях расширяются и углубляются знания об окружающем мире, то в дидактической игре (играх – занятиях, собственно дидактических играх) детям предлагаются задания в виде загадок, предложений, вопросо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52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Verdana"/>
              </a:rPr>
              <a:t>Дидактическая игра как самостоятельная игровая деятельность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основана на осознании этого процесса. Самостоятельная игровая деятельность осуществляется лишь в том случае, если дети проявляют интерес к игре, ее правилам и действиям, если ее правила ими усвоены. Как долго может интересовать ребенка игра, если ее правила и содержание хорошо ему известны? Дети любят игры, хорошо знакомые, с удовольствием играют в них.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Воспитатель заботится об усложнении игр, расширении их вариативности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. Если у ребят угасает интерес к игре (а это в большей мере относится к настольно- печатным играм),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необходимо вместе с ними придумать более сложные правил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амостоятельная игровая деятельность не исключает управления со стороны взрослого т. е. является равноправным участником игры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амостоятельно дети могут играть в дидактические игры как на занятиях, так и вне их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1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Verdana"/>
              </a:rPr>
              <a:t>Дидактическая игра- </a:t>
            </a: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метод обучения детей сюжетно – ролевым играм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мение взять на себя определённую роль, выполнить правила игры, развернуть её сюжет. Например, в дидактической игре "Уложи куклу спать" воспитатель учит детей младшей группы последовательности действий в процессе раздевания куклы – аккуратно складывать одежду на стоящий стул, заботливо относиться к кукле, укладывать её спать, петь колыбельные. Согласно правилам игры, дети должны отобрать из лежащих предметов только те, которые нужны для сн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Основные виды игр</a:t>
            </a:r>
            <a:br>
              <a:rPr sz="40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се дидактические игры можно разделить на три основных вида: 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игры с предметами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(игрушками, природным материалом)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настольно-печатные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словесные игр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5" descr="49165817"/>
          <p:cNvPicPr/>
          <p:nvPr/>
        </p:nvPicPr>
        <p:blipFill>
          <a:blip r:embed="rId1"/>
          <a:stretch/>
        </p:blipFill>
        <p:spPr>
          <a:xfrm>
            <a:off x="684360" y="4149720"/>
            <a:ext cx="76327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Игры с предметам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играх с предметами используются 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игрушки и реальные предметы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Играя с ними, дети учатся 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сравнивать, устанавливать сходство и различие предметов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Ценность этих игр в том, что с их помощью дети 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знакомятся со свойствами предметов и их признаками: цветом, величиной, формой, качеством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 В играх решают задачи на классификацию, сравнение, установление последовательности в решении задач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гры с 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природным материалом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(семена растений, листья, разнообразные цветы, камушки, ракушки)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 играм с предметами относятся 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сюжетно-дидактические игры и игры-инсценировки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Настольно-печатные игр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ни разнообразны по видам: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парные картинки, лото, домино.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Различны и развивающие задачи, которые решаются при их использовани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(Подбор картинок по парам, по общему признаку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з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апоминание состава, количества и расположения картинок, составление разрезных картинок и кубиков, описание, рассказ о картине с показом действий, движени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6:30:00Z</dcterms:created>
  <dc:creator>Admin</dc:creator>
  <dc:description/>
  <dc:language>en-US</dc:language>
  <cp:lastModifiedBy>115</cp:lastModifiedBy>
  <dcterms:modified xsi:type="dcterms:W3CDTF">2019-11-21T13:43:26Z</dcterms:modified>
  <cp:revision>20</cp:revision>
  <dc:subject/>
  <dc:title>Дидактическая игра       в педагогическом процессе детского сада </dc:title>
</cp:coreProperties>
</file>