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5BD-4D33-463E-840D-EADFAEE0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6C1-8150-4454-8537-7B4C1E3B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303-EC51-4B9C-8D35-F0808199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AAA-2682-4B76-B836-D412C75D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0F4C-1BF5-4FC8-9A43-1389668C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688E-6D91-4C88-9CC2-03E2770D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654C-7B70-4BB4-92F7-8E4C23AF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71A9-7FD7-44D4-9216-7DA77D6A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426D-56F3-41B3-BC63-D9E05EDA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CED9-8D05-4BF0-B04C-D901C7A9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902A-2C91-42EF-92AA-FE63303A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732-5454-4983-9BD1-1C2DB107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F0B0-E954-45D6-A4B8-0F05F304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3C09-1BB6-4D89-A4FF-5E34CB2F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D9AA-5D38-4282-A517-FE455BAF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F67D-CF82-4766-BF27-C7D95AEE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1E59-CF68-4292-9E5D-4FEDCFA0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366A1-EE4F-4E3C-ACCE-FE4A53AE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871880-CBEF-4E61-8C13-C895EFA0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F1279-A811-4849-A316-E693F1D0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1FEB62-9F56-4A34-819B-6B327F3A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CC4F5-C8C3-43D3-8BFC-64E5731F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E37-3753-44DD-A5DF-7EB52D18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3F8A72-A3B4-4005-AF1B-895FDC64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49F52-4236-46FA-8C57-2E716409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25BB4-1227-4D1E-9320-8C8188F6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8811B-945A-4FBB-8F35-4215D40A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709F42-7073-4274-A275-CDB4B2B4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7E2E2-3A9F-44EA-992B-C42FB36F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7369F-90EB-49E6-8FE6-F8E2264B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9C8-7794-4723-9002-DB88ACD5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69D-D1DF-418A-A47C-A4149BC4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831-9243-43A4-8EDE-74DE88E3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3BD-AE1D-4354-9043-A1383722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0C9-267F-4E9F-BE00-55E411C0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925-993B-4E4E-8FF2-EA02E92C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9B7F-3C3F-4117-9DCE-73601C930C0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8C79-EDE9-4F5B-9BB9-B8F7B379955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B805-3035-4912-8071-2ECFE2FF8A4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одзаголовок 2"/>
          <p:cNvSpPr/>
          <p:nvPr/>
        </p:nvSpPr>
        <p:spPr>
          <a:xfrm>
            <a:off x="468360" y="33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тренная реанимационная помощь при остановке сердечной деятельности и прекращения дыхан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rcRect l="34259" t="3945" r="3721" b="50386"/>
          <a:stretch/>
        </p:blipFill>
        <p:spPr>
          <a:xfrm>
            <a:off x="4067280" y="3933720"/>
            <a:ext cx="482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Times New Roman"/>
                <a:ea typeface="Times New Roman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324000" y="981000"/>
            <a:ext cx="331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95280" y="1989000"/>
            <a:ext cx="424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числите этапы экстренной реанимационной помощ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течение какого времени возможно оказание ЭРП человек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ова последовательность действий спасателя при ИВЛ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901800" y="901800"/>
            <a:ext cx="7924680" cy="432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000" y="1773000"/>
            <a:ext cx="792468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Домашнее задание: п 2.4 прочитать, ответить на вопросы в конце параграфа, рассмотреть признаки клинической смерт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4" descr="http://volshebnoeslovo.ru/uploads/posts/2013-09/35ccc1c330cf0a8bd24e55e86d67228a.jpg"/>
          <p:cNvPicPr/>
          <p:nvPr/>
        </p:nvPicPr>
        <p:blipFill>
          <a:blip r:embed="rId2"/>
          <a:stretch/>
        </p:blipFill>
        <p:spPr>
          <a:xfrm>
            <a:off x="6372360" y="3246480"/>
            <a:ext cx="33861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инальные состояния – это крайние состояния, переходные от жизни к смерт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вление возможно на всех стадиях умирания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ают 4 вида терминальных состояний (этапов умирания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реагональное состояние (или преагония, шок 4 степени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терминальная пауз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аго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клиническая смер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Times New Roman"/>
                <a:ea typeface="Times New Roman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есь комплекс экстренной реанимационной помощи должен быть оказан в течение 5 мин после начала состояния клинической смерти. Исключением служит утопление в холодной воде – полноценное оживление возможно в течение 20 мин, а при утоплении в ледяной воде – в течение 2 час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иагност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определить признаки клинической смер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 тратьте времени на вопросы лежащему человеку: «Всё ли в порядке?», «Нужна ли помощь?» Не тратьте времени на определение признаков дыхания – они трудноуловим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сли пострадавший лежит неподвижно и не реагирует на происходящее вокруг него, то, не теряя ни секунды приступайте к  определению реакции зрачков на свет и наличия пульса на сонной артер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924680" cy="1150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000" y="1047600"/>
            <a:ext cx="7924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Расположить пострадавшего на жесткой основе – грунте, досках. Ослабить пояс, галстук, воротник, у женщин освободить бюстгальтер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edda"/>
                </a:solidFill>
                <a:latin typeface="Times New Roman"/>
                <a:ea typeface="Times New Roman"/>
              </a:rPr>
              <a:t>Реанимация: проверить проходимость дыхательных путей, осторожно запрокинуть голову больного, сделать 3-5 пробных вдохов. Следить за полной герметичностью систем рот-рот или рот-нос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89040" y="401760"/>
            <a:ext cx="7924680" cy="866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1268280"/>
            <a:ext cx="7924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Каждый цикл состоит из 3-5 вдохов, осуществляемых в быстром темпе без перерывов, один за другим. ИВЛ осуществляется в сочетании с наружным массажем сердца в соотношении 2:15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5053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Times New Roman"/>
                <a:ea typeface="Times New Roman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Times New Roman"/>
                <a:ea typeface="Times New Roman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Натаха</cp:lastModifiedBy>
  <dcterms:modified xsi:type="dcterms:W3CDTF">2019-10-20T15:52:28Z</dcterms:modified>
  <cp:revision>62</cp:revision>
  <dc:subject/>
  <dc:title>Остановка сердца</dc:title>
</cp:coreProperties>
</file>