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1A4-E378-491B-B6A8-86C51CD3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147-2918-43CD-9573-BE715BB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C43-C782-44F5-BFF9-99E78C2E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36F-F8B6-4A9D-A071-1FD058FA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82F-F66C-4445-9677-D33C2FFD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324-5FF4-4FAD-8564-41A1FC1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ADF7-9844-4A84-B551-E458A5E9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EAC5-4EE0-4CCF-8D73-6E525106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2073-7C4F-48D6-83C3-51383D2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B61C-8B3F-4CB8-B5B1-A2340815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2EEE-6E19-467A-A9B1-5A9469B0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869-6F28-4C26-99EC-5261EC38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61D5-378D-4498-823E-5FB2B3A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B34C-74FE-4BAD-8A9F-063D579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4D23-1B99-4432-B625-A91302A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A355-23F8-4525-819D-10191F67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EFE4-8F22-43A5-AA38-C56B73AC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F326C-F0B2-40B8-9E0F-91F20AEE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73F8F-C9A4-45E6-AF39-51A5293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10FB1-7A90-4F76-A97A-715F0386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E7E42-9FFF-4E82-9CDA-7BAC9A3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9942B-9AD7-49CB-B57B-2AC69B25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DC3-648E-40D3-A7BB-07AA557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DFB41-9208-4C9E-98C3-FCF9B69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9C959-4078-45F1-8DEA-02F2A08D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68FF5-DC4F-4EFC-BDB9-EA50D9C3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A0715-F506-4C9A-8718-AE667EF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12ABD-2625-4AB3-B953-DCAC1A6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EF2BF-4CC3-43AA-A6C6-D1A4F19B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4932B-1178-419D-B599-080880CE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7AC-E548-45AC-81B5-F29AB6F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B74-5787-41AB-A016-BE15D549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F6F-15C2-40AE-9B56-CDD43F9F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2A8-122C-492D-9786-0305518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5A8-6E31-4E58-98FB-B6DC020D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EC3-D4C0-4D0B-9027-61FDCA6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069-F5D4-4F18-B991-3E394F18D3D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34A5-A48C-405B-A5F2-FEB14EC3665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7E11-18CB-4C0A-AEA1-E3B4E3CD831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468360" y="33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тренная реанимационная помощь при остановке сердечной деятельности и прекращения дыхан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rcRect l="34259" t="3945" r="3721" b="50386"/>
          <a:stretch/>
        </p:blipFill>
        <p:spPr>
          <a:xfrm>
            <a:off x="4067280" y="3933720"/>
            <a:ext cx="48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24000" y="981000"/>
            <a:ext cx="331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95280" y="1989000"/>
            <a:ext cx="424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числите этапы экстренной реанимационной помощ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течение какого времени возможно оказание ЭРП челове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ова последовательность действий спасателя при ИВЛ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901800" y="901800"/>
            <a:ext cx="7924680" cy="432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792468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Домашнее задание: п 2.4 прочитать, ответить на вопросы в конце параграфа, рассмотреть признаки клинической смерт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4" descr="http://volshebnoeslovo.ru/uploads/posts/2013-09/35ccc1c330cf0a8bd24e55e86d67228a.jpg"/>
          <p:cNvPicPr/>
          <p:nvPr/>
        </p:nvPicPr>
        <p:blipFill>
          <a:blip r:embed="rId2"/>
          <a:stretch/>
        </p:blipFill>
        <p:spPr>
          <a:xfrm>
            <a:off x="6372360" y="3246480"/>
            <a:ext cx="33861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инальные состояния – это крайние состояния, переходные от жизни к смер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вление возможно на всех стадиях умирани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ают 4 вида терминальных состояний (этапов умирания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реагональное состояние (или преагония, шок 4 степен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терминальная пау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аго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клиническая смер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есь комплекс экстренной реанимационной помощи должен быть оказан в течение 5 мин после начала состояния клинической смерти. Исключением служит утопление в холодной воде – полноценное оживление возможно в течение 20 мин, а при утоплении в ледяной воде – в течение 2 час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агност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определить признаки клинической смер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 тратьте времени на вопросы лежащему человеку: «Всё ли в порядке?», «Нужна ли помощь?» Не тратьте времени на определение признаков дыхания – они трудноулови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пострадавший лежит неподвижно и не реагирует на происходящее вокруг него, то, не теряя ни секунды приступайте к  определению реакции зрачков на свет и наличия пульса на сонной артер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92468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1047600"/>
            <a:ext cx="7924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Расположить пострадавшего на жесткой основе – грунте, досках. Ослабить пояс, галстук, воротник, у женщин освободить бюстгальтер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edda"/>
                </a:solidFill>
                <a:latin typeface="Times New Roman"/>
                <a:ea typeface="Times New Roman"/>
              </a:rPr>
              <a:t>Реанимация: проверить проходимость дыхательных путей, осторожно запрокинуть голову больного, сделать 3-5 пробных вдохов. Следить за полной герметичностью систем рот-рот или рот-нос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89040" y="401760"/>
            <a:ext cx="7924680" cy="866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26828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Каждый цикл состоит из 3-5 вдохов, осуществляемых в быстром темпе без перерывов, один за другим. ИВЛ осуществляется в сочетании с наружным массажем сердца в соотношении 2:1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505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Натаха</cp:lastModifiedBy>
  <dcterms:modified xsi:type="dcterms:W3CDTF">2019-10-20T15:52:28Z</dcterms:modified>
  <cp:revision>62</cp:revision>
  <dc:subject/>
  <dc:title>Остановка сердца</dc:title>
</cp:coreProperties>
</file>