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E214-4E75-4A1B-8E30-7938FB8D43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98DD-15A4-4713-96DB-E4D82DD91C1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858-0DD8-40E6-8C34-CCA2AD8C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010-8C06-4A30-8DB9-E40B8C77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02A51-A3C6-4EBD-8F28-E8F7CCAA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08532-74FF-4907-95F7-DDD5CA60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AB55A-BA8D-4A38-A848-F1C77D1F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B693D-9778-424E-8168-24D3D3C8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FF3A6-DE62-4648-9C26-675691E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FA623-B054-4374-911A-45F2A922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49E4E-B1B0-4168-AA5F-64311E51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AD82A-F7F1-408F-9012-DD2D145B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081F9-9EAA-4BBA-B9CD-501A6777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CC733-9BA4-4969-BA32-653E07FA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3C4-0C45-4D5F-B59E-970CCB71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BF95C-1481-44C4-BF97-EADA71F6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0A46B-CDFD-43A0-8E66-0665B328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1E4C0-39D0-4FED-91CC-27CC3031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C9491-1A5A-4FCA-8C44-FE2A01EF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B5F30-0E0B-4E53-9043-188099DD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F28E5-EA04-4617-B9AF-12364B9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D020C-D730-4C96-82EA-A5736750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87183-4C28-4360-A092-44BDC75E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821F8-CD37-4009-8229-95711CB0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ECE37-2C4D-4FB5-A979-EB8703B4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B64-8EC9-411E-9EF3-5911A8B3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6F4B4-CCA0-422E-8F0E-71CEC5E2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49CC7-7BD4-4DDB-B144-DFBE9C89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C4BB4-541D-47C4-AB67-2EF3917F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880B5-934E-408D-85EA-A6F69355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A63F2-FEA6-44D2-A346-948217D6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6D0CD-8FF2-4722-8701-43D9F546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F5173-54E3-4893-9025-64958784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3CEDA-88E8-494E-8855-FA6B0854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C6050-F2DC-453C-BD6E-EDAC1B3D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FE6FA-ACD7-4357-A400-8E482BC5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FBAA-90E5-4687-B651-8354AFE7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4CC3A-EEE0-4845-8DA3-06C82D6D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277EB-8AB6-448C-A25D-54F77723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2FCEB-4B1B-4291-9ACC-B20D2A65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E6BED-3F68-4896-B13D-F87ADBCB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DED8F-304C-44BA-A2D9-D87B9233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4ADD9-2EE2-41F0-B2B2-AFF848F5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B6B41-E132-47A0-9141-E28E9A7E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3A82D-4829-4E3A-8103-509B74F0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E167D-1491-436C-964C-39FBAF24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7DA30-4663-4211-8649-1C89096B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E0DB-177E-4EB2-B814-2853C8C8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9E0DD-6274-4561-BB17-7E02B87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2D531-1480-4ADB-9DFE-554CE70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7008E-32BE-4C77-87EE-E18108D9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34A86-6C02-4388-A52A-6693DEF9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7C7C0-2F76-496C-AA40-30F600B8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A1ED2-C206-43A8-91A9-5167EC6A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EE900-C0AD-4CCA-8F26-E521F0EA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D566D-788A-4C71-9D77-E823D958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25F75-91F5-4994-AF2F-6B282369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76142-3DBC-4A15-B2A9-4ADF6243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2667-45C2-4DD3-A3EB-C58AFCF6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5162D-4775-4578-866E-488D312B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3ECA6-99DD-4CAC-AE39-31B0F3EF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843F0-0573-4ED5-BC56-F0A061A8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88395-EEE1-46E9-9630-76546B71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F99D8-9839-4611-B9AA-9BC33493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4C2B1-4C7B-4492-9D9C-63695E54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80716-5AB3-4ABF-A34C-FA0F8609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12929-42E7-4D5B-AC75-C3EFF672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80AE9-725D-42B2-95B2-2B109111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45A72-DAA8-460F-85A6-26E0FF7F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9A27-4735-4420-B5B6-F4A5E75E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8C4E2-FF61-41A6-96D9-6645DD33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FB0D9-AB02-4740-AE1B-8389494C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696E6-C109-4836-8BC6-B3FE754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D6F82-085F-4A38-BEFE-EE044F6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F0F8F-9C99-49CA-A53B-B90CB44D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87CC0-2A72-4807-BACD-5B1F7CE9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13CF3-E679-4451-8583-36A0A50E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C3DEC-D1F0-4E2A-A4EB-708035ED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053D7-222C-4A3D-9ACC-848EFD3A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E080-EB77-423D-9554-54F1BB34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2EB4-331D-4780-834E-F6CF9D46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CB9B-0416-494F-A77E-02E58FF4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5B8-8D89-4E18-8C56-1214A1AB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EC0E-EC0F-4707-968F-14C8A8A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2CC1-9EEE-457C-9817-6D980C66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3613-8EDA-4F1D-9274-7FE0CD79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9E27-A496-481A-ADAB-1534D140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A50A-3B25-415A-844F-F838D257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CE540-C341-4FBD-B5A8-532FD0E2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41B5-4D50-4D3A-A4B9-F3D87957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D470-1945-414A-890D-59782FEE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70F7-3DBC-4E65-B914-290D2463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E21B-60EE-4C7F-B9E8-A354C9CA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BB0-7FA5-4068-B758-4C31DD62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F815-93C7-4047-AA51-0AD1789C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99087-2359-45B5-8027-B31D13E5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301E6-F578-456E-934F-251FD244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128C-0C85-4D4D-979A-1C94C7AE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D705-01DE-45AF-8D9E-6B4D15A5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63D8-FBE4-4826-A90A-0279B707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F7FD7-6AF9-4696-B7E2-6EBDB080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D6D02-16FC-4566-AEEC-B05BDADA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52B9A-F02E-40A4-9F7E-247A69DC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CDFA-CE9D-4766-8B3E-9E0B6B12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810-5C72-40BB-BF40-5C14D2EB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6EE7-2308-4226-8C81-7F6C34A2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B7FC-D365-488C-9660-AFB4ED88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B490B-231C-4ECD-96FF-37D27375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14EB-46E4-42F4-9C5B-3968D641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D590-7670-48A9-80A2-D352D926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B9AF7-42A4-4EB6-90D9-2316B645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13667-AE5E-468E-A6B3-88C6F368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869B-416D-4E20-80A1-4C2FA4FC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A8DE3-296C-4904-8157-A3CF9D57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6CE8D-B0A4-42F4-9356-4F30CE9D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1B2-E88C-40B0-BD73-D0A35C04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D6B68-0DDF-445B-9710-F442A8C5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4CF83-8093-4C10-8A5B-D796F1B7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2A128-EE46-4987-B286-70A7B8E3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772AB-FF45-4884-9E85-3BE40D12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5BEA8-7BC0-46C0-A1BD-5CC80CC2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6AA67-73B9-4DFA-8951-71D0A7E5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E84C-6256-4D76-B416-2880EA5A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ADED8-690D-445D-B025-41F5544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C9F6F-96BF-44F7-BB90-43DED759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A8A00-4AA1-45F1-BF69-FD9BA880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F75-58CC-4967-9B7E-328298F6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1771F-E2CD-4761-8F53-4230E5E5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32735-DD41-4D5D-A094-351E0CCC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FEBDD-DB6C-4A55-AE4F-12011379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0FBA7-8E43-49EA-B24A-02C93F85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7DA1C-380C-4E98-B46A-FE3EC003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277D2-91AF-4BFE-A104-D3FF3DD3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7BCE9-0ACA-4FF5-8AFF-6F8E6B30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6B5B1-94F6-44E4-9559-240A38CF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2250B-3193-4C33-B6BE-A7B0CA50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16300-DA12-4FFB-A7FC-674B884B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CB9-2EC1-4408-ADB4-16D0E6B9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33026-0912-4E0D-9A77-BD573C89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5C144-AA71-4DCD-B000-FC788ACE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4A1C1-AB24-449E-AE5D-A8C39B08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E75C2-4731-40B9-9CC5-40468774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E463A-638E-434A-ABA1-4C3247E9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2B1F8-75A6-42AC-844F-85629285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EC385-57EE-440F-A5FD-6C238762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A80EC-189A-46F1-8AAD-BAECD193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7CBCE-2F0B-4365-A0BD-CD5E0469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B6E14-7A43-469F-A4D0-2D1CC35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B98-3618-4C87-BD43-DB7BB199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50B95-88DE-445A-8918-C5E0F4BC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933FA-8E76-44CA-ABAD-0F9B6809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5286D-CF12-4388-A6BC-8C838BB2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CA78-4B43-4525-B268-6A9C20D5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7CC21-F97F-4FD7-A630-8A8DABE7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2C7E7-A3AA-4C49-A1B2-DA99FC49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4DBD2-B715-4E8C-91B5-F986F026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AA7A4-F9C4-4364-ACA0-9B7EDEB9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65024-8852-466D-9164-E58E0F7C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5F43B-DD47-4E50-BFC9-4F976807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7B8-2693-4A02-BD48-3BBC71B4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58D58-5513-4370-9BAB-327C41BA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AC6EA-6739-4C93-9283-878F6161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68DFA-C746-4541-8044-5C09EA1C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16B66-B76D-4C76-86DA-B5D2D442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446B7-2D5A-4481-AAC1-FDCEA809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206CE-CF97-44FB-ACD7-3EE64522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4C3FA-2974-4B63-A6F7-2AF57234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8FFAB-5EE1-4A03-B360-13CE095E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84BC3-F8EE-4CAC-A2BC-EF0D8BB5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40DE4-8AAB-46A1-BEA4-B3FDEFBD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791B-0A77-471C-995F-08566BBAC1D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42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2C09-9819-41A8-A920-EB6D607391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FFA2-2622-4203-9A8F-D6A36EA215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A11B-345E-405C-9E7B-7B6DB875F87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0F56-EA40-4A97-AC10-961ABEE60E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59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52FA-BC08-4089-A3A0-5D84D36A707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8A61-CA37-4FA6-95A5-B0DED61C326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9B03-DBEC-49BE-99AA-9FE1C0287E2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EF95-941A-4CD2-B1E8-A3E9E0E6C6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98F3-80D4-44EE-A556-A0EF4B560D8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3877-A1FC-48F6-A139-8DA6A16F81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1A3E-B469-40F2-A1AD-DC64C27C066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2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A0F6-F7EB-4D4F-B29E-635505D398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37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56F3-035E-41E2-9659-6E7FFFC173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86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метапредметных результатов на уроках русского языка и литературы у обучающихся основной школы в условиях современной образовательной сред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2286000" y="5000400"/>
            <a:ext cx="6572160" cy="857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Corbel"/>
              </a:rPr>
              <a:t>Николаева А. Н.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Corbe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271c"/>
                </a:solidFill>
                <a:latin typeface="Corbel"/>
              </a:rPr>
              <a:t>Школы №17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C00B-DD73-490E-9386-E8A0E00D5E5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68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 чем ассоциируется слово хирургия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69" name="Объект 4" descr=""/>
          <p:cNvPicPr/>
          <p:nvPr/>
        </p:nvPicPr>
        <p:blipFill>
          <a:blip r:embed="rId1"/>
          <a:stretch/>
        </p:blipFill>
        <p:spPr>
          <a:xfrm>
            <a:off x="1733400" y="1417680"/>
            <a:ext cx="7344000" cy="5508720"/>
          </a:xfrm>
          <a:prstGeom prst="rect">
            <a:avLst/>
          </a:prstGeom>
          <a:ln w="0">
            <a:noFill/>
          </a:ln>
        </p:spPr>
      </p:pic>
      <p:sp>
        <p:nvSpPr>
          <p:cNvPr id="670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F4A6-03B5-4D63-A2CB-0EB25BC847F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971280" y="0"/>
            <a:ext cx="817236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ием «верные и неверные утверждения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ежде, чем мы познакомимся с числительными, попробуйте угадать, какие они, слова этой части речи. Я предлагаю вам несколько утверждений, которые начинаются со слов «Правда ли, что..», вам нужно либо согласиться, либо не согласиться с ни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тверждени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…имена числительные отвечают только на вопросы «сколько?», «который?»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….имен числительных в языке очень немног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…имена числительные изменяются по падежа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…все числительные можно записать цифра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…эта часть речи может быть только определение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. …числительные имеют общие признаки с существительны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7. …они имеют общие признаки с прилагательны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8. …можно прожить день, не встретив ни одного числительног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9. …числительное не может состоять из 3 сл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0. …слово «полтора» - это числительно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ы вернемся к нашим предположениям в конце урока и проверим, в чём мы были правы, а где наше мнение изменилос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D743-7B7D-4B19-A358-35177991021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флекс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042560" y="1523880"/>
            <a:ext cx="40496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Метапредметны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не больше всего удалось ..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 что я могу себя похвалить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 что я могу похвалить одноклассников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то приобрёл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то меня удивило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ля меня было открытием то, что ..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то, на мой взгляд, не удалось? Почему? Что учесть на будущее?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72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едметные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могу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уме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 меня получается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понима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зна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выполня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способен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склонен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придерживаюсь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соблюда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применя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использую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стремлюсь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стараюсь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72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F146-B469-4EA7-993C-8DCE10AEE61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9713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B861-B297-4A2A-B51D-1E5E7D95658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Рисунок 4" descr=""/>
          <p:cNvPicPr/>
          <p:nvPr/>
        </p:nvPicPr>
        <p:blipFill>
          <a:blip r:embed="rId1"/>
          <a:stretch/>
        </p:blipFill>
        <p:spPr>
          <a:xfrm>
            <a:off x="4140360" y="3241800"/>
            <a:ext cx="51577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5056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447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 С. Г., Гливинская О. В., Михайлюк Я. В. Реализация метапредметного подхода в преподавании гуманитарного цикла предметов в общеобразовательной школе. - М.,2010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ромыко Ю.В. Мыследеятельностная педагогика (теоретико-практическое руководство по совоению высших образцов педагогического искусства). – Минск, 2000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ромыко Ю.В. Метапредмет «Знак» / Учебное пособие для учащихся старших классов. – М.: Пушкинский институт, 2001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ромыко Ю.В. Метапредмет «Знание» / Учебное пособие для учащихся старших классов. – М.: Пушкинский институт, 2001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ромыко Н.В. Обучение схематизации: Сборник сценариев для проведения уроков и тренингов / Учебно-методическое пособие для учащихся 10-11 классов. – М.. 2005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ловарь-справочник по педагогике. Автор-составитель В.А. Мижериков, под ред. П.И. Пидкасистого, М. 2004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Фоменко И.А. Создание системы формирования нового содержания образования на основе принципов  метапредметности. / fomenko.edusite.ru/p35aa1.html/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92160" indent="44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714240" y="1289520"/>
            <a:ext cx="8178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овладение основными универсальными учебными действия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гулятивными, коммуникативн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особами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 применяемыми как в рамках образовательного процесса, так и при решении проблем в реальных жизненных ситуациях, освоенные обучающимися на базе одного, нескольких или всех учеб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предметные результаты </a:t>
            </a:r>
            <a:br>
              <a:rPr sz="3400"/>
            </a:br>
            <a:r>
              <a:rPr b="1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ой деятельности</a:t>
            </a:r>
            <a:br>
              <a:rPr sz="3400"/>
            </a:b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ые понят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250920" y="105264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едеятельностная педагог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ин из ведущих отечественных подходов к построению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 содержания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новывающийся на включении 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льтурных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ов и средств мышления и деятель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й подх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дход, основанный на положениях мыследеятельностной педагоги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традиционный учебный предмет, выстраиваемый вокруг определенной мыслительной организованност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бл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Отличие метапредметного урока от интегрированного урока и урока с межпредметными связям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79280" y="1218960"/>
            <a:ext cx="8507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УсМС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закрепление знаний по предмету за счёт 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араллельного освещения изучаемого материала с точки зрения других наук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ИУ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воение знаний  за счет систематизации ЗУН по нескольким предметам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ПУ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- личностное совершенствование учащегося через его познавательное развити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тапредметный урок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применение метапредметных и универсальных учебных действи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связи с жизненными потребностям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Ученик учится сам и учит других, учится  добывать информацию из различных источников. Учитель - не источник информации, а навигатор деятельности. На метапредметном уроке должны формироваться универсальные действия, необходимые для процесса познания в принцип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Corbel"/>
              </a:rPr>
              <a:t>Метапредметная деятельность</a:t>
            </a: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9036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.Включение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 метапредметных тем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содержание учебных предметов, что способствует формированию целостной картины мира в сознании ребён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. Использование 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метапредметных задани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сочинение-эссе  на уроках истории, литературы, русского языка; эксперимент на уроках русского языка, химии, физики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Метапредметные проект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Использование технологий,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щих техник и приёмов педагогами, направленных на формирование общеучебных умений, навыков и способов деятельности, а в соответствии с новыми стандартами на формирование универсальных учебных действ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труктура метапредметного занятия (А.Хуторской):</a:t>
            </a:r>
            <a:br>
              <a:rPr sz="3900"/>
            </a:br>
            <a:br>
              <a:rPr sz="39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1. Этап актуализации знаний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2. Уточнение образовательного объекта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3. Конкретизация задания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4. Решение проблемной  ситуации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5. Демонстрация образовательной продукции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6. Систематизация полученной продукции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7. Работа с культурно-историческими аналогами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8. Рефлексия </a:t>
            </a:r>
            <a:br>
              <a:rPr sz="3900"/>
            </a:b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4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7455-C72A-4062-A832-3E23C0EF73D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6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8EFF-6054-4BE8-A4BF-2E0B6CED632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0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Этап актуализации зн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ием «Проблемный диалог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ием «Верные – неверные утверждения»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ием «Прогнозирование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рием «Ассоциативный ряд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Номер слайда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A1F5-ED48-4916-8215-9D566B410F5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Если ты оказался в лесу…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62" name="Объект 4" descr=""/>
          <p:cNvPicPr/>
          <p:nvPr/>
        </p:nvPicPr>
        <p:blipFill>
          <a:blip r:embed="rId1"/>
          <a:stretch/>
        </p:blipFill>
        <p:spPr>
          <a:xfrm>
            <a:off x="1042920" y="2370240"/>
            <a:ext cx="8101080" cy="4487760"/>
          </a:xfrm>
          <a:prstGeom prst="rect">
            <a:avLst/>
          </a:prstGeom>
          <a:ln w="0">
            <a:noFill/>
          </a:ln>
        </p:spPr>
      </p:pic>
      <p:sp>
        <p:nvSpPr>
          <p:cNvPr id="663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7531-77B9-4CAB-AA0E-0DD0A5A294E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07:41Z</dcterms:created>
  <dc:creator>Лилия</dc:creator>
  <dc:description/>
  <dc:language>en-US</dc:language>
  <cp:lastModifiedBy>Учитель</cp:lastModifiedBy>
  <dcterms:modified xsi:type="dcterms:W3CDTF">2019-08-20T06:01:52Z</dcterms:modified>
  <cp:revision>134</cp:revision>
  <dc:subject/>
  <dc:title>Метапредметный подход в образовании</dc:title>
</cp:coreProperties>
</file>