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82B6-36ED-431C-84D6-2C82A7615C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5341-7401-419C-9863-17428B819C7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9EE8-41D9-4649-8EA1-D8DC31F39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5B12-4795-4860-BC17-5EEC80ED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7375E-9293-4C80-BE53-5B72DBF9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A6875-B06B-41BA-8700-E8996AE4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9E1DE-B4BB-40E3-B982-1DD9618E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79711-FB0B-41C5-A7EE-51D71408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0FBAB-F332-4F0F-9FD0-30FA02A8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16E2F-2F33-4F0D-85A6-FAFFDD42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C4ED1-0F71-444D-A547-1C02F8CF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ABE38-3063-4168-A677-71993A8F5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590E4-4C6C-4B7C-A988-EB1DF4FEF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4B4D7-FE50-4F13-B6C1-4848A2EF2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DA15-5A91-4342-AB09-520353E43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27ADC2-3CB3-4126-BC61-C7BA653A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B2591-8E31-4B2F-A698-9550A821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1A9B8-13C7-4120-9C94-7DABB436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67E25-413D-4CEA-915E-9C8A183E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96761-F5D3-4172-92FA-687FC79D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A39815-29AB-457C-BD98-F6AB2687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13FB00-0B18-422B-B727-01B0D590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615690-25FC-4F5F-9249-E91B7795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EA6DB-5BA3-422C-9838-8C2C25C1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8DA3D6-575E-4306-B6C1-24FAB58A5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C410-CD8B-43B1-8E02-11CC2851E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7E8979-4B51-415B-AC23-F086A56BE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699AC-8B69-4C03-AB91-8D19F664A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63340-8E7D-4CEA-8EEE-F47EC750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05B9B-90D8-4A71-B585-11E2AEF3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C002C-2606-4E5C-87B3-C9F0AC2B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9BC50-5290-463E-968C-5E60342A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E30D3-6E73-4E4A-A41E-6EED6E81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68FC6-9443-48EA-8C52-E83F9360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05DDF-37F5-4DB9-A286-EA7B6618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B7756-7F7F-4545-9806-2B6F5439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968C-8CFA-4325-B399-20C98C84F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04B2C-13DD-48E2-ABCE-33B2B61F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DF825-83C7-4735-8D2F-CE3EFD7D8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ABABB-7E5E-418F-A39C-10398E4FE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A87407-4CD2-400A-A6FA-7FA105E5F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CFD667-0EAE-47E4-8E8C-CAB4C721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2D6055-F177-486C-9CAB-43594CF7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47B14D-C22F-4F86-9965-B3C8C47E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46C40C-3682-46E9-B48C-AEE7C428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BEB536-D2DA-4A9A-934B-2334B5AF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8597A4-F739-44B4-BD97-EDCD5184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0F21-9657-4C01-AD8B-4F566DC8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DD6690-FDC8-495C-B7DB-AD2705BA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6CB7C6-3F5E-4300-8720-0803FC6A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C3E55A-3601-47B7-9F4D-3E711A0F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29DDFD-2288-401C-855E-03D1A7268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3D9334-9C2E-41AB-90F9-268216C97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3D96B5-D2EA-4086-A1FD-628AD89E1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639189-C3C0-41E4-BC4B-87139D2C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C4DCC4-B87D-43CE-8E9A-78A0EADD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FA5BAD-00D5-46A7-904C-E0B1F1E1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D9059B-F702-407B-B3DC-3E0F99E5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96BF-3703-409E-BE31-B4DC5CEB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134812-C331-473C-A950-2DFED5B0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42D465-FCDE-4D50-BF7B-F7FC379F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36CB07-C9AD-484A-96D2-C995E317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6FB889-7A46-47EF-BA0D-A7225009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8DCE3E-022C-4684-A1FC-49D41FC9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257EB2-9852-4DD1-80F1-9CC09878F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9D1618-F52F-43C5-821D-6170D1140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DF8259-0861-4536-B383-FAE7D9016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19FD0F-AE60-457C-B902-D6B8CE0F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55DB54-BAE4-498A-9236-419E1B30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63DC-D70D-4F24-83B0-A5FCE13C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1AA64E-1380-4DD8-AD92-FE28B13E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F4AF44-47EE-4137-8E4B-9967539F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F2D8D1-0E02-4C28-8821-9B9E502E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BD823F-AC20-40A2-82D5-9EB1B791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90A36F-5F9F-47E6-A982-F9C250DD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FD1D29-D609-4E20-B4DE-AB8CF73C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311FE1-AEC0-490F-A932-80F500D7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3B45FA-4E72-479B-9AE4-A747DC10F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4DFBE9-197A-4C15-9F4D-6F6847614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5851-40A9-4412-90D8-ABE3FE33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4437-7A80-4C8B-8A29-B7A64CB1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9009-F82A-49FC-9FA3-2FE37CD1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776B-7B1C-41B4-AA48-46586DE0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9C9E-10AD-4994-830C-295730E7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171B-95C0-42C7-B470-F76BDFD7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FAE4-6200-414B-BE5A-C58D65DB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0801-6812-474D-8431-E30FA6457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5A21-5B72-4664-A2B2-D493A390C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E3E00-C369-4825-B4FF-A1A9F0D8C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85A3E-F3B2-40D3-BEB3-2B9C9E20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2F6C3-7A97-46B8-945F-EB19BC93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6019D-97DC-4B1A-BA11-47F0C5A8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8322E-136C-4C7C-B56A-94B5C361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0AAF-5998-4E7B-A601-F998B0FC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5240E-6868-401E-86BE-D386A9A5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39E40-4789-4B63-BDB9-54912C7B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2DB8D-0993-4F45-9C25-8EB54D67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4EB04-34DD-40AE-985B-424FCB15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29F81-9C88-4C92-A426-D2B1A905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D3739-1AE1-4A4C-A744-328342AC1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9E1E7-A698-4778-817F-A3DC052F1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E7B80-82D2-4221-8AA8-FBAD4ADC9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77C85-46F6-4801-8513-14871287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6D605-1798-4EA9-B4F9-C3B22AD1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6789-4314-47A8-BEE9-F06E971F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96553-8D56-41BE-AF19-13799EDD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88618-3572-46A5-A72E-BEF15AB0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07DF7-77D9-49F9-B37E-8F54B0F6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5ED0C-35C7-4D88-AC1E-22455DE8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C5319-A8FA-4B28-B230-7357194D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C215F-200E-4291-BC5D-8E33267E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48DA3-2E37-4673-BE82-F84C6DAB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ABA7E-7801-41AD-B52B-C165F3CF9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4D3C3-E39F-4755-BCC5-AE85B683B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4A0C1-9CDB-4F21-A684-FB605A586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E3DA-2383-4CC5-B9D2-C3E405D9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44F0C-8423-465F-A8A4-E0790340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92A42-EC66-4358-B4C0-7AF85A7A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F2E09-DB78-4EBF-B874-5D790E13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EEF8A-6168-4651-A9B5-B3350924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BC3ED-8624-4174-B152-5B487AE2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7A21C-9C5B-4528-9FEF-94AA5BF1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1F729-8996-4FFD-A50C-3D4B2067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1CCA9-5820-4CB9-8076-C69DD36A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B7775-D74A-466C-86D8-453D08D4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24BB3-4329-4F42-A301-C8CAF555F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BF5A-FBFE-49E0-BCFB-1BCED64F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6F782-FFDC-4DA0-A555-C76C5F22A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39CE8-1161-4C45-82A3-E1D29712D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26745-5800-41E7-8569-A5697158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E81CA-32F2-4C47-9866-C0C37B8B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D8669-EF2C-424E-ABE8-5A900499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E4385-02FC-4088-A57D-CA2AFDE3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9AE55-1CC8-43B5-927C-C342E67B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3F9B7-AEA0-4BBC-9924-D517539C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8CF03-A350-4383-841E-F2F9B1B4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DCE42-3EA6-4322-9687-882C20A9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EADD-0B11-4427-B1AE-1A97C29D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6D516-7A35-4775-B5B4-BDFB8E9D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C592F-7CAB-4CB1-96A8-12ED2AB1A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C9849-293A-4F00-A68B-00B9EFEC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40EE7-BCA9-4F91-A482-77740C9D5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DB6C4-1EAC-4BB2-A5BF-98289879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2444D-CDA3-4AB6-92AD-4F844BF3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F1D50-E803-4A54-A0F3-4A1B19C1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0E68D-C7BC-49BE-8073-037EEC43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FEBF3-5A90-408B-BD67-72C37F55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AD4E3-D37A-4918-B636-344F7728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7E0C-50D6-4DE3-9639-7A8AAE35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C5786-51BF-41A3-B87D-CD21E134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C294B-34D9-4D0C-9F2A-CF4B4E35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1E240-F8F6-49F3-B037-D440632D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C42B4-8B06-4557-B7D0-39BAEC8C0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EE865-2E4A-4522-A6E1-F44B45916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9E350-DF9A-4526-802C-947343276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A85C8-87DD-40B6-945A-7375F5A5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6CD40-957A-4ED0-8A27-66FBCF5B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29225-BD3B-455E-927B-53DA86D5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6AE5F-6D3A-41AC-B154-2B4A0A1D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73F4-0041-4F79-8A94-6E02668D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B5EAD-C2FB-41F0-B5A5-FDC4CC4E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91BBD-E7FF-4BCE-8EDE-530EB3CF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C90AE-4753-4D6C-BB00-F3AA10EF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847A0-C74D-4A68-A4F1-0D67D2EE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6ED37-DEE1-4DDB-A62D-72FF9FD0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24EF9-1079-4DA7-8693-62C478BE1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628CF-62BA-42E7-A60C-6E3248F1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81881C-9485-4FF6-9C7F-EF6976199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2AE03-1FB7-490B-AD77-A1718941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AB677-526C-4F93-9B42-2048ED5F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9282-94A5-4AD4-9632-2EB3F615D0B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421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75BA-5E2E-4E71-ABD6-47A4A2FF872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59BC-429C-4806-A618-E386D57E75E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98BC-24C7-4FB1-A46A-7B500A20783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F8AC-F37D-42BD-B379-96EFCA54BDE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591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4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4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4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85BB-D580-431C-9926-CF402B8DD54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63D9-1D72-42D9-A1A4-266CA073D22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9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104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4EC2-5C5E-4ACF-BB6C-67D9C72BFC0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51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AA19-430B-4A8C-8893-5AE1670F262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A847-895D-4C81-9BB5-BB766E725DD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7E46-32A9-4683-BC99-D35F88E894B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C009-A849-49CF-84A0-4005438D26D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21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BA63-0103-4976-A950-DD526FC7F03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6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374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B2EA-BFAE-4140-A2D0-DBFEB996F51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786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ирование метапредметных результатов на уроках русского языка и литературы у обучающихся основной школы в условиях современной образовательной среды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2286000" y="5000400"/>
            <a:ext cx="6572160" cy="8571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271c"/>
                </a:solidFill>
                <a:latin typeface="Corbel"/>
              </a:rPr>
              <a:t>Николаева А. Н.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271c"/>
                </a:solidFill>
                <a:latin typeface="Corbel"/>
              </a:rPr>
              <a:t>учитель русского языка и литератур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271c"/>
                </a:solidFill>
                <a:latin typeface="Corbel"/>
              </a:rPr>
              <a:t>Школы №175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6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9B0B-691A-4DA9-B510-06B30C43BFAF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868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 чем ассоциируется слово хирургия?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669" name="Объект 4" descr=""/>
          <p:cNvPicPr/>
          <p:nvPr/>
        </p:nvPicPr>
        <p:blipFill>
          <a:blip r:embed="rId1"/>
          <a:stretch/>
        </p:blipFill>
        <p:spPr>
          <a:xfrm>
            <a:off x="1733400" y="1417680"/>
            <a:ext cx="7344000" cy="5508720"/>
          </a:xfrm>
          <a:prstGeom prst="rect">
            <a:avLst/>
          </a:prstGeom>
          <a:ln w="0">
            <a:noFill/>
          </a:ln>
        </p:spPr>
      </p:pic>
      <p:sp>
        <p:nvSpPr>
          <p:cNvPr id="670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6D4F-52E2-4A2A-B15E-CD3E591A618C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971280" y="0"/>
            <a:ext cx="8172360" cy="67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Прием «верные и неверные утверждения»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ежде, чем мы познакомимся с числительными, попробуйте угадать, какие они, слова этой части речи. Я предлагаю вам несколько утверждений, которые начинаются со слов «Правда ли, что..», вам нужно либо согласиться, либо не согласиться с ним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тверждения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…имена числительные отвечают только на вопросы «сколько?», «который?»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….имен числительных в языке очень немного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3…имена числительные изменяются по падежам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4…все числительные можно записать цифрами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5…эта часть речи может быть только определением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6. …числительные имеют общие признаки с существительными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7. …они имеют общие признаки с прилагательными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8. …можно прожить день, не встретив ни одного числительного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9. …числительное не может состоять из 3 слов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0. …слово «полтора» - это числительно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Мы вернемся к нашим предположениям в конце урока и проверим, в чём мы были правы, а где наше мнение изменилос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3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1B3E-74B0-4E8C-835B-618DE47CB3F9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ефлекс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1042560" y="1523880"/>
            <a:ext cx="404964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Метапредметные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Мне больше всего удалось ..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За что я могу себя похвалить?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За что я могу похвалить одноклассников?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Что приобрёл?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Что меня удивило?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ля меня было открытием то, что ..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Что, на мой взгляд, не удалось? Почему? Что учесть на будущее?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72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едметные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23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Я могу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23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Я умею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23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 меня получается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23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Я понимаю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23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Я знаю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23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Я выполняю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23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Я способен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23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Я склонен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23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Я придерживаюсь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23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Я соблюдаю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23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Я применяю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23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Я использую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23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Я стремлюсь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23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Я стараюсь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23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7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009B-90DC-4D9B-84D7-E3BD01FBB2DC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539640" y="19713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0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1900-3CD5-478F-869B-657126D78850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Рисунок 4" descr=""/>
          <p:cNvPicPr/>
          <p:nvPr/>
        </p:nvPicPr>
        <p:blipFill>
          <a:blip r:embed="rId1"/>
          <a:stretch/>
        </p:blipFill>
        <p:spPr>
          <a:xfrm>
            <a:off x="4140360" y="3241800"/>
            <a:ext cx="515772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итератур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250560" y="1341360"/>
            <a:ext cx="8497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447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на С. Г., Гливинская О. В., Михайлюк Я. В. Реализация метапредметного подхода в преподавании гуманитарного цикла предметов в общеобразовательной школе. - М.,2010.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92160" indent="44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Громыко Ю.В. Мыследеятельностная педагогика (теоретико-практическое руководство по совоению высших образцов педагогического искусства). – Минск, 2000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92160" indent="44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Громыко Ю.В. Метапредмет «Знак» / Учебное пособие для учащихся старших классов. – М.: Пушкинский институт, 2001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92160" indent="44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Громыко Ю.В. Метапредмет «Знание» / Учебное пособие для учащихся старших классов. – М.: Пушкинский институт, 2001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92160" indent="44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Громыко Н.В. Обучение схематизации: Сборник сценариев для проведения уроков и тренингов / Учебно-методическое пособие для учащихся 10-11 классов. – М.. 2005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92160" indent="44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Словарь-справочник по педагогике. Автор-составитель В.А. Мижериков, под ред. П.И. Пидкасистого, М. 2004.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Фоменко И.А. Создание системы формирования нового содержания образования на основе принципов  метапредметности. / fomenko.edusite.ru/p35aa1.html/.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92160" indent="44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92160" indent="44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92160" indent="44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2"/>
          <p:cNvSpPr/>
          <p:nvPr/>
        </p:nvSpPr>
        <p:spPr>
          <a:xfrm>
            <a:off x="714240" y="1289520"/>
            <a:ext cx="8178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то овладение основными универсальными учебными действиям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егулятивными, коммуникативны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знавательны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пособами 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 применяемыми как в рамках образовательного процесса, так и при решении проблем в реальных жизненных ситуациях, освоенные обучающимися на базе одного, нескольких или всех учебных предм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апредметные результаты </a:t>
            </a:r>
            <a:br>
              <a:rPr sz="3400"/>
            </a:br>
            <a:r>
              <a:rPr b="1" lang="ru-RU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азовательной деятельности</a:t>
            </a:r>
            <a:br>
              <a:rPr sz="3400"/>
            </a:br>
            <a:endParaRPr b="0" lang="en-US" sz="3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обходимые понятия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250920" y="1052640"/>
            <a:ext cx="8424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следеятельностная педагоги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дин из ведущих отечественных подходов к построению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го содержания образов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сновывающийся на включении в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образов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ультурных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ов и средств мышления и деятельност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предметный подхо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дход, основанный на положениях мыследеятельностной педагогик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предмет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традиционный учебный предмет, выстраиваемый вокруг определенной мыслительной организованности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блем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Отличие метапредметного урока от интегрированного урока и урока с межпредметными связями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179280" y="1218960"/>
            <a:ext cx="8507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в УсМС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- закрепление знаний по предмету за счёт 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араллельного освещения изучаемого материала с точки зрения других наук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в ИУ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своение знаний  за счет систематизации ЗУН по нескольким предметам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МПУ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- личностное совершенствование учащегося через его познавательное развитие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Метапредметный урок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- применение метапредметных и универсальных учебных действий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в связи с жизненными потребностями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 Ученик учится сам и учит других, учится  добывать информацию из различных источников. Учитель - не источник информации, а навигатор деятельности. На метапредметном уроке должны формироваться универсальные действия, необходимые для процесса познания в принцип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c00000"/>
                </a:solidFill>
                <a:latin typeface="Corbel"/>
              </a:rPr>
              <a:t>Метапредметная деятельность</a:t>
            </a:r>
            <a:r>
              <a:rPr b="1" lang="ru-RU" sz="3900" spc="-1" strike="noStrike">
                <a:solidFill>
                  <a:srgbClr val="c00000"/>
                </a:solidFill>
                <a:latin typeface="Corbel"/>
              </a:rPr>
              <a:t>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08000" y="1557360"/>
            <a:ext cx="9036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1.Включение</a:t>
            </a:r>
            <a:r>
              <a:rPr b="0" lang="ru-RU" sz="2400" spc="-1" strike="noStrike">
                <a:solidFill>
                  <a:srgbClr val="c00000"/>
                </a:solidFill>
                <a:latin typeface="Corbel"/>
              </a:rPr>
              <a:t> метапредметных тем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содержание учебных предметов, что способствует формированию целостной картины мира в сознании ребёнк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2. Использование </a:t>
            </a:r>
            <a:r>
              <a:rPr b="0" lang="ru-RU" sz="2400" spc="-1" strike="noStrike">
                <a:solidFill>
                  <a:srgbClr val="c00000"/>
                </a:solidFill>
                <a:latin typeface="Corbel"/>
              </a:rPr>
              <a:t>метапредметных заданий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(сочинение-эссе  на уроках истории, литературы, русского языка; эксперимент на уроках русского языка, химии, физики)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3. </a:t>
            </a:r>
            <a:r>
              <a:rPr b="0" lang="ru-RU" sz="2400" spc="-1" strike="noStrike">
                <a:solidFill>
                  <a:srgbClr val="c00000"/>
                </a:solidFill>
                <a:latin typeface="Corbel"/>
              </a:rPr>
              <a:t>Метапредметные проекты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4. </a:t>
            </a:r>
            <a:r>
              <a:rPr b="0" lang="ru-RU" sz="2400" spc="-1" strike="noStrike">
                <a:solidFill>
                  <a:srgbClr val="c00000"/>
                </a:solidFill>
                <a:latin typeface="Corbel"/>
              </a:rPr>
              <a:t>Использование технологий,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бщих техник и приёмов педагогами, направленных на формирование общеучебных умений, навыков и способов деятельности, а в соответствии с новыми стандартами на формирование универсальных учебных действи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труктура метапредметного занятия (А.Хуторской):</a:t>
            </a:r>
            <a:br>
              <a:rPr sz="3900"/>
            </a:br>
            <a:br>
              <a:rPr sz="3900"/>
            </a:b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1. Этап актуализации знаний.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2. Уточнение образовательного объекта.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3. Конкретизация задания.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4. Решение проблемной  ситуации.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5. Демонстрация образовательной продукции.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6. Систематизация полученной продукции.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7. Работа с культурно-историческими аналогами.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8. Рефлексия </a:t>
            </a:r>
            <a:br>
              <a:rPr sz="3900"/>
            </a:br>
            <a:br>
              <a:rPr sz="39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4" name="Номер слайда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1F59-8802-4C6C-B705-B1903424BD24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6" name="Номер слайда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6669-30A5-4B7F-B4C0-BED29CAAF202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070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Этап актуализации знани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Прием «Проблемный диалог»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Прием «Верные – неверные утверждения»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Прием «Прогнозирование»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Прием «Ассоциативный ряд»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0" name="Номер слайда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050D-E311-42D9-8BD0-55B7598A251D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Если ты оказался в лесу…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662" name="Объект 4" descr=""/>
          <p:cNvPicPr/>
          <p:nvPr/>
        </p:nvPicPr>
        <p:blipFill>
          <a:blip r:embed="rId1"/>
          <a:stretch/>
        </p:blipFill>
        <p:spPr>
          <a:xfrm>
            <a:off x="1042920" y="2370240"/>
            <a:ext cx="8101080" cy="4487760"/>
          </a:xfrm>
          <a:prstGeom prst="rect">
            <a:avLst/>
          </a:prstGeom>
          <a:ln w="0">
            <a:noFill/>
          </a:ln>
        </p:spPr>
      </p:pic>
      <p:sp>
        <p:nvSpPr>
          <p:cNvPr id="663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BA1A-A351-4ECB-8557-FCA460E6851A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3:07:41Z</dcterms:created>
  <dc:creator>Лилия</dc:creator>
  <dc:description/>
  <dc:language>en-US</dc:language>
  <cp:lastModifiedBy>Учитель</cp:lastModifiedBy>
  <dcterms:modified xsi:type="dcterms:W3CDTF">2019-08-20T06:01:52Z</dcterms:modified>
  <cp:revision>134</cp:revision>
  <dc:subject/>
  <dc:title>Метапредметный подход в образовании</dc:title>
</cp:coreProperties>
</file>