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927-5B54-4CB4-BCD5-95751B6F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1A5-B064-4348-99DE-79EF8170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B27-AA52-47C9-9C7B-7F07DA4F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5B3-8ADC-4E23-B3C2-555054A4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B05D-4899-463F-B981-12E57C76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ADE9-6997-431D-9EB9-14AD6AB3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5D81-F4F6-4759-B577-0A7916DC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2489-6F07-455C-AA53-BCC7FBE7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E138-7963-416F-8BD4-8054AF96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2C85-A820-42D1-8038-0DB3427C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4036-292B-4EC2-89C7-FE26710E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0C5-99FE-4457-8F07-59B8EC89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2DD3-1BAF-42D5-8A7D-D5F41D73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CFBF-6920-4A5D-8124-62A881E1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3A06-6751-4387-A8EC-A750E24C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7BE5-0BFF-4BB5-8C0D-1E501572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8C57-EF7F-4941-8905-6C9B1344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4DCBE-DB8D-4EC1-8174-CDA253FD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AAA58-467C-4AA7-A924-DD54FB63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60D3-EF17-41CF-99B2-0266829A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AF300-0F65-4679-9E9F-96DF6171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6915A-F7BE-4EFA-B79E-C70C4FB0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F68-A2EC-4CC1-9915-2F0D6F99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89E26-9EB7-4830-8D13-5984C901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CF0FB-C63C-4F36-80E0-68FB39D5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31442-CB9D-4AE2-A8F3-718FCCBE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FDA01-8167-46ED-BCF6-ED631D40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2773-14C0-4DD9-BBBE-577751F5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C16C6-AC58-4636-A9BC-00C719E6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4B147-0A47-450A-8F79-C956479A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142B2-C14E-4A19-B657-F2D08EA8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B0040-8732-4DC0-8364-29D335EB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90B55-A27B-4215-A839-AFB8FFB2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EE8-DC45-4961-B6D1-FBDE7C5C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F3E8A-625C-45EE-BE5A-54B6C6C7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F5A15-C69B-44ED-AF7F-4B805737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C61A5-DFC6-4D58-ADB1-9201C102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9F1DF-2E51-440B-8C0A-A053C6C8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C967A-D27A-42C6-BBA4-222C5450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FC5A3-B64E-4199-A8B5-F85EB767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AFD8F-E9E9-4C77-A037-EC10571A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FA4C1-AD58-4315-9640-9E6E45B0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D5F2B-2C81-4350-A89B-4C29764E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A9531-B0C2-485D-A566-AE70D5E1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FBA6-CAA8-4E05-B0C8-4F8672E2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DF994-6E35-4394-9B42-2B2F0097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E573E-DED5-4E85-98B2-6C0368DA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9D309-01B2-4DDB-A62F-69E0F019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55372-C29B-481A-BD31-38D9E5B2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324C5-E48E-4652-B7CA-5A24C848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B75AD-EC04-4161-BF8A-AD5FCEDD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86BF9-7633-44F3-AC29-B4188371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13E8-2533-445F-9A27-4490F294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CB773-84F8-439D-A2A4-18F57B2B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2240F-3B1B-4364-A642-1394857B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B08-C9EB-46DC-8D3A-6CAE9212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1F3A4-3E56-4734-99F1-63445AE7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72A-70CF-4A14-BCB9-46CC8266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E7C-A1A7-4BBA-AE46-FE0B1882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F0B-DE9B-4D6F-B4B5-87062E51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B8F4-63A6-499F-A3AB-3027869B005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52B6-4A07-4306-8868-E530DA4F508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B5B5-0320-429A-9961-7564BD00E74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727A-FF72-4BC8-BA8A-E844EAD9CE6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8A21-68F3-47DB-987C-98205B9FC9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Формирование и оценка личностных, метапредметных и предметных результатов учащихся в процессе обучения географии»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32000" y="549360"/>
            <a:ext cx="6400800" cy="5760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ъезженская средняя общеобразовательная школа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Подзаголовок 2"/>
          <p:cNvSpPr/>
          <p:nvPr/>
        </p:nvSpPr>
        <p:spPr>
          <a:xfrm>
            <a:off x="1979640" y="5229360"/>
            <a:ext cx="6400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одзаголовок 2"/>
          <p:cNvSpPr/>
          <p:nvPr/>
        </p:nvSpPr>
        <p:spPr>
          <a:xfrm>
            <a:off x="4067280" y="4869000"/>
            <a:ext cx="4673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географии: Каблуков Евгений Иванович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квалификационная категор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одзаголовок 2"/>
          <p:cNvSpPr/>
          <p:nvPr/>
        </p:nvSpPr>
        <p:spPr>
          <a:xfrm>
            <a:off x="1692360" y="5950080"/>
            <a:ext cx="6400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Разъезжее, 201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Содержимое 3" descr=""/>
          <p:cNvPicPr/>
          <p:nvPr/>
        </p:nvPicPr>
        <p:blipFill>
          <a:blip r:embed="rId1"/>
          <a:srcRect l="0" t="4493" r="1787" b="78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Формирование любых личност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образований – умений, способносте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остных качеств- возможно лишь 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и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Л.С. Выготск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620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3520" indent="-263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коренное развитие современного общества требует от образовательного пространства формирование чётких целей учитывающих государственные и личностные потребности и интересы всех участников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b0fb5"/>
                </a:solidFill>
                <a:latin typeface="Times New Roman"/>
                <a:ea typeface="Times New Roman"/>
              </a:rPr>
              <a:t>В новом стандарте и примерной программе основной целью  образования подрастающего поколения провозглашено формирование основных видов деятельности ученика и чётко прописаны требования к результатам обучения. В ходе обучения географии выпускников основной школы должны быть сформированы: </a:t>
            </a:r>
            <a:r>
              <a:rPr b="1" lang="ru-RU" sz="2400" spc="-1" strike="noStrike" u="sng">
                <a:solidFill>
                  <a:srgbClr val="0b0fb5"/>
                </a:solidFill>
                <a:uFillTx/>
                <a:latin typeface="Times New Roman"/>
                <a:ea typeface="Times New Roman"/>
              </a:rPr>
              <a:t>личностные, метапредметные и предметные результаты</a:t>
            </a:r>
            <a:r>
              <a:rPr b="1" lang="ru-RU" sz="2400" spc="-1" strike="noStrike">
                <a:solidFill>
                  <a:srgbClr val="0b0fb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игнуть метапредметных результатов на уроках географии возможно с помощью формирования основных видов деятельности учащих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3789360"/>
            <a:ext cx="8353440" cy="283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 сделать учение осмысленным, обеспечивают ученику значимость решения учебных задач, увязывая их с реальными целями и ситуациями. Личностные действия направлены на осознание, исследование и принятие жизненных  ценностей и смыслов, позволяют сориентироваться в нравственных нормах, правилах, оценках, выработать свою жизненную позицию в отношении мира, окружающих людей, самого себя и своего будущего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5689440" cy="6476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остные действ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525600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улятивные действ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4920" y="14130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т возможность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й и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ством постановки целей, планировани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, коррекции своих действий и оцен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шности усвоения. Последовательный перех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управления и саморегуляции в учеб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обеспечивает базу будущ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го образ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овершенств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64087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навательные действ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9640" y="1557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ют действия исследовани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иска и отбора необходим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и, её структурирова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елирования изучаемого содержани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ческого действия и операци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ы решения зада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уникативные действ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640" y="1341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т возможности сотрудничества-ум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ть, слушать и понимать партнёра, планировать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но выполнять совместную деятельность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ять роли, взаимно контролировать действия дру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, уметь договариваться, вести дискуссию, правиль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ть свои мысли в речи, уважать в общении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а партнёра и самого себя. Умения учи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 умение эффективно сотрудничать как с учителем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 со сверстниками, умение и готовность вести диалог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ть решения, оказывать поддержку друг друг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стижения метапредметных результатов на уроках географии через формирование основных видов деятельности учащихся предлагаются возможные варианты заданий по разным курсам географ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выполняются письменно, на уроке и дом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ждому заданию даются пояснения о том, какие УУД оно формиру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7T04:08:16Z</dcterms:created>
  <dc:creator>admin</dc:creator>
  <dc:description/>
  <dc:language>en-US</dc:language>
  <cp:lastModifiedBy>admin</cp:lastModifiedBy>
  <dcterms:modified xsi:type="dcterms:W3CDTF">2018-05-03T03:29:01Z</dcterms:modified>
  <cp:revision>26</cp:revision>
  <dc:subject/>
  <dc:title>«Формирование и оценка личностных, метапредметных и предметных результатов учащихся в процессе обучения географии»</dc:title>
</cp:coreProperties>
</file>