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D7C-A464-4D9F-B8E8-438171D3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C5F-A9C7-414D-93B0-5EA53136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053-1ADA-4A11-A730-19CC78EE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C09-2B16-45EF-9EF2-CB5679F9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8C65-FC5B-4571-AAB4-3DEA1CC3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DF91-0127-4DDA-A2F7-0DA1A83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E24-296A-458D-BA07-D0C51713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4F5F-1DE2-442B-8714-990BC6A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D62-71E3-4860-B494-ADA88654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7BA3-6BEF-452A-8AAE-F9407331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B1F7-1E86-42DF-AE44-C8B1B913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880-EC4F-4BA6-B62A-7354194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E24A-7FAF-4067-8783-1B7769F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6673-AEF6-4C78-ADCA-6CAFB5D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307-40E2-44CA-B0B2-8CE4E4E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288D-4F2D-44A5-AB87-27312542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D950-240E-4F95-AFA0-004BCAAC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EC85-888D-496F-AB22-47E79906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D2BB-D720-4CF0-8FD2-8AA1FDF5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CF25-C582-406D-B659-77515267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6571-8237-44E7-ACC5-FA54455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6FB8-7AC7-4D1E-A481-841E314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A5B-917B-4874-BAA1-F287FF4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C019-68A1-43A6-9E22-2727CD1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3C62-7834-4DB6-A187-7273F9A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0EC3-D28F-40F0-BB03-F599261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336E-A579-4684-8D17-FB19D5F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F3ED-C84F-4824-8E3A-F0C98D7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749F-BA6F-446D-9018-5157D8B6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0780-C965-4E4A-81C2-FDA67128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F610-7EC6-4F6C-B54E-25D04C9B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3350-6819-4185-A290-B49A6A51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EA7F-9199-4AAD-86F9-30798E41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91F-1A21-43E2-8B82-84626AA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7B49-8408-46E7-B1E4-1C5B8808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14E7-0B7C-4527-A7F2-8386B5A2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56DE-5A59-4035-B75C-40CF1B75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7AB8-F0A4-4062-8128-81966A8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EE7B-5C13-4669-8EE5-8825827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4A4F-228B-41B5-850D-64BBD8A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22BF-E155-47C8-81F1-1BF102C3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F0CF-CA37-4677-98A4-7D92F88C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2C41-3593-4614-99C3-DE8EB301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B67E-BB45-42A8-91DE-50D30A68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22A-035D-4314-8A4D-29EA19CF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658B-F423-4BC8-8DAB-E07BC65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F47F-82CE-436F-98E3-8F92F13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5FB1-14BF-4077-BC7A-E7D5EDA3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1D24-0B49-451A-B2E2-70ADD12F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2463-0D28-4DA8-A548-7B89AFB3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B66B-74BF-49FF-B4AC-95ADFA7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A6AA-FCB6-4C5F-8C4C-53BEF42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CCC5-BC03-43F7-8F36-F33E5CB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3F1D-5224-40E3-846C-21DB696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1F57-5845-4B6B-A69F-2D4233D0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48E-E792-4901-9273-72F9989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FA1A-13ED-4F2E-9CDD-4487AD9B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630-233E-4EC9-8C0A-181C4214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2CD-814F-4223-9F06-F1F1624D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6AE-3B14-40AF-8896-BF35D23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265A-33AF-465E-99D1-8D9EE788F71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590B-512E-4AB2-B7BA-5A86E1CD50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0C49-25DD-4481-99D3-FB5A46EE1C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1C73-49A6-4E6B-BED6-F1A2FADB43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494-CC6D-458F-A786-8FDE59D8EB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ормирование и оценка личностных, метапредметных и предметных результатов учащихся в процессе обучения географии»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ъезженская средня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1979640" y="522936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4067280" y="4869000"/>
            <a:ext cx="4673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: Каблуков Евгений Иванови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одзаголовок 2"/>
          <p:cNvSpPr/>
          <p:nvPr/>
        </p:nvSpPr>
        <p:spPr>
          <a:xfrm>
            <a:off x="1692360" y="5950080"/>
            <a:ext cx="6400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Разъезжее, 20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Содержимое 3" descr=""/>
          <p:cNvPicPr/>
          <p:nvPr/>
        </p:nvPicPr>
        <p:blipFill>
          <a:blip r:embed="rId1"/>
          <a:srcRect l="0" t="4493" r="1787" b="7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ормирование любых личност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образований – умений, способносте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ых качеств- возможно лишь 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Л.С. Выготск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620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коренное развитие современного общества требует от образовательного пространства формирование чётких целей учитывающих государственные и личностные потребности и интересы всех участников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b0fb5"/>
                </a:solidFill>
                <a:latin typeface="Times New Roman"/>
                <a:ea typeface="Times New Roman"/>
              </a:rPr>
              <a:t>В новом стандарте и примерной программе основной целью  образования подрастающего поколения провозглашено формирование основных видов деятельности ученика и чётко прописаны требования к результатам обучения. В ходе обучения географии выпускников основной школы должны быть сформированы: </a:t>
            </a:r>
            <a:r>
              <a:rPr b="1" lang="ru-RU" sz="2400" spc="-1" strike="noStrike" u="sng">
                <a:solidFill>
                  <a:srgbClr val="0b0fb5"/>
                </a:solidFill>
                <a:uFillTx/>
                <a:latin typeface="Times New Roman"/>
                <a:ea typeface="Times New Roman"/>
              </a:rPr>
              <a:t>личностные, метапредметные и предметные результаты</a:t>
            </a:r>
            <a:r>
              <a:rPr b="1" lang="ru-RU" sz="2400" spc="-1" strike="noStrike">
                <a:solidFill>
                  <a:srgbClr val="0b0fb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игнуть метапредметных результатов на уроках географии возможно с помощью формирования основных видов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789360"/>
            <a:ext cx="8353440" cy="283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сделать учение осмысленным, обеспечивают ученику значимость решения учебных задач, увязывая их с реальными целями и ситуациями. Личностные действия направлены на осознание, исследование и принятие жизненных  ценностей и смыслов, позволяют сориентироваться в нравственных нормах, правилах, оценках, выработать свою жизненную позицию в отношении мира, окружающих людей, самого себя и своего будущего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5689440" cy="6476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ые действ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52560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улятивные действ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4920" y="14130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возможность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й 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постановки целей, планир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, коррекции своих действий и оцен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шности усвоения. Последовательный пере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правления и саморегуляции в учеб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обеспечивает базу будущ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овершенств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6408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навательные действ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ют действия исслед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иска и отбора необходим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и, её структуриро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елирования изучаемого содерж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ческого действия и операци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ы решения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тивные действ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341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возможности сотрудничества-ум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слушать и понимать партнёра, планироват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но выполнять совместную деятельность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ять роли, взаимно контролировать действия дру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, уметь договариваться, вести дискуссию, правиль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ть свои мысли в речи, уважать в общени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а партнёра и самого себя. Умения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умение эффективно сотрудничать как с учителе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со сверстниками, умение и готовность вести диалог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ть решения, оказывать поддержку друг друг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метапредметных результатов на уроках географии через формирование основных видов деятельности учащихся предлагаются возможные варианты заданий по разным курсам географ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ыполняются письменно, на уроке и до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ждому заданию даются пояснения о том, какие УУД оно формиру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04:08:16Z</dcterms:created>
  <dc:creator>admin</dc:creator>
  <dc:description/>
  <dc:language>en-US</dc:language>
  <cp:lastModifiedBy>admin</cp:lastModifiedBy>
  <dcterms:modified xsi:type="dcterms:W3CDTF">2018-05-03T03:29:01Z</dcterms:modified>
  <cp:revision>26</cp:revision>
  <dc:subject/>
  <dc:title>«Формирование и оценка личностных, метапредметных и предметных результатов учащихся в процессе обучения географии»</dc:title>
</cp:coreProperties>
</file>