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5481-9C96-4796-902F-191A76D4C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B070-5C11-443F-B6AF-E00DF0954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EC9B-0AB7-4651-BDBF-497CEA46B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8BAB-0DE1-4A99-8668-7A6907DD5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62C3-5782-4078-823A-5CADAD4DC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7F468-92B6-443A-BF30-8E7E09A4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5849F-ED95-4309-9496-1C1B0F96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0518-1196-4AFA-990C-2BF56848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1AF0-769B-428D-9566-F74FDAFD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D2A3-DF6C-4E8B-9C8A-8904732D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6D206-0CC8-437A-AA8B-AA03D1CA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212B-0432-4374-8C05-FE2F3144A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2F267-2258-4242-B7D3-4CD4F41AB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D247B-A30F-4093-8F5F-A27C2468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FA2B-E304-4A01-B745-0CFF4C20B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B76A1-0F4A-42BF-9648-10712F25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D0F94-2CBB-425F-A17B-FFE16FD74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F431-9AE7-4D6D-8094-60B8F6E9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82AA-1CCA-4F68-A33A-E18FCDCA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F459-B320-4DA5-AD3F-28FF30E4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8D97-C36F-49F8-A8FC-9A3300B02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7EAD-C0E7-4BAA-99CB-C77CE20E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1640-6ABB-4C2A-913C-17947BEB5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3830-1371-4DFD-B6CB-60447B07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2DAD-5064-46D5-83BA-4EEFBB50FC3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9117-6985-4B85-861C-3E682478810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13.nnm.ru/b/a/5/2/b/dfc371e059ee002401dc50028f6_prev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xrest.ru/images/collection/00089/520/preview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fotoplex.ru/photos/vera-batova/suvenir/i-242093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900igr.net/datas/tekhnologija/Ornamenty/0028-028-Bordjury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g1.liveinternet.ru/images/attach/c/1/62/717/62717531_1281811158_gr25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ree-lancers.net/posted_files/ND8D2E1160454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shtrih-33.ucoz.ru/vtburok/g11.jpg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stat19.privet.ru/lr/0b15e2aaa02ab5e3f5aa96c5ac433309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a22002.rimg.info/icon/1986546000b0477b17c25b76445323108b7aea6fbb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s41.radikal.ru/i094/1011/0a/ce22b578f178.jpg" TargetMode="External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s014.radikal.ru/i327/1011/ea/82fef0de3348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g.ashkimsin.ru/forums/monthly_04_2010/user2076/post53911_img1_2.jpg" TargetMode="External"/><Relationship Id="rId4" Type="http://schemas.openxmlformats.org/officeDocument/2006/relationships/image" Target="../media/image12.jpeg"/><Relationship Id="rId5" Type="http://schemas.openxmlformats.org/officeDocument/2006/relationships/hyperlink" Target="http://demiart.ru/forum/uploads1/post-54041-1208275985.jpg" TargetMode="External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5246640"/>
            <a:ext cx="7772400" cy="12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ацкова Ольга Александровн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- воспитатель МБДОУ   д/с комбинированного вида                 №1  «Дружные ребят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Картинка 90 из 22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3059280" y="907920"/>
            <a:ext cx="503856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ГОРОДЕЦКАЯ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WordArt 7"/>
          <p:cNvSpPr txBox="1"/>
          <p:nvPr/>
        </p:nvSpPr>
        <p:spPr>
          <a:xfrm>
            <a:off x="2195640" y="2133720"/>
            <a:ext cx="446400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ОСПИСЬ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835280" y="3789000"/>
            <a:ext cx="6635520" cy="225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ородецкая роспис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 дереву –знамени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ый народный промысел  Нижегородского кра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7" descr="Картинка 1 из 22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71640" y="108000"/>
            <a:ext cx="32752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В народе говорили : </a:t>
            </a:r>
            <a:br>
              <a:rPr sz="4000"/>
            </a:b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«Лес заволжанина кормит»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03280" y="2923920"/>
            <a:ext cx="55450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еса давали дешевый и разнообразный материал, из которого делали все: детские игрушки, колыбели, прял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Картинка 293 из 22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0" y="2349360"/>
            <a:ext cx="285768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Симметричная композиция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Букет» - изображается симметрично. Пишется на разделочных досках, блюдах. «Гирлянда» - представляет собой один или два крупных цветка в центре и расходящиеся в стороны более мелкие цветы с листьями. Они могут вписываться в круг, полосу, располагаться серповидно (на угловых заставках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9" descr="Картинка 384 из 22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58920" y="4125960"/>
            <a:ext cx="3816360" cy="2636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Картинка 47 из 2219">
            <a:hlinkClick r:id="rId3"/>
          </p:cNvPr>
          <p:cNvPicPr/>
          <p:nvPr/>
        </p:nvPicPr>
        <p:blipFill>
          <a:blip r:embed="rId4">
            <a:lum contrast="24000"/>
          </a:blip>
          <a:stretch/>
        </p:blipFill>
        <p:spPr>
          <a:xfrm>
            <a:off x="5987880" y="4292640"/>
            <a:ext cx="2241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Сюжетно - бытовые картины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980720"/>
            <a:ext cx="574524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одецкие мастера изображали сцены свиданий и гуляний, посиделки и застолья, праздничные выезды, проводы, и многое друг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9" descr="Картинка 49 из 22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3894120"/>
            <a:ext cx="4032360" cy="28130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3" descr="Картинка 57 из 2220">
            <a:hlinkClick r:id="rId3"/>
          </p:cNvPr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6659640" y="3446640"/>
            <a:ext cx="235728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14240" y="277920"/>
            <a:ext cx="797256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Кухонная утварь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16" name="Picture 7" descr="Картинка 13 из 22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3645000"/>
            <a:ext cx="3809880" cy="3000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1" descr="Картинка 93 из 2220">
            <a:hlinkClick r:id="rId3"/>
          </p:cNvPr>
          <p:cNvPicPr/>
          <p:nvPr/>
        </p:nvPicPr>
        <p:blipFill>
          <a:blip r:embed="rId4"/>
          <a:srcRect l="0" t="0" r="0" b="5959"/>
          <a:stretch/>
        </p:blipFill>
        <p:spPr>
          <a:xfrm>
            <a:off x="0" y="1724040"/>
            <a:ext cx="4500720" cy="3217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Картинка 171 из 2220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6697800" y="277920"/>
            <a:ext cx="1989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677960" y="476280"/>
            <a:ext cx="578808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    </a:t>
            </a: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Мебель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0" name="Picture 7" descr="Картинка 114 из 22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19280" y="3643200"/>
            <a:ext cx="3691080" cy="2714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Картинка 200 из 2220">
            <a:hlinkClick r:id="rId3"/>
          </p:cNvPr>
          <p:cNvPicPr/>
          <p:nvPr/>
        </p:nvPicPr>
        <p:blipFill>
          <a:blip r:embed="rId4"/>
          <a:srcRect l="22043" t="0" r="11881" b="0"/>
          <a:stretch/>
        </p:blipFill>
        <p:spPr>
          <a:xfrm>
            <a:off x="6588000" y="1357200"/>
            <a:ext cx="2160720" cy="4572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1" descr="Картинка 398 из 221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-22320" y="1484280"/>
            <a:ext cx="229896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040" y="277560"/>
            <a:ext cx="4157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      </a:t>
            </a:r>
            <a:r>
              <a:rPr b="1" lang="ru-RU" sz="4000" spc="-1" strike="noStrike">
                <a:solidFill>
                  <a:srgbClr val="330033"/>
                </a:solidFill>
                <a:latin typeface="Times New Roman"/>
              </a:rPr>
              <a:t>Игрушки</a:t>
            </a:r>
            <a:endParaRPr b="0" lang="en-US" sz="40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24" name="Picture 7" descr="Картинка 38 из 2218"/>
          <p:cNvPicPr/>
          <p:nvPr/>
        </p:nvPicPr>
        <p:blipFill>
          <a:blip r:embed="rId1"/>
          <a:stretch/>
        </p:blipFill>
        <p:spPr>
          <a:xfrm>
            <a:off x="914400" y="3933720"/>
            <a:ext cx="3384720" cy="25336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8_Matreshka_4"/>
          <p:cNvPicPr/>
          <p:nvPr/>
        </p:nvPicPr>
        <p:blipFill>
          <a:blip r:embed="rId2"/>
          <a:stretch/>
        </p:blipFill>
        <p:spPr>
          <a:xfrm>
            <a:off x="4896000" y="1324080"/>
            <a:ext cx="3333600" cy="2104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Картинка 302 из 2220"/>
          <p:cNvPicPr/>
          <p:nvPr/>
        </p:nvPicPr>
        <p:blipFill>
          <a:blip r:embed="rId3"/>
          <a:srcRect l="0" t="-1759" r="0" b="0"/>
          <a:stretch/>
        </p:blipFill>
        <p:spPr>
          <a:xfrm>
            <a:off x="5148360" y="4046400"/>
            <a:ext cx="2520720" cy="2308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Картинка 402 из 2217"/>
          <p:cNvPicPr/>
          <p:nvPr/>
        </p:nvPicPr>
        <p:blipFill>
          <a:blip r:embed="rId4"/>
          <a:stretch/>
        </p:blipFill>
        <p:spPr>
          <a:xfrm>
            <a:off x="1077840" y="1324080"/>
            <a:ext cx="2346480" cy="23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9T07:35:43Z</dcterms:created>
  <dc:creator>Ирина</dc:creator>
  <dc:description/>
  <dc:language>en-US</dc:language>
  <cp:lastModifiedBy>user</cp:lastModifiedBy>
  <dcterms:modified xsi:type="dcterms:W3CDTF">2019-02-04T04:53:20Z</dcterms:modified>
  <cp:revision>62</cp:revision>
  <dc:subject/>
  <dc:title>Слайд 1</dc:title>
</cp:coreProperties>
</file>