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FF-F49C-4933-9B84-8BADBA8F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83B-0A54-4B40-A7D8-A30953F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EE4-929D-4442-B569-88652F89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010-AC85-47C3-B247-89C20C04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3EC-D688-4B18-97AA-AD68A33C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C45-986B-4944-892A-4BE80C6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F43-77F8-4B10-8188-9DA972F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E45A-4122-4F0B-8089-2140B86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607-6F73-4ABD-A993-05BB8BFF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72D-3DD4-4F89-B5CF-4ADE7647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C6A9-0540-4E85-B4E4-A9710E1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90E-74F6-43A9-A182-ADC6F72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1600-D9D8-465A-B182-FFBA07C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62C-F3DF-479D-A879-69A955D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F8A-C644-4F60-8FDD-2053473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087-7A21-49E8-9B79-0840788F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10F3-BE4A-411D-8D6A-6BB9CB32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63E-4058-4682-9B6E-1896B4D5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5C3-022A-4B5B-85DC-B74E011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283-3CAE-4D64-9330-58F84A8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483-9A19-4B73-8946-1920A7A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935-E12C-466E-9B52-26C53F1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BC9-EF65-4C84-811F-ACCAA44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857-4CC1-4098-86FC-2DFBD50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1AF-DCF7-4D68-8357-306C8CBB47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C734-34BB-41BB-8AED-23CF1A2F7F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3.nnm.ru/b/a/5/2/b/dfc371e059ee002401dc50028f6_prev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089/520/previe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toplex.ru/photos/vera-batova/suvenir/i-24209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Ornamenty/0028-028-Bordjury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1.liveinternet.ru/images/attach/c/1/62/717/62717531_1281811158_gr25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-lancers.net/posted_files/ND8D2E116045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htrih-33.ucoz.ru/vtburok/g1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19.privet.ru/lr/0b15e2aaa02ab5e3f5aa96c5ac433309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a22002.rimg.info/icon/1986546000b0477b17c25b76445323108b7aea6fbb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s41.radikal.ru/i094/1011/0a/ce22b578f178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014.radikal.ru/i327/1011/ea/82fef0de3348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.ashkimsin.ru/forums/monthly_04_2010/user2076/post53911_img1_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demiart.ru/forum/uploads1/post-54041-1208275985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2466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ацкова Ольга Александров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оспитатель МБДОУ   д/с комбинированного вида                 №1  «Дружные ребя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Картинка 90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3059280" y="907920"/>
            <a:ext cx="503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ЕЦКА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195640" y="213372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ПИС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835280" y="3789000"/>
            <a:ext cx="663552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кая рос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реву –знаме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й народный промысел  Нижегородского кр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Картинка 1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8000"/>
            <a:ext cx="32752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В народе говорили :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«Лес заволжанина кормит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2923920"/>
            <a:ext cx="5545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а давали дешевый и разнообразный материал, из которого делали все: детские игрушки, колыбели, пря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293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234936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имметричная композиц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укет» - изображается симметрично. Пишется на разделочных досках, блюдах. «Гирлянда» - представляет собой один или два крупных цветка в центре и расходящиеся в стороны более мелкие цветы с листьями. Они могут вписываться в круг, полосу, располагаться серповидно (на угловых заставк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Картинка 384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125960"/>
            <a:ext cx="3816360" cy="263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Картинка 47 из 2219">
            <a:hlinkClick r:id="rId3"/>
          </p:cNvPr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5987880" y="4292640"/>
            <a:ext cx="2241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южетно - бытовые картин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5745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ецкие мастера изображали сцены свиданий и гуляний, посиделки и застолья, праздничные выезды, проводы,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Картинка 49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894120"/>
            <a:ext cx="4032360" cy="281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7 из 2220">
            <a:hlinkClick r:id="rId3"/>
          </p:cNvPr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659640" y="344664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4240" y="277920"/>
            <a:ext cx="797256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ухонная утвар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7" descr="Картинка 13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Картинка 93 из 2220">
            <a:hlinkClick r:id="rId3"/>
          </p:cNvPr>
          <p:cNvPicPr/>
          <p:nvPr/>
        </p:nvPicPr>
        <p:blipFill>
          <a:blip r:embed="rId4"/>
          <a:srcRect l="0" t="0" r="0" b="5959"/>
          <a:stretch/>
        </p:blipFill>
        <p:spPr>
          <a:xfrm>
            <a:off x="0" y="1724040"/>
            <a:ext cx="4500720" cy="321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Картинка 171 из 2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97800" y="277920"/>
            <a:ext cx="198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7960" y="476280"/>
            <a:ext cx="57880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Мебел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7" descr="Картинка 114 из 2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9280" y="3643200"/>
            <a:ext cx="369108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200 из 2220">
            <a:hlinkClick r:id="rId3"/>
          </p:cNvPr>
          <p:cNvPicPr/>
          <p:nvPr/>
        </p:nvPicPr>
        <p:blipFill>
          <a:blip r:embed="rId4"/>
          <a:srcRect l="22043" t="0" r="11881" b="0"/>
          <a:stretch/>
        </p:blipFill>
        <p:spPr>
          <a:xfrm>
            <a:off x="6588000" y="1357200"/>
            <a:ext cx="216072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Картинка 398 из 22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22320" y="1484280"/>
            <a:ext cx="2298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41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7" descr="Картинка 38 из 2218"/>
          <p:cNvPicPr/>
          <p:nvPr/>
        </p:nvPicPr>
        <p:blipFill>
          <a:blip r:embed="rId1"/>
          <a:stretch/>
        </p:blipFill>
        <p:spPr>
          <a:xfrm>
            <a:off x="914400" y="39337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8_Matreshka_4"/>
          <p:cNvPicPr/>
          <p:nvPr/>
        </p:nvPicPr>
        <p:blipFill>
          <a:blip r:embed="rId2"/>
          <a:stretch/>
        </p:blipFill>
        <p:spPr>
          <a:xfrm>
            <a:off x="4896000" y="1324080"/>
            <a:ext cx="3333600" cy="21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артинка 302 из 2220"/>
          <p:cNvPicPr/>
          <p:nvPr/>
        </p:nvPicPr>
        <p:blipFill>
          <a:blip r:embed="rId3"/>
          <a:srcRect l="0" t="-1759" r="0" b="0"/>
          <a:stretch/>
        </p:blipFill>
        <p:spPr>
          <a:xfrm>
            <a:off x="5148360" y="4046400"/>
            <a:ext cx="2520720" cy="230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Картинка 402 из 2217"/>
          <p:cNvPicPr/>
          <p:nvPr/>
        </p:nvPicPr>
        <p:blipFill>
          <a:blip r:embed="rId4"/>
          <a:stretch/>
        </p:blipFill>
        <p:spPr>
          <a:xfrm>
            <a:off x="1077840" y="1324080"/>
            <a:ext cx="2346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7:35:43Z</dcterms:created>
  <dc:creator>Ирина</dc:creator>
  <dc:description/>
  <dc:language>en-US</dc:language>
  <cp:lastModifiedBy>user</cp:lastModifiedBy>
  <dcterms:modified xsi:type="dcterms:W3CDTF">2019-02-04T04:53:20Z</dcterms:modified>
  <cp:revision>62</cp:revision>
  <dc:subject/>
  <dc:title>Слайд 1</dc:title>
</cp:coreProperties>
</file>