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09A-183A-4A3C-89AE-C23E155C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4CF-B763-4AE7-88C5-62E0ADE4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236-943A-494D-93EB-6AED4764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22C-3A9D-461A-9030-586F8384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90CA-F7CD-42AA-9168-5A0928DB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B7E1-0081-4D6E-BD90-C267DEBF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F97-5C20-4208-A058-58E65F72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F168-55FA-40F1-90B0-13E2836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BAAE-9865-4063-A563-ABF32244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162-7C30-4CB0-9A29-CAD00892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860-4665-4166-A3F9-4DEAC0E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BD7-AF48-4CC7-9A30-86BE6FE8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D0B9-C46F-4AF5-BB18-B4E317D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AA03-B683-4E2D-B564-BD0287F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01E-52FB-4DB3-B444-33F2BC3B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6F2B-DDF5-4641-B34D-29D335D4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F7E2-6189-4808-8BE7-652D96F3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0C8-6AEA-4553-9165-219A109C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F47-57CB-4D48-AF38-4950AFE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254-85DD-4CD0-89A2-CF89D66D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DDD-BDA4-4991-9283-F71E1633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B16-C286-4A86-9659-8E13101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8FA-8FAB-4CBC-8DC1-1E68AB1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968-470A-45D8-A929-75D7F9B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5DB5-BEFB-42B5-A684-1F81A17E91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F24-9240-4B19-98E0-E1DEABB399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3.nnm.ru/b/a/5/2/b/dfc371e059ee002401dc50028f6_prev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089/520/previe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toplex.ru/photos/vera-batova/suvenir/i-24209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Ornamenty/0028-028-Bordjury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g1.liveinternet.ru/images/attach/c/1/62/717/62717531_1281811158_gr25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-lancers.net/posted_files/ND8D2E116045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htrih-33.ucoz.ru/vtburok/g11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19.privet.ru/lr/0b15e2aaa02ab5e3f5aa96c5ac433309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a22002.rimg.info/icon/1986546000b0477b17c25b76445323108b7aea6fbb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s41.radikal.ru/i094/1011/0a/ce22b578f178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014.radikal.ru/i327/1011/ea/82fef0de3348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.ashkimsin.ru/forums/monthly_04_2010/user2076/post53911_img1_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demiart.ru/forum/uploads1/post-54041-1208275985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2466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ацкова Ольга Александров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оспитатель МБДОУ   д/с комбинированного вида                 №1  «Дружные ребя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Картинка 90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3059280" y="907920"/>
            <a:ext cx="503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ОДЕЦКА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195640" y="213372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ПИС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835280" y="3789000"/>
            <a:ext cx="663552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кая рос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реву –знамен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й народный промысел  Нижегородского кр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Картинка 1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8000"/>
            <a:ext cx="32752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В народе говорили :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«Лес заволжанина кормит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2923920"/>
            <a:ext cx="5545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а давали дешевый и разнообразный материал, из которого делали все: детские игрушки, колыбели, прял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293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234936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имметричная композиц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укет» - изображается симметрично. Пишется на разделочных досках, блюдах. «Гирлянда» - представляет собой один или два крупных цветка в центре и расходящиеся в стороны более мелкие цветы с листьями. Они могут вписываться в круг, полосу, располагаться серповидно (на угловых заставк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Картинка 384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125960"/>
            <a:ext cx="3816360" cy="263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Картинка 47 из 2219">
            <a:hlinkClick r:id="rId3"/>
          </p:cNvPr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5987880" y="4292640"/>
            <a:ext cx="2241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южетно - бытовые картин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5745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ецкие мастера изображали сцены свиданий и гуляний, посиделки и застолья, праздничные выезды, проводы,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Картинка 49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894120"/>
            <a:ext cx="4032360" cy="281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57 из 2220">
            <a:hlinkClick r:id="rId3"/>
          </p:cNvPr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6659640" y="3446640"/>
            <a:ext cx="2357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4240" y="277920"/>
            <a:ext cx="797256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Кухонная утвар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7" descr="Картинка 13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Картинка 93 из 2220">
            <a:hlinkClick r:id="rId3"/>
          </p:cNvPr>
          <p:cNvPicPr/>
          <p:nvPr/>
        </p:nvPicPr>
        <p:blipFill>
          <a:blip r:embed="rId4"/>
          <a:srcRect l="0" t="0" r="0" b="5959"/>
          <a:stretch/>
        </p:blipFill>
        <p:spPr>
          <a:xfrm>
            <a:off x="0" y="1724040"/>
            <a:ext cx="4500720" cy="321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Картинка 171 из 2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97800" y="277920"/>
            <a:ext cx="198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7960" y="476280"/>
            <a:ext cx="57880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Мебел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7" descr="Картинка 114 из 2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9280" y="3643200"/>
            <a:ext cx="369108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200 из 2220">
            <a:hlinkClick r:id="rId3"/>
          </p:cNvPr>
          <p:cNvPicPr/>
          <p:nvPr/>
        </p:nvPicPr>
        <p:blipFill>
          <a:blip r:embed="rId4"/>
          <a:srcRect l="22043" t="0" r="11881" b="0"/>
          <a:stretch/>
        </p:blipFill>
        <p:spPr>
          <a:xfrm>
            <a:off x="6588000" y="1357200"/>
            <a:ext cx="216072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Картинка 398 из 22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22320" y="1484280"/>
            <a:ext cx="2298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41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7" descr="Картинка 38 из 2218"/>
          <p:cNvPicPr/>
          <p:nvPr/>
        </p:nvPicPr>
        <p:blipFill>
          <a:blip r:embed="rId1"/>
          <a:stretch/>
        </p:blipFill>
        <p:spPr>
          <a:xfrm>
            <a:off x="914400" y="39337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8_Matreshka_4"/>
          <p:cNvPicPr/>
          <p:nvPr/>
        </p:nvPicPr>
        <p:blipFill>
          <a:blip r:embed="rId2"/>
          <a:stretch/>
        </p:blipFill>
        <p:spPr>
          <a:xfrm>
            <a:off x="4896000" y="1324080"/>
            <a:ext cx="3333600" cy="21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артинка 302 из 2220"/>
          <p:cNvPicPr/>
          <p:nvPr/>
        </p:nvPicPr>
        <p:blipFill>
          <a:blip r:embed="rId3"/>
          <a:srcRect l="0" t="-1759" r="0" b="0"/>
          <a:stretch/>
        </p:blipFill>
        <p:spPr>
          <a:xfrm>
            <a:off x="5148360" y="4046400"/>
            <a:ext cx="2520720" cy="2308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Картинка 402 из 2217"/>
          <p:cNvPicPr/>
          <p:nvPr/>
        </p:nvPicPr>
        <p:blipFill>
          <a:blip r:embed="rId4"/>
          <a:stretch/>
        </p:blipFill>
        <p:spPr>
          <a:xfrm>
            <a:off x="1077840" y="1324080"/>
            <a:ext cx="23464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7:35:43Z</dcterms:created>
  <dc:creator>Ирина</dc:creator>
  <dc:description/>
  <dc:language>en-US</dc:language>
  <cp:lastModifiedBy>user</cp:lastModifiedBy>
  <dcterms:modified xsi:type="dcterms:W3CDTF">2019-02-04T04:53:20Z</dcterms:modified>
  <cp:revision>62</cp:revision>
  <dc:subject/>
  <dc:title>Слайд 1</dc:title>
</cp:coreProperties>
</file>