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6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03D-4646-4851-B699-D9CCBB38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FEF-9C46-444A-ACAE-67D6C531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1D6-D6C4-40A8-AC4A-B1C4C2AE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B5CD-990B-47FA-92D0-D399A05F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4CF5-B1ED-4F66-9B51-48E3CEEB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8D8C-3C25-48D6-AD58-9A654728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72F-670C-4C52-BFD6-BB110641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AF9F-D214-400C-AAF9-AB8BF483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D7C0-B71E-4230-8BB4-92BA8021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B9A3-F4A7-4674-8CFD-A17918FD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928F-8543-4B50-804D-65DF26D0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9A62-2B81-46C8-A476-615CCFF1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1F4A-6988-4CE8-BD39-25783DFED2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468360" y="404640"/>
            <a:ext cx="2448000" cy="324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50920" y="4076640"/>
            <a:ext cx="57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Лев Николаевич                                               Толст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0920" y="6515280"/>
            <a:ext cx="66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258920" y="378936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0" y="42102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1851 году поступил на военную службу на Кавказе. В 1854 году Толстой участвовал в обороне Севастополя. Награждается орденом св. Анны с надписью «За храбрость» и медалями «За защиту Севастополя». В «Севастопольских рассказах» нарисует беспощадно достоверную картину войны, что произведет огромное впечатление на русское общ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82888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2938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458136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это же время всерьез начинает заниматься литературным творчеством, пишет повесть «Детство», которая получает одобрение Некрасова и печатается в журнале «Современник». Позже там будут напечатаны повести «Отрочество» и «Ю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 rot="20944800">
            <a:off x="395280" y="549000"/>
            <a:ext cx="2333520" cy="3671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 rot="772800">
            <a:off x="6372360" y="549000"/>
            <a:ext cx="2288880" cy="360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3"/>
          <a:stretch/>
        </p:blipFill>
        <p:spPr>
          <a:xfrm>
            <a:off x="3276720" y="476280"/>
            <a:ext cx="2474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95280" y="436572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сенью 1856 году вышел в отставку («Военная карьера – не моя…», – пишет он в дневнике) и возвращается в Ясную Поляну. Он изучает педагогику и в 1859 г. Открывает в Ясной Поляне школу для крестьянских детей, затем помогает открыть ещё более 20 школ в окрестных деревн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3995640" y="333360"/>
            <a:ext cx="4867200" cy="3817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286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яснополянской школе дети сидели, кто где хотел, кто сколько хотел и кто как хотел. Определённой программы преподавания не было. Единственная задача учителя заключалась в том, чтобы заинтересовать класс. Занятия шли успешно. Их вёл сам Толстой при помощи нескольких постоянных учителей. Он же сам пишет «Азбуку» для обучения детей чт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2308320" cy="3384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3348000" y="333360"/>
            <a:ext cx="2303640" cy="331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6156360" y="333360"/>
            <a:ext cx="24289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3348000" y="3844800"/>
            <a:ext cx="579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1862 году жизнь Толстого, его быт упорядочиваются на долгие годы: он женится на дочери московского врача Софье Андреевне Берс и ведет патриархальную жизнь в своем имении как глава все увеличивающейся семьи. Толстые воспитали девятеры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3114720" cy="4248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481120" cy="3721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1332000" y="189000"/>
            <a:ext cx="4678200" cy="2897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3780000" y="27082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кругу сем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6516720" y="26028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 внучкой Та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79280" y="616572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  Софьей Андреевной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50920" y="494172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860 – 70-е годы были отмечены появлением в свет двух произведений Толстого, которые обессмертили его имя: «Война и мир» (1863 – 1869 гг.), «Анна Каренина» (1873 – 1877 гг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6516720" y="260280"/>
            <a:ext cx="2228760" cy="345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241720" cy="345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3"/>
          <a:stretch/>
        </p:blipFill>
        <p:spPr>
          <a:xfrm>
            <a:off x="2916360" y="260280"/>
            <a:ext cx="33462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332240" cy="3024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24000" y="53737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"/>
          <p:cNvPicPr/>
          <p:nvPr/>
        </p:nvPicPr>
        <p:blipFill>
          <a:blip r:embed="rId2"/>
          <a:stretch/>
        </p:blipFill>
        <p:spPr>
          <a:xfrm>
            <a:off x="3924360" y="1125360"/>
            <a:ext cx="4925880" cy="3311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"/>
          <p:cNvSpPr/>
          <p:nvPr/>
        </p:nvSpPr>
        <p:spPr>
          <a:xfrm>
            <a:off x="0" y="4575240"/>
            <a:ext cx="93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о вскоре, Лев Николаевич утратил всякий интерес к жизни, ему надоело наслаждаться достигнутым благосостоянием. Он старается быть ближе к народу: занимается физическим трудом, пашет, шьет сапоги, переходит на вегетарианскую пищу. Он  отдаёт семье всё своё состояние, отказывается от прав литературной соб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0" y="5013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0 ноября 1910 года Толстой тайно покинул Ясную Поляну, но по дороге сильно заболел. 20 ноября 1910 года на станции Астапово Рязано-Уральской железной дороги (ныне станция Лев Толстой) Лев Николаевич у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457520" cy="3343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4284720" y="1484280"/>
            <a:ext cx="4680000" cy="35132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5003640" y="33336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Музей на станции     Астап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337440" cy="4213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79280" y="479736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0 (23) ноября 1910 года был похоронен в Ясной Поляне, на краю оврага в лесу, где в детстве он вместе с братом искал «зелёную палочку», хранившую секрет, как сделать всех людей счастлив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332000" y="333360"/>
            <a:ext cx="6335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узей в Ясной поляне.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1476360" y="1052640"/>
            <a:ext cx="5958000" cy="4464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395280" y="5445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узей основан в 1921г .                                                Привычный Толстому облик усадьбы, во многом сохранился до наших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pptcloud3.ams3.digitaloceanspaces.com/slides/pics/001/138/670/original/Slide2.jpg?1480233740"/>
          <p:cNvPicPr/>
          <p:nvPr/>
        </p:nvPicPr>
        <p:blipFill>
          <a:blip r:embed="rId1"/>
          <a:stretch/>
        </p:blipFill>
        <p:spPr>
          <a:xfrm>
            <a:off x="611280" y="404640"/>
            <a:ext cx="81612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464000" cy="3549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4140360" y="3105000"/>
            <a:ext cx="5003640" cy="3753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4140360" y="6237360"/>
            <a:ext cx="5003640" cy="620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ната под сводами, где были созд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ие главы «Войны и мир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0920" y="3213000"/>
            <a:ext cx="3889440" cy="549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ьменный стол пис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932360" y="620640"/>
            <a:ext cx="39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этом доме Л.Толстой  прожил более 50 лет и написал большинство своих произве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"/>
          <p:cNvPicPr/>
          <p:nvPr/>
        </p:nvPicPr>
        <p:blipFill>
          <a:blip r:embed="rId3"/>
          <a:stretch/>
        </p:blipFill>
        <p:spPr>
          <a:xfrm>
            <a:off x="900000" y="4221000"/>
            <a:ext cx="230364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7"/>
          <p:cNvGrpSpPr/>
          <p:nvPr/>
        </p:nvGrpSpPr>
        <p:grpSpPr>
          <a:xfrm>
            <a:off x="0" y="0"/>
            <a:ext cx="5003640" cy="3316320"/>
            <a:chOff x="0" y="0"/>
            <a:chExt cx="5003640" cy="3316320"/>
          </a:xfrm>
        </p:grpSpPr>
        <p:pic>
          <p:nvPicPr>
            <p:cNvPr id="108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003640" cy="33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5"/>
            <p:cNvSpPr/>
            <p:nvPr/>
          </p:nvSpPr>
          <p:spPr>
            <a:xfrm>
              <a:off x="179280" y="2924280"/>
              <a:ext cx="4681800" cy="360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омната С.А. Толстой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0" y="3422520"/>
            <a:ext cx="5003640" cy="34354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971640" y="6524640"/>
            <a:ext cx="2663640" cy="3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ти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3"/>
          <a:stretch/>
        </p:blipFill>
        <p:spPr>
          <a:xfrm>
            <a:off x="4788000" y="1484280"/>
            <a:ext cx="4356000" cy="29145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0"/>
          <p:cNvSpPr/>
          <p:nvPr/>
        </p:nvSpPr>
        <p:spPr>
          <a:xfrm>
            <a:off x="4788000" y="4365720"/>
            <a:ext cx="4356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имая скамья Толс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ttps://pptcloud3.ams3.digitaloceanspaces.com/slides/pics/001/138/681/original/Slide13.jpg?1480233743"/>
          <p:cNvPicPr/>
          <p:nvPr/>
        </p:nvPicPr>
        <p:blipFill>
          <a:blip r:embed="rId1"/>
          <a:stretch/>
        </p:blipFill>
        <p:spPr>
          <a:xfrm>
            <a:off x="395280" y="243000"/>
            <a:ext cx="849780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s://pptcloud3.ams3.digitaloceanspaces.com/slides/pics/001/138/682/original/Slide14.jpg?1480233743"/>
          <p:cNvPicPr/>
          <p:nvPr/>
        </p:nvPicPr>
        <p:blipFill>
          <a:blip r:embed="rId1"/>
          <a:stretch/>
        </p:blipFill>
        <p:spPr>
          <a:xfrm>
            <a:off x="539640" y="333360"/>
            <a:ext cx="8336160" cy="62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pptcloud3.ams3.digitaloceanspaces.com/slides/pics/001/138/671/original/Slide3.jpg?1480233740"/>
          <p:cNvPicPr/>
          <p:nvPr/>
        </p:nvPicPr>
        <p:blipFill>
          <a:blip r:embed="rId1"/>
          <a:stretch/>
        </p:blipFill>
        <p:spPr>
          <a:xfrm>
            <a:off x="533520" y="333360"/>
            <a:ext cx="81421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4572000" y="4041720"/>
            <a:ext cx="4211640" cy="2631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4067280" y="189000"/>
            <a:ext cx="507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Толстой Лев Николаевич (1828 – 1910), прозаик, драматург, публицист. Родился 9 сентября (по старому стилю 28 августа) в имении Ясная Поляна Тульской губернии. По происхождению принадлежал к древнейшим аристократическим фамилиям России. Получил домашнее образование и воспи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743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5327640" cy="3808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6156360" y="404640"/>
            <a:ext cx="266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Л.Н. Толс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с брать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50920" y="465300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Был четвёртым ребёнком в семье; у него было три старших брата: Николай (1823—1860), Сергей (1826—1904) и Дмитрий (1827—1856). В 1830 году родилась сестра Мария . Его мать умерла с рождением последней дочери, когда ему не было ещё 2-х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5111640" cy="3475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79280" y="3645000"/>
            <a:ext cx="856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оспитанием осиротевших детей занялась дальняя родственница Т. Ергольская. В 1837 году семья переехала в Москву, поселившись на Плющихе, потому что старшему сыну надо было готовиться к поступлению в университет. Но вскоре внезапно умер отец, и трое младших детей снова поселились в Ясной Поляне под наблюдением Ергольской и тётки по отцу графини А.М. Остен-Сак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732720" y="476280"/>
            <a:ext cx="208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Р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Л.Н.Толс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50920" y="479736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ервоначальное образование он получил дома, как принято было тогда в дворянских семьях. Затем Лев Николаевич переехал в Казань вместе с братьями и сестрой.  Живя в Казани Толстой 2,5 года готовился к поступлению в университет, в 17 лет он поступает туда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56484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79280" y="4940280"/>
            <a:ext cx="849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Лев Николаевич уже в то время знал 16 языков, много читал и изучал философию, но, несмотря на это, в 19 лет он покидает университет и уезжает в Ясную Поляну - имение, доставшееся ему по наслед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1930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79280" y="50133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десь в Ясной Поляне Толстой пытается найти применение своим силам, берется за изучение многих наук, серьезно занимается музы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2544840" cy="4535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3492360" y="333360"/>
            <a:ext cx="5112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7:41:15Z</dcterms:created>
  <dc:creator>ALLA</dc:creator>
  <dc:description/>
  <dc:language>en-US</dc:language>
  <cp:lastModifiedBy>Dima</cp:lastModifiedBy>
  <dcterms:modified xsi:type="dcterms:W3CDTF">2018-11-13T15:11:49Z</dcterms:modified>
  <cp:revision>22</cp:revision>
  <dc:subject/>
  <dc:title>Слайд 1</dc:title>
</cp:coreProperties>
</file>