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76A-F59A-43F9-B646-0C13195A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C26-9E02-4A2F-8C32-A38CB544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843-5D94-4F9B-BB31-09BD58C6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B3A-68B6-4BF8-AE3A-0257CF15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44F9-6628-4790-BF3E-4BBB1049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DE91-CCC1-47D3-892C-3EE7CF84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3575-D94B-4211-9F8D-243E952D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5BBB-5B12-45B9-8CE9-A48C522E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6E5D-B93A-4D1B-8535-3A143B6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5F40-E339-440E-86D3-C819B07C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B74F-0AC0-44CC-BDDB-DD1502F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66A-D3A2-4FA2-9D14-C2901543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69D0-01DF-4B2B-A398-A750793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55BB-CAED-4762-9165-1BF4AA2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E89D-1566-493E-8900-9DCECADA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7BD6-51EF-468D-810D-178FAA49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4A86-49BF-4D53-8F8B-1FC41D81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5539A-B201-4942-9F6C-A372B865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4E956-0F76-43AF-8E29-9C36F4B7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B774F-EFBE-44AF-9085-FCC9CE18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66159-CB7C-44C5-AB44-9D7128C7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61031-441D-4D7F-BB7E-0BC45DAA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A4F-9652-449A-A414-EF1630E6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ECA86-F2BE-4F4C-8430-F1AD006E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F2102-47A0-4226-99E0-C97B5CD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7B301-B737-4F9B-8207-F901FEA8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973E7-71B8-4D44-9980-86A91FB5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415D5-84B8-4491-8926-7406FD0A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FFA9C-FA80-4EB3-9257-17B0A921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55956-C5FD-4E75-B420-C1354E49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140C-C2A0-4D88-8081-6DAE9C10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911C-29C4-4AFA-8131-1737A6EB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EEEB-A410-41CD-B778-1D739136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3D8-E423-4098-ACC8-A41D24F6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1475B-19C8-4F1E-944D-ECC0778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2964-9165-4C74-B42F-B9502F53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4186-0C43-4099-984F-F6871BC1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A24A-CC35-4C3A-8E11-EB55991C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93DE-4C74-4288-9597-BBAB6F0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FD582-36BC-4E56-B3EF-D1CFF1B4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B58A-80B1-4F70-857B-CBB818E2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8C24-7C8D-4F6E-8E45-AB483C02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A501-F1E2-4356-A381-69D9076C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8D9E6-1DD3-4AC2-A0E2-C3429108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F88-FBB8-4773-B1E3-EA0D077C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C47A9-6BC2-4699-81AC-824DB3CE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4812F-C345-41E3-8161-86FC20AC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E57C6-17C8-486F-9559-50F3B496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01D4A-5721-409F-8534-6E474CF2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E86D2-4DA1-4C84-B96A-B79BAF82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0FD8A-2E84-4B54-80F1-B89BC382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852A8-BE17-413E-9238-1C5F60BD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76F5B-D35D-4FC3-B3F4-6A1DE47E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C97BA-EFF2-457E-9644-137F219B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BEEC6-85A3-4885-8011-81A0E5A9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27C-4B59-4FF0-AB5D-2093371E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418B0-955E-48E2-9247-C9C178D6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E1107-304E-4349-9590-18B9EABF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F6FEA-75A3-475A-9040-31FA6B36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3C253-EEB5-436C-A52B-F901FBF9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15B83-7473-4C4C-8AB0-DAFF880A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17E31-93B3-4EEB-AA1C-0695C6E7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480A2-110B-4995-88F4-309CED59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2D175-DBCF-414E-AF5A-540724A2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97427-4A61-4787-BC3B-D20D522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22503-0EE8-4FA0-840B-704C5131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539-FCB8-4FAF-AAC1-1BCE8E17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AB56D-15A5-4F1B-904E-50587C69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26AD9-AC90-4ADC-A384-36BEFC55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BFFE7-53FD-4FCE-AD5B-21124445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820CA-12B6-4D14-8B8C-B2B5212E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48379-BF70-4254-9A27-821E547E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318D9-4977-4EC9-AA5A-44DE5B98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1FD07-F511-4585-B083-E76751EF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5E393-BD9E-43A9-8F27-F70D5B12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73765-51EE-41BE-AB7D-AC82621C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98BBE-61E8-4F0B-B6CA-A9A61D9B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700-9A09-44FA-B39A-C1E47DF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BA7D4-90BE-48C7-B08C-8C0F939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C5B07-995A-4966-BA5B-91556605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669E5-2B05-4EDB-B0EE-B6B857D2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7B0AA-D58B-4A17-9D05-D4E1F53E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4A238-432D-45C1-99D4-623EE722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F08-F03E-4E55-8C1E-F5677A6B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AD74-39D0-427B-A48B-2A229179CB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35C3-BDDC-4715-9C22-F8EA2C3D73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4A99-9499-45F2-A431-46B92AA11B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3B5E-B925-4238-B495-12A9810910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B5E3-7E47-4A26-8F20-7C074DF51D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3C21-69D9-49DB-8434-9AFCF91BED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17A8-B03A-46BE-8A8F-09A3C2D0D3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WordArt 2" descr=""/>
          <p:cNvPicPr/>
          <p:nvPr/>
        </p:nvPicPr>
        <p:blipFill>
          <a:blip r:embed="rId2"/>
          <a:stretch/>
        </p:blipFill>
        <p:spPr>
          <a:xfrm>
            <a:off x="1596960" y="176040"/>
            <a:ext cx="5535720" cy="55915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3"/>
          <p:cNvSpPr/>
          <p:nvPr/>
        </p:nvSpPr>
        <p:spPr>
          <a:xfrm>
            <a:off x="539640" y="5805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НАЧЕНИЕ КУЛИКОВСКОЙ БИТВ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22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слабление (но не отмена!!!) ордынского иг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22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Доказана возможность победы над монголо-татара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22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Мощный национальный подъе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225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изнание роли Москвы как объединительницы Рус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539640" y="1197000"/>
            <a:ext cx="8353440" cy="431640"/>
          </a:xfrm>
          <a:prstGeom prst="wedgeRectCallout">
            <a:avLst>
              <a:gd name="adj1" fmla="val 17370"/>
              <a:gd name="adj2" fmla="val 86763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382 г. хан Тохтамыш взял Москву и заставил возобновить выплату д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АСИЛИЙ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ДМИТРИЕВИЧ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(1389-1425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AutoShape 6"/>
          <p:cNvSpPr/>
          <p:nvPr/>
        </p:nvSpPr>
        <p:spPr>
          <a:xfrm flipH="1">
            <a:off x="1766880" y="1455840"/>
            <a:ext cx="496584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31" y="3811"/>
                </a:moveTo>
                <a:lnTo>
                  <a:pt x="24403" y="3811"/>
                </a:lnTo>
                <a:lnTo>
                  <a:pt x="24403" y="-24036"/>
                </a:lnTo>
                <a:lnTo>
                  <a:pt x="21448" y="-28271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великим князем по завещанию отца, не спрашивая разрешения Ор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"/>
          <p:cNvSpPr/>
          <p:nvPr/>
        </p:nvSpPr>
        <p:spPr>
          <a:xfrm>
            <a:off x="1116000" y="2205000"/>
            <a:ext cx="4968720" cy="1584360"/>
          </a:xfrm>
          <a:prstGeom prst="rightArrow">
            <a:avLst>
              <a:gd name="adj1" fmla="val 50037"/>
              <a:gd name="adj2" fmla="val 18446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95 г. – отразил напа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мура (Тамерлана) на 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9N0580"/>
          <p:cNvPicPr/>
          <p:nvPr/>
        </p:nvPicPr>
        <p:blipFill>
          <a:blip r:embed="rId1"/>
          <a:stretch/>
        </p:blipFill>
        <p:spPr>
          <a:xfrm>
            <a:off x="6372360" y="2205000"/>
            <a:ext cx="1089000" cy="1666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BOGOMA_M"/>
          <p:cNvPicPr/>
          <p:nvPr/>
        </p:nvPicPr>
        <p:blipFill>
          <a:blip r:embed="rId2"/>
          <a:stretch/>
        </p:blipFill>
        <p:spPr>
          <a:xfrm>
            <a:off x="6372360" y="2205000"/>
            <a:ext cx="1076040" cy="165564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10"/>
          <p:cNvSpPr/>
          <p:nvPr/>
        </p:nvSpPr>
        <p:spPr>
          <a:xfrm>
            <a:off x="1116000" y="4005360"/>
            <a:ext cx="3384720" cy="1655640"/>
          </a:xfrm>
          <a:prstGeom prst="rightArrowCallout">
            <a:avLst>
              <a:gd name="adj1" fmla="val 19465"/>
              <a:gd name="adj2" fmla="val 23634"/>
              <a:gd name="adj3" fmla="val 43726"/>
              <a:gd name="adj4" fmla="val 7411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08 г. – откуп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эмира Едиге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адившего Мос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5076720" y="4076640"/>
            <a:ext cx="3240360" cy="1440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ил Ниж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город, Муром, Волог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юг, Торжок, Волоколамс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отдал Смоленск Ли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4"/>
          <p:cNvSpPr/>
          <p:nvPr/>
        </p:nvSpPr>
        <p:spPr>
          <a:xfrm>
            <a:off x="2700360" y="5877000"/>
            <a:ext cx="496584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31" y="3812"/>
                </a:moveTo>
                <a:lnTo>
                  <a:pt x="23824" y="3812"/>
                </a:lnTo>
                <a:lnTo>
                  <a:pt x="23824" y="-8047"/>
                </a:lnTo>
                <a:lnTo>
                  <a:pt x="21358" y="-18371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л женат на дочери лит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го князя Витовта Софь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74674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ФЕОДАЛЬНАЯ ВОЙНА 1433-1453 ГГ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468360" y="1413000"/>
            <a:ext cx="3672000" cy="1224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сильевич Те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425-14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4859280" y="1413000"/>
            <a:ext cx="3672000" cy="503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рий Дмитриевич Гал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4859280" y="1916280"/>
            <a:ext cx="3672000" cy="720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й Кос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й Шемя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й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286520" y="1628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468360" y="2781360"/>
            <a:ext cx="8064360" cy="1152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а – вопрос о престолонаслед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завещанию Дмитрия Донского, Московское кня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смерти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о было перейти Ю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ко времени составления завещания у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о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68360" y="3933720"/>
            <a:ext cx="8064360" cy="1224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од – сканд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февраля 1433 г. на свадьбе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ья Витовтовна (мать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орвала драгоценный поя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авший ранее Дмитрию Донскому, с Василия Кос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 flipH="1">
            <a:off x="-720" y="0"/>
            <a:ext cx="2808360" cy="6094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нук Дмитрия До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>
            <a:off x="539640" y="62064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6335640" y="0"/>
            <a:ext cx="2808360" cy="620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 Дмитрия Донског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 Васил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7"/>
          <p:cNvSpPr/>
          <p:nvPr/>
        </p:nvSpPr>
        <p:spPr>
          <a:xfrm flipH="1">
            <a:off x="8243640" y="62064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324000" y="5264280"/>
            <a:ext cx="8280360" cy="1484280"/>
          </a:xfrm>
          <a:prstGeom prst="verticalScroll">
            <a:avLst>
              <a:gd name="adj" fmla="val 759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собы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34 г. – Юрий Дмитриевич объявил себя великим князем и у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34 г. – Василий Косой объявил себя великим княз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36 г. – Василий Косой был ослеплен и посажен в тем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45 г. – Васил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взят плен ханом Улу-Мухаммедом и отпущен  за огромный вык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46 г. – Васил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ослеплен Дмитрием Шемя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53 г. – Дмитрий Шемяка умер, война закончила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3" descr="9N0303"/>
          <p:cNvPicPr/>
          <p:nvPr/>
        </p:nvPicPr>
        <p:blipFill>
          <a:blip r:embed="rId1"/>
          <a:stretch/>
        </p:blipFill>
        <p:spPr>
          <a:xfrm>
            <a:off x="6303960" y="2781360"/>
            <a:ext cx="21844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ОСЛЕДСТВИЯ ФЕОДАЛЬНОЙ ВОЙН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орение страны, гибель людей, сожжение городов и дерев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иление роли ордынских ханов, отсрочка свержения ордынского иг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репление великокняжеской власти Васили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АСИЛИЙ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I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ТЕМНЫЙ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ОСЛЕ СВОЕЙ ПОБЕД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AutoShape 4"/>
          <p:cNvSpPr/>
          <p:nvPr/>
        </p:nvSpPr>
        <p:spPr>
          <a:xfrm flipH="1">
            <a:off x="826200" y="2421000"/>
            <a:ext cx="6913800" cy="1368360"/>
          </a:xfrm>
          <a:prstGeom prst="rightArrow">
            <a:avLst>
              <a:gd name="adj1" fmla="val 54065"/>
              <a:gd name="adj2" fmla="val 8552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56 г. – поход на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 к Москве Вологды, Волоколам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угих новгородских террит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6"/>
          <p:cNvSpPr/>
          <p:nvPr/>
        </p:nvSpPr>
        <p:spPr>
          <a:xfrm>
            <a:off x="1908000" y="3860640"/>
            <a:ext cx="5257800" cy="1368720"/>
          </a:xfrm>
          <a:prstGeom prst="plus">
            <a:avLst>
              <a:gd name="adj" fmla="val 250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48 г. – Русская православная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а автокефальной (независи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ом Московским и всея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избран 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332000" y="5373720"/>
            <a:ext cx="6551640" cy="115236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48 г. – своим соправителем назначил сына И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удущий Ив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ликий (1462-150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2268360" y="1484280"/>
            <a:ext cx="4680000" cy="934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квидация удельных княж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митровского, Галицкого, Можайск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пуховско-Боровского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ВАН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ВАСИЛЬЕВИЧ (1462-1505)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900000" y="1628640"/>
            <a:ext cx="2664000" cy="1729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ославль (14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ов (14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город (14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ь (14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ятка (14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643280" y="1628640"/>
            <a:ext cx="3529080" cy="1800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жение и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76 г. – прек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латы дани («выход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80 г. – стояние на реке Уг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487 г. – подч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ского х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 flipH="1">
            <a:off x="542880" y="1116000"/>
            <a:ext cx="34560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77" y="4905"/>
                </a:moveTo>
                <a:lnTo>
                  <a:pt x="-2243" y="4905"/>
                </a:lnTo>
                <a:lnTo>
                  <a:pt x="-2243" y="34818"/>
                </a:lnTo>
                <a:lnTo>
                  <a:pt x="5050" y="64936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71 г. –  битва на реке Шело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78 г. – осада и взятие Новг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900000" y="3357720"/>
            <a:ext cx="2664000" cy="718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85 г.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ь всея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"/>
          <p:cNvSpPr/>
          <p:nvPr/>
        </p:nvSpPr>
        <p:spPr>
          <a:xfrm>
            <a:off x="900000" y="4365720"/>
            <a:ext cx="7488360" cy="1295280"/>
          </a:xfrm>
          <a:prstGeom prst="bevel">
            <a:avLst>
              <a:gd name="adj" fmla="val 945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ебник 14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ртная казнь за основные государственные пре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Юрьева дня (две недели до и после 26 ноябр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2124000" y="6021360"/>
            <a:ext cx="3168720" cy="432000"/>
          </a:xfrm>
          <a:prstGeom prst="wedgeRectCallout">
            <a:avLst>
              <a:gd name="adj1" fmla="val -32967"/>
              <a:gd name="adj2" fmla="val -18529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Выплата «пожило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15A_M"/>
          <p:cNvPicPr/>
          <p:nvPr/>
        </p:nvPicPr>
        <p:blipFill>
          <a:blip r:embed="rId1"/>
          <a:stretch/>
        </p:blipFill>
        <p:spPr>
          <a:xfrm>
            <a:off x="1258920" y="260280"/>
            <a:ext cx="6842160" cy="558792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/>
          <p:cNvSpPr/>
          <p:nvPr/>
        </p:nvSpPr>
        <p:spPr>
          <a:xfrm>
            <a:off x="468360" y="5734080"/>
            <a:ext cx="2016000" cy="647640"/>
          </a:xfrm>
          <a:prstGeom prst="wedgeRectCallout">
            <a:avLst>
              <a:gd name="adj1" fmla="val 41731"/>
              <a:gd name="adj2" fmla="val -10735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знати при великом кня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2843280" y="5659560"/>
            <a:ext cx="2808360" cy="968400"/>
          </a:xfrm>
          <a:prstGeom prst="wedgeRectCallout">
            <a:avLst>
              <a:gd name="adj1" fmla="val -4833"/>
              <a:gd name="adj2" fmla="val -7705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, ведавший государевыми (дворцовыми) зем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/>
          <p:cNvSpPr/>
          <p:nvPr/>
        </p:nvSpPr>
        <p:spPr>
          <a:xfrm>
            <a:off x="6084720" y="5659560"/>
            <a:ext cx="2808360" cy="1008000"/>
          </a:xfrm>
          <a:prstGeom prst="wedgeRectCallout">
            <a:avLst>
              <a:gd name="adj1" fmla="val 592"/>
              <a:gd name="adj2" fmla="val -8165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, ведавший государственной печатью, финансами и внешней полит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8" descr="13D_M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4210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324000" y="1557360"/>
            <a:ext cx="17269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ез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ости Ст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755640" y="249228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118728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1332000" y="249228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4"/>
          <p:cNvSpPr/>
          <p:nvPr/>
        </p:nvSpPr>
        <p:spPr>
          <a:xfrm>
            <a:off x="1908000" y="2060640"/>
            <a:ext cx="1511640" cy="216000"/>
          </a:xfrm>
          <a:prstGeom prst="borderCallout1">
            <a:avLst>
              <a:gd name="adj1" fmla="val 18750"/>
              <a:gd name="adj2" fmla="val -8333"/>
              <a:gd name="adj3" fmla="val 151472"/>
              <a:gd name="adj4" fmla="val -2773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мест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5"/>
          <p:cNvSpPr/>
          <p:nvPr/>
        </p:nvSpPr>
        <p:spPr>
          <a:xfrm>
            <a:off x="1908000" y="2421000"/>
            <a:ext cx="1368720" cy="216000"/>
          </a:xfrm>
          <a:prstGeom prst="borderCallout1">
            <a:avLst>
              <a:gd name="adj1" fmla="val 18750"/>
              <a:gd name="adj2" fmla="val -8333"/>
              <a:gd name="adj3" fmla="val 179412"/>
              <a:gd name="adj4" fmla="val -51625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ос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6"/>
          <p:cNvSpPr/>
          <p:nvPr/>
        </p:nvSpPr>
        <p:spPr>
          <a:xfrm flipH="1">
            <a:off x="5508000" y="1989000"/>
            <a:ext cx="1368360" cy="648000"/>
          </a:xfrm>
          <a:custGeom>
            <a:avLst/>
            <a:gdLst>
              <a:gd name="textAreaLeft" fmla="*/ -360 w 1368360"/>
              <a:gd name="textAreaRight" fmla="*/ 1368360 w 136836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91" y="0"/>
                </a:lnTo>
                <a:lnTo>
                  <a:pt x="21600" y="10800"/>
                </a:lnTo>
                <a:lnTo>
                  <a:pt x="177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20868 0.00532 E">
                                      <p:cBhvr>
                                        <p:cTn id="449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6877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СОЦИАЛЬНО-ЭКОНОМИЧЕСКОЕ РАЗВИТИЕ ПРИ ИВАНЕ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рехполье вместо двуполь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ряду с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тчино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наследственное землевладение)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местно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частично наследственное) землевладен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величение доли крестьян, живущих на частновладельческих (помещичьих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«белых»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 землях, свободных от государственных налогов, за счет раздачи государственных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«черных»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 земел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ост городов, развитие ремесла и торговл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кладывание основных сослови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2050920" y="5769000"/>
            <a:ext cx="2521080" cy="907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я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оря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ове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адские лю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6732720" y="404640"/>
            <a:ext cx="2411280" cy="1368720"/>
          </a:xfrm>
          <a:prstGeom prst="wedgeRectCallout">
            <a:avLst>
              <a:gd name="adj1" fmla="val -30513"/>
              <a:gd name="adj2" fmla="val 99768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стье нельзя было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авать,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авать в монастыри,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вать по наследству сыновьям, имевшим поместья,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ужним дочер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АСИЛИЙ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ИВАНОВИЧ (1505-1533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116000" y="1341360"/>
            <a:ext cx="2664000" cy="1440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ков (15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ленск (15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зань (15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3995640" y="1844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5219640" y="1484280"/>
            <a:ext cx="2303640" cy="122544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ерш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х зем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" descr="13C_M"/>
          <p:cNvPicPr/>
          <p:nvPr/>
        </p:nvPicPr>
        <p:blipFill>
          <a:blip r:embed="rId1"/>
          <a:stretch/>
        </p:blipFill>
        <p:spPr>
          <a:xfrm>
            <a:off x="6084720" y="3068640"/>
            <a:ext cx="2221200" cy="313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58" name="Picture 9" descr="13B_M"/>
          <p:cNvPicPr/>
          <p:nvPr/>
        </p:nvPicPr>
        <p:blipFill>
          <a:blip r:embed="rId2"/>
          <a:stretch/>
        </p:blipFill>
        <p:spPr>
          <a:xfrm>
            <a:off x="1187280" y="2997360"/>
            <a:ext cx="3600720" cy="3454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9" name="Text Box 10"/>
          <p:cNvSpPr/>
          <p:nvPr/>
        </p:nvSpPr>
        <p:spPr>
          <a:xfrm>
            <a:off x="5644440" y="6284880"/>
            <a:ext cx="30700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герб Моск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авюра из «Записок о Москов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.Герберштей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5f6d"/>
                </a:solidFill>
                <a:latin typeface="Century Schoolbook"/>
              </a:rPr>
              <a:t>НАЧАЛО ПРАВЛЕНИЯ ИВАНА </a:t>
            </a: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IV </a:t>
            </a:r>
            <a:r>
              <a:rPr b="0" lang="ru-RU" sz="3400" spc="-1" strike="noStrike">
                <a:solidFill>
                  <a:srgbClr val="575f6d"/>
                </a:solidFill>
                <a:latin typeface="Century Schoolbook"/>
              </a:rPr>
              <a:t>ВАСИЛЬЕВИЧА ГРОЗНОГО (1533-1584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755640" y="1700280"/>
            <a:ext cx="3311640" cy="720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ен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ы Глинской (1533-15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755640" y="2421000"/>
            <a:ext cx="3311640" cy="1295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чтожение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дельных князей Ю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овского и Анд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ицкого, а так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а Гли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яди Ел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755640" y="3716280"/>
            <a:ext cx="3311640" cy="1295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бная ре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ебные дела в ру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ных губных ста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обыск» и нака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овн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755640" y="3716280"/>
            <a:ext cx="3311640" cy="1295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бная из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губные старосты (дворя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ные целоваль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лучшие» крестья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ьяки и подья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755640" y="5013360"/>
            <a:ext cx="331164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нежная реформа 1535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ая монет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ились коп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4859280" y="1700280"/>
            <a:ext cx="3311640" cy="1295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38-1547 гг. –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ярского 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Шуйские, Бельск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859280" y="314172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d2611c"/>
                  </a:solidFill>
                  <a:miter/>
                </a:ln>
                <a:solidFill>
                  <a:srgbClr val="7598d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47 г.</a:t>
            </a:r>
            <a:endParaRPr b="0" lang="en-US" sz="1800" spc="1" strike="noStrike">
              <a:ln w="19080">
                <a:solidFill>
                  <a:srgbClr val="d2611c"/>
                </a:solidFill>
                <a:miter/>
              </a:ln>
              <a:solidFill>
                <a:srgbClr val="7598d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4859280" y="4076640"/>
            <a:ext cx="3311640" cy="57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 янв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чание на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4859280" y="4653000"/>
            <a:ext cx="331164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итьба на Анаста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не Юрьевой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арь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4859280" y="5516640"/>
            <a:ext cx="3311640" cy="865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 и бунт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знание необход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РИЧИНЫ ОБРАЗОВАНИЯ ЕДИНОГО РУССКОГО ГОСУДАРСТВ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сстановление и дальнейшее развитие экономики с конца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обходимость расширения торговых связей между областя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Единое национальное самосознание, единый язык и православная вера, общие правовые нормы и культу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обходимость освобождения от иг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силение роли князей, изменение характера дружины (слуги, а не сотоварищи), развитие помещичьего (дворянского) землевлад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ЗБРАННАЯ РАДА (1547-1560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лексей Адаше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неродовитый костромской дворя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трополит Макарий – наставник цар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львестр – протопоп Благовещенского собора, царский духовн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ители знати: Андрей Курбский, Воротынские, Одоевские, Шереметьевы, Шуй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ФОРМЫ ИЗБРАННОЙ РА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95280" y="1341360"/>
            <a:ext cx="2376360" cy="1728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9 г. –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рган сосло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центра и ме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2771640" y="1341360"/>
            <a:ext cx="2952720" cy="1727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ебник 155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е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естник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стелей, уси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я ца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, еди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судебных пош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5724360" y="1341360"/>
            <a:ext cx="3095640" cy="1727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енная реформа 155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имо ко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стного опол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«служилые по отечеству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ое войс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льцы и пушк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«служилые по прибору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395280" y="3068640"/>
            <a:ext cx="3529080" cy="194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главый собор 155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фикация церк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ядов, признание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ых святых общерусск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ий иконописный кан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ет ростовщ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ще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3924360" y="3068640"/>
            <a:ext cx="4895640" cy="194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ение губной 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555-155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на кормлений, вся власть в уез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шла к губным и земским старостам, 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ах – к излюбленным голо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4427640" y="3068640"/>
            <a:ext cx="3889440" cy="194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ская из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ский ста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з «лучших» черносош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 или посадских люд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ские суд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ские дья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валь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ские, пятидесятские, десят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395280" y="5013360"/>
            <a:ext cx="842472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приказ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каз-поручение превращался в приказ-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льский при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битенный при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стный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йный при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лецкий при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мской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ВЕДЕНИЕ ОПРИЧНИН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971640" y="1484280"/>
            <a:ext cx="1728720" cy="36036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декабря 1564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6"/>
          <p:cNvSpPr/>
          <p:nvPr/>
        </p:nvSpPr>
        <p:spPr>
          <a:xfrm>
            <a:off x="1547640" y="1989000"/>
            <a:ext cx="576360" cy="503280"/>
          </a:xfrm>
          <a:custGeom>
            <a:avLst/>
            <a:gdLst>
              <a:gd name="textAreaLeft" fmla="*/ 84240 w 576360"/>
              <a:gd name="textAreaRight" fmla="*/ 492120 w 576360"/>
              <a:gd name="textAreaTop" fmla="*/ 73440 h 503280"/>
              <a:gd name="textAreaBottom" fmla="*/ 4298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140" y="10800"/>
                </a:moveTo>
                <a:cubicBezTo>
                  <a:pt x="7140" y="12821"/>
                  <a:pt x="8779" y="14460"/>
                  <a:pt x="10800" y="14460"/>
                </a:cubicBezTo>
                <a:cubicBezTo>
                  <a:pt x="12821" y="14460"/>
                  <a:pt x="14460" y="12821"/>
                  <a:pt x="14460" y="10800"/>
                </a:cubicBezTo>
                <a:cubicBezTo>
                  <a:pt x="14460" y="8779"/>
                  <a:pt x="12821" y="7140"/>
                  <a:pt x="10800" y="7140"/>
                </a:cubicBezTo>
                <a:cubicBezTo>
                  <a:pt x="8779" y="7140"/>
                  <a:pt x="7140" y="8779"/>
                  <a:pt x="7140" y="10800"/>
                </a:cubicBez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1334520" y="2421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8"/>
          <p:cNvSpPr/>
          <p:nvPr/>
        </p:nvSpPr>
        <p:spPr>
          <a:xfrm>
            <a:off x="2268360" y="213372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9"/>
          <p:cNvSpPr/>
          <p:nvPr/>
        </p:nvSpPr>
        <p:spPr>
          <a:xfrm>
            <a:off x="4788000" y="2133720"/>
            <a:ext cx="360360" cy="288720"/>
          </a:xfrm>
          <a:custGeom>
            <a:avLst/>
            <a:gdLst>
              <a:gd name="textAreaLeft" fmla="*/ 52560 w 360360"/>
              <a:gd name="textAreaRight" fmla="*/ 307800 w 360360"/>
              <a:gd name="textAreaTop" fmla="*/ 42120 h 288720"/>
              <a:gd name="textAreaBottom" fmla="*/ 2466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3493800" y="170028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овская слоб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1"/>
          <p:cNvSpPr/>
          <p:nvPr/>
        </p:nvSpPr>
        <p:spPr>
          <a:xfrm>
            <a:off x="5148360" y="2060640"/>
            <a:ext cx="1871640" cy="1368360"/>
          </a:xfrm>
          <a:prstGeom prst="verticalScrol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я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бли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6"/>
          <p:cNvSpPr/>
          <p:nvPr/>
        </p:nvSpPr>
        <p:spPr>
          <a:xfrm>
            <a:off x="2268360" y="242100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3419640" y="3573360"/>
            <a:ext cx="5473440" cy="1943280"/>
          </a:xfrm>
          <a:prstGeom prst="borderCallout1">
            <a:avLst>
              <a:gd name="adj1" fmla="val 18750"/>
              <a:gd name="adj2" fmla="val -8333"/>
              <a:gd name="adj3" fmla="val -56861"/>
              <a:gd name="adj4" fmla="val -20763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враль 1565 г. – Зем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е опричнины (личный особый удел царя со своим управлени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щина – формально управляемая Боярской думой часть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царя казнить и миловать по своему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илегированное положение опричнины перед земщ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6948360" y="2060640"/>
            <a:ext cx="1800360" cy="1368360"/>
          </a:xfrm>
          <a:prstGeom prst="verticalScrol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юд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бодр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9" descr="9N0341"/>
          <p:cNvPicPr/>
          <p:nvPr/>
        </p:nvPicPr>
        <p:blipFill>
          <a:blip r:embed="rId1"/>
          <a:stretch/>
        </p:blipFill>
        <p:spPr>
          <a:xfrm>
            <a:off x="6588000" y="1046160"/>
            <a:ext cx="1368720" cy="93816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826920" y="2781360"/>
            <a:ext cx="2089440" cy="647640"/>
          </a:xfrm>
          <a:prstGeom prst="rightArrowCallout">
            <a:avLst>
              <a:gd name="adj1" fmla="val 32355"/>
              <a:gd name="adj2" fmla="val 42648"/>
              <a:gd name="adj3" fmla="val 64480"/>
              <a:gd name="adj4" fmla="val 74315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пу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хо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боя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1"/>
          <p:cNvSpPr/>
          <p:nvPr/>
        </p:nvSpPr>
        <p:spPr>
          <a:xfrm>
            <a:off x="3419640" y="5516640"/>
            <a:ext cx="547344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усиление самодержавной в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азвитость централь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енсируется жесто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3" descr="3bm"/>
          <p:cNvPicPr/>
          <p:nvPr/>
        </p:nvPicPr>
        <p:blipFill>
          <a:blip r:embed="rId2"/>
          <a:stretch/>
        </p:blipFill>
        <p:spPr>
          <a:xfrm>
            <a:off x="250920" y="3645000"/>
            <a:ext cx="2832120" cy="1933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L 0.12396 2.22222E-006 C 0.17951 2.22222E-006 0.24809 -0.06528 0.24809 -0.11829 L 0.24809 -0.23634 E">
                                      <p:cBhvr>
                                        <p:cTn id="63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ИЧНЫЙ ТЕРРОР (1565-1572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селение более 100 княжеских семей в Казань с конфискацией земел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фискация земель в опричных уездах у феодалов, не принятых в опричнин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авление малейшего протеста (смещение и убийство митрополита Филиппа (Колычева) в 1569 г.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городский погром 1570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ссовые казни в 1568 и 1570 г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8" name="Picture 5" descr="9N0342"/>
          <p:cNvPicPr/>
          <p:nvPr/>
        </p:nvPicPr>
        <p:blipFill>
          <a:blip r:embed="rId1"/>
          <a:stretch/>
        </p:blipFill>
        <p:spPr>
          <a:xfrm>
            <a:off x="6300720" y="3573360"/>
            <a:ext cx="2284560" cy="2532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10cm"/>
          <p:cNvPicPr/>
          <p:nvPr/>
        </p:nvPicPr>
        <p:blipFill>
          <a:blip r:embed="rId2"/>
          <a:stretch/>
        </p:blipFill>
        <p:spPr>
          <a:xfrm>
            <a:off x="6516720" y="1557360"/>
            <a:ext cx="1876320" cy="1905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ТОГИ И ПОСЛЕДСТВИЯ ОПРИЧНИН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Разорение стран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силение бегства крестьян на окраин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ачало оформления крепостного прав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силение личной власти царя, утверждение деспотического характера российского самодержавия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слабление обороноспособности страны и сожжение Москвы Девлет-Гиреем в 1572 г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ражение в Ливонской войне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678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ВОСТОЧНОЕ НАПРАВЛЕНИЕ ВНЕШНЕЙ ПОЛИТИКИ ИВАНА ГРОЗНОГО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Line 5"/>
          <p:cNvSpPr/>
          <p:nvPr/>
        </p:nvSpPr>
        <p:spPr>
          <a:xfrm>
            <a:off x="1332000" y="2205000"/>
            <a:ext cx="4103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6"/>
          <p:cNvSpPr/>
          <p:nvPr/>
        </p:nvSpPr>
        <p:spPr>
          <a:xfrm>
            <a:off x="5508720" y="1989000"/>
            <a:ext cx="457200" cy="457200"/>
          </a:xfrm>
          <a:prstGeom prst="flowChartConnector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4068360" y="148428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нское ханство (с 1437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942880" y="1989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611280" y="1916280"/>
            <a:ext cx="574560" cy="576000"/>
          </a:xfrm>
          <a:custGeom>
            <a:avLst/>
            <a:gdLst>
              <a:gd name="textAreaLeft" fmla="*/ 83880 w 574560"/>
              <a:gd name="textAreaRight" fmla="*/ 490680 w 574560"/>
              <a:gd name="textAreaTop" fmla="*/ 84240 h 576000"/>
              <a:gd name="textAreaBottom" fmla="*/ 491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044720" y="170028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2476800" y="1916280"/>
            <a:ext cx="231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47-48, 1549-50, 15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2"/>
          <p:cNvSpPr/>
          <p:nvPr/>
        </p:nvSpPr>
        <p:spPr>
          <a:xfrm>
            <a:off x="6732720" y="2421000"/>
            <a:ext cx="2087280" cy="482400"/>
          </a:xfrm>
          <a:prstGeom prst="borderCallout2">
            <a:avLst>
              <a:gd name="adj1" fmla="val 18750"/>
              <a:gd name="adj2" fmla="val -8333"/>
              <a:gd name="adj3" fmla="val 23685"/>
              <a:gd name="adj4" fmla="val -19240"/>
              <a:gd name="adj5" fmla="val -4277"/>
              <a:gd name="adj6" fmla="val -35967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октября 155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2195640" y="2349360"/>
            <a:ext cx="3240000" cy="503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ары, марийцы, чуваш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два, удмурты, башки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5"/>
          <p:cNvSpPr/>
          <p:nvPr/>
        </p:nvSpPr>
        <p:spPr>
          <a:xfrm flipH="1">
            <a:off x="5579640" y="2565360"/>
            <a:ext cx="144360" cy="266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6"/>
          <p:cNvSpPr/>
          <p:nvPr/>
        </p:nvSpPr>
        <p:spPr>
          <a:xfrm>
            <a:off x="5364000" y="5229360"/>
            <a:ext cx="457200" cy="457200"/>
          </a:xfrm>
          <a:prstGeom prst="flowChartConnector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4329720" y="580536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траханское ханство (с 150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8"/>
          <p:cNvSpPr/>
          <p:nvPr/>
        </p:nvSpPr>
        <p:spPr>
          <a:xfrm>
            <a:off x="5869800" y="530064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х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9"/>
          <p:cNvSpPr/>
          <p:nvPr/>
        </p:nvSpPr>
        <p:spPr>
          <a:xfrm flipH="1">
            <a:off x="6517440" y="4365720"/>
            <a:ext cx="2087640" cy="696960"/>
          </a:xfrm>
          <a:prstGeom prst="borderCallout2">
            <a:avLst>
              <a:gd name="adj1" fmla="val 18750"/>
              <a:gd name="adj2" fmla="val -8333"/>
              <a:gd name="adj3" fmla="val 16398"/>
              <a:gd name="adj4" fmla="val 103648"/>
              <a:gd name="adj5" fmla="val 133939"/>
              <a:gd name="adj6" fmla="val 13536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июня 155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155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0" y="6400800"/>
            <a:ext cx="42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мское ханство (с 144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1"/>
          <p:cNvSpPr/>
          <p:nvPr/>
        </p:nvSpPr>
        <p:spPr>
          <a:xfrm>
            <a:off x="611280" y="5950080"/>
            <a:ext cx="457200" cy="457200"/>
          </a:xfrm>
          <a:prstGeom prst="flowChartConnector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1118520" y="602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хчиса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3"/>
          <p:cNvSpPr/>
          <p:nvPr/>
        </p:nvSpPr>
        <p:spPr>
          <a:xfrm flipV="1">
            <a:off x="826920" y="2707920"/>
            <a:ext cx="0" cy="309708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5"/>
          <p:cNvSpPr/>
          <p:nvPr/>
        </p:nvSpPr>
        <p:spPr>
          <a:xfrm>
            <a:off x="34920" y="3284640"/>
            <a:ext cx="3313080" cy="72072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087" h="257">
                <a:moveTo>
                  <a:pt x="0" y="60"/>
                </a:moveTo>
                <a:cubicBezTo>
                  <a:pt x="30" y="90"/>
                  <a:pt x="60" y="121"/>
                  <a:pt x="136" y="151"/>
                </a:cubicBezTo>
                <a:cubicBezTo>
                  <a:pt x="212" y="181"/>
                  <a:pt x="363" y="227"/>
                  <a:pt x="454" y="242"/>
                </a:cubicBezTo>
                <a:cubicBezTo>
                  <a:pt x="545" y="257"/>
                  <a:pt x="575" y="242"/>
                  <a:pt x="681" y="242"/>
                </a:cubicBezTo>
                <a:cubicBezTo>
                  <a:pt x="787" y="242"/>
                  <a:pt x="983" y="257"/>
                  <a:pt x="1089" y="242"/>
                </a:cubicBezTo>
                <a:cubicBezTo>
                  <a:pt x="1195" y="227"/>
                  <a:pt x="1233" y="174"/>
                  <a:pt x="1316" y="151"/>
                </a:cubicBezTo>
                <a:cubicBezTo>
                  <a:pt x="1399" y="128"/>
                  <a:pt x="1505" y="129"/>
                  <a:pt x="1588" y="106"/>
                </a:cubicBezTo>
                <a:cubicBezTo>
                  <a:pt x="1671" y="83"/>
                  <a:pt x="1732" y="30"/>
                  <a:pt x="1815" y="15"/>
                </a:cubicBezTo>
                <a:cubicBezTo>
                  <a:pt x="1898" y="0"/>
                  <a:pt x="1992" y="7"/>
                  <a:pt x="2087" y="15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6"/>
          <p:cNvSpPr/>
          <p:nvPr/>
        </p:nvSpPr>
        <p:spPr>
          <a:xfrm>
            <a:off x="253800" y="3357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еч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7"/>
          <p:cNvSpPr/>
          <p:nvPr/>
        </p:nvSpPr>
        <p:spPr>
          <a:xfrm>
            <a:off x="755640" y="4005360"/>
            <a:ext cx="360360" cy="187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317" h="1232">
                <a:moveTo>
                  <a:pt x="38" y="1232"/>
                </a:moveTo>
                <a:cubicBezTo>
                  <a:pt x="38" y="1186"/>
                  <a:pt x="38" y="1141"/>
                  <a:pt x="38" y="960"/>
                </a:cubicBezTo>
                <a:cubicBezTo>
                  <a:pt x="38" y="779"/>
                  <a:pt x="0" y="288"/>
                  <a:pt x="38" y="144"/>
                </a:cubicBezTo>
                <a:cubicBezTo>
                  <a:pt x="76" y="0"/>
                  <a:pt x="220" y="91"/>
                  <a:pt x="265" y="98"/>
                </a:cubicBezTo>
                <a:cubicBezTo>
                  <a:pt x="310" y="105"/>
                  <a:pt x="303" y="151"/>
                  <a:pt x="310" y="189"/>
                </a:cubicBezTo>
                <a:cubicBezTo>
                  <a:pt x="317" y="227"/>
                  <a:pt x="310" y="272"/>
                  <a:pt x="310" y="325"/>
                </a:cubicBezTo>
                <a:cubicBezTo>
                  <a:pt x="310" y="378"/>
                  <a:pt x="310" y="468"/>
                  <a:pt x="310" y="50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8" descr="9N0348"/>
          <p:cNvPicPr/>
          <p:nvPr/>
        </p:nvPicPr>
        <p:blipFill>
          <a:blip r:embed="rId1"/>
          <a:stretch/>
        </p:blipFill>
        <p:spPr>
          <a:xfrm>
            <a:off x="2268360" y="3716280"/>
            <a:ext cx="28180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611c"/>
                                      </p:to>
                                    </p:animClr>
                                    <p:animClr clrSpc="rgb">
                                      <p:cBhvr>
                                        <p:cTn id="7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611c"/>
                                      </p:to>
                                    </p:animClr>
                                    <p:set>
                                      <p:cBhvr>
                                        <p:cTn id="7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evt="end">
                                        <p:tn val="738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ЛИВОНСКАЯ ВОЙНА (1558-1583 ГГ.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6" name="Picture 7" descr="map3"/>
          <p:cNvPicPr/>
          <p:nvPr/>
        </p:nvPicPr>
        <p:blipFill>
          <a:blip r:embed="rId1"/>
          <a:stretch/>
        </p:blipFill>
        <p:spPr>
          <a:xfrm>
            <a:off x="5508720" y="1268280"/>
            <a:ext cx="2982960" cy="367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27" name="Rectangle 8"/>
          <p:cNvSpPr/>
          <p:nvPr/>
        </p:nvSpPr>
        <p:spPr>
          <a:xfrm>
            <a:off x="250920" y="1197000"/>
            <a:ext cx="5041800" cy="647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ыход к Балтийскому мор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дружественная политика Ливонского орде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50920" y="1844640"/>
            <a:ext cx="5041800" cy="432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отказался платить дань за Юрьев (Дерп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50920" y="2421000"/>
            <a:ext cx="5041800" cy="720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(1558-1561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ятие Нарвы, Юрье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ллина, пленение магистра Фюрстенбер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ад и ликвидация Ливонского орд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3"/>
          <p:cNvSpPr/>
          <p:nvPr/>
        </p:nvSpPr>
        <p:spPr>
          <a:xfrm>
            <a:off x="250920" y="3141720"/>
            <a:ext cx="5041800" cy="1150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(1561-1577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ление в во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и Посполитой (с 1569 г.) и Шв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ие Полоцка (1563). Поражение на р.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 Оршей (1564). Взятие Вейсеншта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575) и Вендена (157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4"/>
          <p:cNvSpPr/>
          <p:nvPr/>
        </p:nvSpPr>
        <p:spPr>
          <a:xfrm>
            <a:off x="254160" y="4292640"/>
            <a:ext cx="504180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(1578-1582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ход Стефана Бато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ение Полоцка, Великих Лук. Геро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она Пскова (1581-1582, 5 мес.). Шв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ватили Нарву, Ивангород, Копор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5"/>
          <p:cNvSpPr/>
          <p:nvPr/>
        </p:nvSpPr>
        <p:spPr>
          <a:xfrm>
            <a:off x="250920" y="5229360"/>
            <a:ext cx="8353440" cy="93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82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м-Запольско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ирие с Речью Посполитой (отказ Рус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а от Ливонии за возврат утраченных русских креп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83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юсс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мирие со Швецией (отказ от Эстляндии, уст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дам Нарвы, Копорья, Ивангорода, Коре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6"/>
          <p:cNvSpPr/>
          <p:nvPr/>
        </p:nvSpPr>
        <p:spPr>
          <a:xfrm>
            <a:off x="250920" y="6165720"/>
            <a:ext cx="8353440" cy="5112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пораж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верная оценка расстановки сил в Прибалти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абление государства в результате внутренней политики Ив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АЧАЛО ЗАВОЕВАНИЯ СИБИР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2771640" y="1628640"/>
            <a:ext cx="5761080" cy="4032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3785400" y="220500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ибирское ханство (с 1420-х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>
            <a:off x="6012000" y="4005360"/>
            <a:ext cx="215640" cy="21564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6014880" y="37400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шл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9"/>
          <p:cNvSpPr/>
          <p:nvPr/>
        </p:nvSpPr>
        <p:spPr>
          <a:xfrm>
            <a:off x="1403280" y="1700280"/>
            <a:ext cx="1706760" cy="15843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ган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1"/>
          <p:cNvSpPr/>
          <p:nvPr/>
        </p:nvSpPr>
        <p:spPr>
          <a:xfrm flipH="1" flipV="1">
            <a:off x="2555640" y="285264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5870880" y="31417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н Куч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563-15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13"/>
          <p:cNvSpPr txBox="1"/>
          <p:nvPr/>
        </p:nvSpPr>
        <p:spPr>
          <a:xfrm rot="5400000">
            <a:off x="-459000" y="3058920"/>
            <a:ext cx="3527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3205800" y="26370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57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5"/>
          <p:cNvSpPr/>
          <p:nvPr/>
        </p:nvSpPr>
        <p:spPr>
          <a:xfrm>
            <a:off x="2556000" y="3068640"/>
            <a:ext cx="3384360" cy="1008000"/>
          </a:xfrm>
          <a:prstGeom prst="line">
            <a:avLst/>
          </a:prstGeom>
          <a:ln w="19080">
            <a:solidFill>
              <a:srgbClr val="d2611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2846880" y="3429000"/>
            <a:ext cx="142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Ерм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(1581-15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7"/>
          <p:cNvSpPr/>
          <p:nvPr/>
        </p:nvSpPr>
        <p:spPr>
          <a:xfrm>
            <a:off x="3924360" y="4437000"/>
            <a:ext cx="164772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09055"/>
              <a:gd name="adj5" fmla="val -56388"/>
              <a:gd name="adj6" fmla="val 124953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 в 158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8"/>
          <p:cNvSpPr/>
          <p:nvPr/>
        </p:nvSpPr>
        <p:spPr>
          <a:xfrm>
            <a:off x="6300720" y="4149720"/>
            <a:ext cx="935280" cy="0"/>
          </a:xfrm>
          <a:prstGeom prst="line">
            <a:avLst/>
          </a:prstGeom>
          <a:ln w="9360">
            <a:solidFill>
              <a:srgbClr val="d2611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9"/>
          <p:cNvSpPr/>
          <p:nvPr/>
        </p:nvSpPr>
        <p:spPr>
          <a:xfrm>
            <a:off x="716616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d2611c"/>
                </a:solidFill>
                <a:latin typeface="Arial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0"/>
          <p:cNvSpPr/>
          <p:nvPr/>
        </p:nvSpPr>
        <p:spPr>
          <a:xfrm>
            <a:off x="6734880" y="4221000"/>
            <a:ext cx="1227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6 авгу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158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1" descr="9N0353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185724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22"/>
          <p:cNvSpPr/>
          <p:nvPr/>
        </p:nvSpPr>
        <p:spPr>
          <a:xfrm>
            <a:off x="4284720" y="1413000"/>
            <a:ext cx="3382920" cy="609480"/>
          </a:xfrm>
          <a:prstGeom prst="wedgeRectCallout">
            <a:avLst>
              <a:gd name="adj1" fmla="val -38175"/>
              <a:gd name="adj2" fmla="val 9635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нчательно было разгромлено в конц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2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09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ОКОНЧАНИЕ ЦАРСТВОВАНИЯ ИВАНА ВАСИЛЬЕВИЧА ГРОЗНОГО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55640" y="1916280"/>
            <a:ext cx="2951280" cy="2160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8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тяже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зяйственного кри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введ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аповедные лет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становлено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а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Юрьев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чало офор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остного пра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14dm"/>
          <p:cNvPicPr/>
          <p:nvPr/>
        </p:nvPicPr>
        <p:blipFill>
          <a:blip r:embed="rId1"/>
          <a:stretch/>
        </p:blipFill>
        <p:spPr>
          <a:xfrm>
            <a:off x="6156360" y="1805040"/>
            <a:ext cx="2736720" cy="233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5" name="Rectangle 8"/>
          <p:cNvSpPr/>
          <p:nvPr/>
        </p:nvSpPr>
        <p:spPr>
          <a:xfrm>
            <a:off x="3851280" y="1916280"/>
            <a:ext cx="2089080" cy="2160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8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ступе г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ил сво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0"/>
          <p:cNvSpPr/>
          <p:nvPr/>
        </p:nvSpPr>
        <p:spPr>
          <a:xfrm>
            <a:off x="1403280" y="4890960"/>
            <a:ext cx="468144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2" y="2332"/>
                </a:moveTo>
                <a:lnTo>
                  <a:pt x="23724" y="2332"/>
                </a:lnTo>
                <a:lnTo>
                  <a:pt x="23724" y="-9780"/>
                </a:lnTo>
                <a:lnTo>
                  <a:pt x="15198" y="-16224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смерти Ивана Грозного в 158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о преемником стал недееспосо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о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4_1Gm"/>
          <p:cNvPicPr/>
          <p:nvPr/>
        </p:nvPicPr>
        <p:blipFill>
          <a:blip r:embed="rId2"/>
          <a:stretch/>
        </p:blipFill>
        <p:spPr>
          <a:xfrm>
            <a:off x="6659640" y="4292640"/>
            <a:ext cx="17445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КУЛЬТУРА И ДУХОВНАЯ ЖИЗНЬ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 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XIV-XVI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ВВ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684360" y="1773360"/>
            <a:ext cx="7775280" cy="180000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V-X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идея – преодоление катастрофических послед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голо-татарского нашествия, ликвидация ордынского 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собирание русских зем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684360" y="3860640"/>
            <a:ext cx="7775280" cy="180036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п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идея – укрепление государ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о и центр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ИЧИНЫ ВОЗВЫШЕНИЯ МОСКВ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формирования древнерусской народно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даленность от опасных окра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чимые торговые пу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емли, пригодные для земледел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ое феодальное землевладение (дворяне – опора княз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29272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удрость и дальновидность московских княз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распрей в московской княжеской семь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яжество не дробилось, а передавалось единственному наследни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118880" y="1125360"/>
            <a:ext cx="2637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367600" y="1125360"/>
            <a:ext cx="2815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ъе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ОЛЬКЛО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Сказан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битве на реке Калк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разорении Рязани Батые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Куликовской битв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овремененные былины о богатырях, защищающих Кие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Новгородские были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Василии Буслаев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Садк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Исторические песн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о реальных событиях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есня о Щелкане Дюдентьевиче» (о восстании в Твери в 1327 г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5076720" y="162864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овремененные былины о богатырях, борющихся с Казанским и Крымским ханст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Исторические пес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сни о взятии Каза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есни о Ермак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332360" y="11970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V-X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5941080" y="1268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01F_M"/>
          <p:cNvPicPr/>
          <p:nvPr/>
        </p:nvPicPr>
        <p:blipFill>
          <a:blip r:embed="rId1"/>
          <a:stretch/>
        </p:blipFill>
        <p:spPr>
          <a:xfrm>
            <a:off x="6516720" y="4149720"/>
            <a:ext cx="1957320" cy="2409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ОСВЕЩ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1835280" y="1628640"/>
            <a:ext cx="1150920" cy="1008360"/>
          </a:xfrm>
          <a:prstGeom prst="foldedCorner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в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276720" y="1557360"/>
            <a:ext cx="5184720" cy="1081080"/>
          </a:xfrm>
          <a:custGeom>
            <a:avLst/>
            <a:gdLst>
              <a:gd name="textAreaLeft" fmla="*/ 747720 w 5184720"/>
              <a:gd name="textAreaRight" fmla="*/ 4437000 w 5184720"/>
              <a:gd name="textAreaTop" fmla="*/ 0 h 1081080"/>
              <a:gd name="textAreaBottom" fmla="*/ 946080 h 1081080"/>
            </a:gdLst>
            <a:ahLst/>
            <a:rect l="textAreaLeft" t="textAreaTop" r="textAreaRight" b="textAreaBottom"/>
            <a:pathLst>
              <a:path w="21600" h="21600">
                <a:moveTo>
                  <a:pt x="5815" y="18900"/>
                </a:moveTo>
                <a:lnTo>
                  <a:pt x="5815" y="20925"/>
                </a:lnTo>
                <a:cubicBezTo>
                  <a:pt x="5815" y="21263"/>
                  <a:pt x="5395" y="21600"/>
                  <a:pt x="4975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15" y="2700"/>
                </a:lnTo>
                <a:lnTo>
                  <a:pt x="3115" y="675"/>
                </a:lnTo>
                <a:cubicBezTo>
                  <a:pt x="3115" y="338"/>
                  <a:pt x="3535" y="0"/>
                  <a:pt x="3955" y="0"/>
                </a:cubicBezTo>
                <a:lnTo>
                  <a:pt x="17645" y="0"/>
                </a:lnTo>
                <a:cubicBezTo>
                  <a:pt x="18065" y="0"/>
                  <a:pt x="18485" y="338"/>
                  <a:pt x="18485" y="675"/>
                </a:cubicBezTo>
                <a:lnTo>
                  <a:pt x="18485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625" y="21600"/>
                </a:lnTo>
                <a:cubicBezTo>
                  <a:pt x="16205" y="21600"/>
                  <a:pt x="15785" y="21263"/>
                  <a:pt x="15785" y="20925"/>
                </a:cubicBezTo>
                <a:lnTo>
                  <a:pt x="15785" y="18900"/>
                </a:lnTo>
                <a:close/>
              </a:path>
              <a:path fill="darkenLess" w="21600" h="21600">
                <a:moveTo>
                  <a:pt x="5815" y="18900"/>
                </a:moveTo>
                <a:lnTo>
                  <a:pt x="5815" y="20925"/>
                </a:lnTo>
                <a:cubicBezTo>
                  <a:pt x="5815" y="20588"/>
                  <a:pt x="5395" y="20250"/>
                  <a:pt x="4975" y="20250"/>
                </a:cubicBezTo>
                <a:lnTo>
                  <a:pt x="3955" y="20250"/>
                </a:lnTo>
                <a:cubicBezTo>
                  <a:pt x="3535" y="20250"/>
                  <a:pt x="3115" y="19913"/>
                  <a:pt x="3115" y="19575"/>
                </a:cubicBezTo>
                <a:cubicBezTo>
                  <a:pt x="3115" y="19238"/>
                  <a:pt x="3535" y="18900"/>
                  <a:pt x="3955" y="18900"/>
                </a:cubicBezTo>
                <a:close/>
              </a:path>
              <a:path fill="darkenLess" w="21600" h="21600">
                <a:moveTo>
                  <a:pt x="15785" y="18900"/>
                </a:moveTo>
                <a:lnTo>
                  <a:pt x="15785" y="20925"/>
                </a:lnTo>
                <a:cubicBezTo>
                  <a:pt x="15785" y="20588"/>
                  <a:pt x="16205" y="20250"/>
                  <a:pt x="16625" y="20250"/>
                </a:cubicBezTo>
                <a:lnTo>
                  <a:pt x="17645" y="20250"/>
                </a:lnTo>
                <a:cubicBezTo>
                  <a:pt x="18065" y="20250"/>
                  <a:pt x="18485" y="19913"/>
                  <a:pt x="18485" y="19575"/>
                </a:cubicBezTo>
                <a:cubicBezTo>
                  <a:pt x="18485" y="19238"/>
                  <a:pt x="18065" y="18900"/>
                  <a:pt x="17645" y="18900"/>
                </a:cubicBezTo>
                <a:close/>
              </a:path>
              <a:path fill="darkenLess" w="21600" h="21600">
                <a:moveTo>
                  <a:pt x="3115" y="19575"/>
                </a:moveTo>
                <a:lnTo>
                  <a:pt x="3115" y="2700"/>
                </a:lnTo>
              </a:path>
              <a:path fill="darkenLess" w="21600" h="21600">
                <a:moveTo>
                  <a:pt x="18485" y="19575"/>
                </a:moveTo>
                <a:lnTo>
                  <a:pt x="18485" y="2700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стыри – центры кни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нигописные мастерск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2124000" y="2781360"/>
            <a:ext cx="1638360" cy="973080"/>
          </a:xfrm>
          <a:prstGeom prst="flowChartMultidocumen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4859280" y="2637000"/>
            <a:ext cx="2232000" cy="1223640"/>
          </a:xfrm>
          <a:prstGeom prst="verticalScrol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уста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3637080" y="11253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и прежд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4"/>
          <p:cNvSpPr/>
          <p:nvPr/>
        </p:nvSpPr>
        <p:spPr>
          <a:xfrm>
            <a:off x="1547640" y="4076640"/>
            <a:ext cx="6120000" cy="50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зарождение книгопеча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395280" y="4797360"/>
            <a:ext cx="2376360" cy="792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ография – 155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3132000" y="4797360"/>
            <a:ext cx="5400720" cy="1224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63 г. – типография на Никольской ули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вана Федо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тра Мстислав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стол» (1564) и «Часовник» (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9" descr="9N0445"/>
          <p:cNvPicPr/>
          <p:nvPr/>
        </p:nvPicPr>
        <p:blipFill>
          <a:blip r:embed="rId1"/>
          <a:stretch/>
        </p:blipFill>
        <p:spPr>
          <a:xfrm>
            <a:off x="5678640" y="1197000"/>
            <a:ext cx="3465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ИТЕРАТУРА В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XIV-XV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В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1187280" y="1341360"/>
            <a:ext cx="648036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овгород, Тверь, Москва, Смоленс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09 г. – первый общерусский летописный с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роицкая летопи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1187280" y="2781360"/>
            <a:ext cx="648036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инские по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донщина» (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казание о Мамаевом побоище» (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1187280" y="4005360"/>
            <a:ext cx="6480360" cy="576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ждение за три моря» Афанасия Никитина 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8"/>
          <p:cNvSpPr/>
          <p:nvPr/>
        </p:nvSpPr>
        <p:spPr>
          <a:xfrm>
            <a:off x="1187280" y="5013360"/>
            <a:ext cx="6480360" cy="1008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тия св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а Петра, Сергия Радонежского, Стеф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мского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ИТЕРАТУРА В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XVI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1187280" y="1341360"/>
            <a:ext cx="6480360" cy="1440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ский летописный с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ой свод (16 000 миниатюр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нограф (+всемирная исто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187280" y="2852640"/>
            <a:ext cx="6480360" cy="863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инские по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занская исто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весть о прихождении Стефана Батория на град Пс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187280" y="3789360"/>
            <a:ext cx="6480360" cy="792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тия св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е Четьи-Минеи» (сборник житий, составл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ом Макари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1187280" y="4653000"/>
            <a:ext cx="6480360" cy="57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омострой» Сильвестра (?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вод правил поведен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циклопедия домашнего хозяй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1187280" y="5300640"/>
            <a:ext cx="648036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ц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битные Ивана Пересве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иска Ивана Грозного с Андреем Курб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БЩЕСТВЕННАЯ МЫСЛ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971640" y="1628640"/>
            <a:ext cx="914400" cy="1224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р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1908000" y="1268280"/>
            <a:ext cx="6193080" cy="865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иголь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овгород, Псков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ли необходимости церкви, отвергали обряд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овные та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8"/>
          <p:cNvSpPr/>
          <p:nvPr/>
        </p:nvSpPr>
        <p:spPr>
          <a:xfrm>
            <a:off x="1908000" y="2276640"/>
            <a:ext cx="6193080" cy="865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довствующ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овгород, Москв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ли необходимость церкви, не признавали икон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ую Тро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468360" y="3429000"/>
            <a:ext cx="3816360" cy="187164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сифл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осиф Волоцкий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овь должна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атой, владеть зем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1"/>
          <p:cNvSpPr/>
          <p:nvPr/>
        </p:nvSpPr>
        <p:spPr>
          <a:xfrm flipH="1">
            <a:off x="4642560" y="3429000"/>
            <a:ext cx="4032360" cy="18716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тяж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ил Сорский, Максим Гр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сиан Патрике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от церковног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стырского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3781440" y="3357720"/>
            <a:ext cx="14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-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3"/>
          <p:cNvSpPr/>
          <p:nvPr/>
        </p:nvSpPr>
        <p:spPr>
          <a:xfrm>
            <a:off x="539640" y="5661000"/>
            <a:ext cx="345600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76" y="3426"/>
                </a:moveTo>
                <a:lnTo>
                  <a:pt x="26253" y="3426"/>
                </a:lnTo>
                <a:lnTo>
                  <a:pt x="26253" y="-21315"/>
                </a:lnTo>
                <a:lnTo>
                  <a:pt x="20628" y="-25216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ф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 – третий Р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5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АРХИТЕКТУРА</a:t>
            </a:r>
            <a:br>
              <a:rPr sz="36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МОСКОВСКИЙ КРЕМЛ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97" name="Picture 4" descr="9N0287"/>
          <p:cNvPicPr/>
          <p:nvPr/>
        </p:nvPicPr>
        <p:blipFill>
          <a:blip r:embed="rId1"/>
          <a:stretch/>
        </p:blipFill>
        <p:spPr>
          <a:xfrm>
            <a:off x="826920" y="1628640"/>
            <a:ext cx="3743640" cy="23479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5"/>
          <p:cNvSpPr/>
          <p:nvPr/>
        </p:nvSpPr>
        <p:spPr>
          <a:xfrm>
            <a:off x="1262520" y="4005360"/>
            <a:ext cx="263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каменный 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367-136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6" descr="19B_M"/>
          <p:cNvPicPr/>
          <p:nvPr/>
        </p:nvPicPr>
        <p:blipFill>
          <a:blip r:embed="rId2"/>
          <a:stretch/>
        </p:blipFill>
        <p:spPr>
          <a:xfrm>
            <a:off x="5219640" y="1628640"/>
            <a:ext cx="3389400" cy="282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5365080" y="4508640"/>
            <a:ext cx="3131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й 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ва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ча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5292720" y="5229360"/>
            <a:ext cx="3166920" cy="50472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30-е годы – Китай-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5292720" y="5877000"/>
            <a:ext cx="3166920" cy="50472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Белый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2" descr="moskau"/>
          <p:cNvPicPr/>
          <p:nvPr/>
        </p:nvPicPr>
        <p:blipFill>
          <a:blip r:embed="rId3"/>
          <a:stretch/>
        </p:blipFill>
        <p:spPr>
          <a:xfrm>
            <a:off x="2340000" y="4483080"/>
            <a:ext cx="26654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АРХИТЕКТУРА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АНСАМБЛЬ СОБОРНОЙ ПЛОЩАДИ МОСКОВСКОГО КРЕМЛ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5" name="Picture 7" descr="{8A0C9485-88E1-400A-B2E9-A8940FF38CB2}"/>
          <p:cNvPicPr/>
          <p:nvPr/>
        </p:nvPicPr>
        <p:blipFill>
          <a:blip r:embed="rId1"/>
          <a:stretch/>
        </p:blipFill>
        <p:spPr>
          <a:xfrm>
            <a:off x="2268360" y="2349360"/>
            <a:ext cx="4680000" cy="39070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8"/>
          <p:cNvSpPr/>
          <p:nvPr/>
        </p:nvSpPr>
        <p:spPr>
          <a:xfrm>
            <a:off x="327240" y="2421000"/>
            <a:ext cx="190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нский со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475-147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иорова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342720" y="4581360"/>
            <a:ext cx="1883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аговеще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484-14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сков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с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3423240" y="1700280"/>
            <a:ext cx="23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ангельский со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05-15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левиз Фрязин 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7022880" y="2421000"/>
            <a:ext cx="180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коль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вана Вели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05-15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он Фряз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ро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166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7037640" y="4653000"/>
            <a:ext cx="2100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новитая па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487-14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рк Фряз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ьетро Антони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л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АРХИТЕКТУРА</a:t>
            </a:r>
            <a:br>
              <a:rPr sz="3600"/>
            </a:b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ШАТРОВЫЕ ХРАМЫ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2" name="Picture 6" descr="9N0419"/>
          <p:cNvPicPr/>
          <p:nvPr/>
        </p:nvPicPr>
        <p:blipFill>
          <a:blip r:embed="rId1"/>
          <a:stretch/>
        </p:blipFill>
        <p:spPr>
          <a:xfrm>
            <a:off x="468360" y="1484280"/>
            <a:ext cx="3887640" cy="2843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{223D6DD8-E7CA-4D3C-85FB-E67A7D2AAAEF}"/>
          <p:cNvPicPr/>
          <p:nvPr/>
        </p:nvPicPr>
        <p:blipFill>
          <a:blip r:embed="rId2"/>
          <a:stretch/>
        </p:blipFill>
        <p:spPr>
          <a:xfrm>
            <a:off x="4788000" y="3408480"/>
            <a:ext cx="3736800" cy="286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14" name="Text Box 8"/>
          <p:cNvSpPr/>
          <p:nvPr/>
        </p:nvSpPr>
        <p:spPr>
          <a:xfrm>
            <a:off x="4719240" y="170028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овь Возне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ле Коломенском (1532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9"/>
          <p:cNvSpPr/>
          <p:nvPr/>
        </p:nvSpPr>
        <p:spPr>
          <a:xfrm flipH="1">
            <a:off x="2268360" y="1916280"/>
            <a:ext cx="244800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479240" y="5157720"/>
            <a:ext cx="31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р Покрова, что на Р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рам Василия Блажен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555-15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рма и Постник Яков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ЖИВОПИСЬ</a:t>
            </a:r>
            <a:br>
              <a:rPr sz="36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ФЕОФАН ГРЕК (ОК.1340 – ПОСЛЕ 1405 Г.)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8" name="Picture 5" descr="FEOF_M"/>
          <p:cNvPicPr/>
          <p:nvPr/>
        </p:nvPicPr>
        <p:blipFill>
          <a:blip r:embed="rId1"/>
          <a:stretch/>
        </p:blipFill>
        <p:spPr>
          <a:xfrm>
            <a:off x="5364000" y="1484280"/>
            <a:ext cx="3210120" cy="41245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5366880" y="566100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ние Богородицы. 13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1187280" y="1916280"/>
            <a:ext cx="3672000" cy="3673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ом из Визан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л в Константинопо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городе (церковь Спаса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ине улице),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лаговещенск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ангельский соборы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ом Кремл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сть. Драмат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ржанный, аскет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ЖИВОПИСЬ</a:t>
            </a:r>
            <a:br>
              <a:rPr sz="36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АНДРЕЙ РУБЛЕВ (1370 – 1430 ГГ.)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2" name="Picture 4" descr="21C_M"/>
          <p:cNvPicPr/>
          <p:nvPr/>
        </p:nvPicPr>
        <p:blipFill>
          <a:blip r:embed="rId1"/>
          <a:stretch/>
        </p:blipFill>
        <p:spPr>
          <a:xfrm>
            <a:off x="6948360" y="1484280"/>
            <a:ext cx="1756080" cy="230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3" name="Text Box 5"/>
          <p:cNvSpPr/>
          <p:nvPr/>
        </p:nvSpPr>
        <p:spPr>
          <a:xfrm>
            <a:off x="6467040" y="378936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оица. 1410-142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9N0297"/>
          <p:cNvPicPr/>
          <p:nvPr/>
        </p:nvPicPr>
        <p:blipFill>
          <a:blip r:embed="rId2"/>
          <a:stretch/>
        </p:blipFill>
        <p:spPr>
          <a:xfrm>
            <a:off x="4716360" y="3213000"/>
            <a:ext cx="1801800" cy="26766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7"/>
          <p:cNvSpPr/>
          <p:nvPr/>
        </p:nvSpPr>
        <p:spPr>
          <a:xfrm>
            <a:off x="4070520" y="587700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а Христа. 1410-1415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684360" y="1916280"/>
            <a:ext cx="3671640" cy="3673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х Троице-Сергие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Спасо-Андро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ски Благовещенского со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ого Кремл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нского собора 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ость. Челове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сдержанная ма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а, чем у Феофана Гр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АЧАЛО МОСКОВСКОЙ ДИНАСТ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2340000" y="1341360"/>
            <a:ext cx="395928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иил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278-13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1476360" y="2276640"/>
            <a:ext cx="2089080" cy="865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м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4932360" y="2276640"/>
            <a:ext cx="2089080" cy="8650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яслав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я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826920" y="3284640"/>
            <a:ext cx="7201080" cy="93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ий Дани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303-13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9"/>
          <p:cNvSpPr/>
          <p:nvPr/>
        </p:nvSpPr>
        <p:spPr>
          <a:xfrm>
            <a:off x="2916360" y="4221000"/>
            <a:ext cx="2952720" cy="2160720"/>
          </a:xfrm>
          <a:prstGeom prst="downArrowCallout">
            <a:avLst>
              <a:gd name="adj1" fmla="val 34167"/>
              <a:gd name="adj2" fmla="val 34164"/>
              <a:gd name="adj3" fmla="val 16667"/>
              <a:gd name="adj4" fmla="val 66667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верскими князь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ом Ярослави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м Михайлови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1"/>
          <p:cNvSpPr/>
          <p:nvPr/>
        </p:nvSpPr>
        <p:spPr>
          <a:xfrm>
            <a:off x="826920" y="4221000"/>
            <a:ext cx="2089440" cy="865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а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2"/>
          <p:cNvSpPr/>
          <p:nvPr/>
        </p:nvSpPr>
        <p:spPr>
          <a:xfrm>
            <a:off x="5651640" y="4221000"/>
            <a:ext cx="3166920" cy="1943280"/>
          </a:xfrm>
          <a:prstGeom prst="verticalScroll">
            <a:avLst>
              <a:gd name="adj" fmla="val 1135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лгу жил в 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зятем хана Узб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 ярл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ликое кн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ЖИВОПИСЬ</a:t>
            </a:r>
            <a:br>
              <a:rPr sz="36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ДИОНИСИЙ (ОК.1400 – ПОСЛЕ 1503 Г.)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Picture 4" descr="HEAD_M"/>
          <p:cNvPicPr/>
          <p:nvPr/>
        </p:nvPicPr>
        <p:blipFill>
          <a:blip r:embed="rId1"/>
          <a:stretch/>
        </p:blipFill>
        <p:spPr>
          <a:xfrm>
            <a:off x="5508720" y="1484280"/>
            <a:ext cx="2977920" cy="209556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5"/>
          <p:cNvSpPr/>
          <p:nvPr/>
        </p:nvSpPr>
        <p:spPr>
          <a:xfrm>
            <a:off x="5007600" y="357336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держитель. Фреска. 1502-150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MONACH_M"/>
          <p:cNvPicPr/>
          <p:nvPr/>
        </p:nvPicPr>
        <p:blipFill>
          <a:blip r:embed="rId2"/>
          <a:stretch/>
        </p:blipFill>
        <p:spPr>
          <a:xfrm>
            <a:off x="6516720" y="4005360"/>
            <a:ext cx="1878120" cy="259236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7"/>
          <p:cNvSpPr/>
          <p:nvPr/>
        </p:nvSpPr>
        <p:spPr>
          <a:xfrm>
            <a:off x="5004360" y="5877000"/>
            <a:ext cx="1474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8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684360" y="1916280"/>
            <a:ext cx="3671640" cy="3673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х Иосифо-Волоколам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ски и иконы Усп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ра Московского Кремл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ви Рождества Богород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апонтова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нченность. Изыска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ичность. Наряд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ые 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ИВАН ДАНИЛОВИЧ КАЛИТА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(1325-1340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4" descr="9N0276"/>
          <p:cNvPicPr/>
          <p:nvPr/>
        </p:nvPicPr>
        <p:blipFill>
          <a:blip r:embed="rId1"/>
          <a:stretch/>
        </p:blipFill>
        <p:spPr>
          <a:xfrm>
            <a:off x="5508720" y="1557360"/>
            <a:ext cx="2963880" cy="22701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5941440" y="3789360"/>
            <a:ext cx="2291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.М. 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й 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ване Кал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1187280" y="1557360"/>
            <a:ext cx="3097440" cy="1368360"/>
          </a:xfrm>
          <a:prstGeom prst="leftArrowCallout">
            <a:avLst>
              <a:gd name="adj1" fmla="val 25002"/>
              <a:gd name="adj2" fmla="val 25000"/>
              <a:gd name="adj3" fmla="val 37727"/>
              <a:gd name="adj4" fmla="val 7608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327 г. под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иорды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ве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468360" y="3141720"/>
            <a:ext cx="4824360" cy="1295280"/>
          </a:xfrm>
          <a:prstGeom prst="bevel">
            <a:avLst>
              <a:gd name="adj" fmla="val 7718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328 г. получил ярл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еликое княже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собирать дань вместо баск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755640" y="4581360"/>
            <a:ext cx="4176720" cy="1943280"/>
          </a:xfrm>
          <a:prstGeom prst="plus">
            <a:avLst>
              <a:gd name="adj" fmla="val 25023"/>
            </a:avLst>
          </a:prstGeom>
          <a:solidFill>
            <a:srgbClr val="fe863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326 г. свою резиденцию пере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скву митрополит П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2"/>
          <p:cNvSpPr/>
          <p:nvPr/>
        </p:nvSpPr>
        <p:spPr>
          <a:xfrm>
            <a:off x="5867280" y="4508640"/>
            <a:ext cx="2305080" cy="936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го Се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4"/>
          <p:cNvSpPr/>
          <p:nvPr/>
        </p:nvSpPr>
        <p:spPr>
          <a:xfrm>
            <a:off x="5651640" y="5589720"/>
            <a:ext cx="3492360" cy="1268280"/>
          </a:xfrm>
          <a:prstGeom prst="foldedCorner">
            <a:avLst>
              <a:gd name="adj" fmla="val 17319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еон Горд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340-13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Красный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53-13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ли политику 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ДМИТРИЙ ИВАНОВИЧ ДОНСКОЙ (1359-1389): НАЧАЛО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755640" y="2205000"/>
            <a:ext cx="3673440" cy="1150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59-1362 гг. – 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еликое княжение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егородским княз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м Константинови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 flipH="1">
            <a:off x="1764720" y="1457280"/>
            <a:ext cx="684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40" y="3811"/>
                </a:moveTo>
                <a:lnTo>
                  <a:pt x="23645" y="3811"/>
                </a:lnTo>
                <a:lnTo>
                  <a:pt x="23645" y="-7359"/>
                </a:lnTo>
                <a:lnTo>
                  <a:pt x="19629" y="-9053"/>
                </a:ln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359 г. Дмитрию было 9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 Алексий – воспитатель и фактический пр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716360" y="2205000"/>
            <a:ext cx="3673440" cy="719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7-1368 гг. – 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каменн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755640" y="2205000"/>
            <a:ext cx="3673440" cy="1150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2 г. – ярл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еликое кн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6 г. – женитьба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докии Дмитрие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9N0287"/>
          <p:cNvPicPr/>
          <p:nvPr/>
        </p:nvPicPr>
        <p:blipFill>
          <a:blip r:embed="rId1"/>
          <a:stretch/>
        </p:blipFill>
        <p:spPr>
          <a:xfrm>
            <a:off x="4716360" y="2205000"/>
            <a:ext cx="3743280" cy="2347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0"/>
          <p:cNvSpPr/>
          <p:nvPr/>
        </p:nvSpPr>
        <p:spPr>
          <a:xfrm>
            <a:off x="684360" y="3716280"/>
            <a:ext cx="3743280" cy="1441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8-1375 гг. – во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Литвой (Ольгерд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ью (Михаил Александрови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684360" y="3716280"/>
            <a:ext cx="3743280" cy="14414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68, 1370, 1372 гг. – все ата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отб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75 г. – Дмитри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орил 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1187280" y="5805360"/>
            <a:ext cx="6121440" cy="692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ая задача – освободиться от ордынского иг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4716360" y="4653000"/>
            <a:ext cx="3743280" cy="936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озеро, Владимир, Дмит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одуб, Углич, Костр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 КУЛИКОВА ПОЛ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1116000" y="1197000"/>
            <a:ext cx="6840720" cy="1584360"/>
          </a:xfrm>
          <a:prstGeom prst="rightArrow">
            <a:avLst>
              <a:gd name="adj1" fmla="val 50037"/>
              <a:gd name="adj2" fmla="val 25396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а 1377 г. – Дмитрий Боброк-Волы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ил поход на Волжскую Булга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бед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flipH="1">
            <a:off x="1331280" y="2637000"/>
            <a:ext cx="6840360" cy="1584000"/>
          </a:xfrm>
          <a:prstGeom prst="rightArrow">
            <a:avLst>
              <a:gd name="adj1" fmla="val 50037"/>
              <a:gd name="adj2" fmla="val 25400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 1377 г. – ордынский царевич Араб-ш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ромил московско-нижегородское войс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еке Пь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1187280" y="4076640"/>
            <a:ext cx="6840720" cy="1584360"/>
          </a:xfrm>
          <a:prstGeom prst="rightArrow">
            <a:avLst>
              <a:gd name="adj1" fmla="val 50037"/>
              <a:gd name="adj2" fmla="val 25396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78 г. – Дмитрий Иванович разгром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ско мурзы Бегича на р. В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ГОТОВКА К СРАЖЕНИЮ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лючил союз с литовским великим князем Ягайло и рязанским князем Олегом Иванович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нял генуэзскую пехо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брал огромное войско (до 100 тыс. чел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брал ратников по всей Руси (кроме Рязани, Суздаля, Твери, Смоленска, Новгород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вел численность войска до 70 тыс. че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ил благословение Сергия Радонежского в Троица-Сергиеве монасты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188720" y="112536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ник Мам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5148720" y="112536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КУЛИКОВСКАЯ БИТВА</a:t>
            </a:r>
            <a:br>
              <a:rPr sz="3600"/>
            </a:b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8 СЕНТЯБРЯ 1380 Г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4" descr="FF16_M"/>
          <p:cNvPicPr/>
          <p:nvPr/>
        </p:nvPicPr>
        <p:blipFill>
          <a:blip r:embed="rId1"/>
          <a:stretch/>
        </p:blipFill>
        <p:spPr>
          <a:xfrm>
            <a:off x="468360" y="1484280"/>
            <a:ext cx="5173560" cy="5108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97" name="Picture 5" descr="9N0290"/>
          <p:cNvPicPr/>
          <p:nvPr/>
        </p:nvPicPr>
        <p:blipFill>
          <a:blip r:embed="rId2"/>
          <a:stretch/>
        </p:blipFill>
        <p:spPr>
          <a:xfrm>
            <a:off x="5792760" y="2349360"/>
            <a:ext cx="3276720" cy="1855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6013800" y="4221000"/>
            <a:ext cx="27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.Буб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ро на Куликовом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45:59Z</dcterms:created>
  <dc:creator>Свечников С.К.</dc:creator>
  <dc:description/>
  <dc:language>en-US</dc:language>
  <cp:lastModifiedBy>Admin</cp:lastModifiedBy>
  <dcterms:modified xsi:type="dcterms:W3CDTF">2019-11-03T13:32:30Z</dcterms:modified>
  <cp:revision>109</cp:revision>
  <dc:subject/>
  <dc:title>Слайд 1</dc:title>
</cp:coreProperties>
</file>