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15DB-D665-4A04-B7A2-9B2BEC32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1253-EE73-4AAF-85C2-2FD4C121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25F0-707C-4EED-9A3A-6A8CDCA3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8D66-8735-4726-B858-19729F4F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C737-E785-4624-8787-813EBC99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AB2F-ABAA-4150-8F47-0F1F140A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3847-1A7A-4223-934F-67F32193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ADE1-CFB9-4542-8FDF-D4B37D89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5EB4-766C-480D-8FF2-CD27810D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C573-C606-4107-8DDC-BA558ACE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E1BC-0C03-427D-AE50-854623A1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EE7E-0541-4237-9FAB-6618F217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2E91-F84E-449D-B976-669E0340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0BC0-D1E0-4721-BCFC-D5D3A00B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8299-1742-432C-A836-A9B78349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6368-1B65-45EB-A993-02F0EC45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BCBC-F3B3-4A8A-9C6D-2000C4D2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B56D03-ABBE-4D80-B8E0-26DC030F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5860FB-5A1F-45C8-B980-A77A4A4E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9F746-AD96-45C9-B2CB-1DAEF5C8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C9BD3A-4268-48FA-8D0B-C41979C2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DAA23B-2869-4C5F-AA6F-8C53E147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7649-FCED-4878-A429-C556C164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BC2480-EFD4-42D4-8FC6-13ABB166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951406-FE88-4061-B7F6-11F10D19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7E3DD-DC46-463C-9290-3D92865D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8E46E-2D0D-4680-9E1D-D4BD38C2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677AA6-22F7-4E24-B732-9F754753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8F656A-03A6-4E03-9789-276B8C04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4590E4-DAC6-4200-9731-18A6068DD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EF5FE-85B2-4099-9159-F851A125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2D8EF-F467-46A5-A768-4B8E9C04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59D39-286E-4DE9-B61D-0FAAF4B4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86C1-2EBB-4DE8-9A9B-5C4641DD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B1208-8F9F-4982-B9CD-FD36676D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09844-77DF-4772-B7B6-0CAF90AE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27427-0B41-4652-B8AF-F89C5B7A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56088-A736-4895-AA36-0AC4309A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8D3E4-450C-4240-9C15-9BFC18B5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D298F-0205-45EB-8DB6-B829343D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30A32-7A6D-4DF8-A892-77C24345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DFFC2-C89F-4646-AEF5-74FBB292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BF6DF-6744-49D4-8D84-2CF5604C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B1DE60-3502-4602-987B-7E561BCF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231F-4FB9-4C76-BF46-8CCED6C1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18C118-D9E2-4F73-AB92-774A5887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539C59-8391-437A-82D4-A0675048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2B498B-773F-448F-8FDF-62AF8E9F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D47A71-C4AE-4F6F-AF60-E128CE8C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99069F-9FDB-4FCD-BAC2-87707F0C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3C5F35-38AF-4D73-B109-E2FC2D34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CBFDF0-5176-46BC-9B80-55558E37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F1B079-AA68-412F-BF6B-192E5C97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9203BB-E5CE-4A9D-B2D6-965FB9FC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69D457-DA54-4540-8BEB-CF985C97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DF82-1F19-418B-B93D-4A90A9B5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150E32-7C22-4EB3-ABC0-A4FD54A0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C97DBC-F85A-4A93-800B-34BF1964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073BC7-A2AF-4C7C-8086-08DBE9CD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ACDA51-447C-41C7-81D4-0DBE541E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895604-9FA8-4A31-A9B5-B935F3AA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90C6A1-3D59-4E25-B0D6-9C10C151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6F93AC-60A7-46D6-B77B-88AB653A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9723B2-0B95-4B54-93B4-747B691C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881569-0420-4151-94E4-B50C444A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6A8252-B0EF-47B5-9A55-85DA627E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5A6A-3217-4D47-96FA-C51F4EDB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20ED21-D4A4-4A56-876B-E2A4A118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E33FE0-6CB1-4035-8F07-C6789A97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1DA095-8491-4190-A019-360E9457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6E28A8-7268-40AC-B1F0-4F049D6B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F1BD08-92C0-46E2-A0F2-4DDBEED9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FD866E-0A74-4E22-A5CE-F43220EB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D57291-7E5E-49D6-BD74-5ED543FB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0C81C4-6333-4DB0-95BA-E28B2E23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E91852-B65A-462D-8689-B3437AB6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C53535-3122-4FBE-92A8-18915D28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B22B-1D09-491C-94B6-CA6608BD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ED7029-CAA8-4526-BE5D-62F85B7F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3DAFCE-7E11-4BC5-852F-D2E29C75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3AE1DD-F41A-4F7D-BD92-076A2817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089658-85B6-4054-9DD3-E23DF77A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120EA9-B9AD-4E2B-81B2-E7CC5846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37E7-424F-4731-9DE5-67ABCD4E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5BF0-0B27-4FFD-882F-A8156D654E2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EAF4-68F1-498D-9A45-D9A56323359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4687-2897-4518-852E-A66E2BF41D3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D74D-1CB1-461F-B7C7-6AEA40347F9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0E52-A448-48A7-9049-3EEFE0F8CC6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427C-8C12-41FD-BC80-A3A393A09EE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6147-227E-439B-B481-42E5A0F9828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WordArt 2" descr=""/>
          <p:cNvPicPr/>
          <p:nvPr/>
        </p:nvPicPr>
        <p:blipFill>
          <a:blip r:embed="rId2"/>
          <a:stretch/>
        </p:blipFill>
        <p:spPr>
          <a:xfrm>
            <a:off x="1596960" y="176040"/>
            <a:ext cx="5535720" cy="55915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3"/>
          <p:cNvSpPr/>
          <p:nvPr/>
        </p:nvSpPr>
        <p:spPr>
          <a:xfrm>
            <a:off x="539640" y="580536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НАЧЕНИЕ КУЛИКОВСКОЙ БИТВ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225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Ослабление (но не отмена!!!) ордынского иг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225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Доказана возможность победы над монголо-татарам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225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Мощный национальный подъем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225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ризнание роли Москвы как объединительницы Рус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AutoShape 4"/>
          <p:cNvSpPr/>
          <p:nvPr/>
        </p:nvSpPr>
        <p:spPr>
          <a:xfrm>
            <a:off x="539640" y="1197000"/>
            <a:ext cx="8353440" cy="431640"/>
          </a:xfrm>
          <a:prstGeom prst="wedgeRectCallout">
            <a:avLst>
              <a:gd name="adj1" fmla="val 17370"/>
              <a:gd name="adj2" fmla="val 86763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382 г. хан Тохтамыш взял Москву и заставил возобновить выплату д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ВАСИЛИЙ </a:t>
            </a: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I</a:t>
            </a: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 ДМИТРИЕВИЧ</a:t>
            </a:r>
            <a:br>
              <a:rPr sz="3600"/>
            </a:b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(1389-1425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AutoShape 6"/>
          <p:cNvSpPr/>
          <p:nvPr/>
        </p:nvSpPr>
        <p:spPr>
          <a:xfrm flipH="1">
            <a:off x="1766880" y="1455840"/>
            <a:ext cx="496584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31" y="3811"/>
                </a:moveTo>
                <a:lnTo>
                  <a:pt x="24403" y="3811"/>
                </a:lnTo>
                <a:lnTo>
                  <a:pt x="24403" y="-24036"/>
                </a:lnTo>
                <a:lnTo>
                  <a:pt x="21448" y="-28271"/>
                </a:lnTo>
              </a:path>
            </a:pathLst>
          </a:custGeom>
          <a:solidFill>
            <a:srgbClr val="fe8637"/>
          </a:soli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 великим князем по завещанию отца, не спрашивая разрешения Орд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7"/>
          <p:cNvSpPr/>
          <p:nvPr/>
        </p:nvSpPr>
        <p:spPr>
          <a:xfrm>
            <a:off x="1116000" y="2205000"/>
            <a:ext cx="4968720" cy="1584360"/>
          </a:xfrm>
          <a:prstGeom prst="rightArrow">
            <a:avLst>
              <a:gd name="adj1" fmla="val 50037"/>
              <a:gd name="adj2" fmla="val 184464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95 г. – отразил напа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мура (Тамерлана) на Ру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8" descr="9N0580"/>
          <p:cNvPicPr/>
          <p:nvPr/>
        </p:nvPicPr>
        <p:blipFill>
          <a:blip r:embed="rId1"/>
          <a:stretch/>
        </p:blipFill>
        <p:spPr>
          <a:xfrm>
            <a:off x="6372360" y="2205000"/>
            <a:ext cx="1089000" cy="16668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9" descr="BOGOMA_M"/>
          <p:cNvPicPr/>
          <p:nvPr/>
        </p:nvPicPr>
        <p:blipFill>
          <a:blip r:embed="rId2"/>
          <a:stretch/>
        </p:blipFill>
        <p:spPr>
          <a:xfrm>
            <a:off x="6372360" y="2205000"/>
            <a:ext cx="1076040" cy="1655640"/>
          </a:xfrm>
          <a:prstGeom prst="rect">
            <a:avLst/>
          </a:prstGeom>
          <a:ln w="0">
            <a:noFill/>
          </a:ln>
        </p:spPr>
      </p:pic>
      <p:sp>
        <p:nvSpPr>
          <p:cNvPr id="407" name="AutoShape 10"/>
          <p:cNvSpPr/>
          <p:nvPr/>
        </p:nvSpPr>
        <p:spPr>
          <a:xfrm>
            <a:off x="1116000" y="4005360"/>
            <a:ext cx="3384720" cy="1655640"/>
          </a:xfrm>
          <a:prstGeom prst="rightArrowCallout">
            <a:avLst>
              <a:gd name="adj1" fmla="val 19465"/>
              <a:gd name="adj2" fmla="val 23634"/>
              <a:gd name="adj3" fmla="val 43726"/>
              <a:gd name="adj4" fmla="val 74111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08 г. – откупил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эмира Едиге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адившего Моск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2"/>
          <p:cNvSpPr/>
          <p:nvPr/>
        </p:nvSpPr>
        <p:spPr>
          <a:xfrm>
            <a:off x="5076720" y="4076640"/>
            <a:ext cx="3240360" cy="144000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оединил Ниж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город, Муром, Вологд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юг, Торжок, Волоколамс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отдал Смоленск Ли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4"/>
          <p:cNvSpPr/>
          <p:nvPr/>
        </p:nvSpPr>
        <p:spPr>
          <a:xfrm>
            <a:off x="2700360" y="5877000"/>
            <a:ext cx="496584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31" y="3812"/>
                </a:moveTo>
                <a:lnTo>
                  <a:pt x="23824" y="3812"/>
                </a:lnTo>
                <a:lnTo>
                  <a:pt x="23824" y="-8047"/>
                </a:lnTo>
                <a:lnTo>
                  <a:pt x="21358" y="-18371"/>
                </a:lnTo>
              </a:path>
            </a:pathLst>
          </a:custGeom>
          <a:solidFill>
            <a:srgbClr val="fe8637"/>
          </a:soli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ил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л женат на дочери лито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ого князя Витовта Софь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549000"/>
            <a:ext cx="74674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ФЕОДАЛЬНАЯ ВОЙНА 1433-1453 ГГ.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468360" y="1413000"/>
            <a:ext cx="3672000" cy="122400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или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асильевич Тем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425-146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4859280" y="1413000"/>
            <a:ext cx="3672000" cy="5032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рий Дмитриевич Галиц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4859280" y="1916280"/>
            <a:ext cx="3672000" cy="7207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илий Кос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й Шемя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й Кра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4286520" y="1628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468360" y="2781360"/>
            <a:ext cx="8064360" cy="1152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чина – вопрос о престолонаслед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завещанию Дмитрия Донского, Московское княж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смерти Васил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лжно было перейти Ю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ко времени составления завещания у Васил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было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468360" y="3933720"/>
            <a:ext cx="8064360" cy="122400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од – сканда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 февраля 1433 г. на свадьбе Васил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фья Витовтовна (мать Васил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сорвала драгоценный поя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адлежавший ранее Дмитрию Донскому, с Василия Кос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2"/>
          <p:cNvSpPr/>
          <p:nvPr/>
        </p:nvSpPr>
        <p:spPr>
          <a:xfrm flipH="1">
            <a:off x="-720" y="0"/>
            <a:ext cx="2808360" cy="6094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н Васил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внук Дмитрия Дон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4"/>
          <p:cNvSpPr/>
          <p:nvPr/>
        </p:nvSpPr>
        <p:spPr>
          <a:xfrm>
            <a:off x="539640" y="620640"/>
            <a:ext cx="216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5"/>
          <p:cNvSpPr/>
          <p:nvPr/>
        </p:nvSpPr>
        <p:spPr>
          <a:xfrm>
            <a:off x="6335640" y="0"/>
            <a:ext cx="2808360" cy="62064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н Дмитрия Донского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ат Васил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7"/>
          <p:cNvSpPr/>
          <p:nvPr/>
        </p:nvSpPr>
        <p:spPr>
          <a:xfrm flipH="1">
            <a:off x="8243640" y="62064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1"/>
          <p:cNvSpPr/>
          <p:nvPr/>
        </p:nvSpPr>
        <p:spPr>
          <a:xfrm>
            <a:off x="324000" y="5264280"/>
            <a:ext cx="8280360" cy="1484280"/>
          </a:xfrm>
          <a:prstGeom prst="verticalScroll">
            <a:avLst>
              <a:gd name="adj" fmla="val 7592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ые событ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34 г. – Юрий Дмитриевич объявил себя великим князем и у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34 г. – Василий Косой объявил себя великим княз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36 г. – Василий Косой был ослеплен и посажен в темниц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45 г. – Васили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ыл взят плен ханом Улу-Мухаммедом и отпущен  за огромный выку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46 г. – Васили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ыл ослеплен Дмитрием Шемя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53 г. – Дмитрий Шемяка умер, война закончила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3" descr="9N0303"/>
          <p:cNvPicPr/>
          <p:nvPr/>
        </p:nvPicPr>
        <p:blipFill>
          <a:blip r:embed="rId1"/>
          <a:stretch/>
        </p:blipFill>
        <p:spPr>
          <a:xfrm>
            <a:off x="6303960" y="2781360"/>
            <a:ext cx="21844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ПОСЛЕДСТВИЯ ФЕОДАЛЬНОЙ ВОЙНЫ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орение страны, гибель людей, сожжение городов и деревен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иление роли ордынских ханов, отсрочка свержения ордынского иг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репление великокняжеской власти Василия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ВАСИЛИЙ </a:t>
            </a: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II</a:t>
            </a: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 ТЕМНЫЙ</a:t>
            </a:r>
            <a:br>
              <a:rPr sz="3600"/>
            </a:b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ПОСЛЕ СВОЕЙ ПОБЕДЫ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AutoShape 4"/>
          <p:cNvSpPr/>
          <p:nvPr/>
        </p:nvSpPr>
        <p:spPr>
          <a:xfrm flipH="1">
            <a:off x="826200" y="2421000"/>
            <a:ext cx="6913800" cy="1368360"/>
          </a:xfrm>
          <a:prstGeom prst="rightArrow">
            <a:avLst>
              <a:gd name="adj1" fmla="val 54065"/>
              <a:gd name="adj2" fmla="val 8552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56 г. – поход на Нов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оединение к Москве Вологды, Волоколам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угих новгородских террито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6"/>
          <p:cNvSpPr/>
          <p:nvPr/>
        </p:nvSpPr>
        <p:spPr>
          <a:xfrm>
            <a:off x="1908000" y="3860640"/>
            <a:ext cx="5257800" cy="1368720"/>
          </a:xfrm>
          <a:prstGeom prst="plus">
            <a:avLst>
              <a:gd name="adj" fmla="val 2500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48 г. – Русская православная церк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а автокефальной (независимо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трополитом Московским и всея Ру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 избран И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10"/>
          <p:cNvSpPr/>
          <p:nvPr/>
        </p:nvSpPr>
        <p:spPr>
          <a:xfrm>
            <a:off x="1332000" y="5373720"/>
            <a:ext cx="6551640" cy="1152360"/>
          </a:xfrm>
          <a:prstGeom prst="bevel">
            <a:avLst>
              <a:gd name="adj" fmla="val 1250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48 г. – своим соправителем назначил сына Ив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будущий Ива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ликий (1462-1505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2"/>
          <p:cNvSpPr/>
          <p:nvPr/>
        </p:nvSpPr>
        <p:spPr>
          <a:xfrm>
            <a:off x="2268360" y="1484280"/>
            <a:ext cx="4680000" cy="9349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квидация удельных княж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Дмитровского, Галицкого, Можайско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пуховско-Боровского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ИВАН </a:t>
            </a: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III</a:t>
            </a: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 ВАСИЛЬЕВИЧ (1462-1505)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900000" y="1628640"/>
            <a:ext cx="2664000" cy="17290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оедин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ославль (14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ов (14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вгород (14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ерь (148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ятка (148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4643280" y="1628640"/>
            <a:ext cx="3529080" cy="1800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ржение иг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76 г. – прекра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латы дани («выход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80 г. – стояние на реке Уг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1487 г. – подчи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занского ха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7"/>
          <p:cNvSpPr/>
          <p:nvPr/>
        </p:nvSpPr>
        <p:spPr>
          <a:xfrm flipH="1">
            <a:off x="542880" y="1116000"/>
            <a:ext cx="345600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77" y="4905"/>
                </a:moveTo>
                <a:lnTo>
                  <a:pt x="-2243" y="4905"/>
                </a:lnTo>
                <a:lnTo>
                  <a:pt x="-2243" y="34818"/>
                </a:lnTo>
                <a:lnTo>
                  <a:pt x="5050" y="64936"/>
                </a:lnTo>
              </a:path>
            </a:pathLst>
          </a:cu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71 г. –  битва на реке Шело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78 г. – осада и взятие Новгор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900000" y="3357720"/>
            <a:ext cx="2664000" cy="7189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85 г.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ь всея Ру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0"/>
          <p:cNvSpPr/>
          <p:nvPr/>
        </p:nvSpPr>
        <p:spPr>
          <a:xfrm>
            <a:off x="900000" y="4365720"/>
            <a:ext cx="7488360" cy="1295280"/>
          </a:xfrm>
          <a:prstGeom prst="bevel">
            <a:avLst>
              <a:gd name="adj" fmla="val 9454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дебник 149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ртная казнь за основные государственные преступ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 Юрьева дня (две недели до и после 26 ноябр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2"/>
          <p:cNvSpPr/>
          <p:nvPr/>
        </p:nvSpPr>
        <p:spPr>
          <a:xfrm>
            <a:off x="2124000" y="6021360"/>
            <a:ext cx="3168720" cy="432000"/>
          </a:xfrm>
          <a:prstGeom prst="wedgeRectCallout">
            <a:avLst>
              <a:gd name="adj1" fmla="val -32967"/>
              <a:gd name="adj2" fmla="val -185296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Выплата «пожилог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4" descr="15A_M"/>
          <p:cNvPicPr/>
          <p:nvPr/>
        </p:nvPicPr>
        <p:blipFill>
          <a:blip r:embed="rId1"/>
          <a:stretch/>
        </p:blipFill>
        <p:spPr>
          <a:xfrm>
            <a:off x="1258920" y="260280"/>
            <a:ext cx="6842160" cy="558792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5"/>
          <p:cNvSpPr/>
          <p:nvPr/>
        </p:nvSpPr>
        <p:spPr>
          <a:xfrm>
            <a:off x="468360" y="5734080"/>
            <a:ext cx="2016000" cy="647640"/>
          </a:xfrm>
          <a:prstGeom prst="wedgeRectCallout">
            <a:avLst>
              <a:gd name="adj1" fmla="val 41731"/>
              <a:gd name="adj2" fmla="val -107351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т знати при великом кня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6"/>
          <p:cNvSpPr/>
          <p:nvPr/>
        </p:nvSpPr>
        <p:spPr>
          <a:xfrm>
            <a:off x="2843280" y="5659560"/>
            <a:ext cx="2808360" cy="968400"/>
          </a:xfrm>
          <a:prstGeom prst="wedgeRectCallout">
            <a:avLst>
              <a:gd name="adj1" fmla="val -4833"/>
              <a:gd name="adj2" fmla="val -7705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, ведавший государевыми (дворцовыми) зем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7"/>
          <p:cNvSpPr/>
          <p:nvPr/>
        </p:nvSpPr>
        <p:spPr>
          <a:xfrm>
            <a:off x="6084720" y="5659560"/>
            <a:ext cx="2808360" cy="1008000"/>
          </a:xfrm>
          <a:prstGeom prst="wedgeRectCallout">
            <a:avLst>
              <a:gd name="adj1" fmla="val 592"/>
              <a:gd name="adj2" fmla="val -81652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, ведавший государственной печатью, финансами и внешней полити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8" descr="13D_M"/>
          <p:cNvPicPr/>
          <p:nvPr/>
        </p:nvPicPr>
        <p:blipFill>
          <a:blip r:embed="rId2"/>
          <a:stretch/>
        </p:blipFill>
        <p:spPr>
          <a:xfrm>
            <a:off x="8072280" y="0"/>
            <a:ext cx="1071720" cy="242100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9"/>
          <p:cNvSpPr/>
          <p:nvPr/>
        </p:nvSpPr>
        <p:spPr>
          <a:xfrm>
            <a:off x="324000" y="1557360"/>
            <a:ext cx="1726920" cy="1584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ст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ез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лости Ст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1"/>
          <p:cNvSpPr/>
          <p:nvPr/>
        </p:nvSpPr>
        <p:spPr>
          <a:xfrm flipH="1">
            <a:off x="755640" y="2492280"/>
            <a:ext cx="287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2"/>
          <p:cNvSpPr/>
          <p:nvPr/>
        </p:nvSpPr>
        <p:spPr>
          <a:xfrm>
            <a:off x="1187280" y="249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3"/>
          <p:cNvSpPr/>
          <p:nvPr/>
        </p:nvSpPr>
        <p:spPr>
          <a:xfrm>
            <a:off x="1332000" y="2492280"/>
            <a:ext cx="215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4"/>
          <p:cNvSpPr/>
          <p:nvPr/>
        </p:nvSpPr>
        <p:spPr>
          <a:xfrm>
            <a:off x="1908000" y="2060640"/>
            <a:ext cx="1511640" cy="216000"/>
          </a:xfrm>
          <a:prstGeom prst="borderCallout1">
            <a:avLst>
              <a:gd name="adj1" fmla="val 18750"/>
              <a:gd name="adj2" fmla="val -8333"/>
              <a:gd name="adj3" fmla="val 151472"/>
              <a:gd name="adj4" fmla="val -27731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местн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15"/>
          <p:cNvSpPr/>
          <p:nvPr/>
        </p:nvSpPr>
        <p:spPr>
          <a:xfrm>
            <a:off x="1908000" y="2421000"/>
            <a:ext cx="1368720" cy="216000"/>
          </a:xfrm>
          <a:prstGeom prst="borderCallout1">
            <a:avLst>
              <a:gd name="adj1" fmla="val 18750"/>
              <a:gd name="adj2" fmla="val -8333"/>
              <a:gd name="adj3" fmla="val 179412"/>
              <a:gd name="adj4" fmla="val -51625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лос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6"/>
          <p:cNvSpPr/>
          <p:nvPr/>
        </p:nvSpPr>
        <p:spPr>
          <a:xfrm flipH="1">
            <a:off x="5508000" y="1989000"/>
            <a:ext cx="1368360" cy="648000"/>
          </a:xfrm>
          <a:custGeom>
            <a:avLst/>
            <a:gdLst>
              <a:gd name="textAreaLeft" fmla="*/ -360 w 1368360"/>
              <a:gd name="textAreaRight" fmla="*/ 1368360 w 136836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91" y="0"/>
                </a:lnTo>
                <a:lnTo>
                  <a:pt x="21600" y="10800"/>
                </a:lnTo>
                <a:lnTo>
                  <a:pt x="177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м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48148E-006 L -0.20868 0.00532 E">
                                      <p:cBhvr>
                                        <p:cTn id="449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68770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СОЦИАЛЬНО-ЭКОНОМИЧЕСКОЕ РАЗВИТИЕ ПРИ ИВАНЕ 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III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Трехполье вместо двуполь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ряду с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отчиной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(наследственное землевладение)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оместное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(частично наследственное) землевладение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величение доли крестьян, живущих на частновладельческих (помещичьих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«белых»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) землях, свободных от государственных налогов, за счет раздачи государственных 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«черных»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) земель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ост городов, развитие ремесла и торговл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кладывание основных сослови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2050920" y="5769000"/>
            <a:ext cx="2521080" cy="9079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я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оря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ховен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адские люд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естья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7"/>
          <p:cNvSpPr/>
          <p:nvPr/>
        </p:nvSpPr>
        <p:spPr>
          <a:xfrm>
            <a:off x="6732720" y="404640"/>
            <a:ext cx="2411280" cy="1368720"/>
          </a:xfrm>
          <a:prstGeom prst="wedgeRectCallout">
            <a:avLst>
              <a:gd name="adj1" fmla="val -30513"/>
              <a:gd name="adj2" fmla="val 99768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местье нельзя было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давать,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давать в монастыри,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вать по наследству сыновьям, имевшим поместья,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мужним дочер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ВАСИЛИЙ </a:t>
            </a: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III</a:t>
            </a: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 ИВАНОВИЧ (1505-1533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116000" y="1341360"/>
            <a:ext cx="2664000" cy="144000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оедин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ков (15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ленск (15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язань (15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5"/>
          <p:cNvSpPr/>
          <p:nvPr/>
        </p:nvSpPr>
        <p:spPr>
          <a:xfrm>
            <a:off x="3995640" y="1844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6"/>
          <p:cNvSpPr/>
          <p:nvPr/>
        </p:nvSpPr>
        <p:spPr>
          <a:xfrm>
            <a:off x="5219640" y="1484280"/>
            <a:ext cx="2303640" cy="1225440"/>
          </a:xfrm>
          <a:prstGeom prst="bevel">
            <a:avLst>
              <a:gd name="adj" fmla="val 1250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ерши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ди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сских зем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8" descr="13C_M"/>
          <p:cNvPicPr/>
          <p:nvPr/>
        </p:nvPicPr>
        <p:blipFill>
          <a:blip r:embed="rId1"/>
          <a:stretch/>
        </p:blipFill>
        <p:spPr>
          <a:xfrm>
            <a:off x="6084720" y="3068640"/>
            <a:ext cx="2221200" cy="3133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58" name="Picture 9" descr="13B_M"/>
          <p:cNvPicPr/>
          <p:nvPr/>
        </p:nvPicPr>
        <p:blipFill>
          <a:blip r:embed="rId2"/>
          <a:stretch/>
        </p:blipFill>
        <p:spPr>
          <a:xfrm>
            <a:off x="1187280" y="2997360"/>
            <a:ext cx="3600720" cy="3454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59" name="Text Box 10"/>
          <p:cNvSpPr/>
          <p:nvPr/>
        </p:nvSpPr>
        <p:spPr>
          <a:xfrm>
            <a:off x="5644440" y="6284880"/>
            <a:ext cx="30700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сили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герб Москв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Гравюра из «Записок о Москови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.Герберштей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75f6d"/>
                </a:solidFill>
                <a:latin typeface="Century Schoolbook"/>
              </a:rPr>
              <a:t>НАЧАЛО ПРАВЛЕНИЯ ИВАНА </a:t>
            </a: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IV </a:t>
            </a:r>
            <a:r>
              <a:rPr b="0" lang="ru-RU" sz="3400" spc="-1" strike="noStrike">
                <a:solidFill>
                  <a:srgbClr val="575f6d"/>
                </a:solidFill>
                <a:latin typeface="Century Schoolbook"/>
              </a:rPr>
              <a:t>ВАСИЛЬЕВИЧА ГРОЗНОГО (1533-1584)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755640" y="1700280"/>
            <a:ext cx="3311640" cy="7207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ент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ены Глинской (1533-15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755640" y="2421000"/>
            <a:ext cx="3311640" cy="12952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чтожение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дельных князей Ю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овского и Анд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ицкого, а так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ила Глин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дяди Еле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755640" y="3716280"/>
            <a:ext cx="3311640" cy="12952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бная рефор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дебные дела в ру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орных губных стар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обыск» и наказ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новны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8"/>
          <p:cNvSpPr/>
          <p:nvPr/>
        </p:nvSpPr>
        <p:spPr>
          <a:xfrm>
            <a:off x="755640" y="3716280"/>
            <a:ext cx="3311640" cy="12952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бная из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губные старосты (дворян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бные целоваль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лучшие» крестьян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ьяки и подья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755640" y="5013360"/>
            <a:ext cx="3311640" cy="86364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нежная реформа 1535 г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ая монет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явились копе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0"/>
          <p:cNvSpPr/>
          <p:nvPr/>
        </p:nvSpPr>
        <p:spPr>
          <a:xfrm>
            <a:off x="4859280" y="1700280"/>
            <a:ext cx="3311640" cy="12952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538-1547 гг. – пери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ярского 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Шуйские, Бельск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ин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WordArt 11"/>
          <p:cNvSpPr txBox="1"/>
          <p:nvPr/>
        </p:nvSpPr>
        <p:spPr>
          <a:xfrm>
            <a:off x="4859280" y="3141720"/>
            <a:ext cx="331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d2611c"/>
                  </a:solidFill>
                  <a:miter/>
                </a:ln>
                <a:solidFill>
                  <a:srgbClr val="7598d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47 г.</a:t>
            </a:r>
            <a:endParaRPr b="0" lang="en-US" sz="1800" spc="1" strike="noStrike">
              <a:ln w="19080">
                <a:solidFill>
                  <a:srgbClr val="d2611c"/>
                </a:solidFill>
                <a:miter/>
              </a:ln>
              <a:solidFill>
                <a:srgbClr val="7598d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8" name="Rectangle 12"/>
          <p:cNvSpPr/>
          <p:nvPr/>
        </p:nvSpPr>
        <p:spPr>
          <a:xfrm>
            <a:off x="4859280" y="4076640"/>
            <a:ext cx="3311640" cy="576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 янва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нчание на ц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3"/>
          <p:cNvSpPr/>
          <p:nvPr/>
        </p:nvSpPr>
        <p:spPr>
          <a:xfrm>
            <a:off x="4859280" y="4653000"/>
            <a:ext cx="3311640" cy="86364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итьба на Анаста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ановне Юрьевой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харьи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4"/>
          <p:cNvSpPr/>
          <p:nvPr/>
        </p:nvSpPr>
        <p:spPr>
          <a:xfrm>
            <a:off x="4859280" y="5516640"/>
            <a:ext cx="3311640" cy="8650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ю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жар и бунт 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знание необход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фо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ПРИЧИНЫ ОБРАЗОВАНИЯ ЕДИНОГО РУССКОГО ГОСУДАРСТВ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осстановление и дальнейшее развитие экономики с конца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XIII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еобходимость расширения торговых связей между областям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Единое национальное самосознание, единый язык и православная вера, общие правовые нормы и культур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еобходимость освобождения от иг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силение роли князей, изменение характера дружины (слуги, а не сотоварищи), развитие помещичьего (дворянского) землевладе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ЗБРАННАЯ РАДА (1547-1560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лексей Адашев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неродовитый костромской дворяни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итрополит Макарий – наставник цар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ильвестр – протопоп Благовещенского собора, царский духовни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дставители знати: Андрей Курбский, Воротынские, Одоевские, Шереметьевы, Шуйск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ЕФОРМЫ ИЗБРАННОЙ РАД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395280" y="1341360"/>
            <a:ext cx="2376360" cy="17287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49 г. – пер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мский со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рган сослов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итель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иваю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ь центра и ме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2771640" y="1341360"/>
            <a:ext cx="2952720" cy="17272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дебник 155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ение в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местников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остелей, уси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я цар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министрации, еди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судебных пош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5724360" y="1341360"/>
            <a:ext cx="3095640" cy="17272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енная реформа 155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имо ко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естного опол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«служилые по отечеству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оянное войско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ельцы и пушк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«служилые по прибору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8"/>
          <p:cNvSpPr/>
          <p:nvPr/>
        </p:nvSpPr>
        <p:spPr>
          <a:xfrm>
            <a:off x="395280" y="3068640"/>
            <a:ext cx="3529080" cy="19447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главый собор 155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фикация церков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ядов, признание вс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ных святых общерусски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сткий иконописный кано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рет ростовщи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щен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9"/>
          <p:cNvSpPr/>
          <p:nvPr/>
        </p:nvSpPr>
        <p:spPr>
          <a:xfrm>
            <a:off x="3924360" y="3068640"/>
            <a:ext cx="4895640" cy="19447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должение губной ре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555-1556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мена кормлений, вся власть в уез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шла к губным и земским старостам, 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одах – к излюбленным голов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0"/>
          <p:cNvSpPr/>
          <p:nvPr/>
        </p:nvSpPr>
        <p:spPr>
          <a:xfrm>
            <a:off x="4427640" y="3068640"/>
            <a:ext cx="3889440" cy="19447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мская из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ский старо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з «лучших» черносош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стьян или посадских люд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ские суд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ские дья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валь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тские, пятидесятские, десят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1"/>
          <p:cNvSpPr/>
          <p:nvPr/>
        </p:nvSpPr>
        <p:spPr>
          <a:xfrm>
            <a:off x="395280" y="5013360"/>
            <a:ext cx="8424720" cy="1584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приказ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каз-поручение превращался в приказ-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ольский прика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битенный прика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естный при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ойный прика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елецкий прика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мской при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ВЕДЕНИЕ ОПРИЧНИН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2" name="AutoShape 4"/>
          <p:cNvSpPr/>
          <p:nvPr/>
        </p:nvSpPr>
        <p:spPr>
          <a:xfrm>
            <a:off x="971640" y="1484280"/>
            <a:ext cx="1728720" cy="360360"/>
          </a:xfrm>
          <a:prstGeom prst="bevel">
            <a:avLst>
              <a:gd name="adj" fmla="val 1250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декабря 1564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6"/>
          <p:cNvSpPr/>
          <p:nvPr/>
        </p:nvSpPr>
        <p:spPr>
          <a:xfrm>
            <a:off x="1547640" y="1989000"/>
            <a:ext cx="576360" cy="503280"/>
          </a:xfrm>
          <a:custGeom>
            <a:avLst/>
            <a:gdLst>
              <a:gd name="textAreaLeft" fmla="*/ 84240 w 576360"/>
              <a:gd name="textAreaRight" fmla="*/ 492120 w 576360"/>
              <a:gd name="textAreaTop" fmla="*/ 73440 h 503280"/>
              <a:gd name="textAreaBottom" fmla="*/ 4298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7140" y="10800"/>
                </a:moveTo>
                <a:cubicBezTo>
                  <a:pt x="7140" y="12821"/>
                  <a:pt x="8779" y="14460"/>
                  <a:pt x="10800" y="14460"/>
                </a:cubicBezTo>
                <a:cubicBezTo>
                  <a:pt x="12821" y="14460"/>
                  <a:pt x="14460" y="12821"/>
                  <a:pt x="14460" y="10800"/>
                </a:cubicBezTo>
                <a:cubicBezTo>
                  <a:pt x="14460" y="8779"/>
                  <a:pt x="12821" y="7140"/>
                  <a:pt x="10800" y="7140"/>
                </a:cubicBezTo>
                <a:cubicBezTo>
                  <a:pt x="8779" y="7140"/>
                  <a:pt x="7140" y="8779"/>
                  <a:pt x="7140" y="10800"/>
                </a:cubicBezTo>
                <a:close/>
              </a:path>
            </a:pathLst>
          </a:custGeom>
          <a:solidFill>
            <a:srgbClr val="fe863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1334520" y="24210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8"/>
          <p:cNvSpPr/>
          <p:nvPr/>
        </p:nvSpPr>
        <p:spPr>
          <a:xfrm>
            <a:off x="2268360" y="2133720"/>
            <a:ext cx="2448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9"/>
          <p:cNvSpPr/>
          <p:nvPr/>
        </p:nvSpPr>
        <p:spPr>
          <a:xfrm>
            <a:off x="4788000" y="2133720"/>
            <a:ext cx="360360" cy="288720"/>
          </a:xfrm>
          <a:custGeom>
            <a:avLst/>
            <a:gdLst>
              <a:gd name="textAreaLeft" fmla="*/ 52560 w 360360"/>
              <a:gd name="textAreaRight" fmla="*/ 307800 w 360360"/>
              <a:gd name="textAreaTop" fmla="*/ 42120 h 288720"/>
              <a:gd name="textAreaBottom" fmla="*/ 2466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e863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3493800" y="1700280"/>
            <a:ext cx="29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ександровская слоб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11"/>
          <p:cNvSpPr/>
          <p:nvPr/>
        </p:nvSpPr>
        <p:spPr>
          <a:xfrm>
            <a:off x="5148360" y="2060640"/>
            <a:ext cx="1871640" cy="1368360"/>
          </a:xfrm>
          <a:prstGeom prst="verticalScroll">
            <a:avLst>
              <a:gd name="adj" fmla="val 1250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м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я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блич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6"/>
          <p:cNvSpPr/>
          <p:nvPr/>
        </p:nvSpPr>
        <p:spPr>
          <a:xfrm>
            <a:off x="2268360" y="2421000"/>
            <a:ext cx="24480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7"/>
          <p:cNvSpPr/>
          <p:nvPr/>
        </p:nvSpPr>
        <p:spPr>
          <a:xfrm>
            <a:off x="3419640" y="3573360"/>
            <a:ext cx="5473440" cy="1943280"/>
          </a:xfrm>
          <a:prstGeom prst="borderCallout1">
            <a:avLst>
              <a:gd name="adj1" fmla="val 18750"/>
              <a:gd name="adj2" fmla="val -8333"/>
              <a:gd name="adj3" fmla="val -56861"/>
              <a:gd name="adj4" fmla="val -20763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враль 1565 г. – Земский со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реждение опричнины (личный особый удел царя со своим управление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щина – формально управляемая Боярской думой часть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 царя казнить и миловать по своему усмотр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илегированное положение опричнины перед земщи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8"/>
          <p:cNvSpPr/>
          <p:nvPr/>
        </p:nvSpPr>
        <p:spPr>
          <a:xfrm>
            <a:off x="6948360" y="2060640"/>
            <a:ext cx="1800360" cy="1368360"/>
          </a:xfrm>
          <a:prstGeom prst="verticalScroll">
            <a:avLst>
              <a:gd name="adj" fmla="val 1250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м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ст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юд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бодр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9" descr="9N0341"/>
          <p:cNvPicPr/>
          <p:nvPr/>
        </p:nvPicPr>
        <p:blipFill>
          <a:blip r:embed="rId1"/>
          <a:stretch/>
        </p:blipFill>
        <p:spPr>
          <a:xfrm>
            <a:off x="6588000" y="1046160"/>
            <a:ext cx="1368720" cy="938160"/>
          </a:xfrm>
          <a:prstGeom prst="rect">
            <a:avLst/>
          </a:prstGeom>
          <a:ln w="0">
            <a:noFill/>
          </a:ln>
        </p:spPr>
      </p:pic>
      <p:sp>
        <p:nvSpPr>
          <p:cNvPr id="493" name="AutoShape 13"/>
          <p:cNvSpPr/>
          <p:nvPr/>
        </p:nvSpPr>
        <p:spPr>
          <a:xfrm>
            <a:off x="826920" y="2781360"/>
            <a:ext cx="2089440" cy="647640"/>
          </a:xfrm>
          <a:prstGeom prst="rightArrowCallout">
            <a:avLst>
              <a:gd name="adj1" fmla="val 32355"/>
              <a:gd name="adj2" fmla="val 42648"/>
              <a:gd name="adj3" fmla="val 64480"/>
              <a:gd name="adj4" fmla="val 74315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пу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ухове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боя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21"/>
          <p:cNvSpPr/>
          <p:nvPr/>
        </p:nvSpPr>
        <p:spPr>
          <a:xfrm>
            <a:off x="3419640" y="5516640"/>
            <a:ext cx="5473440" cy="86364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усиление самодержавной вла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развитость центрального аппа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енсируется жесток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23" descr="3bm"/>
          <p:cNvPicPr/>
          <p:nvPr/>
        </p:nvPicPr>
        <p:blipFill>
          <a:blip r:embed="rId2"/>
          <a:stretch/>
        </p:blipFill>
        <p:spPr>
          <a:xfrm>
            <a:off x="250920" y="3645000"/>
            <a:ext cx="2832120" cy="1933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22222E-006 L 0.12396 2.22222E-006 C 0.17951 2.22222E-006 0.24809 -0.06528 0.24809 -0.11829 L 0.24809 -0.23634 E">
                                      <p:cBhvr>
                                        <p:cTn id="639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ПРИЧНЫЙ ТЕРРОР (1565-1572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селение более 100 княжеских семей в Казань с конфискацией земел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нфискация земель в опричных уездах у феодалов, не принятых в опричнин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авление малейшего протеста (смещение и убийство митрополита Филиппа (Колычева) в 1569 г.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овгородский погром 1570 г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ассовые казни в 1568 и 1570 гг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8" name="Picture 5" descr="9N0342"/>
          <p:cNvPicPr/>
          <p:nvPr/>
        </p:nvPicPr>
        <p:blipFill>
          <a:blip r:embed="rId1"/>
          <a:stretch/>
        </p:blipFill>
        <p:spPr>
          <a:xfrm>
            <a:off x="6300720" y="3573360"/>
            <a:ext cx="2284560" cy="25322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6" descr="10cm"/>
          <p:cNvPicPr/>
          <p:nvPr/>
        </p:nvPicPr>
        <p:blipFill>
          <a:blip r:embed="rId2"/>
          <a:stretch/>
        </p:blipFill>
        <p:spPr>
          <a:xfrm>
            <a:off x="6516720" y="1557360"/>
            <a:ext cx="1876320" cy="1905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ИТОГИ И ПОСЛЕДСТВИЯ ОПРИЧНИНЫ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Разорение страны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Усиление бегства крестьян на окраины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Начало оформления крепостного права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Усиление личной власти царя, утверждение деспотического характера российского самодержавия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Ослабление обороноспособности страны и сожжение Москвы Девлет-Гиреем в 1572 г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Поражение в Ливонской войне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4678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ВОСТОЧНОЕ НАПРАВЛЕНИЕ ВНЕШНЕЙ ПОЛИТИКИ ИВАНА ГРОЗНОГО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Line 5"/>
          <p:cNvSpPr/>
          <p:nvPr/>
        </p:nvSpPr>
        <p:spPr>
          <a:xfrm>
            <a:off x="1332000" y="2205000"/>
            <a:ext cx="4103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6"/>
          <p:cNvSpPr/>
          <p:nvPr/>
        </p:nvSpPr>
        <p:spPr>
          <a:xfrm>
            <a:off x="5508720" y="1989000"/>
            <a:ext cx="457200" cy="457200"/>
          </a:xfrm>
          <a:prstGeom prst="flowChartConnector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4068360" y="1484280"/>
            <a:ext cx="43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занское ханство (с 1437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5942880" y="19890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з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9"/>
          <p:cNvSpPr/>
          <p:nvPr/>
        </p:nvSpPr>
        <p:spPr>
          <a:xfrm>
            <a:off x="611280" y="1916280"/>
            <a:ext cx="574560" cy="576000"/>
          </a:xfrm>
          <a:custGeom>
            <a:avLst/>
            <a:gdLst>
              <a:gd name="textAreaLeft" fmla="*/ 83880 w 574560"/>
              <a:gd name="textAreaRight" fmla="*/ 490680 w 574560"/>
              <a:gd name="textAreaTop" fmla="*/ 84240 h 576000"/>
              <a:gd name="textAreaBottom" fmla="*/ 4917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e863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1044720" y="170028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1"/>
          <p:cNvSpPr/>
          <p:nvPr/>
        </p:nvSpPr>
        <p:spPr>
          <a:xfrm>
            <a:off x="2476800" y="1916280"/>
            <a:ext cx="231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547-48, 1549-50, 1552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2"/>
          <p:cNvSpPr/>
          <p:nvPr/>
        </p:nvSpPr>
        <p:spPr>
          <a:xfrm>
            <a:off x="6732720" y="2421000"/>
            <a:ext cx="2087280" cy="482400"/>
          </a:xfrm>
          <a:prstGeom prst="borderCallout2">
            <a:avLst>
              <a:gd name="adj1" fmla="val 18750"/>
              <a:gd name="adj2" fmla="val -8333"/>
              <a:gd name="adj3" fmla="val 23685"/>
              <a:gd name="adj4" fmla="val -19240"/>
              <a:gd name="adj5" fmla="val -4277"/>
              <a:gd name="adj6" fmla="val -35967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я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октября 155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3"/>
          <p:cNvSpPr/>
          <p:nvPr/>
        </p:nvSpPr>
        <p:spPr>
          <a:xfrm>
            <a:off x="2195640" y="2349360"/>
            <a:ext cx="3240000" cy="5032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тары, марийцы, чуваш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два, удмурты, башки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5"/>
          <p:cNvSpPr/>
          <p:nvPr/>
        </p:nvSpPr>
        <p:spPr>
          <a:xfrm flipH="1">
            <a:off x="5579640" y="2565360"/>
            <a:ext cx="144360" cy="266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6"/>
          <p:cNvSpPr/>
          <p:nvPr/>
        </p:nvSpPr>
        <p:spPr>
          <a:xfrm>
            <a:off x="5364000" y="5229360"/>
            <a:ext cx="457200" cy="457200"/>
          </a:xfrm>
          <a:prstGeom prst="flowChartConnector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7"/>
          <p:cNvSpPr/>
          <p:nvPr/>
        </p:nvSpPr>
        <p:spPr>
          <a:xfrm>
            <a:off x="4329720" y="5805360"/>
            <a:ext cx="48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траханское ханство (с 1502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8"/>
          <p:cNvSpPr/>
          <p:nvPr/>
        </p:nvSpPr>
        <p:spPr>
          <a:xfrm>
            <a:off x="5869800" y="530064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трах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9"/>
          <p:cNvSpPr/>
          <p:nvPr/>
        </p:nvSpPr>
        <p:spPr>
          <a:xfrm flipH="1">
            <a:off x="6517440" y="4365720"/>
            <a:ext cx="2087640" cy="696960"/>
          </a:xfrm>
          <a:prstGeom prst="borderCallout2">
            <a:avLst>
              <a:gd name="adj1" fmla="val 18750"/>
              <a:gd name="adj2" fmla="val -8333"/>
              <a:gd name="adj3" fmla="val 16398"/>
              <a:gd name="adj4" fmla="val 103648"/>
              <a:gd name="adj5" fmla="val 133939"/>
              <a:gd name="adj6" fmla="val 135361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я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июня 1554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 155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0"/>
          <p:cNvSpPr/>
          <p:nvPr/>
        </p:nvSpPr>
        <p:spPr>
          <a:xfrm>
            <a:off x="0" y="6400800"/>
            <a:ext cx="42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мское ханство (с 1443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21"/>
          <p:cNvSpPr/>
          <p:nvPr/>
        </p:nvSpPr>
        <p:spPr>
          <a:xfrm>
            <a:off x="611280" y="5950080"/>
            <a:ext cx="457200" cy="457200"/>
          </a:xfrm>
          <a:prstGeom prst="flowChartConnector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2"/>
          <p:cNvSpPr/>
          <p:nvPr/>
        </p:nvSpPr>
        <p:spPr>
          <a:xfrm>
            <a:off x="1118520" y="6021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хчиса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23"/>
          <p:cNvSpPr/>
          <p:nvPr/>
        </p:nvSpPr>
        <p:spPr>
          <a:xfrm flipV="1">
            <a:off x="826920" y="2707920"/>
            <a:ext cx="0" cy="309708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25"/>
          <p:cNvSpPr/>
          <p:nvPr/>
        </p:nvSpPr>
        <p:spPr>
          <a:xfrm>
            <a:off x="34920" y="3284640"/>
            <a:ext cx="3313080" cy="720720"/>
          </a:xfrm>
          <a:custGeom>
            <a:avLst/>
            <a:gdLst>
              <a:gd name="textAreaLeft" fmla="*/ 0 w 3313080"/>
              <a:gd name="textAreaRight" fmla="*/ 3313440 w 33130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087" h="257">
                <a:moveTo>
                  <a:pt x="0" y="60"/>
                </a:moveTo>
                <a:cubicBezTo>
                  <a:pt x="30" y="90"/>
                  <a:pt x="60" y="121"/>
                  <a:pt x="136" y="151"/>
                </a:cubicBezTo>
                <a:cubicBezTo>
                  <a:pt x="212" y="181"/>
                  <a:pt x="363" y="227"/>
                  <a:pt x="454" y="242"/>
                </a:cubicBezTo>
                <a:cubicBezTo>
                  <a:pt x="545" y="257"/>
                  <a:pt x="575" y="242"/>
                  <a:pt x="681" y="242"/>
                </a:cubicBezTo>
                <a:cubicBezTo>
                  <a:pt x="787" y="242"/>
                  <a:pt x="983" y="257"/>
                  <a:pt x="1089" y="242"/>
                </a:cubicBezTo>
                <a:cubicBezTo>
                  <a:pt x="1195" y="227"/>
                  <a:pt x="1233" y="174"/>
                  <a:pt x="1316" y="151"/>
                </a:cubicBezTo>
                <a:cubicBezTo>
                  <a:pt x="1399" y="128"/>
                  <a:pt x="1505" y="129"/>
                  <a:pt x="1588" y="106"/>
                </a:cubicBezTo>
                <a:cubicBezTo>
                  <a:pt x="1671" y="83"/>
                  <a:pt x="1732" y="30"/>
                  <a:pt x="1815" y="15"/>
                </a:cubicBezTo>
                <a:cubicBezTo>
                  <a:pt x="1898" y="0"/>
                  <a:pt x="1992" y="7"/>
                  <a:pt x="2087" y="15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6"/>
          <p:cNvSpPr/>
          <p:nvPr/>
        </p:nvSpPr>
        <p:spPr>
          <a:xfrm>
            <a:off x="253800" y="33577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сечные че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27"/>
          <p:cNvSpPr/>
          <p:nvPr/>
        </p:nvSpPr>
        <p:spPr>
          <a:xfrm>
            <a:off x="755640" y="4005360"/>
            <a:ext cx="360360" cy="1871640"/>
          </a:xfrm>
          <a:custGeom>
            <a:avLst/>
            <a:gdLst>
              <a:gd name="textAreaLeft" fmla="*/ 0 w 360360"/>
              <a:gd name="textAreaRight" fmla="*/ 360720 w 36036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w="317" h="1232">
                <a:moveTo>
                  <a:pt x="38" y="1232"/>
                </a:moveTo>
                <a:cubicBezTo>
                  <a:pt x="38" y="1186"/>
                  <a:pt x="38" y="1141"/>
                  <a:pt x="38" y="960"/>
                </a:cubicBezTo>
                <a:cubicBezTo>
                  <a:pt x="38" y="779"/>
                  <a:pt x="0" y="288"/>
                  <a:pt x="38" y="144"/>
                </a:cubicBezTo>
                <a:cubicBezTo>
                  <a:pt x="76" y="0"/>
                  <a:pt x="220" y="91"/>
                  <a:pt x="265" y="98"/>
                </a:cubicBezTo>
                <a:cubicBezTo>
                  <a:pt x="310" y="105"/>
                  <a:pt x="303" y="151"/>
                  <a:pt x="310" y="189"/>
                </a:cubicBezTo>
                <a:cubicBezTo>
                  <a:pt x="317" y="227"/>
                  <a:pt x="310" y="272"/>
                  <a:pt x="310" y="325"/>
                </a:cubicBezTo>
                <a:cubicBezTo>
                  <a:pt x="310" y="378"/>
                  <a:pt x="310" y="468"/>
                  <a:pt x="310" y="506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8" descr="9N0348"/>
          <p:cNvPicPr/>
          <p:nvPr/>
        </p:nvPicPr>
        <p:blipFill>
          <a:blip r:embed="rId1"/>
          <a:stretch/>
        </p:blipFill>
        <p:spPr>
          <a:xfrm>
            <a:off x="2268360" y="3716280"/>
            <a:ext cx="281808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611c"/>
                                      </p:to>
                                    </p:animClr>
                                    <p:animClr clrSpc="rgb">
                                      <p:cBhvr>
                                        <p:cTn id="7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2611c"/>
                                      </p:to>
                                    </p:animClr>
                                    <p:set>
                                      <p:cBhvr>
                                        <p:cTn id="7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00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1" dur="1" fill="hold">
                                    <p:stCondLst>
                                      <p:cond evt="end">
                                        <p:tn val="738"/>
                                      </p:cond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ЛИВОНСКАЯ ВОЙНА (1558-1583 ГГ.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26" name="Picture 7" descr="map3"/>
          <p:cNvPicPr/>
          <p:nvPr/>
        </p:nvPicPr>
        <p:blipFill>
          <a:blip r:embed="rId1"/>
          <a:stretch/>
        </p:blipFill>
        <p:spPr>
          <a:xfrm>
            <a:off x="5508720" y="1268280"/>
            <a:ext cx="2982960" cy="3672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27" name="Rectangle 8"/>
          <p:cNvSpPr/>
          <p:nvPr/>
        </p:nvSpPr>
        <p:spPr>
          <a:xfrm>
            <a:off x="250920" y="1197000"/>
            <a:ext cx="5041800" cy="64764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ыход к Балтийскому морю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едружественная политика Ливонского орде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0"/>
          <p:cNvSpPr/>
          <p:nvPr/>
        </p:nvSpPr>
        <p:spPr>
          <a:xfrm>
            <a:off x="250920" y="1844640"/>
            <a:ext cx="5041800" cy="43200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о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ден отказался платить дань за Юрьев (Дерп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1"/>
          <p:cNvSpPr/>
          <p:nvPr/>
        </p:nvSpPr>
        <p:spPr>
          <a:xfrm>
            <a:off x="250920" y="2421000"/>
            <a:ext cx="5041800" cy="7207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ап (1558-1561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зятие Нарвы, Юрье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ллина, пленение магистра Фюрстенбер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ад и ликвидация Ливонского орд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3"/>
          <p:cNvSpPr/>
          <p:nvPr/>
        </p:nvSpPr>
        <p:spPr>
          <a:xfrm>
            <a:off x="250920" y="3141720"/>
            <a:ext cx="5041800" cy="11509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ап (1561-1577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тупление в вой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чи Посполитой (с 1569 г.) и Шве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ятие Полоцка (1563). Поражение на р.У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д Оршей (1564). Взятие Вейсенштай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575) и Вендена (157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4"/>
          <p:cNvSpPr/>
          <p:nvPr/>
        </p:nvSpPr>
        <p:spPr>
          <a:xfrm>
            <a:off x="254160" y="4292640"/>
            <a:ext cx="5041800" cy="9367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ап (1578-1582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ход Стефана Батор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дение Полоцка, Великих Лук. Геро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рона Пскова (1581-1582, 5 мес.). Шв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хватили Нарву, Ивангород, Копор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5"/>
          <p:cNvSpPr/>
          <p:nvPr/>
        </p:nvSpPr>
        <p:spPr>
          <a:xfrm>
            <a:off x="250920" y="5229360"/>
            <a:ext cx="8353440" cy="936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582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м-Запольско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ирие с Речью Посполитой (отказ Рус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а от Ливонии за возврат утраченных русских крепост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583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юсск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ремирие со Швецией (отказ от Эстляндии, усту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ведам Нарвы, Копорья, Ивангорода, Корел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6"/>
          <p:cNvSpPr/>
          <p:nvPr/>
        </p:nvSpPr>
        <p:spPr>
          <a:xfrm>
            <a:off x="250920" y="6165720"/>
            <a:ext cx="8353440" cy="51120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чины пораже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верная оценка расстановки сил в Прибалти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лабление государства в результате внутренней политики Ива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НАЧАЛО ЗАВОЕВАНИЯ СИБИР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Oval 4"/>
          <p:cNvSpPr/>
          <p:nvPr/>
        </p:nvSpPr>
        <p:spPr>
          <a:xfrm>
            <a:off x="2771640" y="1628640"/>
            <a:ext cx="5761080" cy="403236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3785400" y="2205000"/>
            <a:ext cx="38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ибирское ханство (с 1420-х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7"/>
          <p:cNvSpPr/>
          <p:nvPr/>
        </p:nvSpPr>
        <p:spPr>
          <a:xfrm>
            <a:off x="6012000" y="4005360"/>
            <a:ext cx="215640" cy="215640"/>
          </a:xfrm>
          <a:prstGeom prst="flowChartConnector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6014880" y="37400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шлы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9"/>
          <p:cNvSpPr/>
          <p:nvPr/>
        </p:nvSpPr>
        <p:spPr>
          <a:xfrm>
            <a:off x="1403280" y="1700280"/>
            <a:ext cx="1706760" cy="15843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гано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1"/>
          <p:cNvSpPr/>
          <p:nvPr/>
        </p:nvSpPr>
        <p:spPr>
          <a:xfrm flipH="1" flipV="1">
            <a:off x="2555640" y="2852640"/>
            <a:ext cx="93636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2"/>
          <p:cNvSpPr/>
          <p:nvPr/>
        </p:nvSpPr>
        <p:spPr>
          <a:xfrm>
            <a:off x="5870880" y="314172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н Куч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563-15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WordArt 13"/>
          <p:cNvSpPr txBox="1"/>
          <p:nvPr/>
        </p:nvSpPr>
        <p:spPr>
          <a:xfrm rot="5400000">
            <a:off x="-459000" y="3058920"/>
            <a:ext cx="35272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УС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3" name="Text Box 14"/>
          <p:cNvSpPr/>
          <p:nvPr/>
        </p:nvSpPr>
        <p:spPr>
          <a:xfrm>
            <a:off x="3205800" y="263700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157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5"/>
          <p:cNvSpPr/>
          <p:nvPr/>
        </p:nvSpPr>
        <p:spPr>
          <a:xfrm>
            <a:off x="2556000" y="3068640"/>
            <a:ext cx="3384360" cy="1008000"/>
          </a:xfrm>
          <a:prstGeom prst="line">
            <a:avLst/>
          </a:prstGeom>
          <a:ln w="19080">
            <a:solidFill>
              <a:srgbClr val="d2611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6"/>
          <p:cNvSpPr/>
          <p:nvPr/>
        </p:nvSpPr>
        <p:spPr>
          <a:xfrm>
            <a:off x="2846880" y="3429000"/>
            <a:ext cx="1421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2611c"/>
                </a:solidFill>
                <a:latin typeface="Arial"/>
              </a:rPr>
              <a:t>Ерм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2611c"/>
                </a:solidFill>
                <a:latin typeface="Arial"/>
              </a:rPr>
              <a:t>(1581-158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7"/>
          <p:cNvSpPr/>
          <p:nvPr/>
        </p:nvSpPr>
        <p:spPr>
          <a:xfrm>
            <a:off x="3924360" y="4437000"/>
            <a:ext cx="164772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109055"/>
              <a:gd name="adj5" fmla="val -56388"/>
              <a:gd name="adj6" fmla="val 124953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ят в 1582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8"/>
          <p:cNvSpPr/>
          <p:nvPr/>
        </p:nvSpPr>
        <p:spPr>
          <a:xfrm>
            <a:off x="6300720" y="4149720"/>
            <a:ext cx="935280" cy="0"/>
          </a:xfrm>
          <a:prstGeom prst="line">
            <a:avLst/>
          </a:prstGeom>
          <a:ln w="9360">
            <a:solidFill>
              <a:srgbClr val="d2611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9"/>
          <p:cNvSpPr/>
          <p:nvPr/>
        </p:nvSpPr>
        <p:spPr>
          <a:xfrm>
            <a:off x="7166160" y="39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d2611c"/>
                </a:solidFill>
                <a:latin typeface="Arial"/>
              </a:rPr>
              <a:t>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0"/>
          <p:cNvSpPr/>
          <p:nvPr/>
        </p:nvSpPr>
        <p:spPr>
          <a:xfrm>
            <a:off x="6734880" y="4221000"/>
            <a:ext cx="1227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2611c"/>
                </a:solidFill>
                <a:latin typeface="Arial"/>
              </a:rPr>
              <a:t>6 авгу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2611c"/>
                </a:solidFill>
                <a:latin typeface="Arial"/>
              </a:rPr>
              <a:t>158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21" descr="9N0353"/>
          <p:cNvPicPr/>
          <p:nvPr/>
        </p:nvPicPr>
        <p:blipFill>
          <a:blip r:embed="rId1"/>
          <a:stretch/>
        </p:blipFill>
        <p:spPr>
          <a:xfrm>
            <a:off x="2916360" y="4869000"/>
            <a:ext cx="3600360" cy="185724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22"/>
          <p:cNvSpPr/>
          <p:nvPr/>
        </p:nvSpPr>
        <p:spPr>
          <a:xfrm>
            <a:off x="4284720" y="1413000"/>
            <a:ext cx="3382920" cy="609480"/>
          </a:xfrm>
          <a:prstGeom prst="wedgeRectCallout">
            <a:avLst>
              <a:gd name="adj1" fmla="val -38175"/>
              <a:gd name="adj2" fmla="val 96356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ончательно было разгромлено в конц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22" presetSubtype="2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2" dur="1" fill="hold">
                                    <p:stCondLst>
                                      <p:cond evt="end">
                                        <p:tn val="809"/>
                                      </p:cond>
                                    </p:stCondLst>
                                  </p:cTn>
                                  <p:tgtEl>
                                    <p:spTgt spid="5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500"/>
                            </p:stCondLst>
                            <p:childTnLst>
                              <p:par>
                                <p:cTn id="8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3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3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3000"/>
                            </p:stCondLst>
                            <p:childTnLst>
                              <p:par>
                                <p:cTn id="8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ОКОНЧАНИЕ ЦАРСТВОВАНИЯ ИВАНА ВАСИЛЬЕВИЧА ГРОЗНОГО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755640" y="1916280"/>
            <a:ext cx="2951280" cy="2160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58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-за тяжел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зяйственного криз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и введ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Заповедные лет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остановлено 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хода кресть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Юрьев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ачало офор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постного пра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7" descr="14dm"/>
          <p:cNvPicPr/>
          <p:nvPr/>
        </p:nvPicPr>
        <p:blipFill>
          <a:blip r:embed="rId1"/>
          <a:stretch/>
        </p:blipFill>
        <p:spPr>
          <a:xfrm>
            <a:off x="6156360" y="1805040"/>
            <a:ext cx="2736720" cy="2335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55" name="Rectangle 8"/>
          <p:cNvSpPr/>
          <p:nvPr/>
        </p:nvSpPr>
        <p:spPr>
          <a:xfrm>
            <a:off x="3851280" y="1916280"/>
            <a:ext cx="2089080" cy="2160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58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ступе гн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бил сво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н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лед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10"/>
          <p:cNvSpPr/>
          <p:nvPr/>
        </p:nvSpPr>
        <p:spPr>
          <a:xfrm>
            <a:off x="1403280" y="4890960"/>
            <a:ext cx="4681440" cy="1059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52" y="2332"/>
                </a:moveTo>
                <a:lnTo>
                  <a:pt x="23724" y="2332"/>
                </a:lnTo>
                <a:lnTo>
                  <a:pt x="23724" y="-9780"/>
                </a:lnTo>
                <a:lnTo>
                  <a:pt x="15198" y="-16224"/>
                </a:lnTo>
              </a:path>
            </a:pathLst>
          </a:custGeom>
          <a:solidFill>
            <a:srgbClr val="fe8637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 смерти Ивана Грозного в 158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го преемником стал недееспособ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ор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11" descr="4_1Gm"/>
          <p:cNvPicPr/>
          <p:nvPr/>
        </p:nvPicPr>
        <p:blipFill>
          <a:blip r:embed="rId2"/>
          <a:stretch/>
        </p:blipFill>
        <p:spPr>
          <a:xfrm>
            <a:off x="6659640" y="4292640"/>
            <a:ext cx="174456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0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500"/>
                            </p:stCondLst>
                            <p:childTnLst>
                              <p:par>
                                <p:cTn id="8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КУЛЬТУРА И ДУХОВНАЯ ЖИЗНЬ</a:t>
            </a:r>
            <a:br>
              <a:rPr sz="3600"/>
            </a:b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В </a:t>
            </a: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XIV-XVI</a:t>
            </a: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 ВВ.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684360" y="1773360"/>
            <a:ext cx="7775280" cy="1800000"/>
          </a:xfrm>
          <a:prstGeom prst="bevel">
            <a:avLst>
              <a:gd name="adj" fmla="val 1250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ап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V-X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ая идея – преодоление катастрофических послед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голо-татарского нашествия, ликвидация ордынского и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собирание русских зем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6"/>
          <p:cNvSpPr/>
          <p:nvPr/>
        </p:nvSpPr>
        <p:spPr>
          <a:xfrm>
            <a:off x="684360" y="3860640"/>
            <a:ext cx="7775280" cy="1800360"/>
          </a:xfrm>
          <a:prstGeom prst="bevel">
            <a:avLst>
              <a:gd name="adj" fmla="val 1250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ап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ая идея – укрепление государ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ство и централиз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РИЧИНЫ ВОЗВЫШЕНИЯ МОСКВ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нтр формирования древнерусской народно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даленность от опасных окраи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начимые торговые пу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емли, пригодные для земледел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витое феодальное землевладение (дворяне – опора князя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29272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удрость и дальновидность московских княз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сутствие распрей в московской княжеской семь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няжество не дробилось, а передавалось единственному наследник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1118880" y="1125360"/>
            <a:ext cx="2637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и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5367600" y="1125360"/>
            <a:ext cx="2815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бъекти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ФОЛЬКЛОР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Сказания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 битве на реке Калк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 разорении Рязани Батыем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 Куликовской битв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современенные былины о богатырях, защищающих Киев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Новгородские былины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 Василии Буслаев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 Садко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Исторические песни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(о реальных событиях)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Песня о Щелкане Дюдентьевиче» (о восстании в Твери в 1327 г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5076720" y="162864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современенные былины о богатырях, борющихся с Казанским и Крымским ханствам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Исторические песни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есни о взятии Казан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есни о Ермак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1332360" y="11970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V-X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5941080" y="12682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8" descr="01F_M"/>
          <p:cNvPicPr/>
          <p:nvPr/>
        </p:nvPicPr>
        <p:blipFill>
          <a:blip r:embed="rId1"/>
          <a:stretch/>
        </p:blipFill>
        <p:spPr>
          <a:xfrm>
            <a:off x="6516720" y="4149720"/>
            <a:ext cx="1957320" cy="2409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РОСВЕЩЕ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8" name="AutoShape 4"/>
          <p:cNvSpPr/>
          <p:nvPr/>
        </p:nvSpPr>
        <p:spPr>
          <a:xfrm>
            <a:off x="1835280" y="1628640"/>
            <a:ext cx="1150920" cy="1008360"/>
          </a:xfrm>
          <a:prstGeom prst="foldedCorner">
            <a:avLst>
              <a:gd name="adj" fmla="val 1250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ркв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6"/>
          <p:cNvSpPr/>
          <p:nvPr/>
        </p:nvSpPr>
        <p:spPr>
          <a:xfrm>
            <a:off x="3276720" y="1557360"/>
            <a:ext cx="5184720" cy="1081080"/>
          </a:xfrm>
          <a:custGeom>
            <a:avLst/>
            <a:gdLst>
              <a:gd name="textAreaLeft" fmla="*/ 747720 w 5184720"/>
              <a:gd name="textAreaRight" fmla="*/ 4437000 w 5184720"/>
              <a:gd name="textAreaTop" fmla="*/ 0 h 1081080"/>
              <a:gd name="textAreaBottom" fmla="*/ 946080 h 1081080"/>
            </a:gdLst>
            <a:ahLst/>
            <a:rect l="textAreaLeft" t="textAreaTop" r="textAreaRight" b="textAreaBottom"/>
            <a:pathLst>
              <a:path w="21600" h="21600">
                <a:moveTo>
                  <a:pt x="5815" y="18900"/>
                </a:moveTo>
                <a:lnTo>
                  <a:pt x="5815" y="20925"/>
                </a:lnTo>
                <a:cubicBezTo>
                  <a:pt x="5815" y="21263"/>
                  <a:pt x="5395" y="21600"/>
                  <a:pt x="4975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15" y="2700"/>
                </a:lnTo>
                <a:lnTo>
                  <a:pt x="3115" y="675"/>
                </a:lnTo>
                <a:cubicBezTo>
                  <a:pt x="3115" y="338"/>
                  <a:pt x="3535" y="0"/>
                  <a:pt x="3955" y="0"/>
                </a:cubicBezTo>
                <a:lnTo>
                  <a:pt x="17645" y="0"/>
                </a:lnTo>
                <a:cubicBezTo>
                  <a:pt x="18065" y="0"/>
                  <a:pt x="18485" y="338"/>
                  <a:pt x="18485" y="675"/>
                </a:cubicBezTo>
                <a:lnTo>
                  <a:pt x="18485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625" y="21600"/>
                </a:lnTo>
                <a:cubicBezTo>
                  <a:pt x="16205" y="21600"/>
                  <a:pt x="15785" y="21263"/>
                  <a:pt x="15785" y="20925"/>
                </a:cubicBezTo>
                <a:lnTo>
                  <a:pt x="15785" y="18900"/>
                </a:lnTo>
                <a:close/>
              </a:path>
              <a:path fill="darkenLess" w="21600" h="21600">
                <a:moveTo>
                  <a:pt x="5815" y="18900"/>
                </a:moveTo>
                <a:lnTo>
                  <a:pt x="5815" y="20925"/>
                </a:lnTo>
                <a:cubicBezTo>
                  <a:pt x="5815" y="20588"/>
                  <a:pt x="5395" y="20250"/>
                  <a:pt x="4975" y="20250"/>
                </a:cubicBezTo>
                <a:lnTo>
                  <a:pt x="3955" y="20250"/>
                </a:lnTo>
                <a:cubicBezTo>
                  <a:pt x="3535" y="20250"/>
                  <a:pt x="3115" y="19913"/>
                  <a:pt x="3115" y="19575"/>
                </a:cubicBezTo>
                <a:cubicBezTo>
                  <a:pt x="3115" y="19238"/>
                  <a:pt x="3535" y="18900"/>
                  <a:pt x="3955" y="18900"/>
                </a:cubicBezTo>
                <a:close/>
              </a:path>
              <a:path fill="darkenLess" w="21600" h="21600">
                <a:moveTo>
                  <a:pt x="15785" y="18900"/>
                </a:moveTo>
                <a:lnTo>
                  <a:pt x="15785" y="20925"/>
                </a:lnTo>
                <a:cubicBezTo>
                  <a:pt x="15785" y="20588"/>
                  <a:pt x="16205" y="20250"/>
                  <a:pt x="16625" y="20250"/>
                </a:cubicBezTo>
                <a:lnTo>
                  <a:pt x="17645" y="20250"/>
                </a:lnTo>
                <a:cubicBezTo>
                  <a:pt x="18065" y="20250"/>
                  <a:pt x="18485" y="19913"/>
                  <a:pt x="18485" y="19575"/>
                </a:cubicBezTo>
                <a:cubicBezTo>
                  <a:pt x="18485" y="19238"/>
                  <a:pt x="18065" y="18900"/>
                  <a:pt x="17645" y="18900"/>
                </a:cubicBezTo>
                <a:close/>
              </a:path>
              <a:path fill="darkenLess" w="21600" h="21600">
                <a:moveTo>
                  <a:pt x="3115" y="19575"/>
                </a:moveTo>
                <a:lnTo>
                  <a:pt x="3115" y="2700"/>
                </a:lnTo>
              </a:path>
              <a:path fill="darkenLess" w="21600" h="21600">
                <a:moveTo>
                  <a:pt x="18485" y="19575"/>
                </a:moveTo>
                <a:lnTo>
                  <a:pt x="18485" y="2700"/>
                </a:lnTo>
              </a:path>
            </a:pathLst>
          </a:cu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астыри – центры кни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нигописные мастерски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8"/>
          <p:cNvSpPr/>
          <p:nvPr/>
        </p:nvSpPr>
        <p:spPr>
          <a:xfrm>
            <a:off x="2124000" y="2781360"/>
            <a:ext cx="1638360" cy="973080"/>
          </a:xfrm>
          <a:prstGeom prst="flowChartMultidocumen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м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0"/>
          <p:cNvSpPr/>
          <p:nvPr/>
        </p:nvSpPr>
        <p:spPr>
          <a:xfrm>
            <a:off x="4859280" y="2637000"/>
            <a:ext cx="2232000" cy="1223640"/>
          </a:xfrm>
          <a:prstGeom prst="verticalScroll">
            <a:avLst>
              <a:gd name="adj" fmla="val 1250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устав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2"/>
          <p:cNvSpPr/>
          <p:nvPr/>
        </p:nvSpPr>
        <p:spPr>
          <a:xfrm>
            <a:off x="3637080" y="112536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и прежд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4"/>
          <p:cNvSpPr/>
          <p:nvPr/>
        </p:nvSpPr>
        <p:spPr>
          <a:xfrm>
            <a:off x="1547640" y="4076640"/>
            <a:ext cx="6120000" cy="5047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ед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 – зарождение книгопеча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6"/>
          <p:cNvSpPr/>
          <p:nvPr/>
        </p:nvSpPr>
        <p:spPr>
          <a:xfrm>
            <a:off x="395280" y="4797360"/>
            <a:ext cx="2376360" cy="792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ография – 155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8"/>
          <p:cNvSpPr/>
          <p:nvPr/>
        </p:nvSpPr>
        <p:spPr>
          <a:xfrm>
            <a:off x="3132000" y="4797360"/>
            <a:ext cx="5400720" cy="122400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63 г. – типография на Никольской улиц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вана Федор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Петра Мстислав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постол» (1564) и «Часовник» (15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19" descr="9N0445"/>
          <p:cNvPicPr/>
          <p:nvPr/>
        </p:nvPicPr>
        <p:blipFill>
          <a:blip r:embed="rId1"/>
          <a:stretch/>
        </p:blipFill>
        <p:spPr>
          <a:xfrm>
            <a:off x="5678640" y="1197000"/>
            <a:ext cx="3465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ЛИТЕРАТУРА В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XIV-XV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ВВ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1187280" y="1341360"/>
            <a:ext cx="6480360" cy="9367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опис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Новгород, Тверь, Москва, Смоленс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09 г. – первый общерусский летописный с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роицкая летопис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6"/>
          <p:cNvSpPr/>
          <p:nvPr/>
        </p:nvSpPr>
        <p:spPr>
          <a:xfrm>
            <a:off x="1187280" y="2781360"/>
            <a:ext cx="6480360" cy="86364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инские пове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Задонщина» (конец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казание о Мамаевом побоище» (конец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1187280" y="4005360"/>
            <a:ext cx="6480360" cy="57600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Хождение за три моря» Афанасия Никитина (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8"/>
          <p:cNvSpPr/>
          <p:nvPr/>
        </p:nvSpPr>
        <p:spPr>
          <a:xfrm>
            <a:off x="1187280" y="5013360"/>
            <a:ext cx="6480360" cy="100800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тия свят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трополита Петра, Сергия Радонежского, Стеф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мского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ЛИТЕРАТУРА В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XVI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В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1187280" y="1341360"/>
            <a:ext cx="6480360" cy="144000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о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новский летописный с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вой свод (16 000 миниатюр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ная кни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онограф (+всемирная истор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1187280" y="2852640"/>
            <a:ext cx="6480360" cy="86364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инские пове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азанская истор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весть о прихождении Стефана Батория на град Пс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1187280" y="3789360"/>
            <a:ext cx="6480360" cy="79200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тия свят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еликие Четьи-Минеи» (сборник житий, составл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трополитом Макарие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1187280" y="4653000"/>
            <a:ext cx="6480360" cy="576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Домострой» Сильвестра (?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свод правил поведения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нциклопедия домашнего хозяй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9"/>
          <p:cNvSpPr/>
          <p:nvPr/>
        </p:nvSpPr>
        <p:spPr>
          <a:xfrm>
            <a:off x="1187280" y="5300640"/>
            <a:ext cx="6480360" cy="9367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блиц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битные Ивана Пересвет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писка Ивана Грозного с Андреем Курбск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БЩЕСТВЕННАЯ МЫСЛ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9" name="Rectangle 4"/>
          <p:cNvSpPr/>
          <p:nvPr/>
        </p:nvSpPr>
        <p:spPr>
          <a:xfrm>
            <a:off x="971640" y="1628640"/>
            <a:ext cx="914400" cy="122400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ре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1908000" y="1268280"/>
            <a:ext cx="6193080" cy="86544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игольн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Новгород, Псков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ли необходимости церкви, отвергали обряды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рковные таи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8"/>
          <p:cNvSpPr/>
          <p:nvPr/>
        </p:nvSpPr>
        <p:spPr>
          <a:xfrm>
            <a:off x="1908000" y="2276640"/>
            <a:ext cx="6193080" cy="8650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довствующ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Новгород, Москва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ли необходимость церкви, не признавали икон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тую Тро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9"/>
          <p:cNvSpPr/>
          <p:nvPr/>
        </p:nvSpPr>
        <p:spPr>
          <a:xfrm>
            <a:off x="468360" y="3429000"/>
            <a:ext cx="3816360" cy="1871640"/>
          </a:xfrm>
          <a:custGeom>
            <a:avLst/>
            <a:gdLst>
              <a:gd name="textAreaLeft" fmla="*/ 0 w 3816360"/>
              <a:gd name="textAreaRight" fmla="*/ 3816720 w 381636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осифля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осиф Волоцкий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рковь должна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гатой, владеть земе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ствен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11"/>
          <p:cNvSpPr/>
          <p:nvPr/>
        </p:nvSpPr>
        <p:spPr>
          <a:xfrm flipH="1">
            <a:off x="4642560" y="3429000"/>
            <a:ext cx="4032360" cy="1871640"/>
          </a:xfrm>
          <a:custGeom>
            <a:avLst/>
            <a:gdLst>
              <a:gd name="textAreaLeft" fmla="*/ -360 w 4032360"/>
              <a:gd name="textAreaRight" fmla="*/ 4032360 w 403236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стяж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ил Сорский, Максим Гре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сиан Патрикее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аз от церковного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астырского 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2"/>
          <p:cNvSpPr/>
          <p:nvPr/>
        </p:nvSpPr>
        <p:spPr>
          <a:xfrm>
            <a:off x="3781440" y="3357720"/>
            <a:ext cx="14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-XV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13"/>
          <p:cNvSpPr/>
          <p:nvPr/>
        </p:nvSpPr>
        <p:spPr>
          <a:xfrm>
            <a:off x="539640" y="5661000"/>
            <a:ext cx="345600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76" y="3426"/>
                </a:moveTo>
                <a:lnTo>
                  <a:pt x="26253" y="3426"/>
                </a:lnTo>
                <a:lnTo>
                  <a:pt x="26253" y="-21315"/>
                </a:lnTo>
                <a:lnTo>
                  <a:pt x="20628" y="-25216"/>
                </a:lnTo>
              </a:path>
            </a:pathLst>
          </a:custGeom>
          <a:solidFill>
            <a:srgbClr val="fe8637"/>
          </a:solidFill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ф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ва – третий Ри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500"/>
                            </p:stCondLst>
                            <p:childTnLst>
                              <p:par>
                                <p:cTn id="10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5" dur="250" autoRev="1" fill="hold"/>
                                        <p:tgtEl>
                                          <p:spTgt spid="5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АРХИТЕКТУРА</a:t>
            </a:r>
            <a:br>
              <a:rPr sz="3600"/>
            </a:b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МОСКОВСКИЙ КРЕМЛЬ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97" name="Picture 4" descr="9N0287"/>
          <p:cNvPicPr/>
          <p:nvPr/>
        </p:nvPicPr>
        <p:blipFill>
          <a:blip r:embed="rId1"/>
          <a:stretch/>
        </p:blipFill>
        <p:spPr>
          <a:xfrm>
            <a:off x="826920" y="1628640"/>
            <a:ext cx="3743640" cy="234792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5"/>
          <p:cNvSpPr/>
          <p:nvPr/>
        </p:nvSpPr>
        <p:spPr>
          <a:xfrm>
            <a:off x="1262520" y="4005360"/>
            <a:ext cx="2632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окаменный Крем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367-1368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6" descr="19B_M"/>
          <p:cNvPicPr/>
          <p:nvPr/>
        </p:nvPicPr>
        <p:blipFill>
          <a:blip r:embed="rId2"/>
          <a:stretch/>
        </p:blipFill>
        <p:spPr>
          <a:xfrm>
            <a:off x="5219640" y="1628640"/>
            <a:ext cx="3389400" cy="2827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00" name="Text Box 7"/>
          <p:cNvSpPr/>
          <p:nvPr/>
        </p:nvSpPr>
        <p:spPr>
          <a:xfrm>
            <a:off x="5365080" y="4508640"/>
            <a:ext cx="3131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овский Крем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Иван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онец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ача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V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8"/>
          <p:cNvSpPr/>
          <p:nvPr/>
        </p:nvSpPr>
        <p:spPr>
          <a:xfrm>
            <a:off x="5292720" y="5229360"/>
            <a:ext cx="3166920" cy="504720"/>
          </a:xfrm>
          <a:prstGeom prst="bevel">
            <a:avLst>
              <a:gd name="adj" fmla="val 1250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30-е годы – Китай-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10"/>
          <p:cNvSpPr/>
          <p:nvPr/>
        </p:nvSpPr>
        <p:spPr>
          <a:xfrm>
            <a:off x="5292720" y="5877000"/>
            <a:ext cx="3166920" cy="504720"/>
          </a:xfrm>
          <a:prstGeom prst="bevel">
            <a:avLst>
              <a:gd name="adj" fmla="val 1250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 – Белый 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12" descr="moskau"/>
          <p:cNvPicPr/>
          <p:nvPr/>
        </p:nvPicPr>
        <p:blipFill>
          <a:blip r:embed="rId3"/>
          <a:stretch/>
        </p:blipFill>
        <p:spPr>
          <a:xfrm>
            <a:off x="2340000" y="4483080"/>
            <a:ext cx="266544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АРХИТЕКТУРА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АНСАМБЛЬ СОБОРНОЙ ПЛОЩАДИ МОСКОВСКОГО КРЕМЛЯ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05" name="Picture 7" descr="{8A0C9485-88E1-400A-B2E9-A8940FF38CB2}"/>
          <p:cNvPicPr/>
          <p:nvPr/>
        </p:nvPicPr>
        <p:blipFill>
          <a:blip r:embed="rId1"/>
          <a:stretch/>
        </p:blipFill>
        <p:spPr>
          <a:xfrm>
            <a:off x="2268360" y="2349360"/>
            <a:ext cx="4680000" cy="390708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8"/>
          <p:cNvSpPr/>
          <p:nvPr/>
        </p:nvSpPr>
        <p:spPr>
          <a:xfrm>
            <a:off x="327240" y="2421000"/>
            <a:ext cx="190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пенский соб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475-147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Фиорован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9"/>
          <p:cNvSpPr/>
          <p:nvPr/>
        </p:nvSpPr>
        <p:spPr>
          <a:xfrm>
            <a:off x="342720" y="4581360"/>
            <a:ext cx="1883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лаговещен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484-148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сков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аст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0"/>
          <p:cNvSpPr/>
          <p:nvPr/>
        </p:nvSpPr>
        <p:spPr>
          <a:xfrm>
            <a:off x="3423240" y="1700280"/>
            <a:ext cx="237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хангельский соб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505-15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левиз Фрязин Но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1"/>
          <p:cNvSpPr/>
          <p:nvPr/>
        </p:nvSpPr>
        <p:spPr>
          <a:xfrm>
            <a:off x="7022880" y="2421000"/>
            <a:ext cx="1800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околь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вана Вели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505-15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он Фряз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остро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166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2"/>
          <p:cNvSpPr/>
          <p:nvPr/>
        </p:nvSpPr>
        <p:spPr>
          <a:xfrm>
            <a:off x="7037640" y="4653000"/>
            <a:ext cx="2100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ановитая пал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487-149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арк Фряз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ьетро Антони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ла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АРХИТЕКТУРА</a:t>
            </a:r>
            <a:br>
              <a:rPr sz="3600"/>
            </a:b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ШАТРОВЫЕ ХРАМЫ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12" name="Picture 6" descr="9N0419"/>
          <p:cNvPicPr/>
          <p:nvPr/>
        </p:nvPicPr>
        <p:blipFill>
          <a:blip r:embed="rId1"/>
          <a:stretch/>
        </p:blipFill>
        <p:spPr>
          <a:xfrm>
            <a:off x="468360" y="1484280"/>
            <a:ext cx="3887640" cy="28432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7" descr="{223D6DD8-E7CA-4D3C-85FB-E67A7D2AAAEF}"/>
          <p:cNvPicPr/>
          <p:nvPr/>
        </p:nvPicPr>
        <p:blipFill>
          <a:blip r:embed="rId2"/>
          <a:stretch/>
        </p:blipFill>
        <p:spPr>
          <a:xfrm>
            <a:off x="4788000" y="3408480"/>
            <a:ext cx="3736800" cy="2863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14" name="Text Box 8"/>
          <p:cNvSpPr/>
          <p:nvPr/>
        </p:nvSpPr>
        <p:spPr>
          <a:xfrm>
            <a:off x="4719240" y="1700280"/>
            <a:ext cx="32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рковь Вознес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еле Коломенском (1532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9"/>
          <p:cNvSpPr/>
          <p:nvPr/>
        </p:nvSpPr>
        <p:spPr>
          <a:xfrm flipH="1">
            <a:off x="2268360" y="1916280"/>
            <a:ext cx="244800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0"/>
          <p:cNvSpPr/>
          <p:nvPr/>
        </p:nvSpPr>
        <p:spPr>
          <a:xfrm>
            <a:off x="1479240" y="5157720"/>
            <a:ext cx="317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ор Покрова, что на Р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храм Василия Блаженн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555-156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арма и Постник Яков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0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ЖИВОПИСЬ</a:t>
            </a:r>
            <a:br>
              <a:rPr sz="3600"/>
            </a:br>
            <a:r>
              <a:rPr b="0" lang="ru-RU" sz="2900" spc="-1" strike="noStrike">
                <a:solidFill>
                  <a:srgbClr val="575f6d"/>
                </a:solidFill>
                <a:latin typeface="Century Schoolbook"/>
              </a:rPr>
              <a:t>ФЕОФАН ГРЕК (ОК.1340 – ПОСЛЕ 1405 Г.)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18" name="Picture 5" descr="FEOF_M"/>
          <p:cNvPicPr/>
          <p:nvPr/>
        </p:nvPicPr>
        <p:blipFill>
          <a:blip r:embed="rId1"/>
          <a:stretch/>
        </p:blipFill>
        <p:spPr>
          <a:xfrm>
            <a:off x="5364000" y="1484280"/>
            <a:ext cx="3210120" cy="412452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6"/>
          <p:cNvSpPr/>
          <p:nvPr/>
        </p:nvSpPr>
        <p:spPr>
          <a:xfrm>
            <a:off x="5366880" y="5661000"/>
            <a:ext cx="32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пение Богородицы. 139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1187280" y="1916280"/>
            <a:ext cx="3672000" cy="367344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ом из Визан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л в Константинопол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городе (церковь Спаса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ьине улице),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Благовещенский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хангельский соборы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овском Кремл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сть. Драмат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держанный, аскети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о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ЖИВОПИСЬ</a:t>
            </a:r>
            <a:br>
              <a:rPr sz="3600"/>
            </a:br>
            <a:r>
              <a:rPr b="0" lang="ru-RU" sz="2900" spc="-1" strike="noStrike">
                <a:solidFill>
                  <a:srgbClr val="575f6d"/>
                </a:solidFill>
                <a:latin typeface="Century Schoolbook"/>
              </a:rPr>
              <a:t>АНДРЕЙ РУБЛЕВ (1370 – 1430 ГГ.)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22" name="Picture 4" descr="21C_M"/>
          <p:cNvPicPr/>
          <p:nvPr/>
        </p:nvPicPr>
        <p:blipFill>
          <a:blip r:embed="rId1"/>
          <a:stretch/>
        </p:blipFill>
        <p:spPr>
          <a:xfrm>
            <a:off x="6948360" y="1484280"/>
            <a:ext cx="1756080" cy="2303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23" name="Text Box 5"/>
          <p:cNvSpPr/>
          <p:nvPr/>
        </p:nvSpPr>
        <p:spPr>
          <a:xfrm>
            <a:off x="6467040" y="378936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оица. 1410-142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6" descr="9N0297"/>
          <p:cNvPicPr/>
          <p:nvPr/>
        </p:nvPicPr>
        <p:blipFill>
          <a:blip r:embed="rId2"/>
          <a:stretch/>
        </p:blipFill>
        <p:spPr>
          <a:xfrm>
            <a:off x="4716360" y="3213000"/>
            <a:ext cx="1801800" cy="267660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7"/>
          <p:cNvSpPr/>
          <p:nvPr/>
        </p:nvSpPr>
        <p:spPr>
          <a:xfrm>
            <a:off x="4070520" y="5877000"/>
            <a:ext cx="31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кона Христа. 1410-1415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8"/>
          <p:cNvSpPr/>
          <p:nvPr/>
        </p:nvSpPr>
        <p:spPr>
          <a:xfrm>
            <a:off x="684360" y="1916280"/>
            <a:ext cx="3671640" cy="367344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ах Троице-Сергие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ем Спасо-Андрон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асты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ески Благовещенского со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овского Кремл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пенского собора 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и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ягкость. Челове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сдержанная ман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ьма, чем у Феофана Гр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НАЧАЛО МОСКОВСКОЙ ДИНАСТИ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Rectangle 13"/>
          <p:cNvSpPr/>
          <p:nvPr/>
        </p:nvSpPr>
        <p:spPr>
          <a:xfrm>
            <a:off x="2340000" y="1341360"/>
            <a:ext cx="3959280" cy="9367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иил Александ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278-13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5"/>
          <p:cNvSpPr/>
          <p:nvPr/>
        </p:nvSpPr>
        <p:spPr>
          <a:xfrm>
            <a:off x="1476360" y="2276640"/>
            <a:ext cx="2089080" cy="8650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ом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0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7"/>
          <p:cNvSpPr/>
          <p:nvPr/>
        </p:nvSpPr>
        <p:spPr>
          <a:xfrm>
            <a:off x="4932360" y="2276640"/>
            <a:ext cx="2089080" cy="8650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яслав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яж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0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8"/>
          <p:cNvSpPr/>
          <p:nvPr/>
        </p:nvSpPr>
        <p:spPr>
          <a:xfrm>
            <a:off x="826920" y="3284640"/>
            <a:ext cx="7201080" cy="936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рий Дани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303-13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9"/>
          <p:cNvSpPr/>
          <p:nvPr/>
        </p:nvSpPr>
        <p:spPr>
          <a:xfrm>
            <a:off x="2916360" y="4221000"/>
            <a:ext cx="2952720" cy="2160720"/>
          </a:xfrm>
          <a:prstGeom prst="downArrowCallout">
            <a:avLst>
              <a:gd name="adj1" fmla="val 34167"/>
              <a:gd name="adj2" fmla="val 34164"/>
              <a:gd name="adj3" fmla="val 16667"/>
              <a:gd name="adj4" fmla="val 66667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ь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верскими князь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илом Ярославич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м Михайлович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1"/>
          <p:cNvSpPr/>
          <p:nvPr/>
        </p:nvSpPr>
        <p:spPr>
          <a:xfrm>
            <a:off x="826920" y="4221000"/>
            <a:ext cx="2089440" cy="86544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ай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0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22"/>
          <p:cNvSpPr/>
          <p:nvPr/>
        </p:nvSpPr>
        <p:spPr>
          <a:xfrm>
            <a:off x="5651640" y="4221000"/>
            <a:ext cx="3166920" cy="1943280"/>
          </a:xfrm>
          <a:prstGeom prst="verticalScroll">
            <a:avLst>
              <a:gd name="adj" fmla="val 11356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олгу жил в Ор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 зятем хана Узб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л ярл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великое кн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ЖИВОПИСЬ</a:t>
            </a:r>
            <a:br>
              <a:rPr sz="3600"/>
            </a:br>
            <a:r>
              <a:rPr b="0" lang="ru-RU" sz="2900" spc="-1" strike="noStrike">
                <a:solidFill>
                  <a:srgbClr val="575f6d"/>
                </a:solidFill>
                <a:latin typeface="Century Schoolbook"/>
              </a:rPr>
              <a:t>ДИОНИСИЙ (ОК.1400 – ПОСЛЕ 1503 Г.)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28" name="Picture 4" descr="HEAD_M"/>
          <p:cNvPicPr/>
          <p:nvPr/>
        </p:nvPicPr>
        <p:blipFill>
          <a:blip r:embed="rId1"/>
          <a:stretch/>
        </p:blipFill>
        <p:spPr>
          <a:xfrm>
            <a:off x="5508720" y="1484280"/>
            <a:ext cx="2977920" cy="209556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5"/>
          <p:cNvSpPr/>
          <p:nvPr/>
        </p:nvSpPr>
        <p:spPr>
          <a:xfrm>
            <a:off x="5007600" y="3573360"/>
            <a:ext cx="41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держитель. Фреска. 1502-1503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6" descr="MONACH_M"/>
          <p:cNvPicPr/>
          <p:nvPr/>
        </p:nvPicPr>
        <p:blipFill>
          <a:blip r:embed="rId2"/>
          <a:stretch/>
        </p:blipFill>
        <p:spPr>
          <a:xfrm>
            <a:off x="6516720" y="4005360"/>
            <a:ext cx="1878120" cy="259236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7"/>
          <p:cNvSpPr/>
          <p:nvPr/>
        </p:nvSpPr>
        <p:spPr>
          <a:xfrm>
            <a:off x="5004360" y="5877000"/>
            <a:ext cx="1474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тропо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8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8"/>
          <p:cNvSpPr/>
          <p:nvPr/>
        </p:nvSpPr>
        <p:spPr>
          <a:xfrm>
            <a:off x="684360" y="1916280"/>
            <a:ext cx="3671640" cy="367344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ах Иосифо-Волоколам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асты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ески и иконы Успен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ора Московского Кремл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ркви Рождества Богород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рапонтова монасты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онченность. Изыска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здничность. Наряд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жные 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ИВАН ДАНИЛОВИЧ КАЛИТА</a:t>
            </a:r>
            <a:br>
              <a:rPr sz="3600"/>
            </a:b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(1325-1340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4" descr="9N0276"/>
          <p:cNvPicPr/>
          <p:nvPr/>
        </p:nvPicPr>
        <p:blipFill>
          <a:blip r:embed="rId1"/>
          <a:stretch/>
        </p:blipFill>
        <p:spPr>
          <a:xfrm>
            <a:off x="5508720" y="1557360"/>
            <a:ext cx="2963880" cy="22701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5"/>
          <p:cNvSpPr/>
          <p:nvPr/>
        </p:nvSpPr>
        <p:spPr>
          <a:xfrm>
            <a:off x="5941440" y="3789360"/>
            <a:ext cx="22914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.М. Васне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овский Крем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Иване Кал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6"/>
          <p:cNvSpPr/>
          <p:nvPr/>
        </p:nvSpPr>
        <p:spPr>
          <a:xfrm>
            <a:off x="1187280" y="1557360"/>
            <a:ext cx="3097440" cy="1368360"/>
          </a:xfrm>
          <a:prstGeom prst="leftArrowCallout">
            <a:avLst>
              <a:gd name="adj1" fmla="val 25002"/>
              <a:gd name="adj2" fmla="val 25000"/>
              <a:gd name="adj3" fmla="val 37727"/>
              <a:gd name="adj4" fmla="val 76081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327 г. подав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тиордын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с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ве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8"/>
          <p:cNvSpPr/>
          <p:nvPr/>
        </p:nvSpPr>
        <p:spPr>
          <a:xfrm>
            <a:off x="468360" y="3141720"/>
            <a:ext cx="4824360" cy="1295280"/>
          </a:xfrm>
          <a:prstGeom prst="bevel">
            <a:avLst>
              <a:gd name="adj" fmla="val 7718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328 г. получил ярл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великое княжени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 собирать дань вместо баск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755640" y="4581360"/>
            <a:ext cx="4176720" cy="1943280"/>
          </a:xfrm>
          <a:prstGeom prst="plus">
            <a:avLst>
              <a:gd name="adj" fmla="val 25023"/>
            </a:avLst>
          </a:prstGeom>
          <a:solidFill>
            <a:srgbClr val="fe863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326 г. свою резиденцию перен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оскву митрополит П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2"/>
          <p:cNvSpPr/>
          <p:nvPr/>
        </p:nvSpPr>
        <p:spPr>
          <a:xfrm>
            <a:off x="5867280" y="4508640"/>
            <a:ext cx="2305080" cy="936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оедин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рри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ого Сев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4"/>
          <p:cNvSpPr/>
          <p:nvPr/>
        </p:nvSpPr>
        <p:spPr>
          <a:xfrm>
            <a:off x="5651640" y="5589720"/>
            <a:ext cx="3492360" cy="1268280"/>
          </a:xfrm>
          <a:prstGeom prst="foldedCorner">
            <a:avLst>
              <a:gd name="adj" fmla="val 17319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еон Горд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340-135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ван Красный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53-135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олжали политику от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ДМИТРИЙ ИВАНОВИЧ ДОНСКОЙ (1359-1389): НАЧАЛО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755640" y="2205000"/>
            <a:ext cx="3673440" cy="11509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59-1362 гг. – борь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великое княжение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жегородским княз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м Константинович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6"/>
          <p:cNvSpPr/>
          <p:nvPr/>
        </p:nvSpPr>
        <p:spPr>
          <a:xfrm flipH="1">
            <a:off x="1764720" y="1457280"/>
            <a:ext cx="68403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840" y="3811"/>
                </a:moveTo>
                <a:lnTo>
                  <a:pt x="23645" y="3811"/>
                </a:lnTo>
                <a:lnTo>
                  <a:pt x="23645" y="-7359"/>
                </a:lnTo>
                <a:lnTo>
                  <a:pt x="19629" y="-9053"/>
                </a:lnTo>
              </a:path>
            </a:pathLst>
          </a:custGeom>
          <a:solidFill>
            <a:srgbClr val="fe8637"/>
          </a:soli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359 г. Дмитрию было 9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трополит Алексий – воспитатель и фактический прав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4716360" y="2205000"/>
            <a:ext cx="3673440" cy="7192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67-1368 гг. – строи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окаменного Кр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755640" y="2205000"/>
            <a:ext cx="3673440" cy="11509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62 г. – ярл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великое кн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66 г. – женитьба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вдокии Дмитрие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9" descr="9N0287"/>
          <p:cNvPicPr/>
          <p:nvPr/>
        </p:nvPicPr>
        <p:blipFill>
          <a:blip r:embed="rId1"/>
          <a:stretch/>
        </p:blipFill>
        <p:spPr>
          <a:xfrm>
            <a:off x="4716360" y="2205000"/>
            <a:ext cx="3743280" cy="2347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10"/>
          <p:cNvSpPr/>
          <p:nvPr/>
        </p:nvSpPr>
        <p:spPr>
          <a:xfrm>
            <a:off x="684360" y="3716280"/>
            <a:ext cx="3743280" cy="144144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68-1375 гг. – вой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Литвой (Ольгерд)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ерью (Михаил Александрович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684360" y="3716280"/>
            <a:ext cx="3743280" cy="144144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68, 1370, 1372 гг. – все ата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и отб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75 г. – Дмитрий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орил Т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3"/>
          <p:cNvSpPr/>
          <p:nvPr/>
        </p:nvSpPr>
        <p:spPr>
          <a:xfrm>
            <a:off x="1187280" y="5805360"/>
            <a:ext cx="6121440" cy="6922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ая задача – освободиться от ордынского иг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5"/>
          <p:cNvSpPr/>
          <p:nvPr/>
        </p:nvSpPr>
        <p:spPr>
          <a:xfrm>
            <a:off x="4716360" y="4653000"/>
            <a:ext cx="3743280" cy="9367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оедине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оозеро, Владимир, Дмитр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одуб, Углич, Костр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ДО КУЛИКОВА ПОЛ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AutoShape 4"/>
          <p:cNvSpPr/>
          <p:nvPr/>
        </p:nvSpPr>
        <p:spPr>
          <a:xfrm>
            <a:off x="1116000" y="1197000"/>
            <a:ext cx="6840720" cy="1584360"/>
          </a:xfrm>
          <a:prstGeom prst="rightArrow">
            <a:avLst>
              <a:gd name="adj1" fmla="val 50037"/>
              <a:gd name="adj2" fmla="val 253962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а 1377 г. – Дмитрий Боброк-Волы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ил поход на Волжскую Булгар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бед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flipH="1">
            <a:off x="1331280" y="2637000"/>
            <a:ext cx="6840360" cy="1584000"/>
          </a:xfrm>
          <a:prstGeom prst="rightArrow">
            <a:avLst>
              <a:gd name="adj1" fmla="val 50037"/>
              <a:gd name="adj2" fmla="val 254006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о 1377 г. – ордынский царевич Араб-ш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громил московско-нижегородское войс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реке Пья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1187280" y="4076640"/>
            <a:ext cx="6840720" cy="1584360"/>
          </a:xfrm>
          <a:prstGeom prst="rightArrow">
            <a:avLst>
              <a:gd name="adj1" fmla="val 50037"/>
              <a:gd name="adj2" fmla="val 253962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78 г. – Дмитрий Иванович разгром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йско мурзы Бегича на р. Во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ОДГОТОВКА К СРАЖЕНИЮ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ключил союз с литовским великим князем Ягайло и рязанским князем Олегом Ивановиче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нял генуэзскую пехот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брал огромное войско (до 100 тыс. чел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брал ратников по всей Руси (кроме Рязани, Суздаля, Твери, Смоленска, Новгород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вел численность войска до 70 тыс. че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лучил благословение Сергия Радонежского в Троица-Сергиеве монастыр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1188720" y="1125360"/>
            <a:ext cx="23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ник Мам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5148720" y="1125360"/>
            <a:ext cx="31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митрий Ив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КУЛИКОВСКАЯ БИТВА</a:t>
            </a:r>
            <a:br>
              <a:rPr sz="3600"/>
            </a:b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8 СЕНТЯБРЯ 1380 Г.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6" name="Picture 4" descr="FF16_M"/>
          <p:cNvPicPr/>
          <p:nvPr/>
        </p:nvPicPr>
        <p:blipFill>
          <a:blip r:embed="rId1"/>
          <a:stretch/>
        </p:blipFill>
        <p:spPr>
          <a:xfrm>
            <a:off x="468360" y="1484280"/>
            <a:ext cx="5173560" cy="5108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97" name="Picture 5" descr="9N0290"/>
          <p:cNvPicPr/>
          <p:nvPr/>
        </p:nvPicPr>
        <p:blipFill>
          <a:blip r:embed="rId2"/>
          <a:stretch/>
        </p:blipFill>
        <p:spPr>
          <a:xfrm>
            <a:off x="5792760" y="2349360"/>
            <a:ext cx="3276720" cy="18558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6"/>
          <p:cNvSpPr/>
          <p:nvPr/>
        </p:nvSpPr>
        <p:spPr>
          <a:xfrm>
            <a:off x="6013800" y="4221000"/>
            <a:ext cx="2780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.Буб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ро на Куликовом п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45:59Z</dcterms:created>
  <dc:creator>Свечников С.К.</dc:creator>
  <dc:description/>
  <dc:language>en-US</dc:language>
  <cp:lastModifiedBy>Admin</cp:lastModifiedBy>
  <dcterms:modified xsi:type="dcterms:W3CDTF">2019-11-03T13:32:30Z</dcterms:modified>
  <cp:revision>109</cp:revision>
  <dc:subject/>
  <dc:title>Слайд 1</dc:title>
</cp:coreProperties>
</file>