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DCD-AB24-4033-BCFE-DC7ECB68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28F-9635-4C0D-856C-8D144E4A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C2C-C5F0-427C-BAD0-A2F6318D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637-C761-4938-95C3-FBA8FD14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F6F-BFA4-465E-94EF-E5425D9F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AEE-4AA2-48B8-A2A6-88BEEEAB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521-95F7-4A0B-8D6D-0EABF79B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827-E839-4D6C-B1B3-3C104095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2FE-61B5-4D6B-8EE0-F29E2024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B58-CC3F-4B87-86C2-8E807A2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7CD-B0E7-47A7-9DBD-B9EB6198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5BF-8D17-4F93-8E9F-309F024B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5801-A419-47A6-A220-7A50FB2AF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9912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ff"/>
                </a:solidFill>
                <a:latin typeface="Arial"/>
              </a:rPr>
              <a:t>ПОСУ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4581360"/>
            <a:ext cx="6264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ила: Никит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рел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8994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ЧАЙНАЯ ПО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4007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хар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1054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йный серв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317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-54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е.  Какую посуду ты види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761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726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уда хранится на кухне в шкафах  и на пол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23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хонная посуда – для приготовления пищ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1576440"/>
            <a:ext cx="60724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кастрюле варят (отваривают)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2309760"/>
            <a:ext cx="6050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ковороде жарят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74642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тей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Сотейник"/>
          <p:cNvPicPr/>
          <p:nvPr/>
        </p:nvPicPr>
        <p:blipFill>
          <a:blip r:embed="rId1"/>
          <a:stretch/>
        </p:blipFill>
        <p:spPr>
          <a:xfrm>
            <a:off x="1681200" y="1738440"/>
            <a:ext cx="5781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лат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14680" y="1662120"/>
            <a:ext cx="5715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ОЛОВАЯ ПО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ловую посуду используют для приёма п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окая та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лкая та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оловые приб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0990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9:07:53Z</dcterms:created>
  <dc:creator>Ученик</dc:creator>
  <dc:description/>
  <dc:language>en-US</dc:language>
  <cp:lastModifiedBy>Ученик</cp:lastModifiedBy>
  <dcterms:modified xsi:type="dcterms:W3CDTF">2019-11-21T14:49:10Z</dcterms:modified>
  <cp:revision>12</cp:revision>
  <dc:subject/>
  <dc:title>МОЙ ДОМ</dc:title>
</cp:coreProperties>
</file>