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533-BE92-4B90-BC7E-B7C71AB5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68C-705F-49F7-96DF-32D79033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4FF-FC9E-44F1-A4B5-80B5475E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A21-01B2-4868-836E-25841BFF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A18-11E2-420B-8ABC-8C2E8930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D06-944A-425C-B0CC-6AAA6D05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6DA-C801-4110-AE91-DB52EB6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CAE-6567-4CA3-A139-B3FEFE95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9BB-136C-4299-B4F0-C2FC0536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F4D-E811-4DED-B8AF-A8FB1E87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F43-EE2F-4991-86AE-54D1D83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F55-2614-40D0-8C75-AEFAD992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0CD-3AA7-4F56-B04F-A7F378245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991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ff"/>
                </a:solidFill>
                <a:latin typeface="Arial"/>
              </a:rPr>
              <a:t>ПОСУ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581360"/>
            <a:ext cx="6264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ила: Никит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рел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8994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ЧАЙНАЯ ПО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4007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хар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10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йный серв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317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-54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е.  Какую посуду ты вид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761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726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уда хранится на кухне в шкафах  и на пол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23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хонная посуда – для приготовления пищ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1576440"/>
            <a:ext cx="60724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кастрюле варят (отваривают)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2309760"/>
            <a:ext cx="6050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ковороде жаря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74642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тей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Сотейник"/>
          <p:cNvPicPr/>
          <p:nvPr/>
        </p:nvPicPr>
        <p:blipFill>
          <a:blip r:embed="rId1"/>
          <a:stretch/>
        </p:blipFill>
        <p:spPr>
          <a:xfrm>
            <a:off x="1681200" y="1738440"/>
            <a:ext cx="5781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лат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14680" y="1662120"/>
            <a:ext cx="5715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ОЛОВАЯ ПО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овую посуду используют для приёма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окая та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лкая та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оловые приб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0990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9:07:53Z</dcterms:created>
  <dc:creator>Ученик</dc:creator>
  <dc:description/>
  <dc:language>en-US</dc:language>
  <cp:lastModifiedBy>Ученик</cp:lastModifiedBy>
  <dcterms:modified xsi:type="dcterms:W3CDTF">2019-11-21T14:49:10Z</dcterms:modified>
  <cp:revision>12</cp:revision>
  <dc:subject/>
  <dc:title>МОЙ ДОМ</dc:title>
</cp:coreProperties>
</file>