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D29-4235-4187-A14F-5694B4E1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B10-1AA4-4613-B3FA-FAF31931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3B2-7E4F-45DF-B562-A39842C2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030-E322-4227-8114-1523CFAF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3370-A62D-4CD0-9FBF-19AC7778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A4CD-E21C-4787-88BD-2B55B1F5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528C-F978-4424-B6B3-C40BB71A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F1A9-0752-4AF2-9064-AB8BB4C5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88A7-FF13-41B0-A750-D42C0688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168-9FDE-44DC-84F7-0DCBCE28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4AC8-61CF-483E-8939-45A3E1A9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948-7351-4871-82A4-FBA57E17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DC28-FB9A-4493-8759-5F8CD18F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EF9B-9655-48C4-A464-EDE2DAED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A5FD-8B39-45FF-B8A5-F7A61606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BA85-3B36-4969-B186-775B452D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2297-954A-45FA-A626-C8EFB64A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C6CF-9183-4514-8CD0-C3F78219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F3210-6C0F-4665-9708-45CE1286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04BA-D82E-4F6E-B9C8-D989B24C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E160-D712-481B-85C6-3818DF22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2DD23-5705-4CDE-8CD7-C9A1F5AA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A97-0FB4-47F9-921B-E6BD40F7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6B03-D6C9-4B28-9DF3-2B498B72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8FFA-0196-4EE1-B5A6-0E78083B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BC49-660C-48A0-846B-58B8B9EF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541F3-244E-496F-8059-6D14D4D0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46A0-8019-474C-B776-CCE89CE8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2922-487F-4640-9465-F2DCC684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89F9-2EA7-468D-A0BE-B89BAA05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AE83-6DD3-49F9-B903-2C0AB950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7D613-97AE-47B6-B19B-AE49F687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846F3-E552-44A4-99E0-D935F5E7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1EF-319F-4303-8740-DEB03699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EDDFF-76C0-403E-AC06-9930C808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C9F2-1BF4-4341-A498-1991BFF9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C17D-4ADB-432A-86FE-7EC16D41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0F4BC-544C-4966-862C-DB5E7A4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9A8B-E956-41F9-881A-A53552A3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8B8F-3A0D-4F07-A1FE-918DA519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91A9B-D10E-43C8-BF6B-9C0F0E0B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90BA-E752-4099-9DD7-E0EC4234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7D1D-9730-4661-8D9D-3A5C832A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656-6781-4F87-8D48-87440CDE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ED8-20CE-477C-A9B3-D354D53D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57A-F257-41CE-B473-E97F33A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C5E-498B-49AB-A6C5-BEC6B573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DA4-6BB7-4824-B335-D64C2B06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AAFD0-2E5B-48A5-934C-C1796C4A39D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E7E39-0949-4584-86E6-B28203FFBB0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D3B49-1294-4868-9594-FD97A9FC63C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F2DB8-A34F-403E-9324-5C547957776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Презентация на тему:</a:t>
            </a: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«Экологическая обстановка в Самарской области»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50180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одзаголовок 2"/>
          <p:cNvSpPr/>
          <p:nvPr/>
        </p:nvSpPr>
        <p:spPr>
          <a:xfrm>
            <a:off x="-1155600" y="6539040"/>
            <a:ext cx="7767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2347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Анализ качественного состояния земель показывает, что на территории области, наблюдается устойчивая тенденция деградации почвенного покрова.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6398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грязнители почв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редства хим. защиты растен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грязнение пестицид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рганические удобр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яжелые метал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ефтепродук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Фтор, нитраты и сульфа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6800" y="1763280"/>
            <a:ext cx="10924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остояние животного мира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Изображение 2" descr=""/>
          <p:cNvPicPr/>
          <p:nvPr/>
        </p:nvPicPr>
        <p:blipFill>
          <a:blip r:embed="rId1"/>
          <a:stretch/>
        </p:blipFill>
        <p:spPr>
          <a:xfrm>
            <a:off x="3208320" y="3281400"/>
            <a:ext cx="4637160" cy="334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2760" y="299880"/>
            <a:ext cx="8596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ивотный мир является составляющим, неотъемлемым элементом природной  среды и биологического разнообразия, возобновляющимся природным ресурсом, регулирующим и стабилизирующим  биосферные процесс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тропогенный фактор способствует увеличению численности плотоядных животных (лисица, енотовидная собака, одичавшие собаки и кошки), что приводит к снижению численности и ухудшению воспроизводства  пернатой дичи. Однако за последние  годы аномальных колебаний численности  отдельных видов животного мира на территории области не регистрировалос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нд рыбохозяйственных водоёмов Самарской области представлен участками Саратовского и Куйбышевского водохранилищ, а также их притоками. Общая протяжённость рек на территории Самарской области составляет 8,43 тыс. км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мысловая ихтиофауна водохранилищ представлена следующими видами рыб: лещ, судак, щука, налим, сом, язь, линь, карась, плотва, густера, синец, окунь, берш, краснопёрка, чехонь, белоглазка, толстолобик, белый амур; в озёрах Безенчукского района основу промысла составляет карась. В области также ведется добыча речного рака.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льное зарастание заливов и пойм ведет к нарушению в них водообмена, к ухудшению гидрохимического режима. Все эти факторы привели к ухудшению условий среды обитания рыб.</a:t>
            </a:r>
            <a:br>
              <a:rPr sz="1300"/>
            </a:br>
            <a:r>
              <a:rPr b="0" lang="ru-RU" sz="13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77640" y="-117360"/>
            <a:ext cx="86454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ечение последних лет животный мир Самарской области, в целом, сохраняет  своё  видовое  разнообразие. Беспозвоночных на территории области  зарегистрировано  около 8 тысяч видов, из них порядка 7 тысяч видов насекомых. 15 видов беспозвоночных занесены в «Красную книгу Российской  Федерации». Земноводные - зарегистрировано 11 видов, из них 6 – краснокнижные. Пресмыкающиеся – насчитывается 11 видов, из них 7 – краснокнижные. Птиц на территории региона зарегистрировано 293 вида. В Красную книгу Российской Федерации занесено 43 вида птиц области, из которых ныне гнездятся  23  вида. Млекопитающие - зарегистрировано 78 видов, представляющих 6 отрядов, 19 семейств  и  51  род. По данным государственного мониторинга охотничьих ресурсов и среды их обитания за 2011 год, в Самарской области обитает 29 видов млекопитающих и 44 вида птиц отнесенных к охотничьим ресурсам. При большом видовом разнообразии охотничьих ресурсов численность их находится на уровне среднего и ниж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ути решения экологических пробле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cxnSp>
        <p:nvCxnSpPr>
          <p:cNvPr id="239" name="Прямая со стрелкой 4"/>
          <p:cNvCxnSpPr/>
          <p:nvPr/>
        </p:nvCxnSpPr>
        <p:spPr>
          <a:xfrm flipH="1">
            <a:off x="1343880" y="1269720"/>
            <a:ext cx="1121400" cy="1143720"/>
          </a:xfrm>
          <a:prstGeom prst="straightConnector1">
            <a:avLst/>
          </a:prstGeom>
          <a:ln cap="rnd" w="73080">
            <a:solidFill>
              <a:srgbClr val="90c226"/>
            </a:solidFill>
            <a:miter/>
            <a:tailEnd len="med" type="triangle" w="med"/>
          </a:ln>
        </p:spPr>
      </p:cxnSp>
      <p:sp>
        <p:nvSpPr>
          <p:cNvPr id="240" name="TextBox 5"/>
          <p:cNvSpPr/>
          <p:nvPr/>
        </p:nvSpPr>
        <p:spPr>
          <a:xfrm>
            <a:off x="136440" y="2452680"/>
            <a:ext cx="2894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rebuchet MS"/>
              </a:rPr>
              <a:t>Изменение характера производственной деятельност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1" name="Прямая со стрелкой 7"/>
          <p:cNvCxnSpPr/>
          <p:nvPr/>
        </p:nvCxnSpPr>
        <p:spPr>
          <a:xfrm flipH="1">
            <a:off x="4122360" y="1269720"/>
            <a:ext cx="853200" cy="1183320"/>
          </a:xfrm>
          <a:prstGeom prst="straightConnector1">
            <a:avLst/>
          </a:prstGeom>
          <a:ln cap="rnd" w="73080">
            <a:solidFill>
              <a:srgbClr val="90c226"/>
            </a:solidFill>
            <a:miter/>
            <a:tailEnd len="med" type="triangle" w="med"/>
          </a:ln>
        </p:spPr>
      </p:cxnSp>
      <p:sp>
        <p:nvSpPr>
          <p:cNvPr id="242" name="TextBox 9"/>
          <p:cNvSpPr/>
          <p:nvPr/>
        </p:nvSpPr>
        <p:spPr>
          <a:xfrm>
            <a:off x="2854440" y="2376360"/>
            <a:ext cx="28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rebuchet MS"/>
              </a:rPr>
              <a:t>Ограничение в расходовании природных ресурсо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3" name="Прямая со стрелкой 10"/>
          <p:cNvCxnSpPr/>
          <p:nvPr/>
        </p:nvCxnSpPr>
        <p:spPr>
          <a:xfrm flipH="1">
            <a:off x="6474960" y="1230120"/>
            <a:ext cx="542160" cy="1146600"/>
          </a:xfrm>
          <a:prstGeom prst="straightConnector1">
            <a:avLst/>
          </a:prstGeom>
          <a:ln cap="rnd" w="73080">
            <a:solidFill>
              <a:srgbClr val="90c226"/>
            </a:solidFill>
            <a:miter/>
            <a:tailEnd len="med" type="triangle" w="med"/>
          </a:ln>
        </p:spPr>
      </p:cxnSp>
      <p:sp>
        <p:nvSpPr>
          <p:cNvPr id="244" name="TextBox 11"/>
          <p:cNvSpPr/>
          <p:nvPr/>
        </p:nvSpPr>
        <p:spPr>
          <a:xfrm>
            <a:off x="5392800" y="2414520"/>
            <a:ext cx="289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rebuchet MS"/>
              </a:rPr>
              <a:t>Создание охраняемых центров по разведению редких и исчезающих видов животных и растен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5" name="Прямая со стрелкой 16"/>
          <p:cNvCxnSpPr/>
          <p:nvPr/>
        </p:nvCxnSpPr>
        <p:spPr>
          <a:xfrm flipH="1">
            <a:off x="8462520" y="1356840"/>
            <a:ext cx="240480" cy="3174120"/>
          </a:xfrm>
          <a:prstGeom prst="straightConnector1">
            <a:avLst/>
          </a:prstGeom>
          <a:ln cap="rnd" w="73080">
            <a:solidFill>
              <a:srgbClr val="90c226"/>
            </a:solidFill>
            <a:miter/>
            <a:tailEnd len="med" type="triangle" w="med"/>
          </a:ln>
        </p:spPr>
      </p:cxnSp>
      <p:sp>
        <p:nvSpPr>
          <p:cNvPr id="246" name="TextBox 18"/>
          <p:cNvSpPr/>
          <p:nvPr/>
        </p:nvSpPr>
        <p:spPr>
          <a:xfrm>
            <a:off x="7254720" y="4568760"/>
            <a:ext cx="289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rebuchet MS"/>
              </a:rPr>
              <a:t>Формирование экологического сознания и экологической культур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extBox 5" descr=""/>
          <p:cNvPicPr/>
          <p:nvPr/>
        </p:nvPicPr>
        <p:blipFill>
          <a:blip r:embed="rId1"/>
          <a:stretch/>
        </p:blipFill>
        <p:spPr>
          <a:xfrm>
            <a:off x="212760" y="2425680"/>
            <a:ext cx="10047240" cy="177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Географическое положе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77520" y="17254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ая область входит в состав Приволжского федерального округа и занимает площадь 53.6 тысяч кв. км, что составляет 0.31% территории Росс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ит на западе с Ульяновской областью, на севере с республикой Татарстан, на востоке с республикой Казахстан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 Самарская область делится на 10 городских округов (Самара-центр, Тольятти, Сызрань, Новокуйбышевск, Чапаевск, Отрадный, Жигулёвск, Октябрьск, Кинель, Похвистнево) и 27 муниципальных район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располагает значительными запасами полезных ископаемых и входит в число основных и нефтедобывающих и нефтеперерабатывающих регионов стран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8120" y="1088640"/>
            <a:ext cx="9560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Активное загрязнение окружающей среды привело к глобальной проблеме – разрушению среды существования человечества.</a:t>
            </a: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90c226"/>
                </a:solidFill>
                <a:latin typeface="Trebuchet MS"/>
              </a:rPr>
              <a:t>Экологическая проблема </a:t>
            </a: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– это изменение природной среды в результате антропогенных воздействий, ведущее к нарушению структуры и функционирования природы.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6800" y="1763280"/>
            <a:ext cx="10924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грязнение атмосферного воздуха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Picture 6" descr="C:\Users\Пользователь\Videos\i (7).jpg"/>
          <p:cNvPicPr/>
          <p:nvPr/>
        </p:nvPicPr>
        <p:blipFill>
          <a:blip r:embed="rId1"/>
          <a:stretch/>
        </p:blipFill>
        <p:spPr>
          <a:xfrm>
            <a:off x="779400" y="4600440"/>
            <a:ext cx="3613320" cy="225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0" name="Picture 4" descr="&amp;Vcy;&amp;ycy;&amp;pcy;&amp;ucy;&amp;scy;&amp;kcy; &quot;&amp;Pcy;&amp;rcy;&amp;icy;&amp;chcy;&amp;icy;&amp;ncy;&amp;ycy; &amp;ecy;&amp;mcy;&amp;icy;&amp;gcy;&amp;rcy;&amp;acy;&amp;tscy;&amp;icy;&amp;icy; &amp;icy;&amp;zcy; &amp;Rcy;&amp;ocy;&amp;scy;&amp;scy;&amp;icy;&amp;icy;&quot; &amp;rcy;&amp;acy;&amp;scy;&amp;scy;&amp;ycy;&amp;lcy;&amp;kcy;&amp;icy; &quot;&amp;Scy;&amp;tcy;&amp;acy;&amp;tcy;&amp;softcy;&amp;icy; &amp;pcy;&amp;ocy; &amp;tcy;&amp;ucy;&amp;rcy;&amp;icy;&amp;zcy;&amp;mcy;&amp;ucy;: &amp;vcy;&amp;icy;&amp;dcy;&amp;ycy; &amp;ocy;&amp;tcy;&amp;dcy;&amp;ycy;&amp;khcy;&amp;acy;, &amp;scy;&amp;ocy;&amp;vcy;&amp;iecy;&amp;tcy;&amp;ycy;, &amp;rcy;&amp;iecy;&amp;kcy;&amp;ocy;&amp;mcy;&amp;iecy;&amp;ncy;&amp;dcy;&amp;acy;&amp;tscy;&amp;icy;&amp;icy;&quot; &amp;ocy;&amp;tcy; 05 &amp;acy;&amp;vcy;&amp;gcy;&amp;ucy;&amp;scy;&amp;tcy;&amp;acy; 2013 &amp;gcy;&amp;ocy;&amp;dcy;&amp;acy;. &amp;Rcy;&amp;acy;"/>
          <p:cNvPicPr/>
          <p:nvPr/>
        </p:nvPicPr>
        <p:blipFill>
          <a:blip r:embed="rId2"/>
          <a:stretch/>
        </p:blipFill>
        <p:spPr>
          <a:xfrm>
            <a:off x="6140520" y="3068640"/>
            <a:ext cx="3510000" cy="264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31560" y="182520"/>
            <a:ext cx="96361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 Самара является одним из городов с наиболее загрязнённым атмосферным воздухом. Загрязнение воздуха известными веществами над территорией города больше на 43%, чем в среднем по России, а концентрация других вредных веществ превышает нормы в десятки раз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енденция загрязнения воздуха по Самарской области.(2013 г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ольятти </a:t>
            </a:r>
            <a:r>
              <a:rPr b="0" lang="mr-IN" sz="2400" spc="-1" strike="noStrike">
                <a:solidFill>
                  <a:srgbClr val="404040"/>
                </a:solidFill>
                <a:latin typeface="Trebuchet MS"/>
                <a:ea typeface="Mangal"/>
              </a:rPr>
              <a:t>–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уровень загрязнения 8,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ызрань-8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радный – 7,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Чапаевск -6, 8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овокуйбышевск-6,7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хвистнево-5,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Жигулевск-3,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7" descr="C:\Users\Пользователь\Videos\i (8).jpg"/>
          <p:cNvPicPr/>
          <p:nvPr/>
        </p:nvPicPr>
        <p:blipFill>
          <a:blip r:embed="rId1"/>
          <a:stretch/>
        </p:blipFill>
        <p:spPr>
          <a:xfrm>
            <a:off x="5799240" y="3040200"/>
            <a:ext cx="2214360" cy="1643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C:\Users\Пользователь\Videos\i (5).jpg"/>
          <p:cNvPicPr/>
          <p:nvPr/>
        </p:nvPicPr>
        <p:blipFill>
          <a:blip r:embed="rId2"/>
          <a:stretch/>
        </p:blipFill>
        <p:spPr>
          <a:xfrm>
            <a:off x="6383160" y="4903920"/>
            <a:ext cx="2357640" cy="1571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ичины загрязн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ышленный предприятия, многие из которых не имеют достаточно эффективных очистных сооружен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транспорт. Пыль, которой перенасыщен воздух города, забивается в лёгкие и может служить переносчиком различных вирусных инфекц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ая нефтедобыч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транспортный предприятия, Покрасочный производства, отопительные, котельны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6800" y="1763280"/>
            <a:ext cx="10924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грязнение водных ресурсов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Изображение 2" descr=""/>
          <p:cNvPicPr/>
          <p:nvPr/>
        </p:nvPicPr>
        <p:blipFill>
          <a:blip r:embed="rId1"/>
          <a:stretch/>
        </p:blipFill>
        <p:spPr>
          <a:xfrm>
            <a:off x="5126040" y="3084480"/>
            <a:ext cx="3668760" cy="3462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ичины загрязн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ышленные предприят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водческие комплекс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опроводный транспорт (на котором в год происходит до 3000 аварий, в результате этого загрязняются и водные и земельные ресурсы. Объём разлившейся нефти в год доходит до 1000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е качество монтажных работ, сброс промышленными предприятиями отходов в во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6800" y="1763280"/>
            <a:ext cx="10924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грязнение почвы</a:t>
            </a: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Изображение 3" descr=""/>
          <p:cNvPicPr/>
          <p:nvPr/>
        </p:nvPicPr>
        <p:blipFill>
          <a:blip r:embed="rId1"/>
          <a:stretch/>
        </p:blipFill>
        <p:spPr>
          <a:xfrm>
            <a:off x="2079720" y="3084480"/>
            <a:ext cx="5040360" cy="363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7T19:46:53Z</dcterms:created>
  <dc:creator>пользователь Microsoft Office</dc:creator>
  <dc:description/>
  <dc:language>en-US</dc:language>
  <cp:lastModifiedBy>1</cp:lastModifiedBy>
  <dcterms:modified xsi:type="dcterms:W3CDTF">2019-11-21T06:44:32Z</dcterms:modified>
  <cp:revision>10</cp:revision>
  <dc:subject/>
  <dc:title>Презентация на тему: «Экологическая обстановка в Самарской области»</dc:title>
</cp:coreProperties>
</file>