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06F-1788-42A2-BACD-A11C3B33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77D-B387-464B-90E3-0E4C945F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CA3-8F6C-4D39-992C-AFE18922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136-87DF-413B-8B75-5F30458B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06EA-6800-41D7-B55A-800A9711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2E76-B99E-4AF2-A830-578AD564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7B45-5CA7-4CE5-8AC8-366A438D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483A-BBAA-453C-BA8D-6AB7441E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CD5D-4B0C-426C-9292-562A016C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A5BA-6797-4946-838C-799DABC8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CF77-6FA3-4E4B-A711-C75BF42A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950-B48A-4A43-AD5B-82E3A4ED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B235-72E4-411E-A5DB-26EE7C9F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6FA0-5F43-4238-913D-8AF0D6EE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2FC5-E2CA-4CDC-B0A0-F8C4617D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259C-6FF8-4ADF-9DD4-49E69ABE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D2B4-332C-4F54-B9B2-8B83F79B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D731B-69CA-4256-AC1D-C63FE0A5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CF7B-2E16-4721-9386-4BA44243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D18C8-C40B-46D3-9853-CF32F088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61AA-C4BC-45A9-B15A-7CA96474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8F09-B991-48AC-9AC3-E6D29003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83F-F01D-4881-B0C7-E482231F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D665-D835-4D8C-836F-CF012C36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C501-D280-47DF-8D9B-6F7FF508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97548-33CD-4B36-B24A-FB6B7FF1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F945-9C66-41CA-BE6E-FCF239B0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AF23E-26AC-4FBA-A29D-53852770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94E9-A5A7-4DCC-9CD4-0545B322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1CB6-B9A2-4A48-87D1-2D44D860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205E-649C-4229-B530-413A32E0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8C8EB-7BC2-4D14-8F04-A0660819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57AC-041E-487D-8C8F-B7BD24BB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9EA-DD18-40CE-99B0-BD97E188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DB5C-AAE9-4064-90CC-46B5007A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C5D18-1C0F-47CE-9A4F-0DB11540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07FC-C053-4C07-A74A-59B51A38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291F8-3E18-4772-AEC3-6CBF808B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BA781-5FA2-46DD-A6DA-99FD7411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B234-A055-4F2C-9DC3-73E45B21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85AA-BED1-491F-8D85-751087F7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C6A87-758C-4CC9-A58F-8734F0A1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1415-2EA7-4DB5-9CDA-B981D266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BA6-F3DA-4E0B-A6E8-8DFC01E7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FB4-5ACA-4C12-8D94-C056636B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05F-8E30-4952-AECC-059F59D0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A54-67A5-4999-A65E-4A34352B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C37-A0DB-49D7-A845-AAE1FB6A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97628-2214-460D-A208-78CFD392CA9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34DE0-EF11-47B4-AFFE-C10330A93F7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CFB7B-E311-41C1-8E4C-D460CE51D02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C26D8-9156-4752-967F-C1E33C6DC14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Презентация на тему:</a:t>
            </a: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«Экологическая обстановка в Самарской области»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50180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одзаголовок 2"/>
          <p:cNvSpPr/>
          <p:nvPr/>
        </p:nvSpPr>
        <p:spPr>
          <a:xfrm>
            <a:off x="-1155600" y="6539040"/>
            <a:ext cx="77673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2019 г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2347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90c226"/>
                </a:solidFill>
                <a:latin typeface="Trebuchet MS"/>
              </a:rPr>
              <a:t>Анализ качественного состояния земель показывает, что на территории области, наблюдается устойчивая тенденция деградации почвенного покрова.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63988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грязнители почв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редства хим. защиты растен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грязнение пестицид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рганические удобр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яжелые метал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Нефтепродук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Фтор, нитраты и сульфат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6800" y="1763280"/>
            <a:ext cx="10924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остояние животного мира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Изображение 2" descr=""/>
          <p:cNvPicPr/>
          <p:nvPr/>
        </p:nvPicPr>
        <p:blipFill>
          <a:blip r:embed="rId1"/>
          <a:stretch/>
        </p:blipFill>
        <p:spPr>
          <a:xfrm>
            <a:off x="3208320" y="3281400"/>
            <a:ext cx="4637160" cy="334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02760" y="299880"/>
            <a:ext cx="8596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ивотный мир является составляющим, неотъемлемым элементом природной  среды и биологического разнообразия, возобновляющимся природным ресурсом, регулирующим и стабилизирующим  биосферные процесс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тропогенный фактор способствует увеличению численности плотоядных животных (лисица, енотовидная собака, одичавшие собаки и кошки), что приводит к снижению численности и ухудшению воспроизводства  пернатой дичи. Однако за последние  годы аномальных колебаний численности  отдельных видов животного мира на территории области не регистрировалос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нд рыбохозяйственных водоёмов Самарской области представлен участками Саратовского и Куйбышевского водохранилищ, а также их притоками. Общая протяжённость рек на территории Самарской области составляет 8,43 тыс. км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мысловая ихтиофауна водохранилищ представлена следующими видами рыб: лещ, судак, щука, налим, сом, язь, линь, карась, плотва, густера, синец, окунь, берш, краснопёрка, чехонь, белоглазка, толстолобик, белый амур; в озёрах Безенчукского района основу промысла составляет карась. В области также ведется добыча речного рака.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льное зарастание заливов и пойм ведет к нарушению в них водообмена, к ухудшению гидрохимического режима. Все эти факторы привели к ухудшению условий среды обитания рыб.</a:t>
            </a:r>
            <a:br>
              <a:rPr sz="1300"/>
            </a:br>
            <a:r>
              <a:rPr b="0" lang="ru-RU" sz="13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77640" y="-117360"/>
            <a:ext cx="86454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ечение последних лет животный мир Самарской области, в целом, сохраняет  своё  видовое  разнообразие. Беспозвоночных на территории области  зарегистрировано  около 8 тысяч видов, из них порядка 7 тысяч видов насекомых. 15 видов беспозвоночных занесены в «Красную книгу Российской  Федерации». Земноводные - зарегистрировано 11 видов, из них 6 – краснокнижные. Пресмыкающиеся – насчитывается 11 видов, из них 7 – краснокнижные. Птиц на территории региона зарегистрировано 293 вида. В Красную книгу Российской Федерации занесено 43 вида птиц области, из которых ныне гнездятся  23  вида. Млекопитающие - зарегистрировано 78 видов, представляющих 6 отрядов, 19 семейств  и  51  род. По данным государственного мониторинга охотничьих ресурсов и среды их обитания за 2011 год, в Самарской области обитает 29 видов млекопитающих и 44 вида птиц отнесенных к охотничьим ресурсам. При большом видовом разнообразии охотничьих ресурсов численность их находится на уровне среднего и ниж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ути решения экологических пробле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cxnSp>
        <p:nvCxnSpPr>
          <p:cNvPr id="239" name="Прямая со стрелкой 4"/>
          <p:cNvCxnSpPr/>
          <p:nvPr/>
        </p:nvCxnSpPr>
        <p:spPr>
          <a:xfrm flipH="1">
            <a:off x="1343880" y="1269720"/>
            <a:ext cx="1121400" cy="1143720"/>
          </a:xfrm>
          <a:prstGeom prst="straightConnector1">
            <a:avLst/>
          </a:prstGeom>
          <a:ln cap="rnd" w="73080">
            <a:solidFill>
              <a:srgbClr val="90c226"/>
            </a:solidFill>
            <a:miter/>
            <a:tailEnd len="med" type="triangle" w="med"/>
          </a:ln>
        </p:spPr>
      </p:cxnSp>
      <p:sp>
        <p:nvSpPr>
          <p:cNvPr id="240" name="TextBox 5"/>
          <p:cNvSpPr/>
          <p:nvPr/>
        </p:nvSpPr>
        <p:spPr>
          <a:xfrm>
            <a:off x="136440" y="2452680"/>
            <a:ext cx="2894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rebuchet MS"/>
              </a:rPr>
              <a:t>Изменение характера производственной деятельности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41" name="Прямая со стрелкой 7"/>
          <p:cNvCxnSpPr/>
          <p:nvPr/>
        </p:nvCxnSpPr>
        <p:spPr>
          <a:xfrm flipH="1">
            <a:off x="4122360" y="1269720"/>
            <a:ext cx="853200" cy="1183320"/>
          </a:xfrm>
          <a:prstGeom prst="straightConnector1">
            <a:avLst/>
          </a:prstGeom>
          <a:ln cap="rnd" w="73080">
            <a:solidFill>
              <a:srgbClr val="90c226"/>
            </a:solidFill>
            <a:miter/>
            <a:tailEnd len="med" type="triangle" w="med"/>
          </a:ln>
        </p:spPr>
      </p:cxnSp>
      <p:sp>
        <p:nvSpPr>
          <p:cNvPr id="242" name="TextBox 9"/>
          <p:cNvSpPr/>
          <p:nvPr/>
        </p:nvSpPr>
        <p:spPr>
          <a:xfrm>
            <a:off x="2854440" y="2376360"/>
            <a:ext cx="28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rebuchet MS"/>
              </a:rPr>
              <a:t>Ограничение в расходовании природных ресурсо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43" name="Прямая со стрелкой 10"/>
          <p:cNvCxnSpPr/>
          <p:nvPr/>
        </p:nvCxnSpPr>
        <p:spPr>
          <a:xfrm flipH="1">
            <a:off x="6474960" y="1230120"/>
            <a:ext cx="542160" cy="1146600"/>
          </a:xfrm>
          <a:prstGeom prst="straightConnector1">
            <a:avLst/>
          </a:prstGeom>
          <a:ln cap="rnd" w="73080">
            <a:solidFill>
              <a:srgbClr val="90c226"/>
            </a:solidFill>
            <a:miter/>
            <a:tailEnd len="med" type="triangle" w="med"/>
          </a:ln>
        </p:spPr>
      </p:cxnSp>
      <p:sp>
        <p:nvSpPr>
          <p:cNvPr id="244" name="TextBox 11"/>
          <p:cNvSpPr/>
          <p:nvPr/>
        </p:nvSpPr>
        <p:spPr>
          <a:xfrm>
            <a:off x="5392800" y="2414520"/>
            <a:ext cx="289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rebuchet MS"/>
              </a:rPr>
              <a:t>Создание охраняемых центров по разведению редких и исчезающих видов животных и растен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45" name="Прямая со стрелкой 16"/>
          <p:cNvCxnSpPr/>
          <p:nvPr/>
        </p:nvCxnSpPr>
        <p:spPr>
          <a:xfrm flipH="1">
            <a:off x="8462520" y="1356840"/>
            <a:ext cx="240480" cy="3174120"/>
          </a:xfrm>
          <a:prstGeom prst="straightConnector1">
            <a:avLst/>
          </a:prstGeom>
          <a:ln cap="rnd" w="73080">
            <a:solidFill>
              <a:srgbClr val="90c226"/>
            </a:solidFill>
            <a:miter/>
            <a:tailEnd len="med" type="triangle" w="med"/>
          </a:ln>
        </p:spPr>
      </p:cxnSp>
      <p:sp>
        <p:nvSpPr>
          <p:cNvPr id="246" name="TextBox 18"/>
          <p:cNvSpPr/>
          <p:nvPr/>
        </p:nvSpPr>
        <p:spPr>
          <a:xfrm>
            <a:off x="7254720" y="4568760"/>
            <a:ext cx="2894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rebuchet MS"/>
              </a:rPr>
              <a:t>Формирование экологического сознания и экологической культур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extBox 5" descr=""/>
          <p:cNvPicPr/>
          <p:nvPr/>
        </p:nvPicPr>
        <p:blipFill>
          <a:blip r:embed="rId1"/>
          <a:stretch/>
        </p:blipFill>
        <p:spPr>
          <a:xfrm>
            <a:off x="212760" y="2425680"/>
            <a:ext cx="10047240" cy="177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Географическое положе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77520" y="172548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ая область входит в состав Приволжского федерального округа и занимает площадь 53.6 тысяч кв. км, что составляет 0.31% территории Росс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ит на западе с Ульяновской областью, на севере с республикой Татарстан, на востоке с республикой Казахстан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 Самарская область делится на 10 городских округов (Самара-центр, Тольятти, Сызрань, Новокуйбышевск, Чапаевск, Отрадный, Жигулёвск, Октябрьск, Кинель, Похвистнево) и 27 муниципальных район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располагает значительными запасами полезных ископаемых и входит в число основных и нефтедобывающих и нефтеперерабатывающих регионов стран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8120" y="1088640"/>
            <a:ext cx="9560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90c226"/>
                </a:solidFill>
                <a:latin typeface="Trebuchet MS"/>
              </a:rPr>
              <a:t>Активное загрязнение окружающей среды привело к глобальной проблеме – разрушению среды существования человечества.</a:t>
            </a: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90c226"/>
                </a:solidFill>
                <a:latin typeface="Trebuchet MS"/>
              </a:rPr>
              <a:t>Экологическая проблема </a:t>
            </a:r>
            <a:r>
              <a:rPr b="0" lang="ru-RU" sz="2900" spc="-1" strike="noStrike">
                <a:solidFill>
                  <a:srgbClr val="90c226"/>
                </a:solidFill>
                <a:latin typeface="Trebuchet MS"/>
              </a:rPr>
              <a:t>– это изменение природной среды в результате антропогенных воздействий, ведущее к нарушению структуры и функционирования природы.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6800" y="1763280"/>
            <a:ext cx="10924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грязнение атмосферного воздуха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Picture 6" descr="C:\Users\Пользователь\Videos\i (7).jpg"/>
          <p:cNvPicPr/>
          <p:nvPr/>
        </p:nvPicPr>
        <p:blipFill>
          <a:blip r:embed="rId1"/>
          <a:stretch/>
        </p:blipFill>
        <p:spPr>
          <a:xfrm>
            <a:off x="779400" y="4600440"/>
            <a:ext cx="3613320" cy="225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0" name="Picture 4" descr="&amp;Vcy;&amp;ycy;&amp;pcy;&amp;ucy;&amp;scy;&amp;kcy; &quot;&amp;Pcy;&amp;rcy;&amp;icy;&amp;chcy;&amp;icy;&amp;ncy;&amp;ycy; &amp;ecy;&amp;mcy;&amp;icy;&amp;gcy;&amp;rcy;&amp;acy;&amp;tscy;&amp;icy;&amp;icy; &amp;icy;&amp;zcy; &amp;Rcy;&amp;ocy;&amp;scy;&amp;scy;&amp;icy;&amp;icy;&quot; &amp;rcy;&amp;acy;&amp;scy;&amp;scy;&amp;ycy;&amp;lcy;&amp;kcy;&amp;icy; &quot;&amp;Scy;&amp;tcy;&amp;acy;&amp;tcy;&amp;softcy;&amp;icy; &amp;pcy;&amp;ocy; &amp;tcy;&amp;ucy;&amp;rcy;&amp;icy;&amp;zcy;&amp;mcy;&amp;ucy;: &amp;vcy;&amp;icy;&amp;dcy;&amp;ycy; &amp;ocy;&amp;tcy;&amp;dcy;&amp;ycy;&amp;khcy;&amp;acy;, &amp;scy;&amp;ocy;&amp;vcy;&amp;iecy;&amp;tcy;&amp;ycy;, &amp;rcy;&amp;iecy;&amp;kcy;&amp;ocy;&amp;mcy;&amp;iecy;&amp;ncy;&amp;dcy;&amp;acy;&amp;tscy;&amp;icy;&amp;icy;&quot; &amp;ocy;&amp;tcy; 05 &amp;acy;&amp;vcy;&amp;gcy;&amp;ucy;&amp;scy;&amp;tcy;&amp;acy; 2013 &amp;gcy;&amp;ocy;&amp;dcy;&amp;acy;. &amp;Rcy;&amp;acy;"/>
          <p:cNvPicPr/>
          <p:nvPr/>
        </p:nvPicPr>
        <p:blipFill>
          <a:blip r:embed="rId2"/>
          <a:stretch/>
        </p:blipFill>
        <p:spPr>
          <a:xfrm>
            <a:off x="6140520" y="3068640"/>
            <a:ext cx="3510000" cy="264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31560" y="182520"/>
            <a:ext cx="96361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 Самара является одним из городов с наиболее загрязнённым атмосферным воздухом. Загрязнение воздуха известными веществами над территорией города больше на 43%, чем в среднем по России, а концентрация других вредных веществ превышает нормы в десятки раз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Тенденция загрязнения воздуха по Самарской области.(2013 г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ольятти </a:t>
            </a:r>
            <a:r>
              <a:rPr b="0" lang="mr-IN" sz="2400" spc="-1" strike="noStrike">
                <a:solidFill>
                  <a:srgbClr val="404040"/>
                </a:solidFill>
                <a:latin typeface="Trebuchet MS"/>
                <a:ea typeface="Mangal"/>
              </a:rPr>
              <a:t>–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уровень загрязнения 8,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ызрань-8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радный – 7,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Чапаевск -6, 8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овокуйбышевск-6,7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хвистнево-5,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Жигулевск-3,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7" descr="C:\Users\Пользователь\Videos\i (8).jpg"/>
          <p:cNvPicPr/>
          <p:nvPr/>
        </p:nvPicPr>
        <p:blipFill>
          <a:blip r:embed="rId1"/>
          <a:stretch/>
        </p:blipFill>
        <p:spPr>
          <a:xfrm>
            <a:off x="5799240" y="3040200"/>
            <a:ext cx="2214360" cy="1643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C:\Users\Пользователь\Videos\i (5).jpg"/>
          <p:cNvPicPr/>
          <p:nvPr/>
        </p:nvPicPr>
        <p:blipFill>
          <a:blip r:embed="rId2"/>
          <a:stretch/>
        </p:blipFill>
        <p:spPr>
          <a:xfrm>
            <a:off x="6383160" y="4903920"/>
            <a:ext cx="2357640" cy="1571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ичины загрязн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ышленный предприятия, многие из которых не имеют достаточно эффективных очистных сооружен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транспорт. Пыль, которой перенасыщен воздух города, забивается в лёгкие и может служить переносчиком различных вирусных инфекц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ая нефтедобыч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транспортный предприятия, Покрасочный производства, отопительные, котельны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6800" y="1763280"/>
            <a:ext cx="10924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грязнение водных ресурсов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Изображение 2" descr=""/>
          <p:cNvPicPr/>
          <p:nvPr/>
        </p:nvPicPr>
        <p:blipFill>
          <a:blip r:embed="rId1"/>
          <a:stretch/>
        </p:blipFill>
        <p:spPr>
          <a:xfrm>
            <a:off x="5126040" y="3084480"/>
            <a:ext cx="3668760" cy="3462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ичины загрязн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ышленные предприят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водческие комплекс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опроводный транспорт (на котором в год происходит до 3000 аварий, в результате этого загрязняются и водные и земельные ресурсы. Объём разлившейся нефти в год доходит до 1000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е качество монтажных работ, сброс промышленными предприятиями отходов в во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6800" y="1763280"/>
            <a:ext cx="10924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грязнение почвы</a:t>
            </a: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Изображение 3" descr=""/>
          <p:cNvPicPr/>
          <p:nvPr/>
        </p:nvPicPr>
        <p:blipFill>
          <a:blip r:embed="rId1"/>
          <a:stretch/>
        </p:blipFill>
        <p:spPr>
          <a:xfrm>
            <a:off x="2079720" y="3084480"/>
            <a:ext cx="5040360" cy="363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7T19:46:53Z</dcterms:created>
  <dc:creator>пользователь Microsoft Office</dc:creator>
  <dc:description/>
  <dc:language>en-US</dc:language>
  <cp:lastModifiedBy>1</cp:lastModifiedBy>
  <dcterms:modified xsi:type="dcterms:W3CDTF">2019-11-21T06:44:32Z</dcterms:modified>
  <cp:revision>10</cp:revision>
  <dc:subject/>
  <dc:title>Презентация на тему: «Экологическая обстановка в Самарской области»</dc:title>
</cp:coreProperties>
</file>