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BB5-C690-4414-9449-A6111010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485-DA91-426C-B4FC-FFFCA433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EE3-A26F-4590-B74F-E5C239F6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DD5-5B76-403B-9435-99ACDD7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F08-5C1B-47ED-9848-9BBD752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872-8CB3-4B14-A159-55CB1AE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222-E928-4731-9C0F-FCF0A4A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908-4CF4-4C96-92F1-F6F1B5C5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88B-8A9A-4900-9EDF-D81D576C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7CC-AE93-451A-A854-6C18F8B7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6FE-7B76-42F5-B57B-CFD9B66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088-A897-43F7-B0B7-67F07A6D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E1A-F226-4284-A4DD-3B70A20A7F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rykunova26939"/>
          <p:cNvPicPr/>
          <p:nvPr/>
        </p:nvPicPr>
        <p:blipFill>
          <a:blip r:embed="rId1"/>
          <a:stretch/>
        </p:blipFill>
        <p:spPr>
          <a:xfrm>
            <a:off x="0" y="2492280"/>
            <a:ext cx="3745080" cy="374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ahoma"/>
              </a:rPr>
              <a:t>Обеспеченность организма человека витаминами, макро- 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Tahoma"/>
              </a:rPr>
              <a:t>и микроэлементам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64000" y="4508640"/>
            <a:ext cx="3592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 Назарова Екатери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11-а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ами группы 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700360" y="0"/>
          <a:ext cx="5904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0"/>
                    <a:ext cx="590400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7"/>
          <p:cNvGraphicFramePr/>
          <p:nvPr/>
        </p:nvGraphicFramePr>
        <p:xfrm>
          <a:off x="250920" y="2924280"/>
          <a:ext cx="5616360" cy="39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24280"/>
                    <a:ext cx="56163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10" descr="08tasmeh48i"/>
          <p:cNvPicPr/>
          <p:nvPr/>
        </p:nvPicPr>
        <p:blipFill>
          <a:blip r:embed="rId5"/>
          <a:stretch/>
        </p:blipFill>
        <p:spPr>
          <a:xfrm>
            <a:off x="6084720" y="4076640"/>
            <a:ext cx="30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08tasmeh65i"/>
          <p:cNvPicPr/>
          <p:nvPr/>
        </p:nvPicPr>
        <p:blipFill>
          <a:blip r:embed="rId6"/>
          <a:stretch/>
        </p:blipFill>
        <p:spPr>
          <a:xfrm>
            <a:off x="250920" y="105264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611280" y="981000"/>
          <a:ext cx="77058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7058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зучении обеспеченности организма микроэлементами и макроэлементами было установлено, что не наблюдается значительных изменений с обеспечением железа и калия, однако установлена тенденция обеднения организма магнием. Также происходит обеднение организма кальцием, дефицит которого в рационе неизбежно ведет к нарушению формирования костей и зубов, задержке ро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Исследование обеспеченности организма витаминами демонстрирует тенденцию к обеднению организма у подростков витамином А и бета-каротином, витаминами Д, В, С, 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комендации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питаться разнообраз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тание должно быть сбалансированным, содержащим пищевые вещества всех тип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, чтобы набор продуктов, обладающий требуемой калорийностью, включал в себя необходимое количество витаминов и минералов в соответствии с суточной потребностью организма в этих веществах и их содержанием в продуктах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гащение массовых продуктов питания микронутриен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таминизировать пищу в школьной столо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ь с учащимися уроки «Здоровое питание», «Формирование культуры питани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олнить дефицит необходимых элементов можно при помощи витаминно-минеральных комплек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достаточность микроэлементов, макроэлементов и витаминов А, группы В, С, Д, Е в организме учащихся МОУ СОШ №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(при помощи тестов), достаточно ли организм учащегося обеспечен микроэлементами и макроэлем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, достаточно ли организм учащегося обеспечен витаминами (при помощи тестов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ать комплекс мер по обеспеченности организма витаминами, макро- и микроэлем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rganization Chart 5"/>
          <p:cNvGrpSpPr/>
          <p:nvPr/>
        </p:nvGrpSpPr>
        <p:grpSpPr>
          <a:xfrm>
            <a:off x="0" y="189000"/>
            <a:ext cx="9143640" cy="6667560"/>
            <a:chOff x="0" y="189000"/>
            <a:chExt cx="9143640" cy="666756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4154760" y="3438360"/>
              <a:ext cx="834120" cy="266868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4" idx="2"/>
            </p:cNvCxnSpPr>
            <p:nvPr/>
          </p:nvCxnSpPr>
          <p:spPr>
            <a:xfrm flipV="1" rot="16200000">
              <a:off x="7823160" y="4439520"/>
              <a:ext cx="834120" cy="6663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4" idx="2"/>
            </p:cNvCxnSpPr>
            <p:nvPr/>
          </p:nvCxnSpPr>
          <p:spPr>
            <a:xfrm flipH="1" flipV="1" rot="5400000">
              <a:off x="7157160" y="4438800"/>
              <a:ext cx="834120" cy="66780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" name="_s1031"/>
            <p:cNvCxnSpPr>
              <a:stCxn id="58" idx="0"/>
              <a:endCxn id="51" idx="2"/>
            </p:cNvCxnSpPr>
            <p:nvPr/>
          </p:nvCxnSpPr>
          <p:spPr>
            <a:xfrm flipV="1" rot="16200000">
              <a:off x="3489120" y="4104720"/>
              <a:ext cx="834120" cy="13359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" name="_s1032"/>
            <p:cNvCxnSpPr>
              <a:stCxn id="60" idx="0"/>
              <a:endCxn id="51" idx="2"/>
            </p:cNvCxnSpPr>
            <p:nvPr/>
          </p:nvCxnSpPr>
          <p:spPr>
            <a:xfrm flipV="1" rot="16200000">
              <a:off x="2822040" y="4771080"/>
              <a:ext cx="834120" cy="324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33"/>
            <p:cNvCxnSpPr>
              <a:stCxn id="62" idx="0"/>
              <a:endCxn id="51" idx="2"/>
            </p:cNvCxnSpPr>
            <p:nvPr/>
          </p:nvCxnSpPr>
          <p:spPr>
            <a:xfrm flipH="1" flipV="1" rot="5400000">
              <a:off x="2154960" y="4106160"/>
              <a:ext cx="834120" cy="133308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4"/>
            <p:cNvCxnSpPr>
              <a:stCxn id="64" idx="0"/>
              <a:endCxn id="51" idx="2"/>
            </p:cNvCxnSpPr>
            <p:nvPr/>
          </p:nvCxnSpPr>
          <p:spPr>
            <a:xfrm flipH="1" flipV="1" rot="5400000">
              <a:off x="1488600" y="3439800"/>
              <a:ext cx="834120" cy="266616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5"/>
            <p:cNvCxnSpPr>
              <a:stCxn id="54" idx="0"/>
              <a:endCxn id="66" idx="2"/>
            </p:cNvCxnSpPr>
            <p:nvPr/>
          </p:nvCxnSpPr>
          <p:spPr>
            <a:xfrm flipV="1" rot="16200000">
              <a:off x="6322680" y="1103760"/>
              <a:ext cx="834120" cy="233640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6"/>
            <p:cNvCxnSpPr>
              <a:stCxn id="51" idx="0"/>
              <a:endCxn id="66" idx="2"/>
            </p:cNvCxnSpPr>
            <p:nvPr/>
          </p:nvCxnSpPr>
          <p:spPr>
            <a:xfrm flipH="1" flipV="1" rot="5400000">
              <a:off x="3988080" y="1105200"/>
              <a:ext cx="834120" cy="2334240"/>
            </a:xfrm>
            <a:prstGeom prst="bentConnector3">
              <a:avLst>
                <a:gd name="adj1" fmla="val 142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" name="_s1037"/>
            <p:cNvSpPr/>
            <p:nvPr/>
          </p:nvSpPr>
          <p:spPr>
            <a:xfrm>
              <a:off x="5000040" y="1890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Пищевые вещества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38"/>
            <p:cNvSpPr/>
            <p:nvPr/>
          </p:nvSpPr>
          <p:spPr>
            <a:xfrm>
              <a:off x="2666520" y="26892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Незаменимые веществ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39"/>
            <p:cNvSpPr/>
            <p:nvPr/>
          </p:nvSpPr>
          <p:spPr>
            <a:xfrm>
              <a:off x="7334640" y="268920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Заменимые веществ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Бел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133380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од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_s1042"/>
            <p:cNvSpPr/>
            <p:nvPr/>
          </p:nvSpPr>
          <p:spPr>
            <a:xfrm>
              <a:off x="266796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Жир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кислот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43"/>
            <p:cNvSpPr/>
            <p:nvPr/>
          </p:nvSpPr>
          <p:spPr>
            <a:xfrm>
              <a:off x="4002120" y="5189760"/>
              <a:ext cx="1143360" cy="1666800"/>
            </a:xfrm>
            <a:custGeom>
              <a:avLst/>
              <a:gdLst>
                <a:gd name="textAreaLeft" fmla="*/ 55800 w 1143360"/>
                <a:gd name="textAreaRight" fmla="*/ 1087560 w 1143360"/>
                <a:gd name="textAreaTop" fmla="*/ 55800 h 1666800"/>
                <a:gd name="textAreaBottom" fmla="*/ 1611000 h 1666800"/>
              </a:gdLst>
              <a:ahLst/>
              <a:rect l="textAreaLeft" t="textAreaTop" r="textAreaRight" b="textAreaBottom"/>
              <a:pathLst>
                <a:path w="21600" h="31486">
                  <a:moveTo>
                    <a:pt x="3600" y="0"/>
                  </a:moveTo>
                  <a:arcTo wR="3600" hR="3600" stAng="16200000" swAng="-5400000"/>
                  <a:lnTo>
                    <a:pt x="0" y="27886"/>
                  </a:lnTo>
                  <a:arcTo wR="3600" hR="3600" stAng="10800000" swAng="-5400000"/>
                  <a:lnTo>
                    <a:pt x="18000" y="314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итамин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44"/>
            <p:cNvSpPr/>
            <p:nvPr/>
          </p:nvSpPr>
          <p:spPr>
            <a:xfrm>
              <a:off x="6669000" y="5189760"/>
              <a:ext cx="1142280" cy="1666800"/>
            </a:xfrm>
            <a:custGeom>
              <a:avLst/>
              <a:gdLst>
                <a:gd name="textAreaLeft" fmla="*/ 55440 w 1142280"/>
                <a:gd name="textAreaRight" fmla="*/ 1086840 w 114228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15">
                  <a:moveTo>
                    <a:pt x="3600" y="0"/>
                  </a:moveTo>
                  <a:arcTo wR="3600" hR="3600" stAng="16200000" swAng="-5400000"/>
                  <a:lnTo>
                    <a:pt x="0" y="27915"/>
                  </a:lnTo>
                  <a:arcTo wR="3600" hR="3600" stAng="10800000" swAng="-5400000"/>
                  <a:lnTo>
                    <a:pt x="18000" y="315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Липи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_s1045"/>
            <p:cNvSpPr/>
            <p:nvPr/>
          </p:nvSpPr>
          <p:spPr>
            <a:xfrm>
              <a:off x="8001720" y="5189760"/>
              <a:ext cx="1141920" cy="1666800"/>
            </a:xfrm>
            <a:custGeom>
              <a:avLst/>
              <a:gdLst>
                <a:gd name="textAreaLeft" fmla="*/ 55440 w 1141920"/>
                <a:gd name="textAreaRight" fmla="*/ 1086480 w 114192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25">
                  <a:moveTo>
                    <a:pt x="3600" y="0"/>
                  </a:moveTo>
                  <a:arcTo wR="3600" hR="3600" stAng="16200000" swAng="-5400000"/>
                  <a:lnTo>
                    <a:pt x="0" y="27925"/>
                  </a:lnTo>
                  <a:arcTo wR="3600" hR="3600" stAng="10800000" swAng="-5400000"/>
                  <a:lnTo>
                    <a:pt x="18000" y="315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Углево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_s1046"/>
            <p:cNvSpPr/>
            <p:nvPr/>
          </p:nvSpPr>
          <p:spPr>
            <a:xfrm>
              <a:off x="5336280" y="5189760"/>
              <a:ext cx="1141920" cy="1666800"/>
            </a:xfrm>
            <a:custGeom>
              <a:avLst/>
              <a:gdLst>
                <a:gd name="textAreaLeft" fmla="*/ 55440 w 1141920"/>
                <a:gd name="textAreaRight" fmla="*/ 1086480 w 1141920"/>
                <a:gd name="textAreaTop" fmla="*/ 55440 h 1666800"/>
                <a:gd name="textAreaBottom" fmla="*/ 1611360 h 1666800"/>
              </a:gdLst>
              <a:ahLst/>
              <a:rect l="textAreaLeft" t="textAreaTop" r="textAreaRight" b="textAreaBottom"/>
              <a:pathLst>
                <a:path w="21600" h="31525">
                  <a:moveTo>
                    <a:pt x="3600" y="0"/>
                  </a:moveTo>
                  <a:arcTo wR="3600" hR="3600" stAng="16200000" swAng="-5400000"/>
                  <a:lnTo>
                    <a:pt x="0" y="27925"/>
                  </a:lnTo>
                  <a:arcTo wR="3600" hR="3600" stAng="10800000" swAng="-5400000"/>
                  <a:lnTo>
                    <a:pt x="18000" y="315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Минеральны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Organization Chart 5"/>
          <p:cNvGrpSpPr/>
          <p:nvPr/>
        </p:nvGrpSpPr>
        <p:grpSpPr>
          <a:xfrm>
            <a:off x="0" y="1197000"/>
            <a:ext cx="9142920" cy="4175280"/>
            <a:chOff x="0" y="1197000"/>
            <a:chExt cx="9142920" cy="4175280"/>
          </a:xfrm>
        </p:grpSpPr>
        <p:cxnSp>
          <p:nvCxnSpPr>
            <p:cNvPr id="69" name="_s2052"/>
            <p:cNvCxnSpPr>
              <a:stCxn id="70" idx="0"/>
              <a:endCxn id="71" idx="2"/>
            </p:cNvCxnSpPr>
            <p:nvPr/>
          </p:nvCxnSpPr>
          <p:spPr>
            <a:xfrm flipV="1" rot="16200000">
              <a:off x="5383800" y="2052720"/>
              <a:ext cx="835560" cy="2462760"/>
            </a:xfrm>
            <a:prstGeom prst="bentConnector3">
              <a:avLst>
                <a:gd name="adj1" fmla="val 8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2053"/>
            <p:cNvCxnSpPr>
              <a:stCxn id="73" idx="0"/>
              <a:endCxn id="71" idx="2"/>
            </p:cNvCxnSpPr>
            <p:nvPr/>
          </p:nvCxnSpPr>
          <p:spPr>
            <a:xfrm flipH="1" flipV="1" rot="5400000">
              <a:off x="2922840" y="2053440"/>
              <a:ext cx="835560" cy="2461680"/>
            </a:xfrm>
            <a:prstGeom prst="bentConnector3">
              <a:avLst>
                <a:gd name="adj1" fmla="val 88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1" name="_s2054"/>
            <p:cNvSpPr/>
            <p:nvPr/>
          </p:nvSpPr>
          <p:spPr>
            <a:xfrm>
              <a:off x="2460960" y="119700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ahoma"/>
                </a:rPr>
                <a:t>Минеральные веществ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2055"/>
            <p:cNvSpPr/>
            <p:nvPr/>
          </p:nvSpPr>
          <p:spPr>
            <a:xfrm>
              <a:off x="0" y="370224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Макроэлемен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Na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K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C</a:t>
              </a:r>
              <a:r>
                <a:rPr b="1" lang="ru-RU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а,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Mg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l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 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2056"/>
            <p:cNvSpPr/>
            <p:nvPr/>
          </p:nvSpPr>
          <p:spPr>
            <a:xfrm>
              <a:off x="4923000" y="3702240"/>
              <a:ext cx="4219920" cy="1670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ffffff"/>
                  </a:solidFill>
                  <a:uFillTx/>
                  <a:latin typeface="Tahoma"/>
                </a:rPr>
                <a:t>Микроэлемен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Fe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Zn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n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u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r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</a:t>
              </a: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686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маг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калие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2916360" y="0"/>
          <a:ext cx="55800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0"/>
                    <a:ext cx="55800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8"/>
          <p:cNvGraphicFramePr/>
          <p:nvPr/>
        </p:nvGraphicFramePr>
        <p:xfrm>
          <a:off x="1403280" y="3068640"/>
          <a:ext cx="5796000" cy="37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57960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желез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кальцие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3276720" y="189000"/>
          <a:ext cx="558000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9000"/>
                    <a:ext cx="55800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7"/>
          <p:cNvGraphicFramePr/>
          <p:nvPr/>
        </p:nvGraphicFramePr>
        <p:xfrm>
          <a:off x="0" y="2852640"/>
          <a:ext cx="5724360" cy="422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72436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Organization Chart 5"/>
          <p:cNvGrpSpPr/>
          <p:nvPr/>
        </p:nvGrpSpPr>
        <p:grpSpPr>
          <a:xfrm>
            <a:off x="250920" y="765000"/>
            <a:ext cx="8712720" cy="4823280"/>
            <a:chOff x="250920" y="765000"/>
            <a:chExt cx="8712720" cy="4823280"/>
          </a:xfrm>
        </p:grpSpPr>
        <p:cxnSp>
          <p:nvCxnSpPr>
            <p:cNvPr id="85" name="_s5124"/>
            <p:cNvCxnSpPr>
              <a:stCxn id="86" idx="0"/>
              <a:endCxn id="87" idx="2"/>
            </p:cNvCxnSpPr>
            <p:nvPr/>
          </p:nvCxnSpPr>
          <p:spPr>
            <a:xfrm flipV="1" rot="16200000">
              <a:off x="5297040" y="2002680"/>
              <a:ext cx="965160" cy="2346840"/>
            </a:xfrm>
            <a:prstGeom prst="bentConnector3">
              <a:avLst>
                <a:gd name="adj1" fmla="val 144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" name="_s5125"/>
            <p:cNvCxnSpPr>
              <a:stCxn id="89" idx="0"/>
              <a:endCxn id="87" idx="2"/>
            </p:cNvCxnSpPr>
            <p:nvPr/>
          </p:nvCxnSpPr>
          <p:spPr>
            <a:xfrm flipH="1" flipV="1" rot="5400000">
              <a:off x="2951640" y="2003400"/>
              <a:ext cx="965160" cy="2345760"/>
            </a:xfrm>
            <a:prstGeom prst="bentConnector3">
              <a:avLst>
                <a:gd name="adj1" fmla="val 144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" name="_s5126"/>
            <p:cNvSpPr/>
            <p:nvPr/>
          </p:nvSpPr>
          <p:spPr>
            <a:xfrm>
              <a:off x="2595960" y="76500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Tahoma"/>
                </a:rPr>
                <a:t>Витамины</a:t>
              </a:r>
              <a:endParaRPr b="0" lang="en-US" sz="3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_s5127"/>
            <p:cNvSpPr/>
            <p:nvPr/>
          </p:nvSpPr>
          <p:spPr>
            <a:xfrm>
              <a:off x="250920" y="365904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 u="sng">
                  <a:solidFill>
                    <a:srgbClr val="ffffff"/>
                  </a:solidFill>
                  <a:uFillTx/>
                  <a:latin typeface="Tahoma"/>
                </a:rPr>
                <a:t>Жирорастворимые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5128"/>
            <p:cNvSpPr/>
            <p:nvPr/>
          </p:nvSpPr>
          <p:spPr>
            <a:xfrm>
              <a:off x="4942440" y="3659040"/>
              <a:ext cx="4021200" cy="1929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 u="sng">
                  <a:solidFill>
                    <a:srgbClr val="ffffff"/>
                  </a:solidFill>
                  <a:uFillTx/>
                  <a:latin typeface="Tahoma"/>
                </a:rPr>
                <a:t>Водорастворимые</a:t>
              </a:r>
              <a:endParaRPr b="0" lang="en-US" sz="3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5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6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Tahoma"/>
                </a:rPr>
                <a:t>12</a:t>
              </a:r>
              <a:r>
                <a:rPr b="1" lang="ru-RU" sz="2600" spc="-1" strike="noStrike" baseline="-25000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А и бета-кароти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 на обеспеченность витамином 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84"/>
          <p:cNvGraphicFramePr/>
          <p:nvPr/>
        </p:nvGraphicFramePr>
        <p:xfrm>
          <a:off x="2771640" y="0"/>
          <a:ext cx="568800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6880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87"/>
          <p:cNvGraphicFramePr/>
          <p:nvPr/>
        </p:nvGraphicFramePr>
        <p:xfrm>
          <a:off x="0" y="3068640"/>
          <a:ext cx="5508720" cy="37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68640"/>
                    <a:ext cx="5508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90" descr="08tasmeh18i"/>
          <p:cNvPicPr/>
          <p:nvPr/>
        </p:nvPicPr>
        <p:blipFill>
          <a:blip r:embed="rId5"/>
          <a:stretch/>
        </p:blipFill>
        <p:spPr>
          <a:xfrm>
            <a:off x="250920" y="1268280"/>
            <a:ext cx="2736720" cy="208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1" descr="08tasmeh29i"/>
          <p:cNvPicPr/>
          <p:nvPr/>
        </p:nvPicPr>
        <p:blipFill>
          <a:blip r:embed="rId6"/>
          <a:stretch/>
        </p:blipFill>
        <p:spPr>
          <a:xfrm>
            <a:off x="5724360" y="4076640"/>
            <a:ext cx="32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17:02:54Z</dcterms:created>
  <dc:creator>Федор</dc:creator>
  <dc:description/>
  <dc:language>en-US</dc:language>
  <cp:lastModifiedBy>teacher</cp:lastModifiedBy>
  <dcterms:modified xsi:type="dcterms:W3CDTF">2019-11-21T06:38:04Z</dcterms:modified>
  <cp:revision>11</cp:revision>
  <dc:subject/>
  <dc:title>Слайд 1</dc:title>
</cp:coreProperties>
</file>