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FD0-E4BF-4DFB-ADE1-3E39A3FC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DC92-02A2-46C6-9E5C-428D6782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8884-CAAD-4048-9440-B61428FD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FCF-9EB9-4B62-A23C-F22A7B5F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93DC-6828-48F4-8DA4-0631C1F5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D2B5-C90E-4DD2-BF63-F34347AD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B277-D58F-4A59-AE46-E685E550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DEA-C161-4F46-9BD4-75C9B468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C10-DCB9-4626-85C8-4114D2E9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7E1-CA63-4003-8161-5FD6F94A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95D-26AE-4CDB-814D-92CD4C94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BC26-B452-4CD3-A770-FE6D4D5F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2CF2-F186-40B2-89A7-24A0ADDC4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я к уроку по предмету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Графика и письмо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276280"/>
            <a:ext cx="640080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уночное пись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ышон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 : Никитина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Составь предложе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472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Расскажем сказку вме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3370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33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419640" y="3573360"/>
            <a:ext cx="18079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Игры с пальчи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20108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Покажи мыш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09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59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сказать правильно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шка охотится за мышкой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шка бежит за кош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8506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Рассмотри внимате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863880" cy="3809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75300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исуй мышо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9575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Раскрась мышо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39942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5T12:59:37Z</dcterms:created>
  <dc:creator>Ученик</dc:creator>
  <dc:description/>
  <dc:language>en-US</dc:language>
  <cp:lastModifiedBy>Ученик</cp:lastModifiedBy>
  <dcterms:modified xsi:type="dcterms:W3CDTF">2019-10-28T08:21:34Z</dcterms:modified>
  <cp:revision>9</cp:revision>
  <dc:subject/>
  <dc:title>Слайд 1</dc:title>
</cp:coreProperties>
</file>