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D4D-4648-4CD1-8247-F3B50F51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219-7B06-46B8-9024-B97D4948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86C-CC1D-4B08-847F-F7A20A9B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F86-CB27-46B3-9F2A-1E7B3365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0E6-589C-4A2D-B6F5-0B520A26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1BC-2469-4F56-B30F-FA64B9B9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036-8819-4855-8B07-025BA5B5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87B-B338-4352-A075-A937E569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476-A8DA-448A-A1B6-8216D157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C05-3DE8-411E-A732-80E1AE3A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CF6-B83C-480D-A7B8-9625F5E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E10-476E-4148-8FC4-869B81C1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6235-20AA-4297-8587-E96CC2BB2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я к уроку по предмет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Графика и письм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уночное пись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ышо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: Никитин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Составь предлож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47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Расскажем сказку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337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19640" y="3573360"/>
            <a:ext cx="18079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Игры с пальч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Покажи мыш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09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59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сказать правильно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шка охотится за мышкой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шка бежит за кош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506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Рассмотри внима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6388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75300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исуй мышо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9575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Раскрась мышо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39942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5T12:59:37Z</dcterms:created>
  <dc:creator>Ученик</dc:creator>
  <dc:description/>
  <dc:language>en-US</dc:language>
  <cp:lastModifiedBy>Ученик</cp:lastModifiedBy>
  <dcterms:modified xsi:type="dcterms:W3CDTF">2019-10-28T08:21:34Z</dcterms:modified>
  <cp:revision>9</cp:revision>
  <dc:subject/>
  <dc:title>Слайд 1</dc:title>
</cp:coreProperties>
</file>