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7B9-F1C3-4AE1-9E56-D08A50B0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BFE-1A47-499E-BDB7-CC61514C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A92-B783-4084-8723-199CC8F5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792-4884-46B5-8971-E42F442F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676-3E92-48A6-9306-B9A30A34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E7D-A713-44A3-81C3-45892FD0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72B-0154-405F-9C87-AFCAF0C9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142-C8AB-40E3-A7BB-CDA14626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5B9-5AFA-4706-BD1F-9D6CEA24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F00-C401-49F8-A680-6C29496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F17-9259-4D81-A2A1-3C966A51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84C-A981-45B6-8E62-8ADA4A6B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A3B3-5114-48EE-BB98-0CD6858CE1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81360" y="549360"/>
            <a:ext cx="7550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крытый просмотр образователь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ятельности в об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Художественно-эстетичес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тие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уховно-нравственное воспит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школьников средствами классичес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узы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0960" y="5105520"/>
            <a:ext cx="38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готовила: муз.рук-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харова К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5761080" cy="4325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02280" y="642960"/>
            <a:ext cx="64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етр Ильич Чайков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435600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6480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71992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7056360" cy="52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66963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0T02:48:28Z</dcterms:created>
  <dc:creator>Оля-ля!</dc:creator>
  <dc:description/>
  <dc:language>en-US</dc:language>
  <cp:lastModifiedBy>user</cp:lastModifiedBy>
  <dcterms:modified xsi:type="dcterms:W3CDTF">2017-05-10T13:02:23Z</dcterms:modified>
  <cp:revision>2</cp:revision>
  <dc:subject/>
  <dc:title>PowerPoint Presentation</dc:title>
</cp:coreProperties>
</file>