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77A-91FE-46F2-8DED-CB828318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98A-7F2C-4957-9E58-543E2A0C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D70-3BF2-43E5-BA4D-8E9B9EAD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ED3-1EBB-44FC-86F3-0AF40BB6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469-8161-4FBD-9974-30C10B2C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7BD-728C-4433-AD64-6C544B2B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91D-A575-4919-8055-47013970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5B8-15B4-4DC3-8E93-C5350648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3C0-C158-4305-99E8-743EEFF1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1CC-A3C1-4D4A-961E-9DCA51CD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A63-07BE-4FEB-87BC-999D4DEC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457-CFA9-4C3F-8E33-10FDD3B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CBE1-51E4-431D-883F-7CDCF457A3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81360" y="549360"/>
            <a:ext cx="7550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крытый просмотр образовательн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еятельности в обл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Художественно-эстетичес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тие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уховно-нравственное воспита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ошкольников средствами классическ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узы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0960" y="5105520"/>
            <a:ext cx="38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дготовила: муз.рук-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харова К.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5761080" cy="4325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02280" y="642960"/>
            <a:ext cx="641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етр Ильич Чайковск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435600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6480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719928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7056360" cy="52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669636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0T02:48:28Z</dcterms:created>
  <dc:creator>Оля-ля!</dc:creator>
  <dc:description/>
  <dc:language>en-US</dc:language>
  <cp:lastModifiedBy>user</cp:lastModifiedBy>
  <dcterms:modified xsi:type="dcterms:W3CDTF">2017-05-10T13:02:23Z</dcterms:modified>
  <cp:revision>2</cp:revision>
  <dc:subject/>
  <dc:title>PowerPoint Presentation</dc:title>
</cp:coreProperties>
</file>