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E8C-4BBE-4AF4-A3CD-3E8BBEAC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BAA-409D-40F4-9C8F-C1845FD5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46F-80A4-412F-AF65-C930A62D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E4C-30EC-4A15-9A42-FC5A88FA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CB33-651B-4352-9755-6FE09B95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1369-7AC6-4F16-AA6E-B4040964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2D59-C60D-4956-8C6E-331C3EAC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72D4-7ABC-4494-98B6-4E12D5F0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276D-4326-4272-8E06-5832E82D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406B-4CE6-4E21-BE2B-28C27B1D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1F1C-D1F9-4B58-A464-D8E80971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207-3988-4A78-A9FD-37A5A507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3CFC-4EA4-46CE-BBB5-7305CB8D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0509-ED5C-4E5E-B0FF-C5D31FF7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E1FA-4F32-4049-86DC-ABB464DA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1361-8393-485E-BBBE-A9740281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1BC3-048B-4A39-A7B1-B780F53E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479-3B9C-443B-BDD4-42ECA9B4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6C6-9CCD-472F-ACB1-A1EB74A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994-7CC0-4364-950A-5790D80C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1B4-78D5-44F7-A3BB-D8465A0E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3F3-614D-44DF-A249-04607052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36E-72FE-4055-B879-C0AD866E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BD6-65B7-46A4-9E37-07C418FF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338A-7103-4E5F-89FC-2F726BCD57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41A5-2427-4E6D-8008-3894087CC8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82;&#1088;&#1072;&#1089;&#1080;&#1090;&#1077;&#1083;&#1080;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Zachet.doc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80000" y="333360"/>
            <a:ext cx="49528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«Широко распростерла  химия  руки  свои»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3520" y="1844280"/>
            <a:ext cx="682956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Тема проекта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Этот  синтетический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              </a:t>
            </a: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синтетический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                    </a:t>
            </a: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синтетически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 Black"/>
              </a:rPr>
              <a:t>                                       </a:t>
            </a:r>
            <a:r>
              <a:rPr b="0" lang="ru-RU" sz="3200" spc="-1" strike="noStrike">
                <a:solidFill>
                  <a:srgbClr val="ff00ff"/>
                </a:solidFill>
                <a:latin typeface="Arial Black"/>
              </a:rPr>
              <a:t>мир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99"/>
                </a:solidFill>
                <a:latin typeface="Arial Black"/>
              </a:rPr>
              <a:t>Сроки   работы над  проектом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 рассчитан  на 1  года   и  осуществляется   при  изучени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а  «Органическая  химия» ил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бщая химия» в 10-11 классах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99"/>
                </a:solidFill>
                <a:latin typeface="Arial Black"/>
              </a:rPr>
              <a:t>Этапы  работы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Постановка  задачи  в  начале  изучения  каждой  тем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Работа  с  информационными  ресурсам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Проведение  практической части  рабо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Обработка  результатов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Arial"/>
              </a:rPr>
              <a:t>Оформление  результатов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езультаты  проекта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1186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чатные  рабо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ферат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лад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бщени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клет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ные  рабо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интетические вещества в быту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6666ff"/>
                </a:solidFill>
                <a:uFillTx/>
                <a:latin typeface="Arial"/>
                <a:hlinkClick r:id="rId1"/>
              </a:rPr>
              <a:t>«Пищевые красители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пособы утилизации синтетических веществ»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143000" y="812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езультаты 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908000" y="2781360"/>
            <a:ext cx="632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дактические материа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лядное пособ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 u="sng">
                <a:solidFill>
                  <a:srgbClr val="6666ff"/>
                </a:solidFill>
                <a:uFillTx/>
                <a:latin typeface="Arial"/>
                <a:hlinkClick r:id="rId1"/>
              </a:rPr>
              <a:t>зачет по теме ВМ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2286000" y="5137200"/>
            <a:ext cx="4572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ит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б - сай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ормационные  ресурсы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дашникова. Е.И., Казенникова Н.В., Тамм  М.Е. Курс  органической химии. - М., 1998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сильева Н.В., Смолина Т.А. И др. Органический синтез. - М., 1986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оссе Э., Вайсмантель Х. Химия  для  любознательных. - Л., 1987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апов В. М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ческая  химия. - М., 1986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ы  журнала «Химия  и  жизнь»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ы  журнала «Наука  и  жизнь»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алы  журнала  «Знания- сила»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Автор</a:t>
            </a: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ы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проекта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7629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учитель химии шк №93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г Красноярска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cc"/>
                </a:solidFill>
                <a:latin typeface="Arial Black"/>
              </a:rPr>
              <a:t>Тарабанова Татьяна Сергеевн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учитель химии шк №20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. Таежный Богучанского района Красноярского кр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cc"/>
                </a:solidFill>
                <a:latin typeface="Arial"/>
              </a:rPr>
              <a:t>Шлепетнева Екатерина Николаевн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5285880"/>
            <a:ext cx="763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125360"/>
            <a:ext cx="7848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99ffcc"/>
                </a:solidFill>
                <a:latin typeface="Arial"/>
              </a:rPr>
              <a:t>Проблемы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«Продукты органического синтеза и городские свалки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«Продукты органического синтеза и здоровое питание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196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 Black"/>
              </a:rPr>
              <a:t>Как  изменился мир  с  появлением  синтетических  веществ?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гда  впервые  появилис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щества, полученные синтетическим  путем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 возникла  необходимость получения синтетических  веществ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используются  синтетические  вещества  в  технике  и  в  быту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 перспективы  развития  органического  синтеза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влияют   синтетические  материалы на  окружающую  среду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88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Участники  проекта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7515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ки  10-11  профильных классо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5094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 Black"/>
              </a:rPr>
              <a:t>Учебные  предметы, охватываемые  проектом: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52680" y="2666520"/>
            <a:ext cx="3353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лог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р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99"/>
                </a:solidFill>
                <a:latin typeface="Arial Black"/>
              </a:rPr>
              <a:t>Цель работы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259092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Выявление  спектра  применения синтетических  веществ  и  их  влияния  на  окружающую  среду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99"/>
                </a:solidFill>
                <a:latin typeface="Arial Black"/>
              </a:rPr>
              <a:t>Задачи  проекта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Систематизировать  и  обобщить  сведения  о  способах  переработки  и производства  важнейших органических  вещест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Обосновать  основные принципы  современного  химического  производ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99"/>
                </a:solidFill>
                <a:latin typeface="Arial Black"/>
              </a:rPr>
              <a:t>Задачи  проекта: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Дать  понятие  о  перспективах  и  основных  направлениях этой  отрасл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Дать  возможность  учащимся  ознакомиться  на  практике  с  образцами  синтетических  вещест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Arial"/>
              </a:rPr>
              <a:t>Совершенствование  навыков  работы  с  веществам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05:23:42Z</dcterms:created>
  <dc:creator>a05</dc:creator>
  <dc:description/>
  <dc:language>en-US</dc:language>
  <cp:lastModifiedBy>User</cp:lastModifiedBy>
  <dcterms:modified xsi:type="dcterms:W3CDTF">2019-11-01T01:19:27Z</dcterms:modified>
  <cp:revision>27</cp:revision>
  <dc:subject/>
  <dc:title>«Широко распростерла  химия  руки  свои»</dc:title>
</cp:coreProperties>
</file>