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2C2-F1B2-427B-8C5E-C21F2E61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EE7-46EC-4C00-BA56-3431D21D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FBD-3C4B-4C50-82CF-89490FA9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620-0429-4EBF-8FB0-99906BA8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48CB-A4A0-47B5-AE86-B5867493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8ACD-4282-4D44-9877-8AC692A4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49EC-651E-4029-9E84-392BBFAB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F461-C41C-4D43-98F8-E76FD85A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B236-054C-4A48-AE51-12E52753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6B8B-E6D8-4CB2-B04F-E1BB9634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54D7-F093-4BA9-A5AF-48524320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27D-128C-425F-82B0-3985C473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C2EE-9A3B-4E67-BC8E-71DA2ED4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F20B-9EA1-4846-9637-7DC9D819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96D1-2ECF-414A-9430-43B48BE9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40C8-8E00-422F-8291-AE6F02DD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62D4-79AE-46F9-9A3C-5252D114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C2F-179D-43F9-804A-890962F1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B42-D211-4D06-ADA9-669EFD7B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027-1C2D-4FAC-83C9-D7AADCB1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935-51F5-4BE3-94C6-96714530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D73-34C6-48B6-8625-EDB845C4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421-A52F-46C1-8395-7980CF9C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E62-2C93-424C-99B0-A7CA12A8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6B94-25E9-4595-AB8F-175C2B7660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D58F-DDF0-4822-9BA3-ACB7A433D2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82;&#1088;&#1072;&#1089;&#1080;&#1090;&#1077;&#1083;&#1080;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Zachet.doc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80000" y="333360"/>
            <a:ext cx="495288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«Широко распростерла  химия  руки  свои»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3520" y="1844280"/>
            <a:ext cx="682956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Тема проекта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00ff"/>
                </a:solidFill>
                <a:latin typeface="Arial Black"/>
              </a:rPr>
              <a:t>Этот  синтетический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 Black"/>
              </a:rPr>
              <a:t>              </a:t>
            </a:r>
            <a:r>
              <a:rPr b="0" lang="ru-RU" sz="3200" spc="-1" strike="noStrike">
                <a:solidFill>
                  <a:srgbClr val="ff00ff"/>
                </a:solidFill>
                <a:latin typeface="Arial Black"/>
              </a:rPr>
              <a:t>синтетический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 Black"/>
              </a:rPr>
              <a:t>                    </a:t>
            </a:r>
            <a:r>
              <a:rPr b="0" lang="ru-RU" sz="3200" spc="-1" strike="noStrike">
                <a:solidFill>
                  <a:srgbClr val="ff00ff"/>
                </a:solidFill>
                <a:latin typeface="Arial Black"/>
              </a:rPr>
              <a:t>синтетический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 Black"/>
              </a:rPr>
              <a:t>                                       </a:t>
            </a:r>
            <a:r>
              <a:rPr b="0" lang="ru-RU" sz="3200" spc="-1" strike="noStrike">
                <a:solidFill>
                  <a:srgbClr val="ff00ff"/>
                </a:solidFill>
                <a:latin typeface="Arial Black"/>
              </a:rPr>
              <a:t>мир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99"/>
                </a:solidFill>
                <a:latin typeface="Arial Black"/>
              </a:rPr>
              <a:t>Сроки   работы над  проектом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 рассчитан  на 1  года   и  осуществляется   при  изучени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а  «Органическая  химия» ил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бщая химия» в 10-11 классах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99"/>
                </a:solidFill>
                <a:latin typeface="Arial Black"/>
              </a:rPr>
              <a:t>Этапы  работы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Постановка  задачи  в  начале  изучения  каждой  тем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Работа  с  информационными  ресурсам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Проведение  практической части  работ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Обработка  результатов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Оформление  результатов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езультаты  проекта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11864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чатные  работ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ферат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лад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бщени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клет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ные  работ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интетические вещества в быту»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6666ff"/>
                </a:solidFill>
                <a:uFillTx/>
                <a:latin typeface="Arial"/>
                <a:hlinkClick r:id="rId1"/>
              </a:rPr>
              <a:t>«Пищевые красители»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пособы утилизации синтетических веществ»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143000" y="81216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езультаты  проект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908000" y="2781360"/>
            <a:ext cx="632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дактические материа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лядное пособ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 u="sng">
                <a:solidFill>
                  <a:srgbClr val="6666ff"/>
                </a:solidFill>
                <a:uFillTx/>
                <a:latin typeface="Arial"/>
                <a:hlinkClick r:id="rId1"/>
              </a:rPr>
              <a:t>зачет по теме ВМ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2286000" y="5137200"/>
            <a:ext cx="4572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ит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б - сай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Информационные  ресурсы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дашникова. Е.И., Казенникова Н.В., Тамм  М.Е. Курс  органической химии. - М., 1998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сильева Н.В., Смолина Т.А. И др. Органический синтез. - М., 1986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оссе Э., Вайсмантель Х. Химия  для  любознательных. - Л., 1987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апов В. М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ческая  химия. - М., 1986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алы  журнала «Химия  и  жизнь»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алы  журнала «Наука  и  жизнь»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алы  журнала  «Знания- сила»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Автор</a:t>
            </a:r>
            <a:r>
              <a:rPr b="1" lang="ru-RU" sz="4400" spc="-1" strike="noStrike">
                <a:solidFill>
                  <a:srgbClr val="ccffff"/>
                </a:solidFill>
                <a:latin typeface="Arial"/>
              </a:rPr>
              <a:t>ы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 проекта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7629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учитель химии шк №93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г Красноярска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cc"/>
                </a:solidFill>
                <a:latin typeface="Arial Black"/>
              </a:rPr>
              <a:t>Тарабанова Татьяна Сергеевн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учитель химии шк №20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. Таежный Богучанского района Красноярского кр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cc"/>
                </a:solidFill>
                <a:latin typeface="Arial"/>
              </a:rPr>
              <a:t>Шлепетнева Екатерина Николаевн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5285880"/>
            <a:ext cx="7632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125360"/>
            <a:ext cx="7848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cc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99ffcc"/>
                </a:solidFill>
                <a:latin typeface="Arial"/>
              </a:rPr>
              <a:t>Проблемы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«Продукты органического синтеза и городские свалки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«Продукты органического синтеза и здоровое питание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2196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 Black"/>
              </a:rPr>
              <a:t>Как  изменился мир  с  появлением  синтетических  веществ?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гда  впервые  появилис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щества, полученные синтетическим  путем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 возникла  необходимость получения синтетических  веществ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 используются  синтетические  вещества  в  технике  и  в  быту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 перспективы  развития  органического  синтеза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 влияют   синтетические  материалы на  окружающую  среду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188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Участники  проекта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7515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ики  10-11  профильных классов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5094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 Black"/>
              </a:rPr>
              <a:t>Учебные  предметы, охватываемые  проектом: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52680" y="2666520"/>
            <a:ext cx="3353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олог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ри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тература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99"/>
                </a:solidFill>
                <a:latin typeface="Arial Black"/>
              </a:rPr>
              <a:t>Цель работы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259092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Выявление  спектра  применения синтетических  веществ  и  их  влияния  на  окружающую  среду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99"/>
                </a:solidFill>
                <a:latin typeface="Arial Black"/>
              </a:rPr>
              <a:t>Задачи  проекта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Arial"/>
              </a:rPr>
              <a:t>Систематизировать  и  обобщить  сведения  о  способах  переработки  и производства  важнейших органических  веществ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Arial"/>
              </a:rPr>
              <a:t>Обосновать  основные принципы  современного  химического  производств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99"/>
                </a:solidFill>
                <a:latin typeface="Arial Black"/>
              </a:rPr>
              <a:t>Задачи  проекта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Arial"/>
              </a:rPr>
              <a:t>Дать  понятие  о  перспективах  и  основных  направлениях этой  отрасл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Arial"/>
              </a:rPr>
              <a:t>Дать  возможность  учащимся  ознакомиться  на  практике  с  образцами  синтетических  веществ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Arial"/>
              </a:rPr>
              <a:t>Совершенствование  навыков  работы  с  веществам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05:23:42Z</dcterms:created>
  <dc:creator>a05</dc:creator>
  <dc:description/>
  <dc:language>en-US</dc:language>
  <cp:lastModifiedBy>User</cp:lastModifiedBy>
  <dcterms:modified xsi:type="dcterms:W3CDTF">2019-11-01T01:19:27Z</dcterms:modified>
  <cp:revision>27</cp:revision>
  <dc:subject/>
  <dc:title>«Широко распростерла  химия  руки  свои»</dc:title>
</cp:coreProperties>
</file>