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1992-DB15-4409-A98A-E246DAB125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A7C3-F8E6-4A54-9D25-9367332543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ижний колонтитул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оношина Н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4E20-24D2-406C-B0AB-5DEDD0AA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A73D-2D2D-4D1D-A8A2-77F9CFE4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A91C-A97F-440A-8016-00C575F8E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6383-440E-48D8-AF83-7AD7BC0E3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EC24-9195-47AD-906B-E5F9FE18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2DA5-827D-4919-B5E9-889CBEE1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FB73-7730-48BD-A9A6-9DE41B54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02F5-5167-4B95-95BC-8B77956B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97C5-290A-4667-AEB9-0B5C6656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2DC5-B0B5-4FF1-9F28-46068E2F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EBEA-82C7-427F-9257-76926E18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45D7-F574-4780-A33A-7DB72C6E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4D72-AAE4-49D4-A448-6B54322F4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9280" y="126792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риродные зоны России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bae8ba"/>
                </a:solidFill>
                <a:latin typeface="Garamond"/>
              </a:rPr>
              <a:t>                                    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Заголовок 1"/>
          <p:cNvSpPr/>
          <p:nvPr/>
        </p:nvSpPr>
        <p:spPr>
          <a:xfrm>
            <a:off x="465120" y="260280"/>
            <a:ext cx="842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800"/>
            </a:br>
            <a:br>
              <a:rPr sz="800"/>
            </a:b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65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D3BF-9482-4CEE-9B55-50F6C5875D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ашивка 21">
            <a:hlinkClick r:id="rId1" action="ppaction://hlinksldjump"/>
          </p:cNvPr>
          <p:cNvSpPr/>
          <p:nvPr/>
        </p:nvSpPr>
        <p:spPr>
          <a:xfrm>
            <a:off x="8693280" y="6308640"/>
            <a:ext cx="344520" cy="358920"/>
          </a:xfrm>
          <a:custGeom>
            <a:avLst/>
            <a:gdLst>
              <a:gd name="textAreaLeft" fmla="*/ 0 w 344520"/>
              <a:gd name="textAreaRight" fmla="*/ 344880 w 34452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6" descr="carpath1"/>
          <p:cNvPicPr/>
          <p:nvPr/>
        </p:nvPicPr>
        <p:blipFill>
          <a:blip r:embed="rId2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7"/>
          <p:cNvSpPr/>
          <p:nvPr/>
        </p:nvSpPr>
        <p:spPr>
          <a:xfrm>
            <a:off x="395280" y="907920"/>
            <a:ext cx="84247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Над Россией солнце светит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И дожди шумят над не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В целом свете ,в целом свет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Нет страны ее родне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62,-1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62,-1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62,-1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62,-1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62,-1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62,-1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62,-1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62,-1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Солнце – источник света и теп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Объект 6" descr="Солнце-источник света и тепла"/>
          <p:cNvPicPr/>
          <p:nvPr/>
        </p:nvPicPr>
        <p:blipFill>
          <a:blip r:embed="rId2"/>
          <a:srcRect l="0" t="5751" r="5115" b="0"/>
          <a:stretch/>
        </p:blipFill>
        <p:spPr>
          <a:xfrm>
            <a:off x="324000" y="1557360"/>
            <a:ext cx="5074920" cy="431964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7"/>
          <p:cNvSpPr/>
          <p:nvPr/>
        </p:nvSpPr>
        <p:spPr>
          <a:xfrm>
            <a:off x="5867280" y="1268280"/>
            <a:ext cx="3216240" cy="41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емля имеет форму шара, поэтому нагревается солнцем в разных местах по-разному.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62,-1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62,-1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8045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1T17:25:46Z</dcterms:created>
  <dc:creator>FMV</dc:creator>
  <dc:description/>
  <dc:language>en-US</dc:language>
  <cp:lastModifiedBy>FMV</cp:lastModifiedBy>
  <dcterms:modified xsi:type="dcterms:W3CDTF">2016-02-11T17:27:24Z</dcterms:modified>
  <cp:revision>1</cp:revision>
  <dc:subject/>
  <dc:title>Слайд 1</dc:title>
</cp:coreProperties>
</file>