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AD7E-CB72-4AC2-84F2-65DA71EE4B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834D-0053-477B-9140-D6131A4E9D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оношина Н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F03-07BB-4138-AB21-315051D3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87B-02F5-453E-AAA6-9E608F52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D79-3722-478E-BB44-F482718F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48B-8F72-4989-8061-F3015A82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1139-E63D-48B3-9007-AC887035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99B-30C3-48EF-808F-8C0AD9EB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2579-C9A8-4A35-8BE4-9DEA2722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125-2242-43DC-BA6A-341D5540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447-7447-440D-B761-DC317EB7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45C-18B6-4FCA-82C7-0E98D9D7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77E-932C-4D2D-96D9-262E43A2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8B3-797A-46B6-88EA-C5096FAE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18B2-5393-4243-8BD1-17AA9846C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9280" y="126792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родные зоны России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ae8ba"/>
                </a:solidFill>
                <a:latin typeface="Garamond"/>
              </a:rPr>
              <a:t>           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465120" y="260280"/>
            <a:ext cx="84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800"/>
            </a:br>
            <a:br>
              <a:rPr sz="800"/>
            </a:b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65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DB34-34A7-4216-991E-D8E157981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ашивка 21">
            <a:hlinkClick r:id="rId1" action="ppaction://hlinksldjump"/>
          </p:cNvPr>
          <p:cNvSpPr/>
          <p:nvPr/>
        </p:nvSpPr>
        <p:spPr>
          <a:xfrm>
            <a:off x="8693280" y="6308640"/>
            <a:ext cx="344520" cy="358920"/>
          </a:xfrm>
          <a:custGeom>
            <a:avLst/>
            <a:gdLst>
              <a:gd name="textAreaLeft" fmla="*/ 0 w 344520"/>
              <a:gd name="textAreaRight" fmla="*/ 344880 w 3445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6" descr="carpath1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395280" y="907920"/>
            <a:ext cx="8424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Над Россией солнце свети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И дожди шумят над н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В целом свете ,в целом све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Нет страны ее родне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олнце – источник света и теп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Объект 6" descr="Солнце-источник света и тепла"/>
          <p:cNvPicPr/>
          <p:nvPr/>
        </p:nvPicPr>
        <p:blipFill>
          <a:blip r:embed="rId2"/>
          <a:srcRect l="0" t="5751" r="5115" b="0"/>
          <a:stretch/>
        </p:blipFill>
        <p:spPr>
          <a:xfrm>
            <a:off x="324000" y="1557360"/>
            <a:ext cx="5074920" cy="43196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7"/>
          <p:cNvSpPr/>
          <p:nvPr/>
        </p:nvSpPr>
        <p:spPr>
          <a:xfrm>
            <a:off x="5867280" y="1268280"/>
            <a:ext cx="321624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емля имеет форму шара, поэтому нагревается солнцем в разных местах по-разному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62,-1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8045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1T17:25:46Z</dcterms:created>
  <dc:creator>FMV</dc:creator>
  <dc:description/>
  <dc:language>en-US</dc:language>
  <cp:lastModifiedBy>FMV</cp:lastModifiedBy>
  <dcterms:modified xsi:type="dcterms:W3CDTF">2016-02-11T17:27:24Z</dcterms:modified>
  <cp:revision>1</cp:revision>
  <dc:subject/>
  <dc:title>Слайд 1</dc:title>
</cp:coreProperties>
</file>