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1C3E-9C1E-450A-AE83-B389CD35A4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AEFF-C56D-49E9-BB48-0010E12D39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1680-249D-4746-ABAB-A358E12A33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4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E698-1B8A-4EC4-B662-58848BAF24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C4C9-7074-427F-B967-16A210A774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96BF-8F5F-4B74-8318-58BE364404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42C4-3D95-499B-855C-E2E2D68996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3E25-D092-4E0E-9404-325F984478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4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11FE-A3DB-43F4-A555-873A45339A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FABC-FF0F-4B82-81A8-40D59F2C49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AEB9-A97C-4ABC-8F07-28EB99F91B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3B3E-3E8B-4DC2-BC53-3CFCA53751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7EEE-F010-494C-B8D7-BEC4880E8E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F6E0-4B48-4B1C-B96A-14AD21EFEC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0B50-3F76-442C-AC9D-BF1F645B3E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4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8F04-DE43-4359-8D8E-EF9098580A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034A-8F78-43CB-9D90-906F64E0C3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6B36-F6DF-454D-BE13-F8129CB04B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C2DE-90E6-4A8F-8B99-F00314B4BE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424-CA78-4FCC-9421-A5EC14F2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B0C-8CE7-4054-B3F1-3D76E1AA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800DA-8EE2-4FDE-B990-D74B9026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A6970-BD0F-4A56-A8E6-EEE00424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61B53-B8F3-41FC-903C-89C1A1FB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F90DC-1210-41B2-855B-2CBA1576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F82A5-ED61-4136-B0A5-419D8EFB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D0CDA-CA09-4EC8-B361-0A18F08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F25EF-5F44-4FD8-B969-16343B29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C6A3B-18F3-407F-9E2A-7D3D288E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388B3-F631-4E0C-9EA9-EBD4AD6D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0F1F6-C2C0-48C2-9584-3564E30C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A5F-FC17-4E6D-91E9-35A1E3E8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AED88-7D49-44C2-9616-93B0F822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41356-E94E-44EF-9A88-8B22F7F3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EC8A1-8052-4D4F-86B5-32EBCA7D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E88C9-E51D-4926-AF78-A70A09F7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A5557-5387-4B6B-9002-93E83624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F4F78-D4BA-4ACE-B253-41C55DF0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3932E-C086-4F7B-A798-4A95E179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55CE1-2A7D-4552-BC66-12B795E1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60787-881F-4E4C-8693-5C2D1710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4099A-8E47-4882-8BD0-1E4FF493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CC1-386E-4786-A274-4213EE68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C898D-DB11-43EB-9EAF-2824A88F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3A21E-D23E-43E5-94AC-E5D2894A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DC90F-1D84-4A36-B0DA-BD7BCBA2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1D458-6D83-4A16-A89F-30FC548A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B18DB-9E3D-4BA2-BF24-A05A8291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EBEE5-2650-45C2-989D-0CF0D684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1C47B-DBF7-4CDD-ADC4-4050D7AD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137E9-272B-4FEA-86FA-B9DA89D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713AB-782F-485F-B548-74189D2B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3D9A0-9038-475F-A3F9-B27EA06D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D09B-7279-4683-A6DB-5BF3D1A8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38AE3-3DC2-47A2-ADE5-0518D104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46525-1C47-40CD-94E4-06B4316B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FCC24-A21B-4EB0-83CF-AC07A960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32295-E3DE-443D-8FE1-1602C99D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65249-CE16-4DDF-9420-37B6B728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5284B-3F3F-479D-A3D5-B67C0042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06471-A80A-4276-A609-DE15473E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642A1-69C7-455C-B323-8801D20E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CBDC8-7B79-4202-8B4B-8034120A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F98B0-67D8-4542-BC19-417C2F5B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42AB-97F9-4F88-93E5-FD005AB2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7240C-AAE5-4F13-8968-1A619FD2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B896A-FED4-4694-834C-F11D3151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E3183-FEFF-4872-87B4-260704B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D68C1-EF5D-45B1-8D48-D8820293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9B2BA-B42B-4BA4-BBA1-7D6B9651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7B022-88B5-4D94-8D0E-EEA7D5CF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BA083-F403-4C93-8CAD-A7A15250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19B40-CE98-4708-A80B-292629C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628F3-903B-4259-B794-D584217D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A77CB-A1D2-42AA-8DD0-0CF3F5C4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3835-DCD0-43C8-901F-202D71FC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F8714-8A3B-44C3-BD50-D15D100F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F4FF5-9A0F-4E3F-A80D-53DA08CB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E61B9-D4BF-4FD0-B0A8-CFB32446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2AC46-4CB6-4539-B957-44E028A7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23DC2-2993-4604-91BE-4EFEE735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59219-8BAD-4B7B-BDAB-EFA3BF08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DBD7E-9C3D-4B6F-B433-417E77B2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4EF1E-41FB-456A-B367-A11BB473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69467-3AAC-4637-A5B9-DE0C0AA5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FCAD4-781F-41C7-8469-31C021B9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760E-A610-44E6-A3B4-610E7A71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DC474-B169-43A6-98C3-50D5461B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C9606-17F6-4E4E-9C10-BC433803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3814E-A239-4BAE-BEE1-D5C7703B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DAD15-E73E-4A9D-A59C-461B93DE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15F97-130F-49C3-A7A0-148DC60D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4F88B-ABF0-44A8-A8B6-D8BBE27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BF47D-4DE1-48AE-8D5C-3521F334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30BF1-D06C-441C-9585-3F4A6D57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7FCDD-DA05-46A9-8AFD-50BD4944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CB1CA-6D71-4908-BB82-5A610FA1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475F-9939-4FD5-8D29-4162C177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167DA-7DE9-43A7-B4B9-831214BB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34A54-6F75-4CCA-BAC2-E7DEA63F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438BC-61F6-41C2-B67B-FE82597D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C4535-C01F-4D9C-BD14-2279AD51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B51D7-88D7-43AB-92DC-1D629FC3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0C1ED-1A95-4C13-AEB3-ACFE08D2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72D398-18C2-4C0D-9566-96DA2A9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E79FF-E6E2-49B6-BDB2-09C9FBF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EC72A-18F4-4168-8030-5E70D41E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9D088-8047-4443-AB98-2EA0D339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9F27-0881-4625-AC31-0B5D5B58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4CD96-B115-4415-8A6C-74899D5B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16BCF-F289-483E-8BEE-F7A302F7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7DB51-BE0B-4EC7-B007-0F5E5DDE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5C460-6817-4B9B-AA8E-E7A6D659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C73BE-5F35-4A9D-A639-1017F635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0E2AEB-7D44-4211-B0C5-52E0C1CB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1CA1D-F39D-45A2-9154-ED2EC6C6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F1FBA-44CA-4523-8846-F60EE9B6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82C2C-F9AE-449A-9764-F344DD9D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410CC0-2DC6-4A28-82C3-41FF0689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95FB-1A02-44C6-8838-BDFA271B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3869B-0130-4951-9F4A-823190DF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F3441-F87E-4C14-982E-E4ED684C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B26D2-40F7-40D4-9F29-2E0D3F50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11B08-4FB1-45CB-88EB-4FA5E566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F9392-B24E-4777-AC3D-902A927D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39180-1587-421E-A017-0E169963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80BAD-7AF5-45CC-93FF-4F386027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64C62-5ECF-4C5A-BD78-07EA893D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FC2D6-026B-469D-9E73-E59F29BD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684C9-A763-4AE0-AD89-ED3C7E4C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3A1-666D-4F93-93AF-6FCD4BD6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3EFD-3B15-466A-B629-B6FD262D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50A73-1354-42E0-9523-D914E551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C53E2-60F3-410E-8A18-AC7CCF5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60E9D-D921-4373-B963-93EE623B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DA4099-14FB-42F2-826A-8B06105C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27F78-21A8-464C-9335-73ECB593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0AA8-DDBA-4E38-8FE5-1CB9242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B17C-98AE-4053-B3F2-91F30E59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41C5-1536-49AE-A4B7-D71464BB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8E63-5A63-490D-A9EB-B1F99C96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6015-6E50-4799-8E2A-5981F01D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EA54-D152-47A8-8D11-5A349D09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C2BA-33FD-4BDB-B6E6-BE2BD246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C7858-757E-4C5D-84C4-F74F9545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41B28-365A-47FD-9B00-2727461B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DB6-1FD6-45BF-A0AB-964E9AE6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F2E3-D0CA-4CF8-A501-0B9FAA6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6730-FC25-4015-A6C7-2BC261C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E8963-5843-4AB2-80DC-C5C5B94D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89A9-D8A4-4FAD-96DC-018E7848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2ED9-34B3-4A1B-B48C-FE96EA5D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E8B0-3EA9-439B-9DC3-B8B844DE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811F-5540-4134-965E-BF9A8165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0771A-1ADC-4F70-8DFE-9392925F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6F01-3722-440B-9379-ADF90241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41BC-6BF3-43DF-9497-8690E94D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7DC-4776-4A1D-A679-3815C336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C635E-8622-4428-9A00-E917BD3F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FF5B-9380-469C-B7F1-4051E1CD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98D2F-9ED8-4FC6-98AD-B5EB3857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746C8-B581-44CA-B6D9-209F69E6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5D666-A18E-45F6-A52D-BAC7B58B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32C3A-6F0D-40A6-BDA6-04530EC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D489-FF89-47FC-B1E8-A9662825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DEF0-7414-4E32-9BEE-60EABC41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7DD5-A54B-4192-A3BE-FA762E57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B80A-1A94-461F-B6CC-87245DF3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2DE-B6DC-4936-A4F4-784C3C9B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5E55C-4911-4F77-BA9A-7C980BE4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3B2DC-2C72-46DE-8558-E0243AA9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DDA15-A861-4957-A5D9-0C774C84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4E445-5B15-4B29-B615-366EA705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4E62E-EE3C-4E14-B305-C87E7FC2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5783E-94AF-45F1-9045-35B8D78E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1ABD-11C1-4C39-BA0E-435D20E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0DF4-0961-4206-8E6D-A47683C9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8EC48-2054-4781-A966-9C2F89FA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A6F88-CA64-4657-8699-4E6E7A8C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585-8A97-4068-9FF0-B7102FF4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EDC0-0683-458F-85F8-ECB82E7D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649C5-F17A-4907-8117-149424D1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8B719-DCF4-467B-A3A5-260F42EA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71CF4-BEFC-401F-8453-310FE6B6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2B34B-C541-4FDF-A768-AF41F77B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87A6-BCC0-4615-916F-80CC4E6B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F0732-E671-44D7-8448-F776875D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3DA34-1128-4549-AE66-F240F05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297C-9ADA-475B-9EBD-810645D6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54E66-2BB2-4412-ADC6-58EBCA28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19A-D54A-46EE-9F92-4F6F4DF6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DC62A-E34B-4F07-B4E8-6F52D475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BAE01-5E4F-4B63-8BE2-48E0A8C3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2B64C-9C40-4F4F-A74E-9074CD90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E685F-EDC7-4728-94DA-3500B05F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FC2F7-2655-45E6-815D-F45F8C75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09341-572B-49B2-8F4D-46A09CAF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35ABD-8D76-45A9-9BD7-911C3F60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3F416-8186-4C02-BD94-247D8C5D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154A0-EAF7-4B4E-BFCF-DAD12B5E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23B2A-FDA2-4514-9FB9-14947EA0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10C-6456-4040-82FC-3F06FA5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5105C-F538-4BF4-8CEF-C1929F76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8F54D-EAF0-4D11-BE36-F53BDAE3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B3897-A9B2-4B42-A265-5C2F14A5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4A4F9-F792-4A0D-A634-CC47A14B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8CD30-957A-4938-A18E-51035BE6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D7008-1EA2-4714-81EF-685FCE99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E275E-614D-4999-8CCE-5C0BBFA7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20CFE-87E5-4364-A286-3A6EDD88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42BD7-3D00-4C63-8EBD-01B1B322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397CA-988C-4987-9E3F-26C49654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EE6-5C06-4D21-87A2-5E40D3C7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9C25B-F590-44B7-8BB9-4750C091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9575D-911E-47CB-99B4-7F9457C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87FA8-BDD7-4E73-9D4D-48B140E8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189DF-116F-438F-954F-9DE62953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8FBAA-EC9B-4593-AE5A-D6CF2143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6189D-83C8-49FC-9097-053A2AE3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0E2DC-511E-43D8-BF08-24CA42E6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6F213-2BFA-4E7A-A3F2-25B46C98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78604-F2B2-47E5-B450-995972F5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05016-9D56-4BDC-9E80-F3EC110B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CCDC-BA01-4498-A2E9-5CC90DCD317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30D7-F2DC-4265-B9BA-49E62B8E83B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2880" y="491112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5582-1F89-4DBD-9FF2-4B37034C159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EAEA-6CD3-4099-B9C8-A3CA5AC37E3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2880" y="31773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9123-F338-4539-8684-8B8CA2639C4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1761-8189-4E8E-A6F6-2B9E8DDD6E2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2880" y="31773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7184-6E58-406D-87E4-E659D316EE1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89B9-4BD5-4585-ADDE-8681D692AD7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2880" y="491112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B6B0-3F4C-4410-8993-21EDBC3AFCA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DC8E-F4C9-41AF-BFE7-60889BE3C8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2880" y="491112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592E-F893-4E4A-91EB-788A4E783EC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1902-F2F8-449E-B506-EBEFF5E52A7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2880" y="491112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0DFB-FBC8-48DB-86BC-9A747CDE922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F450-3A6D-4051-BD1C-88DAE3CAB9A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012A-188E-4BB6-96F0-4B88B2D5A2F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19B3-2401-4AE1-85FC-4A14F0F8048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AA8A-457F-4B70-A46A-12BFD06E80B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BC6F-733C-4DB2-BA5B-8B0E2C47582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308240" cy="77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88AC-D1C4-4FDF-93C7-52B4A78E35C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398160" y="452916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8690-F6AE-46A3-99B5-2823FF92346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577-1AEE-43BB-B2BC-68B9C46B50D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C262-E9E9-42C3-8D45-689D5978455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2880" y="31773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F373-CB14-4C8D-B348-03ED986688E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DE37-D8A3-4310-B737-C45907D778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874E-ACAF-43F5-9FD4-C7A8544E030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DBEF-FF21-4188-A613-DAD1FA71931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3830-9ED9-41DA-A745-467A061AB53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37D4-6E34-4241-ADD1-13B3650892A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CA84-FE09-428F-BFF4-8BB16BA5239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127E-761F-4118-8763-328183B4EE3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2B09-2414-4D54-BA56-0BE75F5E678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0DF0-001F-42EC-99FB-9E276A5A17D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D194-3C88-480F-BDCA-4D24CBA7AF8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FB21-9168-4E64-AB9F-DD8D4770574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835280" y="1557000"/>
            <a:ext cx="669744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999343"/>
                </a:solidFill>
                <a:latin typeface="Century Gothic"/>
              </a:rPr>
              <a:t>РАЗВИТИЕ ПРОИЗВОЛЬНОСТИ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7507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Занятие с родителями по программе подготовки к школе №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Педагог- психолог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Малина Марина Валерьевн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3832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основным средством формирования произвольности является 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реч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684000" y="2323800"/>
            <a:ext cx="784836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Именно благодаря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речи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ребенок становится способным взглянуть на себя как бы со стороны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Овладение речью происходит не сразу, а в несколько этапов, одновременно по нескольким линиям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Одна из главных среди них - это речь как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редство саморегуляции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0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167A-F828-440D-B500-90C6A688B6BD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331640" y="623520"/>
            <a:ext cx="72961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Действие по инструкции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258920" y="2133360"/>
            <a:ext cx="7369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- это уже не импульсивные движения, а первый шаг к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осознанию того, что я делаю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Именно такое, казалось бы, простое выполнение речевых инструкций открывает возможность дальнейшего развития "владения собой".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3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8951-753E-4019-B798-1B0BD7CF4253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476360" y="623520"/>
            <a:ext cx="71517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УПРАВЛЕНИЕ СВОИМ ПОВЕДЕНИЕМ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971280" y="220500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Только речевое общение, включенное в деятельность ребенка и соответствующее его интересам, может дать ему определенную "точку опоры" для управления своим поведением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А поскольку главная деятельность дошкольника - это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игра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, то первым шагом на пути к речевому общению может стать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овместная со взрослым игра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Но игра не предметная и даже не ролевая, а игра с правилом.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равила открываются в игре</a:t>
            </a:r>
            <a:br>
              <a:rPr sz="1800"/>
            </a:b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6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3E2E-B038-4356-928E-49278C942CB1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ЗНАЧИМОСТЬ ПРАВИ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1042560" y="2349000"/>
            <a:ext cx="720108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центральная роль в овладении правилом принадлежит взрослому, который не просто объясняет, что и когда нужно делать, но и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делает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равило привлекательным, значимым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Только в том случае, если правило приобретает побудительную силу, оно становится для малыша средством овладения собственным поведением, а действие по правилу превращается в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личное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свободное, а не навязанное действи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7978-511C-4209-A034-3807C2739268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0246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Хочу и надо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1332000" y="1052640"/>
            <a:ext cx="7416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У каждого человека всегда есть что-то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амое главное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, ради чего можно пожертвовать всем остальным. Человек обладающий волей не только знает, чего он хочет, но упорно и настойчиво сам добивается своей цели; когда его поведение не хаотично, а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аправлено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на что-то. Если такой направленности нет, поведение человека будет определяться не им самим, а внешними обстоятельства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Дошкольное детство (от 3 до 7 лет) - период, когда происходит переход от ситуативного поведения, зависимого от внешних обстоятельств, к волевому, которое определяется самим человеком.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1489-D430-4D9C-B07C-22AEBDC082DB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547640" y="623520"/>
            <a:ext cx="70804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ВОСПИТАНИЕ НАСТОЙЧИВ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1115640" y="2349360"/>
            <a:ext cx="7343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Если вы хотите воспитывать у ребенка трудолюбие, настойчивость и аккуратность (а в дошкольном возрасте уже пора думать об этом), помните, что ваши призывы,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равоучения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и положительные примеры скорее всего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е подействуют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озаботьтесь лучше о том, чтобы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мысл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действий ребенка оказался бы совершенно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ясным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для него, а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результат - желанным и привлекательным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Чтобы малыш отчетливо представлял, для чего (или для кого) он что-то делает.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5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79FE-3454-41F9-A832-67E065BE6D3E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0246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ВОСПИТАНИЕ ЛИЧ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55280" y="155736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Ни в коем случае не заставляйте ребенка делать то, чего он не хочет!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Ваша задача не в том, чтобы ломать или преодолевать собственные желания, а в том, чтобы помочь ему понять (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осознать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) собственные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желания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и удержать их вопреки ситуативным обстоятельства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Делать дело ребенок должен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ам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! Не под вашим нажимом или давлением, а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о собственному желанию и решению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Только такая помощь может способствовать становлению его собственных качеств личност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омните, что свободу, активность, ответственность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ельзя навязать извне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Эти качества могут прорасти только "изнутри", а почвой для этих ростков может быть только то, что ребенок получил в семье, в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овместной жизни с родителями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0027-B72E-4845-BCF8-0468C182DF62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6696000" cy="18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ТЕСТИРУЕМ ПРОИЗВОЛЬНОСТ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042560" y="2708280"/>
            <a:ext cx="7921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Тест-игра СПРЯЧЬ ВИННИ ПУХ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Игра ПОЧТАЛЬО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Игра ЧЕРНЫЙ БЕЛЫЙ НЕ БЕРИТЕ, ДА И НЕТ НЕ ГОВОРИТ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B1FB-24B3-4D0C-B970-AF140078988E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ДИАГНОСТИК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763640" y="1989000"/>
            <a:ext cx="6864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одительско-детских отношений (по желанию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убъективная оценка неврологического статуса своего и ребен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тная связь по программе и выбор актуальных вопросов на завершающий этап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E411-CB2F-4A2D-98CC-2BE885BBF386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ПРОИЗВОЛЬНОСТ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Один из показателей психологической готовности к школе и  предпосылка успешной учебной деятельност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78A0-0974-4C55-BBD0-1484C0D75364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6840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ПАРАМЕТРЫ  ПРОИЗВОЛЬНОСТИ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(по Б.Д. Эльконину):</a:t>
            </a:r>
            <a:br>
              <a:rPr sz="32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332000" y="2205000"/>
            <a:ext cx="735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умение детей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ознательно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подчинять свои действия правилу;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– умение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ориентироваться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на заданную систему требований;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– умение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внимательно слушать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говорящего и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точно выполнять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задание, предполагаемые в устной форме;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– умение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амостоятельно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выполнять требуемое задание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о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зрительно воспроизводимому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образу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0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AA7E-B9F3-47E5-A77F-5E23549365D8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РАЗВИТИЕ ПРОИЗВОЛЬНОСТИ ВНИМАНИЯ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75564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Начиная с 4,5 лет, ребенок направляет свои действия в соответствии с указаниями взрослого, при этом словесная инструкция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"будь внимательным"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онимается ребенком уже буквально, он направляет и удерживает свое внимание в зависимости от поставленной цел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Эта способность называется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роизвольностью внимания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Развитие произвольного внимания связано с одной стороны с развитием речи, с другой с развитием мышления и деятельности в цело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C4C2-B9D3-45B4-AE8D-5B5400258928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0246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Стадии развития произвольности внима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28400" y="171468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тадия внешних усилий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В младшем и среднем дошкольном возрасте внимание ребенка направляется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од действием словесных указаний взрослого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На этом этапе внимание постоянно "соскальзывает" с поставленной цели и ребенку для продолжения сосредоточения необходимы дополнительные стимулы со стороны взрослого 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ри отсутствии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охвалы, напоминания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, повторных указаний произвольность ослабевает и внимание распадаетс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CA63-C16B-4132-95D8-A2E556ECA6AF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6448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стадия личных  целе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539280" y="162864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В старшем дошкольном возрасте (к 7-7,5 годам), ребенок должен быть способен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амостоятельно направлять, удерживать внимание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и не отвлекаться на посторонние раздражители, выполняя поставленную задач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Если у ребенка произвольность высоко развита, он способен на протяжении почти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10 минут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выполнять не очень привлекательное  задание, с минимальным количеством ошибок,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е отвлекаясь на сбивающие раздражители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9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40A7-6951-4C4D-A372-CDE0F973102C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Стадия волевых усилий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610920" y="2324160"/>
            <a:ext cx="78483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ормируется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ривычка заставлять себя быть внимательны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ормируются нормы поведения, когда ребенок приучается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сдерживать свое поведение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зависимости от понятий: "хорошо-плохо", или "можно-нельзя"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азвитие произвольности  происходит постепенно и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тольк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д руководством взрослог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F1F4-BA28-4D78-9803-E71D25C2FD3F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707760" y="981000"/>
            <a:ext cx="843588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роизвольность зависит от состояния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ервной системы и темперамента.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Если, несмотря на выполнение всех рекомендаций, ваш ребенок к старшему дошкольному возрасту имеет проблемы с произвольным вниманием, необходимо выявить причины трудностей и осуществить специальную коррекционную работу под руководством специалиста (врач, психолог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Номер слайда 4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7996-240E-45E4-AA4D-36B59B5DA84B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0246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Основной чертой произвольного поведения является его 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осознанност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04920" y="2349000"/>
            <a:ext cx="868680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роизвольное действие отличается от непроизвольного тем, что человек управляет им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ознательно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, по своей воле, знает, что, как и зачем он делае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осознание собственных действий и преодоление непосредственного, ситуативного поведения и составляют основу овладения собой в дошкольном возраст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7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1EBF-C226-447D-A7AD-7CE7CE721CED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8:02:58Z</dcterms:created>
  <dc:creator>ййй</dc:creator>
  <dc:description/>
  <dc:language>en-US</dc:language>
  <cp:lastModifiedBy>Пользователь</cp:lastModifiedBy>
  <dcterms:modified xsi:type="dcterms:W3CDTF">2019-11-21T17:24:07Z</dcterms:modified>
  <cp:revision>24</cp:revision>
  <dc:subject/>
  <dc:title>РАЗВИТИЕ ПРОИЗВОЛЬНОСТИ</dc:title>
</cp:coreProperties>
</file>