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idorova.ru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дорова Оксана Алексее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9F17-6306-49B8-B9BA-665F4AD17C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ACCF-5465-401D-82E2-BBF433D7C4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8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idorova.ru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дорова Оксана Алексеевна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9750-080C-4993-9E40-02E641A261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4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idorova.ru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дорова Оксана Алексеевна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580A-F80D-4F08-9BC3-690DE6B03F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8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idorova.ru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дорова Оксана Алексеевна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8242-2242-4626-929F-6EFEBC61A3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2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idorova.ru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дорова Оксана Алексеевна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2327-9222-44DF-85EB-E8E84B9A5D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6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idorova.ru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дорова Оксана Алексеевна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CA1E-A04B-4FA8-A011-F31EDD8025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0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idorova.ru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дорова Оксана Алексеевна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7933-DC32-45A9-93FE-0004839A20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4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idorova.ru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дорова Оксана Алексеевна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9774-7F76-4545-B876-81C4063490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8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idorova.ru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дорова Оксана Алексеевна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CC47-29B0-49B8-96E3-339027512F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2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idorova.ru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дорова Оксана Алексеевна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62B2-A861-4943-9881-33DE1EC0D8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6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idorova.ru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дорова Оксана Алексеевна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D548-483D-444F-9536-690C26D709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2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idorova.ru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дорова Оксана Алексеевна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804B-A004-4CF8-8D94-AC25E4007F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6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idorova.ru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дорова Оксана Алексеевна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23E0-977E-4AD4-BA22-6488A18EBB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0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idorova.ru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дорова Оксана Алексеевна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511B-5F45-4CE6-A39B-E204FCCA87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4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idorova.ru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дорова Оксана Алексеевна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9F42-E080-4C45-B491-9E5F2917A0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8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idorova.ru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дорова Оксана Алексеевна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1978-D312-42AE-8F5C-7A2CBA624F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2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idorova.ru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дорова Оксана Алексеевна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5484-29A1-4E11-A7B4-E6240B271E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6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idorova.ru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дорова Оксана Алексеевна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97BE-78F2-419C-BBFD-BD00E54534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0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idorova.ru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дорова Оксана Алексеевна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47FD-A3E3-4B28-84FF-0D0B07F07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953A-8EB7-4487-BBAD-CB43E3C0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1E1975-E701-4BF6-AEEC-FED104E2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E79E0E-2B41-48BB-9901-9884E8AA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D1AA36-E507-4442-B722-F82DDE7A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284A6B-FD14-4766-ADC3-7152BA86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9D73BD-3C21-4C40-8BAD-AF0D3D23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323D15-62B3-463C-B1F6-1CEC0FD5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463C9D-EFA6-4564-BBCB-36C275AC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3AEC8B-5C06-4E8D-8F2F-9553F1387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191166-E9D8-463F-B9E4-30A71671F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904F3A-D4CB-4485-B5A4-93636ED0C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2B4C-634E-484E-8848-DC7CE4300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065A4-9B28-4E42-944B-92A9A408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4FB295-72ED-45A3-A394-F340D23D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4CCC80-A84B-4CD3-848B-C303F16C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DC6B1D-DE60-44B0-BBE2-488ADE69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C8F14A-C713-4BF7-88A9-D40B4165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95DF87-FBB7-4511-9A16-0D604AD8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613643-E77B-4305-84B7-0041AA10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C5D83A-8594-4728-8752-7EA2B8F3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E06973-5D65-4C59-BCEE-94983A47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ABB39D-8109-455C-A8CA-B68F1D22A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6A4C-1F3F-43CF-943A-249811858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B74679-6C0C-4536-8316-D33CA1BB9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256320-59A7-4EEA-BBDB-288C2D38F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5F632B-F436-46B7-9DF6-D9D2489C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1C8F6B-5FD6-444A-BA13-4DB2C203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4A18A-39C0-40C1-93B9-1AF63D52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5B92B-CDB6-420F-ADCA-D9CFCC47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BB0B8-35B6-4B53-949C-2786ED89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A5D49-4B4E-47A5-A8C4-B148F863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95B971-3DA0-44FC-956C-4EC30637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EDDEE-AD46-4578-97F6-0616E0B0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0DFD-9CAF-4CA9-A56C-117E2D9C7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4D58E1-2856-4D40-B8C3-A138CC32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91A09-8F28-4F84-A36C-FA69D5B39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B0BCA-AC38-4F69-9DB6-B2A4BA979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938F21-3AA8-4AB4-9056-79B337A0E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54ADEE-7019-4FF4-A62B-470E2E9A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4A56EC-FB97-4865-A923-E0561B98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C57FFB-25AB-4E4E-B7AD-CB7D3517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EADCEB-8BFE-4066-B1D3-6BB84995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5F8598-0726-4547-9CC1-4C719677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6B9401-EA52-46A7-8F62-B981031C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B270-4F56-4850-A108-0D56461F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84A1DD-135E-4E78-BA6D-DF325B0C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191570-66B1-4F1E-8585-A9DFD985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91005D-26A4-4CBF-9BB5-B7D1DF9B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392705-809D-4023-9D75-67D8EAA0D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318EE9-1189-4C59-854D-A2A766EE0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DD3F1E-E88D-43F6-BEB3-7D11F1E50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323EB5-9487-44E8-A18E-5FCC802F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CC73E7-E953-4BEA-901B-402DF801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D83751-C53E-4A2B-B12B-E33CD6A5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715E60-99C0-452A-BA6C-60D3B0B9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26B03-EC4F-4AD5-8353-2103EB50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0609B9-F540-410B-8537-8B7D47B0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BE2922-5587-49F4-9F86-48E7A69B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1951BF-8C73-4F8C-970D-3047E747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CB6FE9-F759-4B07-A5AD-E5A2A4CF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804EEE-C1F1-4947-A0D6-F246DB39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55E6ED-4412-4D8C-90A8-F6D2D48D6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27C82B-0D2E-4289-BD4B-76375B3E6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CFCF9C-8677-48BD-B1DA-DA01AFD03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48B233-DB8A-4612-BB45-83AA073C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C8267B-6408-42BC-AAC0-F5223EA4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5483-6CFD-4D30-AF74-2A91CB29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96A347-CFAE-4508-B8B5-8E73EE4F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5500B6-BB82-44EC-B1E3-DB78AE36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BF5B54-FE99-4C58-B65E-FC229C4C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528A70-3646-44F2-8F6F-D4462EA8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FA412F-21C4-43DA-BCF0-AB499811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EC5459-8085-41A7-A892-32EE1FE2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5268F4-6849-4D60-A7B7-BDE03370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76443E-0C3B-44B6-B6C5-DAB9714E5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3B266F-423B-4630-B087-4E9E0F146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A1814B-3D01-4A9F-8E6C-97384F8AD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3EAE-B5D7-4C2B-A6AD-41770936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185BC2-3D74-4D8D-A7A0-B4DCF6AA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133659-3B6C-4D63-9571-90711A35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8917CD-42EB-470B-B36F-639137CF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66F8CE-8F0D-4A22-AF72-86C326CA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1D5F51-D49A-4065-A9B5-96667CBC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5E15D1-0FF4-44D2-B3D2-88F4DE28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2A7B03-C1DF-4E6E-A7BA-CBD93D65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6BAD35-D553-4105-A215-F694C7B4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93D4C4-FDF3-4E99-8150-D1B52816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2D0FCD-C7BF-4DC4-A882-65FC33CB6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1592-C55B-4398-BC88-69B0149A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906A98-2BDB-4CAE-A0D7-3731485F3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3DEF5F-3343-4BDA-8394-A4B4FA9CC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B076EA-3E48-4FC8-9096-926AF883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665C35-39AF-4463-9F39-5A82EC94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A428D2-9F0B-4B29-87BB-37208AF3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58D952-CC7E-40FE-BC99-0D2747C2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A44DC7-6F0A-44DA-BF6A-369AE326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300A87-75F3-4CEB-B2DC-CF768590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98287F-68D7-40DC-A269-D19F4286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3DDBBC-DA1F-4520-B629-9F4165A7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07F3-7B1C-4EAD-862F-2C469D29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1A0789-37E1-4158-A20E-40EFBAC7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F88B93-0C6F-455D-9523-0DB67DB07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3B3430-969D-43A2-81C3-DF9839822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F3AC83-6478-430E-BA39-A049582CA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4FA6B1-6478-42E7-A306-B674F889D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FA8D0C-ADCC-4C40-8D50-1283B101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AE3D29-D712-4290-A0A0-84B55AA0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AF1279-85C8-4AA0-B483-1D058886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7195CE-05E1-47F5-A7F9-EFDEE5BC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82C140-F195-4A19-975A-8CD1DA92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6D84-3631-4F22-8E05-29676A6D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570D-F4A2-4665-AE70-3A2B9326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EF8065-B24A-4AB4-A7AF-A1F8A485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310404-618A-42C6-A9FA-8CA7D0F1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6B1EC6-2A4D-497E-9C43-8711A799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F4B18D-1A15-4509-9103-1F44CABC4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67DE39-C09A-4E26-8DDD-23E4AAB0F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BF44-AE9B-4529-B50B-6837103F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A64D-8580-45FB-B045-ABD865EB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E256F-6AB2-4BC7-A254-983963C9F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1E70-1578-41C4-B4F4-8D13FC70F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25ACE-E93B-444C-801C-97E9A6B64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5A593-4308-4990-BC5F-A9A9B529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20A5D-BDF4-4B7A-89BC-84CA211F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85A47-9A77-4616-934E-436ADAB4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7FEE5-63B6-4AF5-BE2A-8E45A94B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41C0-8C30-49FC-A87B-4B674ED2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FA722-A322-4C7E-9855-6540756D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FB8F3-5068-492B-A2CC-CB4B34C5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A2A65-D2D4-4BA5-8CEF-EFC6C004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B644A-E44D-4D29-AF36-E2182251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FEFF9-3DFD-4E1B-9A12-E915197B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E30E3-AC3A-44A1-A5C1-A8AC6FB57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48C8C-AF0F-4B61-9C6F-C9276C04A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68C25-363D-4A2E-A354-228787D35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D6013-16FA-40EF-B0B7-8419C016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0205C-E99A-4871-8B8A-E973CF474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93B2-EDD3-46FC-8C31-36924CE0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925D9-B691-43BF-B970-9A593B70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9A50E-6D94-4418-9D57-4E1DFA98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BB21C-205B-47EE-86DA-594921F3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A2B7F-033E-4DC4-A05F-F0B97FCE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4921D-59A7-490E-A895-4BB0B96F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FAADC-63E5-4944-8F6C-191EB03F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090A6-146A-4292-A2A2-04EF6741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3BBF6-7D77-4544-A2DF-4747309E1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972E5-670A-4578-993F-0A23969A9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C2062-767B-4C3A-8EFC-4E55FF874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350A-9231-4CCD-8578-6A00EEC3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F1A56-4975-4DD0-8A1C-7C9FB89B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8A697-7E9F-4BD6-A96C-EA9822F2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68398-72C2-4D0F-BC8A-734A7879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961ED-41BA-4F2E-94CA-BCFD03E3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5D1EF-9EA3-4666-8E2C-A359A588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7CCC1-917F-48C5-935D-211488F3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31290-F852-47D2-BBEF-9771B136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27A8A-8B8F-4441-ABFD-B616985A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C2F19-DAC4-4043-B893-8206BB5A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F6EF7-8D4B-4624-A2E9-4C7334E7D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25C8-B1C7-45EF-8B3C-F8C1E570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AAF4D-3DDC-4103-BFD3-2212032A9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F3DCA-8D24-429A-B15D-8A6850E86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5563B-3321-4BE6-8EC5-B8364846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F6470-934E-40A6-BF5D-A5E6651E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CBA89-4A60-49D2-AC7B-31EDF1B2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64F1A-1B4C-47F9-9E2A-5A6CC30D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11F1D-53D4-43F0-A838-111A0095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A05F9-A3EA-4D82-98C9-0DBD4E0C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83255-A858-48C7-A983-FFB700FF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BA20F-A398-4095-847A-EDE3284E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9E91-B654-4887-9355-CC61C694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CDA9F-5821-430C-978D-36007096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B9EE0-E6B3-4D40-B7C9-2705578F6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59FE5-DC10-46A4-B543-1A312628B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583D6-733F-448A-80BE-A913F4FBE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87583-2ADC-4269-B60E-6F581FEA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EBCE2-BDFB-4C66-BAB3-18CB3641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D5588-BAAF-4C01-B3F9-F119E242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A6808-F3FA-4B42-9BBB-2A40189F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87C2D-672F-45BC-88E9-E37845C2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A2E91-5A21-4D10-A2EE-0729498C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B4DB-056A-4C49-AA35-8BF3B297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1B4B0-9239-463F-AE43-ACEA3780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85BCC-5475-4634-B589-E8E4170C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7A742-82FF-4E32-8062-0EC27D06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E86F4-1287-4A6F-86C9-D14C82AA2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72D51-0BAA-4874-B1A2-0EA31D664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E5F91-6CB4-4C04-B71F-AD071D687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44CA9-76AA-4DD7-998B-991BDD5E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4A207-946C-40D0-94EB-3EBEDC94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CAAE2-D30F-48E1-BF06-362C56B1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01673-71D9-4470-BAA6-40004714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A0F1-74B9-4099-AC8B-92A14BDD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7BE05-079A-4F48-BD6C-689F0BC0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A7734-20E7-4236-A586-9635CB17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D06F0-7BAF-4169-885E-9910407E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B10F6-8477-49CF-84C1-7AADF752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7E7F4-6711-4E33-B224-2D2C0A1D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9DFD7-D111-438F-850C-8B3C80833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02FF4-0DA8-46EA-9500-41F80C52E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C6E08B-D1D6-4517-9EE5-BC721669A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A979F6-0D62-427E-AC5B-0E090B9D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F11106-8ACA-47D4-87B3-8490771C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75240" cy="6260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96120" y="3156480"/>
              <a:ext cx="484920" cy="23223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605160" y="5447160"/>
              <a:ext cx="456840" cy="1420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719640" y="6504120"/>
              <a:ext cx="128520" cy="3632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75240" y="3201120"/>
              <a:ext cx="616320" cy="33285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6560" y="228600"/>
              <a:ext cx="79560" cy="292788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8680" y="2944080"/>
              <a:ext cx="58680" cy="493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77080" y="5478840"/>
              <a:ext cx="142560" cy="1024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81400" y="1398960"/>
              <a:ext cx="1557000" cy="4048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91920" y="6530040"/>
              <a:ext cx="121320" cy="3373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77080" y="5359680"/>
              <a:ext cx="27720" cy="2217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637200" y="6244920"/>
              <a:ext cx="178920" cy="6224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370440" cy="440100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12560" y="4316400"/>
              <a:ext cx="317520" cy="15807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754560" y="5862960"/>
              <a:ext cx="322920" cy="9903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390960" y="4364640"/>
              <a:ext cx="413640" cy="22359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50640" y="1289160"/>
              <a:ext cx="130680" cy="30272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833400" y="6571800"/>
              <a:ext cx="100440" cy="2815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376560" y="4107600"/>
              <a:ext cx="61560" cy="5115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730080" y="3145680"/>
              <a:ext cx="1057320" cy="27169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04960" y="6600600"/>
              <a:ext cx="90360" cy="2527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730080" y="5897520"/>
              <a:ext cx="103320" cy="6742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730080" y="5772960"/>
              <a:ext cx="28440" cy="2278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754560" y="6322680"/>
              <a:ext cx="158040" cy="5306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96A3-8560-484F-967A-DA7B22BD6CB3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osidorova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39816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827B-C244-4F61-9163-D30B0F0299F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75240" cy="6260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96120" y="3156480"/>
              <a:ext cx="484920" cy="23223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605160" y="5447160"/>
              <a:ext cx="456840" cy="1420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719640" y="6504120"/>
              <a:ext cx="128520" cy="3632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75240" y="3201120"/>
              <a:ext cx="616320" cy="33285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6560" y="228600"/>
              <a:ext cx="79560" cy="292788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8680" y="2944080"/>
              <a:ext cx="58680" cy="493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77080" y="5478840"/>
              <a:ext cx="142560" cy="1024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81400" y="1398960"/>
              <a:ext cx="1557000" cy="4048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91920" y="6530040"/>
              <a:ext cx="121320" cy="3373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77080" y="5359680"/>
              <a:ext cx="27720" cy="2217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637200" y="6244920"/>
              <a:ext cx="178920" cy="6224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370440" cy="440100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12560" y="4316400"/>
              <a:ext cx="317520" cy="15807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754560" y="5862960"/>
              <a:ext cx="322920" cy="9903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390960" y="4364640"/>
              <a:ext cx="413640" cy="22359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50640" y="1289160"/>
              <a:ext cx="130680" cy="30272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833400" y="6571800"/>
              <a:ext cx="100440" cy="2815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376560" y="4107600"/>
              <a:ext cx="61560" cy="5115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730080" y="3145680"/>
              <a:ext cx="1057320" cy="27169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04960" y="6600600"/>
              <a:ext cx="90360" cy="2527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730080" y="5897520"/>
              <a:ext cx="103320" cy="6742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730080" y="5772960"/>
              <a:ext cx="28440" cy="2278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754560" y="6322680"/>
              <a:ext cx="158040" cy="5306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2880" y="4911120"/>
            <a:ext cx="1192320" cy="507960"/>
          </a:xfrm>
          <a:prstGeom prst="pie">
            <a:avLst/>
          </a:pr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7885-9687-4F75-A255-20D14EEBBECA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osidorova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39816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4419-E101-4769-B0A5-EDC5C770218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75240" cy="6260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96120" y="3156480"/>
              <a:ext cx="484920" cy="23223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605160" y="5447160"/>
              <a:ext cx="456840" cy="1420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719640" y="6504120"/>
              <a:ext cx="128520" cy="3632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75240" y="3201120"/>
              <a:ext cx="616320" cy="33285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6560" y="228600"/>
              <a:ext cx="79560" cy="292788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8680" y="2944080"/>
              <a:ext cx="58680" cy="493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77080" y="5478840"/>
              <a:ext cx="142560" cy="1024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81400" y="1398960"/>
              <a:ext cx="1557000" cy="4048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91920" y="6530040"/>
              <a:ext cx="121320" cy="3373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77080" y="5359680"/>
              <a:ext cx="27720" cy="2217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637200" y="6244920"/>
              <a:ext cx="178920" cy="6224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370440" cy="440100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12560" y="4316400"/>
              <a:ext cx="317520" cy="15807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754560" y="5862960"/>
              <a:ext cx="322920" cy="9903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390960" y="4364640"/>
              <a:ext cx="413640" cy="22359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50640" y="1289160"/>
              <a:ext cx="130680" cy="30272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833400" y="6571800"/>
              <a:ext cx="100440" cy="2815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376560" y="4107600"/>
              <a:ext cx="61560" cy="5115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730080" y="3145680"/>
              <a:ext cx="1057320" cy="27169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04960" y="6600600"/>
              <a:ext cx="90360" cy="2527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730080" y="5897520"/>
              <a:ext cx="103320" cy="6742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730080" y="5772960"/>
              <a:ext cx="28440" cy="2278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754560" y="6322680"/>
              <a:ext cx="158040" cy="5306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2880" y="3177360"/>
            <a:ext cx="1192320" cy="507960"/>
          </a:xfrm>
          <a:prstGeom prst="pie">
            <a:avLst/>
          </a:pr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10D5-2A2F-4094-8BA0-2B82F95850F4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osidorova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39816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05CE-4C72-4AD6-9CC7-01E923B59B4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75240" cy="6260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96120" y="3156480"/>
              <a:ext cx="484920" cy="23223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605160" y="5447160"/>
              <a:ext cx="456840" cy="1420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719640" y="6504120"/>
              <a:ext cx="128520" cy="3632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75240" y="3201120"/>
              <a:ext cx="616320" cy="33285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6560" y="228600"/>
              <a:ext cx="79560" cy="292788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8680" y="2944080"/>
              <a:ext cx="58680" cy="493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77080" y="5478840"/>
              <a:ext cx="142560" cy="1024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81400" y="1398960"/>
              <a:ext cx="1557000" cy="4048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91920" y="6530040"/>
              <a:ext cx="121320" cy="3373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77080" y="5359680"/>
              <a:ext cx="27720" cy="2217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637200" y="6244920"/>
              <a:ext cx="178920" cy="6224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370440" cy="440100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12560" y="4316400"/>
              <a:ext cx="317520" cy="15807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754560" y="5862960"/>
              <a:ext cx="322920" cy="9903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390960" y="4364640"/>
              <a:ext cx="413640" cy="22359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50640" y="1289160"/>
              <a:ext cx="130680" cy="30272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833400" y="6571800"/>
              <a:ext cx="100440" cy="2815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376560" y="4107600"/>
              <a:ext cx="61560" cy="5115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730080" y="3145680"/>
              <a:ext cx="1057320" cy="27169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04960" y="6600600"/>
              <a:ext cx="90360" cy="2527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730080" y="5897520"/>
              <a:ext cx="103320" cy="6742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730080" y="5772960"/>
              <a:ext cx="28440" cy="2278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754560" y="6322680"/>
              <a:ext cx="158040" cy="5306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-2880" y="3177360"/>
            <a:ext cx="1192320" cy="507960"/>
          </a:xfrm>
          <a:prstGeom prst="pie">
            <a:avLst/>
          </a:pr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6"/>
          <p:cNvSpPr/>
          <p:nvPr/>
        </p:nvSpPr>
        <p:spPr>
          <a:xfrm>
            <a:off x="185112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37"/>
          <p:cNvSpPr/>
          <p:nvPr/>
        </p:nvSpPr>
        <p:spPr>
          <a:xfrm>
            <a:off x="833580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5487-D653-4C14-85EA-06D4446637F6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osidorova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39816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FEE4-8458-4776-92CB-F54E057F53F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75240" cy="6260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96120" y="3156480"/>
              <a:ext cx="484920" cy="23223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605160" y="5447160"/>
              <a:ext cx="456840" cy="1420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719640" y="6504120"/>
              <a:ext cx="128520" cy="3632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75240" y="3201120"/>
              <a:ext cx="616320" cy="33285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6560" y="228600"/>
              <a:ext cx="79560" cy="292788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8680" y="2944080"/>
              <a:ext cx="58680" cy="493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77080" y="5478840"/>
              <a:ext cx="142560" cy="1024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81400" y="1398960"/>
              <a:ext cx="1557000" cy="4048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91920" y="6530040"/>
              <a:ext cx="121320" cy="3373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77080" y="5359680"/>
              <a:ext cx="27720" cy="2217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637200" y="6244920"/>
              <a:ext cx="178920" cy="6224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370440" cy="440100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12560" y="4316400"/>
              <a:ext cx="317520" cy="15807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754560" y="5862960"/>
              <a:ext cx="322920" cy="9903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390960" y="4364640"/>
              <a:ext cx="413640" cy="22359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50640" y="1289160"/>
              <a:ext cx="130680" cy="30272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833400" y="6571800"/>
              <a:ext cx="100440" cy="2815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376560" y="4107600"/>
              <a:ext cx="61560" cy="5115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730080" y="3145680"/>
              <a:ext cx="1057320" cy="27169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04960" y="6600600"/>
              <a:ext cx="90360" cy="2527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730080" y="5897520"/>
              <a:ext cx="103320" cy="6742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730080" y="5772960"/>
              <a:ext cx="28440" cy="2278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754560" y="6322680"/>
              <a:ext cx="158040" cy="5306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2880" y="4911120"/>
            <a:ext cx="1192320" cy="507960"/>
          </a:xfrm>
          <a:prstGeom prst="pie">
            <a:avLst/>
          </a:pr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6E1A-2524-4AE9-B4FA-C8EA80939FA8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osidorova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39816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04EB-CB88-4C62-8BA9-37DB3A4521F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75240" cy="6260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96120" y="3156480"/>
              <a:ext cx="484920" cy="23223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605160" y="5447160"/>
              <a:ext cx="456840" cy="1420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719640" y="6504120"/>
              <a:ext cx="128520" cy="3632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75240" y="3201120"/>
              <a:ext cx="616320" cy="33285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6560" y="228600"/>
              <a:ext cx="79560" cy="292788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8680" y="2944080"/>
              <a:ext cx="58680" cy="493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77080" y="5478840"/>
              <a:ext cx="142560" cy="1024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81400" y="1398960"/>
              <a:ext cx="1557000" cy="4048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91920" y="6530040"/>
              <a:ext cx="121320" cy="3373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77080" y="5359680"/>
              <a:ext cx="27720" cy="2217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637200" y="6244920"/>
              <a:ext cx="178920" cy="6224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370440" cy="440100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12560" y="4316400"/>
              <a:ext cx="317520" cy="15807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754560" y="5862960"/>
              <a:ext cx="322920" cy="9903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390960" y="4364640"/>
              <a:ext cx="413640" cy="22359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50640" y="1289160"/>
              <a:ext cx="130680" cy="30272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833400" y="6571800"/>
              <a:ext cx="100440" cy="2815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376560" y="4107600"/>
              <a:ext cx="61560" cy="5115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730080" y="3145680"/>
              <a:ext cx="1057320" cy="27169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04960" y="6600600"/>
              <a:ext cx="90360" cy="2527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730080" y="5897520"/>
              <a:ext cx="103320" cy="6742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730080" y="5772960"/>
              <a:ext cx="28440" cy="2278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754560" y="6322680"/>
              <a:ext cx="158040" cy="5306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-2880" y="4911120"/>
            <a:ext cx="1192320" cy="507960"/>
          </a:xfrm>
          <a:prstGeom prst="pie">
            <a:avLst/>
          </a:pr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6"/>
          <p:cNvSpPr/>
          <p:nvPr/>
        </p:nvSpPr>
        <p:spPr>
          <a:xfrm>
            <a:off x="185112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37"/>
          <p:cNvSpPr/>
          <p:nvPr/>
        </p:nvSpPr>
        <p:spPr>
          <a:xfrm>
            <a:off x="833580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5C23-7FDA-41CB-991E-AC5625E498F5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osidorova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39816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1C71-A29D-4919-B5FE-25454A6DC6C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75240" cy="6260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96120" y="3156480"/>
              <a:ext cx="484920" cy="23223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605160" y="5447160"/>
              <a:ext cx="456840" cy="1420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719640" y="6504120"/>
              <a:ext cx="128520" cy="3632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75240" y="3201120"/>
              <a:ext cx="616320" cy="33285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6560" y="228600"/>
              <a:ext cx="79560" cy="292788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8680" y="2944080"/>
              <a:ext cx="58680" cy="493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77080" y="5478840"/>
              <a:ext cx="142560" cy="1024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81400" y="1398960"/>
              <a:ext cx="1557000" cy="4048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91920" y="6530040"/>
              <a:ext cx="121320" cy="3373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77080" y="5359680"/>
              <a:ext cx="27720" cy="2217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637200" y="6244920"/>
              <a:ext cx="178920" cy="6224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370440" cy="440100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12560" y="4316400"/>
              <a:ext cx="317520" cy="15807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754560" y="5862960"/>
              <a:ext cx="322920" cy="9903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390960" y="4364640"/>
              <a:ext cx="413640" cy="22359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50640" y="1289160"/>
              <a:ext cx="130680" cy="30272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833400" y="6571800"/>
              <a:ext cx="100440" cy="2815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376560" y="4107600"/>
              <a:ext cx="61560" cy="5115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730080" y="3145680"/>
              <a:ext cx="1057320" cy="27169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04960" y="6600600"/>
              <a:ext cx="90360" cy="2527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730080" y="5897520"/>
              <a:ext cx="103320" cy="6742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730080" y="5772960"/>
              <a:ext cx="28440" cy="2278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754560" y="6322680"/>
              <a:ext cx="158040" cy="5306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2880" y="4911120"/>
            <a:ext cx="1192320" cy="507960"/>
          </a:xfrm>
          <a:prstGeom prst="pie">
            <a:avLst/>
          </a:pr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755E-1731-44FE-9A07-DBDE1EB49D8A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osidorova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39816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E1A7-496F-4348-8364-0C39716AD70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75240" cy="6260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96120" y="3156480"/>
              <a:ext cx="484920" cy="23223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605160" y="5447160"/>
              <a:ext cx="456840" cy="1420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719640" y="6504120"/>
              <a:ext cx="128520" cy="3632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75240" y="3201120"/>
              <a:ext cx="616320" cy="33285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6560" y="228600"/>
              <a:ext cx="79560" cy="292788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8680" y="2944080"/>
              <a:ext cx="58680" cy="493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77080" y="5478840"/>
              <a:ext cx="142560" cy="1024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81400" y="1398960"/>
              <a:ext cx="1557000" cy="4048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91920" y="6530040"/>
              <a:ext cx="121320" cy="3373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77080" y="5359680"/>
              <a:ext cx="27720" cy="2217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637200" y="6244920"/>
              <a:ext cx="178920" cy="6224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370440" cy="440100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12560" y="4316400"/>
              <a:ext cx="317520" cy="15807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754560" y="5862960"/>
              <a:ext cx="322920" cy="9903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390960" y="4364640"/>
              <a:ext cx="413640" cy="22359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50640" y="1289160"/>
              <a:ext cx="130680" cy="30272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833400" y="6571800"/>
              <a:ext cx="100440" cy="2815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376560" y="4107600"/>
              <a:ext cx="61560" cy="5115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730080" y="3145680"/>
              <a:ext cx="1057320" cy="27169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04960" y="6600600"/>
              <a:ext cx="90360" cy="2527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730080" y="5897520"/>
              <a:ext cx="103320" cy="6742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730080" y="5772960"/>
              <a:ext cx="28440" cy="2278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754560" y="6322680"/>
              <a:ext cx="158040" cy="5306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2880" y="713160"/>
            <a:ext cx="1192320" cy="507960"/>
          </a:xfrm>
          <a:prstGeom prst="pie">
            <a:avLst/>
          </a:pr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2BC8-E572-4E48-AD0B-EEE7C0B970AF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osidorova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39816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3525-43CF-4D02-BA6E-F1C8E4ADD7F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75240" cy="6260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96120" y="3156480"/>
              <a:ext cx="484920" cy="23223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605160" y="5447160"/>
              <a:ext cx="456840" cy="1420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719640" y="6504120"/>
              <a:ext cx="128520" cy="3632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75240" y="3201120"/>
              <a:ext cx="616320" cy="33285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6560" y="228600"/>
              <a:ext cx="79560" cy="292788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8680" y="2944080"/>
              <a:ext cx="58680" cy="493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77080" y="5478840"/>
              <a:ext cx="142560" cy="1024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81400" y="1398960"/>
              <a:ext cx="1557000" cy="4048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91920" y="6530040"/>
              <a:ext cx="121320" cy="3373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77080" y="5359680"/>
              <a:ext cx="27720" cy="2217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637200" y="6244920"/>
              <a:ext cx="178920" cy="6224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370440" cy="440100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12560" y="4316400"/>
              <a:ext cx="317520" cy="15807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754560" y="5862960"/>
              <a:ext cx="322920" cy="9903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390960" y="4364640"/>
              <a:ext cx="413640" cy="22359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50640" y="1289160"/>
              <a:ext cx="130680" cy="30272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833400" y="6571800"/>
              <a:ext cx="100440" cy="2815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376560" y="4107600"/>
              <a:ext cx="61560" cy="5115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730080" y="3145680"/>
              <a:ext cx="1057320" cy="27169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04960" y="6600600"/>
              <a:ext cx="90360" cy="2527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730080" y="5897520"/>
              <a:ext cx="103320" cy="6742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730080" y="5772960"/>
              <a:ext cx="28440" cy="2278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754560" y="6322680"/>
              <a:ext cx="158040" cy="5306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-2880" y="713160"/>
            <a:ext cx="1192320" cy="507960"/>
          </a:xfrm>
          <a:prstGeom prst="pie">
            <a:avLst/>
          </a:pr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20A7-9905-428E-B477-C8008A3F4CBF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osidorova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39816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2E6C-EAEB-44A5-876F-1C7DB10ECFB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75240" cy="6260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96120" y="3156480"/>
              <a:ext cx="484920" cy="23223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605160" y="5447160"/>
              <a:ext cx="456840" cy="1420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719640" y="6504120"/>
              <a:ext cx="128520" cy="3632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75240" y="3201120"/>
              <a:ext cx="616320" cy="33285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6560" y="228600"/>
              <a:ext cx="79560" cy="292788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8680" y="2944080"/>
              <a:ext cx="58680" cy="493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77080" y="5478840"/>
              <a:ext cx="142560" cy="1024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81400" y="1398960"/>
              <a:ext cx="1557000" cy="4048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91920" y="6530040"/>
              <a:ext cx="121320" cy="3373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77080" y="5359680"/>
              <a:ext cx="27720" cy="2217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637200" y="6244920"/>
              <a:ext cx="178920" cy="6224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370440" cy="440100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12560" y="4316400"/>
              <a:ext cx="317520" cy="15807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754560" y="5862960"/>
              <a:ext cx="322920" cy="9903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390960" y="4364640"/>
              <a:ext cx="413640" cy="22359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50640" y="1289160"/>
              <a:ext cx="130680" cy="30272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833400" y="6571800"/>
              <a:ext cx="100440" cy="2815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376560" y="4107600"/>
              <a:ext cx="61560" cy="5115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730080" y="3145680"/>
              <a:ext cx="1057320" cy="27169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04960" y="6600600"/>
              <a:ext cx="90360" cy="2527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730080" y="5897520"/>
              <a:ext cx="103320" cy="6742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730080" y="5772960"/>
              <a:ext cx="28440" cy="2278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754560" y="6322680"/>
              <a:ext cx="158040" cy="5306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6"/>
          <p:cNvSpPr/>
          <p:nvPr/>
        </p:nvSpPr>
        <p:spPr>
          <a:xfrm>
            <a:off x="0" y="4324320"/>
            <a:ext cx="1308240" cy="777960"/>
          </a:xfrm>
          <a:prstGeom prst="pie">
            <a:avLst/>
          </a:pr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F84B-5815-4E6C-B077-3F664FF4F51D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osidorova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398160" y="452916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3C4C-5943-47B1-AFBC-D9FF53DED03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75240" cy="6260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96120" y="3156480"/>
              <a:ext cx="484920" cy="23223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605160" y="5447160"/>
              <a:ext cx="456840" cy="1420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719640" y="6504120"/>
              <a:ext cx="128520" cy="3632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75240" y="3201120"/>
              <a:ext cx="616320" cy="33285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6560" y="228600"/>
              <a:ext cx="79560" cy="292788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8680" y="2944080"/>
              <a:ext cx="58680" cy="493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77080" y="5478840"/>
              <a:ext cx="142560" cy="1024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81400" y="1398960"/>
              <a:ext cx="1557000" cy="4048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91920" y="6530040"/>
              <a:ext cx="121320" cy="3373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77080" y="5359680"/>
              <a:ext cx="27720" cy="2217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637200" y="6244920"/>
              <a:ext cx="178920" cy="6224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370440" cy="440100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12560" y="4316400"/>
              <a:ext cx="317520" cy="15807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754560" y="5862960"/>
              <a:ext cx="322920" cy="9903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390960" y="4364640"/>
              <a:ext cx="413640" cy="22359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50640" y="1289160"/>
              <a:ext cx="130680" cy="30272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833400" y="6571800"/>
              <a:ext cx="100440" cy="2815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376560" y="4107600"/>
              <a:ext cx="61560" cy="5115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730080" y="3145680"/>
              <a:ext cx="1057320" cy="27169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04960" y="6600600"/>
              <a:ext cx="90360" cy="2527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730080" y="5897520"/>
              <a:ext cx="103320" cy="6742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730080" y="5772960"/>
              <a:ext cx="28440" cy="2278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754560" y="6322680"/>
              <a:ext cx="158040" cy="5306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2880" y="713160"/>
            <a:ext cx="1192320" cy="507960"/>
          </a:xfrm>
          <a:prstGeom prst="pie">
            <a:avLst/>
          </a:pr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AEAE-6C69-45C4-8CFB-9C61091E009E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osidorova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39816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D003-D8ED-4C04-A235-49EA66C728E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75240" cy="6260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96120" y="3156480"/>
              <a:ext cx="484920" cy="23223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605160" y="5447160"/>
              <a:ext cx="456840" cy="1420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719640" y="6504120"/>
              <a:ext cx="128520" cy="3632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75240" y="3201120"/>
              <a:ext cx="616320" cy="33285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6560" y="228600"/>
              <a:ext cx="79560" cy="292788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8680" y="2944080"/>
              <a:ext cx="58680" cy="493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77080" y="5478840"/>
              <a:ext cx="142560" cy="1024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81400" y="1398960"/>
              <a:ext cx="1557000" cy="4048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91920" y="6530040"/>
              <a:ext cx="121320" cy="3373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77080" y="5359680"/>
              <a:ext cx="27720" cy="2217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637200" y="6244920"/>
              <a:ext cx="178920" cy="6224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370440" cy="440100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12560" y="4316400"/>
              <a:ext cx="317520" cy="15807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754560" y="5862960"/>
              <a:ext cx="322920" cy="9903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390960" y="4364640"/>
              <a:ext cx="413640" cy="22359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50640" y="1289160"/>
              <a:ext cx="130680" cy="30272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833400" y="6571800"/>
              <a:ext cx="100440" cy="2815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376560" y="4107600"/>
              <a:ext cx="61560" cy="5115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730080" y="3145680"/>
              <a:ext cx="1057320" cy="27169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04960" y="6600600"/>
              <a:ext cx="90360" cy="2527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730080" y="5897520"/>
              <a:ext cx="103320" cy="6742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730080" y="5772960"/>
              <a:ext cx="28440" cy="2278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754560" y="6322680"/>
              <a:ext cx="158040" cy="5306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2880" y="3177360"/>
            <a:ext cx="1192320" cy="507960"/>
          </a:xfrm>
          <a:prstGeom prst="pie">
            <a:avLst/>
          </a:pr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0514-2486-4722-A0D4-EC503EF75B3F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osidorova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39816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1A71-FD57-42A7-BB0A-08CF28B302A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75240" cy="6260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96120" y="3156480"/>
              <a:ext cx="484920" cy="23223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605160" y="5447160"/>
              <a:ext cx="456840" cy="1420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719640" y="6504120"/>
              <a:ext cx="128520" cy="3632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75240" y="3201120"/>
              <a:ext cx="616320" cy="33285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6560" y="228600"/>
              <a:ext cx="79560" cy="292788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8680" y="2944080"/>
              <a:ext cx="58680" cy="493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77080" y="5478840"/>
              <a:ext cx="142560" cy="1024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81400" y="1398960"/>
              <a:ext cx="1557000" cy="4048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91920" y="6530040"/>
              <a:ext cx="121320" cy="3373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77080" y="5359680"/>
              <a:ext cx="27720" cy="2217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637200" y="6244920"/>
              <a:ext cx="178920" cy="6224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370440" cy="440100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12560" y="4316400"/>
              <a:ext cx="317520" cy="15807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754560" y="5862960"/>
              <a:ext cx="322920" cy="9903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390960" y="4364640"/>
              <a:ext cx="413640" cy="22359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50640" y="1289160"/>
              <a:ext cx="130680" cy="30272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833400" y="6571800"/>
              <a:ext cx="100440" cy="2815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376560" y="4107600"/>
              <a:ext cx="61560" cy="5115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730080" y="3145680"/>
              <a:ext cx="1057320" cy="27169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04960" y="6600600"/>
              <a:ext cx="90360" cy="2527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730080" y="5897520"/>
              <a:ext cx="103320" cy="6742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730080" y="5772960"/>
              <a:ext cx="28440" cy="2278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754560" y="6322680"/>
              <a:ext cx="158040" cy="5306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2880" y="713160"/>
            <a:ext cx="1192320" cy="507960"/>
          </a:xfrm>
          <a:prstGeom prst="pie">
            <a:avLst/>
          </a:pr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A4AB-2983-4174-B23D-C9B38869D6F8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osidorova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39816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455E-CE56-43FB-84BF-3E324EB5807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75240" cy="6260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96120" y="3156480"/>
              <a:ext cx="484920" cy="23223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605160" y="5447160"/>
              <a:ext cx="456840" cy="1420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719640" y="6504120"/>
              <a:ext cx="128520" cy="3632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75240" y="3201120"/>
              <a:ext cx="616320" cy="33285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6560" y="228600"/>
              <a:ext cx="79560" cy="292788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8680" y="2944080"/>
              <a:ext cx="58680" cy="493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77080" y="5478840"/>
              <a:ext cx="142560" cy="1024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81400" y="1398960"/>
              <a:ext cx="1557000" cy="4048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91920" y="6530040"/>
              <a:ext cx="121320" cy="3373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77080" y="5359680"/>
              <a:ext cx="27720" cy="2217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637200" y="6244920"/>
              <a:ext cx="178920" cy="6224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370440" cy="440100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12560" y="4316400"/>
              <a:ext cx="317520" cy="15807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754560" y="5862960"/>
              <a:ext cx="322920" cy="9903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390960" y="4364640"/>
              <a:ext cx="413640" cy="22359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50640" y="1289160"/>
              <a:ext cx="130680" cy="30272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833400" y="6571800"/>
              <a:ext cx="100440" cy="2815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376560" y="4107600"/>
              <a:ext cx="61560" cy="5115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730080" y="3145680"/>
              <a:ext cx="1057320" cy="27169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04960" y="6600600"/>
              <a:ext cx="90360" cy="2527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730080" y="5897520"/>
              <a:ext cx="103320" cy="6742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730080" y="5772960"/>
              <a:ext cx="28440" cy="2278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754560" y="6322680"/>
              <a:ext cx="158040" cy="5306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-2880" y="713160"/>
            <a:ext cx="1192320" cy="507960"/>
          </a:xfrm>
          <a:prstGeom prst="pie">
            <a:avLst/>
          </a:pr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8A0C-D018-40C4-B238-B8E55C2F8D32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osidorova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39816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FC1A-F24C-4161-A7CC-389D9BCB825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75240" cy="6260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96120" y="3156480"/>
              <a:ext cx="484920" cy="23223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605160" y="5447160"/>
              <a:ext cx="456840" cy="1420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719640" y="6504120"/>
              <a:ext cx="128520" cy="3632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75240" y="3201120"/>
              <a:ext cx="616320" cy="33285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6560" y="228600"/>
              <a:ext cx="79560" cy="292788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8680" y="2944080"/>
              <a:ext cx="58680" cy="493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77080" y="5478840"/>
              <a:ext cx="142560" cy="1024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81400" y="1398960"/>
              <a:ext cx="1557000" cy="4048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91920" y="6530040"/>
              <a:ext cx="121320" cy="3373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77080" y="5359680"/>
              <a:ext cx="27720" cy="2217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637200" y="6244920"/>
              <a:ext cx="178920" cy="6224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370440" cy="440100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12560" y="4316400"/>
              <a:ext cx="317520" cy="15807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754560" y="5862960"/>
              <a:ext cx="322920" cy="9903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390960" y="4364640"/>
              <a:ext cx="413640" cy="22359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50640" y="1289160"/>
              <a:ext cx="130680" cy="30272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833400" y="6571800"/>
              <a:ext cx="100440" cy="2815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376560" y="4107600"/>
              <a:ext cx="61560" cy="5115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730080" y="3145680"/>
              <a:ext cx="1057320" cy="27169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04960" y="6600600"/>
              <a:ext cx="90360" cy="2527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730080" y="5897520"/>
              <a:ext cx="103320" cy="6742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730080" y="5772960"/>
              <a:ext cx="28440" cy="2278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754560" y="6322680"/>
              <a:ext cx="158040" cy="5306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2880" y="713160"/>
            <a:ext cx="1192320" cy="507960"/>
          </a:xfrm>
          <a:prstGeom prst="pie">
            <a:avLst/>
          </a:pr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6374-DCC9-42BB-BC0E-932CDA6106F5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osidorova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39816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3E01-8B06-420F-BFC1-40F509CDAAF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75240" cy="6260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96120" y="3156480"/>
              <a:ext cx="484920" cy="23223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605160" y="5447160"/>
              <a:ext cx="456840" cy="1420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719640" y="6504120"/>
              <a:ext cx="128520" cy="3632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75240" y="3201120"/>
              <a:ext cx="616320" cy="33285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6560" y="228600"/>
              <a:ext cx="79560" cy="292788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8680" y="2944080"/>
              <a:ext cx="58680" cy="493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77080" y="5478840"/>
              <a:ext cx="142560" cy="1024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81400" y="1398960"/>
              <a:ext cx="1557000" cy="4048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91920" y="6530040"/>
              <a:ext cx="121320" cy="3373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77080" y="5359680"/>
              <a:ext cx="27720" cy="2217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637200" y="6244920"/>
              <a:ext cx="178920" cy="6224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370440" cy="440100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12560" y="4316400"/>
              <a:ext cx="317520" cy="15807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754560" y="5862960"/>
              <a:ext cx="322920" cy="9903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390960" y="4364640"/>
              <a:ext cx="413640" cy="22359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50640" y="1289160"/>
              <a:ext cx="130680" cy="30272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833400" y="6571800"/>
              <a:ext cx="100440" cy="2815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376560" y="4107600"/>
              <a:ext cx="61560" cy="5115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730080" y="3145680"/>
              <a:ext cx="1057320" cy="27169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04960" y="6600600"/>
              <a:ext cx="90360" cy="2527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730080" y="5897520"/>
              <a:ext cx="103320" cy="6742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730080" y="5772960"/>
              <a:ext cx="28440" cy="2278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754560" y="6322680"/>
              <a:ext cx="158040" cy="5306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2880" y="713160"/>
            <a:ext cx="1192320" cy="507960"/>
          </a:xfrm>
          <a:prstGeom prst="pie">
            <a:avLst/>
          </a:pr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CED2-2017-4551-998D-AD5869E0CA0F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osidorova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39816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2A36-6F6C-4009-8ED0-B007BE11B83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75240" cy="6260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96120" y="3156480"/>
              <a:ext cx="484920" cy="23223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605160" y="5447160"/>
              <a:ext cx="456840" cy="1420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719640" y="6504120"/>
              <a:ext cx="128520" cy="3632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75240" y="3201120"/>
              <a:ext cx="616320" cy="33285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6560" y="228600"/>
              <a:ext cx="79560" cy="292788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8680" y="2944080"/>
              <a:ext cx="58680" cy="493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77080" y="5478840"/>
              <a:ext cx="142560" cy="10249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81400" y="1398960"/>
              <a:ext cx="1557000" cy="404820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91920" y="6530040"/>
              <a:ext cx="121320" cy="33732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77080" y="5359680"/>
              <a:ext cx="27720" cy="22176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637200" y="6244920"/>
              <a:ext cx="178920" cy="622440"/>
            </a:xfrm>
            <a:prstGeom prst="pie">
              <a:avLst/>
            </a:pr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370440" cy="440100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12560" y="4316400"/>
              <a:ext cx="317520" cy="15807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754560" y="5862960"/>
              <a:ext cx="322920" cy="9903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390960" y="4364640"/>
              <a:ext cx="413640" cy="22359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50640" y="1289160"/>
              <a:ext cx="130680" cy="30272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833400" y="6571800"/>
              <a:ext cx="100440" cy="2815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376560" y="4107600"/>
              <a:ext cx="61560" cy="51156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730080" y="3145680"/>
              <a:ext cx="1057320" cy="27169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04960" y="6600600"/>
              <a:ext cx="90360" cy="25272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730080" y="5897520"/>
              <a:ext cx="103320" cy="6742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730080" y="5772960"/>
              <a:ext cx="28440" cy="22788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754560" y="6322680"/>
              <a:ext cx="158040" cy="530640"/>
            </a:xfrm>
            <a:prstGeom prst="pie">
              <a:avLst/>
            </a:pr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2880" y="713160"/>
            <a:ext cx="1192320" cy="507960"/>
          </a:xfrm>
          <a:prstGeom prst="pie">
            <a:avLst/>
          </a:pr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62C1-A3A3-4ACB-A18C-D2C447DCF044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osidorova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39816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E69B-1D4E-4E6D-8A19-3A871F3507D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835280" y="1557000"/>
            <a:ext cx="669744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900" spc="-1" strike="noStrike">
                <a:solidFill>
                  <a:srgbClr val="999343"/>
                </a:solidFill>
                <a:latin typeface="Century Gothic"/>
              </a:rPr>
              <a:t>РАЗВИТИЕ ПРОИЗВОЛЬНОСТИ</a:t>
            </a:r>
            <a:endParaRPr b="0" lang="en-US" sz="4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 type="subTitle"/>
          </p:nvPr>
        </p:nvSpPr>
        <p:spPr>
          <a:xfrm>
            <a:off x="1403280" y="4869000"/>
            <a:ext cx="750744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Занятие с родителями по программе подготовки к школе №7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Педагог- психолог 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Малина Марина Валерьевн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73832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основным средством формирования произвольности является </a:t>
            </a:r>
            <a:r>
              <a:rPr b="1" lang="en-US" sz="3600" spc="-1" strike="noStrike">
                <a:solidFill>
                  <a:srgbClr val="262626"/>
                </a:solidFill>
                <a:latin typeface="Century Gothic"/>
              </a:rPr>
              <a:t>речь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"/>
          <p:cNvSpPr txBox="1"/>
          <p:nvPr/>
        </p:nvSpPr>
        <p:spPr>
          <a:xfrm>
            <a:off x="684000" y="2323800"/>
            <a:ext cx="784836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Именно благодаря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речи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ребенок становится способным взглянуть на себя как бы со стороны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Овладение речью происходит не сразу, а в несколько этапов, одновременно по нескольким линиям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Одна из главных среди них - это речь как 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средство саморегуляции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0" name="Номер слайда 5"/>
          <p:cNvSpPr/>
          <p:nvPr/>
        </p:nvSpPr>
        <p:spPr>
          <a:xfrm>
            <a:off x="39852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BFF6-3918-4F16-A217-89CBAA55DDD0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331640" y="623520"/>
            <a:ext cx="729612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Действие по инструкции 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1258920" y="2133360"/>
            <a:ext cx="73692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- это уже не импульсивные движения, а первый шаг к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осознанию того, что я делаю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. Именно такое, казалось бы, простое выполнение речевых инструкций открывает возможность дальнейшего развития "владения собой".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3" name="Номер слайда 5"/>
          <p:cNvSpPr/>
          <p:nvPr/>
        </p:nvSpPr>
        <p:spPr>
          <a:xfrm>
            <a:off x="39852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294B-9F95-47E7-BD03-84233A6DC94F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476360" y="623520"/>
            <a:ext cx="71517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УПРАВЛЕНИЕ СВОИМ ПОВЕДЕНИЕМ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5" name=""/>
          <p:cNvSpPr txBox="1"/>
          <p:nvPr/>
        </p:nvSpPr>
        <p:spPr>
          <a:xfrm>
            <a:off x="971280" y="2205000"/>
            <a:ext cx="7993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Только речевое общение, включенное в деятельность ребенка и соответствующее его интересам, может дать ему определенную "точку опоры" для управления своим поведением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А поскольку главная деятельность дошкольника - это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игра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, то первым шагом на пути к речевому общению может стать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совместная со взрослым игра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. Но игра не предметная и даже не ролевая, а игра с правилом.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Правила открываются в игре</a:t>
            </a:r>
            <a:br>
              <a:rPr sz="1800"/>
            </a:b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6" name="Номер слайда 5"/>
          <p:cNvSpPr/>
          <p:nvPr/>
        </p:nvSpPr>
        <p:spPr>
          <a:xfrm>
            <a:off x="39852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EF47-8300-4878-8CC6-F48FC312EC78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ЗНАЧИМОСТЬ ПРАВИЛ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"/>
          <p:cNvSpPr txBox="1"/>
          <p:nvPr/>
        </p:nvSpPr>
        <p:spPr>
          <a:xfrm>
            <a:off x="1042560" y="2349000"/>
            <a:ext cx="7201080" cy="37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центральная роль в овладении правилом принадлежит взрослому, который не просто объясняет, что и когда нужно делать, но и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делает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правило привлекательным, значимым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Только в том случае, если правило приобретает побудительную силу, оно становится для малыша средством овладения собственным поведением, а действие по правилу превращается в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личное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свободное, а не навязанное действие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Номер слайда 5"/>
          <p:cNvSpPr/>
          <p:nvPr/>
        </p:nvSpPr>
        <p:spPr>
          <a:xfrm>
            <a:off x="39852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F0CB-ACC4-4EC1-A395-67A7E94FCC05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0246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Хочу и надо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1" name=""/>
          <p:cNvSpPr txBox="1"/>
          <p:nvPr/>
        </p:nvSpPr>
        <p:spPr>
          <a:xfrm>
            <a:off x="1332000" y="1052640"/>
            <a:ext cx="74167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У каждого человека всегда есть что-то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самое главное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, ради чего можно пожертвовать всем остальным. Человек обладающий волей не только знает, чего он хочет, но упорно и настойчиво сам добивается своей цели; когда его поведение не хаотично, а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направлено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на что-то. Если такой направленности нет, поведение человека будет определяться не им самим, а внешними обстоятельствами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Дошкольное детство (от 3 до 7 лет) - период, когда происходит переход от ситуативного поведения, зависимого от внешних обстоятельств, к волевому, которое определяется самим человеком.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2" name="Номер слайда 5"/>
          <p:cNvSpPr/>
          <p:nvPr/>
        </p:nvSpPr>
        <p:spPr>
          <a:xfrm>
            <a:off x="39852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DA06-3857-4574-AC3D-BFEE2A2A1514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1547640" y="623520"/>
            <a:ext cx="708048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ВОСПИТАНИЕ НАСТОЙЧИВОСТ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1115640" y="2349360"/>
            <a:ext cx="734364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Если вы хотите воспитывать у ребенка трудолюбие, настойчивость и аккуратность (а в дошкольном возрасте уже пора думать об этом), помните, что ваши призывы,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нравоучения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и положительные примеры скорее всего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не подействуют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Позаботьтесь лучше о том, чтобы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смысл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действий ребенка оказался бы совершенно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ясным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для него, а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результат - желанным и привлекательным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Чтобы малыш отчетливо представлял, для чего (или для кого) он что-то делает.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5" name="Номер слайда 5"/>
          <p:cNvSpPr/>
          <p:nvPr/>
        </p:nvSpPr>
        <p:spPr>
          <a:xfrm>
            <a:off x="39852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190F-9BE6-4DFC-830F-3DB28F6BFE7A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0246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ВОСПИТАНИЕ ЛИЧНОСТ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755280" y="1557360"/>
            <a:ext cx="7777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Ни в коем случае не заставляйте ребенка делать то, чего он не хочет!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Ваша задача не в том, чтобы ломать или преодолевать собственные желания, а в том, чтобы помочь ему понять (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осознать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) собственные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желания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 и удержать их вопреки ситуативным обстоятельствам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Делать дело ребенок должен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сам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! Не под вашим нажимом или давлением, а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по собственному желанию и решению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. Только такая помощь может способствовать становлению его собственных качеств личности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Помните, что свободу, активность, ответственность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нельзя навязать извне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. Эти качества могут прорасти только "изнутри", а почвой для этих ростков может быть только то, что ребенок получил в семье, в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совместной жизни с родителями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Номер слайда 5"/>
          <p:cNvSpPr/>
          <p:nvPr/>
        </p:nvSpPr>
        <p:spPr>
          <a:xfrm>
            <a:off x="39852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3176-8A92-4FEA-8E6F-C94604AAB37E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692360" y="333360"/>
            <a:ext cx="6696000" cy="18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ТЕСТИРУЕМ ПРОИЗВОЛЬНОСТЬ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1042560" y="2708280"/>
            <a:ext cx="79218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Тест-игра СПРЯЧЬ ВИННИ ПУХ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Игра ПОЧТАЛЬОН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Игра ЧЕРНЫЙ БЕЛЫЙ НЕ БЕРИТЕ, ДА И НЕТ НЕ ГОВОРИТЕ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Номер слайда 5"/>
          <p:cNvSpPr/>
          <p:nvPr/>
        </p:nvSpPr>
        <p:spPr>
          <a:xfrm>
            <a:off x="39852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6AF9-7BF3-4634-9E40-5AE27B731C10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ДИАГНОСТИКА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"/>
          <p:cNvSpPr txBox="1"/>
          <p:nvPr/>
        </p:nvSpPr>
        <p:spPr>
          <a:xfrm>
            <a:off x="1763640" y="1989000"/>
            <a:ext cx="6864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Родительско-детских отношений (по желанию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убъективная оценка неврологического статуса своего и ребенк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братная связь по программе и выбор актуальных вопросов на завершающий этап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Номер слайда 5"/>
          <p:cNvSpPr/>
          <p:nvPr/>
        </p:nvSpPr>
        <p:spPr>
          <a:xfrm>
            <a:off x="39852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1945-27CA-43AF-B17F-A79EB3BC51C5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8209080" cy="24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Century Gothic"/>
              </a:rPr>
              <a:t>ПРОИЗВОЛЬНОСТЬ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457200" y="314172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Один из показателей психологической готовности к школе и  предпосылка успешной учебной деятельности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7" name="Номер слайда 5"/>
          <p:cNvSpPr/>
          <p:nvPr/>
        </p:nvSpPr>
        <p:spPr>
          <a:xfrm>
            <a:off x="39852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9C04-32C0-4343-A3F8-7A65FEFCB53A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684072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entury Gothic"/>
              </a:rPr>
              <a:t>ПАРАМЕТРЫ  ПРОИЗВОЛЬНОСТИ</a:t>
            </a:r>
            <a:br>
              <a:rPr sz="3200"/>
            </a:br>
            <a:r>
              <a:rPr b="0" lang="ru-RU" sz="3200" spc="-1" strike="noStrike">
                <a:solidFill>
                  <a:srgbClr val="262626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262626"/>
                </a:solidFill>
                <a:latin typeface="Century Gothic"/>
              </a:rPr>
              <a:t>(по Б.Д. Эльконину):</a:t>
            </a:r>
            <a:br>
              <a:rPr sz="3200"/>
            </a:b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1332000" y="2205000"/>
            <a:ext cx="7354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–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умение детей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сознательно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подчинять свои действия правилу;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– умение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ориентироваться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на заданную систему требований;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– умение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внимательно слушать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говорящего и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точно выполнять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задание, предполагаемые в устной форме;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– умение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самостоятельно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выполнять требуемое задание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по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зрительно воспроизводимому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образу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0" name="Номер слайда 5"/>
          <p:cNvSpPr/>
          <p:nvPr/>
        </p:nvSpPr>
        <p:spPr>
          <a:xfrm>
            <a:off x="39852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3E61-8043-4AB8-9529-1FABD6F19C06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entury Gothic"/>
              </a:rPr>
              <a:t>РАЗВИТИЕ ПРОИЗВОЛЬНОСТИ ВНИМАНИЯ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755640" y="220464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Начиная с 4,5 лет, ребенок направляет свои действия в соответствии с указаниями взрослого, при этом словесная инструкция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"будь внимательным"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понимается ребенком уже буквально, он направляет и удерживает свое внимание в зависимости от поставленной цели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Эта способность называется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произвольностью внимания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. Развитие произвольного внимания связано с одной стороны с развитием речи, с другой с развитием мышления и деятельности в целом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3" name="Номер слайда 5"/>
          <p:cNvSpPr/>
          <p:nvPr/>
        </p:nvSpPr>
        <p:spPr>
          <a:xfrm>
            <a:off x="39852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5F47-A29D-41C1-97BF-4DEB38E1727D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702468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Стадии развития произвольности внимания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428400" y="1714680"/>
            <a:ext cx="82803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Стадия внешних усилий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684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В младшем и среднем дошкольном возрасте внимание ребенка направляется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под действием словесных указаний взрослого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. На этом этапе внимание постоянно "соскальзывает" с поставленной цели и ребенку для продолжения сосредоточения необходимы дополнительные стимулы со стороны взрослого 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684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При отсутствии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похвалы, напоминания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, повторных указаний произвольность ослабевает и внимание распадается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6" name="Номер слайда 5"/>
          <p:cNvSpPr/>
          <p:nvPr/>
        </p:nvSpPr>
        <p:spPr>
          <a:xfrm>
            <a:off x="39852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6CF0-B00E-4E8A-A9F6-9B3423E32310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1619280" y="692280"/>
            <a:ext cx="64483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 </a:t>
            </a: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стадия личных  целей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539280" y="1628640"/>
            <a:ext cx="7993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В старшем дошкольном возрасте (к 7-7,5 годам), ребенок должен быть способен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самостоятельно направлять, удерживать внимание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и не отвлекаться на посторонние раздражители, выполняя поставленную задачу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Если у ребенка произвольность высоко развита, он способен на протяжении почти 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Century Gothic"/>
              </a:rPr>
              <a:t>10 минут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выполнять не очень привлекательное  задание, с минимальным количеством ошибок,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не отвлекаясь на сбивающие раздражители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9" name="Номер слайда 5"/>
          <p:cNvSpPr/>
          <p:nvPr/>
        </p:nvSpPr>
        <p:spPr>
          <a:xfrm>
            <a:off x="39852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344E-173B-4A0B-9114-C6A346ADD6BB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2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Стадия волевых усилий 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1" name=""/>
          <p:cNvSpPr txBox="1"/>
          <p:nvPr/>
        </p:nvSpPr>
        <p:spPr>
          <a:xfrm>
            <a:off x="610920" y="2324160"/>
            <a:ext cx="78483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Формируется 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привычка заставлять себя быть внимательным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Формируются нормы поведения, когда ребенок приучается 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сдерживать свое поведение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 зависимости от понятий: "хорошо-плохо", или "можно-нельзя"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развитие произвольности  происходит постепенно и 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только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под руководством взрослого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2" name="Номер слайда 5"/>
          <p:cNvSpPr/>
          <p:nvPr/>
        </p:nvSpPr>
        <p:spPr>
          <a:xfrm>
            <a:off x="39852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6DDB-5F4E-4384-91E0-F7B889F340E6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 txBox="1"/>
          <p:nvPr/>
        </p:nvSpPr>
        <p:spPr>
          <a:xfrm>
            <a:off x="707760" y="981000"/>
            <a:ext cx="843588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Произвольность зависит от состояния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нервной системы и темперамента.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Если, несмотря на выполнение всех рекомендаций, ваш ребенок к старшему дошкольному возрасту имеет проблемы с произвольным вниманием, необходимо выявить причины трудностей и осуществить специальную коррекционную работу под руководством специалиста (врач, психолог)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4" name="Номер слайда 4"/>
          <p:cNvSpPr/>
          <p:nvPr/>
        </p:nvSpPr>
        <p:spPr>
          <a:xfrm>
            <a:off x="39852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FA6F-59A0-4652-8597-E84A5240ABCF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0246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Основной чертой произвольного поведения является его </a:t>
            </a:r>
            <a:r>
              <a:rPr b="1" lang="en-US" sz="3600" spc="-1" strike="noStrike">
                <a:solidFill>
                  <a:srgbClr val="262626"/>
                </a:solidFill>
                <a:latin typeface="Century Gothic"/>
              </a:rPr>
              <a:t>осознанность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304920" y="2349000"/>
            <a:ext cx="8686800" cy="37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Произвольное действие отличается от непроизвольного тем, что человек управляет им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сознательно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, по своей воле, знает, что, как и зачем он делает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осознание собственных действий и преодоление непосредственного, ситуативного поведения и составляют основу овладения собой в дошкольном возрасте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7" name="Номер слайда 5"/>
          <p:cNvSpPr/>
          <p:nvPr/>
        </p:nvSpPr>
        <p:spPr>
          <a:xfrm>
            <a:off x="39852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3D2F-5D36-4C85-B602-C177FD7EE19E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8:02:58Z</dcterms:created>
  <dc:creator>ййй</dc:creator>
  <dc:description/>
  <dc:language>en-US</dc:language>
  <cp:lastModifiedBy>Пользователь</cp:lastModifiedBy>
  <dcterms:modified xsi:type="dcterms:W3CDTF">2019-11-21T17:24:07Z</dcterms:modified>
  <cp:revision>24</cp:revision>
  <dc:subject/>
  <dc:title>РАЗВИТИЕ ПРОИЗВОЛЬНОСТИ</dc:title>
</cp:coreProperties>
</file>