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3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5.png" ContentType="image/png"/>
  <Override PartName="/ppt/media/image19.jpeg" ContentType="image/jpeg"/>
  <Override PartName="/ppt/media/image23.png" ContentType="image/png"/>
  <Override PartName="/ppt/media/image22.png" ContentType="image/png"/>
  <Override PartName="/ppt/media/image8.jpeg" ContentType="image/jpeg"/>
  <Override PartName="/ppt/media/image5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9.jpeg" ContentType="image/jpeg"/>
  <Override PartName="/ppt/media/image20.jpeg" ContentType="image/jpeg"/>
  <Override PartName="/ppt/media/image12.png" ContentType="image/png"/>
  <Override PartName="/ppt/media/image7.png" ContentType="image/png"/>
  <Override PartName="/ppt/media/image32.png" ContentType="image/png"/>
  <Override PartName="/ppt/media/image13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C2FE0-9651-45FC-8D49-759EF9443B8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B3CDD-FE24-469E-8DBD-AC6BEC20AC81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E630F-8327-4B1F-BE08-5AA660C2CED2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8803-A50A-48F1-BFC4-A4D4CC4A9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3CAF-8D84-4AA2-8B89-64F03592D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DAF7-CEF0-46E9-B8B6-0B1FD1EEA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E8C0-AEF3-48F2-9223-4F1EC8A38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CF09F-5E2B-499C-B347-F23DD3AE5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D134A-CF7D-4A9B-9FC6-F81EC2664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04F9A-2FFA-468C-AE49-4E50FCEFB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32ABD-D908-40BA-A8F8-78B2B137A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42A5F-1951-48AE-AA8F-1688E2DF3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E2C6B-2B8E-47E9-8A78-41A8FACA2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506AD-0FC0-46DE-AC0A-9BA7DFC6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18BA-636F-4B92-8097-AE0D9355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6BD4F-0EE6-4F01-960C-D70BE125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F4938-7A8C-46FC-9792-B8BAC9F2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5763C-3D1A-42AE-A374-4A0DEAB8C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732B8-1520-4E75-8C45-EF7AC7CD1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5522D-35E8-4FDD-AD20-7F8DE55CF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F146C-BC59-4F07-BF64-0602413F0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26586-A582-448C-BC66-4F7F8E4D3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7CCD1-92AE-4387-A375-386ECD125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D8DCB-1E18-4EE8-A0EE-0870EAD00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ADE12-C0D2-47C8-A8DB-EBFF7434E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976F-D43D-4387-BBD8-32566E002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8F87C-312B-4D4F-96ED-D22855688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825D9-3B34-483F-8A05-806B08CC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35DD2-8E75-4478-8936-2AD0976A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69666-1319-4BDD-ABFD-A7282753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15179-16E3-46C9-A5FC-E3861DC8B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8A1FC-DA24-40A5-81AF-16617A5BE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4A7B4-068A-4A02-A0B5-DEDA0A5A1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C223A-A7BE-4F14-88D4-495BE35D6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F20ED-A89E-4B85-9B12-0E24AC5D5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65B01-49AA-4AB3-98F8-E141894FE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C5D1-9984-470F-9CCB-380EC5476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47982-C503-4038-B6EC-8ABFC8369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DB2B2-078E-4BE5-BFD2-BC4E73F7E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A08A8-FEBE-46D1-A77B-D30D0EDE0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D6D84-1D3F-4D38-9C8A-5479FE3B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A909F-8B15-4B19-902A-7C40BE4B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269DA-DDC6-4FB3-898E-E826AC7F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C1700-A0C7-4A47-9738-E181BD650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FB9BC-93D4-463C-85AA-536AF6D97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1E5F5-1625-4932-A7ED-7956817C3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C50C-3E27-460C-B897-66419B35D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3B6D-49FE-4D60-9225-E1F912E20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B2D4-4026-4EF0-870C-88C928A1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73A7-BAED-4187-B3D8-E0AAF2D5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1E80-8374-42AC-8FF9-374082C2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218A5-F391-4A56-95D7-4FFC4DA79D93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F5EE9-79D5-4229-B138-BF0F5DC6BB1D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67A07-2796-4C35-BF3F-0FE3A1F1B77F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95DAA-B8AF-4326-BE25-4AB746665D92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Заголовок 1" descr=""/>
          <p:cNvPicPr/>
          <p:nvPr/>
        </p:nvPicPr>
        <p:blipFill>
          <a:blip r:embed="rId1"/>
          <a:stretch/>
        </p:blipFill>
        <p:spPr>
          <a:xfrm>
            <a:off x="907920" y="701640"/>
            <a:ext cx="7772400" cy="5413320"/>
          </a:xfrm>
          <a:prstGeom prst="rect">
            <a:avLst/>
          </a:prstGeom>
          <a:ln w="0">
            <a:noFill/>
          </a:ln>
        </p:spPr>
      </p:pic>
      <p:sp>
        <p:nvSpPr>
          <p:cNvPr id="220" name="Подзаголовок 2"/>
          <p:cNvSpPr/>
          <p:nvPr/>
        </p:nvSpPr>
        <p:spPr>
          <a:xfrm>
            <a:off x="4284720" y="5661000"/>
            <a:ext cx="45766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12480" y="486864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3b3b3b"/>
                </a:solidFill>
                <a:latin typeface="Trebuchet MS"/>
              </a:rPr>
              <a:t>Работа с учебником с.76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65" name="Picture 8" descr="http://www.ukazka.ru/img/b/uk1146445.jpg"/>
          <p:cNvPicPr/>
          <p:nvPr/>
        </p:nvPicPr>
        <p:blipFill>
          <a:blip r:embed="rId1"/>
          <a:stretch/>
        </p:blipFill>
        <p:spPr>
          <a:xfrm>
            <a:off x="755640" y="476280"/>
            <a:ext cx="271476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Работа по стихотворению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67" name="Рисунок 2" descr=""/>
          <p:cNvPicPr/>
          <p:nvPr/>
        </p:nvPicPr>
        <p:blipFill>
          <a:blip r:embed="rId1"/>
          <a:stretch/>
        </p:blipFill>
        <p:spPr>
          <a:xfrm>
            <a:off x="514440" y="2276640"/>
            <a:ext cx="6538680" cy="34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63468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4200"/>
                </a:solidFill>
                <a:latin typeface="Trebuchet MS"/>
              </a:rPr>
              <a:t>Работа с толковым словарём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9" name="Заголовок 1"/>
          <p:cNvSpPr/>
          <p:nvPr/>
        </p:nvSpPr>
        <p:spPr>
          <a:xfrm>
            <a:off x="395280" y="1844640"/>
            <a:ext cx="634860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4200"/>
                </a:solidFill>
                <a:latin typeface="Trebuchet MS"/>
                <a:ea typeface="Times New Roman"/>
              </a:rPr>
              <a:t>КЛЮЁ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КЛЕВАТЬ</a:t>
            </a:r>
            <a:r>
              <a:rPr b="0" lang="ru-RU" sz="3600" spc="-1" strike="noStrike">
                <a:solidFill>
                  <a:srgbClr val="004200"/>
                </a:solidFill>
                <a:latin typeface="Trebuchet MS"/>
                <a:ea typeface="Times New Roman"/>
              </a:rPr>
              <a:t> – начальная форма, единственное числ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5-конечная звезда 3"/>
          <p:cNvSpPr/>
          <p:nvPr/>
        </p:nvSpPr>
        <p:spPr>
          <a:xfrm>
            <a:off x="1908000" y="1628640"/>
            <a:ext cx="576360" cy="432000"/>
          </a:xfrm>
          <a:custGeom>
            <a:avLst/>
            <a:gdLst/>
            <a:ahLst/>
            <a:rect l="l" t="t" r="r" b="b"/>
            <a:pathLst>
              <a:path w="576263" h="431800">
                <a:moveTo>
                  <a:pt x="1" y="164933"/>
                </a:moveTo>
                <a:lnTo>
                  <a:pt x="247384" y="194506"/>
                </a:lnTo>
                <a:lnTo>
                  <a:pt x="288132" y="0"/>
                </a:lnTo>
                <a:lnTo>
                  <a:pt x="328879" y="194506"/>
                </a:lnTo>
                <a:lnTo>
                  <a:pt x="576262" y="164933"/>
                </a:lnTo>
                <a:lnTo>
                  <a:pt x="354062" y="255570"/>
                </a:lnTo>
                <a:lnTo>
                  <a:pt x="466206" y="431799"/>
                </a:lnTo>
                <a:lnTo>
                  <a:pt x="288132" y="293310"/>
                </a:lnTo>
                <a:lnTo>
                  <a:pt x="110057" y="431799"/>
                </a:lnTo>
                <a:lnTo>
                  <a:pt x="222201" y="255570"/>
                </a:lnTo>
                <a:lnTo>
                  <a:pt x="1" y="164933"/>
                </a:lnTo>
                <a:close/>
              </a:path>
            </a:pathLst>
          </a:custGeom>
          <a:solidFill>
            <a:srgbClr val="90c226"/>
          </a:solidFill>
          <a:ln cap="rnd" w="19080">
            <a:solidFill>
              <a:srgbClr val="688e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112480" y="486864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3b3b3b"/>
                </a:solidFill>
                <a:latin typeface="Trebuchet MS"/>
              </a:rPr>
              <a:t>Работа с учебником с.77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72" name="Picture 8" descr="http://www.ukazka.ru/img/b/uk1146445.jpg"/>
          <p:cNvPicPr/>
          <p:nvPr/>
        </p:nvPicPr>
        <p:blipFill>
          <a:blip r:embed="rId1"/>
          <a:stretch/>
        </p:blipFill>
        <p:spPr>
          <a:xfrm>
            <a:off x="755640" y="476280"/>
            <a:ext cx="271476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Рисунок 4" descr="Безымянный.jpg"/>
          <p:cNvPicPr/>
          <p:nvPr/>
        </p:nvPicPr>
        <p:blipFill>
          <a:blip r:embed="rId1"/>
          <a:stretch/>
        </p:blipFill>
        <p:spPr>
          <a:xfrm>
            <a:off x="5310360" y="0"/>
            <a:ext cx="3833640" cy="4118040"/>
          </a:xfrm>
          <a:prstGeom prst="rect">
            <a:avLst/>
          </a:prstGeom>
          <a:ln w="0">
            <a:noFill/>
          </a:ln>
        </p:spPr>
      </p:pic>
      <p:sp>
        <p:nvSpPr>
          <p:cNvPr id="274" name="TextBox 8"/>
          <p:cNvSpPr/>
          <p:nvPr/>
        </p:nvSpPr>
        <p:spPr>
          <a:xfrm>
            <a:off x="642960" y="2286000"/>
            <a:ext cx="635796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-названия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йствий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начальной форме отвечают на вопросы: ЧТО ДЕЛАТЬ? ЧТО СДЕЛАТЬ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835280" y="4941360"/>
            <a:ext cx="63482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1896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4200"/>
                </a:solidFill>
                <a:latin typeface="Trebuchet MS"/>
              </a:rPr>
              <a:t>Работа в тетради с.24 №29  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76" name="Picture 14" descr="http://webbiblioteca.com/wp-content/uploads/images/russkij_jazik_2_klass_tetrad_dlja_samostojatelnoj_raboti_1.jpg"/>
          <p:cNvPicPr/>
          <p:nvPr/>
        </p:nvPicPr>
        <p:blipFill>
          <a:blip r:embed="rId1"/>
          <a:stretch/>
        </p:blipFill>
        <p:spPr>
          <a:xfrm>
            <a:off x="468360" y="260280"/>
            <a:ext cx="292896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619280" y="4723920"/>
            <a:ext cx="63482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1896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4200"/>
                </a:solidFill>
                <a:latin typeface="Trebuchet MS"/>
              </a:rPr>
              <a:t>Работа с учебником с.76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78" name="Picture 8" descr="http://www.ukazka.ru/img/b/uk1146445.jpg"/>
          <p:cNvPicPr/>
          <p:nvPr/>
        </p:nvPicPr>
        <p:blipFill>
          <a:blip r:embed="rId1"/>
          <a:stretch/>
        </p:blipFill>
        <p:spPr>
          <a:xfrm>
            <a:off x="1042920" y="404640"/>
            <a:ext cx="2714760" cy="37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Овал 10" descr=""/>
          <p:cNvPicPr/>
          <p:nvPr/>
        </p:nvPicPr>
        <p:blipFill>
          <a:blip r:embed="rId2"/>
          <a:stretch/>
        </p:blipFill>
        <p:spPr>
          <a:xfrm>
            <a:off x="1420920" y="749160"/>
            <a:ext cx="2230200" cy="1116000"/>
          </a:xfrm>
          <a:prstGeom prst="rect">
            <a:avLst/>
          </a:prstGeom>
          <a:ln w="0">
            <a:noFill/>
          </a:ln>
        </p:spPr>
      </p:pic>
      <p:pic>
        <p:nvPicPr>
          <p:cNvPr id="280" name="Овал 11" descr=""/>
          <p:cNvPicPr/>
          <p:nvPr/>
        </p:nvPicPr>
        <p:blipFill>
          <a:blip r:embed="rId3"/>
          <a:stretch/>
        </p:blipFill>
        <p:spPr>
          <a:xfrm>
            <a:off x="927000" y="2987640"/>
            <a:ext cx="2724120" cy="1187640"/>
          </a:xfrm>
          <a:prstGeom prst="rect">
            <a:avLst/>
          </a:prstGeom>
          <a:ln w="0">
            <a:noFill/>
          </a:ln>
        </p:spPr>
      </p:pic>
      <p:pic>
        <p:nvPicPr>
          <p:cNvPr id="281" name="Овал 12" descr=""/>
          <p:cNvPicPr/>
          <p:nvPr/>
        </p:nvPicPr>
        <p:blipFill>
          <a:blip r:embed="rId4"/>
          <a:stretch/>
        </p:blipFill>
        <p:spPr>
          <a:xfrm>
            <a:off x="4346640" y="1566720"/>
            <a:ext cx="3846600" cy="1195560"/>
          </a:xfrm>
          <a:prstGeom prst="rect">
            <a:avLst/>
          </a:prstGeom>
          <a:ln w="0">
            <a:noFill/>
          </a:ln>
        </p:spPr>
      </p:pic>
      <p:pic>
        <p:nvPicPr>
          <p:cNvPr id="282" name="Овал 13" descr=""/>
          <p:cNvPicPr/>
          <p:nvPr/>
        </p:nvPicPr>
        <p:blipFill>
          <a:blip r:embed="rId5"/>
          <a:stretch/>
        </p:blipFill>
        <p:spPr>
          <a:xfrm>
            <a:off x="4992840" y="3560760"/>
            <a:ext cx="2981160" cy="1468440"/>
          </a:xfrm>
          <a:prstGeom prst="rect">
            <a:avLst/>
          </a:prstGeom>
          <a:ln w="0">
            <a:noFill/>
          </a:ln>
        </p:spPr>
      </p:pic>
      <p:pic>
        <p:nvPicPr>
          <p:cNvPr id="283" name="Овал 15" descr=""/>
          <p:cNvPicPr/>
          <p:nvPr/>
        </p:nvPicPr>
        <p:blipFill>
          <a:blip r:embed="rId6"/>
          <a:stretch/>
        </p:blipFill>
        <p:spPr>
          <a:xfrm>
            <a:off x="1609560" y="4743360"/>
            <a:ext cx="2767320" cy="13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Прямоугольник с двумя скругленными соседними углами 10"/>
          <p:cNvSpPr/>
          <p:nvPr/>
        </p:nvSpPr>
        <p:spPr>
          <a:xfrm>
            <a:off x="539640" y="692280"/>
            <a:ext cx="3103560" cy="914400"/>
          </a:xfrm>
          <a:prstGeom prst="pie">
            <a:avLst/>
          </a:prstGeom>
          <a:noFill/>
          <a:ln cap="rnd" w="2232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  <a:ea typeface="Calibri"/>
              </a:rPr>
              <a:t>Форма слов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Прямоугольник с двумя скругленными соседними углами 11"/>
          <p:cNvSpPr/>
          <p:nvPr/>
        </p:nvSpPr>
        <p:spPr>
          <a:xfrm>
            <a:off x="4788000" y="692280"/>
            <a:ext cx="3168720" cy="914400"/>
          </a:xfrm>
          <a:prstGeom prst="pie">
            <a:avLst/>
          </a:prstGeom>
          <a:noFill/>
          <a:ln cap="rnd" w="2232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  <a:ea typeface="Calibri"/>
              </a:rPr>
              <a:t>Родственно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Овал 12" descr=""/>
          <p:cNvPicPr/>
          <p:nvPr/>
        </p:nvPicPr>
        <p:blipFill>
          <a:blip r:embed="rId1"/>
          <a:stretch/>
        </p:blipFill>
        <p:spPr>
          <a:xfrm>
            <a:off x="974880" y="1974960"/>
            <a:ext cx="2238120" cy="1116000"/>
          </a:xfrm>
          <a:prstGeom prst="rect">
            <a:avLst/>
          </a:prstGeom>
          <a:ln w="0">
            <a:noFill/>
          </a:ln>
        </p:spPr>
      </p:pic>
      <p:pic>
        <p:nvPicPr>
          <p:cNvPr id="287" name="Овал 13" descr=""/>
          <p:cNvPicPr/>
          <p:nvPr/>
        </p:nvPicPr>
        <p:blipFill>
          <a:blip r:embed="rId2"/>
          <a:stretch/>
        </p:blipFill>
        <p:spPr>
          <a:xfrm>
            <a:off x="798480" y="3408480"/>
            <a:ext cx="2766960" cy="1358640"/>
          </a:xfrm>
          <a:prstGeom prst="rect">
            <a:avLst/>
          </a:prstGeom>
          <a:ln w="0">
            <a:noFill/>
          </a:ln>
        </p:spPr>
      </p:pic>
      <p:pic>
        <p:nvPicPr>
          <p:cNvPr id="288" name="Овал 14" descr=""/>
          <p:cNvPicPr/>
          <p:nvPr/>
        </p:nvPicPr>
        <p:blipFill>
          <a:blip r:embed="rId3"/>
          <a:stretch/>
        </p:blipFill>
        <p:spPr>
          <a:xfrm>
            <a:off x="785880" y="5048280"/>
            <a:ext cx="2987640" cy="1187280"/>
          </a:xfrm>
          <a:prstGeom prst="rect">
            <a:avLst/>
          </a:prstGeom>
          <a:ln w="0">
            <a:noFill/>
          </a:ln>
        </p:spPr>
      </p:pic>
      <p:pic>
        <p:nvPicPr>
          <p:cNvPr id="289" name="Овал 15" descr=""/>
          <p:cNvPicPr/>
          <p:nvPr/>
        </p:nvPicPr>
        <p:blipFill>
          <a:blip r:embed="rId4"/>
          <a:stretch/>
        </p:blipFill>
        <p:spPr>
          <a:xfrm>
            <a:off x="5261040" y="1901880"/>
            <a:ext cx="2230200" cy="1116000"/>
          </a:xfrm>
          <a:prstGeom prst="rect">
            <a:avLst/>
          </a:prstGeom>
          <a:ln w="0">
            <a:noFill/>
          </a:ln>
        </p:spPr>
      </p:pic>
      <p:pic>
        <p:nvPicPr>
          <p:cNvPr id="290" name="Овал 16" descr=""/>
          <p:cNvPicPr/>
          <p:nvPr/>
        </p:nvPicPr>
        <p:blipFill>
          <a:blip r:embed="rId5"/>
          <a:stretch/>
        </p:blipFill>
        <p:spPr>
          <a:xfrm>
            <a:off x="5132520" y="3286080"/>
            <a:ext cx="2732040" cy="1189080"/>
          </a:xfrm>
          <a:prstGeom prst="rect">
            <a:avLst/>
          </a:prstGeom>
          <a:ln w="0">
            <a:noFill/>
          </a:ln>
        </p:spPr>
      </p:pic>
      <p:pic>
        <p:nvPicPr>
          <p:cNvPr id="291" name="Овал 17" descr=""/>
          <p:cNvPicPr/>
          <p:nvPr/>
        </p:nvPicPr>
        <p:blipFill>
          <a:blip r:embed="rId6"/>
          <a:stretch/>
        </p:blipFill>
        <p:spPr>
          <a:xfrm>
            <a:off x="4773600" y="4694400"/>
            <a:ext cx="391968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71424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200" spc="-1" strike="noStrike">
                <a:solidFill>
                  <a:srgbClr val="404040"/>
                </a:solidFill>
                <a:latin typeface="Trebuchet MS"/>
              </a:rPr>
              <a:t>лес, лесник, лесной, лесовик</a:t>
            </a:r>
            <a:endParaRPr b="0" lang="en-US" sz="4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3" name="Arc 4"/>
          <p:cNvSpPr/>
          <p:nvPr/>
        </p:nvSpPr>
        <p:spPr>
          <a:xfrm flipV="1" rot="13856400">
            <a:off x="2244240" y="3561480"/>
            <a:ext cx="701640" cy="558720"/>
          </a:xfrm>
          <a:custGeom>
            <a:avLst/>
            <a:gdLst>
              <a:gd name="textAreaLeft" fmla="*/ 0 w 701640"/>
              <a:gd name="textAreaRight" fmla="*/ 702000 w 701640"/>
              <a:gd name="textAreaTop" fmla="*/ 0 h 558720"/>
              <a:gd name="textAreaBottom" fmla="*/ 558720 h 558720"/>
            </a:gdLst>
            <a:ahLst/>
            <a:rect l="textAreaLeft" t="textAreaTop" r="textAreaRight" b="textAreaBottom"/>
            <a:pathLst>
              <a:path fill="none" w="21600" h="20225">
                <a:moveTo>
                  <a:pt x="7583" y="0"/>
                </a:moveTo>
                <a:cubicBezTo>
                  <a:pt x="16014" y="3161"/>
                  <a:pt x="21600" y="11221"/>
                  <a:pt x="21600" y="20225"/>
                </a:cubicBezTo>
              </a:path>
              <a:path stroke="0" w="21600" h="20225">
                <a:moveTo>
                  <a:pt x="7583" y="0"/>
                </a:moveTo>
                <a:cubicBezTo>
                  <a:pt x="16014" y="3161"/>
                  <a:pt x="21600" y="11221"/>
                  <a:pt x="21600" y="20225"/>
                </a:cubicBezTo>
                <a:lnTo>
                  <a:pt x="0" y="20225"/>
                </a:lnTo>
                <a:lnTo>
                  <a:pt x="7583" y="0"/>
                </a:lnTo>
                <a:close/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Arc 5"/>
          <p:cNvSpPr/>
          <p:nvPr/>
        </p:nvSpPr>
        <p:spPr>
          <a:xfrm flipV="1" rot="13086600">
            <a:off x="1076040" y="3584160"/>
            <a:ext cx="449280" cy="512640"/>
          </a:xfrm>
          <a:custGeom>
            <a:avLst/>
            <a:gdLst>
              <a:gd name="textAreaLeft" fmla="*/ 0 w 449280"/>
              <a:gd name="textAreaRight" fmla="*/ 449640 w 449280"/>
              <a:gd name="textAreaTop" fmla="*/ 360 h 512640"/>
              <a:gd name="textAreaBottom" fmla="*/ 513360 h 512640"/>
            </a:gdLst>
            <a:ahLst/>
            <a:rect l="textAreaLeft" t="textAreaTop" r="textAreaRight" b="textAreaBottom"/>
            <a:pathLst>
              <a:path fill="none" w="21223" h="21600">
                <a:moveTo>
                  <a:pt x="57" y="0"/>
                </a:moveTo>
                <a:cubicBezTo>
                  <a:pt x="10416" y="27"/>
                  <a:pt x="19296" y="7405"/>
                  <a:pt x="21223" y="17582"/>
                </a:cubicBezTo>
              </a:path>
              <a:path stroke="0" w="21223" h="21600">
                <a:moveTo>
                  <a:pt x="57" y="0"/>
                </a:moveTo>
                <a:cubicBezTo>
                  <a:pt x="10416" y="27"/>
                  <a:pt x="19296" y="7405"/>
                  <a:pt x="21223" y="17582"/>
                </a:cubicBezTo>
                <a:lnTo>
                  <a:pt x="0" y="21600"/>
                </a:lnTo>
                <a:lnTo>
                  <a:pt x="57" y="0"/>
                </a:lnTo>
                <a:close/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Arc 6"/>
          <p:cNvSpPr/>
          <p:nvPr/>
        </p:nvSpPr>
        <p:spPr>
          <a:xfrm flipV="1" rot="13086600">
            <a:off x="4312080" y="3626640"/>
            <a:ext cx="575280" cy="428760"/>
          </a:xfrm>
          <a:custGeom>
            <a:avLst/>
            <a:gdLst>
              <a:gd name="textAreaLeft" fmla="*/ 0 w 575280"/>
              <a:gd name="textAreaRight" fmla="*/ 575640 w 575280"/>
              <a:gd name="textAreaTop" fmla="*/ -360 h 428760"/>
              <a:gd name="textAreaBottom" fmla="*/ 428760 h 428760"/>
            </a:gdLst>
            <a:ahLst/>
            <a:rect l="textAreaLeft" t="textAreaTop" r="textAreaRight" b="textAreaBottom"/>
            <a:pathLst>
              <a:path fill="none" w="21600" h="21415">
                <a:moveTo>
                  <a:pt x="2820" y="0"/>
                </a:moveTo>
                <a:cubicBezTo>
                  <a:pt x="13567" y="1415"/>
                  <a:pt x="21600" y="10576"/>
                  <a:pt x="21600" y="21415"/>
                </a:cubicBezTo>
              </a:path>
              <a:path stroke="0" w="21600" h="21415">
                <a:moveTo>
                  <a:pt x="2820" y="0"/>
                </a:moveTo>
                <a:cubicBezTo>
                  <a:pt x="13567" y="1415"/>
                  <a:pt x="21600" y="10576"/>
                  <a:pt x="21600" y="21415"/>
                </a:cubicBezTo>
                <a:lnTo>
                  <a:pt x="0" y="21415"/>
                </a:lnTo>
                <a:lnTo>
                  <a:pt x="2820" y="0"/>
                </a:lnTo>
                <a:close/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Arc 7"/>
          <p:cNvSpPr/>
          <p:nvPr/>
        </p:nvSpPr>
        <p:spPr>
          <a:xfrm flipV="1" rot="13086600">
            <a:off x="6471720" y="3603600"/>
            <a:ext cx="501840" cy="422280"/>
          </a:xfrm>
          <a:custGeom>
            <a:avLst/>
            <a:gdLst>
              <a:gd name="textAreaLeft" fmla="*/ 0 w 501840"/>
              <a:gd name="textAreaRight" fmla="*/ 502200 w 501840"/>
              <a:gd name="textAreaTop" fmla="*/ -360 h 422280"/>
              <a:gd name="textAreaBottom" fmla="*/ 422280 h 422280"/>
            </a:gdLst>
            <a:ahLst/>
            <a:rect l="textAreaLeft" t="textAreaTop" r="textAreaRight" b="textAreaBottom"/>
            <a:pathLst>
              <a:path fill="none" w="21600" h="21600">
                <a:moveTo>
                  <a:pt x="97" y="0"/>
                </a:moveTo>
                <a:cubicBezTo>
                  <a:pt x="11988" y="54"/>
                  <a:pt x="21600" y="9708"/>
                  <a:pt x="21600" y="21600"/>
                </a:cubicBezTo>
              </a:path>
              <a:path stroke="0" w="21600" h="21600">
                <a:moveTo>
                  <a:pt x="97" y="0"/>
                </a:moveTo>
                <a:cubicBezTo>
                  <a:pt x="11988" y="54"/>
                  <a:pt x="21600" y="9708"/>
                  <a:pt x="21600" y="21600"/>
                </a:cubicBezTo>
                <a:lnTo>
                  <a:pt x="0" y="21600"/>
                </a:lnTo>
                <a:lnTo>
                  <a:pt x="97" y="0"/>
                </a:lnTo>
                <a:close/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AutoShape 9"/>
          <p:cNvSpPr/>
          <p:nvPr/>
        </p:nvSpPr>
        <p:spPr>
          <a:xfrm>
            <a:off x="714240" y="500040"/>
            <a:ext cx="7777440" cy="252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181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, имеющие общую часть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ая хранит их общий смысл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ются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РОДСТВЕННЫМ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Прямоугольник 1"/>
          <p:cNvSpPr/>
          <p:nvPr/>
        </p:nvSpPr>
        <p:spPr>
          <a:xfrm>
            <a:off x="755640" y="549360"/>
            <a:ext cx="64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200"/>
                </a:solidFill>
                <a:latin typeface="Propisi"/>
              </a:rPr>
              <a:t>Отгадай загадку, запиши отгадку</a:t>
            </a:r>
            <a:r>
              <a:rPr b="1" lang="ru-RU" sz="2800" spc="-1" strike="noStrike">
                <a:solidFill>
                  <a:srgbClr val="757575"/>
                </a:solidFill>
                <a:latin typeface="Propisi"/>
              </a:rPr>
              <a:t>:</a:t>
            </a:r>
            <a:r>
              <a:rPr b="1" lang="ru-RU" sz="2800" spc="-1" strike="noStrike">
                <a:solidFill>
                  <a:srgbClr val="757575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Прямоугольник 2"/>
          <p:cNvSpPr/>
          <p:nvPr/>
        </p:nvSpPr>
        <p:spPr>
          <a:xfrm>
            <a:off x="755640" y="1700280"/>
            <a:ext cx="62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на девица сидит в темнице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коса на улиц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4" descr="Картинки по запросу морковь"/>
          <p:cNvPicPr/>
          <p:nvPr/>
        </p:nvPicPr>
        <p:blipFill>
          <a:blip r:embed="rId1"/>
          <a:stretch/>
        </p:blipFill>
        <p:spPr>
          <a:xfrm>
            <a:off x="2484360" y="2852640"/>
            <a:ext cx="4413240" cy="34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714240" y="57132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rebuchet MS"/>
              </a:rPr>
              <a:t>КОРЕНЬ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слова- значимая часть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Над словами родственными держит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власть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99" name="Picture 8" descr=""/>
          <p:cNvPicPr/>
          <p:nvPr/>
        </p:nvPicPr>
        <p:blipFill>
          <a:blip r:embed="rId1"/>
          <a:stretch/>
        </p:blipFill>
        <p:spPr>
          <a:xfrm>
            <a:off x="2987640" y="2781360"/>
            <a:ext cx="3672000" cy="35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35160" y="11016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90c226"/>
                </a:solidFill>
                <a:latin typeface="Trebuchet MS"/>
              </a:rPr>
              <a:t>лес       лесной</a:t>
            </a: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90c226"/>
                </a:solidFill>
                <a:latin typeface="Trebuchet MS"/>
              </a:rPr>
              <a:t>лесник </a:t>
            </a: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90c226"/>
                </a:solidFill>
                <a:latin typeface="Trebuchet MS"/>
              </a:rPr>
              <a:t>лесок      лесничий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1" name="Прямоугольник 3"/>
          <p:cNvSpPr/>
          <p:nvPr/>
        </p:nvSpPr>
        <p:spPr>
          <a:xfrm>
            <a:off x="5361120" y="1177920"/>
            <a:ext cx="936360" cy="738360"/>
          </a:xfrm>
          <a:prstGeom prst="rect">
            <a:avLst/>
          </a:prstGeom>
          <a:noFill/>
          <a:ln cap="rnd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Прямоугольник 4"/>
          <p:cNvSpPr/>
          <p:nvPr/>
        </p:nvSpPr>
        <p:spPr>
          <a:xfrm>
            <a:off x="6645240" y="4638600"/>
            <a:ext cx="936720" cy="505080"/>
          </a:xfrm>
          <a:prstGeom prst="rect">
            <a:avLst/>
          </a:prstGeom>
          <a:noFill/>
          <a:ln cap="rnd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Прямоугольник 5"/>
          <p:cNvSpPr/>
          <p:nvPr/>
        </p:nvSpPr>
        <p:spPr>
          <a:xfrm>
            <a:off x="2658960" y="1371600"/>
            <a:ext cx="576360" cy="504720"/>
          </a:xfrm>
          <a:prstGeom prst="rect">
            <a:avLst/>
          </a:prstGeom>
          <a:noFill/>
          <a:ln cap="rnd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Прямоугольник 6"/>
          <p:cNvSpPr/>
          <p:nvPr/>
        </p:nvSpPr>
        <p:spPr>
          <a:xfrm>
            <a:off x="3603600" y="2938320"/>
            <a:ext cx="576360" cy="505080"/>
          </a:xfrm>
          <a:prstGeom prst="rect">
            <a:avLst/>
          </a:prstGeom>
          <a:noFill/>
          <a:ln cap="rnd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3213000" y="4614840"/>
            <a:ext cx="576360" cy="503280"/>
          </a:xfrm>
          <a:prstGeom prst="rect">
            <a:avLst/>
          </a:prstGeom>
          <a:noFill/>
          <a:ln cap="rnd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Левая круглая скобка 8"/>
          <p:cNvSpPr/>
          <p:nvPr/>
        </p:nvSpPr>
        <p:spPr>
          <a:xfrm rot="16200000">
            <a:off x="4554360" y="1001160"/>
            <a:ext cx="95400" cy="1749600"/>
          </a:xfrm>
          <a:custGeom>
            <a:avLst/>
            <a:gdLst>
              <a:gd name="textAreaLeft" fmla="*/ 28080 w 95400"/>
              <a:gd name="textAreaRight" fmla="*/ 95760 w 95400"/>
              <a:gd name="textAreaTop" fmla="*/ 3960 h 1749600"/>
              <a:gd name="textAreaBottom" fmla="*/ 1745640 h 174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9"/>
                  <a:pt x="0" y="98"/>
                </a:cubicBezTo>
                <a:lnTo>
                  <a:pt x="0" y="21502"/>
                </a:lnTo>
                <a:cubicBezTo>
                  <a:pt x="0" y="21551"/>
                  <a:pt x="10800" y="21600"/>
                  <a:pt x="21600" y="21600"/>
                </a:cubicBezTo>
              </a:path>
            </a:pathLst>
          </a:custGeom>
          <a:noFill/>
          <a:ln cap="rnd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Левая круглая скобка 9"/>
          <p:cNvSpPr/>
          <p:nvPr/>
        </p:nvSpPr>
        <p:spPr>
          <a:xfrm rot="16200000">
            <a:off x="5495040" y="4078800"/>
            <a:ext cx="46080" cy="2158920"/>
          </a:xfrm>
          <a:custGeom>
            <a:avLst/>
            <a:gdLst>
              <a:gd name="textAreaLeft" fmla="*/ 13320 w 46080"/>
              <a:gd name="textAreaRight" fmla="*/ 46440 w 46080"/>
              <a:gd name="textAreaTop" fmla="*/ 1800 h 2158920"/>
              <a:gd name="textAreaBottom" fmla="*/ 2157120 h 215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9"/>
                  <a:pt x="0" y="38"/>
                </a:cubicBezTo>
                <a:lnTo>
                  <a:pt x="0" y="21562"/>
                </a:lnTo>
                <a:cubicBezTo>
                  <a:pt x="0" y="21581"/>
                  <a:pt x="10800" y="21600"/>
                  <a:pt x="21600" y="21600"/>
                </a:cubicBezTo>
              </a:path>
            </a:pathLst>
          </a:custGeom>
          <a:noFill/>
          <a:ln cap="rnd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Левая круглая скобка 10"/>
          <p:cNvSpPr/>
          <p:nvPr/>
        </p:nvSpPr>
        <p:spPr>
          <a:xfrm rot="16200000">
            <a:off x="1950120" y="2881800"/>
            <a:ext cx="50760" cy="1350720"/>
          </a:xfrm>
          <a:custGeom>
            <a:avLst/>
            <a:gdLst>
              <a:gd name="textAreaLeft" fmla="*/ 14760 w 50760"/>
              <a:gd name="textAreaRight" fmla="*/ 51120 w 50760"/>
              <a:gd name="textAreaTop" fmla="*/ 1800 h 1350720"/>
              <a:gd name="textAreaBottom" fmla="*/ 1348920 h 135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4"/>
                  <a:pt x="0" y="68"/>
                </a:cubicBezTo>
                <a:lnTo>
                  <a:pt x="0" y="21532"/>
                </a:lnTo>
                <a:cubicBezTo>
                  <a:pt x="0" y="21566"/>
                  <a:pt x="10800" y="21600"/>
                  <a:pt x="21600" y="21600"/>
                </a:cubicBezTo>
              </a:path>
            </a:pathLst>
          </a:custGeom>
          <a:noFill/>
          <a:ln cap="rnd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Левая круглая скобка 11"/>
          <p:cNvSpPr/>
          <p:nvPr/>
        </p:nvSpPr>
        <p:spPr>
          <a:xfrm rot="16200000">
            <a:off x="1817640" y="4518000"/>
            <a:ext cx="117360" cy="1368360"/>
          </a:xfrm>
          <a:custGeom>
            <a:avLst/>
            <a:gdLst>
              <a:gd name="textAreaLeft" fmla="*/ 34560 w 117360"/>
              <a:gd name="textAreaRight" fmla="*/ 117720 w 117360"/>
              <a:gd name="textAreaTop" fmla="*/ 4680 h 1368360"/>
              <a:gd name="textAreaBottom" fmla="*/ 136368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78"/>
                  <a:pt x="0" y="155"/>
                </a:cubicBezTo>
                <a:lnTo>
                  <a:pt x="0" y="21445"/>
                </a:lnTo>
                <a:cubicBezTo>
                  <a:pt x="0" y="21523"/>
                  <a:pt x="10800" y="21600"/>
                  <a:pt x="21600" y="21600"/>
                </a:cubicBezTo>
              </a:path>
            </a:pathLst>
          </a:custGeom>
          <a:noFill/>
          <a:ln cap="rnd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Левая круглая скобка 12"/>
          <p:cNvSpPr/>
          <p:nvPr/>
        </p:nvSpPr>
        <p:spPr>
          <a:xfrm rot="16200000">
            <a:off x="1903320" y="1207800"/>
            <a:ext cx="144360" cy="1150920"/>
          </a:xfrm>
          <a:custGeom>
            <a:avLst/>
            <a:gdLst>
              <a:gd name="textAreaLeft" fmla="*/ 42480 w 144360"/>
              <a:gd name="textAreaRight" fmla="*/ 144360 w 144360"/>
              <a:gd name="textAreaTop" fmla="*/ 5760 h 1150920"/>
              <a:gd name="textAreaBottom" fmla="*/ 114516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13"/>
                  <a:pt x="0" y="226"/>
                </a:cubicBezTo>
                <a:lnTo>
                  <a:pt x="0" y="21374"/>
                </a:lnTo>
                <a:cubicBezTo>
                  <a:pt x="0" y="21487"/>
                  <a:pt x="10800" y="21600"/>
                  <a:pt x="21600" y="21600"/>
                </a:cubicBezTo>
              </a:path>
            </a:pathLst>
          </a:custGeom>
          <a:noFill/>
          <a:ln cap="rnd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Дуга 13"/>
          <p:cNvSpPr/>
          <p:nvPr/>
        </p:nvSpPr>
        <p:spPr>
          <a:xfrm rot="17157000">
            <a:off x="4650840" y="4244760"/>
            <a:ext cx="816120" cy="1190520"/>
          </a:xfrm>
          <a:custGeom>
            <a:avLst/>
            <a:gdLst/>
            <a:ahLst/>
            <a:rect l="l" t="t" r="r" b="b"/>
            <a:pathLst>
              <a:path stroke="0" w="815975" h="1190625">
                <a:moveTo>
                  <a:pt x="316536" y="15148"/>
                </a:moveTo>
                <a:cubicBezTo>
                  <a:pt x="537955" y="-59162"/>
                  <a:pt x="758319" y="144767"/>
                  <a:pt x="806641" y="468700"/>
                </a:cubicBezTo>
                <a:cubicBezTo>
                  <a:pt x="841189" y="700296"/>
                  <a:pt x="778291" y="939731"/>
                  <a:pt x="646504" y="1078296"/>
                </a:cubicBezTo>
                <a:lnTo>
                  <a:pt x="407988" y="595313"/>
                </a:lnTo>
                <a:lnTo>
                  <a:pt x="316536" y="15148"/>
                </a:lnTo>
                <a:close/>
              </a:path>
              <a:path fill="none" w="815975" h="1190625">
                <a:moveTo>
                  <a:pt x="316536" y="15148"/>
                </a:moveTo>
                <a:cubicBezTo>
                  <a:pt x="537955" y="-59162"/>
                  <a:pt x="758319" y="144767"/>
                  <a:pt x="806641" y="468700"/>
                </a:cubicBezTo>
                <a:cubicBezTo>
                  <a:pt x="841189" y="700296"/>
                  <a:pt x="778291" y="939731"/>
                  <a:pt x="646504" y="1078296"/>
                </a:cubicBezTo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Дуга 14"/>
          <p:cNvSpPr/>
          <p:nvPr/>
        </p:nvSpPr>
        <p:spPr>
          <a:xfrm rot="17157000">
            <a:off x="4022280" y="955440"/>
            <a:ext cx="816120" cy="1190520"/>
          </a:xfrm>
          <a:custGeom>
            <a:avLst/>
            <a:gdLst/>
            <a:ahLst/>
            <a:rect l="l" t="t" r="r" b="b"/>
            <a:pathLst>
              <a:path stroke="0" w="815975" h="1190625">
                <a:moveTo>
                  <a:pt x="316536" y="15148"/>
                </a:moveTo>
                <a:cubicBezTo>
                  <a:pt x="537955" y="-59162"/>
                  <a:pt x="758319" y="144767"/>
                  <a:pt x="806641" y="468700"/>
                </a:cubicBezTo>
                <a:cubicBezTo>
                  <a:pt x="841189" y="700296"/>
                  <a:pt x="778291" y="939731"/>
                  <a:pt x="646504" y="1078296"/>
                </a:cubicBezTo>
                <a:lnTo>
                  <a:pt x="407988" y="595313"/>
                </a:lnTo>
                <a:lnTo>
                  <a:pt x="316536" y="15148"/>
                </a:lnTo>
                <a:close/>
              </a:path>
              <a:path fill="none" w="815975" h="1190625">
                <a:moveTo>
                  <a:pt x="316536" y="15148"/>
                </a:moveTo>
                <a:cubicBezTo>
                  <a:pt x="537955" y="-59162"/>
                  <a:pt x="758319" y="144767"/>
                  <a:pt x="806641" y="468700"/>
                </a:cubicBezTo>
                <a:cubicBezTo>
                  <a:pt x="841189" y="700296"/>
                  <a:pt x="778291" y="939731"/>
                  <a:pt x="646504" y="1078296"/>
                </a:cubicBezTo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Дуга 15"/>
          <p:cNvSpPr/>
          <p:nvPr/>
        </p:nvSpPr>
        <p:spPr>
          <a:xfrm rot="17157000">
            <a:off x="1547280" y="2361960"/>
            <a:ext cx="816120" cy="1190520"/>
          </a:xfrm>
          <a:custGeom>
            <a:avLst/>
            <a:gdLst/>
            <a:ahLst/>
            <a:rect l="l" t="t" r="r" b="b"/>
            <a:pathLst>
              <a:path stroke="0" w="815975" h="1190625">
                <a:moveTo>
                  <a:pt x="316536" y="15148"/>
                </a:moveTo>
                <a:cubicBezTo>
                  <a:pt x="537955" y="-59162"/>
                  <a:pt x="758319" y="144767"/>
                  <a:pt x="806641" y="468700"/>
                </a:cubicBezTo>
                <a:cubicBezTo>
                  <a:pt x="841189" y="700296"/>
                  <a:pt x="778291" y="939731"/>
                  <a:pt x="646504" y="1078296"/>
                </a:cubicBezTo>
                <a:lnTo>
                  <a:pt x="407988" y="595313"/>
                </a:lnTo>
                <a:lnTo>
                  <a:pt x="316536" y="15148"/>
                </a:lnTo>
                <a:close/>
              </a:path>
              <a:path fill="none" w="815975" h="1190625">
                <a:moveTo>
                  <a:pt x="316536" y="15148"/>
                </a:moveTo>
                <a:cubicBezTo>
                  <a:pt x="537955" y="-59162"/>
                  <a:pt x="758319" y="144767"/>
                  <a:pt x="806641" y="468700"/>
                </a:cubicBezTo>
                <a:cubicBezTo>
                  <a:pt x="841189" y="700296"/>
                  <a:pt x="778291" y="939731"/>
                  <a:pt x="646504" y="1078296"/>
                </a:cubicBezTo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Дуга 16"/>
          <p:cNvSpPr/>
          <p:nvPr/>
        </p:nvSpPr>
        <p:spPr>
          <a:xfrm rot="17157000">
            <a:off x="1577520" y="4370040"/>
            <a:ext cx="816120" cy="1190520"/>
          </a:xfrm>
          <a:custGeom>
            <a:avLst/>
            <a:gdLst/>
            <a:ahLst/>
            <a:rect l="l" t="t" r="r" b="b"/>
            <a:pathLst>
              <a:path stroke="0" w="815975" h="1190625">
                <a:moveTo>
                  <a:pt x="316536" y="15148"/>
                </a:moveTo>
                <a:cubicBezTo>
                  <a:pt x="537955" y="-59162"/>
                  <a:pt x="758319" y="144767"/>
                  <a:pt x="806641" y="468700"/>
                </a:cubicBezTo>
                <a:cubicBezTo>
                  <a:pt x="841189" y="700296"/>
                  <a:pt x="778291" y="939731"/>
                  <a:pt x="646504" y="1078296"/>
                </a:cubicBezTo>
                <a:lnTo>
                  <a:pt x="407988" y="595313"/>
                </a:lnTo>
                <a:lnTo>
                  <a:pt x="316536" y="15148"/>
                </a:lnTo>
                <a:close/>
              </a:path>
              <a:path fill="none" w="815975" h="1190625">
                <a:moveTo>
                  <a:pt x="316536" y="15148"/>
                </a:moveTo>
                <a:cubicBezTo>
                  <a:pt x="537955" y="-59162"/>
                  <a:pt x="758319" y="144767"/>
                  <a:pt x="806641" y="468700"/>
                </a:cubicBezTo>
                <a:cubicBezTo>
                  <a:pt x="841189" y="700296"/>
                  <a:pt x="778291" y="939731"/>
                  <a:pt x="646504" y="1078296"/>
                </a:cubicBezTo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Дуга 17"/>
          <p:cNvSpPr/>
          <p:nvPr/>
        </p:nvSpPr>
        <p:spPr>
          <a:xfrm rot="17157000">
            <a:off x="1548360" y="956160"/>
            <a:ext cx="816120" cy="1188720"/>
          </a:xfrm>
          <a:custGeom>
            <a:avLst/>
            <a:gdLst/>
            <a:ahLst/>
            <a:rect l="l" t="t" r="r" b="b"/>
            <a:pathLst>
              <a:path stroke="0" w="815975" h="1189038">
                <a:moveTo>
                  <a:pt x="316652" y="15089"/>
                </a:moveTo>
                <a:cubicBezTo>
                  <a:pt x="537997" y="-58998"/>
                  <a:pt x="758253" y="144561"/>
                  <a:pt x="806617" y="467913"/>
                </a:cubicBezTo>
                <a:cubicBezTo>
                  <a:pt x="841237" y="699378"/>
                  <a:pt x="778251" y="938703"/>
                  <a:pt x="646295" y="1077077"/>
                </a:cubicBezTo>
                <a:lnTo>
                  <a:pt x="407988" y="594519"/>
                </a:lnTo>
                <a:lnTo>
                  <a:pt x="316652" y="15089"/>
                </a:lnTo>
                <a:close/>
              </a:path>
              <a:path fill="none" w="815975" h="1189038">
                <a:moveTo>
                  <a:pt x="316652" y="15089"/>
                </a:moveTo>
                <a:cubicBezTo>
                  <a:pt x="537997" y="-58998"/>
                  <a:pt x="758253" y="144561"/>
                  <a:pt x="806617" y="467913"/>
                </a:cubicBezTo>
                <a:cubicBezTo>
                  <a:pt x="841237" y="699378"/>
                  <a:pt x="778251" y="938703"/>
                  <a:pt x="646295" y="1077077"/>
                </a:cubicBezTo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47280" y="4723920"/>
            <a:ext cx="634716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1896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4200"/>
                </a:solidFill>
                <a:latin typeface="Trebuchet MS"/>
              </a:rPr>
              <a:t>Работа с учебником с. 78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17" name="Picture 8" descr="http://www.ukazka.ru/img/b/uk1146445.jpg"/>
          <p:cNvPicPr/>
          <p:nvPr/>
        </p:nvPicPr>
        <p:blipFill>
          <a:blip r:embed="rId1"/>
          <a:stretch/>
        </p:blipFill>
        <p:spPr>
          <a:xfrm>
            <a:off x="755640" y="260280"/>
            <a:ext cx="271476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Рисунок 4" descr="Безымянный.jpg"/>
          <p:cNvPicPr/>
          <p:nvPr/>
        </p:nvPicPr>
        <p:blipFill>
          <a:blip r:embed="rId1"/>
          <a:stretch/>
        </p:blipFill>
        <p:spPr>
          <a:xfrm>
            <a:off x="5310360" y="0"/>
            <a:ext cx="3833640" cy="4118040"/>
          </a:xfrm>
          <a:prstGeom prst="rect">
            <a:avLst/>
          </a:prstGeom>
          <a:ln w="0">
            <a:noFill/>
          </a:ln>
        </p:spPr>
      </p:pic>
      <p:sp>
        <p:nvSpPr>
          <p:cNvPr id="319" name="Круглая лента лицом вверх 23"/>
          <p:cNvSpPr/>
          <p:nvPr/>
        </p:nvSpPr>
        <p:spPr>
          <a:xfrm>
            <a:off x="324000" y="189000"/>
            <a:ext cx="5327640" cy="431640"/>
          </a:xfrm>
          <a:custGeom>
            <a:avLst/>
            <a:gdLst>
              <a:gd name="textAreaLeft" fmla="*/ 1303560 w 5327640"/>
              <a:gd name="textAreaRight" fmla="*/ 4024080 w 5327640"/>
              <a:gd name="textAreaTop" fmla="*/ 23040 h 431640"/>
              <a:gd name="textAreaBottom" fmla="*/ 22536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323"/>
                </a:moveTo>
                <a:arcTo wR="21600" hR="34969" stAng="-6577634" swAng="621884"/>
                <a:lnTo>
                  <a:pt x="5286" y="1159"/>
                </a:lnTo>
                <a:arcTo wR="21600" hR="34969" stAng="-5955750" swAng="1111500"/>
                <a:lnTo>
                  <a:pt x="16314" y="6797"/>
                </a:lnTo>
                <a:arcTo wR="21600" hR="34969" stAng="-4844250" swAng="621884"/>
                <a:lnTo>
                  <a:pt x="18900" y="13828"/>
                </a:lnTo>
                <a:lnTo>
                  <a:pt x="21600" y="21600"/>
                </a:lnTo>
                <a:lnTo>
                  <a:pt x="21600" y="21600"/>
                </a:lnTo>
                <a:arcTo wR="21600" hR="34969" stAng="-4222366" swAng="-899229"/>
                <a:lnTo>
                  <a:pt x="13614" y="11575"/>
                </a:lnTo>
                <a:arcTo wR="21600" hR="34969" stAng="-5121595" swAng="-556809"/>
                <a:lnTo>
                  <a:pt x="7986" y="17213"/>
                </a:lnTo>
                <a:arcTo wR="21600" hR="34969" stAng="-5678405" swAng="-899229"/>
                <a:lnTo>
                  <a:pt x="2700" y="13828"/>
                </a:lnTo>
                <a:close/>
              </a:path>
              <a:path fill="none" w="21600" h="21600">
                <a:moveTo>
                  <a:pt x="7986" y="11575"/>
                </a:moveTo>
                <a:arcTo wR="21600" hR="34969" stAng="-5678405" swAng="-277345"/>
                <a:lnTo>
                  <a:pt x="7986" y="17213"/>
                </a:lnTo>
              </a:path>
              <a:path fill="none" w="21600" h="21600">
                <a:moveTo>
                  <a:pt x="13614" y="11575"/>
                </a:moveTo>
                <a:arcTo wR="21600" hR="34969" stAng="-5121595" swAng="277345"/>
                <a:lnTo>
                  <a:pt x="13614" y="17213"/>
                </a:lnTo>
              </a:path>
              <a:path fill="none" w="21600" h="21600">
                <a:moveTo>
                  <a:pt x="5286" y="6797"/>
                </a:moveTo>
                <a:lnTo>
                  <a:pt x="5286" y="12436"/>
                </a:lnTo>
              </a:path>
              <a:path fill="none" w="21600" h="21600">
                <a:moveTo>
                  <a:pt x="16314" y="6797"/>
                </a:moveTo>
                <a:lnTo>
                  <a:pt x="16314" y="12436"/>
                </a:lnTo>
              </a:path>
            </a:pathLst>
          </a:custGeom>
          <a:solidFill>
            <a:srgbClr val="54a021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Круглая лента лицом вверх 24"/>
          <p:cNvSpPr/>
          <p:nvPr/>
        </p:nvSpPr>
        <p:spPr>
          <a:xfrm rot="5400000">
            <a:off x="7428960" y="5143320"/>
            <a:ext cx="3000240" cy="428760"/>
          </a:xfrm>
          <a:custGeom>
            <a:avLst/>
            <a:gdLst>
              <a:gd name="textAreaLeft" fmla="*/ 749880 w 3000240"/>
              <a:gd name="textAreaRight" fmla="*/ 2250360 w 3000240"/>
              <a:gd name="textAreaTop" fmla="*/ 12600 h 428760"/>
              <a:gd name="textAreaBottom" fmla="*/ 2318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9917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7857"/>
                </a:lnTo>
                <a:arcTo wR="21600" hR="20153" stAng="-4471878" swAng="976834"/>
                <a:lnTo>
                  <a:pt x="18900" y="14529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1841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4529"/>
                </a:lnTo>
                <a:close/>
              </a:path>
              <a:path fill="none" w="21600" h="21600">
                <a:moveTo>
                  <a:pt x="8100" y="11841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1841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7857"/>
                </a:moveTo>
                <a:lnTo>
                  <a:pt x="5400" y="12323"/>
                </a:lnTo>
              </a:path>
              <a:path fill="none" w="21600" h="21600">
                <a:moveTo>
                  <a:pt x="16200" y="7857"/>
                </a:moveTo>
                <a:lnTo>
                  <a:pt x="16200" y="12323"/>
                </a:lnTo>
              </a:path>
            </a:pathLst>
          </a:custGeom>
          <a:solidFill>
            <a:srgbClr val="54a021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Box 8"/>
          <p:cNvSpPr/>
          <p:nvPr/>
        </p:nvSpPr>
        <p:spPr>
          <a:xfrm>
            <a:off x="642960" y="714240"/>
            <a:ext cx="6357960" cy="503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ИЗМЕНИТЬ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 слов-названий предметов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Й способ: с помощью слов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, НЕТ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(что?) пенал. Нет (чего?) пенал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Й способ: с помощью слов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на, оно) –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он) пенал – (они) пеналы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Заголовок 1"/>
          <p:cNvSpPr/>
          <p:nvPr/>
        </p:nvSpPr>
        <p:spPr>
          <a:xfrm>
            <a:off x="1547640" y="4869000"/>
            <a:ext cx="63471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Прямоугольник 3"/>
          <p:cNvSpPr/>
          <p:nvPr/>
        </p:nvSpPr>
        <p:spPr>
          <a:xfrm>
            <a:off x="2195640" y="5013360"/>
            <a:ext cx="51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4200"/>
                </a:solidFill>
                <a:latin typeface="Times New Roman"/>
                <a:ea typeface="Times New Roman"/>
              </a:rPr>
              <a:t>Работа с учебником с. 79 упр. №52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Picture 8" descr="http://www.ukazka.ru/img/b/uk1146445.jpg"/>
          <p:cNvPicPr/>
          <p:nvPr/>
        </p:nvPicPr>
        <p:blipFill>
          <a:blip r:embed="rId1"/>
          <a:stretch/>
        </p:blipFill>
        <p:spPr>
          <a:xfrm>
            <a:off x="1042920" y="404640"/>
            <a:ext cx="2714760" cy="37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Рисунок 3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27856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004200"/>
                </a:solidFill>
                <a:latin typeface="Trebuchet MS"/>
              </a:rPr>
              <a:t>пенал – пенал</a:t>
            </a:r>
            <a:r>
              <a:rPr b="0" lang="ru-RU" sz="4400" spc="-1" strike="noStrike">
                <a:solidFill>
                  <a:srgbClr val="ff0000"/>
                </a:solidFill>
                <a:latin typeface="Trebuchet MS"/>
              </a:rPr>
              <a:t>а</a:t>
            </a:r>
            <a:br>
              <a:rPr sz="4400"/>
            </a:br>
            <a:r>
              <a:rPr b="0" lang="ru-RU" sz="4400" spc="-1" strike="noStrike">
                <a:solidFill>
                  <a:srgbClr val="004200"/>
                </a:solidFill>
                <a:latin typeface="Trebuchet MS"/>
              </a:rPr>
              <a:t>пенал - пенал</a:t>
            </a:r>
            <a:r>
              <a:rPr b="0" lang="ru-RU" sz="4400" spc="-1" strike="noStrike">
                <a:solidFill>
                  <a:srgbClr val="ff0000"/>
                </a:solidFill>
                <a:latin typeface="Trebuchet MS"/>
              </a:rPr>
              <a:t>ы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7" name="Заголовок 1"/>
          <p:cNvSpPr/>
          <p:nvPr/>
        </p:nvSpPr>
        <p:spPr>
          <a:xfrm>
            <a:off x="2771640" y="2708280"/>
            <a:ext cx="52437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004200"/>
                </a:solidFill>
                <a:latin typeface="Trebuchet MS"/>
                <a:ea typeface="Times New Roman"/>
              </a:rPr>
              <a:t>линейк</a:t>
            </a:r>
            <a:r>
              <a:rPr b="0" lang="ru-RU" sz="44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а</a:t>
            </a:r>
            <a:r>
              <a:rPr b="0" lang="ru-RU" sz="4400" spc="-1" strike="noStrike">
                <a:solidFill>
                  <a:srgbClr val="004200"/>
                </a:solidFill>
                <a:latin typeface="Trebuchet MS"/>
                <a:ea typeface="Times New Roman"/>
              </a:rPr>
              <a:t> –линейк</a:t>
            </a:r>
            <a:r>
              <a:rPr b="0" lang="ru-RU" sz="44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и</a:t>
            </a:r>
            <a:br>
              <a:rPr sz="4400"/>
            </a:br>
            <a:r>
              <a:rPr b="0" lang="ru-RU" sz="4400" spc="-1" strike="noStrike">
                <a:solidFill>
                  <a:srgbClr val="004200"/>
                </a:solidFill>
                <a:latin typeface="Trebuchet MS"/>
                <a:ea typeface="Times New Roman"/>
              </a:rPr>
              <a:t>линейк</a:t>
            </a:r>
            <a:r>
              <a:rPr b="0" lang="ru-RU" sz="44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а</a:t>
            </a:r>
            <a:r>
              <a:rPr b="0" lang="ru-RU" sz="4400" spc="-1" strike="noStrike">
                <a:solidFill>
                  <a:srgbClr val="004200"/>
                </a:solidFill>
                <a:latin typeface="Trebuchet MS"/>
                <a:ea typeface="Times New Roman"/>
              </a:rPr>
              <a:t> - линейк</a:t>
            </a:r>
            <a:r>
              <a:rPr b="0" lang="ru-RU" sz="44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Заголовок 1"/>
          <p:cNvSpPr/>
          <p:nvPr/>
        </p:nvSpPr>
        <p:spPr>
          <a:xfrm>
            <a:off x="755640" y="4365720"/>
            <a:ext cx="634860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004200"/>
                </a:solidFill>
                <a:latin typeface="Trebuchet MS"/>
                <a:ea typeface="Times New Roman"/>
              </a:rPr>
              <a:t>зерн</a:t>
            </a:r>
            <a:r>
              <a:rPr b="0" lang="ru-RU" sz="44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о</a:t>
            </a:r>
            <a:r>
              <a:rPr b="0" lang="ru-RU" sz="4400" spc="-1" strike="noStrike">
                <a:solidFill>
                  <a:srgbClr val="004200"/>
                </a:solidFill>
                <a:latin typeface="Trebuchet MS"/>
                <a:ea typeface="Times New Roman"/>
              </a:rPr>
              <a:t> - зерн</a:t>
            </a:r>
            <a:r>
              <a:rPr b="0" lang="ru-RU" sz="44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а</a:t>
            </a:r>
            <a:br>
              <a:rPr sz="4400"/>
            </a:br>
            <a:r>
              <a:rPr b="0" lang="ru-RU" sz="4400" spc="-1" strike="noStrike">
                <a:solidFill>
                  <a:srgbClr val="004200"/>
                </a:solidFill>
                <a:latin typeface="Trebuchet MS"/>
                <a:ea typeface="Times New Roman"/>
              </a:rPr>
              <a:t>зерн</a:t>
            </a:r>
            <a:r>
              <a:rPr b="0" lang="ru-RU" sz="44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о</a:t>
            </a:r>
            <a:r>
              <a:rPr b="0" lang="ru-RU" sz="4400" spc="-1" strike="noStrike">
                <a:solidFill>
                  <a:srgbClr val="004200"/>
                </a:solidFill>
                <a:latin typeface="Trebuchet MS"/>
                <a:ea typeface="Times New Roman"/>
              </a:rPr>
              <a:t> - зёрн</a:t>
            </a:r>
            <a:r>
              <a:rPr b="0" lang="ru-RU" sz="44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5"/>
          <p:cNvSpPr/>
          <p:nvPr/>
        </p:nvSpPr>
        <p:spPr>
          <a:xfrm>
            <a:off x="611280" y="692280"/>
            <a:ext cx="7921440" cy="25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200"/>
                </a:solidFill>
                <a:latin typeface="Times New Roman"/>
                <a:ea typeface="Times New Roman"/>
              </a:rPr>
              <a:t>Источник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4200"/>
                </a:solidFill>
                <a:latin typeface="Times New Roman"/>
                <a:ea typeface="Times New Roman"/>
              </a:rPr>
              <a:t>Учебник. Русский язык 2 класс ч.1 Чуракова Н.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4200"/>
                </a:solidFill>
                <a:latin typeface="Times New Roman"/>
                <a:ea typeface="Times New Roman"/>
              </a:rPr>
              <a:t>под ред.Каленчук М.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Box 3"/>
          <p:cNvSpPr/>
          <p:nvPr/>
        </p:nvSpPr>
        <p:spPr>
          <a:xfrm>
            <a:off x="321480" y="693720"/>
            <a:ext cx="767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4200"/>
                </a:solidFill>
                <a:latin typeface="Propisi"/>
                <a:ea typeface="Times New Roman"/>
              </a:rPr>
              <a:t>Отгадай загадку, запиши отгадку:</a:t>
            </a:r>
            <a:r>
              <a:rPr b="1" lang="ru-RU" sz="3200" spc="-1" strike="noStrike">
                <a:solidFill>
                  <a:srgbClr val="0042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TextBox 4" descr=""/>
          <p:cNvPicPr/>
          <p:nvPr/>
        </p:nvPicPr>
        <p:blipFill>
          <a:blip r:embed="rId1"/>
          <a:stretch/>
        </p:blipFill>
        <p:spPr>
          <a:xfrm>
            <a:off x="738360" y="1773360"/>
            <a:ext cx="4967280" cy="18176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http://img-fotki.yandex.ru/get/9303/16969765.1c9/0_893ef_33bc0e9f_orig.png"/>
          <p:cNvPicPr/>
          <p:nvPr/>
        </p:nvPicPr>
        <p:blipFill>
          <a:blip r:embed="rId2"/>
          <a:stretch/>
        </p:blipFill>
        <p:spPr>
          <a:xfrm>
            <a:off x="3265560" y="2513160"/>
            <a:ext cx="4751280" cy="2876400"/>
          </a:xfrm>
          <a:prstGeom prst="rect">
            <a:avLst/>
          </a:prstGeom>
          <a:ln w="0">
            <a:noFill/>
          </a:ln>
        </p:spPr>
      </p:pic>
      <p:sp>
        <p:nvSpPr>
          <p:cNvPr id="227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7746840" y="5516640"/>
            <a:ext cx="540000" cy="54144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41440"/>
              <a:gd name="textAreaBottom" fmla="*/ 506520 h 541440"/>
            </a:gdLst>
            <a:ahLst/>
            <a:rect l="textAreaLeft" t="textAreaTop" r="textAreaRight" b="textAreaBottom"/>
            <a:pathLst>
              <a:path w="21600" h="21658">
                <a:moveTo>
                  <a:pt x="0" y="0"/>
                </a:moveTo>
                <a:lnTo>
                  <a:pt x="21600" y="0"/>
                </a:lnTo>
                <a:lnTo>
                  <a:pt x="21600" y="21658"/>
                </a:lnTo>
                <a:lnTo>
                  <a:pt x="0" y="21658"/>
                </a:lnTo>
                <a:close/>
              </a:path>
              <a:path fill="lightenLess" w="21600" h="216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58">
                <a:moveTo>
                  <a:pt x="21600" y="0"/>
                </a:moveTo>
                <a:lnTo>
                  <a:pt x="21600" y="21658"/>
                </a:lnTo>
                <a:lnTo>
                  <a:pt x="20200" y="20258"/>
                </a:lnTo>
                <a:lnTo>
                  <a:pt x="20200" y="1400"/>
                </a:lnTo>
                <a:close/>
              </a:path>
              <a:path fill="darkenLess" w="21600" h="21658">
                <a:moveTo>
                  <a:pt x="21600" y="21658"/>
                </a:moveTo>
                <a:lnTo>
                  <a:pt x="0" y="21658"/>
                </a:lnTo>
                <a:lnTo>
                  <a:pt x="1400" y="20258"/>
                </a:lnTo>
                <a:lnTo>
                  <a:pt x="20200" y="20258"/>
                </a:lnTo>
                <a:close/>
              </a:path>
              <a:path fill="lighten" w="21600" h="21658">
                <a:moveTo>
                  <a:pt x="0" y="216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58"/>
                </a:lnTo>
                <a:close/>
              </a:path>
              <a:path fill="darken" w="21600" h="21658">
                <a:moveTo>
                  <a:pt x="3794" y="3822"/>
                </a:moveTo>
                <a:lnTo>
                  <a:pt x="17806" y="10829"/>
                </a:lnTo>
                <a:lnTo>
                  <a:pt x="3794" y="17835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595959"/>
              </a:gs>
            </a:gsLst>
            <a:lin ang="5400000"/>
          </a:gra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3"/>
          <p:cNvSpPr/>
          <p:nvPr/>
        </p:nvSpPr>
        <p:spPr>
          <a:xfrm>
            <a:off x="321480" y="693720"/>
            <a:ext cx="767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4200"/>
                </a:solidFill>
                <a:latin typeface="Propisi"/>
                <a:ea typeface="Times New Roman"/>
              </a:rPr>
              <a:t>Отгадай загадку, запиши отгадку:</a:t>
            </a:r>
            <a:r>
              <a:rPr b="1" lang="ru-RU" sz="3200" spc="-1" strike="noStrike">
                <a:solidFill>
                  <a:srgbClr val="0042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TextBox 4" descr=""/>
          <p:cNvPicPr/>
          <p:nvPr/>
        </p:nvPicPr>
        <p:blipFill>
          <a:blip r:embed="rId1"/>
          <a:stretch/>
        </p:blipFill>
        <p:spPr>
          <a:xfrm>
            <a:off x="774720" y="1785960"/>
            <a:ext cx="5235480" cy="20304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" descr="http://img-fotki.yandex.ru/get/6511/130884706.2b/0_7dd05_6031c850_L.png"/>
          <p:cNvPicPr/>
          <p:nvPr/>
        </p:nvPicPr>
        <p:blipFill>
          <a:blip r:embed="rId2"/>
          <a:stretch/>
        </p:blipFill>
        <p:spPr>
          <a:xfrm>
            <a:off x="5076720" y="2276640"/>
            <a:ext cx="3564000" cy="3557520"/>
          </a:xfrm>
          <a:prstGeom prst="rect">
            <a:avLst/>
          </a:prstGeom>
          <a:ln w="0">
            <a:noFill/>
          </a:ln>
        </p:spPr>
      </p:pic>
      <p:sp>
        <p:nvSpPr>
          <p:cNvPr id="231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7746840" y="5516640"/>
            <a:ext cx="540000" cy="54144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41440"/>
              <a:gd name="textAreaBottom" fmla="*/ 506520 h 541440"/>
            </a:gdLst>
            <a:ahLst/>
            <a:rect l="textAreaLeft" t="textAreaTop" r="textAreaRight" b="textAreaBottom"/>
            <a:pathLst>
              <a:path w="21600" h="21658">
                <a:moveTo>
                  <a:pt x="0" y="0"/>
                </a:moveTo>
                <a:lnTo>
                  <a:pt x="21600" y="0"/>
                </a:lnTo>
                <a:lnTo>
                  <a:pt x="21600" y="21658"/>
                </a:lnTo>
                <a:lnTo>
                  <a:pt x="0" y="21658"/>
                </a:lnTo>
                <a:close/>
              </a:path>
              <a:path fill="lightenLess" w="21600" h="216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58">
                <a:moveTo>
                  <a:pt x="21600" y="0"/>
                </a:moveTo>
                <a:lnTo>
                  <a:pt x="21600" y="21658"/>
                </a:lnTo>
                <a:lnTo>
                  <a:pt x="20200" y="20258"/>
                </a:lnTo>
                <a:lnTo>
                  <a:pt x="20200" y="1400"/>
                </a:lnTo>
                <a:close/>
              </a:path>
              <a:path fill="darkenLess" w="21600" h="21658">
                <a:moveTo>
                  <a:pt x="21600" y="21658"/>
                </a:moveTo>
                <a:lnTo>
                  <a:pt x="0" y="21658"/>
                </a:lnTo>
                <a:lnTo>
                  <a:pt x="1400" y="20258"/>
                </a:lnTo>
                <a:lnTo>
                  <a:pt x="20200" y="20258"/>
                </a:lnTo>
                <a:close/>
              </a:path>
              <a:path fill="lighten" w="21600" h="21658">
                <a:moveTo>
                  <a:pt x="0" y="216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58"/>
                </a:lnTo>
                <a:close/>
              </a:path>
              <a:path fill="darken" w="21600" h="21658">
                <a:moveTo>
                  <a:pt x="3794" y="3822"/>
                </a:moveTo>
                <a:lnTo>
                  <a:pt x="17806" y="10829"/>
                </a:lnTo>
                <a:lnTo>
                  <a:pt x="3794" y="17835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595959"/>
              </a:gs>
            </a:gsLst>
            <a:lin ang="5400000"/>
          </a:gra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Box 3"/>
          <p:cNvSpPr/>
          <p:nvPr/>
        </p:nvSpPr>
        <p:spPr>
          <a:xfrm>
            <a:off x="321480" y="693720"/>
            <a:ext cx="767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4200"/>
                </a:solidFill>
                <a:latin typeface="Propisi"/>
              </a:rPr>
              <a:t>Отгадай загадку, запиши отгадку</a:t>
            </a:r>
            <a:r>
              <a:rPr b="1" lang="ru-RU" sz="3200" spc="-1" strike="noStrike">
                <a:solidFill>
                  <a:srgbClr val="7f7f7f"/>
                </a:solidFill>
                <a:latin typeface="Propisi"/>
              </a:rPr>
              <a:t>:</a:t>
            </a:r>
            <a:r>
              <a:rPr b="1" lang="ru-RU" sz="3200" spc="-1" strike="noStrike">
                <a:solidFill>
                  <a:srgbClr val="7f7f7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TextBox 4" descr=""/>
          <p:cNvPicPr/>
          <p:nvPr/>
        </p:nvPicPr>
        <p:blipFill>
          <a:blip r:embed="rId1"/>
          <a:stretch/>
        </p:blipFill>
        <p:spPr>
          <a:xfrm>
            <a:off x="774720" y="1785960"/>
            <a:ext cx="5248080" cy="1176480"/>
          </a:xfrm>
          <a:prstGeom prst="rect">
            <a:avLst/>
          </a:prstGeom>
          <a:ln w="0">
            <a:noFill/>
          </a:ln>
        </p:spPr>
      </p:pic>
      <p:sp>
        <p:nvSpPr>
          <p:cNvPr id="234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7746840" y="5516640"/>
            <a:ext cx="540000" cy="54144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41440"/>
              <a:gd name="textAreaBottom" fmla="*/ 506520 h 541440"/>
            </a:gdLst>
            <a:ahLst/>
            <a:rect l="textAreaLeft" t="textAreaTop" r="textAreaRight" b="textAreaBottom"/>
            <a:pathLst>
              <a:path w="21600" h="21658">
                <a:moveTo>
                  <a:pt x="0" y="0"/>
                </a:moveTo>
                <a:lnTo>
                  <a:pt x="21600" y="0"/>
                </a:lnTo>
                <a:lnTo>
                  <a:pt x="21600" y="21658"/>
                </a:lnTo>
                <a:lnTo>
                  <a:pt x="0" y="21658"/>
                </a:lnTo>
                <a:close/>
              </a:path>
              <a:path fill="lightenLess" w="21600" h="216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58">
                <a:moveTo>
                  <a:pt x="21600" y="0"/>
                </a:moveTo>
                <a:lnTo>
                  <a:pt x="21600" y="21658"/>
                </a:lnTo>
                <a:lnTo>
                  <a:pt x="20200" y="20258"/>
                </a:lnTo>
                <a:lnTo>
                  <a:pt x="20200" y="1400"/>
                </a:lnTo>
                <a:close/>
              </a:path>
              <a:path fill="darkenLess" w="21600" h="21658">
                <a:moveTo>
                  <a:pt x="21600" y="21658"/>
                </a:moveTo>
                <a:lnTo>
                  <a:pt x="0" y="21658"/>
                </a:lnTo>
                <a:lnTo>
                  <a:pt x="1400" y="20258"/>
                </a:lnTo>
                <a:lnTo>
                  <a:pt x="20200" y="20258"/>
                </a:lnTo>
                <a:close/>
              </a:path>
              <a:path fill="lighten" w="21600" h="21658">
                <a:moveTo>
                  <a:pt x="0" y="216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58"/>
                </a:lnTo>
                <a:close/>
              </a:path>
              <a:path fill="darken" w="21600" h="21658">
                <a:moveTo>
                  <a:pt x="3794" y="3822"/>
                </a:moveTo>
                <a:lnTo>
                  <a:pt x="17806" y="10829"/>
                </a:lnTo>
                <a:lnTo>
                  <a:pt x="3794" y="17835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595959"/>
              </a:gs>
            </a:gsLst>
            <a:lin ang="5400000"/>
          </a:gra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Picture 7" descr="Картинки по запросу лопата"/>
          <p:cNvPicPr/>
          <p:nvPr/>
        </p:nvPicPr>
        <p:blipFill>
          <a:blip r:embed="rId2"/>
          <a:stretch/>
        </p:blipFill>
        <p:spPr>
          <a:xfrm>
            <a:off x="3132000" y="3068640"/>
            <a:ext cx="2087640" cy="34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1"/>
          <p:cNvSpPr/>
          <p:nvPr/>
        </p:nvSpPr>
        <p:spPr>
          <a:xfrm>
            <a:off x="1042920" y="2205000"/>
            <a:ext cx="489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т девчоночьей красы У неё лишь слёзы, Ведь мальчишки каждый день Дергают за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Прямоугольник 3"/>
          <p:cNvSpPr/>
          <p:nvPr/>
        </p:nvSpPr>
        <p:spPr>
          <a:xfrm>
            <a:off x="681480" y="907920"/>
            <a:ext cx="75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4200"/>
                </a:solidFill>
                <a:latin typeface="Propisi"/>
                <a:ea typeface="Times New Roman"/>
              </a:rPr>
              <a:t>Отгадай загадку, запиши отгадку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2" descr="Картинки по запросу коса волосы"/>
          <p:cNvPicPr/>
          <p:nvPr/>
        </p:nvPicPr>
        <p:blipFill>
          <a:blip r:embed="rId1"/>
          <a:stretch/>
        </p:blipFill>
        <p:spPr>
          <a:xfrm>
            <a:off x="2195640" y="3860640"/>
            <a:ext cx="512748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3"/>
          <p:cNvSpPr/>
          <p:nvPr/>
        </p:nvSpPr>
        <p:spPr>
          <a:xfrm>
            <a:off x="321480" y="693720"/>
            <a:ext cx="767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4200"/>
                </a:solidFill>
                <a:latin typeface="Propisi"/>
              </a:rPr>
              <a:t>Отгадай загадку, запиши отгадку:</a:t>
            </a:r>
            <a:r>
              <a:rPr b="1" lang="ru-RU" sz="3200" spc="-1" strike="noStrike">
                <a:solidFill>
                  <a:srgbClr val="757575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TextBox 4" descr=""/>
          <p:cNvPicPr/>
          <p:nvPr/>
        </p:nvPicPr>
        <p:blipFill>
          <a:blip r:embed="rId1"/>
          <a:stretch/>
        </p:blipFill>
        <p:spPr>
          <a:xfrm>
            <a:off x="774720" y="1785960"/>
            <a:ext cx="5699160" cy="20304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http://www.zooclub.ru/attach/birds/125.jpg"/>
          <p:cNvPicPr/>
          <p:nvPr/>
        </p:nvPicPr>
        <p:blipFill>
          <a:blip r:embed="rId2"/>
          <a:stretch/>
        </p:blipFill>
        <p:spPr>
          <a:xfrm>
            <a:off x="5508720" y="1844640"/>
            <a:ext cx="2338200" cy="3440160"/>
          </a:xfrm>
          <a:prstGeom prst="rect">
            <a:avLst/>
          </a:prstGeom>
          <a:ln w="0">
            <a:noFill/>
          </a:ln>
        </p:spPr>
      </p:pic>
      <p:sp>
        <p:nvSpPr>
          <p:cNvPr id="242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7746840" y="5516640"/>
            <a:ext cx="540000" cy="54144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41440"/>
              <a:gd name="textAreaBottom" fmla="*/ 506520 h 541440"/>
            </a:gdLst>
            <a:ahLst/>
            <a:rect l="textAreaLeft" t="textAreaTop" r="textAreaRight" b="textAreaBottom"/>
            <a:pathLst>
              <a:path w="21600" h="21658">
                <a:moveTo>
                  <a:pt x="0" y="0"/>
                </a:moveTo>
                <a:lnTo>
                  <a:pt x="21600" y="0"/>
                </a:lnTo>
                <a:lnTo>
                  <a:pt x="21600" y="21658"/>
                </a:lnTo>
                <a:lnTo>
                  <a:pt x="0" y="21658"/>
                </a:lnTo>
                <a:close/>
              </a:path>
              <a:path fill="lightenLess" w="21600" h="216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58">
                <a:moveTo>
                  <a:pt x="21600" y="0"/>
                </a:moveTo>
                <a:lnTo>
                  <a:pt x="21600" y="21658"/>
                </a:lnTo>
                <a:lnTo>
                  <a:pt x="20200" y="20258"/>
                </a:lnTo>
                <a:lnTo>
                  <a:pt x="20200" y="1400"/>
                </a:lnTo>
                <a:close/>
              </a:path>
              <a:path fill="darkenLess" w="21600" h="21658">
                <a:moveTo>
                  <a:pt x="21600" y="21658"/>
                </a:moveTo>
                <a:lnTo>
                  <a:pt x="0" y="21658"/>
                </a:lnTo>
                <a:lnTo>
                  <a:pt x="1400" y="20258"/>
                </a:lnTo>
                <a:lnTo>
                  <a:pt x="20200" y="20258"/>
                </a:lnTo>
                <a:close/>
              </a:path>
              <a:path fill="lighten" w="21600" h="21658">
                <a:moveTo>
                  <a:pt x="0" y="216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58"/>
                </a:lnTo>
                <a:close/>
              </a:path>
              <a:path fill="darken" w="21600" h="21658">
                <a:moveTo>
                  <a:pt x="3794" y="3822"/>
                </a:moveTo>
                <a:lnTo>
                  <a:pt x="17806" y="10829"/>
                </a:lnTo>
                <a:lnTo>
                  <a:pt x="3794" y="17835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595959"/>
              </a:gs>
            </a:gsLst>
            <a:lin ang="5400000"/>
          </a:gra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Скругленный прямоугольник 16">
            <a:hlinkClick r:id="" action="ppaction://hlinkshowjump?jump=nextslide"/>
          </p:cNvPr>
          <p:cNvSpPr/>
          <p:nvPr/>
        </p:nvSpPr>
        <p:spPr>
          <a:xfrm>
            <a:off x="631800" y="4522680"/>
            <a:ext cx="728028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cap="rnd" w="19080">
            <a:solidFill>
              <a:srgbClr val="755e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4200"/>
                </a:solidFill>
                <a:latin typeface="Propisi"/>
              </a:rPr>
              <a:t>Раздели слова на две групп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TextBox 4" descr=""/>
          <p:cNvPicPr/>
          <p:nvPr/>
        </p:nvPicPr>
        <p:blipFill>
          <a:blip r:embed="rId1"/>
          <a:stretch/>
        </p:blipFill>
        <p:spPr>
          <a:xfrm>
            <a:off x="725400" y="201600"/>
            <a:ext cx="6705720" cy="1955880"/>
          </a:xfrm>
          <a:prstGeom prst="rect">
            <a:avLst/>
          </a:prstGeom>
          <a:ln w="0">
            <a:noFill/>
          </a:ln>
        </p:spPr>
      </p:pic>
      <p:sp>
        <p:nvSpPr>
          <p:cNvPr id="245" name="Скругленный прямоугольник 1"/>
          <p:cNvSpPr/>
          <p:nvPr/>
        </p:nvSpPr>
        <p:spPr>
          <a:xfrm>
            <a:off x="509760" y="412920"/>
            <a:ext cx="7402320" cy="1427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cap="rnd" w="19080">
            <a:solidFill>
              <a:srgbClr val="755e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4200"/>
                </a:solidFill>
                <a:latin typeface="Propisi"/>
              </a:rPr>
              <a:t>Проверь себ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TextBox 8" descr=""/>
          <p:cNvPicPr/>
          <p:nvPr/>
        </p:nvPicPr>
        <p:blipFill>
          <a:blip r:embed="rId2"/>
          <a:stretch/>
        </p:blipFill>
        <p:spPr>
          <a:xfrm>
            <a:off x="695160" y="2266920"/>
            <a:ext cx="7339320" cy="214632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ая соединительная линия 3"/>
          <p:cNvSpPr/>
          <p:nvPr/>
        </p:nvSpPr>
        <p:spPr>
          <a:xfrm>
            <a:off x="1547640" y="3141720"/>
            <a:ext cx="289080" cy="0"/>
          </a:xfrm>
          <a:prstGeom prst="line">
            <a:avLst/>
          </a:prstGeom>
          <a:ln cap="rnd"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Прямая соединительная линия 17"/>
          <p:cNvSpPr/>
          <p:nvPr/>
        </p:nvSpPr>
        <p:spPr>
          <a:xfrm>
            <a:off x="4210200" y="3243240"/>
            <a:ext cx="287280" cy="0"/>
          </a:xfrm>
          <a:prstGeom prst="line">
            <a:avLst/>
          </a:prstGeom>
          <a:ln cap="rnd"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Прямая соединительная линия 18"/>
          <p:cNvSpPr/>
          <p:nvPr/>
        </p:nvSpPr>
        <p:spPr>
          <a:xfrm>
            <a:off x="3635280" y="3871800"/>
            <a:ext cx="287280" cy="0"/>
          </a:xfrm>
          <a:prstGeom prst="line">
            <a:avLst/>
          </a:prstGeom>
          <a:ln cap="rnd"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Прямая соединительная линия 19"/>
          <p:cNvSpPr/>
          <p:nvPr/>
        </p:nvSpPr>
        <p:spPr>
          <a:xfrm>
            <a:off x="5772240" y="3206880"/>
            <a:ext cx="288720" cy="0"/>
          </a:xfrm>
          <a:prstGeom prst="line">
            <a:avLst/>
          </a:prstGeom>
          <a:ln cap="rnd"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Прямая соединительная линия 20"/>
          <p:cNvSpPr/>
          <p:nvPr/>
        </p:nvSpPr>
        <p:spPr>
          <a:xfrm>
            <a:off x="5076720" y="3860640"/>
            <a:ext cx="287280" cy="0"/>
          </a:xfrm>
          <a:prstGeom prst="line">
            <a:avLst/>
          </a:prstGeom>
          <a:ln cap="rnd"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Прямая соединительная линия 21"/>
          <p:cNvSpPr/>
          <p:nvPr/>
        </p:nvSpPr>
        <p:spPr>
          <a:xfrm>
            <a:off x="1403280" y="3860640"/>
            <a:ext cx="289080" cy="0"/>
          </a:xfrm>
          <a:prstGeom prst="line">
            <a:avLst/>
          </a:prstGeom>
          <a:ln cap="rnd"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Прямая соединительная линия 22"/>
          <p:cNvSpPr/>
          <p:nvPr/>
        </p:nvSpPr>
        <p:spPr>
          <a:xfrm flipV="1">
            <a:off x="2679840" y="2696760"/>
            <a:ext cx="136440" cy="152280"/>
          </a:xfrm>
          <a:prstGeom prst="line">
            <a:avLst/>
          </a:prstGeom>
          <a:ln cap="rnd" w="19080">
            <a:solidFill>
              <a:srgbClr val="755e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Прямая соединительная линия 24"/>
          <p:cNvSpPr/>
          <p:nvPr/>
        </p:nvSpPr>
        <p:spPr>
          <a:xfrm flipV="1">
            <a:off x="2195640" y="3258720"/>
            <a:ext cx="136440" cy="152280"/>
          </a:xfrm>
          <a:prstGeom prst="line">
            <a:avLst/>
          </a:prstGeom>
          <a:ln cap="rnd" w="19080">
            <a:solidFill>
              <a:srgbClr val="755e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Прямая соединительная линия 25"/>
          <p:cNvSpPr/>
          <p:nvPr/>
        </p:nvSpPr>
        <p:spPr>
          <a:xfrm flipV="1">
            <a:off x="4784760" y="2617560"/>
            <a:ext cx="135000" cy="152280"/>
          </a:xfrm>
          <a:prstGeom prst="line">
            <a:avLst/>
          </a:prstGeom>
          <a:ln cap="rnd" w="19080">
            <a:solidFill>
              <a:srgbClr val="755e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Прямая соединительная линия 26"/>
          <p:cNvSpPr/>
          <p:nvPr/>
        </p:nvSpPr>
        <p:spPr>
          <a:xfrm flipV="1">
            <a:off x="6516720" y="2617560"/>
            <a:ext cx="136440" cy="152280"/>
          </a:xfrm>
          <a:prstGeom prst="line">
            <a:avLst/>
          </a:prstGeom>
          <a:ln cap="rnd" w="19080">
            <a:solidFill>
              <a:srgbClr val="755e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Прямая соединительная линия 27"/>
          <p:cNvSpPr/>
          <p:nvPr/>
        </p:nvSpPr>
        <p:spPr>
          <a:xfrm flipV="1">
            <a:off x="5994360" y="3346200"/>
            <a:ext cx="133560" cy="152280"/>
          </a:xfrm>
          <a:prstGeom prst="line">
            <a:avLst/>
          </a:prstGeom>
          <a:ln cap="rnd" w="19080">
            <a:solidFill>
              <a:srgbClr val="755e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Скругленный прямоугольник 28"/>
          <p:cNvSpPr/>
          <p:nvPr/>
        </p:nvSpPr>
        <p:spPr>
          <a:xfrm>
            <a:off x="631800" y="2482920"/>
            <a:ext cx="7280280" cy="1501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cap="rnd" w="19080">
            <a:solidFill>
              <a:srgbClr val="755e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4200"/>
                </a:solidFill>
                <a:latin typeface="Propisi"/>
              </a:rPr>
              <a:t>Поставь ударение. Подчеркни безударные гласн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39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TextBox 4" descr=""/>
          <p:cNvPicPr/>
          <p:nvPr/>
        </p:nvPicPr>
        <p:blipFill>
          <a:blip r:embed="rId1"/>
          <a:stretch/>
        </p:blipFill>
        <p:spPr>
          <a:xfrm>
            <a:off x="725400" y="2114640"/>
            <a:ext cx="3614760" cy="2566800"/>
          </a:xfrm>
          <a:prstGeom prst="rect">
            <a:avLst/>
          </a:prstGeom>
          <a:ln w="0">
            <a:noFill/>
          </a:ln>
        </p:spPr>
      </p:pic>
      <p:sp>
        <p:nvSpPr>
          <p:cNvPr id="260" name="Скругленный прямоугольник 1"/>
          <p:cNvSpPr/>
          <p:nvPr/>
        </p:nvSpPr>
        <p:spPr>
          <a:xfrm>
            <a:off x="892080" y="728640"/>
            <a:ext cx="302436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cap="rnd" w="19080">
            <a:solidFill>
              <a:srgbClr val="755e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4200"/>
                </a:solidFill>
                <a:latin typeface="Propisi"/>
              </a:rPr>
              <a:t>проверяем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Скругленный прямоугольник 28"/>
          <p:cNvSpPr/>
          <p:nvPr/>
        </p:nvSpPr>
        <p:spPr>
          <a:xfrm>
            <a:off x="4497480" y="728640"/>
            <a:ext cx="345924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cap="rnd" w="19080">
            <a:solidFill>
              <a:srgbClr val="755e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4200"/>
                </a:solidFill>
                <a:latin typeface="Propisi"/>
              </a:rPr>
              <a:t>Непроверяем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4200"/>
                </a:solidFill>
                <a:latin typeface="Propisi"/>
              </a:rPr>
              <a:t>(словарное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TextBox 29" descr=""/>
          <p:cNvPicPr/>
          <p:nvPr/>
        </p:nvPicPr>
        <p:blipFill>
          <a:blip r:embed="rId2"/>
          <a:stretch/>
        </p:blipFill>
        <p:spPr>
          <a:xfrm>
            <a:off x="5095800" y="2243160"/>
            <a:ext cx="2852640" cy="2389320"/>
          </a:xfrm>
          <a:prstGeom prst="rect">
            <a:avLst/>
          </a:prstGeom>
          <a:ln w="0">
            <a:noFill/>
          </a:ln>
        </p:spPr>
      </p:pic>
      <p:sp>
        <p:nvSpPr>
          <p:cNvPr id="263" name="Скругленный прямоугольник 3"/>
          <p:cNvSpPr/>
          <p:nvPr/>
        </p:nvSpPr>
        <p:spPr>
          <a:xfrm>
            <a:off x="6037200" y="1709640"/>
            <a:ext cx="2232000" cy="709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d6b8"/>
              </a:gs>
              <a:gs pos="100000">
                <a:srgbClr val="76ad5f"/>
              </a:gs>
            </a:gsLst>
            <a:lin ang="5400000"/>
          </a:gradFill>
          <a:ln cap="rnd" w="12600">
            <a:solidFill>
              <a:srgbClr val="54a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Propisi"/>
              </a:rPr>
              <a:t>запомнить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52" nodeType="clickEffect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58" nodeType="clickEffect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adm</cp:lastModifiedBy>
  <dcterms:modified xsi:type="dcterms:W3CDTF">2019-11-21T06:52:25Z</dcterms:modified>
  <cp:revision>70</cp:revision>
  <dc:subject/>
  <dc:title>Слайд 1</dc:title>
</cp:coreProperties>
</file>