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32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6728-C43A-43C9-94C2-B2BA2233FD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8A5F-2BC6-4CB7-8827-44D65F4B02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737-31C6-4177-9C62-8D8B9FCA24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739-0284-4B75-968B-01ED764C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326-B7B7-42A1-8E4D-59C026B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821-40A6-4D4B-988A-F27C534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199-A6DF-4CE2-B8D7-C5AE4784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8F2-79BB-4999-BFC0-CC77A3DF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A44C-0611-4793-8331-ED387721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E44E-CF88-4E23-B58A-995EA67C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F218-80DC-4940-844C-3AF00D38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5161-5615-4958-910D-CDC06F8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A293-BEA3-4D5C-A460-F7F1CC4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8339-6A29-4EC1-BE19-851653C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050-92E5-4DF5-8E2B-C9B1F80B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190B-2F6B-4CBE-91A0-EF6AAD1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A41D-93BA-43FE-B0C1-44579E9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01CF-4DB9-46FA-9E72-D3966E54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58B-662F-4536-A6AB-03E7A85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207E-3851-46BC-A302-5836C768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7E51-A9EF-4793-9799-C9842855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E4E9-74F4-4C32-A01F-FA96C2F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2C85-1685-44ED-84CB-9F73C96E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5A90-067A-4881-9145-2D347D03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D9CE-6559-445F-9C0E-005B7E20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645-FEDC-4ABF-8BAC-1CDAC4F1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5E6B-3AE3-4513-AB75-57FEF20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18A0-A089-4EEE-BA0D-A83AB98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ADA9-69FE-4ED2-8B34-5E297559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649F-3BCF-44B2-9875-E4079C6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09C7-E4E0-408A-AD1D-2DF8B90C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0A68-16D2-49DE-996F-155C94C1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5B43-C8F1-4223-A849-D99DB711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D507-56B5-4CFD-A766-03E1952D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7F3D8-B719-4DDE-BBD0-6AF420B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AB366-8D97-46CB-AD81-3AF59005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E5F-F832-4E91-8A61-8E3F319B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0A6E-79A8-496B-8178-BEE6CB6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1344-65FD-492E-B97D-22137D7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C444-9BD4-4865-9EDA-B3C60DD5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0725-7377-4FB0-9230-961DB65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60C1-0289-4934-88F7-DD61EE0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5B53-F3BC-4A03-BAE9-D44A027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7664-1E84-43B5-AA02-CCD52E94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B6D9-B6F8-4F60-A4CE-A11AE0DC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7ED2-F401-437D-99E1-11C283D0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2B6-1D9E-4D53-ADEB-17E0BA06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A74-9ADE-4A98-B244-7C16CEC6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D12-F3D2-4310-9DC1-4B5A05B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BCC-BA3B-472F-807D-1EBF046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60E-79D9-477C-8037-56B9710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3796-8EE1-40B1-BF2C-60A3465976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3C1-F49E-416E-9F63-81680EF17D3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F78-7B6A-46D4-8C7C-34C5AA325C9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35C-65EC-4A7D-9FFF-2B4D957BF1E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907920" y="701640"/>
            <a:ext cx="7772400" cy="5413320"/>
          </a:xfrm>
          <a:prstGeom prst="rect">
            <a:avLst/>
          </a:prstGeom>
          <a:ln w="0">
            <a:noFill/>
          </a:ln>
        </p:spPr>
      </p:pic>
      <p:sp>
        <p:nvSpPr>
          <p:cNvPr id="220" name="Подзаголовок 2"/>
          <p:cNvSpPr/>
          <p:nvPr/>
        </p:nvSpPr>
        <p:spPr>
          <a:xfrm>
            <a:off x="4284720" y="5661000"/>
            <a:ext cx="4576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бота по стихотвор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7" name="Рисунок 2" descr=""/>
          <p:cNvPicPr/>
          <p:nvPr/>
        </p:nvPicPr>
        <p:blipFill>
          <a:blip r:embed="rId1"/>
          <a:stretch/>
        </p:blipFill>
        <p:spPr>
          <a:xfrm>
            <a:off x="514440" y="2276640"/>
            <a:ext cx="65386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толковым словарё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95280" y="184464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КЛЮ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КЛЕВАТЬ</a:t>
            </a: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 начальная форма, единственное чис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5-конечная звезда 3"/>
          <p:cNvSpPr/>
          <p:nvPr/>
        </p:nvSpPr>
        <p:spPr>
          <a:xfrm>
            <a:off x="1908000" y="1628640"/>
            <a:ext cx="576360" cy="432000"/>
          </a:xfrm>
          <a:custGeom>
            <a:avLst/>
            <a:gdLst/>
            <a:ahLst/>
            <a:rect l="l" t="t" r="r" b="b"/>
            <a:pathLst>
              <a:path w="576263" h="431800">
                <a:moveTo>
                  <a:pt x="1" y="164933"/>
                </a:moveTo>
                <a:lnTo>
                  <a:pt x="247384" y="194506"/>
                </a:lnTo>
                <a:lnTo>
                  <a:pt x="288132" y="0"/>
                </a:lnTo>
                <a:lnTo>
                  <a:pt x="328879" y="194506"/>
                </a:lnTo>
                <a:lnTo>
                  <a:pt x="576262" y="164933"/>
                </a:lnTo>
                <a:lnTo>
                  <a:pt x="354062" y="255570"/>
                </a:lnTo>
                <a:lnTo>
                  <a:pt x="466206" y="431799"/>
                </a:lnTo>
                <a:lnTo>
                  <a:pt x="288132" y="293310"/>
                </a:lnTo>
                <a:lnTo>
                  <a:pt x="110057" y="431799"/>
                </a:lnTo>
                <a:lnTo>
                  <a:pt x="222201" y="255570"/>
                </a:lnTo>
                <a:lnTo>
                  <a:pt x="1" y="164933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7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642960" y="2286000"/>
            <a:ext cx="6357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-названи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начальной форме отвечают на вопросы: ЧТО ДЕЛАТЬ? ЧТО СДЕЛ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5280" y="49413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в тетради с.24 №29 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Picture 14" descr="http://webbiblioteca.com/wp-content/uploads/images/russkij_jazik_2_klass_tetrad_dlja_samostojatelnoj_raboti_1.jpg"/>
          <p:cNvPicPr/>
          <p:nvPr/>
        </p:nvPicPr>
        <p:blipFill>
          <a:blip r:embed="rId1"/>
          <a:stretch/>
        </p:blipFill>
        <p:spPr>
          <a:xfrm>
            <a:off x="468360" y="260280"/>
            <a:ext cx="2928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19280" y="4723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8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Овал 10" descr=""/>
          <p:cNvPicPr/>
          <p:nvPr/>
        </p:nvPicPr>
        <p:blipFill>
          <a:blip r:embed="rId2"/>
          <a:stretch/>
        </p:blipFill>
        <p:spPr>
          <a:xfrm>
            <a:off x="1420920" y="74916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80" name="Овал 11" descr=""/>
          <p:cNvPicPr/>
          <p:nvPr/>
        </p:nvPicPr>
        <p:blipFill>
          <a:blip r:embed="rId3"/>
          <a:stretch/>
        </p:blipFill>
        <p:spPr>
          <a:xfrm>
            <a:off x="927000" y="2987640"/>
            <a:ext cx="2724120" cy="1187640"/>
          </a:xfrm>
          <a:prstGeom prst="rect">
            <a:avLst/>
          </a:prstGeom>
          <a:ln w="0">
            <a:noFill/>
          </a:ln>
        </p:spPr>
      </p:pic>
      <p:pic>
        <p:nvPicPr>
          <p:cNvPr id="281" name="Овал 12" descr=""/>
          <p:cNvPicPr/>
          <p:nvPr/>
        </p:nvPicPr>
        <p:blipFill>
          <a:blip r:embed="rId4"/>
          <a:stretch/>
        </p:blipFill>
        <p:spPr>
          <a:xfrm>
            <a:off x="4346640" y="1566720"/>
            <a:ext cx="3846600" cy="1195560"/>
          </a:xfrm>
          <a:prstGeom prst="rect">
            <a:avLst/>
          </a:prstGeom>
          <a:ln w="0">
            <a:noFill/>
          </a:ln>
        </p:spPr>
      </p:pic>
      <p:pic>
        <p:nvPicPr>
          <p:cNvPr id="282" name="Овал 13" descr=""/>
          <p:cNvPicPr/>
          <p:nvPr/>
        </p:nvPicPr>
        <p:blipFill>
          <a:blip r:embed="rId5"/>
          <a:stretch/>
        </p:blipFill>
        <p:spPr>
          <a:xfrm>
            <a:off x="4992840" y="3560760"/>
            <a:ext cx="2981160" cy="1468440"/>
          </a:xfrm>
          <a:prstGeom prst="rect">
            <a:avLst/>
          </a:prstGeom>
          <a:ln w="0">
            <a:noFill/>
          </a:ln>
        </p:spPr>
      </p:pic>
      <p:pic>
        <p:nvPicPr>
          <p:cNvPr id="283" name="Овал 15" descr=""/>
          <p:cNvPicPr/>
          <p:nvPr/>
        </p:nvPicPr>
        <p:blipFill>
          <a:blip r:embed="rId6"/>
          <a:stretch/>
        </p:blipFill>
        <p:spPr>
          <a:xfrm>
            <a:off x="1609560" y="4743360"/>
            <a:ext cx="2767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с двумя скругленными соседними углами 10"/>
          <p:cNvSpPr/>
          <p:nvPr/>
        </p:nvSpPr>
        <p:spPr>
          <a:xfrm>
            <a:off x="539640" y="692280"/>
            <a:ext cx="310356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Форма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с двумя скругленными соседними углами 11"/>
          <p:cNvSpPr/>
          <p:nvPr/>
        </p:nvSpPr>
        <p:spPr>
          <a:xfrm>
            <a:off x="4788000" y="692280"/>
            <a:ext cx="316872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Родств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Овал 12" descr=""/>
          <p:cNvPicPr/>
          <p:nvPr/>
        </p:nvPicPr>
        <p:blipFill>
          <a:blip r:embed="rId1"/>
          <a:stretch/>
        </p:blipFill>
        <p:spPr>
          <a:xfrm>
            <a:off x="974880" y="1974960"/>
            <a:ext cx="2238120" cy="1116000"/>
          </a:xfrm>
          <a:prstGeom prst="rect">
            <a:avLst/>
          </a:prstGeom>
          <a:ln w="0">
            <a:noFill/>
          </a:ln>
        </p:spPr>
      </p:pic>
      <p:pic>
        <p:nvPicPr>
          <p:cNvPr id="287" name="Овал 13" descr=""/>
          <p:cNvPicPr/>
          <p:nvPr/>
        </p:nvPicPr>
        <p:blipFill>
          <a:blip r:embed="rId2"/>
          <a:stretch/>
        </p:blipFill>
        <p:spPr>
          <a:xfrm>
            <a:off x="798480" y="3408480"/>
            <a:ext cx="2766960" cy="1358640"/>
          </a:xfrm>
          <a:prstGeom prst="rect">
            <a:avLst/>
          </a:prstGeom>
          <a:ln w="0">
            <a:noFill/>
          </a:ln>
        </p:spPr>
      </p:pic>
      <p:pic>
        <p:nvPicPr>
          <p:cNvPr id="288" name="Овал 14" descr=""/>
          <p:cNvPicPr/>
          <p:nvPr/>
        </p:nvPicPr>
        <p:blipFill>
          <a:blip r:embed="rId3"/>
          <a:stretch/>
        </p:blipFill>
        <p:spPr>
          <a:xfrm>
            <a:off x="785880" y="5048280"/>
            <a:ext cx="2987640" cy="1187280"/>
          </a:xfrm>
          <a:prstGeom prst="rect">
            <a:avLst/>
          </a:prstGeom>
          <a:ln w="0">
            <a:noFill/>
          </a:ln>
        </p:spPr>
      </p:pic>
      <p:pic>
        <p:nvPicPr>
          <p:cNvPr id="289" name="Овал 15" descr=""/>
          <p:cNvPicPr/>
          <p:nvPr/>
        </p:nvPicPr>
        <p:blipFill>
          <a:blip r:embed="rId4"/>
          <a:stretch/>
        </p:blipFill>
        <p:spPr>
          <a:xfrm>
            <a:off x="5261040" y="190188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90" name="Овал 16" descr=""/>
          <p:cNvPicPr/>
          <p:nvPr/>
        </p:nvPicPr>
        <p:blipFill>
          <a:blip r:embed="rId5"/>
          <a:stretch/>
        </p:blipFill>
        <p:spPr>
          <a:xfrm>
            <a:off x="5132520" y="3286080"/>
            <a:ext cx="2732040" cy="1189080"/>
          </a:xfrm>
          <a:prstGeom prst="rect">
            <a:avLst/>
          </a:prstGeom>
          <a:ln w="0">
            <a:noFill/>
          </a:ln>
        </p:spPr>
      </p:pic>
      <p:pic>
        <p:nvPicPr>
          <p:cNvPr id="291" name="Овал 17" descr=""/>
          <p:cNvPicPr/>
          <p:nvPr/>
        </p:nvPicPr>
        <p:blipFill>
          <a:blip r:embed="rId6"/>
          <a:stretch/>
        </p:blipFill>
        <p:spPr>
          <a:xfrm>
            <a:off x="4773600" y="4694400"/>
            <a:ext cx="3919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1424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404040"/>
                </a:solidFill>
                <a:latin typeface="Trebuchet MS"/>
              </a:rPr>
              <a:t>лес, лесник, лесной, лесовик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Arc 4"/>
          <p:cNvSpPr/>
          <p:nvPr/>
        </p:nvSpPr>
        <p:spPr>
          <a:xfrm flipV="1" rot="13856400">
            <a:off x="2244240" y="3561480"/>
            <a:ext cx="701640" cy="558720"/>
          </a:xfrm>
          <a:custGeom>
            <a:avLst/>
            <a:gdLst>
              <a:gd name="textAreaLeft" fmla="*/ 0 w 701640"/>
              <a:gd name="textAreaRight" fmla="*/ 702000 w 70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fill="none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</a:path>
              <a:path stroke="0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  <a:lnTo>
                  <a:pt x="0" y="20225"/>
                </a:lnTo>
                <a:lnTo>
                  <a:pt x="7583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5"/>
          <p:cNvSpPr/>
          <p:nvPr/>
        </p:nvSpPr>
        <p:spPr>
          <a:xfrm flipV="1" rot="13086600">
            <a:off x="1076040" y="3584160"/>
            <a:ext cx="449280" cy="512640"/>
          </a:xfrm>
          <a:custGeom>
            <a:avLst/>
            <a:gdLst>
              <a:gd name="textAreaLeft" fmla="*/ 0 w 449280"/>
              <a:gd name="textAreaRight" fmla="*/ 449640 w 449280"/>
              <a:gd name="textAreaTop" fmla="*/ 360 h 512640"/>
              <a:gd name="textAreaBottom" fmla="*/ 513360 h 512640"/>
            </a:gdLst>
            <a:ahLst/>
            <a:rect l="textAreaLeft" t="textAreaTop" r="textAreaRight" b="textAreaBottom"/>
            <a:pathLst>
              <a:path fill="none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</a:path>
              <a:path stroke="0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  <a:lnTo>
                  <a:pt x="0" y="21600"/>
                </a:lnTo>
                <a:lnTo>
                  <a:pt x="5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rc 6"/>
          <p:cNvSpPr/>
          <p:nvPr/>
        </p:nvSpPr>
        <p:spPr>
          <a:xfrm flipV="1" rot="13086600">
            <a:off x="4312080" y="3626640"/>
            <a:ext cx="575280" cy="428760"/>
          </a:xfrm>
          <a:custGeom>
            <a:avLst/>
            <a:gdLst>
              <a:gd name="textAreaLeft" fmla="*/ 0 w 575280"/>
              <a:gd name="textAreaRight" fmla="*/ 575640 w 575280"/>
              <a:gd name="textAreaTop" fmla="*/ -360 h 428760"/>
              <a:gd name="textAreaBottom" fmla="*/ 428760 h 428760"/>
            </a:gdLst>
            <a:ahLst/>
            <a:rect l="textAreaLeft" t="textAreaTop" r="textAreaRight" b="textAreaBottom"/>
            <a:pathLst>
              <a:path fill="none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</a:path>
              <a:path stroke="0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  <a:lnTo>
                  <a:pt x="0" y="21415"/>
                </a:lnTo>
                <a:lnTo>
                  <a:pt x="2820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"/>
          <p:cNvSpPr/>
          <p:nvPr/>
        </p:nvSpPr>
        <p:spPr>
          <a:xfrm flipV="1" rot="13086600">
            <a:off x="6471720" y="3603600"/>
            <a:ext cx="501840" cy="422280"/>
          </a:xfrm>
          <a:custGeom>
            <a:avLst/>
            <a:gdLst>
              <a:gd name="textAreaLeft" fmla="*/ 0 w 501840"/>
              <a:gd name="textAreaRight" fmla="*/ 502200 w 50184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</a:path>
              <a:path stroke="0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  <a:lnTo>
                  <a:pt x="0" y="21600"/>
                </a:lnTo>
                <a:lnTo>
                  <a:pt x="9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714240" y="500040"/>
            <a:ext cx="777744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181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имеющие общую ча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хранит их общий смыс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ОДСТВЕН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755640" y="549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2800" spc="-1" strike="noStrike">
                <a:solidFill>
                  <a:srgbClr val="757575"/>
                </a:solidFill>
                <a:latin typeface="Propisi"/>
              </a:rPr>
              <a:t>:</a:t>
            </a:r>
            <a:r>
              <a:rPr b="1" lang="ru-RU" sz="28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755640" y="1700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 девица сидит в темниц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са на улиц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Картинки по запросу морковь"/>
          <p:cNvPicPr/>
          <p:nvPr/>
        </p:nvPicPr>
        <p:blipFill>
          <a:blip r:embed="rId1"/>
          <a:stretch/>
        </p:blipFill>
        <p:spPr>
          <a:xfrm>
            <a:off x="2484360" y="2852640"/>
            <a:ext cx="44132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14240" y="571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КОРЕНЬ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слова- значимая ч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д словами родственными держит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л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3672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5160" y="11016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       лесной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ник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ок      лесничи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5361120" y="1177920"/>
            <a:ext cx="936360" cy="738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6645240" y="4638600"/>
            <a:ext cx="93672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658960" y="1371600"/>
            <a:ext cx="576360" cy="50472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3603600" y="2938320"/>
            <a:ext cx="57636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3213000" y="4614840"/>
            <a:ext cx="576360" cy="5032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Левая круглая скобка 8"/>
          <p:cNvSpPr/>
          <p:nvPr/>
        </p:nvSpPr>
        <p:spPr>
          <a:xfrm rot="16200000">
            <a:off x="4554360" y="1001160"/>
            <a:ext cx="95400" cy="1749600"/>
          </a:xfrm>
          <a:custGeom>
            <a:avLst/>
            <a:gdLst>
              <a:gd name="textAreaLeft" fmla="*/ 28080 w 95400"/>
              <a:gd name="textAreaRight" fmla="*/ 95760 w 95400"/>
              <a:gd name="textAreaTop" fmla="*/ 3960 h 1749600"/>
              <a:gd name="textAreaBottom" fmla="*/ 1745640 h 17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8"/>
                </a:cubicBezTo>
                <a:lnTo>
                  <a:pt x="0" y="21502"/>
                </a:lnTo>
                <a:cubicBezTo>
                  <a:pt x="0" y="2155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Левая круглая скобка 9"/>
          <p:cNvSpPr/>
          <p:nvPr/>
        </p:nvSpPr>
        <p:spPr>
          <a:xfrm rot="16200000">
            <a:off x="5495040" y="4078800"/>
            <a:ext cx="46080" cy="21589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8920"/>
              <a:gd name="textAreaBottom" fmla="*/ 215712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Левая круглая скобка 10"/>
          <p:cNvSpPr/>
          <p:nvPr/>
        </p:nvSpPr>
        <p:spPr>
          <a:xfrm rot="16200000">
            <a:off x="1950120" y="2881800"/>
            <a:ext cx="50760" cy="13507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1350720"/>
              <a:gd name="textAreaBottom" fmla="*/ 1348920 h 135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"/>
                  <a:pt x="0" y="68"/>
                </a:cubicBezTo>
                <a:lnTo>
                  <a:pt x="0" y="21532"/>
                </a:lnTo>
                <a:cubicBezTo>
                  <a:pt x="0" y="21566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Левая круглая скобка 11"/>
          <p:cNvSpPr/>
          <p:nvPr/>
        </p:nvSpPr>
        <p:spPr>
          <a:xfrm rot="16200000">
            <a:off x="1817640" y="4518000"/>
            <a:ext cx="117360" cy="136836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1368360"/>
              <a:gd name="textAreaBottom" fmla="*/ 13636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8"/>
                  <a:pt x="0" y="155"/>
                </a:cubicBezTo>
                <a:lnTo>
                  <a:pt x="0" y="21445"/>
                </a:lnTo>
                <a:cubicBezTo>
                  <a:pt x="0" y="21523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Левая круглая скобка 12"/>
          <p:cNvSpPr/>
          <p:nvPr/>
        </p:nvSpPr>
        <p:spPr>
          <a:xfrm rot="16200000">
            <a:off x="1903320" y="1207800"/>
            <a:ext cx="144360" cy="115092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1150920"/>
              <a:gd name="textAreaBottom" fmla="*/ 11451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6"/>
                </a:cubicBezTo>
                <a:lnTo>
                  <a:pt x="0" y="21374"/>
                </a:lnTo>
                <a:cubicBezTo>
                  <a:pt x="0" y="21487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Дуга 13"/>
          <p:cNvSpPr/>
          <p:nvPr/>
        </p:nvSpPr>
        <p:spPr>
          <a:xfrm rot="17157000">
            <a:off x="4650840" y="42447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Дуга 14"/>
          <p:cNvSpPr/>
          <p:nvPr/>
        </p:nvSpPr>
        <p:spPr>
          <a:xfrm rot="17157000">
            <a:off x="4022280" y="9554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Дуга 15"/>
          <p:cNvSpPr/>
          <p:nvPr/>
        </p:nvSpPr>
        <p:spPr>
          <a:xfrm rot="17157000">
            <a:off x="1547280" y="23619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Дуга 16"/>
          <p:cNvSpPr/>
          <p:nvPr/>
        </p:nvSpPr>
        <p:spPr>
          <a:xfrm rot="17157000">
            <a:off x="1577520" y="43700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Дуга 17"/>
          <p:cNvSpPr/>
          <p:nvPr/>
        </p:nvSpPr>
        <p:spPr>
          <a:xfrm rot="17157000">
            <a:off x="1548360" y="956160"/>
            <a:ext cx="816120" cy="1188720"/>
          </a:xfrm>
          <a:custGeom>
            <a:avLst/>
            <a:gdLst/>
            <a:ahLst/>
            <a:rect l="l" t="t" r="r" b="b"/>
            <a:pathLst>
              <a:path stroke="0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  <a:lnTo>
                  <a:pt x="407988" y="594519"/>
                </a:lnTo>
                <a:lnTo>
                  <a:pt x="316652" y="15089"/>
                </a:lnTo>
                <a:close/>
              </a:path>
              <a:path fill="none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280" y="472392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 78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7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260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319" name="Круглая лента лицом вверх 23"/>
          <p:cNvSpPr/>
          <p:nvPr/>
        </p:nvSpPr>
        <p:spPr>
          <a:xfrm>
            <a:off x="324000" y="189000"/>
            <a:ext cx="5327640" cy="431640"/>
          </a:xfrm>
          <a:custGeom>
            <a:avLst/>
            <a:gdLst>
              <a:gd name="textAreaLeft" fmla="*/ 1303560 w 5327640"/>
              <a:gd name="textAreaRight" fmla="*/ 4024080 w 5327640"/>
              <a:gd name="textAreaTop" fmla="*/ 23040 h 431640"/>
              <a:gd name="textAreaBottom" fmla="*/ 225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323"/>
                </a:moveTo>
                <a:arcTo wR="21600" hR="34969" stAng="-6577634" swAng="621884"/>
                <a:lnTo>
                  <a:pt x="5286" y="1159"/>
                </a:lnTo>
                <a:arcTo wR="21600" hR="34969" stAng="-5955750" swAng="1111500"/>
                <a:lnTo>
                  <a:pt x="16314" y="6797"/>
                </a:lnTo>
                <a:arcTo wR="21600" hR="34969" stAng="-4844250" swAng="621884"/>
                <a:lnTo>
                  <a:pt x="18900" y="13828"/>
                </a:lnTo>
                <a:lnTo>
                  <a:pt x="21600" y="21600"/>
                </a:lnTo>
                <a:lnTo>
                  <a:pt x="21600" y="21600"/>
                </a:lnTo>
                <a:arcTo wR="21600" hR="34969" stAng="-4222366" swAng="-899229"/>
                <a:lnTo>
                  <a:pt x="13614" y="11575"/>
                </a:lnTo>
                <a:arcTo wR="21600" hR="34969" stAng="-5121595" swAng="-556809"/>
                <a:lnTo>
                  <a:pt x="7986" y="17213"/>
                </a:lnTo>
                <a:arcTo wR="21600" hR="34969" stAng="-5678405" swAng="-899229"/>
                <a:lnTo>
                  <a:pt x="2700" y="13828"/>
                </a:lnTo>
                <a:close/>
              </a:path>
              <a:path fill="none" w="21600" h="21600">
                <a:moveTo>
                  <a:pt x="7986" y="11575"/>
                </a:moveTo>
                <a:arcTo wR="21600" hR="34969" stAng="-5678405" swAng="-277345"/>
                <a:lnTo>
                  <a:pt x="7986" y="17213"/>
                </a:lnTo>
              </a:path>
              <a:path fill="none" w="21600" h="21600">
                <a:moveTo>
                  <a:pt x="13614" y="11575"/>
                </a:moveTo>
                <a:arcTo wR="21600" hR="34969" stAng="-5121595" swAng="277345"/>
                <a:lnTo>
                  <a:pt x="13614" y="17213"/>
                </a:lnTo>
              </a:path>
              <a:path fill="none" w="21600" h="21600">
                <a:moveTo>
                  <a:pt x="5286" y="6797"/>
                </a:moveTo>
                <a:lnTo>
                  <a:pt x="5286" y="12436"/>
                </a:lnTo>
              </a:path>
              <a:path fill="none" w="21600" h="21600">
                <a:moveTo>
                  <a:pt x="16314" y="6797"/>
                </a:moveTo>
                <a:lnTo>
                  <a:pt x="16314" y="12436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Круглая лента лицом вверх 24"/>
          <p:cNvSpPr/>
          <p:nvPr/>
        </p:nvSpPr>
        <p:spPr>
          <a:xfrm rot="5400000">
            <a:off x="7428960" y="5143320"/>
            <a:ext cx="3000240" cy="428760"/>
          </a:xfrm>
          <a:custGeom>
            <a:avLst/>
            <a:gdLst>
              <a:gd name="textAreaLeft" fmla="*/ 749880 w 3000240"/>
              <a:gd name="textAreaRight" fmla="*/ 2250360 w 3000240"/>
              <a:gd name="textAreaTop" fmla="*/ 12600 h 428760"/>
              <a:gd name="textAreaBottom" fmla="*/ 23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9917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7857"/>
                </a:lnTo>
                <a:arcTo wR="21600" hR="20153" stAng="-4471878" swAng="976834"/>
                <a:lnTo>
                  <a:pt x="18900" y="14529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1841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529"/>
                </a:lnTo>
                <a:close/>
              </a:path>
              <a:path fill="none" w="21600" h="21600">
                <a:moveTo>
                  <a:pt x="8100" y="11841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1841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7857"/>
                </a:moveTo>
                <a:lnTo>
                  <a:pt x="5400" y="12323"/>
                </a:lnTo>
              </a:path>
              <a:path fill="none" w="21600" h="21600">
                <a:moveTo>
                  <a:pt x="16200" y="7857"/>
                </a:moveTo>
                <a:lnTo>
                  <a:pt x="16200" y="12323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42960" y="714240"/>
            <a:ext cx="635796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слов-названий предмет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,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(что?) пенал. Нет (чего?) пена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на, оно)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он) пенал – (они) пенал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"/>
          <p:cNvSpPr/>
          <p:nvPr/>
        </p:nvSpPr>
        <p:spPr>
          <a:xfrm>
            <a:off x="1547640" y="4869000"/>
            <a:ext cx="6347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195640" y="5013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Работа с учебником с. 79 упр. №5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78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–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-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ы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2771640" y="2708280"/>
            <a:ext cx="52437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755640" y="436572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ё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611280" y="692280"/>
            <a:ext cx="7921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Источни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Учебник. Русский язык 2 класс ч.1 Чуракова Н.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под ред.Каленчук М.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extBox 4" descr=""/>
          <p:cNvPicPr/>
          <p:nvPr/>
        </p:nvPicPr>
        <p:blipFill>
          <a:blip r:embed="rId1"/>
          <a:stretch/>
        </p:blipFill>
        <p:spPr>
          <a:xfrm>
            <a:off x="738360" y="1773360"/>
            <a:ext cx="4967280" cy="18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mg-fotki.yandex.ru/get/9303/16969765.1c9/0_893ef_33bc0e9f_orig.png"/>
          <p:cNvPicPr/>
          <p:nvPr/>
        </p:nvPicPr>
        <p:blipFill>
          <a:blip r:embed="rId2"/>
          <a:stretch/>
        </p:blipFill>
        <p:spPr>
          <a:xfrm>
            <a:off x="3265560" y="2513160"/>
            <a:ext cx="4751280" cy="287640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35480" cy="203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img-fotki.yandex.ru/get/6511/130884706.2b/0_7dd05_6031c850_L.png"/>
          <p:cNvPicPr/>
          <p:nvPr/>
        </p:nvPicPr>
        <p:blipFill>
          <a:blip r:embed="rId2"/>
          <a:stretch/>
        </p:blipFill>
        <p:spPr>
          <a:xfrm>
            <a:off x="5076720" y="2276640"/>
            <a:ext cx="356400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321480" y="693720"/>
            <a:ext cx="76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3200" spc="-1" strike="noStrike">
                <a:solidFill>
                  <a:srgbClr val="7f7f7f"/>
                </a:solidFill>
                <a:latin typeface="Propisi"/>
              </a:rPr>
              <a:t>: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4808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7" descr="Картинки по запросу лопата"/>
          <p:cNvPicPr/>
          <p:nvPr/>
        </p:nvPicPr>
        <p:blipFill>
          <a:blip r:embed="rId2"/>
          <a:stretch/>
        </p:blipFill>
        <p:spPr>
          <a:xfrm>
            <a:off x="3132000" y="3068640"/>
            <a:ext cx="2087640" cy="34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042920" y="220500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евчоночьей красы У неё лишь слёзы, Ведь мальчишки каждый день Дергают за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681480" y="90792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Картинки по запросу коса волосы"/>
          <p:cNvPicPr/>
          <p:nvPr/>
        </p:nvPicPr>
        <p:blipFill>
          <a:blip r:embed="rId1"/>
          <a:stretch/>
        </p:blipFill>
        <p:spPr>
          <a:xfrm>
            <a:off x="2195640" y="3860640"/>
            <a:ext cx="5127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699160" cy="203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www.zooclub.ru/attach/birds/125.jpg"/>
          <p:cNvPicPr/>
          <p:nvPr/>
        </p:nvPicPr>
        <p:blipFill>
          <a:blip r:embed="rId2"/>
          <a:stretch/>
        </p:blipFill>
        <p:spPr>
          <a:xfrm>
            <a:off x="5508720" y="1844640"/>
            <a:ext cx="2338200" cy="34401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6">
            <a:hlinkClick r:id="" action="ppaction://hlinkshowjump?jump=nextslide"/>
          </p:cNvPr>
          <p:cNvSpPr/>
          <p:nvPr/>
        </p:nvSpPr>
        <p:spPr>
          <a:xfrm>
            <a:off x="631800" y="4522680"/>
            <a:ext cx="7280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Раздели слова на две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TextBox 4" descr=""/>
          <p:cNvPicPr/>
          <p:nvPr/>
        </p:nvPicPr>
        <p:blipFill>
          <a:blip r:embed="rId1"/>
          <a:stretch/>
        </p:blipFill>
        <p:spPr>
          <a:xfrm>
            <a:off x="725400" y="201600"/>
            <a:ext cx="6705720" cy="195588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1"/>
          <p:cNvSpPr/>
          <p:nvPr/>
        </p:nvSpPr>
        <p:spPr>
          <a:xfrm>
            <a:off x="509760" y="412920"/>
            <a:ext cx="740232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TextBox 8" descr=""/>
          <p:cNvPicPr/>
          <p:nvPr/>
        </p:nvPicPr>
        <p:blipFill>
          <a:blip r:embed="rId2"/>
          <a:stretch/>
        </p:blipFill>
        <p:spPr>
          <a:xfrm>
            <a:off x="695160" y="2266920"/>
            <a:ext cx="7339320" cy="21463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3"/>
          <p:cNvSpPr/>
          <p:nvPr/>
        </p:nvSpPr>
        <p:spPr>
          <a:xfrm>
            <a:off x="1547640" y="314172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4210200" y="32432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>
            <a:off x="3635280" y="387180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5772240" y="3206880"/>
            <a:ext cx="28872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>
            <a:off x="5076720" y="38606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21"/>
          <p:cNvSpPr/>
          <p:nvPr/>
        </p:nvSpPr>
        <p:spPr>
          <a:xfrm>
            <a:off x="1403280" y="386064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 flipV="1">
            <a:off x="2679840" y="26967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24"/>
          <p:cNvSpPr/>
          <p:nvPr/>
        </p:nvSpPr>
        <p:spPr>
          <a:xfrm flipV="1">
            <a:off x="2195640" y="325872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25"/>
          <p:cNvSpPr/>
          <p:nvPr/>
        </p:nvSpPr>
        <p:spPr>
          <a:xfrm flipV="1">
            <a:off x="4784760" y="2617560"/>
            <a:ext cx="13500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 flipV="1">
            <a:off x="6516720" y="26175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27"/>
          <p:cNvSpPr/>
          <p:nvPr/>
        </p:nvSpPr>
        <p:spPr>
          <a:xfrm flipV="1">
            <a:off x="5994360" y="3346200"/>
            <a:ext cx="13356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Скругленный прямоугольник 28"/>
          <p:cNvSpPr/>
          <p:nvPr/>
        </p:nvSpPr>
        <p:spPr>
          <a:xfrm>
            <a:off x="631800" y="2482920"/>
            <a:ext cx="7280280" cy="15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оставь ударение. Подчеркни безударные глас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Box 4" descr=""/>
          <p:cNvPicPr/>
          <p:nvPr/>
        </p:nvPicPr>
        <p:blipFill>
          <a:blip r:embed="rId1"/>
          <a:stretch/>
        </p:blipFill>
        <p:spPr>
          <a:xfrm>
            <a:off x="725400" y="2114640"/>
            <a:ext cx="3614760" cy="2566800"/>
          </a:xfrm>
          <a:prstGeom prst="rect">
            <a:avLst/>
          </a:prstGeom>
          <a:ln w="0">
            <a:noFill/>
          </a:ln>
        </p:spPr>
      </p:pic>
      <p:sp>
        <p:nvSpPr>
          <p:cNvPr id="260" name="Скругленный прямоугольник 1"/>
          <p:cNvSpPr/>
          <p:nvPr/>
        </p:nvSpPr>
        <p:spPr>
          <a:xfrm>
            <a:off x="892080" y="728640"/>
            <a:ext cx="3024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кругленный прямоугольник 28"/>
          <p:cNvSpPr/>
          <p:nvPr/>
        </p:nvSpPr>
        <p:spPr>
          <a:xfrm>
            <a:off x="4497480" y="728640"/>
            <a:ext cx="34592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Не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(словарно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TextBox 29" descr=""/>
          <p:cNvPicPr/>
          <p:nvPr/>
        </p:nvPicPr>
        <p:blipFill>
          <a:blip r:embed="rId2"/>
          <a:stretch/>
        </p:blipFill>
        <p:spPr>
          <a:xfrm>
            <a:off x="5095800" y="2243160"/>
            <a:ext cx="2852640" cy="2389320"/>
          </a:xfrm>
          <a:prstGeom prst="rect">
            <a:avLst/>
          </a:prstGeom>
          <a:ln w="0">
            <a:noFill/>
          </a:ln>
        </p:spPr>
      </p:pic>
      <p:sp>
        <p:nvSpPr>
          <p:cNvPr id="263" name="Скругленный прямоугольник 3"/>
          <p:cNvSpPr/>
          <p:nvPr/>
        </p:nvSpPr>
        <p:spPr>
          <a:xfrm>
            <a:off x="6037200" y="1709640"/>
            <a:ext cx="2232000" cy="70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ropisi"/>
              </a:rPr>
              <a:t>запомнит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</cp:lastModifiedBy>
  <dcterms:modified xsi:type="dcterms:W3CDTF">2019-11-21T06:52:25Z</dcterms:modified>
  <cp:revision>70</cp:revision>
  <dc:subject/>
  <dc:title>Слайд 1</dc:title>
</cp:coreProperties>
</file>