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3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BC1-2541-41D3-88B4-08441D2740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E531-1137-45A6-934F-BC4DD1C698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B30-3F47-458D-BCD8-8C1AB5F235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FBB-B882-4E0E-9D86-98A8245D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B46-E288-4B63-B1F1-15E961DC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A34-525A-4C96-BFE1-9413329C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226-79EB-4264-830E-DE5E1F8D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E944-C234-486E-B778-F6A6A31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C1CD-1355-47AA-927C-6CA04CE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B02-F7C6-450E-87A2-73021D57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3C2-5C00-4DB3-8068-21D3B7E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B37-D7D4-465A-93E7-EF20473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0CD-832F-4413-A278-76EA9B1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5435-E66A-4EAD-97B9-A965D4B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B07-AA77-4CDE-B173-471B51E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7EF-C4F5-4CC9-A61F-6025692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1A52-9925-4F00-AFB3-F5DC3F2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2C9-AA0C-4AA6-B562-31326A60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03FB-8E0F-451B-8BC9-0F1A75F2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35D-0CDD-42F7-8E87-AA794DD5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42FF-9AD4-4D4B-94FB-F99078EF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58F6-C4C6-4443-8958-D5D457E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C95D-CE3C-47D2-A767-07980C01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E91E-80FB-450A-8EAF-9EC8DB16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3FDA-7939-47C2-BF4D-8D9CFB9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52A-F5B9-4B47-B26D-E533C47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2B16-5A41-4303-A183-D7CD55E3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9BEA-B4BE-40B7-A987-B38D6CC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8E23-151A-4CF8-9C4F-4E981EA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439E-28D3-4992-B238-9ADE642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6210-A96D-4B86-8E56-36A1B4BD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0D0F-A8E4-4F18-BA31-B2B94436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0042-042B-43C2-837A-62C2C17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737C-0FAA-4F4B-AFA1-92E79EF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CAF0-1BE0-474F-A239-14CE1368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7E8C-75CD-4FD1-B01F-E0D4284A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B02-CAC2-4439-9F23-1C805459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1999-51CA-4607-9A92-734F4B9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47B0-7666-46E3-BAB9-BE3770D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B9EB-224E-44E8-8961-7F317B2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F7E4-EEB4-49A5-BA91-C21BD01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7C65-6891-483F-8716-40B1998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40D7-BE16-4F38-9ECA-8BCC41F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3751-3E12-45E0-B8DA-D679CF6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2D8D-B04F-4F0E-BA4E-7F62057A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E9B6-02F9-428F-84B5-542110D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FFF-E86B-4A38-BD13-0258C99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8BF-4AFC-4C43-9040-17EC9DCC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C55-52BC-4A62-A863-BC5270D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140-DCE4-4E8F-90D1-937A5F0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D6A-8CD7-4BBF-BDDB-0EC5C60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13DD-E40E-4F22-B266-F29A2B00CF0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415-E8E7-4F02-BB51-2954CBD7A3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85D-78F0-4D20-9AAB-ED5BDA6567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0BF-A467-4BD8-93B0-BCACD24587B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907920" y="701640"/>
            <a:ext cx="7772400" cy="5413320"/>
          </a:xfrm>
          <a:prstGeom prst="rect">
            <a:avLst/>
          </a:prstGeom>
          <a:ln w="0">
            <a:noFill/>
          </a:ln>
        </p:spPr>
      </p:pic>
      <p:sp>
        <p:nvSpPr>
          <p:cNvPr id="220" name="Подзаголовок 2"/>
          <p:cNvSpPr/>
          <p:nvPr/>
        </p:nvSpPr>
        <p:spPr>
          <a:xfrm>
            <a:off x="4284720" y="5661000"/>
            <a:ext cx="4576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бота по стихотвор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7" name="Рисунок 2" descr=""/>
          <p:cNvPicPr/>
          <p:nvPr/>
        </p:nvPicPr>
        <p:blipFill>
          <a:blip r:embed="rId1"/>
          <a:stretch/>
        </p:blipFill>
        <p:spPr>
          <a:xfrm>
            <a:off x="514440" y="2276640"/>
            <a:ext cx="65386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толковым словарё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95280" y="184464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КЛЮЁ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КЛЕВАТЬ</a:t>
            </a:r>
            <a:r>
              <a:rPr b="0" lang="ru-RU" sz="36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 начальная форма, единственное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5-конечная звезда 3"/>
          <p:cNvSpPr/>
          <p:nvPr/>
        </p:nvSpPr>
        <p:spPr>
          <a:xfrm>
            <a:off x="1908000" y="162864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1" y="164933"/>
                </a:moveTo>
                <a:lnTo>
                  <a:pt x="247384" y="194506"/>
                </a:lnTo>
                <a:lnTo>
                  <a:pt x="288132" y="0"/>
                </a:lnTo>
                <a:lnTo>
                  <a:pt x="328879" y="194506"/>
                </a:lnTo>
                <a:lnTo>
                  <a:pt x="576262" y="164933"/>
                </a:lnTo>
                <a:lnTo>
                  <a:pt x="354062" y="255570"/>
                </a:lnTo>
                <a:lnTo>
                  <a:pt x="466206" y="431799"/>
                </a:lnTo>
                <a:lnTo>
                  <a:pt x="288132" y="293310"/>
                </a:lnTo>
                <a:lnTo>
                  <a:pt x="110057" y="431799"/>
                </a:lnTo>
                <a:lnTo>
                  <a:pt x="222201" y="255570"/>
                </a:lnTo>
                <a:lnTo>
                  <a:pt x="1" y="164933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2480" y="486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b3b3b"/>
                </a:solidFill>
                <a:latin typeface="Trebuchet MS"/>
              </a:rPr>
              <a:t>Работа с учебником с.77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476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642960" y="2286000"/>
            <a:ext cx="6357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-названи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чальной форме отвечают на вопросы: ЧТО ДЕЛАТЬ? ЧТО СДЕЛАТ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5280" y="49413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в тетради с.24 №29 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Picture 14" descr="http://webbiblioteca.com/wp-content/uploads/images/russkij_jazik_2_klass_tetrad_dlja_samostojatelnoj_raboti_1.jpg"/>
          <p:cNvPicPr/>
          <p:nvPr/>
        </p:nvPicPr>
        <p:blipFill>
          <a:blip r:embed="rId1"/>
          <a:stretch/>
        </p:blipFill>
        <p:spPr>
          <a:xfrm>
            <a:off x="468360" y="260280"/>
            <a:ext cx="2928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19280" y="4723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76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8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Овал 10" descr=""/>
          <p:cNvPicPr/>
          <p:nvPr/>
        </p:nvPicPr>
        <p:blipFill>
          <a:blip r:embed="rId2"/>
          <a:stretch/>
        </p:blipFill>
        <p:spPr>
          <a:xfrm>
            <a:off x="1420920" y="74916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80" name="Овал 11" descr=""/>
          <p:cNvPicPr/>
          <p:nvPr/>
        </p:nvPicPr>
        <p:blipFill>
          <a:blip r:embed="rId3"/>
          <a:stretch/>
        </p:blipFill>
        <p:spPr>
          <a:xfrm>
            <a:off x="927000" y="2987640"/>
            <a:ext cx="2724120" cy="1187640"/>
          </a:xfrm>
          <a:prstGeom prst="rect">
            <a:avLst/>
          </a:prstGeom>
          <a:ln w="0">
            <a:noFill/>
          </a:ln>
        </p:spPr>
      </p:pic>
      <p:pic>
        <p:nvPicPr>
          <p:cNvPr id="281" name="Овал 12" descr=""/>
          <p:cNvPicPr/>
          <p:nvPr/>
        </p:nvPicPr>
        <p:blipFill>
          <a:blip r:embed="rId4"/>
          <a:stretch/>
        </p:blipFill>
        <p:spPr>
          <a:xfrm>
            <a:off x="4346640" y="1566720"/>
            <a:ext cx="3846600" cy="1195560"/>
          </a:xfrm>
          <a:prstGeom prst="rect">
            <a:avLst/>
          </a:prstGeom>
          <a:ln w="0">
            <a:noFill/>
          </a:ln>
        </p:spPr>
      </p:pic>
      <p:pic>
        <p:nvPicPr>
          <p:cNvPr id="282" name="Овал 13" descr=""/>
          <p:cNvPicPr/>
          <p:nvPr/>
        </p:nvPicPr>
        <p:blipFill>
          <a:blip r:embed="rId5"/>
          <a:stretch/>
        </p:blipFill>
        <p:spPr>
          <a:xfrm>
            <a:off x="4992840" y="3560760"/>
            <a:ext cx="2981160" cy="1468440"/>
          </a:xfrm>
          <a:prstGeom prst="rect">
            <a:avLst/>
          </a:prstGeom>
          <a:ln w="0">
            <a:noFill/>
          </a:ln>
        </p:spPr>
      </p:pic>
      <p:pic>
        <p:nvPicPr>
          <p:cNvPr id="283" name="Овал 15" descr=""/>
          <p:cNvPicPr/>
          <p:nvPr/>
        </p:nvPicPr>
        <p:blipFill>
          <a:blip r:embed="rId6"/>
          <a:stretch/>
        </p:blipFill>
        <p:spPr>
          <a:xfrm>
            <a:off x="1609560" y="4743360"/>
            <a:ext cx="27673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с двумя скругленными соседними углами 10"/>
          <p:cNvSpPr/>
          <p:nvPr/>
        </p:nvSpPr>
        <p:spPr>
          <a:xfrm>
            <a:off x="539640" y="692280"/>
            <a:ext cx="310356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Форма сло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с двумя скругленными соседними углами 11"/>
          <p:cNvSpPr/>
          <p:nvPr/>
        </p:nvSpPr>
        <p:spPr>
          <a:xfrm>
            <a:off x="4788000" y="692280"/>
            <a:ext cx="3168720" cy="914400"/>
          </a:xfrm>
          <a:prstGeom prst="pie">
            <a:avLst/>
          </a:prstGeom>
          <a:noFill/>
          <a:ln cap="rnd" w="2232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Calibri"/>
              </a:rPr>
              <a:t>Родств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Овал 12" descr=""/>
          <p:cNvPicPr/>
          <p:nvPr/>
        </p:nvPicPr>
        <p:blipFill>
          <a:blip r:embed="rId1"/>
          <a:stretch/>
        </p:blipFill>
        <p:spPr>
          <a:xfrm>
            <a:off x="974880" y="1974960"/>
            <a:ext cx="2238120" cy="1116000"/>
          </a:xfrm>
          <a:prstGeom prst="rect">
            <a:avLst/>
          </a:prstGeom>
          <a:ln w="0">
            <a:noFill/>
          </a:ln>
        </p:spPr>
      </p:pic>
      <p:pic>
        <p:nvPicPr>
          <p:cNvPr id="287" name="Овал 13" descr=""/>
          <p:cNvPicPr/>
          <p:nvPr/>
        </p:nvPicPr>
        <p:blipFill>
          <a:blip r:embed="rId2"/>
          <a:stretch/>
        </p:blipFill>
        <p:spPr>
          <a:xfrm>
            <a:off x="798480" y="3408480"/>
            <a:ext cx="2766960" cy="1358640"/>
          </a:xfrm>
          <a:prstGeom prst="rect">
            <a:avLst/>
          </a:prstGeom>
          <a:ln w="0">
            <a:noFill/>
          </a:ln>
        </p:spPr>
      </p:pic>
      <p:pic>
        <p:nvPicPr>
          <p:cNvPr id="288" name="Овал 14" descr=""/>
          <p:cNvPicPr/>
          <p:nvPr/>
        </p:nvPicPr>
        <p:blipFill>
          <a:blip r:embed="rId3"/>
          <a:stretch/>
        </p:blipFill>
        <p:spPr>
          <a:xfrm>
            <a:off x="785880" y="5048280"/>
            <a:ext cx="2987640" cy="1187280"/>
          </a:xfrm>
          <a:prstGeom prst="rect">
            <a:avLst/>
          </a:prstGeom>
          <a:ln w="0">
            <a:noFill/>
          </a:ln>
        </p:spPr>
      </p:pic>
      <p:pic>
        <p:nvPicPr>
          <p:cNvPr id="289" name="Овал 15" descr=""/>
          <p:cNvPicPr/>
          <p:nvPr/>
        </p:nvPicPr>
        <p:blipFill>
          <a:blip r:embed="rId4"/>
          <a:stretch/>
        </p:blipFill>
        <p:spPr>
          <a:xfrm>
            <a:off x="5261040" y="1901880"/>
            <a:ext cx="2230200" cy="1116000"/>
          </a:xfrm>
          <a:prstGeom prst="rect">
            <a:avLst/>
          </a:prstGeom>
          <a:ln w="0">
            <a:noFill/>
          </a:ln>
        </p:spPr>
      </p:pic>
      <p:pic>
        <p:nvPicPr>
          <p:cNvPr id="290" name="Овал 16" descr=""/>
          <p:cNvPicPr/>
          <p:nvPr/>
        </p:nvPicPr>
        <p:blipFill>
          <a:blip r:embed="rId5"/>
          <a:stretch/>
        </p:blipFill>
        <p:spPr>
          <a:xfrm>
            <a:off x="5132520" y="3286080"/>
            <a:ext cx="2732040" cy="1189080"/>
          </a:xfrm>
          <a:prstGeom prst="rect">
            <a:avLst/>
          </a:prstGeom>
          <a:ln w="0">
            <a:noFill/>
          </a:ln>
        </p:spPr>
      </p:pic>
      <p:pic>
        <p:nvPicPr>
          <p:cNvPr id="291" name="Овал 17" descr=""/>
          <p:cNvPicPr/>
          <p:nvPr/>
        </p:nvPicPr>
        <p:blipFill>
          <a:blip r:embed="rId6"/>
          <a:stretch/>
        </p:blipFill>
        <p:spPr>
          <a:xfrm>
            <a:off x="4773600" y="4694400"/>
            <a:ext cx="3919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1424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404040"/>
                </a:solidFill>
                <a:latin typeface="Trebuchet MS"/>
              </a:rPr>
              <a:t>лес, лесник, лесной, лесовик</a:t>
            </a: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Arc 4"/>
          <p:cNvSpPr/>
          <p:nvPr/>
        </p:nvSpPr>
        <p:spPr>
          <a:xfrm flipV="1" rot="13856400">
            <a:off x="2244240" y="3561480"/>
            <a:ext cx="701640" cy="558720"/>
          </a:xfrm>
          <a:custGeom>
            <a:avLst/>
            <a:gdLst>
              <a:gd name="textAreaLeft" fmla="*/ 0 w 701640"/>
              <a:gd name="textAreaRight" fmla="*/ 702000 w 70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fill="none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</a:path>
              <a:path stroke="0" w="21600" h="20225">
                <a:moveTo>
                  <a:pt x="7583" y="0"/>
                </a:moveTo>
                <a:cubicBezTo>
                  <a:pt x="16014" y="3161"/>
                  <a:pt x="21600" y="11221"/>
                  <a:pt x="21600" y="20225"/>
                </a:cubicBezTo>
                <a:lnTo>
                  <a:pt x="0" y="20225"/>
                </a:lnTo>
                <a:lnTo>
                  <a:pt x="7583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5"/>
          <p:cNvSpPr/>
          <p:nvPr/>
        </p:nvSpPr>
        <p:spPr>
          <a:xfrm flipV="1" rot="13086600">
            <a:off x="1076040" y="3584160"/>
            <a:ext cx="449280" cy="512640"/>
          </a:xfrm>
          <a:custGeom>
            <a:avLst/>
            <a:gdLst>
              <a:gd name="textAreaLeft" fmla="*/ 0 w 449280"/>
              <a:gd name="textAreaRight" fmla="*/ 449640 w 449280"/>
              <a:gd name="textAreaTop" fmla="*/ 360 h 512640"/>
              <a:gd name="textAreaBottom" fmla="*/ 513360 h 512640"/>
            </a:gdLst>
            <a:ahLst/>
            <a:rect l="textAreaLeft" t="textAreaTop" r="textAreaRight" b="textAreaBottom"/>
            <a:pathLst>
              <a:path fill="none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</a:path>
              <a:path stroke="0" w="21223" h="21600">
                <a:moveTo>
                  <a:pt x="57" y="0"/>
                </a:moveTo>
                <a:cubicBezTo>
                  <a:pt x="10416" y="27"/>
                  <a:pt x="19296" y="7405"/>
                  <a:pt x="21223" y="17582"/>
                </a:cubicBezTo>
                <a:lnTo>
                  <a:pt x="0" y="21600"/>
                </a:lnTo>
                <a:lnTo>
                  <a:pt x="5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rc 6"/>
          <p:cNvSpPr/>
          <p:nvPr/>
        </p:nvSpPr>
        <p:spPr>
          <a:xfrm flipV="1" rot="13086600">
            <a:off x="4312080" y="3626640"/>
            <a:ext cx="575280" cy="428760"/>
          </a:xfrm>
          <a:custGeom>
            <a:avLst/>
            <a:gdLst>
              <a:gd name="textAreaLeft" fmla="*/ 0 w 575280"/>
              <a:gd name="textAreaRight" fmla="*/ 575640 w 575280"/>
              <a:gd name="textAreaTop" fmla="*/ -360 h 428760"/>
              <a:gd name="textAreaBottom" fmla="*/ 428760 h 428760"/>
            </a:gdLst>
            <a:ahLst/>
            <a:rect l="textAreaLeft" t="textAreaTop" r="textAreaRight" b="textAreaBottom"/>
            <a:pathLst>
              <a:path fill="none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</a:path>
              <a:path stroke="0" w="21600" h="21415">
                <a:moveTo>
                  <a:pt x="2820" y="0"/>
                </a:moveTo>
                <a:cubicBezTo>
                  <a:pt x="13567" y="1415"/>
                  <a:pt x="21600" y="10576"/>
                  <a:pt x="21600" y="21415"/>
                </a:cubicBezTo>
                <a:lnTo>
                  <a:pt x="0" y="21415"/>
                </a:lnTo>
                <a:lnTo>
                  <a:pt x="2820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"/>
          <p:cNvSpPr/>
          <p:nvPr/>
        </p:nvSpPr>
        <p:spPr>
          <a:xfrm flipV="1" rot="13086600">
            <a:off x="6471720" y="3603600"/>
            <a:ext cx="501840" cy="422280"/>
          </a:xfrm>
          <a:custGeom>
            <a:avLst/>
            <a:gdLst>
              <a:gd name="textAreaLeft" fmla="*/ 0 w 501840"/>
              <a:gd name="textAreaRight" fmla="*/ 502200 w 501840"/>
              <a:gd name="textAreaTop" fmla="*/ -360 h 422280"/>
              <a:gd name="textAreaBottom" fmla="*/ 42228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</a:path>
              <a:path stroke="0" w="21600" h="21600">
                <a:moveTo>
                  <a:pt x="97" y="0"/>
                </a:moveTo>
                <a:cubicBezTo>
                  <a:pt x="11988" y="54"/>
                  <a:pt x="21600" y="9708"/>
                  <a:pt x="21600" y="21600"/>
                </a:cubicBezTo>
                <a:lnTo>
                  <a:pt x="0" y="21600"/>
                </a:lnTo>
                <a:lnTo>
                  <a:pt x="97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714240" y="500040"/>
            <a:ext cx="777744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181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имеющие общую ча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хранит их общий смыс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ОДСТВЕН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755640" y="549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2800" spc="-1" strike="noStrike">
                <a:solidFill>
                  <a:srgbClr val="757575"/>
                </a:solidFill>
                <a:latin typeface="Propisi"/>
              </a:rPr>
              <a:t>:</a:t>
            </a:r>
            <a:r>
              <a:rPr b="1" lang="ru-RU" sz="28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755640" y="17002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 девица сидит в темниц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са на улиц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Картинки по запросу морковь"/>
          <p:cNvPicPr/>
          <p:nvPr/>
        </p:nvPicPr>
        <p:blipFill>
          <a:blip r:embed="rId1"/>
          <a:stretch/>
        </p:blipFill>
        <p:spPr>
          <a:xfrm>
            <a:off x="2484360" y="2852640"/>
            <a:ext cx="44132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14240" y="571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КОРЕН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слова- значимая ч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д словами родственными держит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лас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3672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5160" y="11016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       лесной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ник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лесок      лесничий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5361120" y="1177920"/>
            <a:ext cx="936360" cy="73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6645240" y="4638600"/>
            <a:ext cx="93672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658960" y="1371600"/>
            <a:ext cx="576360" cy="50472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3603600" y="2938320"/>
            <a:ext cx="576360" cy="5050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3213000" y="4614840"/>
            <a:ext cx="576360" cy="50328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Левая круглая скобка 8"/>
          <p:cNvSpPr/>
          <p:nvPr/>
        </p:nvSpPr>
        <p:spPr>
          <a:xfrm rot="16200000">
            <a:off x="4554360" y="1001160"/>
            <a:ext cx="95400" cy="1749600"/>
          </a:xfrm>
          <a:custGeom>
            <a:avLst/>
            <a:gdLst>
              <a:gd name="textAreaLeft" fmla="*/ 28080 w 95400"/>
              <a:gd name="textAreaRight" fmla="*/ 95760 w 95400"/>
              <a:gd name="textAreaTop" fmla="*/ 3960 h 1749600"/>
              <a:gd name="textAreaBottom" fmla="*/ 1745640 h 17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8"/>
                </a:cubicBezTo>
                <a:lnTo>
                  <a:pt x="0" y="21502"/>
                </a:lnTo>
                <a:cubicBezTo>
                  <a:pt x="0" y="2155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Левая круглая скобка 9"/>
          <p:cNvSpPr/>
          <p:nvPr/>
        </p:nvSpPr>
        <p:spPr>
          <a:xfrm rot="16200000">
            <a:off x="5495040" y="4078800"/>
            <a:ext cx="46080" cy="21589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2158920"/>
              <a:gd name="textAreaBottom" fmla="*/ 2157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Левая круглая скобка 10"/>
          <p:cNvSpPr/>
          <p:nvPr/>
        </p:nvSpPr>
        <p:spPr>
          <a:xfrm rot="16200000">
            <a:off x="1950120" y="2881800"/>
            <a:ext cx="50760" cy="13507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1350720"/>
              <a:gd name="textAreaBottom" fmla="*/ 1348920 h 135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4"/>
                  <a:pt x="0" y="68"/>
                </a:cubicBezTo>
                <a:lnTo>
                  <a:pt x="0" y="21532"/>
                </a:lnTo>
                <a:cubicBezTo>
                  <a:pt x="0" y="21566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Левая круглая скобка 11"/>
          <p:cNvSpPr/>
          <p:nvPr/>
        </p:nvSpPr>
        <p:spPr>
          <a:xfrm rot="16200000">
            <a:off x="1817640" y="4518000"/>
            <a:ext cx="117360" cy="1368360"/>
          </a:xfrm>
          <a:custGeom>
            <a:avLst/>
            <a:gdLst>
              <a:gd name="textAreaLeft" fmla="*/ 34560 w 117360"/>
              <a:gd name="textAreaRight" fmla="*/ 117720 w 117360"/>
              <a:gd name="textAreaTop" fmla="*/ 4680 h 1368360"/>
              <a:gd name="textAreaBottom" fmla="*/ 13636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Левая круглая скобка 12"/>
          <p:cNvSpPr/>
          <p:nvPr/>
        </p:nvSpPr>
        <p:spPr>
          <a:xfrm rot="16200000">
            <a:off x="1903320" y="1207800"/>
            <a:ext cx="144360" cy="1150920"/>
          </a:xfrm>
          <a:custGeom>
            <a:avLst/>
            <a:gdLst>
              <a:gd name="textAreaLeft" fmla="*/ 42480 w 144360"/>
              <a:gd name="textAreaRight" fmla="*/ 144360 w 144360"/>
              <a:gd name="textAreaTop" fmla="*/ 5760 h 1150920"/>
              <a:gd name="textAreaBottom" fmla="*/ 11451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6"/>
                </a:cubicBezTo>
                <a:lnTo>
                  <a:pt x="0" y="21374"/>
                </a:lnTo>
                <a:cubicBezTo>
                  <a:pt x="0" y="21487"/>
                  <a:pt x="10800" y="21600"/>
                  <a:pt x="21600" y="21600"/>
                </a:cubicBezTo>
              </a:path>
            </a:pathLst>
          </a:cu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Дуга 13"/>
          <p:cNvSpPr/>
          <p:nvPr/>
        </p:nvSpPr>
        <p:spPr>
          <a:xfrm rot="17157000">
            <a:off x="4650840" y="42447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Дуга 14"/>
          <p:cNvSpPr/>
          <p:nvPr/>
        </p:nvSpPr>
        <p:spPr>
          <a:xfrm rot="17157000">
            <a:off x="4022280" y="9554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Дуга 15"/>
          <p:cNvSpPr/>
          <p:nvPr/>
        </p:nvSpPr>
        <p:spPr>
          <a:xfrm rot="17157000">
            <a:off x="1547280" y="236196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Дуга 16"/>
          <p:cNvSpPr/>
          <p:nvPr/>
        </p:nvSpPr>
        <p:spPr>
          <a:xfrm rot="17157000">
            <a:off x="1577520" y="4370040"/>
            <a:ext cx="816120" cy="1190520"/>
          </a:xfrm>
          <a:custGeom>
            <a:avLst/>
            <a:gdLst/>
            <a:ahLst/>
            <a:rect l="l" t="t" r="r" b="b"/>
            <a:pathLst>
              <a:path stroke="0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  <a:lnTo>
                  <a:pt x="407988" y="595313"/>
                </a:lnTo>
                <a:lnTo>
                  <a:pt x="316536" y="15148"/>
                </a:lnTo>
                <a:close/>
              </a:path>
              <a:path fill="none" w="815975" h="1190625">
                <a:moveTo>
                  <a:pt x="316536" y="15148"/>
                </a:moveTo>
                <a:cubicBezTo>
                  <a:pt x="537955" y="-59162"/>
                  <a:pt x="758319" y="144767"/>
                  <a:pt x="806641" y="468700"/>
                </a:cubicBezTo>
                <a:cubicBezTo>
                  <a:pt x="841189" y="700296"/>
                  <a:pt x="778291" y="939731"/>
                  <a:pt x="646504" y="1078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Дуга 17"/>
          <p:cNvSpPr/>
          <p:nvPr/>
        </p:nvSpPr>
        <p:spPr>
          <a:xfrm rot="17157000">
            <a:off x="1548360" y="956160"/>
            <a:ext cx="816120" cy="1188720"/>
          </a:xfrm>
          <a:custGeom>
            <a:avLst/>
            <a:gdLst/>
            <a:ahLst/>
            <a:rect l="l" t="t" r="r" b="b"/>
            <a:pathLst>
              <a:path stroke="0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  <a:lnTo>
                  <a:pt x="407988" y="594519"/>
                </a:lnTo>
                <a:lnTo>
                  <a:pt x="316652" y="15089"/>
                </a:lnTo>
                <a:close/>
              </a:path>
              <a:path fill="none" w="815975" h="1189038">
                <a:moveTo>
                  <a:pt x="316652" y="15089"/>
                </a:moveTo>
                <a:cubicBezTo>
                  <a:pt x="537997" y="-58998"/>
                  <a:pt x="758253" y="144561"/>
                  <a:pt x="806617" y="467913"/>
                </a:cubicBezTo>
                <a:cubicBezTo>
                  <a:pt x="841237" y="699378"/>
                  <a:pt x="778251" y="938703"/>
                  <a:pt x="646295" y="1077077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23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rebuchet MS"/>
              </a:rPr>
              <a:t>Работа с учебником с. 78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7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755640" y="260280"/>
            <a:ext cx="27147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310360" y="0"/>
            <a:ext cx="3833640" cy="4118040"/>
          </a:xfrm>
          <a:prstGeom prst="rect">
            <a:avLst/>
          </a:prstGeom>
          <a:ln w="0">
            <a:noFill/>
          </a:ln>
        </p:spPr>
      </p:pic>
      <p:sp>
        <p:nvSpPr>
          <p:cNvPr id="319" name="Круглая лента лицом вверх 23"/>
          <p:cNvSpPr/>
          <p:nvPr/>
        </p:nvSpPr>
        <p:spPr>
          <a:xfrm>
            <a:off x="324000" y="189000"/>
            <a:ext cx="5327640" cy="431640"/>
          </a:xfrm>
          <a:custGeom>
            <a:avLst/>
            <a:gdLst>
              <a:gd name="textAreaLeft" fmla="*/ 1303560 w 5327640"/>
              <a:gd name="textAreaRight" fmla="*/ 4024080 w 5327640"/>
              <a:gd name="textAreaTop" fmla="*/ 23040 h 431640"/>
              <a:gd name="textAreaBottom" fmla="*/ 225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323"/>
                </a:moveTo>
                <a:arcTo wR="21600" hR="34969" stAng="-6577634" swAng="621884"/>
                <a:lnTo>
                  <a:pt x="5286" y="1159"/>
                </a:lnTo>
                <a:arcTo wR="21600" hR="34969" stAng="-5955750" swAng="1111500"/>
                <a:lnTo>
                  <a:pt x="16314" y="6797"/>
                </a:lnTo>
                <a:arcTo wR="21600" hR="34969" stAng="-4844250" swAng="621884"/>
                <a:lnTo>
                  <a:pt x="18900" y="13828"/>
                </a:lnTo>
                <a:lnTo>
                  <a:pt x="21600" y="21600"/>
                </a:lnTo>
                <a:lnTo>
                  <a:pt x="21600" y="21600"/>
                </a:lnTo>
                <a:arcTo wR="21600" hR="34969" stAng="-4222366" swAng="-899229"/>
                <a:lnTo>
                  <a:pt x="13614" y="11575"/>
                </a:lnTo>
                <a:arcTo wR="21600" hR="34969" stAng="-5121595" swAng="-556809"/>
                <a:lnTo>
                  <a:pt x="7986" y="17213"/>
                </a:lnTo>
                <a:arcTo wR="21600" hR="34969" stAng="-5678405" swAng="-899229"/>
                <a:lnTo>
                  <a:pt x="2700" y="13828"/>
                </a:lnTo>
                <a:close/>
              </a:path>
              <a:path fill="none" w="21600" h="21600">
                <a:moveTo>
                  <a:pt x="7986" y="11575"/>
                </a:moveTo>
                <a:arcTo wR="21600" hR="34969" stAng="-5678405" swAng="-277345"/>
                <a:lnTo>
                  <a:pt x="7986" y="17213"/>
                </a:lnTo>
              </a:path>
              <a:path fill="none" w="21600" h="21600">
                <a:moveTo>
                  <a:pt x="13614" y="11575"/>
                </a:moveTo>
                <a:arcTo wR="21600" hR="34969" stAng="-5121595" swAng="277345"/>
                <a:lnTo>
                  <a:pt x="13614" y="17213"/>
                </a:lnTo>
              </a:path>
              <a:path fill="none" w="21600" h="21600">
                <a:moveTo>
                  <a:pt x="5286" y="6797"/>
                </a:moveTo>
                <a:lnTo>
                  <a:pt x="5286" y="12436"/>
                </a:lnTo>
              </a:path>
              <a:path fill="none" w="21600" h="21600">
                <a:moveTo>
                  <a:pt x="16314" y="6797"/>
                </a:moveTo>
                <a:lnTo>
                  <a:pt x="16314" y="12436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Круглая лента лицом вверх 24"/>
          <p:cNvSpPr/>
          <p:nvPr/>
        </p:nvSpPr>
        <p:spPr>
          <a:xfrm rot="5400000">
            <a:off x="7428960" y="5143320"/>
            <a:ext cx="3000240" cy="428760"/>
          </a:xfrm>
          <a:custGeom>
            <a:avLst/>
            <a:gdLst>
              <a:gd name="textAreaLeft" fmla="*/ 749880 w 3000240"/>
              <a:gd name="textAreaRight" fmla="*/ 2250360 w 3000240"/>
              <a:gd name="textAreaTop" fmla="*/ 12600 h 428760"/>
              <a:gd name="textAreaBottom" fmla="*/ 23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9917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7857"/>
                </a:lnTo>
                <a:arcTo wR="21600" hR="20153" stAng="-4471878" swAng="976834"/>
                <a:lnTo>
                  <a:pt x="18900" y="14529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1841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4529"/>
                </a:lnTo>
                <a:close/>
              </a:path>
              <a:path fill="none" w="21600" h="21600">
                <a:moveTo>
                  <a:pt x="8100" y="11841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1841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7857"/>
                </a:moveTo>
                <a:lnTo>
                  <a:pt x="5400" y="12323"/>
                </a:lnTo>
              </a:path>
              <a:path fill="none" w="21600" h="21600">
                <a:moveTo>
                  <a:pt x="16200" y="7857"/>
                </a:moveTo>
                <a:lnTo>
                  <a:pt x="16200" y="12323"/>
                </a:lnTo>
              </a:path>
            </a:pathLst>
          </a:custGeom>
          <a:solidFill>
            <a:srgbClr val="54a021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42960" y="714240"/>
            <a:ext cx="635796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слов-названий предмет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,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(что?) пенал. Нет (чего?) пена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способ: с помощью сл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на, оно) –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он) пенал – (они) пенал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"/>
          <p:cNvSpPr/>
          <p:nvPr/>
        </p:nvSpPr>
        <p:spPr>
          <a:xfrm>
            <a:off x="1547640" y="4869000"/>
            <a:ext cx="6347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195640" y="501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Работа с учебником с. 79 упр. №5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8" descr="http://www.ukazka.ru/img/b/uk1146445.jpg"/>
          <p:cNvPicPr/>
          <p:nvPr/>
        </p:nvPicPr>
        <p:blipFill>
          <a:blip r:embed="rId1"/>
          <a:stretch/>
        </p:blipFill>
        <p:spPr>
          <a:xfrm>
            <a:off x="1042920" y="404640"/>
            <a:ext cx="2714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785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–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</a:rPr>
              <a:t>пенал - пенал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ы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2771640" y="2708280"/>
            <a:ext cx="52437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–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линейк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Заголовок 1"/>
          <p:cNvSpPr/>
          <p:nvPr/>
        </p:nvSpPr>
        <p:spPr>
          <a:xfrm>
            <a:off x="755640" y="436572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br>
              <a:rPr sz="4400"/>
            </a:b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зе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4200"/>
                </a:solidFill>
                <a:latin typeface="Trebuchet MS"/>
                <a:ea typeface="Times New Roman"/>
              </a:rPr>
              <a:t> - зёрн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611280" y="692280"/>
            <a:ext cx="792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Источн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Учебник. Русский язык 2 класс ч.1 Чуракова Н.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под ред.Каленчук М.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4" descr=""/>
          <p:cNvPicPr/>
          <p:nvPr/>
        </p:nvPicPr>
        <p:blipFill>
          <a:blip r:embed="rId1"/>
          <a:stretch/>
        </p:blipFill>
        <p:spPr>
          <a:xfrm>
            <a:off x="738360" y="1773360"/>
            <a:ext cx="4967280" cy="18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img-fotki.yandex.ru/get/9303/16969765.1c9/0_893ef_33bc0e9f_orig.png"/>
          <p:cNvPicPr/>
          <p:nvPr/>
        </p:nvPicPr>
        <p:blipFill>
          <a:blip r:embed="rId2"/>
          <a:stretch/>
        </p:blipFill>
        <p:spPr>
          <a:xfrm>
            <a:off x="3265560" y="2513160"/>
            <a:ext cx="4751280" cy="2876400"/>
          </a:xfrm>
          <a:prstGeom prst="rect">
            <a:avLst/>
          </a:prstGeom>
          <a:ln w="0">
            <a:noFill/>
          </a:ln>
        </p:spPr>
      </p:pic>
      <p:sp>
        <p:nvSpPr>
          <p:cNvPr id="22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0042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35480" cy="203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img-fotki.yandex.ru/get/6511/130884706.2b/0_7dd05_6031c850_L.png"/>
          <p:cNvPicPr/>
          <p:nvPr/>
        </p:nvPicPr>
        <p:blipFill>
          <a:blip r:embed="rId2"/>
          <a:stretch/>
        </p:blipFill>
        <p:spPr>
          <a:xfrm>
            <a:off x="5076720" y="2276640"/>
            <a:ext cx="356400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321480" y="693720"/>
            <a:ext cx="76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</a:t>
            </a:r>
            <a:r>
              <a:rPr b="1" lang="ru-RU" sz="3200" spc="-1" strike="noStrike">
                <a:solidFill>
                  <a:srgbClr val="7f7f7f"/>
                </a:solidFill>
                <a:latin typeface="Propisi"/>
              </a:rPr>
              <a:t>:</a:t>
            </a:r>
            <a:r>
              <a:rPr b="1" lang="ru-RU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24808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7" descr="Картинки по запросу лопата"/>
          <p:cNvPicPr/>
          <p:nvPr/>
        </p:nvPicPr>
        <p:blipFill>
          <a:blip r:embed="rId2"/>
          <a:stretch/>
        </p:blipFill>
        <p:spPr>
          <a:xfrm>
            <a:off x="3132000" y="3068640"/>
            <a:ext cx="2087640" cy="34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042920" y="22050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евчоночьей красы У неё лишь слёзы, Ведь мальчишки каждый день Дергают за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681480" y="90792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  <a:ea typeface="Times New Roman"/>
              </a:rPr>
              <a:t>Отгадай загадку, запиши отгадк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Картинки по запросу коса волосы"/>
          <p:cNvPicPr/>
          <p:nvPr/>
        </p:nvPicPr>
        <p:blipFill>
          <a:blip r:embed="rId1"/>
          <a:stretch/>
        </p:blipFill>
        <p:spPr>
          <a:xfrm>
            <a:off x="2195640" y="3860640"/>
            <a:ext cx="5127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321480" y="69372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Отгадай загадку, запиши отгадку:</a:t>
            </a:r>
            <a:r>
              <a:rPr b="1" lang="ru-RU" sz="3200" spc="-1" strike="noStrike">
                <a:solidFill>
                  <a:srgbClr val="75757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TextBox 4" descr=""/>
          <p:cNvPicPr/>
          <p:nvPr/>
        </p:nvPicPr>
        <p:blipFill>
          <a:blip r:embed="rId1"/>
          <a:stretch/>
        </p:blipFill>
        <p:spPr>
          <a:xfrm>
            <a:off x="774720" y="1785960"/>
            <a:ext cx="5699160" cy="2030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www.zooclub.ru/attach/birds/125.jpg"/>
          <p:cNvPicPr/>
          <p:nvPr/>
        </p:nvPicPr>
        <p:blipFill>
          <a:blip r:embed="rId2"/>
          <a:stretch/>
        </p:blipFill>
        <p:spPr>
          <a:xfrm>
            <a:off x="5508720" y="1844640"/>
            <a:ext cx="2338200" cy="34401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46840" y="5516640"/>
            <a:ext cx="540000" cy="5414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1600" h="21658">
                <a:moveTo>
                  <a:pt x="0" y="0"/>
                </a:moveTo>
                <a:lnTo>
                  <a:pt x="21600" y="0"/>
                </a:lnTo>
                <a:lnTo>
                  <a:pt x="21600" y="21658"/>
                </a:lnTo>
                <a:lnTo>
                  <a:pt x="0" y="21658"/>
                </a:lnTo>
                <a:close/>
              </a:path>
              <a:path fill="lightenLess" w="21600" h="216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8">
                <a:moveTo>
                  <a:pt x="21600" y="0"/>
                </a:moveTo>
                <a:lnTo>
                  <a:pt x="21600" y="21658"/>
                </a:lnTo>
                <a:lnTo>
                  <a:pt x="20200" y="20258"/>
                </a:lnTo>
                <a:lnTo>
                  <a:pt x="20200" y="1400"/>
                </a:lnTo>
                <a:close/>
              </a:path>
              <a:path fill="darkenLess" w="21600" h="21658">
                <a:moveTo>
                  <a:pt x="21600" y="21658"/>
                </a:moveTo>
                <a:lnTo>
                  <a:pt x="0" y="21658"/>
                </a:lnTo>
                <a:lnTo>
                  <a:pt x="1400" y="20258"/>
                </a:lnTo>
                <a:lnTo>
                  <a:pt x="20200" y="20258"/>
                </a:lnTo>
                <a:close/>
              </a:path>
              <a:path fill="lighten" w="21600" h="21658">
                <a:moveTo>
                  <a:pt x="0" y="216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8"/>
                </a:lnTo>
                <a:close/>
              </a:path>
              <a:path fill="darken" w="21600" h="21658">
                <a:moveTo>
                  <a:pt x="3794" y="3822"/>
                </a:moveTo>
                <a:lnTo>
                  <a:pt x="17806" y="10829"/>
                </a:lnTo>
                <a:lnTo>
                  <a:pt x="3794" y="1783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595959"/>
              </a:gs>
            </a:gsLst>
            <a:lin ang="54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6">
            <a:hlinkClick r:id="" action="ppaction://hlinkshowjump?jump=nextslide"/>
          </p:cNvPr>
          <p:cNvSpPr/>
          <p:nvPr/>
        </p:nvSpPr>
        <p:spPr>
          <a:xfrm>
            <a:off x="631800" y="4522680"/>
            <a:ext cx="7280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Раздели слова на две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TextBox 4" descr=""/>
          <p:cNvPicPr/>
          <p:nvPr/>
        </p:nvPicPr>
        <p:blipFill>
          <a:blip r:embed="rId1"/>
          <a:stretch/>
        </p:blipFill>
        <p:spPr>
          <a:xfrm>
            <a:off x="725400" y="201600"/>
            <a:ext cx="6705720" cy="19558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1"/>
          <p:cNvSpPr/>
          <p:nvPr/>
        </p:nvSpPr>
        <p:spPr>
          <a:xfrm>
            <a:off x="509760" y="412920"/>
            <a:ext cx="7402320" cy="142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TextBox 8" descr=""/>
          <p:cNvPicPr/>
          <p:nvPr/>
        </p:nvPicPr>
        <p:blipFill>
          <a:blip r:embed="rId2"/>
          <a:stretch/>
        </p:blipFill>
        <p:spPr>
          <a:xfrm>
            <a:off x="695160" y="2266920"/>
            <a:ext cx="7339320" cy="21463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3"/>
          <p:cNvSpPr/>
          <p:nvPr/>
        </p:nvSpPr>
        <p:spPr>
          <a:xfrm>
            <a:off x="1547640" y="314172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4210200" y="32432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>
            <a:off x="3635280" y="387180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5772240" y="3206880"/>
            <a:ext cx="28872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>
            <a:off x="5076720" y="3860640"/>
            <a:ext cx="2872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21"/>
          <p:cNvSpPr/>
          <p:nvPr/>
        </p:nvSpPr>
        <p:spPr>
          <a:xfrm>
            <a:off x="1403280" y="3860640"/>
            <a:ext cx="289080" cy="0"/>
          </a:xfrm>
          <a:prstGeom prst="line">
            <a:avLst/>
          </a:prstGeom>
          <a:ln cap="rnd"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 flipV="1">
            <a:off x="2679840" y="26967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ая соединительная линия 24"/>
          <p:cNvSpPr/>
          <p:nvPr/>
        </p:nvSpPr>
        <p:spPr>
          <a:xfrm flipV="1">
            <a:off x="2195640" y="325872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ая соединительная линия 25"/>
          <p:cNvSpPr/>
          <p:nvPr/>
        </p:nvSpPr>
        <p:spPr>
          <a:xfrm flipV="1">
            <a:off x="4784760" y="2617560"/>
            <a:ext cx="13500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26"/>
          <p:cNvSpPr/>
          <p:nvPr/>
        </p:nvSpPr>
        <p:spPr>
          <a:xfrm flipV="1">
            <a:off x="6516720" y="2617560"/>
            <a:ext cx="13644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 flipV="1">
            <a:off x="5994360" y="3346200"/>
            <a:ext cx="133560" cy="152280"/>
          </a:xfrm>
          <a:prstGeom prst="line">
            <a:avLst/>
          </a:prstGeom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Скругленный прямоугольник 28"/>
          <p:cNvSpPr/>
          <p:nvPr/>
        </p:nvSpPr>
        <p:spPr>
          <a:xfrm>
            <a:off x="631800" y="2482920"/>
            <a:ext cx="7280280" cy="15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оставь ударение. Подчеркни безударные глас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Box 4" descr=""/>
          <p:cNvPicPr/>
          <p:nvPr/>
        </p:nvPicPr>
        <p:blipFill>
          <a:blip r:embed="rId1"/>
          <a:stretch/>
        </p:blipFill>
        <p:spPr>
          <a:xfrm>
            <a:off x="725400" y="2114640"/>
            <a:ext cx="3614760" cy="2566800"/>
          </a:xfrm>
          <a:prstGeom prst="rect">
            <a:avLst/>
          </a:prstGeom>
          <a:ln w="0">
            <a:noFill/>
          </a:ln>
        </p:spPr>
      </p:pic>
      <p:sp>
        <p:nvSpPr>
          <p:cNvPr id="260" name="Скругленный прямоугольник 1"/>
          <p:cNvSpPr/>
          <p:nvPr/>
        </p:nvSpPr>
        <p:spPr>
          <a:xfrm>
            <a:off x="892080" y="728640"/>
            <a:ext cx="3024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кругленный прямоугольник 28"/>
          <p:cNvSpPr/>
          <p:nvPr/>
        </p:nvSpPr>
        <p:spPr>
          <a:xfrm>
            <a:off x="4497480" y="728640"/>
            <a:ext cx="34592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cap="rnd" w="19080">
            <a:solidFill>
              <a:srgbClr val="755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Непроверяе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200"/>
                </a:solidFill>
                <a:latin typeface="Propisi"/>
              </a:rPr>
              <a:t>(словарно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TextBox 29" descr=""/>
          <p:cNvPicPr/>
          <p:nvPr/>
        </p:nvPicPr>
        <p:blipFill>
          <a:blip r:embed="rId2"/>
          <a:stretch/>
        </p:blipFill>
        <p:spPr>
          <a:xfrm>
            <a:off x="5095800" y="2243160"/>
            <a:ext cx="2852640" cy="2389320"/>
          </a:xfrm>
          <a:prstGeom prst="rect">
            <a:avLst/>
          </a:prstGeom>
          <a:ln w="0">
            <a:noFill/>
          </a:ln>
        </p:spPr>
      </p:pic>
      <p:sp>
        <p:nvSpPr>
          <p:cNvPr id="263" name="Скругленный прямоугольник 3"/>
          <p:cNvSpPr/>
          <p:nvPr/>
        </p:nvSpPr>
        <p:spPr>
          <a:xfrm>
            <a:off x="6037200" y="1709640"/>
            <a:ext cx="2232000" cy="70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d6b8"/>
              </a:gs>
              <a:gs pos="100000">
                <a:srgbClr val="76ad5f"/>
              </a:gs>
            </a:gsLst>
            <a:lin ang="5400000"/>
          </a:gradFill>
          <a:ln cap="rnd"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ropisi"/>
              </a:rPr>
              <a:t>запомни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</cp:lastModifiedBy>
  <dcterms:modified xsi:type="dcterms:W3CDTF">2019-11-21T06:52:25Z</dcterms:modified>
  <cp:revision>70</cp:revision>
  <dc:subject/>
  <dc:title>Слайд 1</dc:title>
</cp:coreProperties>
</file>