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3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EDE-B097-4B83-BB3B-B2B07B5D7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1FC-CB59-4E51-98F7-E8C0E746D4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8BF-81A5-4D5E-87AF-25276D3AE72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473-4302-45F5-86E0-9BE8B786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E35-DB09-444E-962C-AEF873DD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F3E-7696-4711-A8BC-0C583379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C46-B216-42C2-8C6F-9B1089EB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541B-FC6A-4781-B40E-ECDF6762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5B1B-1A73-4A48-8537-38B71085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6C53-3D2A-42E0-8B50-A349A4A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76F-3F6A-4B85-B870-4F786ED1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D50D-E6AC-439A-A69C-2C06ED0C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FB0C-99C1-4F92-97B2-589A7B4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394C-F560-449A-AE1C-F8BEF5C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8CD-4800-44D0-8920-C55C9FE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D67-387A-4DDC-9FED-EB15D64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0FF-DCE1-426B-B9A7-3F45B37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D5DE-C01A-4B2B-898B-A332768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E306-964B-4DA6-BFBC-6AA6E549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A9EA-0944-461A-86CB-B743F427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71CD-87EE-495E-B523-A011F1E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3541-F433-4DEF-A712-7F063227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9E99-5622-4BC9-92CB-51D0711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10B1-8E1B-48C0-9A3D-6AE6C4E6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51B2-7E2A-441D-A3F3-A4A47E2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59E-D93F-4565-BE68-35E2D4EC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3959-F47F-42FE-BA1E-3F06284B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72FC-F242-4438-8465-F6CB66E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E4D0-E643-48A2-A3F1-DB4C480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6C12-AD90-44AD-954E-1BC660F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EF2F-90C1-418E-8CF9-D421B77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5D54-A04D-41DA-8ED8-F77657E5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BC8A-7717-4888-9AF3-7382953B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B222-BA3C-464D-87DC-529B54AE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562C-1F24-4BA5-AFF1-2D9F0BC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E128-0E4E-488A-BB50-F3E95D0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D41-846B-411A-A9A8-D05853C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AC6D-81F2-4CC6-A667-2CA265DD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72D4-1F4A-4AAD-8505-EFB92FD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7088-D9B5-4B9D-95B9-FC9EBA5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C034-23BA-4A25-8498-2C15C8B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29ED-2477-49D8-BA32-3362E46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2A60-C3A3-473B-9555-870B2CA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4F30-481C-4E64-BDA0-5678B87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41DC-55FB-45A8-8A25-3BF9CF28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393A-8480-4EBC-804A-D555C39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406-A13C-4ED0-86DD-1FA50E8A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AEA-0043-4905-9D58-C372165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58D-0E8D-4F38-9BBB-FBAB70B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876-DB23-443B-AFE0-D62123D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1BC-3EF5-4A80-BDE1-01364F9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484A-9FE6-46C8-AF50-E9BF840E79D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8A5-B647-4F58-818C-7D94A0E21B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F31-009F-49CD-A56F-5E67E1259D2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9CB-23BA-4052-9EEA-F84ACF40F1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907920" y="701640"/>
            <a:ext cx="7772400" cy="5413320"/>
          </a:xfrm>
          <a:prstGeom prst="rect">
            <a:avLst/>
          </a:prstGeom>
          <a:ln w="0">
            <a:noFill/>
          </a:ln>
        </p:spPr>
      </p:pic>
      <p:sp>
        <p:nvSpPr>
          <p:cNvPr id="220" name="Подзаголовок 2"/>
          <p:cNvSpPr/>
          <p:nvPr/>
        </p:nvSpPr>
        <p:spPr>
          <a:xfrm>
            <a:off x="4284720" y="5661000"/>
            <a:ext cx="4576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та по стихотвор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514440" y="2276640"/>
            <a:ext cx="65386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толковым словарё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95280" y="184464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КЛЮ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КЛЕВАТЬ</a:t>
            </a: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 начальная форма, единственное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5-конечная звезда 3"/>
          <p:cNvSpPr/>
          <p:nvPr/>
        </p:nvSpPr>
        <p:spPr>
          <a:xfrm>
            <a:off x="1908000" y="162864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1" y="164933"/>
                </a:moveTo>
                <a:lnTo>
                  <a:pt x="247384" y="194506"/>
                </a:lnTo>
                <a:lnTo>
                  <a:pt x="288132" y="0"/>
                </a:lnTo>
                <a:lnTo>
                  <a:pt x="328879" y="194506"/>
                </a:lnTo>
                <a:lnTo>
                  <a:pt x="576262" y="164933"/>
                </a:lnTo>
                <a:lnTo>
                  <a:pt x="354062" y="255570"/>
                </a:lnTo>
                <a:lnTo>
                  <a:pt x="466206" y="431799"/>
                </a:lnTo>
                <a:lnTo>
                  <a:pt x="288132" y="293310"/>
                </a:lnTo>
                <a:lnTo>
                  <a:pt x="110057" y="431799"/>
                </a:lnTo>
                <a:lnTo>
                  <a:pt x="222201" y="255570"/>
                </a:lnTo>
                <a:lnTo>
                  <a:pt x="1" y="164933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7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642960" y="2286000"/>
            <a:ext cx="6357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-названи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чальной форме отвечают на вопросы: 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49413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в тетради с.24 №29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Picture 14" descr="http://webbiblioteca.com/wp-content/uploads/images/russkij_jazik_2_klass_tetrad_dlja_samostojatelnoj_raboti_1.jpg"/>
          <p:cNvPicPr/>
          <p:nvPr/>
        </p:nvPicPr>
        <p:blipFill>
          <a:blip r:embed="rId1"/>
          <a:stretch/>
        </p:blipFill>
        <p:spPr>
          <a:xfrm>
            <a:off x="468360" y="260280"/>
            <a:ext cx="2928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19280" y="4723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8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Овал 10" descr=""/>
          <p:cNvPicPr/>
          <p:nvPr/>
        </p:nvPicPr>
        <p:blipFill>
          <a:blip r:embed="rId2"/>
          <a:stretch/>
        </p:blipFill>
        <p:spPr>
          <a:xfrm>
            <a:off x="1420920" y="74916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80" name="Овал 11" descr=""/>
          <p:cNvPicPr/>
          <p:nvPr/>
        </p:nvPicPr>
        <p:blipFill>
          <a:blip r:embed="rId3"/>
          <a:stretch/>
        </p:blipFill>
        <p:spPr>
          <a:xfrm>
            <a:off x="927000" y="2987640"/>
            <a:ext cx="2724120" cy="1187640"/>
          </a:xfrm>
          <a:prstGeom prst="rect">
            <a:avLst/>
          </a:prstGeom>
          <a:ln w="0">
            <a:noFill/>
          </a:ln>
        </p:spPr>
      </p:pic>
      <p:pic>
        <p:nvPicPr>
          <p:cNvPr id="281" name="Овал 12" descr=""/>
          <p:cNvPicPr/>
          <p:nvPr/>
        </p:nvPicPr>
        <p:blipFill>
          <a:blip r:embed="rId4"/>
          <a:stretch/>
        </p:blipFill>
        <p:spPr>
          <a:xfrm>
            <a:off x="4346640" y="1566720"/>
            <a:ext cx="3846600" cy="1195560"/>
          </a:xfrm>
          <a:prstGeom prst="rect">
            <a:avLst/>
          </a:prstGeom>
          <a:ln w="0">
            <a:noFill/>
          </a:ln>
        </p:spPr>
      </p:pic>
      <p:pic>
        <p:nvPicPr>
          <p:cNvPr id="282" name="Овал 13" descr=""/>
          <p:cNvPicPr/>
          <p:nvPr/>
        </p:nvPicPr>
        <p:blipFill>
          <a:blip r:embed="rId5"/>
          <a:stretch/>
        </p:blipFill>
        <p:spPr>
          <a:xfrm>
            <a:off x="4992840" y="3560760"/>
            <a:ext cx="2981160" cy="1468440"/>
          </a:xfrm>
          <a:prstGeom prst="rect">
            <a:avLst/>
          </a:prstGeom>
          <a:ln w="0">
            <a:noFill/>
          </a:ln>
        </p:spPr>
      </p:pic>
      <p:pic>
        <p:nvPicPr>
          <p:cNvPr id="283" name="Овал 15" descr=""/>
          <p:cNvPicPr/>
          <p:nvPr/>
        </p:nvPicPr>
        <p:blipFill>
          <a:blip r:embed="rId6"/>
          <a:stretch/>
        </p:blipFill>
        <p:spPr>
          <a:xfrm>
            <a:off x="1609560" y="4743360"/>
            <a:ext cx="2767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с двумя скругленными соседними углами 10"/>
          <p:cNvSpPr/>
          <p:nvPr/>
        </p:nvSpPr>
        <p:spPr>
          <a:xfrm>
            <a:off x="539640" y="692280"/>
            <a:ext cx="310356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а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с двумя скругленными соседними углами 11"/>
          <p:cNvSpPr/>
          <p:nvPr/>
        </p:nvSpPr>
        <p:spPr>
          <a:xfrm>
            <a:off x="4788000" y="692280"/>
            <a:ext cx="316872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Родств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Овал 12" descr=""/>
          <p:cNvPicPr/>
          <p:nvPr/>
        </p:nvPicPr>
        <p:blipFill>
          <a:blip r:embed="rId1"/>
          <a:stretch/>
        </p:blipFill>
        <p:spPr>
          <a:xfrm>
            <a:off x="974880" y="1974960"/>
            <a:ext cx="2238120" cy="1116000"/>
          </a:xfrm>
          <a:prstGeom prst="rect">
            <a:avLst/>
          </a:prstGeom>
          <a:ln w="0">
            <a:noFill/>
          </a:ln>
        </p:spPr>
      </p:pic>
      <p:pic>
        <p:nvPicPr>
          <p:cNvPr id="287" name="Овал 13" descr=""/>
          <p:cNvPicPr/>
          <p:nvPr/>
        </p:nvPicPr>
        <p:blipFill>
          <a:blip r:embed="rId2"/>
          <a:stretch/>
        </p:blipFill>
        <p:spPr>
          <a:xfrm>
            <a:off x="798480" y="3408480"/>
            <a:ext cx="2766960" cy="1358640"/>
          </a:xfrm>
          <a:prstGeom prst="rect">
            <a:avLst/>
          </a:prstGeom>
          <a:ln w="0">
            <a:noFill/>
          </a:ln>
        </p:spPr>
      </p:pic>
      <p:pic>
        <p:nvPicPr>
          <p:cNvPr id="288" name="Овал 14" descr=""/>
          <p:cNvPicPr/>
          <p:nvPr/>
        </p:nvPicPr>
        <p:blipFill>
          <a:blip r:embed="rId3"/>
          <a:stretch/>
        </p:blipFill>
        <p:spPr>
          <a:xfrm>
            <a:off x="785880" y="5048280"/>
            <a:ext cx="2987640" cy="1187280"/>
          </a:xfrm>
          <a:prstGeom prst="rect">
            <a:avLst/>
          </a:prstGeom>
          <a:ln w="0">
            <a:noFill/>
          </a:ln>
        </p:spPr>
      </p:pic>
      <p:pic>
        <p:nvPicPr>
          <p:cNvPr id="289" name="Овал 15" descr=""/>
          <p:cNvPicPr/>
          <p:nvPr/>
        </p:nvPicPr>
        <p:blipFill>
          <a:blip r:embed="rId4"/>
          <a:stretch/>
        </p:blipFill>
        <p:spPr>
          <a:xfrm>
            <a:off x="5261040" y="190188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90" name="Овал 16" descr=""/>
          <p:cNvPicPr/>
          <p:nvPr/>
        </p:nvPicPr>
        <p:blipFill>
          <a:blip r:embed="rId5"/>
          <a:stretch/>
        </p:blipFill>
        <p:spPr>
          <a:xfrm>
            <a:off x="5132520" y="3286080"/>
            <a:ext cx="2732040" cy="1189080"/>
          </a:xfrm>
          <a:prstGeom prst="rect">
            <a:avLst/>
          </a:prstGeom>
          <a:ln w="0">
            <a:noFill/>
          </a:ln>
        </p:spPr>
      </p:pic>
      <p:pic>
        <p:nvPicPr>
          <p:cNvPr id="291" name="Овал 17" descr=""/>
          <p:cNvPicPr/>
          <p:nvPr/>
        </p:nvPicPr>
        <p:blipFill>
          <a:blip r:embed="rId6"/>
          <a:stretch/>
        </p:blipFill>
        <p:spPr>
          <a:xfrm>
            <a:off x="4773600" y="4694400"/>
            <a:ext cx="3919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1424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404040"/>
                </a:solidFill>
                <a:latin typeface="Trebuchet MS"/>
              </a:rPr>
              <a:t>лес, лесник, лесной, лесовик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rc 4"/>
          <p:cNvSpPr/>
          <p:nvPr/>
        </p:nvSpPr>
        <p:spPr>
          <a:xfrm flipV="1" rot="13856400">
            <a:off x="2244240" y="3561480"/>
            <a:ext cx="701640" cy="558720"/>
          </a:xfrm>
          <a:custGeom>
            <a:avLst/>
            <a:gdLst>
              <a:gd name="textAreaLeft" fmla="*/ 0 w 701640"/>
              <a:gd name="textAreaRight" fmla="*/ 702000 w 70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fill="none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</a:path>
              <a:path stroke="0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  <a:lnTo>
                  <a:pt x="0" y="20225"/>
                </a:lnTo>
                <a:lnTo>
                  <a:pt x="7583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5"/>
          <p:cNvSpPr/>
          <p:nvPr/>
        </p:nvSpPr>
        <p:spPr>
          <a:xfrm flipV="1" rot="13086600">
            <a:off x="1076040" y="3584160"/>
            <a:ext cx="449280" cy="512640"/>
          </a:xfrm>
          <a:custGeom>
            <a:avLst/>
            <a:gdLst>
              <a:gd name="textAreaLeft" fmla="*/ 0 w 449280"/>
              <a:gd name="textAreaRight" fmla="*/ 449640 w 449280"/>
              <a:gd name="textAreaTop" fmla="*/ 360 h 512640"/>
              <a:gd name="textAreaBottom" fmla="*/ 513360 h 512640"/>
            </a:gdLst>
            <a:ahLst/>
            <a:rect l="textAreaLeft" t="textAreaTop" r="textAreaRight" b="textAreaBottom"/>
            <a:pathLst>
              <a:path fill="none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</a:path>
              <a:path stroke="0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  <a:lnTo>
                  <a:pt x="0" y="21600"/>
                </a:lnTo>
                <a:lnTo>
                  <a:pt x="5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rc 6"/>
          <p:cNvSpPr/>
          <p:nvPr/>
        </p:nvSpPr>
        <p:spPr>
          <a:xfrm flipV="1" rot="13086600">
            <a:off x="4312080" y="3626640"/>
            <a:ext cx="575280" cy="428760"/>
          </a:xfrm>
          <a:custGeom>
            <a:avLst/>
            <a:gdLst>
              <a:gd name="textAreaLeft" fmla="*/ 0 w 575280"/>
              <a:gd name="textAreaRight" fmla="*/ 575640 w 575280"/>
              <a:gd name="textAreaTop" fmla="*/ -360 h 428760"/>
              <a:gd name="textAreaBottom" fmla="*/ 428760 h 428760"/>
            </a:gdLst>
            <a:ahLst/>
            <a:rect l="textAreaLeft" t="textAreaTop" r="textAreaRight" b="textAreaBottom"/>
            <a:pathLst>
              <a:path fill="none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</a:path>
              <a:path stroke="0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  <a:lnTo>
                  <a:pt x="0" y="21415"/>
                </a:lnTo>
                <a:lnTo>
                  <a:pt x="2820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"/>
          <p:cNvSpPr/>
          <p:nvPr/>
        </p:nvSpPr>
        <p:spPr>
          <a:xfrm flipV="1" rot="13086600">
            <a:off x="6471720" y="3603600"/>
            <a:ext cx="501840" cy="422280"/>
          </a:xfrm>
          <a:custGeom>
            <a:avLst/>
            <a:gdLst>
              <a:gd name="textAreaLeft" fmla="*/ 0 w 501840"/>
              <a:gd name="textAreaRight" fmla="*/ 502200 w 50184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</a:path>
              <a:path stroke="0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  <a:lnTo>
                  <a:pt x="0" y="21600"/>
                </a:lnTo>
                <a:lnTo>
                  <a:pt x="9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714240" y="500040"/>
            <a:ext cx="777744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имеющие общую ча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хранит их общий смыс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ОДСТВЕН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549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2800" spc="-1" strike="noStrike">
                <a:solidFill>
                  <a:srgbClr val="757575"/>
                </a:solidFill>
                <a:latin typeface="Propisi"/>
              </a:rPr>
              <a:t>:</a:t>
            </a:r>
            <a:r>
              <a:rPr b="1" lang="ru-RU" sz="28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755640" y="1700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девица сидит в темниц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са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Картинки по запросу морковь"/>
          <p:cNvPicPr/>
          <p:nvPr/>
        </p:nvPicPr>
        <p:blipFill>
          <a:blip r:embed="rId1"/>
          <a:stretch/>
        </p:blipFill>
        <p:spPr>
          <a:xfrm>
            <a:off x="2484360" y="2852640"/>
            <a:ext cx="44132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14240" y="571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КОРЕН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слова- значимая ч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д словами родственными держит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л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3672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5160" y="11016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       лесной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ник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ок      лесничи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5361120" y="1177920"/>
            <a:ext cx="936360" cy="73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6645240" y="4638600"/>
            <a:ext cx="93672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658960" y="1371600"/>
            <a:ext cx="576360" cy="50472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603600" y="2938320"/>
            <a:ext cx="57636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3213000" y="4614840"/>
            <a:ext cx="576360" cy="5032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Левая круглая скобка 8"/>
          <p:cNvSpPr/>
          <p:nvPr/>
        </p:nvSpPr>
        <p:spPr>
          <a:xfrm rot="16200000">
            <a:off x="4554360" y="1001160"/>
            <a:ext cx="95400" cy="1749600"/>
          </a:xfrm>
          <a:custGeom>
            <a:avLst/>
            <a:gdLst>
              <a:gd name="textAreaLeft" fmla="*/ 28080 w 95400"/>
              <a:gd name="textAreaRight" fmla="*/ 95760 w 95400"/>
              <a:gd name="textAreaTop" fmla="*/ 3960 h 1749600"/>
              <a:gd name="textAreaBottom" fmla="*/ 1745640 h 17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8"/>
                </a:cubicBezTo>
                <a:lnTo>
                  <a:pt x="0" y="21502"/>
                </a:lnTo>
                <a:cubicBezTo>
                  <a:pt x="0" y="2155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Левая круглая скобка 9"/>
          <p:cNvSpPr/>
          <p:nvPr/>
        </p:nvSpPr>
        <p:spPr>
          <a:xfrm rot="16200000">
            <a:off x="5495040" y="4078800"/>
            <a:ext cx="46080" cy="21589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8920"/>
              <a:gd name="textAreaBottom" fmla="*/ 2157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Левая круглая скобка 10"/>
          <p:cNvSpPr/>
          <p:nvPr/>
        </p:nvSpPr>
        <p:spPr>
          <a:xfrm rot="16200000">
            <a:off x="1950120" y="2881800"/>
            <a:ext cx="50760" cy="13507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1350720"/>
              <a:gd name="textAreaBottom" fmla="*/ 1348920 h 135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"/>
                  <a:pt x="0" y="68"/>
                </a:cubicBezTo>
                <a:lnTo>
                  <a:pt x="0" y="21532"/>
                </a:lnTo>
                <a:cubicBezTo>
                  <a:pt x="0" y="21566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Левая круглая скобка 11"/>
          <p:cNvSpPr/>
          <p:nvPr/>
        </p:nvSpPr>
        <p:spPr>
          <a:xfrm rot="16200000">
            <a:off x="1817640" y="4518000"/>
            <a:ext cx="117360" cy="136836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368360"/>
              <a:gd name="textAreaBottom" fmla="*/ 13636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Левая круглая скобка 12"/>
          <p:cNvSpPr/>
          <p:nvPr/>
        </p:nvSpPr>
        <p:spPr>
          <a:xfrm rot="16200000">
            <a:off x="1903320" y="1207800"/>
            <a:ext cx="144360" cy="115092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1150920"/>
              <a:gd name="textAreaBottom" fmla="*/ 11451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6"/>
                </a:cubicBezTo>
                <a:lnTo>
                  <a:pt x="0" y="21374"/>
                </a:lnTo>
                <a:cubicBezTo>
                  <a:pt x="0" y="21487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Дуга 13"/>
          <p:cNvSpPr/>
          <p:nvPr/>
        </p:nvSpPr>
        <p:spPr>
          <a:xfrm rot="17157000">
            <a:off x="4650840" y="42447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Дуга 14"/>
          <p:cNvSpPr/>
          <p:nvPr/>
        </p:nvSpPr>
        <p:spPr>
          <a:xfrm rot="17157000">
            <a:off x="4022280" y="9554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Дуга 15"/>
          <p:cNvSpPr/>
          <p:nvPr/>
        </p:nvSpPr>
        <p:spPr>
          <a:xfrm rot="17157000">
            <a:off x="1547280" y="23619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Дуга 16"/>
          <p:cNvSpPr/>
          <p:nvPr/>
        </p:nvSpPr>
        <p:spPr>
          <a:xfrm rot="17157000">
            <a:off x="1577520" y="43700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Дуга 17"/>
          <p:cNvSpPr/>
          <p:nvPr/>
        </p:nvSpPr>
        <p:spPr>
          <a:xfrm rot="17157000">
            <a:off x="1548360" y="956160"/>
            <a:ext cx="816120" cy="1188720"/>
          </a:xfrm>
          <a:custGeom>
            <a:avLst/>
            <a:gdLst/>
            <a:ahLst/>
            <a:rect l="l" t="t" r="r" b="b"/>
            <a:pathLst>
              <a:path stroke="0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  <a:lnTo>
                  <a:pt x="407988" y="594519"/>
                </a:lnTo>
                <a:lnTo>
                  <a:pt x="316652" y="15089"/>
                </a:lnTo>
                <a:close/>
              </a:path>
              <a:path fill="none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23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 78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7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260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319" name="Круглая лента лицом вверх 23"/>
          <p:cNvSpPr/>
          <p:nvPr/>
        </p:nvSpPr>
        <p:spPr>
          <a:xfrm>
            <a:off x="324000" y="189000"/>
            <a:ext cx="5327640" cy="431640"/>
          </a:xfrm>
          <a:custGeom>
            <a:avLst/>
            <a:gdLst>
              <a:gd name="textAreaLeft" fmla="*/ 1303560 w 5327640"/>
              <a:gd name="textAreaRight" fmla="*/ 4024080 w 5327640"/>
              <a:gd name="textAreaTop" fmla="*/ 23040 h 431640"/>
              <a:gd name="textAreaBottom" fmla="*/ 225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323"/>
                </a:moveTo>
                <a:arcTo wR="21600" hR="34969" stAng="-6577634" swAng="621884"/>
                <a:lnTo>
                  <a:pt x="5286" y="1159"/>
                </a:lnTo>
                <a:arcTo wR="21600" hR="34969" stAng="-5955750" swAng="1111500"/>
                <a:lnTo>
                  <a:pt x="16314" y="6797"/>
                </a:lnTo>
                <a:arcTo wR="21600" hR="34969" stAng="-4844250" swAng="621884"/>
                <a:lnTo>
                  <a:pt x="18900" y="13828"/>
                </a:lnTo>
                <a:lnTo>
                  <a:pt x="21600" y="21600"/>
                </a:lnTo>
                <a:lnTo>
                  <a:pt x="21600" y="21600"/>
                </a:lnTo>
                <a:arcTo wR="21600" hR="34969" stAng="-4222366" swAng="-899229"/>
                <a:lnTo>
                  <a:pt x="13614" y="11575"/>
                </a:lnTo>
                <a:arcTo wR="21600" hR="34969" stAng="-5121595" swAng="-556809"/>
                <a:lnTo>
                  <a:pt x="7986" y="17213"/>
                </a:lnTo>
                <a:arcTo wR="21600" hR="34969" stAng="-5678405" swAng="-899229"/>
                <a:lnTo>
                  <a:pt x="2700" y="13828"/>
                </a:lnTo>
                <a:close/>
              </a:path>
              <a:path fill="none" w="21600" h="21600">
                <a:moveTo>
                  <a:pt x="7986" y="11575"/>
                </a:moveTo>
                <a:arcTo wR="21600" hR="34969" stAng="-5678405" swAng="-277345"/>
                <a:lnTo>
                  <a:pt x="7986" y="17213"/>
                </a:lnTo>
              </a:path>
              <a:path fill="none" w="21600" h="21600">
                <a:moveTo>
                  <a:pt x="13614" y="11575"/>
                </a:moveTo>
                <a:arcTo wR="21600" hR="34969" stAng="-5121595" swAng="277345"/>
                <a:lnTo>
                  <a:pt x="13614" y="17213"/>
                </a:lnTo>
              </a:path>
              <a:path fill="none" w="21600" h="21600">
                <a:moveTo>
                  <a:pt x="5286" y="6797"/>
                </a:moveTo>
                <a:lnTo>
                  <a:pt x="5286" y="12436"/>
                </a:lnTo>
              </a:path>
              <a:path fill="none" w="21600" h="21600">
                <a:moveTo>
                  <a:pt x="16314" y="6797"/>
                </a:moveTo>
                <a:lnTo>
                  <a:pt x="16314" y="12436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Круглая лента лицом вверх 24"/>
          <p:cNvSpPr/>
          <p:nvPr/>
        </p:nvSpPr>
        <p:spPr>
          <a:xfrm rot="5400000">
            <a:off x="7428960" y="5143320"/>
            <a:ext cx="3000240" cy="428760"/>
          </a:xfrm>
          <a:custGeom>
            <a:avLst/>
            <a:gdLst>
              <a:gd name="textAreaLeft" fmla="*/ 749880 w 3000240"/>
              <a:gd name="textAreaRight" fmla="*/ 2250360 w 3000240"/>
              <a:gd name="textAreaTop" fmla="*/ 12600 h 428760"/>
              <a:gd name="textAreaBottom" fmla="*/ 23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9917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7857"/>
                </a:lnTo>
                <a:arcTo wR="21600" hR="20153" stAng="-4471878" swAng="976834"/>
                <a:lnTo>
                  <a:pt x="18900" y="14529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1841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529"/>
                </a:lnTo>
                <a:close/>
              </a:path>
              <a:path fill="none" w="21600" h="21600">
                <a:moveTo>
                  <a:pt x="8100" y="11841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1841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7857"/>
                </a:moveTo>
                <a:lnTo>
                  <a:pt x="5400" y="12323"/>
                </a:lnTo>
              </a:path>
              <a:path fill="none" w="21600" h="21600">
                <a:moveTo>
                  <a:pt x="16200" y="7857"/>
                </a:moveTo>
                <a:lnTo>
                  <a:pt x="16200" y="12323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2960" y="714240"/>
            <a:ext cx="635796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слов-названий предмет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,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(что?) пенал. Нет (чего?) пена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на, оно)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он) пенал – (они) пенал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547640" y="4869000"/>
            <a:ext cx="6347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195640" y="501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Работа с учебником с. 79 упр. №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78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–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-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ы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2771640" y="2708280"/>
            <a:ext cx="52437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755640" y="436572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ё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611280" y="692280"/>
            <a:ext cx="792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Источн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Учебник. Русский язык 2 класс ч.1 Чуракова Н.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под ред.Каленчук М.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4" descr=""/>
          <p:cNvPicPr/>
          <p:nvPr/>
        </p:nvPicPr>
        <p:blipFill>
          <a:blip r:embed="rId1"/>
          <a:stretch/>
        </p:blipFill>
        <p:spPr>
          <a:xfrm>
            <a:off x="738360" y="1773360"/>
            <a:ext cx="4967280" cy="18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mg-fotki.yandex.ru/get/9303/16969765.1c9/0_893ef_33bc0e9f_orig.png"/>
          <p:cNvPicPr/>
          <p:nvPr/>
        </p:nvPicPr>
        <p:blipFill>
          <a:blip r:embed="rId2"/>
          <a:stretch/>
        </p:blipFill>
        <p:spPr>
          <a:xfrm>
            <a:off x="3265560" y="2513160"/>
            <a:ext cx="4751280" cy="28764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35480" cy="203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img-fotki.yandex.ru/get/6511/130884706.2b/0_7dd05_6031c850_L.png"/>
          <p:cNvPicPr/>
          <p:nvPr/>
        </p:nvPicPr>
        <p:blipFill>
          <a:blip r:embed="rId2"/>
          <a:stretch/>
        </p:blipFill>
        <p:spPr>
          <a:xfrm>
            <a:off x="5076720" y="2276640"/>
            <a:ext cx="356400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321480" y="693720"/>
            <a:ext cx="76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3200" spc="-1" strike="noStrike">
                <a:solidFill>
                  <a:srgbClr val="7f7f7f"/>
                </a:solidFill>
                <a:latin typeface="Propisi"/>
              </a:rPr>
              <a:t>: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4808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Картинки по запросу лопата"/>
          <p:cNvPicPr/>
          <p:nvPr/>
        </p:nvPicPr>
        <p:blipFill>
          <a:blip r:embed="rId2"/>
          <a:stretch/>
        </p:blipFill>
        <p:spPr>
          <a:xfrm>
            <a:off x="3132000" y="3068640"/>
            <a:ext cx="2087640" cy="34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042920" y="22050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евчоночьей красы У неё лишь слёзы, Ведь мальчишки каждый день Дергают за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681480" y="90792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Картинки по запросу коса волосы"/>
          <p:cNvPicPr/>
          <p:nvPr/>
        </p:nvPicPr>
        <p:blipFill>
          <a:blip r:embed="rId1"/>
          <a:stretch/>
        </p:blipFill>
        <p:spPr>
          <a:xfrm>
            <a:off x="2195640" y="3860640"/>
            <a:ext cx="5127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699160" cy="20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zooclub.ru/attach/birds/125.jpg"/>
          <p:cNvPicPr/>
          <p:nvPr/>
        </p:nvPicPr>
        <p:blipFill>
          <a:blip r:embed="rId2"/>
          <a:stretch/>
        </p:blipFill>
        <p:spPr>
          <a:xfrm>
            <a:off x="5508720" y="1844640"/>
            <a:ext cx="2338200" cy="34401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6">
            <a:hlinkClick r:id="" action="ppaction://hlinkshowjump?jump=nextslide"/>
          </p:cNvPr>
          <p:cNvSpPr/>
          <p:nvPr/>
        </p:nvSpPr>
        <p:spPr>
          <a:xfrm>
            <a:off x="631800" y="4522680"/>
            <a:ext cx="7280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Раздели слова на две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TextBox 4" descr=""/>
          <p:cNvPicPr/>
          <p:nvPr/>
        </p:nvPicPr>
        <p:blipFill>
          <a:blip r:embed="rId1"/>
          <a:stretch/>
        </p:blipFill>
        <p:spPr>
          <a:xfrm>
            <a:off x="725400" y="201600"/>
            <a:ext cx="6705720" cy="19558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1"/>
          <p:cNvSpPr/>
          <p:nvPr/>
        </p:nvSpPr>
        <p:spPr>
          <a:xfrm>
            <a:off x="509760" y="412920"/>
            <a:ext cx="740232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TextBox 8" descr=""/>
          <p:cNvPicPr/>
          <p:nvPr/>
        </p:nvPicPr>
        <p:blipFill>
          <a:blip r:embed="rId2"/>
          <a:stretch/>
        </p:blipFill>
        <p:spPr>
          <a:xfrm>
            <a:off x="695160" y="2266920"/>
            <a:ext cx="7339320" cy="21463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3"/>
          <p:cNvSpPr/>
          <p:nvPr/>
        </p:nvSpPr>
        <p:spPr>
          <a:xfrm>
            <a:off x="1547640" y="314172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4210200" y="32432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>
            <a:off x="3635280" y="387180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5772240" y="3206880"/>
            <a:ext cx="28872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>
            <a:off x="5076720" y="38606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1"/>
          <p:cNvSpPr/>
          <p:nvPr/>
        </p:nvSpPr>
        <p:spPr>
          <a:xfrm>
            <a:off x="1403280" y="386064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 flipV="1">
            <a:off x="2679840" y="26967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24"/>
          <p:cNvSpPr/>
          <p:nvPr/>
        </p:nvSpPr>
        <p:spPr>
          <a:xfrm flipV="1">
            <a:off x="2195640" y="325872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25"/>
          <p:cNvSpPr/>
          <p:nvPr/>
        </p:nvSpPr>
        <p:spPr>
          <a:xfrm flipV="1">
            <a:off x="4784760" y="2617560"/>
            <a:ext cx="13500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V="1">
            <a:off x="6516720" y="26175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 flipV="1">
            <a:off x="5994360" y="3346200"/>
            <a:ext cx="13356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Скругленный прямоугольник 28"/>
          <p:cNvSpPr/>
          <p:nvPr/>
        </p:nvSpPr>
        <p:spPr>
          <a:xfrm>
            <a:off x="631800" y="2482920"/>
            <a:ext cx="7280280" cy="15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оставь ударение. Подчеркни безударные глас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Box 4" descr=""/>
          <p:cNvPicPr/>
          <p:nvPr/>
        </p:nvPicPr>
        <p:blipFill>
          <a:blip r:embed="rId1"/>
          <a:stretch/>
        </p:blipFill>
        <p:spPr>
          <a:xfrm>
            <a:off x="725400" y="2114640"/>
            <a:ext cx="3614760" cy="2566800"/>
          </a:xfrm>
          <a:prstGeom prst="rect">
            <a:avLst/>
          </a:prstGeom>
          <a:ln w="0">
            <a:noFill/>
          </a:ln>
        </p:spPr>
      </p:pic>
      <p:sp>
        <p:nvSpPr>
          <p:cNvPr id="260" name="Скругленный прямоугольник 1"/>
          <p:cNvSpPr/>
          <p:nvPr/>
        </p:nvSpPr>
        <p:spPr>
          <a:xfrm>
            <a:off x="892080" y="728640"/>
            <a:ext cx="3024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кругленный прямоугольник 28"/>
          <p:cNvSpPr/>
          <p:nvPr/>
        </p:nvSpPr>
        <p:spPr>
          <a:xfrm>
            <a:off x="4497480" y="728640"/>
            <a:ext cx="3459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Не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(словарно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TextBox 29" descr=""/>
          <p:cNvPicPr/>
          <p:nvPr/>
        </p:nvPicPr>
        <p:blipFill>
          <a:blip r:embed="rId2"/>
          <a:stretch/>
        </p:blipFill>
        <p:spPr>
          <a:xfrm>
            <a:off x="5095800" y="2243160"/>
            <a:ext cx="2852640" cy="2389320"/>
          </a:xfrm>
          <a:prstGeom prst="rect">
            <a:avLst/>
          </a:prstGeom>
          <a:ln w="0">
            <a:noFill/>
          </a:ln>
        </p:spPr>
      </p:pic>
      <p:sp>
        <p:nvSpPr>
          <p:cNvPr id="263" name="Скругленный прямоугольник 3"/>
          <p:cNvSpPr/>
          <p:nvPr/>
        </p:nvSpPr>
        <p:spPr>
          <a:xfrm>
            <a:off x="6037200" y="1709640"/>
            <a:ext cx="2232000" cy="70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ropisi"/>
              </a:rPr>
              <a:t>запомни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</cp:lastModifiedBy>
  <dcterms:modified xsi:type="dcterms:W3CDTF">2019-11-21T06:52:25Z</dcterms:modified>
  <cp:revision>70</cp:revision>
  <dc:subject/>
  <dc:title>Слайд 1</dc:title>
</cp:coreProperties>
</file>