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BBAD-EA08-46A1-8689-AFE9B54DD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67ED-27E0-4AF9-925E-A40E0B89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EACE-F67B-4DF7-AA74-1FF5F63A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66E9-C6C2-48FC-B740-C0497945C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1368-D11E-465F-9B10-A236BA6F8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AF5A-8CF3-473A-8A33-F9DDEF23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7C7C-B9D2-4B21-984F-83449AF9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2722-977F-4447-823A-886E70DF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8B6C-F70B-4EEC-B0DA-DF797C71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F959-9B04-45C4-A2A4-C2FA4459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7AB8-B616-4002-9C96-D5701CB0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FC9A-D0B1-488E-AFEF-7AA48725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03BD-6FC2-47BD-9BB7-89A43D83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6FA3-B501-45C0-BE98-6FF2249D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B860-415E-44B0-AC08-7262588C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D947-8225-462D-AC31-038F36561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F724-B83E-41C4-9675-203C3AFB4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A92EF3-B928-4C05-821B-2E997FFF2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1A0F0E-C29E-4371-B04B-15D5F30D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F8C4BB-DCCA-4B9B-A81B-C644371D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6C3D46-C5C2-43D4-AF58-D1B8BA3B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950018-BC94-4CC6-8D99-89E036CA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E692-2444-4005-9CB0-994F59CF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0AA37B-B48E-492C-AAE5-89199497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4140A1-5930-4871-89D6-88415C65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E7E93E-A54E-491A-97D9-7FC792FA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EE5656-5D33-4487-BCB2-40B8FB68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D6855C-08DE-424C-99AB-3C7381ED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E9EA20-8FAE-4312-B127-04BA9408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4EF434-40D6-4CC5-A388-831BA9840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CC2A3-7A95-4607-BEF6-D93048C3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9046D-D0B5-41BA-A34E-B81449EA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5CEBE-432A-4932-B08B-E9DAC56A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4A44-C436-4899-8F7E-F7412585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5293B-4793-4F27-9FAC-493E3DCE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473EA-D4F9-458E-94AC-3F2F0B0D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D4282-734C-4B20-BF89-C264D221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E48FB-2E71-4D02-862C-1666A28D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C7E6E-5A7E-4849-8CAC-39BCE602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666C2-7959-4E34-8E6E-99E731B1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A9573-D67A-4D2D-A6B5-74CA58CF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93870-3112-40B0-8B0D-5151387AB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2C29E-A0D5-4B21-91F3-97F17CBBD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EE3D0B-21A3-42A3-A8FD-0C287908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41EF-1BD9-4CD3-95D9-9071444E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C114F6-C4E3-40CD-9660-4CE3CF3C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4AFF50-45E1-43A0-9A66-7003E1D7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6C6A8E-A480-4B5D-87E4-D4F01E23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DB9BE5-FF7A-4648-8DA9-1F46A481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1A0D77-919A-46C8-AD45-44D004BC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9991B6-8E97-4E8B-9BD5-D32A5F25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3AB5A5-3C57-45B9-AD6D-721505F7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564264-E298-4BDA-BA6A-BFA1E1C1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7C6C40-59D3-4494-BB0E-5A17B6D3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408C69-3D45-4D0B-B0E4-A1970205E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477F-C7D8-4C0D-8337-55D91DBA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03CB30-31C7-44FE-96D5-F9E833BC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B7086D-C8C7-4793-BFD3-EEA03B18B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26262A-4008-45AF-AB96-90EEDBA5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7847F9-B716-4AA4-88C5-615CE1B3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B5C720-C5DB-4124-98A9-5C774EB7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2ADA41-C247-4C41-930D-1308D6DB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A51EE4-C2BC-4462-854F-6ED8490B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5EDCC3-EE3B-48F0-A9FA-B6C0E1F4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65052B-478C-4A5F-B46A-9B363A33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83138C-F50F-4930-84E9-C3FCBD4B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67E6-5CBF-4658-B78D-262CBE3A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32779C-3926-4CBE-8170-5C39BD23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CEF625-C959-447A-BFEA-4D555734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179C9D-015B-406D-B0EC-C3379826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65FD57-6247-499B-BCDD-20EA74BD5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432CAF-4E6A-4FF0-8D0F-7A9F43D7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0C8F65-E565-43CB-84CE-6C93ED7E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C2DD3A-F15E-49C9-A42F-B8D46022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C8C512-F299-4AB5-83C1-AB1CB0E9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E72138-32BE-4DB4-981B-680BAC4F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274314-EA5A-4901-9334-DF1A73A4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CCA7-C905-43BC-8961-6E64DBB5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55B1D6-7342-4E49-BE8F-EF605CD3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C8C2FC-0666-42C9-AE1E-F3E911C0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EFA0D5-EEBC-4123-A8B9-03688054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E74983-C3A3-4760-B7AB-A810825D2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9BBEA4-1024-41F0-8682-DF5CA15E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AC14-9CBD-49C1-82AC-FEDD737A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B6BC-C158-484C-A22C-9E2FD267135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B722-681B-4ED7-B731-928A827A604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2437-F117-43DA-8997-F43E0A515F0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4743-99A4-4B4F-95AB-C22BE0C7804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5184-7C5C-49BE-95D4-BFA847AD015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4C22-084C-4B9C-ADEB-F73FD975C93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F1C1-0B95-4539-BABB-10FF35BC459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84000" y="459540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СОЗДАНИЕ БЛАГОПРИЯТНОГО ПСИХОЛОГИЧЕСКОГО КЛИМАТА В КЛАССНОМ КОЛЛЕКТИВЕ</a:t>
            </a: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ЕЕВА Е.П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БОУ «СШ №8»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 НИЖНЕВАРТОВСКА</a:t>
            </a:r>
            <a:br>
              <a:rPr sz="1200"/>
            </a:br>
            <a:endParaRPr b="0" lang="en-US" sz="1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Picture 4" descr="F:\фото 1Б\P1000177.JPG"/>
          <p:cNvPicPr/>
          <p:nvPr/>
        </p:nvPicPr>
        <p:blipFill>
          <a:blip r:embed="rId1"/>
          <a:srcRect l="0" t="12005" r="2504" b="0"/>
          <a:stretch/>
        </p:blipFill>
        <p:spPr>
          <a:xfrm>
            <a:off x="3564000" y="2205000"/>
            <a:ext cx="38178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785880" y="214200"/>
            <a:ext cx="7786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Детский коллектив – это маленькая страна, в которой необходимо построить жизнь так, чтобы каждый чувствовал свою значимость и полезност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4" name="Picture 2" descr="F:\фото 1Б\SAM_5747.JPG"/>
          <p:cNvPicPr/>
          <p:nvPr/>
        </p:nvPicPr>
        <p:blipFill>
          <a:blip r:embed="rId1">
            <a:lum contrast="20000"/>
          </a:blip>
          <a:srcRect l="22068" t="20599" r="-3670" b="0"/>
          <a:stretch/>
        </p:blipFill>
        <p:spPr>
          <a:xfrm>
            <a:off x="6012000" y="4079880"/>
            <a:ext cx="2376360" cy="17352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" descr="F:\фото 1Б\IMG_0179.JPG"/>
          <p:cNvPicPr/>
          <p:nvPr/>
        </p:nvPicPr>
        <p:blipFill>
          <a:blip r:embed="rId2"/>
          <a:srcRect l="12280" t="9751" r="8777" b="7314"/>
          <a:stretch/>
        </p:blipFill>
        <p:spPr>
          <a:xfrm>
            <a:off x="792000" y="3956040"/>
            <a:ext cx="2459160" cy="18590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F:\фото 1Б\IMG_0180.JPG"/>
          <p:cNvPicPr/>
          <p:nvPr/>
        </p:nvPicPr>
        <p:blipFill>
          <a:blip r:embed="rId3"/>
          <a:srcRect l="18755" t="15626" r="6252" b="0"/>
          <a:stretch/>
        </p:blipFill>
        <p:spPr>
          <a:xfrm>
            <a:off x="3724200" y="2071800"/>
            <a:ext cx="2205000" cy="18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ДИАГНОСТИКИ: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НАЧАЛЬНАЯ, КОРРЕКТИРУЮЩАЯ, ОБОБЩАЮЩА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Начальная диагностика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дивидуальные беседы с учащимис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нкетирование родителей на первом родительском собрани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сещение некоторых семей на дому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учение уровня воспитанности учащихс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учение уровня школьной тревожност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642600" y="428400"/>
            <a:ext cx="746748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Корректирующая диагности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Фотография»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Дом, в котором я живу»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Кого я выбираю»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2" descr="F:\фото 1Б\IMG_0200.JPG"/>
          <p:cNvPicPr/>
          <p:nvPr/>
        </p:nvPicPr>
        <p:blipFill>
          <a:blip r:embed="rId1"/>
          <a:stretch/>
        </p:blipFill>
        <p:spPr>
          <a:xfrm>
            <a:off x="4572000" y="4316400"/>
            <a:ext cx="2465280" cy="18493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F:\фото 1Б\1 сентября\SAM_1916.JPG"/>
          <p:cNvPicPr/>
          <p:nvPr/>
        </p:nvPicPr>
        <p:blipFill>
          <a:blip r:embed="rId2"/>
          <a:stretch/>
        </p:blipFill>
        <p:spPr>
          <a:xfrm>
            <a:off x="5219640" y="1366920"/>
            <a:ext cx="1998720" cy="14986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F:\фото 1Б\школа\013.JPG"/>
          <p:cNvPicPr/>
          <p:nvPr/>
        </p:nvPicPr>
        <p:blipFill>
          <a:blip r:embed="rId3"/>
          <a:srcRect l="0" t="7366" r="6357" b="0"/>
          <a:stretch/>
        </p:blipFill>
        <p:spPr>
          <a:xfrm>
            <a:off x="642960" y="3357720"/>
            <a:ext cx="2486160" cy="198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714240" y="428400"/>
            <a:ext cx="746784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Работа с родителям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Изучение семь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Консультирование родител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Просвещение и обучение родител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.Совместная деятельнос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2" descr="F:\фото 1Б\школа\016.JPG"/>
          <p:cNvPicPr/>
          <p:nvPr/>
        </p:nvPicPr>
        <p:blipFill>
          <a:blip r:embed="rId1"/>
          <a:stretch/>
        </p:blipFill>
        <p:spPr>
          <a:xfrm>
            <a:off x="1116000" y="3514680"/>
            <a:ext cx="2989440" cy="22417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F:\фото 1Б\школа\024.JPG"/>
          <p:cNvPicPr/>
          <p:nvPr/>
        </p:nvPicPr>
        <p:blipFill>
          <a:blip r:embed="rId2"/>
          <a:srcRect l="0" t="11107" r="12504" b="16673"/>
          <a:stretch/>
        </p:blipFill>
        <p:spPr>
          <a:xfrm>
            <a:off x="5148360" y="3514680"/>
            <a:ext cx="309564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28400" y="428760"/>
            <a:ext cx="74674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entury Schoolbook"/>
              </a:rPr>
              <a:t>Помните и никогда не забывайте!!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началом урока лучше «оставить за дверью» плохое настрое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приятный звук для  человека –  это его им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е, что «плохой ученик» не означает «плохой человек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равнивайте успехи отдельных учащихся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бенка постоянно критикуют, он учиться ненавиде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бенка высмеивают, он становится замкнуты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бенка хвалят и поддерживают, он учится быть благодарным и учиться ценить себ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571320" y="2357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Century Schoolbook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3" descr="F:\фото 1Б\школа1\SAM_5744.JPG"/>
          <p:cNvPicPr/>
          <p:nvPr/>
        </p:nvPicPr>
        <p:blipFill>
          <a:blip r:embed="rId1"/>
          <a:stretch/>
        </p:blipFill>
        <p:spPr>
          <a:xfrm>
            <a:off x="5364000" y="4365720"/>
            <a:ext cx="2179800" cy="16333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F:\фото 1Б\школа1\SAM_5742.JPG"/>
          <p:cNvPicPr/>
          <p:nvPr/>
        </p:nvPicPr>
        <p:blipFill>
          <a:blip r:embed="rId2"/>
          <a:stretch/>
        </p:blipFill>
        <p:spPr>
          <a:xfrm>
            <a:off x="5076720" y="803160"/>
            <a:ext cx="2014560" cy="1513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F:\фото 1Б\IMG_0205.JPG"/>
          <p:cNvPicPr/>
          <p:nvPr/>
        </p:nvPicPr>
        <p:blipFill>
          <a:blip r:embed="rId3"/>
          <a:stretch/>
        </p:blipFill>
        <p:spPr>
          <a:xfrm>
            <a:off x="971640" y="836640"/>
            <a:ext cx="1884240" cy="1413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G:\DCIM\103___01\IMG_0228.JPG"/>
          <p:cNvPicPr/>
          <p:nvPr/>
        </p:nvPicPr>
        <p:blipFill>
          <a:blip r:embed="rId4"/>
          <a:stretch/>
        </p:blipFill>
        <p:spPr>
          <a:xfrm>
            <a:off x="1116000" y="4335480"/>
            <a:ext cx="223200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4:47:25Z</dcterms:created>
  <dc:creator>Анютка</dc:creator>
  <dc:description/>
  <dc:language>en-US</dc:language>
  <cp:lastModifiedBy>Минеева Екатерина Петровна</cp:lastModifiedBy>
  <dcterms:modified xsi:type="dcterms:W3CDTF">2019-11-21T15:28:35Z</dcterms:modified>
  <cp:revision>12</cp:revision>
  <dc:subject/>
  <dc:title>Тема: Создание благоприятного психологического климата в классном коллективе</dc:title>
</cp:coreProperties>
</file>