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5E8-F64F-4EEA-AD2B-4C547607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3FF-52A1-4EDC-AA4E-6D14AAD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8A3-BC0B-4CD6-A417-72E15E1A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6E3-97BC-42FF-B804-554D7422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D183-19AB-47FA-9A55-191E4145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4670-9473-4674-83E1-839A4C49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AC58-47D0-4B29-B091-081C0DA2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79D-B651-429E-913B-91FA0EC7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1022-7C28-45B8-93F7-7B70EF7E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3F1-C3EA-484A-8196-9BF6D41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E888-5CA7-43E9-90D5-9F50FC4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6E8-EF50-4746-B982-C1D11ED0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66DB-AC62-4727-8E19-98D539D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361A-9D44-4191-AF2B-DCB982C2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6E11-8197-4B4D-8B41-364571C4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AD5-3988-4087-B086-72D528BD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D86E-1267-440A-B2C2-50256DED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10AA7-3887-4D87-ADC9-C91705A7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796C3-C32C-4137-87F1-6ED1CEC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060CB-C0DA-459D-BA68-521F5ECF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35212-D01D-48D8-8318-50AC45A7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ADC72-BC47-4F7C-B2F8-2832F6F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84F-5033-4214-BC06-EFD9775C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162D1-7DAB-4EC6-88A1-22A839A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18A97-17C8-47B7-9CC6-0A76B34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380E5-4044-4091-89A6-B941E1C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AB17C-BB44-4FCD-81D3-46E2F3E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F5F59-80DF-4403-BF5A-02F04AAD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D8D18-1DF6-40DA-BFC0-F604C75F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8E339-955D-40FF-99B9-70CA092C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B25D-E849-408B-86D1-DF0BA499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75A17-4339-46D2-A1E2-77AE52E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CAB9-335A-410D-BECD-D0D70019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AE2-089F-46EF-9AF1-B05D463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77A0-4E72-4067-A9E6-0971DE6F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F25E-F1DF-45DA-8C87-7353A1A1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9C8E-91B0-462A-94AF-FDA1CA7C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936D-D801-424B-8393-27E8A9A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5A94-5809-4FEE-9E1B-7FACC18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DE91-AA87-46FC-9387-E73F2D14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77AD-60EF-4BA7-AA64-8BF5553D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D4EF-A4BF-43C7-953E-02E79805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A68D-5E1D-4B4D-BE2F-C7DCB969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13378-EB91-468E-9E79-0A01BE3C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E9F-159E-40AA-9F25-DCB7A727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2BACB-1156-4ABC-AD7E-053BF63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23A73-0E1D-4635-81E4-D3AD18A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0F7A5-316D-42DA-A086-753FAFF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26829-3C82-4999-AF05-6FAA3ACC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1076F-2E74-4F2D-BD41-D6E5531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3C38F-02A0-4066-AB44-ACA9930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81157-8FB1-477A-A537-BEE9BA9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A0244-AAC8-4F62-98E4-B8D93E6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76A57-D581-4A7F-8A7E-068E2B4B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F372E-37E4-405F-A4E7-02681742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59B-3C3F-43C2-9A03-F3F9103A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3E7F2-F014-4A5D-8A0B-2996D528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8D446-8480-4F7C-A433-B274E934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9BCD4-0603-4664-B38C-7FB914B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E6B94-A3B2-436E-908D-532AAB5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12921-DE5C-4A4A-9CD3-DE6326E1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B0806-4B00-4AF0-A070-90A4E065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BCFC0-BF7E-4535-B29C-4E1E39A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9EEA8-D457-45BD-A65E-20D5BF69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D48EC-BA47-4A09-B5B0-A058A28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6833C-8B4F-41C2-94D2-07014E1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9E3-EDF8-44DD-9D04-B59EAA75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54619-902E-4802-9577-51BC5A36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E58EE-218A-49B2-89B9-47D53F72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C53F1-DEC7-4B9E-80FF-7C5000E3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8C944-2064-471E-8279-E7137D58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8E12B-0918-463B-ACB3-C19370F7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C2E64-ACD2-4782-9193-5EFA807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3856B-9FEE-4B76-82CF-584BA1E2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13FD3-A444-43BF-9D41-D22301D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02951-891A-4EFB-9CBD-3D4C76D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71CE8-0A5F-4EAB-BC61-5731B88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A9B-07BE-41EC-A68C-674D3344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31736-DC18-4251-A234-898174DB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CBA12-B07C-4FEA-8187-84433E95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BFCBE-D23F-4074-AFE2-FB1BF93C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A5458-0DA7-4077-8A14-5009D25F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4E9D7-0DF4-440F-80D6-53233B36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6CE-A9AB-4D82-8B00-0EA4174F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83FC-6FB2-4275-8A78-8545BCD3C3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810B-AD7F-47D6-867A-BC0A21CB510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E9F7-053F-4DBC-B00A-108E7A7041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B2A3-0C27-4A17-B7B7-F307728DDB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0996-362E-4F53-8C2F-938F8685AA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816-03E2-4C8A-858D-42198B0CA3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E87A-0CE0-42E1-BC49-4B763AFE96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84000" y="4595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ОЗДАНИЕ БЛАГОПРИЯТНОГО ПСИХОЛОГИЧЕСКОГО КЛИМАТА В КЛАССНОМ КОЛЛЕКТИВЕ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ЕВА Е.П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БОУ «СШ №8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НИЖНЕВАРТОВСКА</a:t>
            </a:r>
            <a:br>
              <a:rPr sz="1200"/>
            </a:br>
            <a:endParaRPr b="0" lang="en-US" sz="1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F:\фото 1Б\P1000177.JPG"/>
          <p:cNvPicPr/>
          <p:nvPr/>
        </p:nvPicPr>
        <p:blipFill>
          <a:blip r:embed="rId1"/>
          <a:srcRect l="0" t="12005" r="2504" b="0"/>
          <a:stretch/>
        </p:blipFill>
        <p:spPr>
          <a:xfrm>
            <a:off x="3564000" y="2205000"/>
            <a:ext cx="3817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85880" y="214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етский коллектив – это маленькая страна, в которой необходимо построить жизнь так, чтобы каждый чувствовал свою значимость и полез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2" descr="F:\фото 1Б\SAM_5747.JPG"/>
          <p:cNvPicPr/>
          <p:nvPr/>
        </p:nvPicPr>
        <p:blipFill>
          <a:blip r:embed="rId1">
            <a:lum contrast="20000"/>
          </a:blip>
          <a:srcRect l="22068" t="20599" r="-3670" b="0"/>
          <a:stretch/>
        </p:blipFill>
        <p:spPr>
          <a:xfrm>
            <a:off x="6012000" y="4079880"/>
            <a:ext cx="2376360" cy="173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F:\фото 1Б\IMG_0179.JPG"/>
          <p:cNvPicPr/>
          <p:nvPr/>
        </p:nvPicPr>
        <p:blipFill>
          <a:blip r:embed="rId2"/>
          <a:srcRect l="12280" t="9751" r="8777" b="7314"/>
          <a:stretch/>
        </p:blipFill>
        <p:spPr>
          <a:xfrm>
            <a:off x="792000" y="3956040"/>
            <a:ext cx="2459160" cy="1859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F:\фото 1Б\IMG_0180.JPG"/>
          <p:cNvPicPr/>
          <p:nvPr/>
        </p:nvPicPr>
        <p:blipFill>
          <a:blip r:embed="rId3"/>
          <a:srcRect l="18755" t="15626" r="6252" b="0"/>
          <a:stretch/>
        </p:blipFill>
        <p:spPr>
          <a:xfrm>
            <a:off x="3724200" y="2071800"/>
            <a:ext cx="22050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ИАГНОСТИКИ: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АЧАЛЬНАЯ, КОРРЕКТИРУЮЩАЯ, ОБОБЩАЮЩ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ьная диагности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беседы с учащими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кетирование родителей на первом родительском собран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щение некоторых семей на дом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уровня воспитанности учащих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уровня школьной тревож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42600" y="428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рректирующая диагност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отография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ом, в котором я живу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го я выбираю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F:\фото 1Б\IMG_0200.JPG"/>
          <p:cNvPicPr/>
          <p:nvPr/>
        </p:nvPicPr>
        <p:blipFill>
          <a:blip r:embed="rId1"/>
          <a:stretch/>
        </p:blipFill>
        <p:spPr>
          <a:xfrm>
            <a:off x="4572000" y="4316400"/>
            <a:ext cx="2465280" cy="1849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F:\фото 1Б\1 сентября\SAM_1916.JPG"/>
          <p:cNvPicPr/>
          <p:nvPr/>
        </p:nvPicPr>
        <p:blipFill>
          <a:blip r:embed="rId2"/>
          <a:stretch/>
        </p:blipFill>
        <p:spPr>
          <a:xfrm>
            <a:off x="5219640" y="1366920"/>
            <a:ext cx="1998720" cy="1498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F:\фото 1Б\школа\013.JPG"/>
          <p:cNvPicPr/>
          <p:nvPr/>
        </p:nvPicPr>
        <p:blipFill>
          <a:blip r:embed="rId3"/>
          <a:srcRect l="0" t="7366" r="6357" b="0"/>
          <a:stretch/>
        </p:blipFill>
        <p:spPr>
          <a:xfrm>
            <a:off x="642960" y="3357720"/>
            <a:ext cx="248616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714240" y="428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Изучение семь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онсультирование роди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Просвещение и обучение роди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Совместная деятель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F:\фото 1Б\школа\016.JPG"/>
          <p:cNvPicPr/>
          <p:nvPr/>
        </p:nvPicPr>
        <p:blipFill>
          <a:blip r:embed="rId1"/>
          <a:stretch/>
        </p:blipFill>
        <p:spPr>
          <a:xfrm>
            <a:off x="1116000" y="35146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F:\фото 1Б\школа\024.JPG"/>
          <p:cNvPicPr/>
          <p:nvPr/>
        </p:nvPicPr>
        <p:blipFill>
          <a:blip r:embed="rId2"/>
          <a:srcRect l="0" t="11107" r="12504" b="16673"/>
          <a:stretch/>
        </p:blipFill>
        <p:spPr>
          <a:xfrm>
            <a:off x="5148360" y="3514680"/>
            <a:ext cx="3095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28400" y="42876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Помните и никогда не забывайте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началом урока лучше «оставить за дверью» плохое настро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риятный звук для  человека –  это его им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«плохой ученик» не означает «плохой человек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равнивайте успехи отдельных учащихся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постоянно критикуют, он учиться ненавиде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высмеивают, он становится замкнут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хвалят и поддерживают, он учится быть благодарным и учиться ценить себ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71320" y="2357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3" descr="F:\фото 1Б\школа1\SAM_5744.JPG"/>
          <p:cNvPicPr/>
          <p:nvPr/>
        </p:nvPicPr>
        <p:blipFill>
          <a:blip r:embed="rId1"/>
          <a:stretch/>
        </p:blipFill>
        <p:spPr>
          <a:xfrm>
            <a:off x="5364000" y="4365720"/>
            <a:ext cx="2179800" cy="1633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F:\фото 1Б\школа1\SAM_5742.JPG"/>
          <p:cNvPicPr/>
          <p:nvPr/>
        </p:nvPicPr>
        <p:blipFill>
          <a:blip r:embed="rId2"/>
          <a:stretch/>
        </p:blipFill>
        <p:spPr>
          <a:xfrm>
            <a:off x="5076720" y="803160"/>
            <a:ext cx="2014560" cy="151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F:\фото 1Б\IMG_0205.JPG"/>
          <p:cNvPicPr/>
          <p:nvPr/>
        </p:nvPicPr>
        <p:blipFill>
          <a:blip r:embed="rId3"/>
          <a:stretch/>
        </p:blipFill>
        <p:spPr>
          <a:xfrm>
            <a:off x="971640" y="836640"/>
            <a:ext cx="1884240" cy="1413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G:\DCIM\103___01\IMG_0228.JPG"/>
          <p:cNvPicPr/>
          <p:nvPr/>
        </p:nvPicPr>
        <p:blipFill>
          <a:blip r:embed="rId4"/>
          <a:stretch/>
        </p:blipFill>
        <p:spPr>
          <a:xfrm>
            <a:off x="1116000" y="433548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47:25Z</dcterms:created>
  <dc:creator>Анютка</dc:creator>
  <dc:description/>
  <dc:language>en-US</dc:language>
  <cp:lastModifiedBy>Минеева Екатерина Петровна</cp:lastModifiedBy>
  <dcterms:modified xsi:type="dcterms:W3CDTF">2019-11-21T15:28:35Z</dcterms:modified>
  <cp:revision>12</cp:revision>
  <dc:subject/>
  <dc:title>Тема: Создание благоприятного психологического климата в классном коллективе</dc:title>
</cp:coreProperties>
</file>