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CACF-2C5E-4A5F-9FD5-BBF084C1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B742-6D98-4FE3-85B4-7C49D99B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7352-D0CD-479F-88DC-A73B0480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4588-E689-4AF3-A3B0-CCE266267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FB39-6D7D-4A2B-ADC2-2C783B00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F10E-F3C2-40AB-A10D-2474647C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EA53-9B38-4FF4-99AB-27FA01D1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FF7C-E4C2-46BA-BF4B-E6FEB939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A5BB-8B67-41C0-89A6-D776F385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140C-10EB-44D0-89D2-7416E9C5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D6B6-E741-4E95-82AE-7186ECE0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E7FA-63DF-4504-AAAE-1B3F53B6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6D13-B6D5-43B3-A080-A5566BF2E4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4.png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63272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00000"/>
                </a:solidFill>
                <a:latin typeface="Times New Roman"/>
              </a:rPr>
              <a:t>«Способы развития мышления во внеурочной деятельности у учащихся 5-7 классов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00000" y="3573000"/>
            <a:ext cx="4816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втор : Шиман Ольга Алексеевн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читель математики, МБОУ «Усть-Бюрская СОШ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760" y="907560"/>
            <a:ext cx="9120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00000"/>
                </a:solidFill>
                <a:latin typeface="Times New Roman"/>
              </a:rPr>
              <a:t>Деление многоугольника на треугольники и прямоугольники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Рисунок 13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3384720" cy="2448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1403280" y="4398840"/>
            <a:ext cx="54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уммарная площадь равна: 3+1+3 + 4+1 =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400" y="404280"/>
            <a:ext cx="82803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00000"/>
                </a:solidFill>
                <a:latin typeface="Times New Roman"/>
              </a:rPr>
              <a:t>Формула П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35344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Таблица 1" descr=""/>
          <p:cNvPicPr/>
          <p:nvPr/>
        </p:nvPicPr>
        <p:blipFill>
          <a:blip r:embed="rId1"/>
          <a:stretch/>
        </p:blipFill>
        <p:spPr>
          <a:xfrm>
            <a:off x="469800" y="1700280"/>
            <a:ext cx="7485120" cy="3170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376200" y="303120"/>
            <a:ext cx="874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Заголовок 3"/>
          <p:cNvGrpSpPr/>
          <p:nvPr/>
        </p:nvGrpSpPr>
        <p:grpSpPr>
          <a:xfrm>
            <a:off x="208080" y="19080"/>
            <a:ext cx="8654760" cy="2558880"/>
            <a:chOff x="208080" y="19080"/>
            <a:chExt cx="8654760" cy="2558880"/>
          </a:xfrm>
        </p:grpSpPr>
        <p:pic>
          <p:nvPicPr>
            <p:cNvPr id="84" name="Заголовок 3" descr=""/>
            <p:cNvPicPr/>
            <p:nvPr/>
          </p:nvPicPr>
          <p:blipFill>
            <a:blip r:embed="rId1"/>
            <a:stretch/>
          </p:blipFill>
          <p:spPr>
            <a:xfrm>
              <a:off x="208080" y="19080"/>
              <a:ext cx="8654760" cy="25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76200" y="115920"/>
              <a:ext cx="8229600" cy="23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800"/>
              </a:br>
              <a:r>
                <a:rPr b="0" lang="ru-RU" sz="2800" spc="-1" strike="noStrike">
                  <a:solidFill>
                    <a:srgbClr val="b00000"/>
                  </a:solidFill>
                  <a:latin typeface="Times New Roman"/>
                </a:rPr>
                <a:t>Задача .    </a:t>
              </a:r>
              <a:r>
                <a:rPr b="0" i="1" lang="ru-RU" sz="2800" spc="-1" strike="noStrike">
                  <a:solidFill>
                    <a:srgbClr val="b00000"/>
                  </a:solidFill>
                  <a:latin typeface="Times New Roman"/>
                </a:rPr>
                <a:t>Про шоколадку.</a:t>
              </a:r>
              <a:br>
                <a:rPr sz="2800"/>
              </a:br>
              <a:r>
                <a:rPr b="0" lang="ru-RU" sz="2800" spc="-1" strike="noStrike">
                  <a:solidFill>
                    <a:srgbClr val="b00000"/>
                  </a:solidFill>
                  <a:latin typeface="Times New Roman"/>
                </a:rPr>
                <a:t>Троих учеников - победителей викторины -  учитель угостил шоколадной плиткой 4 х 4. Но проигравший конкурент стащил у них одну дольку. Как поделить оставшуюся часть шоколадки на троих?</a:t>
              </a:r>
              <a:br>
                <a:rPr sz="4000"/>
              </a:b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61920" cy="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960" bIns="396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99000" y="1535040"/>
            <a:ext cx="4608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Группа 19"/>
          <p:cNvGrpSpPr/>
          <p:nvPr/>
        </p:nvGrpSpPr>
        <p:grpSpPr>
          <a:xfrm>
            <a:off x="4522680" y="2852640"/>
            <a:ext cx="3321000" cy="2509920"/>
            <a:chOff x="4522680" y="2852640"/>
            <a:chExt cx="3321000" cy="2509920"/>
          </a:xfrm>
        </p:grpSpPr>
        <p:pic>
          <p:nvPicPr>
            <p:cNvPr id="89" name="Рисунок 13" descr=""/>
            <p:cNvPicPr/>
            <p:nvPr/>
          </p:nvPicPr>
          <p:blipFill>
            <a:blip r:embed="rId2"/>
            <a:stretch/>
          </p:blipFill>
          <p:spPr>
            <a:xfrm>
              <a:off x="4522680" y="2852640"/>
              <a:ext cx="332100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Прямая соединительная линия 5"/>
            <p:cNvSpPr/>
            <p:nvPr/>
          </p:nvSpPr>
          <p:spPr>
            <a:xfrm>
              <a:off x="5502240" y="4111560"/>
              <a:ext cx="1361880" cy="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Прямая соединительная линия 10"/>
            <p:cNvSpPr/>
            <p:nvPr/>
          </p:nvSpPr>
          <p:spPr>
            <a:xfrm>
              <a:off x="5502240" y="4108320"/>
              <a:ext cx="0" cy="53028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Прямая соединительная линия 17"/>
            <p:cNvSpPr/>
            <p:nvPr/>
          </p:nvSpPr>
          <p:spPr>
            <a:xfrm>
              <a:off x="4767120" y="4638600"/>
              <a:ext cx="734760" cy="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3" name="Объект 12" descr=""/>
          <p:cNvPicPr/>
          <p:nvPr/>
        </p:nvPicPr>
        <p:blipFill>
          <a:blip r:embed="rId3"/>
          <a:stretch/>
        </p:blipFill>
        <p:spPr>
          <a:xfrm>
            <a:off x="376200" y="2635200"/>
            <a:ext cx="2735280" cy="2727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746240" y="2421000"/>
            <a:ext cx="32814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Блок-схема: альтернативный процесс 2"/>
          <p:cNvGrpSpPr/>
          <p:nvPr/>
        </p:nvGrpSpPr>
        <p:grpSpPr>
          <a:xfrm>
            <a:off x="189000" y="-19080"/>
            <a:ext cx="8789760" cy="2171880"/>
            <a:chOff x="189000" y="-19080"/>
            <a:chExt cx="8789760" cy="2171880"/>
          </a:xfrm>
        </p:grpSpPr>
        <p:pic>
          <p:nvPicPr>
            <p:cNvPr id="96" name="Блок-схема: альтернативный процесс 2" descr=""/>
            <p:cNvPicPr/>
            <p:nvPr/>
          </p:nvPicPr>
          <p:blipFill>
            <a:blip r:embed="rId1"/>
            <a:stretch/>
          </p:blipFill>
          <p:spPr>
            <a:xfrm>
              <a:off x="189000" y="-19080"/>
              <a:ext cx="8789760" cy="21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49200" y="185760"/>
              <a:ext cx="8445600" cy="17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7030a0"/>
                  </a:solidFill>
                  <a:latin typeface="Times New Roman"/>
                </a:rPr>
                <a:t>З а д а ч а . </a:t>
              </a:r>
              <a:r>
                <a:rPr b="0" i="1" lang="ru-RU" sz="2400" spc="-1" strike="noStrike">
                  <a:solidFill>
                    <a:srgbClr val="7030a0"/>
                  </a:solidFill>
                  <a:latin typeface="Times New Roman"/>
                </a:rPr>
                <a:t>Можно или нельзя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7030a0"/>
                  </a:solidFill>
                  <a:latin typeface="Times New Roman"/>
                </a:rPr>
                <a:t>Имеем куб и 6 одинаковых крестообразных плоских фигур. Площадь каждого  креста равна площади одной грани куба. Можно ли без помощи ножниц обклеить всю поверхность куба этими крестами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Прямоугольник 5"/>
          <p:cNvSpPr/>
          <p:nvPr/>
        </p:nvSpPr>
        <p:spPr>
          <a:xfrm>
            <a:off x="169920" y="2079720"/>
            <a:ext cx="880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пробуем на каждую грань куба наклеить крест чуть под уклоном и получившиеся уголки загн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Группа 6"/>
          <p:cNvGrpSpPr/>
          <p:nvPr/>
        </p:nvGrpSpPr>
        <p:grpSpPr>
          <a:xfrm>
            <a:off x="466560" y="2924280"/>
            <a:ext cx="2364120" cy="2254320"/>
            <a:chOff x="466560" y="2924280"/>
            <a:chExt cx="2364120" cy="2254320"/>
          </a:xfrm>
        </p:grpSpPr>
        <p:sp>
          <p:nvSpPr>
            <p:cNvPr id="100" name="Прямоугольник 7"/>
            <p:cNvSpPr/>
            <p:nvPr/>
          </p:nvSpPr>
          <p:spPr>
            <a:xfrm>
              <a:off x="1253880" y="2924280"/>
              <a:ext cx="787320" cy="757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Прямоугольник 8"/>
            <p:cNvSpPr/>
            <p:nvPr/>
          </p:nvSpPr>
          <p:spPr>
            <a:xfrm>
              <a:off x="1253880" y="3683160"/>
              <a:ext cx="787320" cy="757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Прямоугольник 9"/>
            <p:cNvSpPr/>
            <p:nvPr/>
          </p:nvSpPr>
          <p:spPr>
            <a:xfrm>
              <a:off x="466560" y="3665520"/>
              <a:ext cx="787320" cy="75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Прямоугольник 10"/>
            <p:cNvSpPr/>
            <p:nvPr/>
          </p:nvSpPr>
          <p:spPr>
            <a:xfrm>
              <a:off x="1253880" y="4421520"/>
              <a:ext cx="787320" cy="757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Прямоугольник 11"/>
            <p:cNvSpPr/>
            <p:nvPr/>
          </p:nvSpPr>
          <p:spPr>
            <a:xfrm>
              <a:off x="2041560" y="3665520"/>
              <a:ext cx="789120" cy="747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Куб 1"/>
          <p:cNvSpPr/>
          <p:nvPr/>
        </p:nvSpPr>
        <p:spPr>
          <a:xfrm>
            <a:off x="3935520" y="3068640"/>
            <a:ext cx="2365200" cy="2236680"/>
          </a:xfrm>
          <a:prstGeom prst="cube">
            <a:avLst>
              <a:gd name="adj" fmla="val 2526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Крест 28"/>
          <p:cNvSpPr/>
          <p:nvPr/>
        </p:nvSpPr>
        <p:spPr>
          <a:xfrm rot="20047200">
            <a:off x="3659040" y="3331800"/>
            <a:ext cx="2365560" cy="2254320"/>
          </a:xfrm>
          <a:prstGeom prst="plus">
            <a:avLst>
              <a:gd name="adj" fmla="val 34176"/>
            </a:avLst>
          </a:prstGeom>
          <a:solidFill>
            <a:srgbClr val="a3a3e0">
              <a:alpha val="8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ая соединительная линия 30"/>
          <p:cNvSpPr/>
          <p:nvPr/>
        </p:nvSpPr>
        <p:spPr>
          <a:xfrm>
            <a:off x="3935520" y="3645000"/>
            <a:ext cx="996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ая соединительная линия 36"/>
          <p:cNvSpPr/>
          <p:nvPr/>
        </p:nvSpPr>
        <p:spPr>
          <a:xfrm flipV="1">
            <a:off x="5724360" y="3645000"/>
            <a:ext cx="0" cy="79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ая соединительная линия 39"/>
          <p:cNvSpPr/>
          <p:nvPr/>
        </p:nvSpPr>
        <p:spPr>
          <a:xfrm>
            <a:off x="3935520" y="4508640"/>
            <a:ext cx="0" cy="796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ая соединительная линия 42"/>
          <p:cNvSpPr/>
          <p:nvPr/>
        </p:nvSpPr>
        <p:spPr>
          <a:xfrm>
            <a:off x="4788000" y="5305320"/>
            <a:ext cx="93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45"/>
          <p:cNvSpPr/>
          <p:nvPr/>
        </p:nvSpPr>
        <p:spPr>
          <a:xfrm>
            <a:off x="67680" y="5789520"/>
            <a:ext cx="773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елав это с каждой гранью, получим полностью обклеенный ку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Блок-схема: альтернативный процесс 51"/>
          <p:cNvGrpSpPr/>
          <p:nvPr/>
        </p:nvGrpSpPr>
        <p:grpSpPr>
          <a:xfrm>
            <a:off x="115920" y="79200"/>
            <a:ext cx="8912160" cy="2243160"/>
            <a:chOff x="115920" y="79200"/>
            <a:chExt cx="8912160" cy="2243160"/>
          </a:xfrm>
        </p:grpSpPr>
        <p:pic>
          <p:nvPicPr>
            <p:cNvPr id="113" name="Блок-схема: альтернативный процесс 51" descr=""/>
            <p:cNvPicPr/>
            <p:nvPr/>
          </p:nvPicPr>
          <p:blipFill>
            <a:blip r:embed="rId1"/>
            <a:stretch/>
          </p:blipFill>
          <p:spPr>
            <a:xfrm>
              <a:off x="115920" y="79200"/>
              <a:ext cx="891216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84040" y="220680"/>
              <a:ext cx="8575920" cy="19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7030a0"/>
                  </a:solidFill>
                  <a:latin typeface="Times New Roman"/>
                </a:rPr>
                <a:t>З а д а ч а </a:t>
              </a:r>
              <a:r>
                <a:rPr b="0" i="1" lang="ru-RU" sz="2400" spc="-1" strike="noStrike">
                  <a:solidFill>
                    <a:srgbClr val="7030a0"/>
                  </a:solidFill>
                  <a:latin typeface="Times New Roman"/>
                </a:rPr>
                <a:t> Можно или  нельзя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7030a0"/>
                  </a:solidFill>
                  <a:latin typeface="Times New Roman"/>
                </a:rPr>
                <a:t>Возьмем цилиндрическое кольцо, склеенное из полосы бумаги размером 2 на 8 см. При этом высота цилиндра 2 см. Можно ли без помощи ножниц и клея сложить квадраты площадью 4 см² и 8 см²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 txBox="1"/>
          <p:nvPr/>
        </p:nvSpPr>
        <p:spPr>
          <a:xfrm>
            <a:off x="324000" y="4365360"/>
            <a:ext cx="864072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ожно. Первый квадрат мы получим, сложив цилиндр дважды. Таким образом получается квадрат площадью 4 см²  в четыре сло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Цилиндр 7"/>
          <p:cNvSpPr/>
          <p:nvPr/>
        </p:nvSpPr>
        <p:spPr>
          <a:xfrm>
            <a:off x="755640" y="2852640"/>
            <a:ext cx="2016000" cy="15130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Группа 16"/>
          <p:cNvGrpSpPr/>
          <p:nvPr/>
        </p:nvGrpSpPr>
        <p:grpSpPr>
          <a:xfrm>
            <a:off x="6732720" y="2565360"/>
            <a:ext cx="1726920" cy="1727280"/>
            <a:chOff x="6732720" y="2565360"/>
            <a:chExt cx="1726920" cy="1727280"/>
          </a:xfrm>
        </p:grpSpPr>
        <p:sp>
          <p:nvSpPr>
            <p:cNvPr id="118" name="Прямоугольник 8"/>
            <p:cNvSpPr/>
            <p:nvPr/>
          </p:nvSpPr>
          <p:spPr>
            <a:xfrm>
              <a:off x="6732720" y="2565360"/>
              <a:ext cx="1726920" cy="1727280"/>
            </a:xfrm>
            <a:prstGeom prst="rect">
              <a:avLst/>
            </a:prstGeom>
            <a:solidFill>
              <a:srgbClr val="bbe0e3"/>
            </a:solidFill>
            <a:ln w="57240">
              <a:solidFill>
                <a:srgbClr val="72bf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Прямая соединительная линия 10"/>
            <p:cNvSpPr/>
            <p:nvPr/>
          </p:nvSpPr>
          <p:spPr>
            <a:xfrm>
              <a:off x="6732720" y="2565360"/>
              <a:ext cx="1726920" cy="1727280"/>
            </a:xfrm>
            <a:prstGeom prst="line">
              <a:avLst/>
            </a:prstGeom>
            <a:ln w="76320">
              <a:solidFill>
                <a:srgbClr val="e4f3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Объект 2"/>
          <p:cNvSpPr/>
          <p:nvPr/>
        </p:nvSpPr>
        <p:spPr>
          <a:xfrm>
            <a:off x="2411280" y="5084640"/>
            <a:ext cx="4537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ля получения квадрата площадью 8 см², нам нужно взяться за противоположные нижние части цилиндра и потянуть их в противоположные стороны  и сложить по сгибам квадрат. Получим квадрат двойного сложения площадью 8 см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Прямоугольник 17"/>
          <p:cNvSpPr/>
          <p:nvPr/>
        </p:nvSpPr>
        <p:spPr>
          <a:xfrm>
            <a:off x="3276720" y="3068640"/>
            <a:ext cx="1079280" cy="1081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Прямоугольник 65"/>
          <p:cNvSpPr/>
          <p:nvPr/>
        </p:nvSpPr>
        <p:spPr>
          <a:xfrm>
            <a:off x="3327480" y="3117960"/>
            <a:ext cx="1081080" cy="1081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Прямоугольник 66"/>
          <p:cNvSpPr/>
          <p:nvPr/>
        </p:nvSpPr>
        <p:spPr>
          <a:xfrm>
            <a:off x="3371760" y="3147840"/>
            <a:ext cx="1079640" cy="1081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Прямоугольник 67"/>
          <p:cNvSpPr/>
          <p:nvPr/>
        </p:nvSpPr>
        <p:spPr>
          <a:xfrm>
            <a:off x="3432240" y="3191040"/>
            <a:ext cx="1081080" cy="1079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1"/>
          <p:cNvSpPr/>
          <p:nvPr/>
        </p:nvSpPr>
        <p:spPr>
          <a:xfrm>
            <a:off x="611280" y="189000"/>
            <a:ext cx="46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ентами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Рисунок 2" descr="http://festival.1september.ru/articles/619411/f_clip_image008.jpg"/>
          <p:cNvPicPr/>
          <p:nvPr/>
        </p:nvPicPr>
        <p:blipFill>
          <a:blip r:embed="rId1"/>
          <a:stretch/>
        </p:blipFill>
        <p:spPr>
          <a:xfrm>
            <a:off x="324000" y="1052640"/>
            <a:ext cx="662436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" descr="http://festival.1september.ru/articles/619411/f_clip_image010.jpg"/>
          <p:cNvPicPr/>
          <p:nvPr/>
        </p:nvPicPr>
        <p:blipFill>
          <a:blip r:embed="rId1"/>
          <a:stretch/>
        </p:blipFill>
        <p:spPr>
          <a:xfrm>
            <a:off x="1403280" y="836640"/>
            <a:ext cx="6193080" cy="4032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324000" y="404640"/>
            <a:ext cx="65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из набора «уголков» сложить прямоуголь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Рисунок 2" descr="http://festival.1september.ru/articles/525665/img8.jpg"/>
          <p:cNvPicPr/>
          <p:nvPr/>
        </p:nvPicPr>
        <p:blipFill>
          <a:blip r:embed="rId1"/>
          <a:stretch/>
        </p:blipFill>
        <p:spPr>
          <a:xfrm>
            <a:off x="324000" y="1197000"/>
            <a:ext cx="3609720" cy="18525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3" descr="http://festival.1september.ru/articles/525665/img9.jpg"/>
          <p:cNvPicPr/>
          <p:nvPr/>
        </p:nvPicPr>
        <p:blipFill>
          <a:blip r:embed="rId2"/>
          <a:stretch/>
        </p:blipFill>
        <p:spPr>
          <a:xfrm>
            <a:off x="4716360" y="3573360"/>
            <a:ext cx="3527640" cy="1943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250920" y="189000"/>
            <a:ext cx="8281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Задачи на раскрас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сли бумажный кубик разрезать по некоторым ребрам и развернуть, то получится развертка I, а если стереть некоторые буквы и потом разрезать кубик иначе, получится развертка II. Какая буква стояла на месте вопросительного знака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Рисунок 4" descr="http://festival.1september.ru/articles/525665/img15.jpg"/>
          <p:cNvPicPr/>
          <p:nvPr/>
        </p:nvPicPr>
        <p:blipFill>
          <a:blip r:embed="rId1"/>
          <a:stretch/>
        </p:blipFill>
        <p:spPr>
          <a:xfrm>
            <a:off x="434880" y="2133720"/>
            <a:ext cx="1760760" cy="237492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2"/>
          <p:cNvSpPr/>
          <p:nvPr/>
        </p:nvSpPr>
        <p:spPr>
          <a:xfrm>
            <a:off x="2556000" y="227664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A) А     (B) В     (C) С     (D) Е     (E) невозможно определи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5" descr="http://festival.1september.ru/articles/525665/img16.jpg"/>
          <p:cNvPicPr/>
          <p:nvPr/>
        </p:nvPicPr>
        <p:blipFill>
          <a:blip r:embed="rId1"/>
          <a:stretch/>
        </p:blipFill>
        <p:spPr>
          <a:xfrm>
            <a:off x="900000" y="1263600"/>
            <a:ext cx="1943280" cy="164772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6" descr="http://festival.1september.ru/articles/525665/img17.jpg"/>
          <p:cNvPicPr/>
          <p:nvPr/>
        </p:nvPicPr>
        <p:blipFill>
          <a:blip r:embed="rId2"/>
          <a:stretch/>
        </p:blipFill>
        <p:spPr>
          <a:xfrm>
            <a:off x="2987640" y="4076640"/>
            <a:ext cx="2181240" cy="165744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3"/>
          <p:cNvSpPr/>
          <p:nvPr/>
        </p:nvSpPr>
        <p:spPr>
          <a:xfrm>
            <a:off x="395280" y="333360"/>
            <a:ext cx="64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Соберем» первый кубик и расставим на нем буквы (можно использовать модель кубик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Прямоугольник 7"/>
          <p:cNvSpPr/>
          <p:nvPr/>
        </p:nvSpPr>
        <p:spPr>
          <a:xfrm>
            <a:off x="684360" y="3244680"/>
            <a:ext cx="51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вернем его на себ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Прямоугольник 8"/>
          <p:cNvSpPr/>
          <p:nvPr/>
        </p:nvSpPr>
        <p:spPr>
          <a:xfrm>
            <a:off x="6084720" y="398304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удет буква 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2803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00000"/>
                </a:solidFill>
                <a:latin typeface="Times New Roman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353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вывести российское математическое образование на лидирующее положение в мире.  Она подчеркивает необходимость «ориентации образования не только на усвоение обучающимся определенной суммы знаний, но и развитие личности, его познавательных и созидательных способностей»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468360" y="260280"/>
            <a:ext cx="46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Тангр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Рисунок 2" descr=""/>
          <p:cNvPicPr/>
          <p:nvPr/>
        </p:nvPicPr>
        <p:blipFill>
          <a:blip r:embed="rId1"/>
          <a:stretch/>
        </p:blipFill>
        <p:spPr>
          <a:xfrm>
            <a:off x="298440" y="1125360"/>
            <a:ext cx="2457360" cy="191772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3"/>
          <p:cNvSpPr/>
          <p:nvPr/>
        </p:nvSpPr>
        <p:spPr>
          <a:xfrm>
            <a:off x="3348000" y="784080"/>
            <a:ext cx="568800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игре танграм можно выделить 3 основные категории заданий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иск одного или нескольких способов построения данной фигуры или изящного доказательства невозможности построения фигур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хождение способа, позволяющего с наибольшей выразительностью или юмором (или тем и другим вмести) изобразить силуэты животных, людей и другие узнаваемые предмет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шение различных задач комбинаторной геометрии, возникающих в связи с составлением фигур из 7 тан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Рисунок 4" descr=""/>
          <p:cNvPicPr/>
          <p:nvPr/>
        </p:nvPicPr>
        <p:blipFill>
          <a:blip r:embed="rId2"/>
          <a:stretch/>
        </p:blipFill>
        <p:spPr>
          <a:xfrm>
            <a:off x="2627280" y="4005360"/>
            <a:ext cx="2181240" cy="22460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5" descr=""/>
          <p:cNvPicPr/>
          <p:nvPr/>
        </p:nvPicPr>
        <p:blipFill>
          <a:blip r:embed="rId3"/>
          <a:stretch/>
        </p:blipFill>
        <p:spPr>
          <a:xfrm>
            <a:off x="5003640" y="4183200"/>
            <a:ext cx="1746360" cy="1890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280" y="6165360"/>
            <a:ext cx="20163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двиньте одну спичку так, чтобы равенство стало верны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5" descr="spichka2"/>
          <p:cNvPicPr/>
          <p:nvPr/>
        </p:nvPicPr>
        <p:blipFill>
          <a:blip r:embed="rId1"/>
          <a:stretch/>
        </p:blipFill>
        <p:spPr>
          <a:xfrm>
            <a:off x="5003640" y="3284640"/>
            <a:ext cx="943200" cy="95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spichka2"/>
          <p:cNvPicPr/>
          <p:nvPr/>
        </p:nvPicPr>
        <p:blipFill>
          <a:blip r:embed="rId2"/>
          <a:stretch/>
        </p:blipFill>
        <p:spPr>
          <a:xfrm>
            <a:off x="5003640" y="3429000"/>
            <a:ext cx="943200" cy="95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spichka2"/>
          <p:cNvPicPr/>
          <p:nvPr/>
        </p:nvPicPr>
        <p:blipFill>
          <a:blip r:embed="rId3"/>
          <a:stretch/>
        </p:blipFill>
        <p:spPr>
          <a:xfrm>
            <a:off x="3348000" y="3357720"/>
            <a:ext cx="942840" cy="95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spichka2"/>
          <p:cNvPicPr/>
          <p:nvPr/>
        </p:nvPicPr>
        <p:blipFill>
          <a:blip r:embed="rId4"/>
          <a:stretch/>
        </p:blipFill>
        <p:spPr>
          <a:xfrm>
            <a:off x="4500720" y="2997360"/>
            <a:ext cx="95040" cy="942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spichka2"/>
          <p:cNvPicPr/>
          <p:nvPr/>
        </p:nvPicPr>
        <p:blipFill>
          <a:blip r:embed="rId5"/>
          <a:stretch/>
        </p:blipFill>
        <p:spPr>
          <a:xfrm>
            <a:off x="4716360" y="2997360"/>
            <a:ext cx="95400" cy="942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spichka2"/>
          <p:cNvPicPr/>
          <p:nvPr/>
        </p:nvPicPr>
        <p:blipFill>
          <a:blip r:embed="rId6"/>
          <a:stretch/>
        </p:blipFill>
        <p:spPr>
          <a:xfrm>
            <a:off x="6804000" y="2997360"/>
            <a:ext cx="95400" cy="942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spichka2"/>
          <p:cNvPicPr/>
          <p:nvPr/>
        </p:nvPicPr>
        <p:blipFill>
          <a:blip r:embed="rId7"/>
          <a:stretch/>
        </p:blipFill>
        <p:spPr>
          <a:xfrm>
            <a:off x="3132000" y="2997360"/>
            <a:ext cx="95400" cy="942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spichka2"/>
          <p:cNvPicPr/>
          <p:nvPr/>
        </p:nvPicPr>
        <p:blipFill>
          <a:blip r:embed="rId8"/>
          <a:stretch/>
        </p:blipFill>
        <p:spPr>
          <a:xfrm>
            <a:off x="2916360" y="2997360"/>
            <a:ext cx="95040" cy="942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spichka2"/>
          <p:cNvPicPr/>
          <p:nvPr/>
        </p:nvPicPr>
        <p:blipFill>
          <a:blip r:embed="rId9"/>
          <a:stretch/>
        </p:blipFill>
        <p:spPr>
          <a:xfrm>
            <a:off x="2700360" y="2997360"/>
            <a:ext cx="95400" cy="942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5" descr="spichka2"/>
          <p:cNvPicPr/>
          <p:nvPr/>
        </p:nvPicPr>
        <p:blipFill>
          <a:blip r:embed="rId10"/>
          <a:stretch/>
        </p:blipFill>
        <p:spPr>
          <a:xfrm rot="14808000">
            <a:off x="1555560" y="3420360"/>
            <a:ext cx="942840" cy="95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6" descr="spichka2"/>
          <p:cNvPicPr/>
          <p:nvPr/>
        </p:nvPicPr>
        <p:blipFill>
          <a:blip r:embed="rId11"/>
          <a:stretch/>
        </p:blipFill>
        <p:spPr>
          <a:xfrm rot="17591400">
            <a:off x="1915920" y="3420360"/>
            <a:ext cx="942840" cy="95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7" descr="spichka2"/>
          <p:cNvPicPr/>
          <p:nvPr/>
        </p:nvPicPr>
        <p:blipFill>
          <a:blip r:embed="rId12"/>
          <a:stretch/>
        </p:blipFill>
        <p:spPr>
          <a:xfrm rot="17844000">
            <a:off x="6019560" y="3420360"/>
            <a:ext cx="942840" cy="95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8" descr="spichka2"/>
          <p:cNvPicPr/>
          <p:nvPr/>
        </p:nvPicPr>
        <p:blipFill>
          <a:blip r:embed="rId13"/>
          <a:stretch/>
        </p:blipFill>
        <p:spPr>
          <a:xfrm rot="14570400">
            <a:off x="6019560" y="3420360"/>
            <a:ext cx="942840" cy="954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179280" y="1039680"/>
            <a:ext cx="77724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двиньте одну спичку так, чтобы равенство стало верны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2617920" y="333360"/>
            <a:ext cx="452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Задачи со спичк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Рисунок 18" descr="C:\Users\Ольга\Desktop\фото ученики\IMG_1246.JPG"/>
          <p:cNvPicPr/>
          <p:nvPr/>
        </p:nvPicPr>
        <p:blipFill>
          <a:blip r:embed="rId14"/>
          <a:stretch/>
        </p:blipFill>
        <p:spPr>
          <a:xfrm>
            <a:off x="2822400" y="4041720"/>
            <a:ext cx="3359160" cy="2822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96021E-006 L -0.32813 -0.00579 E">
                                      <p:cBhvr>
                                        <p:cTn id="173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кал составлен из четырех спичек. Внутри него - вишенка. Как нужно переместить "бокал", переложив две спички, чтобы вишенка оказалась снаруж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11" descr="pug"/>
          <p:cNvPicPr/>
          <p:nvPr/>
        </p:nvPicPr>
        <p:blipFill>
          <a:blip r:embed="rId1"/>
          <a:stretch/>
        </p:blipFill>
        <p:spPr>
          <a:xfrm>
            <a:off x="3492360" y="3284640"/>
            <a:ext cx="409680" cy="399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spichka2"/>
          <p:cNvPicPr/>
          <p:nvPr/>
        </p:nvPicPr>
        <p:blipFill>
          <a:blip r:embed="rId2"/>
          <a:stretch/>
        </p:blipFill>
        <p:spPr>
          <a:xfrm>
            <a:off x="3276720" y="2997360"/>
            <a:ext cx="95040" cy="942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spichka2"/>
          <p:cNvPicPr/>
          <p:nvPr/>
        </p:nvPicPr>
        <p:blipFill>
          <a:blip r:embed="rId3"/>
          <a:stretch/>
        </p:blipFill>
        <p:spPr>
          <a:xfrm>
            <a:off x="4067280" y="2997360"/>
            <a:ext cx="95040" cy="942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spichka2"/>
          <p:cNvPicPr/>
          <p:nvPr/>
        </p:nvPicPr>
        <p:blipFill>
          <a:blip r:embed="rId4"/>
          <a:stretch/>
        </p:blipFill>
        <p:spPr>
          <a:xfrm>
            <a:off x="3708360" y="3933720"/>
            <a:ext cx="95400" cy="943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spichka2"/>
          <p:cNvPicPr/>
          <p:nvPr/>
        </p:nvPicPr>
        <p:blipFill>
          <a:blip r:embed="rId5"/>
          <a:stretch/>
        </p:blipFill>
        <p:spPr>
          <a:xfrm>
            <a:off x="3276720" y="3860640"/>
            <a:ext cx="942840" cy="9540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7" descr="C:\Users\Ольга\Desktop\фото ученики\IMG_1251.JPG"/>
          <p:cNvPicPr/>
          <p:nvPr/>
        </p:nvPicPr>
        <p:blipFill>
          <a:blip r:embed="rId6"/>
          <a:stretch/>
        </p:blipFill>
        <p:spPr>
          <a:xfrm>
            <a:off x="5535720" y="1871640"/>
            <a:ext cx="3254400" cy="3328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33 0.0037 C 0.00694 0.00486 0.02586 0.00509 0.04496 0.00509 E">
                                      <p:cBhvr>
                                        <p:cTn id="185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04769 C -0.00416 -0.04723 -0.00312 -0.04699 -0.00208 -0.0463 C -0.00104 -0.0456 -0.00017 -0.04422 0.00104 -0.04352 C 0.00886 -0.03959 0.01788 -0.03658 0.02604 -0.0338 C 0.03368 -0.02709 0.04323 -0.02014 0.05209 -0.01713 C 0.0592 -0.01088 0.06875 -0.00787 0.07709 -0.00602 C 0.07952 -0.00116 0.08125 0.00046 0.08542 0.00231 C 0.09132 0.01435 0.08351 0.00023 0.09063 0.00787 C 0.09167 0.00902 0.09167 0.01088 0.09271 0.01203 C 0.09896 0.01875 0.10868 0.01435 0.11667 0.01481 C 0.12274 0.01759 0.12604 0.02407 0.13125 0.0287 C 0.13594 0.04722 0.14236 0.06551 0.14271 0.08565 C 0.14306 0.10185 0.14271 0.11805 0.14271 0.13426 E">
                                      <p:cBhvr>
                                        <p:cTn id="189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4766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Геометрические задачи, решаемые методами складывания листа бумаги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произвольного листа бумаги при помощи сгибов получаем квадрат, а затем методом перегибания  делим сторону квадрата на три равные ча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Рисунок 2" descr="Изучение геометрии на уроках математики в 5-6 классах"/>
          <p:cNvPicPr/>
          <p:nvPr/>
        </p:nvPicPr>
        <p:blipFill>
          <a:blip r:embed="rId1"/>
          <a:stretch/>
        </p:blipFill>
        <p:spPr>
          <a:xfrm>
            <a:off x="179280" y="1649520"/>
            <a:ext cx="1695600" cy="11332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3"/>
          <p:cNvSpPr/>
          <p:nvPr/>
        </p:nvSpPr>
        <p:spPr>
          <a:xfrm>
            <a:off x="0" y="15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Прямоугольник 2" descr=""/>
          <p:cNvPicPr/>
          <p:nvPr/>
        </p:nvPicPr>
        <p:blipFill>
          <a:blip r:embed="rId1"/>
          <a:stretch/>
        </p:blipFill>
        <p:spPr>
          <a:xfrm>
            <a:off x="652320" y="798480"/>
            <a:ext cx="7790040" cy="2779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27236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дачи</a:t>
            </a:r>
            <a:r>
              <a:rPr b="1" lang="ru-RU" sz="2400" spc="-1" strike="noStrike">
                <a:solidFill>
                  <a:srgbClr val="b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8920" y="549000"/>
            <a:ext cx="8425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0000"/>
                </a:solidFill>
                <a:latin typeface="Times New Roman"/>
              </a:rPr>
              <a:t>Модернизация содержания учебных программ математического образования на всех уровнях (с обеспечением их преемственности) исходя из потребностей обучающихся и потребностей общества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0000"/>
                </a:solidFill>
                <a:latin typeface="Times New Roman"/>
              </a:rPr>
              <a:t>Обеспечение отсутствия пробелов в базовых знаниях для каждого обучающегося, формирование у участников образовательных отношений установки "нет неспособных к математике детей». То есть мы должны на минимальном уровне обучить всех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0000"/>
                </a:solidFill>
                <a:latin typeface="Times New Roman"/>
              </a:rPr>
              <a:t>Обеспечение наличия общедоступных информационных ресурсов, необходимых для реализации учебных программ математического образования, в том числе в электронном формате. Я думаю, что учителя  нашего района, занимают лидирующее положение в этом вопросе, это электронные журналы, электронная очередь к врачам специалистам,  в детские сады, в электронном виде доступны все периодические издания, можно пройти  модульные дистанционные курсы, что важно для профессионального развития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0000"/>
                </a:solidFill>
                <a:latin typeface="Times New Roman"/>
              </a:rPr>
              <a:t>Повышение качества работы преподавателей математики, создание условий для реализации собственных авторских программ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0000"/>
                </a:solidFill>
                <a:latin typeface="Times New Roman"/>
              </a:rPr>
              <a:t>Поддержка лидеров математического образования. Учреждены  гранты для учителей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0000"/>
                </a:solidFill>
                <a:latin typeface="Times New Roman"/>
              </a:rPr>
              <a:t>Работа с одаренными детьми. То есть мы должны показать отдельно проводимую работу с одаренными детьми. Обеспечить им участие во всевозможных олимпиадах, конкурсах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2803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00000"/>
                </a:solidFill>
                <a:latin typeface="Times New Roman"/>
              </a:rPr>
              <a:t>Классификация видов мышлени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353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глядно-действенно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глядно-образно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весно-логическо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137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b00000"/>
                </a:solidFill>
                <a:latin typeface="Times New Roman"/>
              </a:rPr>
              <a:t>«Зачем нужна и где в жизни применяется математи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353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. Кружка цилиндрической формы наполнена доверху молоком. Можно ли отлить ровно половину содержащегося в ней молока, не пользуясь измерительными приборами? (Наклонить кружку до тех пор, пока не появится краешек дна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2. Как от куска материи длиной 8 м отрезать кусок длиной 5 м, не имея под рукой измерительных приборов? (Перегнуть кусок материи пополам, затем одну из половинок перегнуть еще пополам и, наконец, ту четвертинку, которая ближе к середине, снова пополам. Последняя линия сгиба разделит длину куска в отношении 3: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2803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00000"/>
                </a:solidFill>
                <a:latin typeface="Times New Roman"/>
              </a:rPr>
              <a:t>Классификация метод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28036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а) словесные методы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источником знания является устное или печатное слово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дискуссия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диалог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работа с книгой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математические дебаты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снежный к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б) наглядные методы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источником знаний являются наблюдаемые предметы, явления, наглядные пособия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метод иллюстраций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полагает показ ученикам иллюстративных пособий, плакатов, таблиц, картин, карт, зарисовок на доске, плоских моделей и пр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метод демонстраций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ычно связан с демонстрацией предметов, опытов, фигур и др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) практические методы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учащиеся получают знания и вырабатывают умения, выполняя практические действия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00000"/>
                </a:solidFill>
                <a:latin typeface="Times New Roman"/>
              </a:rPr>
              <a:t>Способы развития мышл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68360" y="1700280"/>
            <a:ext cx="756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индивидуальное личностное обучен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индивидуально-групповой способ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групповой способ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оллективный спосо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760" y="189000"/>
            <a:ext cx="87962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лощадь фигуры как сумма площадей её част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24000" y="1268280"/>
            <a:ext cx="6840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ча 1. Найдём площадь фигуры АВ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см.рис.1). Если клетки размером 1х1с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обьем фигуру АВ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на части (1 и 2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свойству площадей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= S1  + S2  =  (2∙3):2 + 3∙2  =  3 + 6 = 9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9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0" y="1774800"/>
            <a:ext cx="2268360" cy="2158920"/>
          </a:xfrm>
          <a:prstGeom prst="rect">
            <a:avLst/>
          </a:prstGeom>
          <a:ln w="0">
            <a:noFill/>
          </a:ln>
        </p:spPr>
      </p:pic>
      <p:sp>
        <p:nvSpPr>
          <p:cNvPr id="58" name="Прямая соединительная линия 2"/>
          <p:cNvSpPr/>
          <p:nvPr/>
        </p:nvSpPr>
        <p:spPr>
          <a:xfrm>
            <a:off x="1077840" y="2492280"/>
            <a:ext cx="0" cy="10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844560" y="2924280"/>
            <a:ext cx="2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1332000" y="285444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Рисунок 7" descr=""/>
          <p:cNvPicPr/>
          <p:nvPr/>
        </p:nvPicPr>
        <p:blipFill>
          <a:blip r:embed="rId2"/>
          <a:stretch/>
        </p:blipFill>
        <p:spPr>
          <a:xfrm>
            <a:off x="4427640" y="4653000"/>
            <a:ext cx="1871640" cy="1849320"/>
          </a:xfrm>
          <a:prstGeom prst="rect">
            <a:avLst/>
          </a:prstGeom>
          <a:ln w="0">
            <a:noFill/>
          </a:ln>
        </p:spPr>
      </p:pic>
      <p:sp>
        <p:nvSpPr>
          <p:cNvPr id="62" name="Прямая соединительная линия 3"/>
          <p:cNvSpPr/>
          <p:nvPr/>
        </p:nvSpPr>
        <p:spPr>
          <a:xfrm>
            <a:off x="4788000" y="5229360"/>
            <a:ext cx="115236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ая соединительная линия 6"/>
          <p:cNvSpPr/>
          <p:nvPr/>
        </p:nvSpPr>
        <p:spPr>
          <a:xfrm>
            <a:off x="5076720" y="5229360"/>
            <a:ext cx="0" cy="3492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ая соединительная линия 9"/>
          <p:cNvSpPr/>
          <p:nvPr/>
        </p:nvSpPr>
        <p:spPr>
          <a:xfrm>
            <a:off x="4788000" y="5578560"/>
            <a:ext cx="28872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760" y="333000"/>
            <a:ext cx="9120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лощадь фигуры как часть площади прямоугольни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63640" y="1125000"/>
            <a:ext cx="504036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а 4. Найдём площадь фигуры АВ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см.рис.4). Если клетки размером 1х1см. Опишем около фигуры АВ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рямоугольник. Из площади прямоугольника (в данном случае это квадрат) вычтем площади полученных простых фигур (1, 2, 3 и 4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= 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– S1 – S2 – S3 – S4  = = 4∙4 – (3∙1):2 – (3∙1):2 – (3∙1):2 – (3∙1):2 = 16 – 1,5 – 1,5 – 1,5 – 1,5 = 10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Ответ: 10 см²  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Рисунок 3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2952720" cy="2881080"/>
          </a:xfrm>
          <a:prstGeom prst="rect">
            <a:avLst/>
          </a:prstGeom>
          <a:ln w="0">
            <a:noFill/>
          </a:ln>
        </p:spPr>
      </p:pic>
      <p:sp>
        <p:nvSpPr>
          <p:cNvPr id="68" name="Прямая соединительная линия 2"/>
          <p:cNvSpPr/>
          <p:nvPr/>
        </p:nvSpPr>
        <p:spPr>
          <a:xfrm>
            <a:off x="826920" y="2168640"/>
            <a:ext cx="1944720" cy="1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Прямая соединительная линия 6"/>
          <p:cNvSpPr/>
          <p:nvPr/>
        </p:nvSpPr>
        <p:spPr>
          <a:xfrm>
            <a:off x="2771640" y="2168640"/>
            <a:ext cx="0" cy="19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рямая соединительная линия 8"/>
          <p:cNvSpPr/>
          <p:nvPr/>
        </p:nvSpPr>
        <p:spPr>
          <a:xfrm flipH="1">
            <a:off x="755640" y="407664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Прямая соединительная линия 10"/>
          <p:cNvSpPr/>
          <p:nvPr/>
        </p:nvSpPr>
        <p:spPr>
          <a:xfrm flipH="1">
            <a:off x="755640" y="2185920"/>
            <a:ext cx="71280" cy="18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2340000" y="2205000"/>
            <a:ext cx="1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826920" y="23893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992160" y="3757680"/>
            <a:ext cx="1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2486880" y="3757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Zarina</cp:lastModifiedBy>
  <dcterms:modified xsi:type="dcterms:W3CDTF">2019-11-21T13:02:12Z</dcterms:modified>
  <cp:revision>48</cp:revision>
  <dc:subject/>
  <dc:title>Слайд 1</dc:title>
</cp:coreProperties>
</file>