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9D9-F185-49DF-AEBB-C94BB494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27F-9FC8-44E7-AFF7-D727C0F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BB4-6449-4F82-A7E3-B7E626C2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36B-6FC5-420C-B0D8-0463968C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DDB-8363-4C2E-9894-8A7EDE3F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A53-37FE-48A9-8BCC-B5BB1E73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723-120C-40D9-BC69-ADECF2A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A23-9651-428C-8A5D-930BB484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2D2-1931-439C-BB04-991E045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096-DD2B-4E5D-A9CD-1B45FF7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20B-A18C-4BDA-A724-813B36D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F48-1DCF-4EE3-9D90-C7DF736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9CA1-AA06-4469-9439-00F46BD25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«Способы развития мышления во внеурочной деятельности у учащихся 5-7 классов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 : Шиман Ольга Алексее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, МБОУ «Усть-Бюр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" y="907560"/>
            <a:ext cx="9120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Деление многоугольника на треугольники и прямоугольники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1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44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403280" y="439884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ммарная площадь равна: 3+1+3 + 4+1 =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400" y="404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Формула П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35344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Таблица 1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748512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376200" y="303120"/>
            <a:ext cx="87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Заголовок 3"/>
          <p:cNvGrpSpPr/>
          <p:nvPr/>
        </p:nvGrpSpPr>
        <p:grpSpPr>
          <a:xfrm>
            <a:off x="208080" y="19080"/>
            <a:ext cx="8654760" cy="2558880"/>
            <a:chOff x="208080" y="19080"/>
            <a:chExt cx="8654760" cy="2558880"/>
          </a:xfrm>
        </p:grpSpPr>
        <p:pic>
          <p:nvPicPr>
            <p:cNvPr id="8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208080" y="19080"/>
              <a:ext cx="865476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76200" y="115920"/>
              <a:ext cx="8229600" cy="23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0" lang="ru-RU" sz="2800" spc="-1" strike="noStrike">
                  <a:solidFill>
                    <a:srgbClr val="b00000"/>
                  </a:solidFill>
                  <a:latin typeface="Times New Roman"/>
                </a:rPr>
                <a:t>Задача .    </a:t>
              </a:r>
              <a:r>
                <a:rPr b="0" i="1" lang="ru-RU" sz="2800" spc="-1" strike="noStrike">
                  <a:solidFill>
                    <a:srgbClr val="b00000"/>
                  </a:solidFill>
                  <a:latin typeface="Times New Roman"/>
                </a:rPr>
                <a:t>Про шоколадку.</a:t>
              </a:r>
              <a:br>
                <a:rPr sz="2800"/>
              </a:br>
              <a:r>
                <a:rPr b="0" lang="ru-RU" sz="2800" spc="-1" strike="noStrike">
                  <a:solidFill>
                    <a:srgbClr val="b00000"/>
                  </a:solidFill>
                  <a:latin typeface="Times New Roman"/>
                </a:rPr>
                <a:t>Троих учеников - победителей викторины -  учитель угостил шоколадной плиткой 4 х 4. Но проигравший конкурент стащил у них одну дольку. Как поделить оставшуюся часть шоколадки на троих?</a:t>
              </a:r>
              <a:br>
                <a:rPr sz="40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61920" cy="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960" bIns="396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99000" y="15350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Группа 19"/>
          <p:cNvGrpSpPr/>
          <p:nvPr/>
        </p:nvGrpSpPr>
        <p:grpSpPr>
          <a:xfrm>
            <a:off x="4522680" y="2852640"/>
            <a:ext cx="3321000" cy="2509920"/>
            <a:chOff x="4522680" y="2852640"/>
            <a:chExt cx="3321000" cy="2509920"/>
          </a:xfrm>
        </p:grpSpPr>
        <p:pic>
          <p:nvPicPr>
            <p:cNvPr id="89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4522680" y="2852640"/>
              <a:ext cx="33210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Прямая соединительная линия 5"/>
            <p:cNvSpPr/>
            <p:nvPr/>
          </p:nvSpPr>
          <p:spPr>
            <a:xfrm>
              <a:off x="5502240" y="4111560"/>
              <a:ext cx="136188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Прямая соединительная линия 10"/>
            <p:cNvSpPr/>
            <p:nvPr/>
          </p:nvSpPr>
          <p:spPr>
            <a:xfrm>
              <a:off x="5502240" y="4108320"/>
              <a:ext cx="0" cy="53028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Прямая соединительная линия 17"/>
            <p:cNvSpPr/>
            <p:nvPr/>
          </p:nvSpPr>
          <p:spPr>
            <a:xfrm>
              <a:off x="4767120" y="4638600"/>
              <a:ext cx="73476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Объект 12" descr=""/>
          <p:cNvPicPr/>
          <p:nvPr/>
        </p:nvPicPr>
        <p:blipFill>
          <a:blip r:embed="rId3"/>
          <a:stretch/>
        </p:blipFill>
        <p:spPr>
          <a:xfrm>
            <a:off x="376200" y="2635200"/>
            <a:ext cx="2735280" cy="272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746240" y="2421000"/>
            <a:ext cx="3281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Блок-схема: альтернативный процесс 2"/>
          <p:cNvGrpSpPr/>
          <p:nvPr/>
        </p:nvGrpSpPr>
        <p:grpSpPr>
          <a:xfrm>
            <a:off x="189000" y="-19080"/>
            <a:ext cx="8789760" cy="2171880"/>
            <a:chOff x="189000" y="-19080"/>
            <a:chExt cx="8789760" cy="2171880"/>
          </a:xfrm>
        </p:grpSpPr>
        <p:pic>
          <p:nvPicPr>
            <p:cNvPr id="96" name="Блок-схема: альтернативный процесс 2" descr=""/>
            <p:cNvPicPr/>
            <p:nvPr/>
          </p:nvPicPr>
          <p:blipFill>
            <a:blip r:embed="rId1"/>
            <a:stretch/>
          </p:blipFill>
          <p:spPr>
            <a:xfrm>
              <a:off x="189000" y="-19080"/>
              <a:ext cx="878976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9200" y="185760"/>
              <a:ext cx="844560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З а д а ч а . </a:t>
              </a:r>
              <a:r>
                <a:rPr b="0" i="1" lang="ru-RU" sz="2400" spc="-1" strike="noStrike">
                  <a:solidFill>
                    <a:srgbClr val="7030a0"/>
                  </a:solidFill>
                  <a:latin typeface="Times New Roman"/>
                </a:rPr>
                <a:t>Можно или нельзя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Имеем куб и 6 одинаковых крестообразных плоских фигур. Площадь каждого  креста равна площади одной грани куба. Можно ли без помощи ножниц обклеить всю поверхность куба этими крестами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Прямоугольник 5"/>
          <p:cNvSpPr/>
          <p:nvPr/>
        </p:nvSpPr>
        <p:spPr>
          <a:xfrm>
            <a:off x="169920" y="207972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робуем на каждую грань куба наклеить крест чуть под уклоном и получившиеся уголки заг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Группа 6"/>
          <p:cNvGrpSpPr/>
          <p:nvPr/>
        </p:nvGrpSpPr>
        <p:grpSpPr>
          <a:xfrm>
            <a:off x="466560" y="2924280"/>
            <a:ext cx="2364120" cy="2254320"/>
            <a:chOff x="466560" y="2924280"/>
            <a:chExt cx="2364120" cy="2254320"/>
          </a:xfrm>
        </p:grpSpPr>
        <p:sp>
          <p:nvSpPr>
            <p:cNvPr id="100" name="Прямоугольник 7"/>
            <p:cNvSpPr/>
            <p:nvPr/>
          </p:nvSpPr>
          <p:spPr>
            <a:xfrm>
              <a:off x="1253880" y="2924280"/>
              <a:ext cx="787320" cy="75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Прямоугольник 8"/>
            <p:cNvSpPr/>
            <p:nvPr/>
          </p:nvSpPr>
          <p:spPr>
            <a:xfrm>
              <a:off x="1253880" y="3683160"/>
              <a:ext cx="787320" cy="75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Прямоугольник 9"/>
            <p:cNvSpPr/>
            <p:nvPr/>
          </p:nvSpPr>
          <p:spPr>
            <a:xfrm>
              <a:off x="466560" y="3665520"/>
              <a:ext cx="7873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Прямоугольник 10"/>
            <p:cNvSpPr/>
            <p:nvPr/>
          </p:nvSpPr>
          <p:spPr>
            <a:xfrm>
              <a:off x="1253880" y="4421520"/>
              <a:ext cx="787320" cy="75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Прямоугольник 11"/>
            <p:cNvSpPr/>
            <p:nvPr/>
          </p:nvSpPr>
          <p:spPr>
            <a:xfrm>
              <a:off x="2041560" y="3665520"/>
              <a:ext cx="789120" cy="74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Куб 1"/>
          <p:cNvSpPr/>
          <p:nvPr/>
        </p:nvSpPr>
        <p:spPr>
          <a:xfrm>
            <a:off x="3935520" y="3068640"/>
            <a:ext cx="2365200" cy="2236680"/>
          </a:xfrm>
          <a:prstGeom prst="cube">
            <a:avLst>
              <a:gd name="adj" fmla="val 2526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Крест 28"/>
          <p:cNvSpPr/>
          <p:nvPr/>
        </p:nvSpPr>
        <p:spPr>
          <a:xfrm rot="20047200">
            <a:off x="3659040" y="3331800"/>
            <a:ext cx="2365560" cy="2254320"/>
          </a:xfrm>
          <a:prstGeom prst="plus">
            <a:avLst>
              <a:gd name="adj" fmla="val 34176"/>
            </a:avLst>
          </a:prstGeom>
          <a:solidFill>
            <a:srgbClr val="a3a3e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ая соединительная линия 30"/>
          <p:cNvSpPr/>
          <p:nvPr/>
        </p:nvSpPr>
        <p:spPr>
          <a:xfrm>
            <a:off x="3935520" y="3645000"/>
            <a:ext cx="996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36"/>
          <p:cNvSpPr/>
          <p:nvPr/>
        </p:nvSpPr>
        <p:spPr>
          <a:xfrm flipV="1">
            <a:off x="5724360" y="364500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39"/>
          <p:cNvSpPr/>
          <p:nvPr/>
        </p:nvSpPr>
        <p:spPr>
          <a:xfrm>
            <a:off x="3935520" y="4508640"/>
            <a:ext cx="0" cy="79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42"/>
          <p:cNvSpPr/>
          <p:nvPr/>
        </p:nvSpPr>
        <p:spPr>
          <a:xfrm>
            <a:off x="4788000" y="5305320"/>
            <a:ext cx="93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5"/>
          <p:cNvSpPr/>
          <p:nvPr/>
        </p:nvSpPr>
        <p:spPr>
          <a:xfrm>
            <a:off x="67680" y="5789520"/>
            <a:ext cx="77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елав это с каждой гранью, получим полностью обклеенный к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Блок-схема: альтернативный процесс 51"/>
          <p:cNvGrpSpPr/>
          <p:nvPr/>
        </p:nvGrpSpPr>
        <p:grpSpPr>
          <a:xfrm>
            <a:off x="115920" y="79200"/>
            <a:ext cx="8912160" cy="2243160"/>
            <a:chOff x="115920" y="79200"/>
            <a:chExt cx="8912160" cy="2243160"/>
          </a:xfrm>
        </p:grpSpPr>
        <p:pic>
          <p:nvPicPr>
            <p:cNvPr id="113" name="Блок-схема: альтернативный процесс 51" descr=""/>
            <p:cNvPicPr/>
            <p:nvPr/>
          </p:nvPicPr>
          <p:blipFill>
            <a:blip r:embed="rId1"/>
            <a:stretch/>
          </p:blipFill>
          <p:spPr>
            <a:xfrm>
              <a:off x="115920" y="79200"/>
              <a:ext cx="8912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84040" y="220680"/>
              <a:ext cx="8575920" cy="19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З а д а ч а </a:t>
              </a:r>
              <a:r>
                <a:rPr b="0" i="1" lang="ru-RU" sz="2400" spc="-1" strike="noStrike">
                  <a:solidFill>
                    <a:srgbClr val="7030a0"/>
                  </a:solidFill>
                  <a:latin typeface="Times New Roman"/>
                </a:rPr>
                <a:t> Можно или  нельзя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Возьмем цилиндрическое кольцо, склеенное из полосы бумаги размером 2 на 8 см. При этом высота цилиндра 2 см. Можно ли без помощи ножниц и клея сложить квадраты площадью 4 см² и 8 см²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324000" y="4365360"/>
            <a:ext cx="86407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жно. Первый квадрат мы получим, сложив цилиндр дважды. Таким образом получается квадрат площадью 4 см²  в четыре сло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Цилиндр 7"/>
          <p:cNvSpPr/>
          <p:nvPr/>
        </p:nvSpPr>
        <p:spPr>
          <a:xfrm>
            <a:off x="755640" y="2852640"/>
            <a:ext cx="2016000" cy="1513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Группа 16"/>
          <p:cNvGrpSpPr/>
          <p:nvPr/>
        </p:nvGrpSpPr>
        <p:grpSpPr>
          <a:xfrm>
            <a:off x="6732720" y="2565360"/>
            <a:ext cx="1726920" cy="1727280"/>
            <a:chOff x="6732720" y="2565360"/>
            <a:chExt cx="1726920" cy="1727280"/>
          </a:xfrm>
        </p:grpSpPr>
        <p:sp>
          <p:nvSpPr>
            <p:cNvPr id="118" name="Прямоугольник 8"/>
            <p:cNvSpPr/>
            <p:nvPr/>
          </p:nvSpPr>
          <p:spPr>
            <a:xfrm>
              <a:off x="6732720" y="2565360"/>
              <a:ext cx="1726920" cy="17272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Прямая соединительная линия 10"/>
            <p:cNvSpPr/>
            <p:nvPr/>
          </p:nvSpPr>
          <p:spPr>
            <a:xfrm>
              <a:off x="6732720" y="2565360"/>
              <a:ext cx="1726920" cy="1727280"/>
            </a:xfrm>
            <a:prstGeom prst="line">
              <a:avLst/>
            </a:prstGeom>
            <a:ln w="76320">
              <a:solidFill>
                <a:srgbClr val="e4f3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Объект 2"/>
          <p:cNvSpPr/>
          <p:nvPr/>
        </p:nvSpPr>
        <p:spPr>
          <a:xfrm>
            <a:off x="2411280" y="5084640"/>
            <a:ext cx="4537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олучения квадрата площадью 8 см², нам нужно взяться за противоположные нижние части цилиндра и потянуть их в противоположные стороны  и сложить по сгибам квадрат. Получим квадрат двойного сложения площадью 8 см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7"/>
          <p:cNvSpPr/>
          <p:nvPr/>
        </p:nvSpPr>
        <p:spPr>
          <a:xfrm>
            <a:off x="3276720" y="3068640"/>
            <a:ext cx="107928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65"/>
          <p:cNvSpPr/>
          <p:nvPr/>
        </p:nvSpPr>
        <p:spPr>
          <a:xfrm>
            <a:off x="3327480" y="3117960"/>
            <a:ext cx="108108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66"/>
          <p:cNvSpPr/>
          <p:nvPr/>
        </p:nvSpPr>
        <p:spPr>
          <a:xfrm>
            <a:off x="3371760" y="3147840"/>
            <a:ext cx="1079640" cy="108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67"/>
          <p:cNvSpPr/>
          <p:nvPr/>
        </p:nvSpPr>
        <p:spPr>
          <a:xfrm>
            <a:off x="3432240" y="3191040"/>
            <a:ext cx="1081080" cy="107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611280" y="18900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ентами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2" descr="http://festival.1september.ru/articles/619411/f_clip_image008.jpg"/>
          <p:cNvPicPr/>
          <p:nvPr/>
        </p:nvPicPr>
        <p:blipFill>
          <a:blip r:embed="rId1"/>
          <a:stretch/>
        </p:blipFill>
        <p:spPr>
          <a:xfrm>
            <a:off x="324000" y="1052640"/>
            <a:ext cx="66243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ttp://festival.1september.ru/articles/619411/f_clip_image010.jpg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324000" y="404640"/>
            <a:ext cx="65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из набора «уголков» сложить прямо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2" descr="http://festival.1september.ru/articles/525665/img8.jpg"/>
          <p:cNvPicPr/>
          <p:nvPr/>
        </p:nvPicPr>
        <p:blipFill>
          <a:blip r:embed="rId1"/>
          <a:stretch/>
        </p:blipFill>
        <p:spPr>
          <a:xfrm>
            <a:off x="324000" y="1197000"/>
            <a:ext cx="3609720" cy="1852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http://festival.1september.ru/articles/525665/img9.jpg"/>
          <p:cNvPicPr/>
          <p:nvPr/>
        </p:nvPicPr>
        <p:blipFill>
          <a:blip r:embed="rId2"/>
          <a:stretch/>
        </p:blipFill>
        <p:spPr>
          <a:xfrm>
            <a:off x="4716360" y="3573360"/>
            <a:ext cx="35276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50920" y="189000"/>
            <a:ext cx="828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дачи на раскрас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бумажный кубик разрезать по некоторым ребрам и развернуть, то получится развертка I, а если стереть некоторые буквы и потом разрезать кубик иначе, получится развертка II. Какая буква стояла на месте вопросительного зна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4" descr="http://festival.1september.ru/articles/525665/img15.jpg"/>
          <p:cNvPicPr/>
          <p:nvPr/>
        </p:nvPicPr>
        <p:blipFill>
          <a:blip r:embed="rId1"/>
          <a:stretch/>
        </p:blipFill>
        <p:spPr>
          <a:xfrm>
            <a:off x="434880" y="2133720"/>
            <a:ext cx="1760760" cy="23749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2556000" y="2276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A) А     (B) В     (C) С     (D) Е     (E) невозможно определ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5" descr="http://festival.1september.ru/articles/525665/img16.jpg"/>
          <p:cNvPicPr/>
          <p:nvPr/>
        </p:nvPicPr>
        <p:blipFill>
          <a:blip r:embed="rId1"/>
          <a:stretch/>
        </p:blipFill>
        <p:spPr>
          <a:xfrm>
            <a:off x="900000" y="1263600"/>
            <a:ext cx="1943280" cy="1647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http://festival.1september.ru/articles/525665/img17.jpg"/>
          <p:cNvPicPr/>
          <p:nvPr/>
        </p:nvPicPr>
        <p:blipFill>
          <a:blip r:embed="rId2"/>
          <a:stretch/>
        </p:blipFill>
        <p:spPr>
          <a:xfrm>
            <a:off x="2987640" y="4076640"/>
            <a:ext cx="2181240" cy="16574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395280" y="333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Соберем» первый кубик и расставим на нем буквы (можно использовать модель куб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684360" y="324468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ернем его на себ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6084720" y="3983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т буква 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ывести российское математическое образование на лидирующее положение в мире.  Она подчеркивает необходимость «ориентации образования не только на усвоение обучающимся определенной суммы знаний, но и развитие личности, его познавательных и созидательных способностей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68360" y="26028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ангр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2" descr=""/>
          <p:cNvPicPr/>
          <p:nvPr/>
        </p:nvPicPr>
        <p:blipFill>
          <a:blip r:embed="rId1"/>
          <a:stretch/>
        </p:blipFill>
        <p:spPr>
          <a:xfrm>
            <a:off x="298440" y="1125360"/>
            <a:ext cx="2457360" cy="1917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3348000" y="784080"/>
            <a:ext cx="5688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игре танграм можно выделить 3 основные категории задан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иск одного или нескольких способов построения данной фигуры или изящного доказательства невозможности построения фиг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хождение способа, позволяющего с наибольшей выразительностью или юмором (или тем и другим вмести) изобразить силуэты животных, людей и другие узнаваемые предм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е различных задач комбинаторной геометрии, возникающих в связи с составлением фигур из 7 тан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2"/>
          <a:stretch/>
        </p:blipFill>
        <p:spPr>
          <a:xfrm>
            <a:off x="2627280" y="4005360"/>
            <a:ext cx="2181240" cy="2246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"/>
          <p:cNvPicPr/>
          <p:nvPr/>
        </p:nvPicPr>
        <p:blipFill>
          <a:blip r:embed="rId3"/>
          <a:stretch/>
        </p:blipFill>
        <p:spPr>
          <a:xfrm>
            <a:off x="5003640" y="4183200"/>
            <a:ext cx="174636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6165360"/>
            <a:ext cx="20163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виньте одну спичку так, чтобы равенство стало вер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spichka2"/>
          <p:cNvPicPr/>
          <p:nvPr/>
        </p:nvPicPr>
        <p:blipFill>
          <a:blip r:embed="rId1"/>
          <a:stretch/>
        </p:blipFill>
        <p:spPr>
          <a:xfrm>
            <a:off x="5003640" y="3284640"/>
            <a:ext cx="943200" cy="9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pichka2"/>
          <p:cNvPicPr/>
          <p:nvPr/>
        </p:nvPicPr>
        <p:blipFill>
          <a:blip r:embed="rId2"/>
          <a:stretch/>
        </p:blipFill>
        <p:spPr>
          <a:xfrm>
            <a:off x="5003640" y="3429000"/>
            <a:ext cx="943200" cy="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spichka2"/>
          <p:cNvPicPr/>
          <p:nvPr/>
        </p:nvPicPr>
        <p:blipFill>
          <a:blip r:embed="rId3"/>
          <a:stretch/>
        </p:blipFill>
        <p:spPr>
          <a:xfrm>
            <a:off x="3348000" y="3357720"/>
            <a:ext cx="942840" cy="95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spichka2"/>
          <p:cNvPicPr/>
          <p:nvPr/>
        </p:nvPicPr>
        <p:blipFill>
          <a:blip r:embed="rId4"/>
          <a:stretch/>
        </p:blipFill>
        <p:spPr>
          <a:xfrm>
            <a:off x="450072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spichka2"/>
          <p:cNvPicPr/>
          <p:nvPr/>
        </p:nvPicPr>
        <p:blipFill>
          <a:blip r:embed="rId5"/>
          <a:stretch/>
        </p:blipFill>
        <p:spPr>
          <a:xfrm>
            <a:off x="471636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spichka2"/>
          <p:cNvPicPr/>
          <p:nvPr/>
        </p:nvPicPr>
        <p:blipFill>
          <a:blip r:embed="rId6"/>
          <a:stretch/>
        </p:blipFill>
        <p:spPr>
          <a:xfrm>
            <a:off x="680400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spichka2"/>
          <p:cNvPicPr/>
          <p:nvPr/>
        </p:nvPicPr>
        <p:blipFill>
          <a:blip r:embed="rId7"/>
          <a:stretch/>
        </p:blipFill>
        <p:spPr>
          <a:xfrm>
            <a:off x="313200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spichka2"/>
          <p:cNvPicPr/>
          <p:nvPr/>
        </p:nvPicPr>
        <p:blipFill>
          <a:blip r:embed="rId8"/>
          <a:stretch/>
        </p:blipFill>
        <p:spPr>
          <a:xfrm>
            <a:off x="291636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spichka2"/>
          <p:cNvPicPr/>
          <p:nvPr/>
        </p:nvPicPr>
        <p:blipFill>
          <a:blip r:embed="rId9"/>
          <a:stretch/>
        </p:blipFill>
        <p:spPr>
          <a:xfrm>
            <a:off x="270036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spichka2"/>
          <p:cNvPicPr/>
          <p:nvPr/>
        </p:nvPicPr>
        <p:blipFill>
          <a:blip r:embed="rId10"/>
          <a:stretch/>
        </p:blipFill>
        <p:spPr>
          <a:xfrm rot="14808000">
            <a:off x="1555560" y="342036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spichka2"/>
          <p:cNvPicPr/>
          <p:nvPr/>
        </p:nvPicPr>
        <p:blipFill>
          <a:blip r:embed="rId11"/>
          <a:stretch/>
        </p:blipFill>
        <p:spPr>
          <a:xfrm rot="17591400">
            <a:off x="1915920" y="342036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spichka2"/>
          <p:cNvPicPr/>
          <p:nvPr/>
        </p:nvPicPr>
        <p:blipFill>
          <a:blip r:embed="rId12"/>
          <a:stretch/>
        </p:blipFill>
        <p:spPr>
          <a:xfrm rot="17844000">
            <a:off x="6019560" y="342036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spichka2"/>
          <p:cNvPicPr/>
          <p:nvPr/>
        </p:nvPicPr>
        <p:blipFill>
          <a:blip r:embed="rId13"/>
          <a:stretch/>
        </p:blipFill>
        <p:spPr>
          <a:xfrm rot="14570400">
            <a:off x="6019560" y="3420360"/>
            <a:ext cx="942840" cy="95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179280" y="10396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виньте одну спичку так, чтобы равенство стало вер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617920" y="333360"/>
            <a:ext cx="45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дачи со спич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Рисунок 18" descr="C:\Users\Ольга\Desktop\фото ученики\IMG_1246.JPG"/>
          <p:cNvPicPr/>
          <p:nvPr/>
        </p:nvPicPr>
        <p:blipFill>
          <a:blip r:embed="rId14"/>
          <a:stretch/>
        </p:blipFill>
        <p:spPr>
          <a:xfrm>
            <a:off x="2822400" y="4041720"/>
            <a:ext cx="3359160" cy="282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96021E-006 L -0.32813 -0.00579 E">
                                      <p:cBhvr>
                                        <p:cTn id="17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кал составлен из четырех спичек. Внутри него - вишенка. Как нужно переместить "бокал", переложив две спички, чтобы вишенка оказалась снаруж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1" descr="pug"/>
          <p:cNvPicPr/>
          <p:nvPr/>
        </p:nvPicPr>
        <p:blipFill>
          <a:blip r:embed="rId1"/>
          <a:stretch/>
        </p:blipFill>
        <p:spPr>
          <a:xfrm>
            <a:off x="3492360" y="3284640"/>
            <a:ext cx="4096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spichka2"/>
          <p:cNvPicPr/>
          <p:nvPr/>
        </p:nvPicPr>
        <p:blipFill>
          <a:blip r:embed="rId2"/>
          <a:stretch/>
        </p:blipFill>
        <p:spPr>
          <a:xfrm>
            <a:off x="327672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spichka2"/>
          <p:cNvPicPr/>
          <p:nvPr/>
        </p:nvPicPr>
        <p:blipFill>
          <a:blip r:embed="rId3"/>
          <a:stretch/>
        </p:blipFill>
        <p:spPr>
          <a:xfrm>
            <a:off x="406728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spichka2"/>
          <p:cNvPicPr/>
          <p:nvPr/>
        </p:nvPicPr>
        <p:blipFill>
          <a:blip r:embed="rId4"/>
          <a:stretch/>
        </p:blipFill>
        <p:spPr>
          <a:xfrm>
            <a:off x="3708360" y="3933720"/>
            <a:ext cx="95400" cy="9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spichka2"/>
          <p:cNvPicPr/>
          <p:nvPr/>
        </p:nvPicPr>
        <p:blipFill>
          <a:blip r:embed="rId5"/>
          <a:stretch/>
        </p:blipFill>
        <p:spPr>
          <a:xfrm>
            <a:off x="3276720" y="386064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C:\Users\Ольга\Desktop\фото ученики\IMG_1251.JPG"/>
          <p:cNvPicPr/>
          <p:nvPr/>
        </p:nvPicPr>
        <p:blipFill>
          <a:blip r:embed="rId6"/>
          <a:stretch/>
        </p:blipFill>
        <p:spPr>
          <a:xfrm>
            <a:off x="5535720" y="1871640"/>
            <a:ext cx="3254400" cy="3328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037 C 0.00694 0.00486 0.02586 0.00509 0.04496 0.00509 E">
                                      <p:cBhvr>
                                        <p:cTn id="18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769 C -0.00416 -0.04723 -0.00312 -0.04699 -0.00208 -0.0463 C -0.00104 -0.0456 -0.00017 -0.04422 0.00104 -0.04352 C 0.00886 -0.03959 0.01788 -0.03658 0.02604 -0.0338 C 0.03368 -0.02709 0.04323 -0.02014 0.05209 -0.01713 C 0.0592 -0.01088 0.06875 -0.00787 0.07709 -0.00602 C 0.07952 -0.00116 0.08125 0.00046 0.08542 0.00231 C 0.09132 0.01435 0.08351 0.00023 0.09063 0.00787 C 0.09167 0.00902 0.09167 0.01088 0.09271 0.01203 C 0.09896 0.01875 0.10868 0.01435 0.11667 0.01481 C 0.12274 0.01759 0.12604 0.02407 0.13125 0.0287 C 0.13594 0.04722 0.14236 0.06551 0.14271 0.08565 C 0.14306 0.10185 0.14271 0.11805 0.14271 0.13426 E">
                                      <p:cBhvr>
                                        <p:cTn id="18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47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Геометрические задачи, решаемые методами складывания листа бумаги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произвольного листа бумаги при помощи сгибов получаем квадрат, а затем методом перегибания  делим сторону квадрата на три равные ч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Рисунок 2" descr="Изучение геометрии на уроках математики в 5-6 классах"/>
          <p:cNvPicPr/>
          <p:nvPr/>
        </p:nvPicPr>
        <p:blipFill>
          <a:blip r:embed="rId1"/>
          <a:stretch/>
        </p:blipFill>
        <p:spPr>
          <a:xfrm>
            <a:off x="179280" y="1649520"/>
            <a:ext cx="1695600" cy="1133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2" descr=""/>
          <p:cNvPicPr/>
          <p:nvPr/>
        </p:nvPicPr>
        <p:blipFill>
          <a:blip r:embed="rId1"/>
          <a:stretch/>
        </p:blipFill>
        <p:spPr>
          <a:xfrm>
            <a:off x="652320" y="798480"/>
            <a:ext cx="7790040" cy="277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27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842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Модернизация содержания учебных программ математического образования на всех уровнях (с обеспечением их преемственности) исходя из потребностей обучающихся и потребностей обществ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Обеспечение отсутствия пробелов в базовых знаниях для каждого обучающегося, формирование у участников образовательных отношений установки "нет неспособных к математике детей». То есть мы должны на минимальном уровне обучить всех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Обеспечение наличия общедоступных информационных ресурсов, необходимых для реализации учебных программ математического образования, в том числе в электронном формате. Я думаю, что учителя  нашего района, занимают лидирующее положение в этом вопросе, это электронные журналы, электронная очередь к врачам специалистам,  в детские сады, в электронном виде доступны все периодические издания, можно пройти  модульные дистанционные курсы, что важно для профессионального развит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Повышение качества работы преподавателей математики, создание условий для реализации собственных авторских програм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Поддержка лидеров математического образования. Учреждены  гранты для учителей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Работа с одаренными детьми. То есть мы должны показать отдельно проводимую работу с одаренными детьми. Обеспечить им участие во всевозможных олимпиадах, конкурсах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Классификация видов мыш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глядно-действенно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глядно-образно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есно-логическ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«Зачем нужна и где в жизни применяется математ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353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 Кружка цилиндрической формы наполнена доверху молоком. Можно ли отлить ровно половину содержащегося в ней молока, не пользуясь измерительными приборами? (Наклонить кружку до тех пор, пока не появится краешек дна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. Как от куска материи длиной 8 м отрезать кусок длиной 5 м, не имея под рукой измерительных приборов? (Перегнуть кусок материи пополам, затем одну из половинок перегнуть еще пополам и, наконец, ту четвертинку, которая ближе к середине, снова пополам. Последняя линия сгиба разделит длину куска в отношении 3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Классификация мето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) словесные метод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сточником знания является устное или печатное слов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дискусс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диалог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работа с книг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математические дебат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снежный к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) наглядные метод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сточником знаний являются наблюдаемые предметы, явления, наглядные пособ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метод иллюстрац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показ ученикам иллюстративных пособий, плакатов, таблиц, картин, карт, зарисовок на доске, плоских моделей и п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метод демонстрац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но связан с демонстрацией предметов, опытов, фигур и д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) практические метод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учащиеся получают знания и вырабатывают умения, выполняя практические действия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Способы развития мыш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68360" y="170028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дивидуальное личностное обуч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дивидуально-групповой спосо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групповой спосо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ллективный спосо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760" y="189000"/>
            <a:ext cx="87962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щадь фигуры как сумма площадей её час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0" y="1268280"/>
            <a:ext cx="6840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1. Найдём площадь фигуры АВ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см.рис.1). Если клетки размером 1х1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обьем фигуру АВ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 части (1 и 2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свойству площадей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= S1  + S2  =  (2∙3):2 + 3∙2  =  3 + 6 = 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9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1774800"/>
            <a:ext cx="2268360" cy="2158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2"/>
          <p:cNvSpPr/>
          <p:nvPr/>
        </p:nvSpPr>
        <p:spPr>
          <a:xfrm>
            <a:off x="1077840" y="249228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4560" y="2924280"/>
            <a:ext cx="2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332000" y="28544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4427640" y="4653000"/>
            <a:ext cx="1871640" cy="1849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ая соединительная линия 3"/>
          <p:cNvSpPr/>
          <p:nvPr/>
        </p:nvSpPr>
        <p:spPr>
          <a:xfrm>
            <a:off x="4788000" y="5229360"/>
            <a:ext cx="1152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6"/>
          <p:cNvSpPr/>
          <p:nvPr/>
        </p:nvSpPr>
        <p:spPr>
          <a:xfrm>
            <a:off x="5076720" y="5229360"/>
            <a:ext cx="0" cy="349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ая соединительная линия 9"/>
          <p:cNvSpPr/>
          <p:nvPr/>
        </p:nvSpPr>
        <p:spPr>
          <a:xfrm>
            <a:off x="4788000" y="5578560"/>
            <a:ext cx="2887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760" y="333000"/>
            <a:ext cx="9120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щадь фигуры как часть площади прямоуголь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63640" y="1125000"/>
            <a:ext cx="5040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4. Найдём площадь фигуры АВ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м.рис.4). Если клетки размером 1х1см. Опишем около фигуры АВ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ямоугольник. Из площади прямоугольника (в данном случае это квадрат) вычтем площади полученных простых фигур (1, 2, 3 и 4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– S1 – S2 – S3 – S4  = = 4∙4 – (3∙1):2 – (3∙1):2 – (3∙1):2 – (3∙1):2 = 16 – 1,5 – 1,5 – 1,5 – 1,5 = 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Ответ: 10 см²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52720" cy="2881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2"/>
          <p:cNvSpPr/>
          <p:nvPr/>
        </p:nvSpPr>
        <p:spPr>
          <a:xfrm>
            <a:off x="826920" y="2168640"/>
            <a:ext cx="194472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6"/>
          <p:cNvSpPr/>
          <p:nvPr/>
        </p:nvSpPr>
        <p:spPr>
          <a:xfrm>
            <a:off x="2771640" y="2168640"/>
            <a:ext cx="0" cy="19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8"/>
          <p:cNvSpPr/>
          <p:nvPr/>
        </p:nvSpPr>
        <p:spPr>
          <a:xfrm flipH="1">
            <a:off x="755640" y="407664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 flipH="1">
            <a:off x="755640" y="2185920"/>
            <a:ext cx="71280" cy="18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340000" y="220500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26920" y="23893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92160" y="3757680"/>
            <a:ext cx="1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486880" y="375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Zarina</cp:lastModifiedBy>
  <dcterms:modified xsi:type="dcterms:W3CDTF">2019-11-21T13:02:12Z</dcterms:modified>
  <cp:revision>48</cp:revision>
  <dc:subject/>
  <dc:title>Слайд 1</dc:title>
</cp:coreProperties>
</file>