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B63F-CA39-49B7-97E8-A4D16CE4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0EE-85B4-4253-913A-F39BC3C6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169-C37A-4614-A3C4-92EAE2C6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8F0-781F-45BB-AAD4-34B208A5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534-B1EC-4CAB-BD3C-E3D7A721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4A9-22AD-4990-8E44-0F9C5691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F238-3CE2-4E93-BD62-8E6339D5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823-F35D-409D-B7E3-3591C954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52B-AC23-4F68-AE78-5028A724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4CC-D153-44B4-9F90-C066B0EF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C32-5A99-4CBE-846D-2B49824E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E42-B081-45C9-B326-E043FDB9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D80C-FEAC-4AD6-9084-93E0E44C2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rint MT Shadow"/>
              </a:rPr>
              <a:t>ТАЙГ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Презентация к уроку окружающего мира в 4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ед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едр сибирский или кедровая сосна – дерево долговечное, растет несколько столетий и достигает высоты 40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воя длинная, мягкая, темно-зеле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воинки собраны по пять шт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шки крупные, в них находятся семена – кедровые оре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е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2778120" cy="4032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0" y="1690560"/>
            <a:ext cx="388764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ствен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ственница хвойное дерево, но не вечнозеленое, т к сбрасывает на зиму свои иг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00000" y="3068640"/>
            <a:ext cx="3024360" cy="2779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580000" y="2565360"/>
            <a:ext cx="33051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ивотные тай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отный мир тайги разнообра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32000" y="2239920"/>
            <a:ext cx="633564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в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803760" cy="3889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716360" y="1414440"/>
            <a:ext cx="41036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708360" y="3948120"/>
            <a:ext cx="3456000" cy="2630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8360" y="1604880"/>
            <a:ext cx="3456000" cy="2616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3816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1320840"/>
            <a:ext cx="3887640" cy="2357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59280" y="3860640"/>
            <a:ext cx="2736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00000" y="1714680"/>
            <a:ext cx="2951280" cy="2255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0" y="1636560"/>
            <a:ext cx="3816360" cy="2368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4105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71800" y="3789360"/>
            <a:ext cx="1779840" cy="2664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41240" y="981000"/>
            <a:ext cx="176688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867280" y="1628640"/>
            <a:ext cx="2737080" cy="1778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900000" y="3645000"/>
            <a:ext cx="2735280" cy="2087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059280" y="1700280"/>
            <a:ext cx="2376360" cy="1839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5867280" y="3632040"/>
            <a:ext cx="24498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да в тайге – это ого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9640" y="1357200"/>
            <a:ext cx="3240360" cy="2195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64000" y="1504800"/>
            <a:ext cx="3095640" cy="2311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059280" y="3716280"/>
            <a:ext cx="309528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Arial"/>
              </a:rPr>
              <a:t>Карта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1428840"/>
            <a:ext cx="842472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йга – это хвойный лес, он занимает большую часть лесной зоны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йга густой, почти непроходимый ле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889440" cy="227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4103640" cy="2447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788000" y="4005360"/>
            <a:ext cx="3887640" cy="258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68360" y="4041720"/>
            <a:ext cx="38876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има в тай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има в тайге хол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мпература зимой в западной части от – 10 до – 16, а в якутской тайге от  -35 до –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ег в тайге лежит от 180 до 240 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ежный покров от 50 до 100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79640" y="3841920"/>
            <a:ext cx="43927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о в тай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о в тайге теплее, чем в тунд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няя температура в июле не ниже +10 на севере и не выше +20 на ю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6048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лодная зима и прохладное лето позволяют здесь расти хвойным деревьям, которые мало требовательны к теп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хвойных деревьев листья – это хвоинки, и они всегда зеле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высокие деревья с мощными корн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тайге растут: ель, сосна, кедр, листвен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ели хвоинки короткие, грубоватые, расположены по одиночке и густо покрывают в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шки имеют продолговатую фор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 долгожитель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еловом лесу темно и вла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597400" cy="345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3889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на – хвойное дерево с ровным стволом желт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воинки сосны длинные, сидят па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шки сосны имеют округлую фор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новые леса светлые и сух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2736720" cy="324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3948120"/>
            <a:ext cx="360036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х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пихты хвоинки плоск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шки торчат вверх и даже зрелые плоды не падают на землю, а просто с них опадают чешу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3384720" cy="360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4105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36:18Z</dcterms:created>
  <dc:creator>XTreme</dc:creator>
  <dc:description/>
  <dc:language>en-US</dc:language>
  <cp:lastModifiedBy>XTreme</cp:lastModifiedBy>
  <dcterms:modified xsi:type="dcterms:W3CDTF">2010-03-08T21:22:43Z</dcterms:modified>
  <cp:revision>5</cp:revision>
  <dc:subject/>
  <dc:title>ТАЙГА</dc:title>
</cp:coreProperties>
</file>