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FB7-D190-4363-9F4B-F3BC6E0E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DE2-AC01-43A7-8408-C2FF2B44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E20-BAF7-42E2-8968-B432072F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82C-C07E-47D7-81D5-F9FC41F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CF4-0AE2-47EE-A5D3-DBE4837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E34-1A90-4B92-A82D-668661F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C3E-2332-4D7C-B821-47C7466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2DD-1765-4F5C-A9C8-54B3636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DC8-A74D-4070-A751-5C37792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42C-7036-4D12-AEBF-183920F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252-C8D8-49CE-B798-31DC6A1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1EA-53DD-472C-9EFB-1BB9741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711-9158-4022-B7C9-909B2637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rint MT Shadow"/>
              </a:rPr>
              <a:t>ТАЙ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Презентация к уроку окружающего мира в 4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др сибирский или кедровая сосна – дерево долговечное, растет несколько столетий и достигает высоты 4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я длинная, мягкая, темно-зеле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инки собраны по пять шт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крупные, в них находятся семена – кедровые о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8120" cy="403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690560"/>
            <a:ext cx="388764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твенница хвойное дерево, но не вечнозеленое, т к сбрасывает на зиму свои иг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3024360" cy="2779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33051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е тай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ный мир тайги разнообра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32000" y="2239920"/>
            <a:ext cx="63356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03760" cy="38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1414440"/>
            <a:ext cx="41036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08360" y="3948120"/>
            <a:ext cx="3456000" cy="263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604880"/>
            <a:ext cx="3456000" cy="261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320840"/>
            <a:ext cx="388764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736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1714680"/>
            <a:ext cx="2951280" cy="225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1636560"/>
            <a:ext cx="3816360" cy="236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27280" y="4076640"/>
            <a:ext cx="4105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71800" y="3789360"/>
            <a:ext cx="1779840" cy="266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1240" y="981000"/>
            <a:ext cx="176688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273528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2376360" cy="183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867280" y="3632040"/>
            <a:ext cx="24498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да в тайге – это ог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357200"/>
            <a:ext cx="3240360" cy="219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64000" y="1504800"/>
            <a:ext cx="3095640" cy="231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59280" y="3716280"/>
            <a:ext cx="30952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428840"/>
            <a:ext cx="8424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йга – это хвойный лес, он занимает большую часть лесной зон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йга густой, почти непроходимый ле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8944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103640" cy="24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887640" cy="25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8360" y="4041720"/>
            <a:ext cx="38876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а в тай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а в тайге хол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пература зимой в западной части от – 10 до – 16, а в якутской тайге от  -35 до –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г в тайге лежит от 180 до 240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жный покров от 50 до 10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3841920"/>
            <a:ext cx="4392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о в тай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о в тайге теплее, чем в тунд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яя температура в июле не ниже +10 на севере и не выше +20 на ю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048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одная зима и прохладное лето позволяют здесь расти хвойным деревьям, которые мало требовательны к теп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хвойных деревьев листья – это хвоинки, и они всегда зеле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высокие деревья с мощными кор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айге растут: ель, сосна, кедр, листвен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ели хвоинки короткие, грубоватые, расположены по одиночке и густо покрывают 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имеют продолговатую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 долгожитель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ловом лесу темно и вл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9740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889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а – хвойное дерево с ровным стволом жел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оинки сосны длинные, сидят па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сосны имеют округлую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овые леса светлые и сух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73672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3948120"/>
            <a:ext cx="3600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ихты хвоинки пло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шки торчат вверх и даже зрелые плоды не падают на землю, а просто с них опадают чешу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384720" cy="360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0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36:18Z</dcterms:created>
  <dc:creator>XTreme</dc:creator>
  <dc:description/>
  <dc:language>en-US</dc:language>
  <cp:lastModifiedBy>XTreme</cp:lastModifiedBy>
  <dcterms:modified xsi:type="dcterms:W3CDTF">2010-03-08T21:22:43Z</dcterms:modified>
  <cp:revision>5</cp:revision>
  <dc:subject/>
  <dc:title>ТАЙГА</dc:title>
</cp:coreProperties>
</file>