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6.png" ContentType="image/png"/>
  <Override PartName="/ppt/media/image11.jpeg" ContentType="image/jpeg"/>
  <Override PartName="/ppt/media/image31.gif" ContentType="image/gif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46F-DC38-4346-8B56-61F27462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DB2-5903-48D6-B423-10A8A01D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33F-8F5E-4B7C-B386-867848DC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06D-2480-4009-B12F-6A1C0B3A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360C-EA10-4F6C-8D88-9E348E04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9AD4-01E5-43FA-AAB9-95E2BD4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A6F-08BF-40CB-812E-322B379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1EAB-5D44-4883-9C12-B9787205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463-CB08-48E7-B854-C6F09010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3BE8-9F13-47E0-9003-03249B5E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F291-3965-4E55-A352-75F1FD8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82D-0C8C-46AF-BEB7-D11E1A81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1D5-F31F-4FCC-BA7F-44D5BCD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4F0A-F602-4D10-A8C3-427264B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FC6A-5CE4-4CD2-9D95-CC956F5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0952-63DF-4AFD-9ABC-12FF1613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D9EC-479C-41F6-8554-FA82BF07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DD2F-7222-4143-BDCC-6F957E98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DD0F-32D2-4E9A-93ED-DE44284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4C42-0D5E-4E6F-A9F9-CC307FDD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4404-A829-4670-8B68-D079DAE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0037-2F97-4CA7-B500-9AA68D8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603-31FD-4121-AD60-90E122B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CA6B-65DD-4CEA-925C-F10C5C7C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543B-378D-46A1-84E1-73C02E7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ACAB-A513-474E-BC13-B5F36662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DAB0-16C8-499E-88A6-A86CDDE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8E64-BB8D-48F9-BD3A-4B8BD7D2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033F-A0C4-4822-8D4A-17BA92DB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89BF-83FF-4ED2-925B-9591ABFE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3C2C1-FB64-4673-89D1-B581FF7C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E20E-B161-44DA-B607-F63E5002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9F8C-AA5F-4B24-99F3-2E8118FD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796-F00F-4199-8C28-AF36A61F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B983-2B32-492B-90A2-58241FB3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04C1-A469-41C0-B293-F2B33918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BD8A-E953-443B-963F-0E3E340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260D-883B-490D-88DA-402AF8C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454E-863C-4B31-91CD-20AB1924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775E-70F5-462E-97CB-D6CD560E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97FE-12D2-46CC-900B-A0A74E37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D33E-2FC1-41A9-BE92-69455DEB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6779-9142-4112-B1B5-4B42D355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749-ACFA-4F99-BB26-C32D970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C92-91E7-4111-834A-1F130A12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D07-4D90-4EE4-9001-5235624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9D2-BEE0-4784-A00C-7291AA9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101-F985-4B19-A96C-29186F7F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D0E5-41D2-4151-9088-CF49E71AC3C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F57-1A16-4523-9886-1FE5B472E60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9462-E978-4A0D-AC90-82371324755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FE0-3119-4AEE-9C76-620F8AA289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0.photosight.ru/681/2879482_large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3" descr=""/>
          <p:cNvPicPr/>
          <p:nvPr/>
        </p:nvPicPr>
        <p:blipFill>
          <a:blip r:embed="rId1"/>
          <a:stretch/>
        </p:blipFill>
        <p:spPr>
          <a:xfrm>
            <a:off x="755640" y="73080"/>
            <a:ext cx="8205840" cy="2176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119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Учитель: Алёшина Т.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0" y="260280"/>
            <a:ext cx="5616720" cy="3960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толице Герма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Берлине есть огром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вариу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живут аку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лет туда стоит 8 евро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5580000" y="404640"/>
            <a:ext cx="4248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евро =                   45 руб. 66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867280" y="2349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5724360" y="4076640"/>
            <a:ext cx="3168720" cy="234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2987640" y="4508640"/>
            <a:ext cx="3168720" cy="2349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4"/>
          <p:cNvSpPr/>
          <p:nvPr/>
        </p:nvSpPr>
        <p:spPr>
          <a:xfrm>
            <a:off x="250920" y="260280"/>
            <a:ext cx="5184720" cy="3384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мерике е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ачий горный лагер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правляя в та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герь своего питом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зяин платит за н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 долларов в меся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5" descr="1221656529559"/>
          <p:cNvPicPr/>
          <p:nvPr/>
        </p:nvPicPr>
        <p:blipFill>
          <a:blip r:embed="rId1"/>
          <a:srcRect l="0" t="0" r="0" b="49235"/>
          <a:stretch/>
        </p:blipFill>
        <p:spPr>
          <a:xfrm rot="20960400">
            <a:off x="2195280" y="3428640"/>
            <a:ext cx="6656400" cy="28465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508720" y="260280"/>
            <a:ext cx="3635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оллар =          35 руб. 41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580000" y="23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 ру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0" y="189000"/>
            <a:ext cx="4967280" cy="4103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мерик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тате Калифор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лен штра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500 доллар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каждый камен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ошен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бабочек монарх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357160" y="231840"/>
            <a:ext cx="3656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оллар =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5 руб. 41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7" descr="Картинка 5 из 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487680"/>
            <a:ext cx="4500720" cy="3370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5436360" y="213372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 ру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6"/>
          <p:cNvSpPr/>
          <p:nvPr/>
        </p:nvSpPr>
        <p:spPr>
          <a:xfrm>
            <a:off x="250920" y="260280"/>
            <a:ext cx="5040360" cy="36702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зраиле од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зд на автобус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т 8 шек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508720" y="189000"/>
            <a:ext cx="363528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шекель =      10 руб. 17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219640" y="31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5580000" y="220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руб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3" descr="шекель"/>
          <p:cNvPicPr/>
          <p:nvPr/>
        </p:nvPicPr>
        <p:blipFill>
          <a:blip r:embed="rId1"/>
          <a:stretch/>
        </p:blipFill>
        <p:spPr>
          <a:xfrm rot="21120000">
            <a:off x="3563640" y="3573360"/>
            <a:ext cx="53402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0" y="0"/>
            <a:ext cx="5003640" cy="5157720"/>
          </a:xfrm>
          <a:custGeom>
            <a:avLst/>
            <a:gdLst>
              <a:gd name="textAreaLeft" fmla="*/ 244080 w 5003640"/>
              <a:gd name="textAreaRight" fmla="*/ 4759560 w 5003640"/>
              <a:gd name="textAreaTop" fmla="*/ 244080 h 5157720"/>
              <a:gd name="textAreaBottom" fmla="*/ 4913640 h 5157720"/>
            </a:gdLst>
            <a:ahLst/>
            <a:rect l="textAreaLeft" t="textAreaTop" r="textAreaRight" b="textAreaBottom"/>
            <a:pathLst>
              <a:path w="21600" h="22265">
                <a:moveTo>
                  <a:pt x="3600" y="0"/>
                </a:moveTo>
                <a:arcTo wR="3600" hR="3600" stAng="16200000" swAng="-5400000"/>
                <a:lnTo>
                  <a:pt x="0" y="18665"/>
                </a:lnTo>
                <a:arcTo wR="3600" hR="3600" stAng="10800000" swAng="-5400000"/>
                <a:lnTo>
                  <a:pt x="18000" y="22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нглии есть музей,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работают  кош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защищают муз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нападения кры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ышей. Каждой кош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а зарплата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 фунтов стерлинг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го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003640" y="260280"/>
            <a:ext cx="43927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фунт стерлингов =  50 руб. 36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14836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5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4" descr="angl_1"/>
          <p:cNvPicPr/>
          <p:nvPr/>
        </p:nvPicPr>
        <p:blipFill>
          <a:blip r:embed="rId1"/>
          <a:stretch/>
        </p:blipFill>
        <p:spPr>
          <a:xfrm rot="21009000">
            <a:off x="3780000" y="3716280"/>
            <a:ext cx="53640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539640" y="476280"/>
            <a:ext cx="8064720" cy="5832360"/>
          </a:xfrm>
          <a:prstGeom prst="roundRect">
            <a:avLst>
              <a:gd name="adj" fmla="val 16667"/>
            </a:avLst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летнем лагере  за   рабо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ти получали свою валю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други»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онце смены на ярмарке о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гли  купить на них разные вещ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марок мальч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латил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друг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ва цена одной мар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зелок на памят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49" name="Text Box 3" descr=""/>
          <p:cNvPicPr/>
          <p:nvPr/>
        </p:nvPicPr>
        <p:blipFill>
          <a:blip r:embed="rId1"/>
          <a:stretch/>
        </p:blipFill>
        <p:spPr>
          <a:xfrm>
            <a:off x="0" y="1504800"/>
            <a:ext cx="8643960" cy="1573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285264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Georgia"/>
                <a:ea typeface="Arial"/>
              </a:rPr>
              <a:t>Цена 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  <a:ea typeface="Arial"/>
              </a:rPr>
              <a:t>является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 </a:t>
            </a:r>
            <a:r>
              <a:rPr b="0" i="1" lang="ru-RU" sz="4800" spc="-1" strike="noStrike">
                <a:solidFill>
                  <a:srgbClr val="0000ff"/>
                </a:solidFill>
                <a:latin typeface="Georgia"/>
                <a:ea typeface="Arial"/>
              </a:rPr>
              <a:t>величиной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2489040" cy="2708280"/>
          </a:xfrm>
          <a:prstGeom prst="rect">
            <a:avLst/>
          </a:prstGeom>
          <a:ln w="0">
            <a:noFill/>
          </a:ln>
        </p:spPr>
      </p:pic>
      <p:sp>
        <p:nvSpPr>
          <p:cNvPr id="252" name="WordArt 10"/>
          <p:cNvSpPr txBox="1"/>
          <p:nvPr/>
        </p:nvSpPr>
        <p:spPr>
          <a:xfrm>
            <a:off x="1692360" y="4797360"/>
            <a:ext cx="295092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 = с : 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684360" y="476280"/>
            <a:ext cx="7920000" cy="5905440"/>
          </a:xfrm>
          <a:prstGeom prst="roundRect">
            <a:avLst>
              <a:gd name="adj" fmla="val 16667"/>
            </a:avLst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марок мальч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латил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друг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ва цена одной мар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malchik[1]"/>
          <p:cNvPicPr/>
          <p:nvPr/>
        </p:nvPicPr>
        <p:blipFill>
          <a:blip r:embed="rId2"/>
          <a:stretch/>
        </p:blipFill>
        <p:spPr>
          <a:xfrm>
            <a:off x="6659640" y="4076640"/>
            <a:ext cx="1827000" cy="2303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1116000" y="105264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108080" y="2714760"/>
            <a:ext cx="6913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66ff33"/>
                </a:solidFill>
                <a:latin typeface="Times New Roman"/>
              </a:rPr>
              <a:t>с</a:t>
            </a: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х </a:t>
            </a: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ff33"/>
                </a:solidFill>
                <a:latin typeface="Times New Roman"/>
              </a:rPr>
              <a:t>х </a:t>
            </a:r>
            <a:r>
              <a:rPr b="1" i="1" lang="ru-RU" sz="3600" spc="-1" strike="noStrike">
                <a:solidFill>
                  <a:srgbClr val="66ff33"/>
                </a:solidFill>
                <a:latin typeface="Arial"/>
              </a:rPr>
              <a:t>=</a:t>
            </a: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ff33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х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 – х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 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971640" y="2276640"/>
            <a:ext cx="244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8" descr=""/>
          <p:cNvPicPr/>
          <p:nvPr/>
        </p:nvPicPr>
        <p:blipFill>
          <a:blip r:embed="rId3"/>
          <a:stretch/>
        </p:blipFill>
        <p:spPr>
          <a:xfrm>
            <a:off x="1620720" y="590400"/>
            <a:ext cx="61214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зелок на памят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79280" y="3645000"/>
            <a:ext cx="8713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  <a:ea typeface="Arial"/>
              </a:rPr>
              <a:t>Цена </a:t>
            </a:r>
            <a:r>
              <a:rPr b="1" lang="ru-RU" sz="3200" spc="-1" strike="noStrike" u="sng">
                <a:solidFill>
                  <a:srgbClr val="f49100"/>
                </a:solidFill>
                <a:uFillTx/>
                <a:latin typeface="Georgia"/>
                <a:ea typeface="Arial"/>
                <a:hlinkClick r:id="rId1" action="ppaction://hlinksldjump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  <a:ea typeface="Arial"/>
              </a:rPr>
              <a:t>Количество          Стои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116000" y="191628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  <a:ea typeface="Arial"/>
              </a:rPr>
              <a:t>ПРОЦЕСС 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купли – продаж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5"/>
          <p:cNvSpPr/>
          <p:nvPr/>
        </p:nvSpPr>
        <p:spPr>
          <a:xfrm flipH="1">
            <a:off x="2339640" y="2637000"/>
            <a:ext cx="1871640" cy="93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4211640" y="2637000"/>
            <a:ext cx="7308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4211640" y="2637000"/>
            <a:ext cx="2665440" cy="93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132000" y="4221000"/>
            <a:ext cx="2225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wallpap1"/>
          <p:cNvPicPr/>
          <p:nvPr/>
        </p:nvPicPr>
        <p:blipFill>
          <a:blip r:embed="rId2"/>
          <a:stretch/>
        </p:blipFill>
        <p:spPr>
          <a:xfrm>
            <a:off x="5796000" y="3687840"/>
            <a:ext cx="2847960" cy="26668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826920" y="1125360"/>
            <a:ext cx="74901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математи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84360" y="299736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4 «В»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4"/>
          <p:cNvSpPr/>
          <p:nvPr/>
        </p:nvSpPr>
        <p:spPr>
          <a:xfrm>
            <a:off x="395280" y="1700280"/>
            <a:ext cx="532908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059280" y="4005360"/>
            <a:ext cx="532908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1332000" y="2276640"/>
            <a:ext cx="345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 = С : Ц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WordArt 7"/>
          <p:cNvSpPr txBox="1"/>
          <p:nvPr/>
        </p:nvSpPr>
        <p:spPr>
          <a:xfrm>
            <a:off x="4140360" y="4581360"/>
            <a:ext cx="3456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 = Ц х К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0" name="Picture 8" descr="about"/>
          <p:cNvPicPr/>
          <p:nvPr/>
        </p:nvPicPr>
        <p:blipFill>
          <a:blip r:embed="rId1"/>
          <a:stretch/>
        </p:blipFill>
        <p:spPr>
          <a:xfrm>
            <a:off x="7667640" y="333360"/>
            <a:ext cx="1203480" cy="2305080"/>
          </a:xfrm>
          <a:prstGeom prst="rect">
            <a:avLst/>
          </a:prstGeom>
          <a:ln w="0">
            <a:noFill/>
          </a:ln>
        </p:spPr>
      </p:pic>
      <p:sp>
        <p:nvSpPr>
          <p:cNvPr id="271" name="WordArt 9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зелок на памят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2"/>
          <p:cNvSpPr/>
          <p:nvPr/>
        </p:nvSpPr>
        <p:spPr>
          <a:xfrm>
            <a:off x="684360" y="476280"/>
            <a:ext cx="7920000" cy="5113440"/>
          </a:xfrm>
          <a:prstGeom prst="roundRect">
            <a:avLst>
              <a:gd name="adj" fmla="val 16667"/>
            </a:avLst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марок мальч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латил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друг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ва цена одной мар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843280" y="2060640"/>
            <a:ext cx="720720" cy="647640"/>
          </a:xfrm>
          <a:prstGeom prst="rect">
            <a:avLst/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284720" y="3141720"/>
            <a:ext cx="718920" cy="576360"/>
          </a:xfrm>
          <a:prstGeom prst="rect">
            <a:avLst/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539640" y="907920"/>
            <a:ext cx="806472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3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остоятель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6" name="Picture 6" descr="6"/>
          <p:cNvPicPr/>
          <p:nvPr/>
        </p:nvPicPr>
        <p:blipFill>
          <a:blip r:embed="rId1"/>
          <a:stretch/>
        </p:blipFill>
        <p:spPr>
          <a:xfrm>
            <a:off x="5961240" y="3645000"/>
            <a:ext cx="2544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979640" y="196200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ЛИЧИ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592360" y="263700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2592360" y="3789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900000" y="1916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ffffff"/>
                </a:solidFill>
                <a:latin typeface="Times New Roman"/>
              </a:rPr>
              <a:t>Сосчитаем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71280" y="1341000"/>
            <a:ext cx="3524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556 х 20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803 – 24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 402 : 6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0 150 : 5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 103 – 1 698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2 350 : 5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12" descr="Рисунок1"/>
          <p:cNvPicPr/>
          <p:nvPr/>
        </p:nvPicPr>
        <p:blipFill>
          <a:blip r:embed="rId2"/>
          <a:stretch/>
        </p:blipFill>
        <p:spPr>
          <a:xfrm>
            <a:off x="6300720" y="2924280"/>
            <a:ext cx="2625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ffffff"/>
                </a:solidFill>
                <a:latin typeface="Times New Roman"/>
              </a:rPr>
              <a:t>Проверяем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050560" y="1341360"/>
            <a:ext cx="66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 402 : 63 = 5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556 х 206 = 114 53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803 – 247 = 55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 103 – 1 698 = 2 40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2 350 : 50 = 24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0 150 : 50 = 80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Составим выраже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(40 150 : 50 - 12 350 : 50) х 206 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(40 150 : 50 - 12 350 : 50) х 206 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= 114 53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6" descr="Рисунок1"/>
          <p:cNvPicPr/>
          <p:nvPr/>
        </p:nvPicPr>
        <p:blipFill>
          <a:blip r:embed="rId2"/>
          <a:stretch/>
        </p:blipFill>
        <p:spPr>
          <a:xfrm>
            <a:off x="5003640" y="2637000"/>
            <a:ext cx="2779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Упростим выраже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(40 150   - 12 350) : 50 х 206 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5" descr="Рисунок1"/>
          <p:cNvPicPr/>
          <p:nvPr/>
        </p:nvPicPr>
        <p:blipFill>
          <a:blip r:embed="rId2"/>
          <a:stretch/>
        </p:blipFill>
        <p:spPr>
          <a:xfrm>
            <a:off x="5219640" y="2421000"/>
            <a:ext cx="29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755640" y="1341360"/>
            <a:ext cx="7561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Narrow"/>
              </a:rPr>
              <a:t>"Копейка рубль бережёт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294" name="Picture 7" descr="Рисунок1"/>
          <p:cNvPicPr/>
          <p:nvPr/>
        </p:nvPicPr>
        <p:blipFill>
          <a:blip r:embed="rId2"/>
          <a:srcRect l="4236" t="8056" r="0" b="0"/>
          <a:stretch/>
        </p:blipFill>
        <p:spPr>
          <a:xfrm>
            <a:off x="6948360" y="4724280"/>
            <a:ext cx="1611360" cy="1630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Рисунок1"/>
          <p:cNvPicPr/>
          <p:nvPr/>
        </p:nvPicPr>
        <p:blipFill>
          <a:blip r:embed="rId3"/>
          <a:srcRect l="4236" t="8056" r="0" b="0"/>
          <a:stretch/>
        </p:blipFill>
        <p:spPr>
          <a:xfrm>
            <a:off x="5867280" y="4005360"/>
            <a:ext cx="16113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669080" y="3284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6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8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5724360" y="3573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24000" y="2349360"/>
            <a:ext cx="38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А – Ничего не понятно 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24000" y="3789360"/>
            <a:ext cx="54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Б – Всё понятно. Трудностей не испытыв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24000" y="5589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В – Хочу знать больш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5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 rot="20463600">
            <a:off x="0" y="1236240"/>
            <a:ext cx="8763120" cy="21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опейка рубль бережёт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WordArt 5"/>
          <p:cNvSpPr txBox="1"/>
          <p:nvPr/>
        </p:nvSpPr>
        <p:spPr>
          <a:xfrm rot="781800">
            <a:off x="1258560" y="4221000"/>
            <a:ext cx="720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7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опейкою рубль цел"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7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25"/>
          <p:cNvPicPr/>
          <p:nvPr/>
        </p:nvPicPr>
        <p:blipFill>
          <a:blip r:embed="rId1"/>
          <a:srcRect l="0" t="0" r="68252" b="17120"/>
          <a:stretch/>
        </p:blipFill>
        <p:spPr>
          <a:xfrm>
            <a:off x="7020000" y="2060640"/>
            <a:ext cx="1754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4"/>
          <p:cNvSpPr txBox="1"/>
          <p:nvPr/>
        </p:nvSpPr>
        <p:spPr>
          <a:xfrm>
            <a:off x="250920" y="1413000"/>
            <a:ext cx="856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4617b"/>
                </a:solidFill>
                <a:uFillTx/>
                <a:latin typeface="Calibri"/>
              </a:rPr>
              <a:t>Используемые ресурс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ртинки и фотографии взя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з сети Интернет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ww.yandex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WordArt 5" descr=""/>
          <p:cNvPicPr/>
          <p:nvPr/>
        </p:nvPicPr>
        <p:blipFill>
          <a:blip r:embed="rId1"/>
          <a:stretch/>
        </p:blipFill>
        <p:spPr>
          <a:xfrm>
            <a:off x="-249120" y="3822840"/>
            <a:ext cx="9496440" cy="1487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E50EBAE1"/>
          <p:cNvPicPr/>
          <p:nvPr/>
        </p:nvPicPr>
        <p:blipFill>
          <a:blip r:embed="rId2"/>
          <a:stretch/>
        </p:blipFill>
        <p:spPr>
          <a:xfrm>
            <a:off x="5796000" y="0"/>
            <a:ext cx="2952720" cy="1440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sp>
        <p:nvSpPr>
          <p:cNvPr id="205" name="WordArt 7"/>
          <p:cNvSpPr txBox="1"/>
          <p:nvPr/>
        </p:nvSpPr>
        <p:spPr>
          <a:xfrm>
            <a:off x="358920" y="1125360"/>
            <a:ext cx="8785080" cy="26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деньги ума не купишь"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Мешок денег!"/>
          <p:cNvPicPr/>
          <p:nvPr/>
        </p:nvPicPr>
        <p:blipFill>
          <a:blip r:embed="rId1"/>
          <a:stretch/>
        </p:blipFill>
        <p:spPr>
          <a:xfrm>
            <a:off x="7236000" y="4941720"/>
            <a:ext cx="1699920" cy="1700280"/>
          </a:xfrm>
          <a:prstGeom prst="rect">
            <a:avLst/>
          </a:prstGeom>
          <a:ln w="0">
            <a:noFill/>
          </a:ln>
        </p:spPr>
      </p:pic>
      <p:sp>
        <p:nvSpPr>
          <p:cNvPr id="207" name="WordArt 6"/>
          <p:cNvSpPr txBox="1"/>
          <p:nvPr/>
        </p:nvSpPr>
        <p:spPr>
          <a:xfrm>
            <a:off x="468360" y="1052640"/>
            <a:ext cx="8351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"Город строят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не языком, 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а топором и рублём"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250920" y="476280"/>
            <a:ext cx="889308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"Деньги потерял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ничего не потерял, время потерял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много потерял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здоровье потерял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всё потерял"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Picture 5" descr="Мешок денег!"/>
          <p:cNvPicPr/>
          <p:nvPr/>
        </p:nvPicPr>
        <p:blipFill>
          <a:blip r:embed="rId1"/>
          <a:stretch/>
        </p:blipFill>
        <p:spPr>
          <a:xfrm>
            <a:off x="7236000" y="4941720"/>
            <a:ext cx="1699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826920" y="907920"/>
            <a:ext cx="756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Заря деньгу куёт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1619280" y="4941720"/>
            <a:ext cx="1368360" cy="1297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1187280" y="3933720"/>
            <a:ext cx="1368720" cy="1297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2556000" y="4005360"/>
            <a:ext cx="1368360" cy="1296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ezumrud_99830_1_S"/>
          <p:cNvPicPr/>
          <p:nvPr/>
        </p:nvPicPr>
        <p:blipFill>
          <a:blip r:embed="rId4"/>
          <a:stretch/>
        </p:blipFill>
        <p:spPr>
          <a:xfrm>
            <a:off x="4067280" y="2492280"/>
            <a:ext cx="47689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468360" y="0"/>
            <a:ext cx="6192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еньги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Picture 5" descr="шекель израиль"/>
          <p:cNvPicPr/>
          <p:nvPr/>
        </p:nvPicPr>
        <p:blipFill>
          <a:blip r:embed="rId1"/>
          <a:stretch/>
        </p:blipFill>
        <p:spPr>
          <a:xfrm rot="19932600">
            <a:off x="801720" y="2965320"/>
            <a:ext cx="3865680" cy="211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фунты"/>
          <p:cNvPicPr/>
          <p:nvPr/>
        </p:nvPicPr>
        <p:blipFill>
          <a:blip r:embed="rId2"/>
          <a:stretch/>
        </p:blipFill>
        <p:spPr>
          <a:xfrm rot="20765400">
            <a:off x="899640" y="3500280"/>
            <a:ext cx="454356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египет лира"/>
          <p:cNvPicPr/>
          <p:nvPr/>
        </p:nvPicPr>
        <p:blipFill>
          <a:blip r:embed="rId3"/>
          <a:stretch/>
        </p:blipFill>
        <p:spPr>
          <a:xfrm>
            <a:off x="900000" y="4556160"/>
            <a:ext cx="4608720" cy="23018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 rot="5587200">
            <a:off x="5321520" y="3182040"/>
            <a:ext cx="5113440" cy="128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лют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4"/>
          <p:cNvSpPr/>
          <p:nvPr/>
        </p:nvSpPr>
        <p:spPr>
          <a:xfrm>
            <a:off x="1619280" y="404640"/>
            <a:ext cx="4753080" cy="367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ревности вмес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ег за тов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лачивал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от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сть с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ла 2 ов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романовская"/>
          <p:cNvPicPr/>
          <p:nvPr/>
        </p:nvPicPr>
        <p:blipFill>
          <a:blip r:embed="rId1"/>
          <a:stretch/>
        </p:blipFill>
        <p:spPr>
          <a:xfrm>
            <a:off x="3924360" y="4365720"/>
            <a:ext cx="2879640" cy="1955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романовская"/>
          <p:cNvPicPr/>
          <p:nvPr/>
        </p:nvPicPr>
        <p:blipFill>
          <a:blip r:embed="rId2"/>
          <a:stretch/>
        </p:blipFill>
        <p:spPr>
          <a:xfrm>
            <a:off x="6659640" y="4365720"/>
            <a:ext cx="2665440" cy="1811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i?id=19968713&amp;tov=0"/>
          <p:cNvPicPr/>
          <p:nvPr/>
        </p:nvPicPr>
        <p:blipFill>
          <a:blip r:embed="rId3"/>
          <a:stretch/>
        </p:blipFill>
        <p:spPr>
          <a:xfrm>
            <a:off x="0" y="4365720"/>
            <a:ext cx="2519280" cy="1885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2843280" y="4869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18:34Z</dcterms:created>
  <dc:creator>CASHA</dc:creator>
  <dc:description/>
  <dc:language>en-US</dc:language>
  <cp:lastModifiedBy>user</cp:lastModifiedBy>
  <dcterms:modified xsi:type="dcterms:W3CDTF">2017-03-04T08:15:52Z</dcterms:modified>
  <cp:revision>8</cp:revision>
  <dc:subject/>
  <dc:title>Слайд 1</dc:title>
</cp:coreProperties>
</file>