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DE35-E8B0-4ECB-A793-47836AECC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D3C1-CA87-4804-B04D-43C9D3F05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E590-8155-4C22-975F-97BE455AA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FE92-1BD9-40D0-A0E7-8758DC28A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EA28-5AC6-48B0-9227-A7E2499F0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1073-6119-466B-98EB-22E1E9C62E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B945-66EA-42AC-8EA8-1088415498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384-1400-481E-B07E-F45E24032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7D1-C917-471E-BB75-6932B1CEB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F080-1EC7-481B-824A-8B0AD9DF7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31FE-DAC4-4655-BD20-86C7B7EDD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5D88-89FA-4B8A-98E0-33DC18BFD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CE78-79A1-4B36-B780-F31E00F6A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C18A-4A30-41E2-A2BF-9C5453DCA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ACAB-9357-4011-AF99-9EF77817D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68B7-E07F-4066-8476-12FE0A1C7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531-60B5-45D0-886F-F285CC33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D39-F296-45BB-B752-4A58F5C7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C1C-808E-4E87-990E-C8795815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64C-DCAD-4EC0-9EDF-F3E5B5CE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9580-DEDA-4B0E-BF73-E338EC9F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6D41-DCBB-4F06-B939-BEA6389D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9E16-50BD-4CE2-9405-2940D008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17AA-21AA-4720-8403-8454A596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25AB-F57B-44A8-A539-437B07E8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B69D-B15B-4080-8E8D-5B7D28E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86FB-84D1-42A2-9E8B-58DEB75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3CE-5224-4D17-BCFD-3438EDA9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4182-9555-4ED3-9D59-FC228B5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3344-7AA1-4459-A100-E2B5F1CB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9988-7E02-4C60-9AB4-D61539C0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37A7-C4D7-4DEC-A7A0-95901EAC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8C86-57FC-4DE2-9AA2-65990B7D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9486-1C12-44DC-8658-12FE174E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1F5B-EC1A-4150-9B22-5C22BE4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821F-57FA-470A-B26C-18365CC7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C0E4-843A-4EEA-90DC-23626E12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B578-D3F9-4994-9570-E3F36CFE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967-7180-41C7-9416-465E72C7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131D-D19A-4543-9B30-8642F30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0970-5CC5-433B-9354-4BD8243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076C-EB02-416B-BF66-D4FE52D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033A-C427-44F9-BCAB-2135A60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379D-C4DA-4182-B7D5-8B31FDAC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A232-5705-4E51-AAE2-E960ED96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19F9-0525-4C59-A2ED-098840B6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583C-CD91-4B10-A8FC-FE4071CA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581F-81A9-4119-8625-786AE12F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559F-7A3C-4E1F-9464-E273732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235-58E3-4D2F-BA4D-190BAAD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E626-6A01-4B23-8919-141FE892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F99C-3C01-4E8A-B0A9-B641F58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835D-4652-4CA1-8F43-B421EB59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DDC2-E1D4-4C4A-93C1-CD9A40FB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DDA6-6265-429A-939F-12B9936C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AF3C-BD6D-47F2-A3B2-32A7D58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6778B-E772-4B54-9434-01A86E8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4561-EC1D-437F-9E42-397D1B42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2DB6-218F-4D8A-BA68-F13DF624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4790C-B688-4A71-96CB-4BB4DEB9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0F4-71E4-4567-BD61-C2D67840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F271-29F0-4C9D-8425-F3AFF37D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AB081-180B-4570-9388-F5DB0E01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F9E4-0220-4793-93F3-8C086490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0CBAF-6953-448D-B2AB-4BFCECF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DF08-C5E8-4092-AA42-4D227872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05FE-482C-4DAB-A319-670B793F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C594-4640-45AA-87C6-6EA56AF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7BB4-08C6-44D2-B327-3D3970F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2EB3-7259-4B2D-9C59-C1BD1FCD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A1EE5-5F0D-4466-A1CC-C1676669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FE4-63CF-491D-8FFF-A898233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376AB-A761-4E31-99F9-08466DF7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A9352-C60B-49F8-A845-CAB941CC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9E433-C47A-42A1-98E8-99B4E381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443F-5278-4595-AA28-339044DF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88A9-390D-4BD2-BDB4-D63BF435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BCA28-1F75-4732-BC50-F99F2616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F69A5-E3C3-47D7-9F1F-F4462030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C1CB7-4795-48AE-B756-4411743A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BF0B-1B30-4B66-8B3E-28DEB30D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03F70-93AC-4C75-BDF4-84A8AF4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03F-91D4-4C3A-A2C4-B672241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236A1-0F61-47F0-A769-17454A63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3888F-61D3-4E6C-BB7F-38F4CC3E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7C216-712A-4E53-AA6F-FE419A87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1FE-0635-47F3-B7EB-15D497E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91D-8509-485E-95C3-32F5C96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2E5F-6227-4507-8965-2D92034CD326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2965-CD14-4991-818E-9AB0D798C21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F741-B409-472C-8EEE-EBBB609B6D7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6AC2-646C-47C3-9DA3-249E14FCECAF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BE8D-1322-4AD1-BBEB-25D2394D9B5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2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3CC-0CE5-4481-82B2-E0B1064CC82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090918war1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5146560" y="54000"/>
            <a:ext cx="432144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в истории человечества 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500720" y="5805360"/>
            <a:ext cx="4679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26560" y="981000"/>
            <a:ext cx="73868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альной жизни часто нет четкой грани между нападающей и обороняющейся стороной, ибо обе стороны находятся на грани открытого проявления агрессии, и какая из них начнёт атаку первой — дело случая и принятой тактики. В таких случаях цели войны обеих сторон одинаковы — навязывание своей воли противнику с целью улучшения своего довоенного полож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5" descr="6a8bebd1c7a4fecbb0ce8291640"/>
          <p:cNvPicPr/>
          <p:nvPr/>
        </p:nvPicPr>
        <p:blipFill>
          <a:blip r:embed="rId1"/>
          <a:stretch/>
        </p:blipFill>
        <p:spPr>
          <a:xfrm>
            <a:off x="2124000" y="3357720"/>
            <a:ext cx="41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2560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152360" y="1628280"/>
            <a:ext cx="7344000" cy="44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гативным последствиям войн, помимо гибели людей, можно отнести тот комплекс, который обозначается как гуманитарная катастрофа: голод, эпидем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глобальные войны связаны с огромными людскими и материальными потерями, с небывалыми прежде разрушениями и бедствиями. Например, потери в войнах европейских стран (убитые и умершие от ран и болезней) составили: в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е — 3,3 млн чел., в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е — 5,4 млн чел.,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чале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(до Первой мировой войны) — 5,7 млн чел., в Первой мировой войне — свыше 9, во Второй мировой войне (включая погибших в нацистских концлагерях) — свыше 50 млн че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250px-Evstafiev-bosnia-travnik-girl-doll-refugee"/>
          <p:cNvPicPr/>
          <p:nvPr/>
        </p:nvPicPr>
        <p:blipFill>
          <a:blip r:embed="rId1"/>
          <a:stretch/>
        </p:blipFill>
        <p:spPr>
          <a:xfrm>
            <a:off x="5364000" y="420840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1268644735_755445846"/>
          <p:cNvPicPr/>
          <p:nvPr/>
        </p:nvPicPr>
        <p:blipFill>
          <a:blip r:embed="rId2"/>
          <a:stretch/>
        </p:blipFill>
        <p:spPr>
          <a:xfrm>
            <a:off x="108000" y="47628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decade_56"/>
          <p:cNvPicPr/>
          <p:nvPr/>
        </p:nvPicPr>
        <p:blipFill>
          <a:blip r:embed="rId3"/>
          <a:stretch/>
        </p:blipFill>
        <p:spPr>
          <a:xfrm>
            <a:off x="0" y="378936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short"/>
          <p:cNvPicPr/>
          <p:nvPr/>
        </p:nvPicPr>
        <p:blipFill>
          <a:blip r:embed="rId4"/>
          <a:stretch/>
        </p:blipFill>
        <p:spPr>
          <a:xfrm>
            <a:off x="5003640" y="692280"/>
            <a:ext cx="359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60640" y="115920"/>
            <a:ext cx="57499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26920" y="836280"/>
            <a:ext cx="73440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зитивным последствиям войн относя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мен информацией (благодаря Таласской битве арабы узнали у китайцев секрет изготовления бумаг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плеск научно-технических открыт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нятие противоречий (война как диалектический момент отрицания у Гегел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5" descr="615445"/>
          <p:cNvPicPr/>
          <p:nvPr/>
        </p:nvPicPr>
        <p:blipFill>
          <a:blip r:embed="rId1"/>
          <a:stretch/>
        </p:blipFill>
        <p:spPr>
          <a:xfrm>
            <a:off x="-34920" y="3279600"/>
            <a:ext cx="2519280" cy="3598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technology"/>
          <p:cNvPicPr/>
          <p:nvPr/>
        </p:nvPicPr>
        <p:blipFill>
          <a:blip r:embed="rId2"/>
          <a:stretch/>
        </p:blipFill>
        <p:spPr>
          <a:xfrm>
            <a:off x="3564000" y="3271680"/>
            <a:ext cx="2519280" cy="3598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E-Signatures-and-Identity-Theft"/>
          <p:cNvPicPr/>
          <p:nvPr/>
        </p:nvPicPr>
        <p:blipFill>
          <a:blip r:embed="rId3"/>
          <a:stretch/>
        </p:blipFill>
        <p:spPr>
          <a:xfrm>
            <a:off x="6624720" y="3247920"/>
            <a:ext cx="25192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Назовите типы войны в истории человечест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6" descr="File:Ramses II at Kadesh.jpg"/>
          <p:cNvPicPr/>
          <p:nvPr/>
        </p:nvPicPr>
        <p:blipFill>
          <a:blip r:embed="rId1"/>
          <a:stretch/>
        </p:blipFill>
        <p:spPr>
          <a:xfrm>
            <a:off x="684360" y="1681200"/>
            <a:ext cx="4138560" cy="5256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File:Gustavus Adolphus at the Battle at Breitenfeld.jpg"/>
          <p:cNvPicPr/>
          <p:nvPr/>
        </p:nvPicPr>
        <p:blipFill>
          <a:blip r:embed="rId2"/>
          <a:stretch/>
        </p:blipFill>
        <p:spPr>
          <a:xfrm>
            <a:off x="4822920" y="1681200"/>
            <a:ext cx="4321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350px-Apotheosis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560" y="-25560"/>
            <a:ext cx="77058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вы же последствия войн для человечества</a:t>
            </a:r>
            <a:r>
              <a:rPr b="0" lang="ru-RU" sz="3600" spc="-1" strike="noStrike">
                <a:solidFill>
                  <a:srgbClr val="ffff00"/>
                </a:solidFill>
                <a:latin typeface="Corbe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635280" y="6093000"/>
            <a:ext cx="547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В.В. Верещагин «Апофеоз войны» 187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813744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: ответить на вопрос какие самые значимые войны являются в России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4" descr=""/>
          <p:cNvPicPr/>
          <p:nvPr/>
        </p:nvPicPr>
        <p:blipFill>
          <a:blip r:embed="rId1"/>
          <a:srcRect l="2984" t="0" r="50761" b="6541"/>
          <a:stretch/>
        </p:blipFill>
        <p:spPr>
          <a:xfrm>
            <a:off x="5724360" y="3860640"/>
            <a:ext cx="316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81040" y="287280"/>
            <a:ext cx="62532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такое «Война»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39320" y="1233000"/>
            <a:ext cx="738684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йна — конфликт  между политическими образованиями (государствами, племенами и, политическими группировками и др.), происходящие в форме вооруженного противоборства, военных (боевых) действий между их политическими сил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6" name="Picture 5" descr="16"/>
          <p:cNvPicPr/>
          <p:nvPr/>
        </p:nvPicPr>
        <p:blipFill>
          <a:blip r:embed="rId1"/>
          <a:stretch/>
        </p:blipFill>
        <p:spPr>
          <a:xfrm>
            <a:off x="4557600" y="3716280"/>
            <a:ext cx="4572000" cy="3148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vzriv"/>
          <p:cNvPicPr/>
          <p:nvPr/>
        </p:nvPicPr>
        <p:blipFill>
          <a:blip r:embed="rId2"/>
          <a:stretch/>
        </p:blipFill>
        <p:spPr>
          <a:xfrm>
            <a:off x="0" y="3716280"/>
            <a:ext cx="45576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Интересные факты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141560" y="1989000"/>
            <a:ext cx="73864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самая короткая за историю человечества война была между Англией и Занзибаром в 1896 г., получившая название «Первая Чимуренга». Продолжительность этой войны — 38 мину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длинной считают «столетнюю войну», которая, на самом деле, состоит из 4-х последовательных конфликтов, которые объединяют в одну растянувшуюся войну. Основные противники: Англия и Франция. Отсчет ведут с 1337 г. и до 1453 г., то есть 116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85640" y="195120"/>
            <a:ext cx="74768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тип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476360" y="1125360"/>
            <a:ext cx="73864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Войны Древнего ми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Захватнические походы древних государств с целью порабощения племён, находившихся на более низкой стадии общественного развития, сбора дани и захвата рабов (например, Галльская война, Маркоманская война и др.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Межгосударственные войны с целью захвата территорий и ограбления завоёванных стран (например, Пунические войны, Греко-персидские войны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ойны между различными группировками аристократии (например, войны диадохов за раздел империи Александра Македонского в 321—276 до н. э.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Восстания рабов (например, восстание рабов в Риме под руководством Спартака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Восстания крестьян и ремесленников (восстание «Краснобровых» в Китае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тип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6560" y="1268280"/>
            <a:ext cx="7386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Войны Средневековья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Религиозные войны: Крестовые походы, Джихад;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Династические войны (например, Война Белой и Алой розы в Англии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Крестьянские война-восстания против притеснений (Жакерия во Франции, Крестьянская война в Германии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Войны Средневековь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олониальные войны капиталистических стран за порабощение народов Азии, Африки, Америки, Океании (например, Первая и Вторая Опиумная война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ойны государств и коалиций государств за гегемонию (например, Северная война, Корейская война), войны за мировое господство (Первая и Вторая мировая война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тип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99640" y="1773000"/>
            <a:ext cx="7386840" cy="44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55680" indent="-3556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Гражданские войны, сопровождающие развитие социалистических и буржуазно-демократических революций. Часто гражданские войны сливаются с войнами против внешней интервенции (Гражданская война в Кита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ционально-освободительные войны народов зависимых и колониальных стран против колонизаторов, за установление государственной независимости или за её сохранение, против попыток восстановить колониальный режим (например, Алжирская война, колониальная война Португалии и др.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тип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99640" y="1557360"/>
            <a:ext cx="7386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55680" indent="-35568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Постиндустриальные войн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постиндустриальные войны — это прежде всего дипломатические и шпионские противостоя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Городская герилья — партизанская война в городе (Сражение за Могадишо, 1993, Сомали; Битва за Грозный, 1994, Россия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Гуманитарная война — применение военной силы против иностранного государства или каких-либо сил на его территории для предотвращения геноцида местного населения (например, Война в Косово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Контртеррористическая операц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ежэтнический конфликт — конфликт между представителями этнических общин, обычно проживающих в непосредственной близости в каком-либо государстве (например, Боснийская война, Карабахская вой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47720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15640" y="1125000"/>
            <a:ext cx="748836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цель войны состоит в навязывании противнику своей воли. Один субъект политики пытается изменить поведение другого, заставить его отказаться от своей свободы, идеологии, от прав на что-либо, отдать требуемые национальные богатства, территорию, акваторию и др. Реализация этого стремления невоенными средствами, например, в процессе переговоров, сопровождаемых угрозой применения силы, может завершиться так называемым «добровольным присоединением» одного государства к другому, без применения вооруженной сил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известного американского специалиста по психологической войне П. Лайнбарджера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 — это своего рода убеждение, дорогостоящее, опасное, кровавое и неприятное, но эффективное, если другие меры не дают желаемых результа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55280" y="105264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нередко инициаторы войны преследуют и непрямые цели, как т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своих внутриполитических пози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абилизация региона в цел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лечение и связывание сил противни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вое время, для стороны, непосредственно начавшей войну, целью является мир лучший, чем довоенный. Для стороны же, испытывающей агрессию со стороны развязавшего войну противника, целью войны автоматически становитс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стояние противнику, желающему навязать свою вол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твращение рецидивов агре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3:37:46Z</dcterms:created>
  <dc:creator>Oleg</dc:creator>
  <dc:description/>
  <dc:language>en-US</dc:language>
  <cp:lastModifiedBy>Натаха</cp:lastModifiedBy>
  <dcterms:modified xsi:type="dcterms:W3CDTF">2019-10-29T07:53:01Z</dcterms:modified>
  <cp:revision>9</cp:revision>
  <dc:subject/>
  <dc:title>Слайд 1</dc:title>
</cp:coreProperties>
</file>