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36B-2298-446E-9302-42CC53F12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8FD5-808F-4E90-9263-064545D0E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60D-EB89-481F-AD96-E398B0B48E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3E5-E2BC-4E77-8E35-52E68011F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489-9609-4CC4-A950-2601B0ABD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60A-87A4-44FC-AC6F-74C75F153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24C-09B1-44D1-80E6-5AD6207E0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498-4B60-4397-82E1-0F400FE55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6B7-792D-47F9-BFB0-5EB35421A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4C5C-8EED-4C2D-B94F-E0FC63B3D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947-835B-4678-A7F0-1295F4DD2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92A-D969-413E-9E43-FEF6AC83C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F54-C7B7-4F75-B6C8-0987A4350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605B-AFB9-431C-ADA6-55463F653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F829-A4BD-4C05-8135-F09F348CD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630-DE32-4CD1-B59B-9A1AB55BB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079-95A8-472E-A295-CE1DE573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858-2554-44AE-9A97-EDD6FAA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D42-3AEF-403C-8435-C971477C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7A5-AB14-4B4D-A1F8-5169DC51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197A-1664-43C3-B6BB-9974E34B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25D-51E0-4B38-ABAF-BA3E833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C72-CD16-4372-AFAC-C3970E0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FD7E-A505-4379-B1E9-C6DFFD70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CAD6-789E-4FE9-8A86-997489E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F231-284E-484D-8C6F-2CCD42B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17D6-0432-4F51-99A6-951F33B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F1E-6245-4A43-9913-D246DF6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8E0D-F196-4E46-8F1F-2D4B73F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619F-9A26-4F7E-9F09-0CD6702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7B6A-CBE1-4E9F-A5A0-EB57A9B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77F-DD94-45FE-B6F2-F3063C5A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1A6C-50D2-4AE5-A76B-F87C672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0637-66F6-4F55-8933-99857C6C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3D5B-5BD8-497F-95AA-08EA4EF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3265-97C9-4003-B404-B46A353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0DEE-3442-480F-95F3-36B39EE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AAC8-AD61-4824-AD9A-EF8001D7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745-0A8D-4AD6-A8B1-3A9ED28C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A017-2D40-4F82-BF41-A8DAE2D4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2991-0E24-4F56-808E-A3445EF3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E706-D49D-4EC2-8D3A-344822E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370C-9E0E-4582-A3DD-BE75BA8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71A3-EB25-4FF5-8989-436E27D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445-B433-4A28-923B-FAB6CA2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698B-23BB-4714-9A27-58CAE864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031F-0EED-4DD8-8755-DEFA0AB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951D-E32B-4515-8EB5-01025B4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7F99-C076-4F10-8DD5-6D2898AC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E66-6526-44DB-B7E1-8884190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6C32-6A13-47F1-AA05-6217B0B8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B8D1-2B79-419B-B431-0127AC34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9B49-4BA5-43A4-8924-A884870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4197-E874-4239-9C35-01C7F2E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F7EDC-2D90-4119-9892-C3BD73B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548C-E3C5-4401-9FF5-E2A1219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58AF-E2BA-4A21-BFF5-8ECBE18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ECE2-3FC4-470D-85E3-05640AE7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2705-4101-4494-9BF5-8C6AB506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F87A-005F-415E-ACEF-B160D847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FF4-C4E5-499E-A41D-09890BB8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A68E-3652-4B0A-B9E7-88269A04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26A8-3740-41C3-A977-DF98775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39F28-210D-4F89-AE10-38F4EBF7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ABCD-6A47-49AB-BCC7-61DFCBD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2862-8546-4DDF-B6A6-FA14005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5A3D4-FB0B-4BF6-9679-AB6AD85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5B8F3-8233-4C4A-8F22-2F842D8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A606-51D5-4C36-A219-0A05159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3E87-0681-4AD2-A419-9DA0245B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74E1-670A-40E5-838D-1A7DE6C9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36E-FDA0-46E7-9B4C-846FD566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57F2-BFA3-417D-8DA2-98AE0A3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F3FC-24A2-4163-99F4-1E916F09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7A77-74A3-46C3-AF1F-A97EAED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BE85-00CF-43A3-8BAA-24D2765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A34B0-7A3A-4477-BFC2-FCC8E144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6A72E-3399-482D-B1CF-3AA30E5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49E98-D232-4B93-8EB6-D52CA5E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E77E-49BA-43C7-A1A1-E877B6E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D80E-8BB5-4C14-817A-7DA9650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51296-4CF0-445A-A5CB-CB4B26A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11E-FC8C-4053-8261-3C8F7C7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6D24-8926-405E-A4C3-C29C2DE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D6B9-5DBD-4F61-95EF-DF9CF063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3C39-DFC8-4D52-8A9C-7FD18606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579-6E56-499F-8E4F-0D30D4C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CD5-B508-4C4B-BFB5-93A26E4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613-F82B-4769-BE84-29E47BA8769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0A7-C5E9-4219-AC03-C105AF4E079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9872-3018-4233-A6A0-8FAED1F07F3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8BD8-509A-4DAB-AFB4-CB6822E7694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B28-39DC-48A2-93C5-10A98EC8982C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2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4505-348D-44F1-9D6F-49EFE140AAE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090918war1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5146560" y="54000"/>
            <a:ext cx="432144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в истории человечества 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00720" y="5805360"/>
            <a:ext cx="467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6560" y="981000"/>
            <a:ext cx="7386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льной жизни часто нет четкой грани между нападающей и обороняющейся стороной, ибо обе стороны находятся на грани открытого проявления агрессии, и какая из них начнёт атаку первой — дело случая и принятой тактики. В таких случаях цели войны обеих сторон одинаковы — навязывание своей воли противнику с целью улучшения своего довоенного пол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6a8bebd1c7a4fecbb0ce8291640"/>
          <p:cNvPicPr/>
          <p:nvPr/>
        </p:nvPicPr>
        <p:blipFill>
          <a:blip r:embed="rId1"/>
          <a:stretch/>
        </p:blipFill>
        <p:spPr>
          <a:xfrm>
            <a:off x="2124000" y="3357720"/>
            <a:ext cx="41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256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152360" y="1628280"/>
            <a:ext cx="7344000" cy="44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гативным последствиям войн, помимо гибели людей, можно отнести тот комплекс, который обозначается как гуманитарная катастрофа: голод, эпидем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глобальные войны связаны с огромными людскими и материальными потерями, с небывалыми прежде разрушениями и бедствиями. Например, потери в войнах европейских стран (убитые и умершие от ран и болезней) составили: в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 — 3,3 млн чел., в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е — 5,4 млн чел.,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чале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(до Первой мировой войны) — 5,7 млн чел., в Первой мировой войне — свыше 9, во Второй мировой войне (включая погибших в нацистских концлагерях) — свыше 50 млн ч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250px-Evstafiev-bosnia-travnik-girl-doll-refugee"/>
          <p:cNvPicPr/>
          <p:nvPr/>
        </p:nvPicPr>
        <p:blipFill>
          <a:blip r:embed="rId1"/>
          <a:stretch/>
        </p:blipFill>
        <p:spPr>
          <a:xfrm>
            <a:off x="5364000" y="420840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1268644735_755445846"/>
          <p:cNvPicPr/>
          <p:nvPr/>
        </p:nvPicPr>
        <p:blipFill>
          <a:blip r:embed="rId2"/>
          <a:stretch/>
        </p:blipFill>
        <p:spPr>
          <a:xfrm>
            <a:off x="108000" y="47628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ecade_56"/>
          <p:cNvPicPr/>
          <p:nvPr/>
        </p:nvPicPr>
        <p:blipFill>
          <a:blip r:embed="rId3"/>
          <a:stretch/>
        </p:blipFill>
        <p:spPr>
          <a:xfrm>
            <a:off x="0" y="3789360"/>
            <a:ext cx="3598920" cy="2519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short"/>
          <p:cNvPicPr/>
          <p:nvPr/>
        </p:nvPicPr>
        <p:blipFill>
          <a:blip r:embed="rId4"/>
          <a:stretch/>
        </p:blipFill>
        <p:spPr>
          <a:xfrm>
            <a:off x="5003640" y="692280"/>
            <a:ext cx="3598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60640" y="115920"/>
            <a:ext cx="57499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6920" y="836280"/>
            <a:ext cx="7344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зитивным последствиям войн относя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мен информацией (благодаря Таласской битве арабы узнали у китайцев секрет изготовления бумаг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плеск научно-технических открыт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нятие противоречий (война как диалектический момент отрицания у Гегел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5" descr="615445"/>
          <p:cNvPicPr/>
          <p:nvPr/>
        </p:nvPicPr>
        <p:blipFill>
          <a:blip r:embed="rId1"/>
          <a:stretch/>
        </p:blipFill>
        <p:spPr>
          <a:xfrm>
            <a:off x="-34920" y="3279600"/>
            <a:ext cx="2519280" cy="359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technology"/>
          <p:cNvPicPr/>
          <p:nvPr/>
        </p:nvPicPr>
        <p:blipFill>
          <a:blip r:embed="rId2"/>
          <a:stretch/>
        </p:blipFill>
        <p:spPr>
          <a:xfrm>
            <a:off x="3564000" y="3271680"/>
            <a:ext cx="2519280" cy="3598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E-Signatures-and-Identity-Theft"/>
          <p:cNvPicPr/>
          <p:nvPr/>
        </p:nvPicPr>
        <p:blipFill>
          <a:blip r:embed="rId3"/>
          <a:stretch/>
        </p:blipFill>
        <p:spPr>
          <a:xfrm>
            <a:off x="6624720" y="3247920"/>
            <a:ext cx="2519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Назовите типы войны в истории человечест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6" descr="File:Ramses II at Kadesh.jpg"/>
          <p:cNvPicPr/>
          <p:nvPr/>
        </p:nvPicPr>
        <p:blipFill>
          <a:blip r:embed="rId1"/>
          <a:stretch/>
        </p:blipFill>
        <p:spPr>
          <a:xfrm>
            <a:off x="684360" y="1681200"/>
            <a:ext cx="4138560" cy="5256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File:Gustavus Adolphus at the Battle at Breitenfeld.jpg"/>
          <p:cNvPicPr/>
          <p:nvPr/>
        </p:nvPicPr>
        <p:blipFill>
          <a:blip r:embed="rId2"/>
          <a:stretch/>
        </p:blipFill>
        <p:spPr>
          <a:xfrm>
            <a:off x="4822920" y="1681200"/>
            <a:ext cx="4321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350px-Apotheosis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560" y="-25560"/>
            <a:ext cx="77058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вы же последствия войн для человечества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635280" y="6093000"/>
            <a:ext cx="547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1b89"/>
                </a:solidFill>
                <a:latin typeface="Times New Roman"/>
                <a:ea typeface="Times New Roman"/>
              </a:rPr>
              <a:t>В.В. Верещагин «Апофеоз войны» 187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81374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: ответить на вопрос какие самые значимые войны являются в России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4" descr=""/>
          <p:cNvPicPr/>
          <p:nvPr/>
        </p:nvPicPr>
        <p:blipFill>
          <a:blip r:embed="rId1"/>
          <a:srcRect l="2984" t="0" r="50761" b="6541"/>
          <a:stretch/>
        </p:blipFill>
        <p:spPr>
          <a:xfrm>
            <a:off x="5724360" y="3860640"/>
            <a:ext cx="316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81040" y="287280"/>
            <a:ext cx="62532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такое «Война»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39320" y="1233000"/>
            <a:ext cx="738684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йна — конфликт  между политическими образованиями (государствами, племенами и, политическими группировками и др.), происходящие в форме вооруженного противоборства, военных (боевых) действий между их политическими сил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Picture 5" descr="16"/>
          <p:cNvPicPr/>
          <p:nvPr/>
        </p:nvPicPr>
        <p:blipFill>
          <a:blip r:embed="rId1"/>
          <a:stretch/>
        </p:blipFill>
        <p:spPr>
          <a:xfrm>
            <a:off x="4557600" y="3716280"/>
            <a:ext cx="4572000" cy="3148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vzriv"/>
          <p:cNvPicPr/>
          <p:nvPr/>
        </p:nvPicPr>
        <p:blipFill>
          <a:blip r:embed="rId2"/>
          <a:stretch/>
        </p:blipFill>
        <p:spPr>
          <a:xfrm>
            <a:off x="0" y="3716280"/>
            <a:ext cx="4557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c5a82"/>
                </a:solidFill>
                <a:latin typeface="Times New Roman"/>
                <a:ea typeface="Times New Roman"/>
              </a:rPr>
              <a:t>Интересные факты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41560" y="1989000"/>
            <a:ext cx="73864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самая короткая за историю человечества война была между Англией и Занзибаром в 1896 г., получившая название «Первая Чимуренга». Продолжительность этой войны — 38 мину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длинной считают «столетнюю войну», которая, на самом деле, состоит из 4-х последовательных конфликтов, которые объединяют в одну растянувшуюся войну. Основные противники: Англия и Франция. Отсчет ведут с 1337 г. и до 1453 г., то есть 116 л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85640" y="195120"/>
            <a:ext cx="74768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476360" y="112536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Войны Древнего ми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Захватнические походы древних государств с целью порабощения племён, находившихся на более низкой стадии общественного развития, сбора дани и захвата рабов (например, Галльская война, Маркоманская война и др.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Межгосударственные войны с целью захвата территорий и ограбления завоёванных стран (например, Пунические войны, Греко-персидские войны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ойны между различными группировками аристократии (например, войны диадохов за раздел империи Александра Македонского в 321—276 до н. э.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Восстания рабов (например, восстание рабов в Риме под руководством Спартак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Восстания крестьян и ремесленников (восстание «Краснобровых» в Китае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6560" y="1268280"/>
            <a:ext cx="7386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ойны Средневековья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елигиозные войны: Крестовые походы, Джихад;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Династические войны (например, Война Белой и Алой розы в Англии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Крестьянские война-восстания против притеснений (Жакерия во Франции, Крестьянская война в Германии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Войны Средневековь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олониальные войны капиталистических стран за порабощение народов Азии, Африки, Америки, Океании (например, Первая и Вторая Опиумная войн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ойны государств и коалиций государств за гегемонию (например, Северная война, Корейская война), войны за мировое господство (Первая и Вторая мировая война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99640" y="1773000"/>
            <a:ext cx="7386840" cy="44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5680" indent="-355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Гражданские войны, сопровождающие развитие социалистических и буржуазно-демократических революций. Часто гражданские войны сливаются с войнами против внешней интервенции (Гражданская война в Кита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ционально-освободительные войны народов зависимых и колониальных стран против колонизаторов, за установление государственной независимости или за её сохранение, против попыток восстановить колониальный режим (например, Алжирская война, колониальная война Португалии и др.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тип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99640" y="1557360"/>
            <a:ext cx="7386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55680" indent="-35568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Постиндустриальные войн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постиндустриальные войны — это прежде всего дипломатические и шпионские противостоя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Городская герилья — партизанская война в городе (Сражение за Могадишо, 1993, Сомали; Битва за Грозный, 1994, Россия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Гуманитарная война — применение военной силы против иностранного государства или каких-либо сил на его территории для предотвращения геноцида местного населения (например, Война в Косово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Контртеррористическая операц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ежэтнический конфликт — конфликт между представителями этнических общин, обычно проживающих в непосредственной близости в каком-либо государстве (например, Боснийская война, Карабахская вой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5680" indent="-355680" algn="just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47720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15640" y="1125000"/>
            <a:ext cx="74883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цель войны состоит в навязывании противнику своей воли. Один субъект политики пытается изменить поведение другого, заставить его отказаться от своей свободы, идеологии, от прав на что-либо, отдать требуемые национальные богатства, территорию, акваторию и др. Реализация этого стремления невоенными средствами, например, в процессе переговоров, сопровождаемых угрозой применения силы, может завершиться так называемым «добровольным присоединением» одного государства к другому, без применения вооруженной сил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известного американского специалиста по психологической войне П. Лайнбарджера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 — это своего рода убеждение, дорогостоящее, опасное, кровавое и неприятное, но эффективное, если другие меры не дают желаемых результа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йн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55280" y="105264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ередко инициаторы войны преследуют и непрямые цели, как т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своих внутриполитических пози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абилизация региона в цело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чение и связывание сил противни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е время, для стороны, непосредственно начавшей войну, целью является мир лучший, чем довоенный. Для стороны же, испытывающей агрессию со стороны развязавшего войну противника, целью войны автоматически становитс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яние противнику, желающему навязать свою вол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3808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твращение рецидивов агре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3:37:46Z</dcterms:created>
  <dc:creator>Oleg</dc:creator>
  <dc:description/>
  <dc:language>en-US</dc:language>
  <cp:lastModifiedBy>Натаха</cp:lastModifiedBy>
  <dcterms:modified xsi:type="dcterms:W3CDTF">2019-10-29T07:53:01Z</dcterms:modified>
  <cp:revision>9</cp:revision>
  <dc:subject/>
  <dc:title>Слайд 1</dc:title>
</cp:coreProperties>
</file>