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6EE-6495-4DCD-9FBB-F4D76D24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3F6-5781-41C9-81BF-A3A8ED84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ACF-9E27-49A7-9D95-D3772B1F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512-32FB-4624-9138-03927302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F6D-A956-4D42-BF5B-BFD61066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19F1-0CEC-4038-A39F-3D78ABCD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5B81-49ED-4AE3-8958-7D43FDBE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F386-4030-4810-8FBF-2938752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F35A-00B7-4A66-922F-CFEE5DE5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AD68-47E3-4CF0-A11F-C9D658B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6BA6-A925-4191-9907-E2C31EA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68F-08AF-4BF4-A75A-37D23523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EEA4-0415-4155-AAB5-F554161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8DE2-6768-4AE2-8F5A-736E480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66E9-B4F6-4BC2-B312-2CDB077A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4A33-07E0-4703-A1AD-79541095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1E40-77AF-49A6-A8AD-B9098C0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9AA-3E7B-4410-A860-C72B82D5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B5B-0654-48B6-BD53-9F1D807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4EE-E126-4AA6-AFA3-0273676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0F4-1272-4E98-BA8A-E21F34E5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EBA-F336-45B3-9FB2-327E10F7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016-FB66-4CDA-A25E-DABF36E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F13-4A2C-43A8-B2BD-BF62F1B9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DAF6-A91D-4F67-8F47-5B2BD10033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AC34-012E-4C49-B262-8909416C14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35280" y="0"/>
            <a:ext cx="6408720" cy="4608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0920" y="4437000"/>
            <a:ext cx="5329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Alle meine Entc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schwimmen auf dem Se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schwimmen auf dem Se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Köpfchen in das Wass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Schwänzchen in die Höh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78920" y="549360"/>
            <a:ext cx="2592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Alle meine Entchen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5832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270792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lle meine Täub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urren auf dem Dac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urren auf dem Dac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fliegt eins in die Lüf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fliegen alle n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602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gurr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рк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3780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lle meine Hüh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scharren in dem Stro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scharren in dem Stro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finden sie ein Körnch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sind sie alle fro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5734080"/>
            <a:ext cx="41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charren in dem Stro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-копают в сол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lle meine Gäns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ehen  mit der L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Gehen  mit der Li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Jeden Tag in Gänsemarsch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uf die gr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ne Wiese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953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11:08Z</dcterms:created>
  <dc:creator>Корец</dc:creator>
  <dc:description/>
  <dc:language>en-US</dc:language>
  <cp:lastModifiedBy>Корец</cp:lastModifiedBy>
  <dcterms:modified xsi:type="dcterms:W3CDTF">2010-01-26T12:55:18Z</dcterms:modified>
  <cp:revision>3</cp:revision>
  <dc:subject/>
  <dc:title>Слайд 1</dc:title>
</cp:coreProperties>
</file>