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921-BCA8-425E-A254-779C2A68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A7F-B6D1-4F16-A1FD-CFF40423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C7C-AB48-4C7B-9352-7991571F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018-C72D-4B38-9CFE-9673A2AA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3751-680D-4578-AA9E-F4032829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53F8-1EF1-4138-8726-D1BCE695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A4EE-6D80-4A0B-B147-C5D5320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7629-C9A5-433C-9F29-D4ED99FF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B4A6-B038-494D-ABB7-CFA045F0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4984-8C38-4869-B9F5-0C531748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1377-7083-4FE6-B8CA-BDBD6700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7F8-9766-406F-BB83-671F9B48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F93F-CC6A-4C56-8EE3-F26A03B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3883-6AEF-4E74-9306-7BCD5E8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D85C-4E66-4E5F-ACED-DB9B0F38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5412-FE84-4EC7-87F0-6EB0775C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0D90-D811-4719-B081-B17A02AE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6FE-25A9-45E1-B48B-32660614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51B-E6C7-41D0-B371-23F65070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4CE-ADE3-4E78-84FA-51D8E87C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9A2-B704-4897-827E-7A42A4C6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265-8619-41B8-8849-83ED740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F77-298D-4C8F-822D-5BBD9886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4AE-6470-44B2-AA44-3039E8A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475-E7D2-4330-848B-033B7D6887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AED6-9424-4B67-94EC-08431AD290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35280" y="0"/>
            <a:ext cx="6408720" cy="4608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0920" y="4437000"/>
            <a:ext cx="5329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Alle meine Entc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schwimmen auf dem Se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schwimmen auf dem Se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Köpfchen in das Wass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Schwänzchen in die Höh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78920" y="549360"/>
            <a:ext cx="259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Alle meine Entchen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5832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4920" y="270792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lle meine Täub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gurren auf dem Dac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gurren auf dem Dac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fliegt eins in die Lüf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fliegen alle n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602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gurr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рк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3780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lle meine Hüh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scharren in dem Stro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scharren in dem Stro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finden sie ein Körnch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sind sie alle fro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5734080"/>
            <a:ext cx="41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charren in dem Stro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копают в сол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lle meine Gäns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Gehen  mit der Li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Gehen  mit der Li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Jeden Tag in Gänsemarsc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uf die gr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ne Wiese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3953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11:08Z</dcterms:created>
  <dc:creator>Корец</dc:creator>
  <dc:description/>
  <dc:language>en-US</dc:language>
  <cp:lastModifiedBy>Корец</cp:lastModifiedBy>
  <dcterms:modified xsi:type="dcterms:W3CDTF">2010-01-26T12:55:18Z</dcterms:modified>
  <cp:revision>3</cp:revision>
  <dc:subject/>
  <dc:title>Слайд 1</dc:title>
</cp:coreProperties>
</file>