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5E76-7705-46F1-B25F-4437D61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D789-DE48-4F38-A24A-EFE396C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CDE8-6853-4174-8EE7-2E3A1E42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BFF5-6328-413E-8214-39A3516A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7E15-D7A4-443F-A507-68FBBFEB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CEC-4A8A-4F04-9968-9E334DB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E5B1-BBE1-4DD7-82C1-AF1D2756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C2CC-3F1B-4F74-BB17-34A3CA1E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F84-71B6-4790-AD84-B094F6E8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0D7-2400-40F0-8BB3-5E8458E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916-35C9-40D1-9231-FF84869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6723-3D05-45B8-A90A-98BA5A62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E09E-8E9B-4562-BF91-99A86F27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2ABA-C36B-470D-9365-D3D1B94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54CF-3403-4D2E-A399-12B6F0BD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8780-6D2A-4470-B5D2-65FB4D68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D2E4-F574-4B70-A21F-EBC0D23D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2249-6221-404C-B6EA-77558F9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A386-7672-431B-831F-045BB3D3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EAC8-26DA-46EA-A7F1-EDD442E3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3B7B-F73F-4936-B529-58CDC06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A355-81F9-4604-B6B5-07FC1DC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F234-8B02-4BDD-BDC7-CE4FA64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54F4-DACE-47D0-B1D1-F04B33D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F4D-01FB-46D1-BD44-529B32DA9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B42-DA63-48FC-A3B9-CDF44D13B2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08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66ff33"/>
                </a:solidFill>
                <a:latin typeface="Garamond"/>
              </a:rPr>
              <a:t>Es war eine Mutter</a:t>
            </a:r>
            <a:br>
              <a:rPr sz="54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480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176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1. Es war eine Mut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ie hatte vier Kind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n Frühling</a:t>
            </a:r>
            <a:r>
              <a:rPr b="1" lang="ru-RU" sz="2800" spc="-1" strike="noStrike">
                <a:solidFill>
                  <a:srgbClr val="66ff33"/>
                </a:solidFill>
                <a:latin typeface="Garamond"/>
              </a:rPr>
              <a:t>, </a:t>
            </a: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n Sommer, den Herbst und den Win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3716280"/>
            <a:ext cx="6193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3. Und wie sie sich schwin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im Jahresreih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so tanzen und sin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ff33"/>
                </a:solidFill>
                <a:latin typeface="Garamond"/>
              </a:rPr>
              <a:t>wir fröhlich dare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260280"/>
            <a:ext cx="4356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2. Der Frühling bringt Bl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Sommer den K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Herbst bringt die Trau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66ff33"/>
                </a:solidFill>
                <a:latin typeface="Garamond"/>
              </a:rPr>
              <a:t>der Winter den Schn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327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31:38Z</dcterms:created>
  <dc:creator>Корец</dc:creator>
  <dc:description/>
  <dc:language>en-US</dc:language>
  <cp:lastModifiedBy>Корец</cp:lastModifiedBy>
  <dcterms:modified xsi:type="dcterms:W3CDTF">2010-02-09T15:07:12Z</dcterms:modified>
  <cp:revision>4</cp:revision>
  <dc:subject/>
  <dc:title>Es war eine Mutter </dc:title>
</cp:coreProperties>
</file>