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07D6-99BD-40D7-AA7A-05159A10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0044E-3EBF-471E-A142-1BAC0F8F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F326-9CD4-4FB3-8C46-0F91CE56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D755-98CA-4ED6-9129-184BFC7A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F614-B62D-4C94-9936-54BA3DE8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7875-245E-419D-B4F4-84AC036A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834B-C611-43BF-8F1D-285EA43C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B9D9-F8FA-4DF2-9AA0-47487984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3D51-A33C-4D70-9942-339680EF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053D-EC3B-455E-AD2B-BEADE189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D546-8F60-48DD-A747-F83F9661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EDA4-ED81-495C-BCDF-2097482E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4284-8E1B-4914-8D27-54553951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ED3F-60F1-44C7-B73A-035C57EB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AE1A-249F-49DE-AA73-B0AE0317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01A2-4250-43FF-941E-DED70930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44BC-E345-4027-9FB8-9DF551FE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4B6E2-AB03-4F94-AA3A-63BFE5E4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0398-AB86-4B07-9319-F6FDE3E7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7151-9150-4CAB-8558-E47DF8A3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3A04-A8B9-4122-8958-9457B9F6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FF3B-BBBD-4E51-8D89-DC48F510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F967-28BE-4F33-8EC3-FEE90C5D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E620-14ED-4A57-AC35-EEB09155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1C0A-12F1-4D99-9F41-3CE263617D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1DD4-C289-4C6B-A4AC-36D4090A6F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08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66ff33"/>
                </a:solidFill>
                <a:latin typeface="Garamond"/>
              </a:rPr>
              <a:t>Es war eine Mutter</a:t>
            </a:r>
            <a:br>
              <a:rPr sz="54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48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1767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1. Es war eine Mut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die hatte vier Kind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den Frühling</a:t>
            </a:r>
            <a:r>
              <a:rPr b="1" lang="ru-RU" sz="2800" spc="-1" strike="noStrike">
                <a:solidFill>
                  <a:srgbClr val="66ff33"/>
                </a:solidFill>
                <a:latin typeface="Garamond"/>
              </a:rPr>
              <a:t>, </a:t>
            </a: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den Sommer, den Herbst und den Win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6920" y="3716280"/>
            <a:ext cx="6193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ff33"/>
                </a:solidFill>
                <a:latin typeface="Garamond"/>
              </a:rPr>
              <a:t>3. Und wie sie sich schwing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ff33"/>
                </a:solidFill>
                <a:latin typeface="Garamond"/>
              </a:rPr>
              <a:t>im Jahresreih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ff33"/>
                </a:solidFill>
                <a:latin typeface="Garamond"/>
              </a:rPr>
              <a:t>so tanzen und sing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ff33"/>
                </a:solidFill>
                <a:latin typeface="Garamond"/>
              </a:rPr>
              <a:t>wir fröhlich darei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260280"/>
            <a:ext cx="4356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2. Der Frühling bringt Blu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der Sommer den K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Der Herbst bringt die Trau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der Winter den Schn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53272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4:31:38Z</dcterms:created>
  <dc:creator>Корец</dc:creator>
  <dc:description/>
  <dc:language>en-US</dc:language>
  <cp:lastModifiedBy>Корец</cp:lastModifiedBy>
  <dcterms:modified xsi:type="dcterms:W3CDTF">2010-02-09T15:07:12Z</dcterms:modified>
  <cp:revision>4</cp:revision>
  <dc:subject/>
  <dc:title>Es war eine Mutter </dc:title>
</cp:coreProperties>
</file>