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gif" ContentType="image/gif"/>
  <Override PartName="/ppt/media/image8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8760" cy="34257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Script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D9D73B-8625-404D-A380-C1E676D875F3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FF36DE-A806-424F-BA83-85617C1CE200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C6AC03-4484-4FF4-8C29-192260C7F7A9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53F306-2521-4F21-8C2E-0F51836A5FC7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34CA48-1B08-4250-86D8-57F64E0057EE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277F8B-4173-41A5-AE8E-5D52A5111870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4ED7F7-8319-44DC-AEE0-063054169054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9C114A-219A-4EC3-BF2F-FC1363661187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45B6A1-F297-4722-9595-0E4D17E19B1E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0AA5C8-0E6F-4578-9682-939A1D4FFD11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C132FA-181E-4E3D-9FD2-72A9A1709984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392075-A2EB-4E7D-A298-F3A346F82F1A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22EB1E-C344-441D-92FF-F4FD98CB8E9C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302042-8177-4A3F-A79D-5FA1B0446773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849EC6-9B41-4FE3-9F17-6FEF916C0E11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AB6134-5B7D-42E3-AB86-203CEAD02314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68DDF9-A70A-4BE5-A86D-988E07623E9F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0857C4-C862-403F-A046-C0D7490E8EC1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5B5CFB-A095-4521-91EB-94F13B4FB62D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49C756-1B90-4883-8A80-C0ECAC508519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6BC40D-CB51-4A2B-A927-FF78F151D9B7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630845-85DB-4131-8C83-0CA8A91CEE19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F927EF-0098-4F3D-A89E-0684FFDF05CE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B3B30-5D84-488B-A205-9BD375D15D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642760" y="-360"/>
            <a:ext cx="596916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42760" y="1599840"/>
            <a:ext cx="604044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42760" y="3747600"/>
            <a:ext cx="604044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A5BD6-D6BA-49A2-91E5-639BBA6D25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642760" y="-360"/>
            <a:ext cx="596916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42760" y="1599840"/>
            <a:ext cx="29476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738040" y="1599840"/>
            <a:ext cx="29476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42760" y="3747600"/>
            <a:ext cx="29476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738040" y="3747600"/>
            <a:ext cx="29476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3DCE4-E7DD-469E-B0D4-2F4D3D7DB7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642760" y="-360"/>
            <a:ext cx="596916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42760" y="1599840"/>
            <a:ext cx="19447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85040" y="1599840"/>
            <a:ext cx="19447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27320" y="1599840"/>
            <a:ext cx="19447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42760" y="3747600"/>
            <a:ext cx="19447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85040" y="3747600"/>
            <a:ext cx="19447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727320" y="3747600"/>
            <a:ext cx="19447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D3234-D5C7-4E6B-9125-9C3D9C29A1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642760" y="-360"/>
            <a:ext cx="596916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2642760" y="1599840"/>
            <a:ext cx="604044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642760" y="-360"/>
            <a:ext cx="596916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642760" y="1599840"/>
            <a:ext cx="604044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642760" y="-360"/>
            <a:ext cx="596916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642760" y="1599840"/>
            <a:ext cx="294768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738040" y="1599840"/>
            <a:ext cx="294768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642760" y="-360"/>
            <a:ext cx="596916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2642760" y="-360"/>
            <a:ext cx="5969160" cy="56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642760" y="-360"/>
            <a:ext cx="596916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642760" y="1599840"/>
            <a:ext cx="29476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738040" y="1599840"/>
            <a:ext cx="294768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2642760" y="3747600"/>
            <a:ext cx="29476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642760" y="-360"/>
            <a:ext cx="596916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42760" y="1599840"/>
            <a:ext cx="604044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5B5E2-C550-42C7-8C18-D9E5390945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642760" y="-360"/>
            <a:ext cx="596916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642760" y="1599840"/>
            <a:ext cx="294768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738040" y="1599840"/>
            <a:ext cx="29476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738040" y="3747600"/>
            <a:ext cx="29476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642760" y="-360"/>
            <a:ext cx="596916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642760" y="1599840"/>
            <a:ext cx="29476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738040" y="1599840"/>
            <a:ext cx="29476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642760" y="3747600"/>
            <a:ext cx="604044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642760" y="-360"/>
            <a:ext cx="596916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42760" y="1599840"/>
            <a:ext cx="604044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2642760" y="3747600"/>
            <a:ext cx="604044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642760" y="-360"/>
            <a:ext cx="596916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642760" y="1599840"/>
            <a:ext cx="29476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38040" y="1599840"/>
            <a:ext cx="29476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642760" y="3747600"/>
            <a:ext cx="29476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738040" y="3747600"/>
            <a:ext cx="29476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642760" y="-360"/>
            <a:ext cx="596916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642760" y="1599840"/>
            <a:ext cx="19447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5040" y="1599840"/>
            <a:ext cx="19447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727320" y="1599840"/>
            <a:ext cx="19447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2642760" y="3747600"/>
            <a:ext cx="19447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4685040" y="3747600"/>
            <a:ext cx="19447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727320" y="3747600"/>
            <a:ext cx="19447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642760" y="-360"/>
            <a:ext cx="596916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642760" y="1599840"/>
            <a:ext cx="604044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642760" y="-360"/>
            <a:ext cx="596916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42760" y="1599840"/>
            <a:ext cx="604044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642760" y="-360"/>
            <a:ext cx="596916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642760" y="1599840"/>
            <a:ext cx="294768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738040" y="1599840"/>
            <a:ext cx="294768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642760" y="-360"/>
            <a:ext cx="596916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642760" y="-360"/>
            <a:ext cx="596916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42760" y="1599840"/>
            <a:ext cx="604044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73AAD-BA11-45B4-A5AD-39B54047B25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2642760" y="-360"/>
            <a:ext cx="5969160" cy="56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642760" y="-360"/>
            <a:ext cx="596916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642760" y="1599840"/>
            <a:ext cx="29476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738040" y="1599840"/>
            <a:ext cx="294768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2642760" y="3747600"/>
            <a:ext cx="29476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642760" y="-360"/>
            <a:ext cx="596916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642760" y="1599840"/>
            <a:ext cx="294768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738040" y="1599840"/>
            <a:ext cx="29476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738040" y="3747600"/>
            <a:ext cx="29476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642760" y="-360"/>
            <a:ext cx="596916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642760" y="1599840"/>
            <a:ext cx="29476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738040" y="1599840"/>
            <a:ext cx="29476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2642760" y="3747600"/>
            <a:ext cx="604044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642760" y="-360"/>
            <a:ext cx="596916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642760" y="1599840"/>
            <a:ext cx="604044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2642760" y="3747600"/>
            <a:ext cx="604044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642760" y="-360"/>
            <a:ext cx="596916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642760" y="1599840"/>
            <a:ext cx="29476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738040" y="1599840"/>
            <a:ext cx="29476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2642760" y="3747600"/>
            <a:ext cx="29476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5738040" y="3747600"/>
            <a:ext cx="29476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642760" y="-360"/>
            <a:ext cx="596916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642760" y="1599840"/>
            <a:ext cx="19447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5040" y="1599840"/>
            <a:ext cx="19447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727320" y="1599840"/>
            <a:ext cx="19447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2642760" y="3747600"/>
            <a:ext cx="19447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4685040" y="3747600"/>
            <a:ext cx="19447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727320" y="3747600"/>
            <a:ext cx="19447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642760" y="-360"/>
            <a:ext cx="596916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2642760" y="1599840"/>
            <a:ext cx="604044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642760" y="-360"/>
            <a:ext cx="596916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642760" y="1599840"/>
            <a:ext cx="604044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642760" y="-360"/>
            <a:ext cx="596916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42760" y="1599840"/>
            <a:ext cx="294768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738040" y="1599840"/>
            <a:ext cx="294768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F66AA-2E5E-4404-B06E-3DA2032BF50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642760" y="-360"/>
            <a:ext cx="596916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642760" y="1599840"/>
            <a:ext cx="294768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738040" y="1599840"/>
            <a:ext cx="294768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642760" y="-360"/>
            <a:ext cx="596916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2642760" y="-360"/>
            <a:ext cx="5969160" cy="56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642760" y="-360"/>
            <a:ext cx="596916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642760" y="1599840"/>
            <a:ext cx="29476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738040" y="1599840"/>
            <a:ext cx="294768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2642760" y="3747600"/>
            <a:ext cx="29476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642760" y="-360"/>
            <a:ext cx="596916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642760" y="1599840"/>
            <a:ext cx="294768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738040" y="1599840"/>
            <a:ext cx="29476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738040" y="3747600"/>
            <a:ext cx="29476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642760" y="-360"/>
            <a:ext cx="596916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642760" y="1599840"/>
            <a:ext cx="29476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738040" y="1599840"/>
            <a:ext cx="29476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2642760" y="3747600"/>
            <a:ext cx="604044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642760" y="-360"/>
            <a:ext cx="596916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642760" y="1599840"/>
            <a:ext cx="604044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642760" y="3747600"/>
            <a:ext cx="604044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642760" y="-360"/>
            <a:ext cx="596916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642760" y="1599840"/>
            <a:ext cx="29476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738040" y="1599840"/>
            <a:ext cx="29476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642760" y="3747600"/>
            <a:ext cx="29476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5738040" y="3747600"/>
            <a:ext cx="29476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642760" y="-360"/>
            <a:ext cx="596916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642760" y="1599840"/>
            <a:ext cx="19447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85040" y="1599840"/>
            <a:ext cx="19447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727320" y="1599840"/>
            <a:ext cx="19447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2642760" y="3747600"/>
            <a:ext cx="19447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4685040" y="3747600"/>
            <a:ext cx="19447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727320" y="3747600"/>
            <a:ext cx="19447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42760" y="-360"/>
            <a:ext cx="596916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C214F-3490-4BF2-BF56-D71CE62B76B3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642760" y="-360"/>
            <a:ext cx="596916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2642760" y="1599840"/>
            <a:ext cx="604044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642760" y="-360"/>
            <a:ext cx="596916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642760" y="1599840"/>
            <a:ext cx="604044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642760" y="-360"/>
            <a:ext cx="596916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642760" y="1599840"/>
            <a:ext cx="294768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738040" y="1599840"/>
            <a:ext cx="294768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642760" y="-360"/>
            <a:ext cx="596916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2642760" y="-360"/>
            <a:ext cx="5969160" cy="56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642760" y="-360"/>
            <a:ext cx="596916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42760" y="1599840"/>
            <a:ext cx="29476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738040" y="1599840"/>
            <a:ext cx="294768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2642760" y="3747600"/>
            <a:ext cx="29476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642760" y="-360"/>
            <a:ext cx="596916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42760" y="1599840"/>
            <a:ext cx="294768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738040" y="1599840"/>
            <a:ext cx="29476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738040" y="3747600"/>
            <a:ext cx="29476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642760" y="-360"/>
            <a:ext cx="596916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42760" y="1599840"/>
            <a:ext cx="29476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738040" y="1599840"/>
            <a:ext cx="29476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2642760" y="3747600"/>
            <a:ext cx="604044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642760" y="-360"/>
            <a:ext cx="596916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642760" y="1599840"/>
            <a:ext cx="604044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2642760" y="3747600"/>
            <a:ext cx="604044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642760" y="-360"/>
            <a:ext cx="596916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642760" y="1599840"/>
            <a:ext cx="29476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738040" y="1599840"/>
            <a:ext cx="29476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642760" y="3747600"/>
            <a:ext cx="29476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5738040" y="3747600"/>
            <a:ext cx="29476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642760" y="-360"/>
            <a:ext cx="5969160" cy="56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5CBF0-CE33-40AA-A4D5-C17FF0ED28D3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642760" y="-360"/>
            <a:ext cx="596916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642760" y="1599840"/>
            <a:ext cx="19447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85040" y="1599840"/>
            <a:ext cx="19447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727320" y="1599840"/>
            <a:ext cx="19447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2642760" y="3747600"/>
            <a:ext cx="19447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4685040" y="3747600"/>
            <a:ext cx="19447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727320" y="3747600"/>
            <a:ext cx="19447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642760" y="-360"/>
            <a:ext cx="596916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2642760" y="1599840"/>
            <a:ext cx="604044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642760" y="-360"/>
            <a:ext cx="596916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642760" y="1599840"/>
            <a:ext cx="604044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642760" y="-360"/>
            <a:ext cx="596916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642760" y="1599840"/>
            <a:ext cx="294768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738040" y="1599840"/>
            <a:ext cx="294768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642760" y="-360"/>
            <a:ext cx="596916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2642760" y="-360"/>
            <a:ext cx="5969160" cy="56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642760" y="-360"/>
            <a:ext cx="596916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642760" y="1599840"/>
            <a:ext cx="29476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738040" y="1599840"/>
            <a:ext cx="294768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2642760" y="3747600"/>
            <a:ext cx="29476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642760" y="-360"/>
            <a:ext cx="596916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642760" y="1599840"/>
            <a:ext cx="294768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738040" y="1599840"/>
            <a:ext cx="29476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738040" y="3747600"/>
            <a:ext cx="29476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642760" y="-360"/>
            <a:ext cx="596916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642760" y="1599840"/>
            <a:ext cx="29476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738040" y="1599840"/>
            <a:ext cx="29476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2642760" y="3747600"/>
            <a:ext cx="604044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642760" y="-360"/>
            <a:ext cx="596916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42760" y="1599840"/>
            <a:ext cx="29476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738040" y="1599840"/>
            <a:ext cx="294768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42760" y="3747600"/>
            <a:ext cx="29476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4AE52-2C78-4A32-AAFE-A5AF4154C23D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642760" y="-360"/>
            <a:ext cx="596916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642760" y="1599840"/>
            <a:ext cx="604044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2642760" y="3747600"/>
            <a:ext cx="604044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642760" y="-360"/>
            <a:ext cx="596916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642760" y="1599840"/>
            <a:ext cx="29476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738040" y="1599840"/>
            <a:ext cx="29476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642760" y="3747600"/>
            <a:ext cx="29476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5738040" y="3747600"/>
            <a:ext cx="29476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642760" y="-360"/>
            <a:ext cx="596916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642760" y="1599840"/>
            <a:ext cx="19447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85040" y="1599840"/>
            <a:ext cx="19447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727320" y="1599840"/>
            <a:ext cx="19447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2642760" y="3747600"/>
            <a:ext cx="19447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4685040" y="3747600"/>
            <a:ext cx="19447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727320" y="3747600"/>
            <a:ext cx="19447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642760" y="-360"/>
            <a:ext cx="596916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2642760" y="1599840"/>
            <a:ext cx="604044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642760" y="-360"/>
            <a:ext cx="596916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642760" y="1599840"/>
            <a:ext cx="604044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642760" y="-360"/>
            <a:ext cx="596916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642760" y="1599840"/>
            <a:ext cx="294768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738040" y="1599840"/>
            <a:ext cx="294768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642760" y="-360"/>
            <a:ext cx="596916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2642760" y="-360"/>
            <a:ext cx="5969160" cy="56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642760" y="-360"/>
            <a:ext cx="596916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642760" y="1599840"/>
            <a:ext cx="29476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5738040" y="1599840"/>
            <a:ext cx="294768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2642760" y="3747600"/>
            <a:ext cx="29476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42760" y="-360"/>
            <a:ext cx="596916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42760" y="1599840"/>
            <a:ext cx="294768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738040" y="1599840"/>
            <a:ext cx="29476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738040" y="3747600"/>
            <a:ext cx="29476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45397-5AEA-4CF6-AC90-D6B507E8BF7B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642760" y="-360"/>
            <a:ext cx="596916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2642760" y="1599840"/>
            <a:ext cx="294768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738040" y="1599840"/>
            <a:ext cx="29476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738040" y="3747600"/>
            <a:ext cx="29476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642760" y="-360"/>
            <a:ext cx="596916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642760" y="1599840"/>
            <a:ext cx="29476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738040" y="1599840"/>
            <a:ext cx="29476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2642760" y="3747600"/>
            <a:ext cx="604044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642760" y="-360"/>
            <a:ext cx="596916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642760" y="1599840"/>
            <a:ext cx="604044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2642760" y="3747600"/>
            <a:ext cx="604044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642760" y="-360"/>
            <a:ext cx="596916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642760" y="1599840"/>
            <a:ext cx="29476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738040" y="1599840"/>
            <a:ext cx="29476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2642760" y="3747600"/>
            <a:ext cx="29476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5738040" y="3747600"/>
            <a:ext cx="29476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642760" y="-360"/>
            <a:ext cx="596916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642760" y="1599840"/>
            <a:ext cx="19447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85040" y="1599840"/>
            <a:ext cx="19447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727320" y="1599840"/>
            <a:ext cx="19447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2642760" y="3747600"/>
            <a:ext cx="19447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4685040" y="3747600"/>
            <a:ext cx="19447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727320" y="3747600"/>
            <a:ext cx="19447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642760" y="-360"/>
            <a:ext cx="596916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42760" y="1599840"/>
            <a:ext cx="29476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738040" y="1599840"/>
            <a:ext cx="29476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42760" y="3747600"/>
            <a:ext cx="604044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AF031-72A0-4A58-BB4E-69CD868954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42760" y="-360"/>
            <a:ext cx="596916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Script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42760" y="1599840"/>
            <a:ext cx="604044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1"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2"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3"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4"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5"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6"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356520"/>
            <a:ext cx="2131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898989"/>
                </a:solidFill>
                <a:latin typeface="Calibri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F9E259-355F-49C6-AEB1-4503C05FE486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642760" y="-360"/>
            <a:ext cx="596916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Script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42760" y="1599840"/>
            <a:ext cx="604044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1"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2"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3"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4"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5"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6"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6715080" y="0"/>
            <a:ext cx="2428920" cy="173664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642760" y="-360"/>
            <a:ext cx="596916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Script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2642760" y="1599840"/>
            <a:ext cx="604044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1"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2"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3"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4"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5"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6"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428920" cy="173664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642760" y="-360"/>
            <a:ext cx="596916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Script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2642760" y="1599840"/>
            <a:ext cx="604044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1"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2"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3"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4"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5"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6"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6715080" y="0"/>
            <a:ext cx="2428920" cy="173664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642760" y="-360"/>
            <a:ext cx="596916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Script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2642760" y="1599840"/>
            <a:ext cx="604044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1"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2"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3"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4"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5"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6"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6715080" y="0"/>
            <a:ext cx="2428920" cy="173664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642760" y="-360"/>
            <a:ext cx="596916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Script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2642760" y="1599840"/>
            <a:ext cx="604044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1"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2"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3"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4"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5"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6"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642760" y="-360"/>
            <a:ext cx="596916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Script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2642760" y="1599840"/>
            <a:ext cx="604044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1"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2"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3"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4"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5"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6"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3294000" y="476280"/>
            <a:ext cx="5429160" cy="22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632523"/>
                </a:solidFill>
                <a:latin typeface="Bookman Old Style"/>
              </a:rPr>
              <a:t>Как помочь ребенку адаптироваться  к школе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286080" y="2997360"/>
            <a:ext cx="54291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953735"/>
                </a:solidFill>
                <a:latin typeface="Bookman Old Style"/>
              </a:rPr>
              <a:t>Советы и рекомендаци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953735"/>
                </a:solidFill>
                <a:latin typeface="Bookman Old Style"/>
              </a:rPr>
              <a:t>родителям будущих первоклассник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Подготовил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педагог-психоло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Коваль М.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2"/>
          <a:stretch/>
        </p:blipFill>
        <p:spPr>
          <a:xfrm>
            <a:off x="0" y="571680"/>
            <a:ext cx="2317680" cy="2317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285840" y="1285920"/>
            <a:ext cx="8572320" cy="29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               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         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       </a:t>
            </a: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Мыслительная готовность:</a:t>
            </a:r>
            <a:br>
              <a:rPr sz="28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Наиболее важные показатели — это развитие мышления и речи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Очень полезно учить ребенка строить несложные рассуждения, выводы, используя слова:«потому, что»; «поэтому»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Учите ребят задавать вопросы. Это очень полезно. Мышление всегда начинается с вопроса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Речь является основой, на которой строится учебный процесс. Особенно важно владение монологической речью. Для ребенка это пересказ. После чтения задайте ребенку несколько вопросов по содержанию, попросите пересказать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Особое внимание обратите на ориентировку в пространстве. Правильно ли ваш ребенок понимает и употребляет в речи предлоги и понят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285840" y="0"/>
            <a:ext cx="8572320" cy="614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               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         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        </a:t>
            </a: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Важен не объем знаний ребенка, а качество знаний:</a:t>
            </a:r>
            <a:br>
              <a:rPr sz="28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Важно учить не читать, </a:t>
            </a: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а развивать речь.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Не учить писать, а создавать условия для развития </a:t>
            </a: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мелкой моторики руки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Для полноценного развития дошкольнику необходимо общаться со сверстниками, взрослыми, играть в развивающие игры слушать чтение книг, рисовать, лепить, фантазировать. </a:t>
            </a: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Чем больше ребенок будет причастен к подготовке к школе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, обсуждению будущего, чем больше он будет знать о школе, о новой жизни, тем легче ему будет личностно в нее включиться.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285840" y="500040"/>
            <a:ext cx="857232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               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         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          </a:t>
            </a: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Важен не объем знаний ребенка, а качество знаний: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Уже сейчас постарайтесь очень постепенно </a:t>
            </a: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режим дня вашего малыша соотнести с режимом дня школьника.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Чтобы ребёнок </a:t>
            </a: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умел слышать учителя, обращайте внимание,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как он понимает ваши словесные инструкции и требования, которые должны быть чёткими, доброжелательными, немногословными, спокойными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Не пугайте ребёнка будущими трудностями в школе!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285840" y="0"/>
            <a:ext cx="8572320" cy="66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так, ребенок пошел в школу. И непросто ребенок, а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ьчик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ли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вочка, первоклассник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оклассница, со своими особенностями восприятия, мышления, эмоций,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собой организацией мозга, с разными установками, типами характера и  поведения, разные по своему биологическому возрасту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 же  труднее адаптируется к новой ситуации? Обычно это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ьчики.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Девочки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е общительны, контактны, легче перестраивают свои отношения, подстраиваются под ситуацию.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ьчики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любом изменении привычной жизни страдают больше. Мальчики и девочки 6-7лет готовы  к школьному обучению неодинаково. Различия заключаются в несколько лучшей интеллектуальной и эмоционально-личностной готовности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вочек, в силу чего они, оказавшись в начальной школе, имеют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яд преимуществ.          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        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355680" y="-720720"/>
            <a:ext cx="8572320" cy="43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800"/>
            </a:br>
            <a:br>
              <a:rPr sz="2000"/>
            </a:br>
            <a:r>
              <a:rPr b="1" lang="ru-RU" sz="20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               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      </a:t>
            </a:r>
            <a:br>
              <a:rPr sz="2000"/>
            </a:br>
            <a:r>
              <a:rPr b="1" lang="ru-RU" sz="20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кольная успешность мальчиков и девочек во многом зависит от врожденный особенностей функциональной организации мозга. Считается, что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мальчиков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ьше созревает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вое полушари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у девочек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ое.  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вочк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целом считаются более «речевыми», они раньше начинают говорить, а значит, и все психические функции, которые появляются после возникновения, речи, развиваются уже на этом фоне.</a:t>
            </a:r>
            <a:br>
              <a:rPr sz="2000"/>
            </a:b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ьчики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частую начинают говорить несколько позже, и до определенного возраста их психическое развитие проходит без прессинга собственной речи.</a:t>
            </a: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285840" y="214200"/>
            <a:ext cx="8286840" cy="807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сьма значительный вклад в школьную успешность первоклассников привносят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видуально-типологические особенности,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частности, всем хорошо известные типы темперамента. Напомним, что их всего четыре: холерик, сангвиник, флегматик, и меланхолик. Так вот, больше всего проблем с получением высоких оценок испытывают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ьчики-меланхолик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вочки-холерик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мальчики-меланхолики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сьма ранимы, впечатлительны и медлительны. Им не хватает бойкости, активности, стремления отстаивать себя и свою позицию. В случае неудач они могут и всплакнуть.</a:t>
            </a:r>
            <a:br>
              <a:rPr sz="2000"/>
            </a:b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евочки-холерик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наоборот, слишком активны, самостоятельны, вспыльчивы, беспокойны и непоседливы. В конфликтных ситуациях они отстаивают себя, подчас с применением рукоприкладства, что совсем не радует окружающих. Да и высидеть в течение 40 минут на одном месте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ля такой девочки проблематично.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иболее «удачным»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точки зрения обучения в начальной школе является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нгвинический тип темперамента,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енно для мальчиков. Дети данного типа в меру активные и живые, они весьма общительны, позитивны, умеренно агрессивны и тревожны.</a:t>
            </a:r>
            <a:br>
              <a:rPr sz="2000"/>
            </a:br>
            <a:br>
              <a:rPr sz="2000"/>
            </a:br>
            <a:r>
              <a:rPr b="1" lang="ru-RU" sz="28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               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         </a:t>
            </a:r>
            <a:br>
              <a:rPr sz="2800"/>
            </a:br>
            <a:br>
              <a:rPr sz="2800"/>
            </a:br>
            <a:br>
              <a:rPr sz="20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1143000" y="0"/>
            <a:ext cx="7215120" cy="36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т оказывается, какие они разные, мальчики и девочки, первоклассники и первоклассницы. Как же им трудно, когда учитель в школе и родители дома предлагают им одинаковые пути к знанию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 сами они еще слишком малы и слишком плохо знают самих себя, чтобы выбирать и протаптывать собственные тропинки, познавать мир другим способом, мыслить иначе, чем предлагает учител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214200" y="357120"/>
            <a:ext cx="8643960" cy="537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               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         </a:t>
            </a:r>
            <a:br>
              <a:rPr sz="2800"/>
            </a:br>
            <a:br>
              <a:rPr sz="2800"/>
            </a:br>
            <a:r>
              <a:rPr b="0" lang="ru-RU" sz="3200" spc="-1" strike="noStrike">
                <a:solidFill>
                  <a:srgbClr val="d60093"/>
                </a:solidFill>
                <a:latin typeface="Segoe Script"/>
              </a:rPr>
              <a:t> </a:t>
            </a:r>
            <a:br>
              <a:rPr sz="3200"/>
            </a:br>
            <a:r>
              <a:rPr b="0" lang="ru-RU" sz="3200" spc="-1" strike="noStrike">
                <a:solidFill>
                  <a:srgbClr val="d60093"/>
                </a:solidFill>
                <a:latin typeface="Segoe Script"/>
              </a:rPr>
              <a:t>          </a:t>
            </a: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В1 класс ребёнок должен    знать:</a:t>
            </a: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Знать свое имя и фамилию, адрес, имена членов     семьи.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Знать времена года, названия месяцев, дней недели, уметь различать цвета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Уметь пересчитывать группы предметов в пределах 10.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Уметь увеличивать или уменьшать группу предметов на заданное количество (решение задач с группами предметов),уравнивать множество предметов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Уметь сравнивать группы предметов -   больше, меньше или равно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Уметь объединять предметы в группы: мебель, транспорт, одежда, обувь, растения, животные и т. д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179280" y="0"/>
            <a:ext cx="8643960" cy="60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               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         </a:t>
            </a:r>
            <a:br>
              <a:rPr sz="2800"/>
            </a:br>
            <a:br>
              <a:rPr sz="2800"/>
            </a:br>
            <a:r>
              <a:rPr b="0" lang="ru-RU" sz="3200" spc="-1" strike="noStrike">
                <a:solidFill>
                  <a:srgbClr val="d60093"/>
                </a:solidFill>
                <a:latin typeface="Segoe Script"/>
              </a:rPr>
              <a:t> </a:t>
            </a:r>
            <a:br>
              <a:rPr sz="3200"/>
            </a:br>
            <a:r>
              <a:rPr b="0" lang="ru-RU" sz="3200" spc="-1" strike="noStrike">
                <a:solidFill>
                  <a:srgbClr val="d60093"/>
                </a:solidFill>
                <a:latin typeface="Segoe Script"/>
              </a:rPr>
              <a:t>       </a:t>
            </a: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В1 класс ребёнок должен знать:</a:t>
            </a:r>
            <a:br>
              <a:rPr sz="2800"/>
            </a:br>
            <a:br>
              <a:rPr sz="28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Уметь находить в группе предметов лишний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(из группы «Одежда» убрать цветок).</a:t>
            </a:r>
            <a:r>
              <a:rPr b="0" i="1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Уметь высказывать свое мнение, построив законченное предложение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Иметь элементарные представления об окружающем мире: о профессиях, о предметах живой и неживой природы, о правилах поведения в общественных местах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Иметь пространственные представления: право-лево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вверх-вниз, под, над, из-за, из-под чего-либо.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Уметь культурно общаться с другими детьми.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Слушать старших и выполнять их распоряжения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928800" y="357120"/>
            <a:ext cx="7500960" cy="48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омендации родителям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ите в ребенке его стремление стать школьником. Ваша искренняя заинтересованность в его школьных делах и заботах, серьезное отношение к его первым достижениям и возможным трудностям помогут первокласснику  подтвердить значимость его нового положения и деятельности;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суждайте с ребенком те правила и нормы, с которыми он встретится в школе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ш ребенок пришел в школу учиться. Когда человек учится, у него может не сразу получаться, это естественно. Ребенок имеет право на ошибку;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Составьте вместе с ребенком распорядок дня, следите за его соблюдением;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ивайте первоклассника в его желании добиться успеха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1332000" y="333360"/>
            <a:ext cx="685800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 адаптироваться в новой среде, преодолеть трудности, справиться с нагрузками ребенку необходимо иметь высокую самооценку:</a:t>
            </a:r>
            <a:br>
              <a:rPr sz="2000"/>
            </a:br>
            <a:br>
              <a:rPr sz="14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бенок должен быть убежден, что его принимают и положительно воспринимают другие люди;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Он должен быть уверен, что способен к тому или иному типу деятельности;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 него должно быть развито чувство собственной значимости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жно не только то, что собой представляет ребенок,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 и то,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он думает о себе и как себя оценивает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этому до того, как ваш первоклассник переступит школьный порог, постарайтесь сделать все, чтобы его представления о себе уже были устойчиво позитивными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571680" y="857160"/>
            <a:ext cx="8072280" cy="26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поступлением в школу в жизни вашего ребенка появится авторитетный человек. Это учитель. Уважайте мнение первоклассника о своем педагоге;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ние – это нелегкий и ответственный труд. Поступление в школу существенно меняет жизнь ребенка, но не должно лишать ее многообразия, радости и игры. У первоклассника должно оставаться достаточно времени для игровых заняти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4340160" y="2011320"/>
            <a:ext cx="2408400" cy="242748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3"/>
          <a:stretch/>
        </p:blipFill>
        <p:spPr>
          <a:xfrm>
            <a:off x="3497400" y="642960"/>
            <a:ext cx="5146560" cy="392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3214800" y="571680"/>
            <a:ext cx="5429160" cy="22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632523"/>
                </a:solidFill>
                <a:latin typeface="Bookman Old Style"/>
              </a:rPr>
              <a:t>Спасибо!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714240" y="428760"/>
            <a:ext cx="8001000" cy="45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400" spc="-1" strike="noStrike">
                <a:solidFill>
                  <a:srgbClr val="953735"/>
                </a:solidFill>
                <a:latin typeface="Bookman Old Style"/>
              </a:rPr>
              <a:t>Критерии готовности к школе: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e46c0a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Bookman Old Style"/>
              </a:rPr>
              <a:t>физическая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e46c0a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Bookman Old Style"/>
              </a:rPr>
              <a:t>нравственная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e46c0a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Bookman Old Style"/>
              </a:rPr>
              <a:t>психологическая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e46c0a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Bookman Old Style"/>
              </a:rPr>
              <a:t>мыслительна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dur="indefinite" nodeType="clickEffect" fill="hold">
                      <p:stCondLst>
                        <p:cond delay="0"/>
                      </p:stCondLst>
                      <p:childTnLst>
                        <p:par>
                          <p:cTn id="33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285840" y="357120"/>
            <a:ext cx="8572320" cy="50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               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Физическая готовность:</a:t>
            </a:r>
            <a:br>
              <a:rPr sz="28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Согласно санитарно-эпидемиологическим правилам СанПин 2.42.1178-02 «Гигиенические требования к условиям обучения в общеобразовательных  учреждениях»                  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cc3300"/>
                </a:solidFill>
                <a:latin typeface="Bookman Old Style"/>
              </a:rPr>
              <a:t>В первые классы школ принимаются дети седьмого или восьмого года жизни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по усмотрению родителей </a:t>
            </a:r>
            <a:r>
              <a:rPr b="0" lang="ru-RU" sz="2000" spc="-1" strike="noStrike">
                <a:solidFill>
                  <a:srgbClr val="cc3300"/>
                </a:solidFill>
                <a:latin typeface="Bookman Old Style"/>
              </a:rPr>
              <a:t>на основании заключения психолого-медико-педагогической комиссии о готовности ребенка к обучению.</a:t>
            </a:r>
            <a:br>
              <a:rPr sz="2000"/>
            </a:br>
            <a:r>
              <a:rPr b="0" lang="ru-RU" sz="2000" spc="-1" strike="noStrike">
                <a:solidFill>
                  <a:srgbClr val="cc3300"/>
                </a:solidFill>
                <a:latin typeface="Bookman Old Style"/>
              </a:rPr>
              <a:t>Обязательным условием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для приема в школу детей седьмого года жизни является достижение ими </a:t>
            </a:r>
            <a:r>
              <a:rPr b="0" lang="ru-RU" sz="2000" spc="-1" strike="noStrike">
                <a:solidFill>
                  <a:srgbClr val="cc3300"/>
                </a:solidFill>
                <a:latin typeface="Bookman Old Style"/>
              </a:rPr>
              <a:t>к 1 сентября возраста  не менее шести с половиной лет.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Обучение детей, не достигших шести с половиной лет к началу учебного года, проводится в  условиях детского сада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dur="indefinite" nodeType="clickEffect" fill="hold">
                      <p:stCondLst>
                        <p:cond delay="0"/>
                      </p:stCondLst>
                      <p:childTnLst>
                        <p:par>
                          <p:cTn id="42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714240" y="857160"/>
            <a:ext cx="8143920" cy="52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buClr>
                <a:srgbClr val="984807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               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              </a:t>
            </a: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Нравственная готовность:</a:t>
            </a: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 -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умение строить отношения с учителем;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84807"/>
                </a:solidFill>
                <a:latin typeface="Bookman Old Style"/>
              </a:rPr>
              <a:t> -</a:t>
            </a:r>
            <a:r>
              <a:rPr b="1" lang="ru-RU" sz="2000" spc="-1" strike="noStrike">
                <a:solidFill>
                  <a:srgbClr val="984807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умение общаться со сверстниками;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84807"/>
                </a:solidFill>
                <a:latin typeface="Bookman Old Style"/>
              </a:rPr>
              <a:t> -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вежливость, сдержанность, послушание.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84807"/>
                </a:solidFill>
                <a:latin typeface="Bookman Old Style"/>
              </a:rPr>
              <a:t> -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отношение к себе (отсутствие заниженной самооценки)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br>
              <a:rPr sz="2000"/>
            </a:br>
            <a:r>
              <a:rPr b="1" lang="ru-RU" sz="2000" spc="-1" strike="noStrike">
                <a:solidFill>
                  <a:srgbClr val="984807"/>
                </a:solidFill>
                <a:latin typeface="Bookman Old Style"/>
              </a:rPr>
              <a:t> - </a:t>
            </a:r>
            <a:r>
              <a:rPr b="0" lang="ru-RU" sz="2000" spc="-1" strike="noStrike">
                <a:solidFill>
                  <a:srgbClr val="cc3300"/>
                </a:solidFill>
                <a:latin typeface="Bookman Old Style"/>
              </a:rPr>
              <a:t>Нельзя сравнивать достижения своего ребенка с достижениями других детей.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84807"/>
                </a:solidFill>
                <a:latin typeface="Bookman Old Style"/>
              </a:rPr>
              <a:t> - </a:t>
            </a:r>
            <a:r>
              <a:rPr b="0" lang="ru-RU" sz="2000" spc="-1" strike="noStrike">
                <a:solidFill>
                  <a:srgbClr val="cc3300"/>
                </a:solidFill>
                <a:latin typeface="Bookman Old Style"/>
              </a:rPr>
              <a:t>Нельзя принуждать ребенка работать на «оценку».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84807"/>
                </a:solidFill>
                <a:latin typeface="Bookman Old Style"/>
              </a:rPr>
              <a:t> - </a:t>
            </a:r>
            <a:r>
              <a:rPr b="0" lang="ru-RU" sz="2000" spc="-1" strike="noStrike">
                <a:solidFill>
                  <a:srgbClr val="cc3300"/>
                </a:solidFill>
                <a:latin typeface="Bookman Old Style"/>
              </a:rPr>
              <a:t>Надо чаще хвалить своих детей, даже за малейшие успехи.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dur="indefinite" nodeType="clickEffect" fill="hold">
                      <p:stCondLst>
                        <p:cond delay="0"/>
                      </p:stCondLst>
                      <p:childTnLst>
                        <p:par>
                          <p:cTn id="4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571680" y="0"/>
            <a:ext cx="72864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ологическая готовность – это необходимый и достаточный уровень психологического развития для освоения школьной программы в условиях обучения в коллективе сверстников. </a:t>
            </a:r>
            <a:br>
              <a:rPr sz="2000"/>
            </a:b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ологи выделяют 2 аспекта психологической готовности ребенка к школе: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личностная (мотивационная);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нтеллектуальная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ллектуальном плане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ребенка должен быть определенный уровень познавательных интересов, готовность к изменению социальной позиции, желание учиться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дить в школу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ься-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ве  большие разницы. Быть готовым к школе- не значит уметь читать, писать и считать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ть готовым к школе- значит быть готовым всему этому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читься.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568440" y="-1800360"/>
            <a:ext cx="8143920" cy="60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               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              </a:t>
            </a: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Психологическая готовность:</a:t>
            </a:r>
            <a:br>
              <a:rPr sz="2800"/>
            </a:br>
            <a:r>
              <a:rPr b="0" lang="ru-RU" sz="2800" spc="-1" strike="noStrike">
                <a:solidFill>
                  <a:srgbClr val="984807"/>
                </a:solidFill>
                <a:latin typeface="Bookman Old Style"/>
              </a:rPr>
              <a:t> </a:t>
            </a: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-</a:t>
            </a:r>
            <a:r>
              <a:rPr b="0" lang="ru-RU" sz="2800" spc="-1" strike="noStrike">
                <a:solidFill>
                  <a:srgbClr val="984807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это твердое желание учиться, получать знания;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2000" spc="-1" strike="noStrike">
                <a:solidFill>
                  <a:srgbClr val="984807"/>
                </a:solidFill>
                <a:latin typeface="Bookman Old Style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понимание важности и необходимости учения;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2000" spc="-1" strike="noStrike">
                <a:solidFill>
                  <a:srgbClr val="984807"/>
                </a:solidFill>
                <a:latin typeface="Bookman Old Style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проявление выраженного интереса к получению новых знаний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2000" spc="-1" strike="noStrike">
                <a:solidFill>
                  <a:srgbClr val="984807"/>
                </a:solidFill>
                <a:latin typeface="Bookman Old Style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это умение слушать учителя и выполнять его задания (отнюдь не всегда интересные)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2000" spc="-1" strike="noStrike">
                <a:solidFill>
                  <a:srgbClr val="984807"/>
                </a:solidFill>
                <a:latin typeface="Bookman Old Style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умение общаться со сверстниками и взрослыми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(ребенок легко вступает в контакт, не агрессивен, умеет находить выход из проблемных ситуаций общения, признает авторитет взрослых)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lang="ru-RU" sz="2000" spc="-1" strike="noStrike">
                <a:solidFill>
                  <a:srgbClr val="984807"/>
                </a:solidFill>
                <a:latin typeface="Bookman Old Style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это определенный уровень развития мышления, памяти, внимания.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br>
              <a:rPr sz="2000"/>
            </a:b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-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dur="indefinite" nodeType="clickEffect" fill="hold">
                      <p:stCondLst>
                        <p:cond delay="0"/>
                      </p:stCondLst>
                      <p:childTnLst>
                        <p:par>
                          <p:cTn id="5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714240" y="-285840"/>
            <a:ext cx="8143920" cy="65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buClr>
                <a:srgbClr val="984807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                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Развитие школьно-значимых                              психологических функций:</a:t>
            </a:r>
            <a:br>
              <a:rPr sz="2800"/>
            </a:br>
            <a:br>
              <a:rPr sz="2800"/>
            </a:br>
            <a:r>
              <a:rPr b="0" lang="ru-RU" sz="2000" spc="-1" strike="noStrike">
                <a:solidFill>
                  <a:srgbClr val="984807"/>
                </a:solidFill>
                <a:latin typeface="Bookman Old Style"/>
              </a:rPr>
              <a:t> </a:t>
            </a:r>
            <a:r>
              <a:rPr b="0" lang="ru-RU" sz="2000" spc="-1" strike="noStrike" u="sng">
                <a:solidFill>
                  <a:srgbClr val="cc3300"/>
                </a:solidFill>
                <a:uFillTx/>
                <a:latin typeface="Bookman Old Style"/>
              </a:rPr>
              <a:t>развитие мелких мышц руки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(рука развита хорошо, ребенок уверенно владеет карандашом, ножницами);</a:t>
            </a:r>
            <a:br>
              <a:rPr sz="2000"/>
            </a:br>
            <a:r>
              <a:rPr b="0" lang="ru-RU" sz="2000" spc="-1" strike="noStrike" u="sng">
                <a:solidFill>
                  <a:srgbClr val="cc3300"/>
                </a:solidFill>
                <a:uFillTx/>
                <a:latin typeface="Bookman Old Style"/>
              </a:rPr>
              <a:t>пространственная организация, координация движений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(умение правильно определять выше - ниже, вперед - назад, слева - справа);</a:t>
            </a:r>
            <a:br>
              <a:rPr sz="2000"/>
            </a:br>
            <a:r>
              <a:rPr b="0" lang="ru-RU" sz="2000" spc="-1" strike="noStrike" u="sng">
                <a:solidFill>
                  <a:srgbClr val="cc3300"/>
                </a:solidFill>
                <a:uFillTx/>
                <a:latin typeface="Bookman Old Style"/>
              </a:rPr>
              <a:t>координация в системе глаз - рука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(ребенок может правильно перенести в тетрадь простейший графический образ - узор, фигуру - зрительно воспринимаемый на расстоянии (например, из книг);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br>
              <a:rPr sz="2000"/>
            </a:b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-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285840" y="1500120"/>
            <a:ext cx="8572320" cy="41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               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         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            </a:t>
            </a: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Развитие школьно-значимых                                               психологических функций:</a:t>
            </a:r>
            <a:br>
              <a:rPr sz="2800"/>
            </a:br>
            <a:r>
              <a:rPr b="0" lang="ru-RU" sz="2000" spc="-1" strike="noStrike">
                <a:solidFill>
                  <a:srgbClr val="984807"/>
                </a:solidFill>
                <a:latin typeface="Bookman Old Style"/>
              </a:rPr>
              <a:t> </a:t>
            </a:r>
            <a:r>
              <a:rPr b="0" lang="ru-RU" sz="2000" spc="-1" strike="noStrike" u="sng">
                <a:solidFill>
                  <a:srgbClr val="cc3300"/>
                </a:solidFill>
                <a:uFillTx/>
                <a:latin typeface="Bookman Old Style"/>
              </a:rPr>
              <a:t>развитие логического мышления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(способность находить сходства и различия разных предметов при сравнении, умение правильно объединять предметы в группы по общим существенным признакам);</a:t>
            </a:r>
            <a:br>
              <a:rPr sz="2000"/>
            </a:br>
            <a:r>
              <a:rPr b="0" lang="ru-RU" sz="2000" spc="-1" strike="noStrike" u="sng">
                <a:solidFill>
                  <a:srgbClr val="cc3300"/>
                </a:solidFill>
                <a:uFillTx/>
                <a:latin typeface="Bookman Old Style"/>
              </a:rPr>
              <a:t>развитие произвольного внимания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(способность удерживать внимание на выполняемой работе в течение 15-20 минут);</a:t>
            </a:r>
            <a:br>
              <a:rPr sz="2000"/>
            </a:br>
            <a:r>
              <a:rPr b="0" lang="ru-RU" sz="2000" spc="-1" strike="noStrike" u="sng">
                <a:solidFill>
                  <a:srgbClr val="cc3300"/>
                </a:solidFill>
                <a:uFillTx/>
                <a:latin typeface="Bookman Old Style"/>
              </a:rPr>
              <a:t>развитие произвольной памяти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(способность к опосредованному запоминанию: связывать запоминаемый материал с конкретным символом /слово - картинка либо слово - ситуация/).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5T19:19:14Z</dcterms:created>
  <dc:creator>сергей</dc:creator>
  <dc:description>Корпорация Майкрософт</dc:description>
  <cp:keywords>Фотоальбом</cp:keywords>
  <dc:language>en-US</dc:language>
  <cp:lastModifiedBy/>
  <dcterms:modified xsi:type="dcterms:W3CDTF">2019-11-22T12:04:41Z</dcterms:modified>
  <cp:revision>50</cp:revision>
  <dc:subject>Фотоальбом</dc:subject>
  <dc:title>Ваш ребёнок идёт в школу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2854091049</vt:lpwstr>
  </property>
</Properties>
</file>