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85A08-5A84-4BB8-88F9-0CB0405170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183E-8347-4666-9DC3-0180FBF69A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89E56-573A-4012-8D3D-91C9767A6A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3163-C478-4B7C-971B-019A2D583C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8C0EB-E7A1-4623-821D-49336FFA25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1D51F-3522-4A6B-A6B9-7F4756AA5A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6D1C5-C4D3-4D83-BD26-23F7B315D5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5942-D0D3-48D8-BCDE-E3A866A1A5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375FB-D3F6-4A4B-9474-BDA702D838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81E0-6159-427E-9FF8-6C6FC199E9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655D9-C5CA-4233-B768-9497D9FC70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0028A-5D71-48D7-8CD3-5313387D5B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A94BE-0E69-48D7-9B7D-5783D11817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40B6A-9329-4EEA-9059-B53275E5FD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EBCB-850E-4DDC-8DF5-CDA9A8F812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08E60-C794-4B35-801A-28C935550D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A86A-6DCE-42B3-BDE3-9949D75D07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633D-B66C-4904-AD8E-A9568A2516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DCA7E-7F6A-45AC-BE86-3D8F6AE684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A1349-EDA4-4441-B5AF-DBAD4B8F3E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F756-78D4-44B5-82CE-A40D3F048D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8762B-3CEE-40CD-AB13-572A5C1B26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4366F-0097-4385-824D-1B1431B62B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0217-311D-4C31-9725-87CC0E842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ABE4-2677-4392-92E0-3A90F2CBC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5F1A-FB86-4C11-B22E-5A0A22215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7871-C6BB-4554-8812-52500867D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FC04-9A93-46B0-BE77-32C48967A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4198-F397-424B-80AE-C484FF8047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D43A-00E3-4A8F-8EA1-DBBB903DCE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F3D8-6A98-46C2-B688-30FEF330B5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6EBC-CF1F-4007-9385-5D38AB785D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C4FD-7C5C-49ED-B596-84DBF77B43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5B15-2810-4F7D-A946-BB463A6A3B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EA64-15F6-4C12-84D1-DA8974361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5B4D6-0A29-4728-8A75-279527EE471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94000" y="476280"/>
            <a:ext cx="5429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Как помочь ребенку адаптироваться  к школ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86080" y="2997360"/>
            <a:ext cx="542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дгото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едагог-псих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валь М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231768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5840" y="1285920"/>
            <a:ext cx="857232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5840" y="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 развивать речь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учить писать, а создавать условия дл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елкой моторики ру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85840" y="500040"/>
            <a:ext cx="8572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л слышать учителя, обращайте внимание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5840" y="0"/>
            <a:ext cx="857232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ребенок пошел в школу. И непросто ребенок, 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, первоклассни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ца, со своими особенностями восприятия, мышления, эмоц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организацией мозга, с разными установками, типами характера и  поведения, разные по своему биологическому возрасту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 труднее адаптируется к новой ситуации? Обычно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вочки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общительны, контактны, легче перестраивают свои отношения, подстраиваются под ситуацию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любом изменении привычной жизни страдают больше. Мальчики и девочки 6-7лет готовы  к школьному обучению неодинаково. Различия заключаются в несколько лучшей интеллектуальной и эмоционально-личностной готовно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ек, в силу чего они, оказавшись в начальной школе, имею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яд преимуществ.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55680" y="-720720"/>
            <a:ext cx="8572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ая успешность мальчиков и девочек во многом зависит от врожденный особенностей функциональной организации мозга. Считается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ьч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ьше созрев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е полушар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девочек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.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елом считаются более «речевыми», они раньше начинают говорить, а значит, и все психические функции, которые появляются после возникновения, речи, развиваются уже на этом фоне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астую начинают говорить несколько позже, и до определенного возраста их психическое развитие проходит без прессинга собственной речи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85840" y="214200"/>
            <a:ext cx="8286840" cy="80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значительный вклад в школьную успешность первоклассников привнося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-типологические особенност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и, всем хорошо известные типы темперамента. Напомним, что их всего четыре: холерик, сангвиник, флегматик, и меланхолик. Так вот, больше всего проблем с получением высоких оценок испыт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-меланхол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-хол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чики-меланхол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ранимы, впечатлительны и медлительны. Им не хватает бойкости, активности, стремления отстаивать себя и свою позицию. В случае неудач они могут и всплакнуть.</a:t>
            </a:r>
            <a:br>
              <a:rPr sz="2000"/>
            </a:b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вочки-хол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оборот, слишком активны, самостоятельны, вспыльчивы, беспокойны и непоседливы. В конфликтных ситуациях они отстаивают себя, подчас с применением рукоприкладства, что совсем не радует окружающих. Да и высидеть в течение 40 минут на одном мес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такой девочки проблематичн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«удачным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обучения в начальной школе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гвинический тип темперамент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для мальчиков. Дети данного типа в меру активные и живые, они весьма общительны, позитивны, умеренно агрессивны и тревожны.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0"/>
            <a:ext cx="721512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казывается, какие они разные, мальчики и девочки, первоклассники и первоклассницы. Как же им трудно, когда учитель в школе и родители дома предлагают им одинаковые пути к зна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сами они еще слишком малы и слишком плохо знают самих себя, чтобы выбирать и протаптывать собственные тропинки, познавать мир другим способом, мыслить иначе, чем предлагает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200" y="357120"/>
            <a:ext cx="864396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   зна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   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0"/>
            <a:ext cx="864396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кружающем мире: 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28800" y="357120"/>
            <a:ext cx="75009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 подтвердить значимость его нового положения и деятель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йте с ребенком те правила и нормы, с которыми он встретится в шко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пришел в школу учиться. Когда человек учится, у него может не сразу получаться, это естественно. Ребенок имеет право на ошибк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ставьте вместе с ребенком распорядок дня, следите за его соблюдением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ервоклассника в его желании добиться успех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32000" y="333360"/>
            <a:ext cx="6858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адаптироваться в новой среде, преодолеть трудности, справиться с нагрузками ребенку необходимо иметь высокую самооценку:</a:t>
            </a:r>
            <a:br>
              <a:rPr sz="2000"/>
            </a:b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ок должен быть убежден, что его принимают и положительно воспринимают другие люд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должен быть уверен, что способен к тому или иному типу деятель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его должно быть развито чувство собственной значим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не только то, что собой представляет ребенок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то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думает о себе и как себя оценива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о того, как ваш первоклассник переступит школьный порог, постарайтесь сделать все, чтобы его представления о себе уже были устойчиво позитивны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71680" y="857160"/>
            <a:ext cx="8072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ступлением в школу в жизни вашего ребенка появится авторитетный человек. Это учитель. Уважайте мнение первоклассника о своем педагоге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– это нелегкий и ответственный труд. Поступление в школу существенно меняет жизнь ребенка, но не должно лишать ее многообразия, радости и игры. У первоклассника должно оставаться достаточно времени для игровых заня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497400" y="642960"/>
            <a:ext cx="514656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14800" y="571680"/>
            <a:ext cx="5429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пасибо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nodeType="clickEffect" fill="hold">
                      <p:stCondLst>
                        <p:cond delay="0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85840" y="357120"/>
            <a:ext cx="8572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0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14240" y="857160"/>
            <a:ext cx="8143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nodeType="clickEffect" fill="hold">
                      <p:stCondLst>
                        <p:cond delay="0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71680" y="0"/>
            <a:ext cx="7286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– это необходимый и достаточный уровень психологического развития для освоения школьной программы в условиях обучения в коллективе сверстников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 выделяют 2 аспекта психологической готовности ребенка к школе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ая (мотивационная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ллектуальн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ом план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должен быть определенный уровень познавательных интересов, готовность к изменению социальной позиции, желание учить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ь в школ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  большие разницы. Быть готовым к школе- не значит уметь читать, писать и счит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- значит быть готовым всему 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68440" y="-1800360"/>
            <a:ext cx="81439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14240" y="-285840"/>
            <a:ext cx="8143920" cy="65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мелких мышц рук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85840" y="1500120"/>
            <a:ext cx="85723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логического мышлен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произвольной памят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/>
  <dcterms:modified xsi:type="dcterms:W3CDTF">2019-11-22T12:04:41Z</dcterms:modified>
  <cp:revision>50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