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move the slid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0C65A-3F01-4EBD-B165-F7E611614E9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B66C3-6DEF-410D-A3F8-32F8D71786A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4C65D-35C9-4CD2-9BF6-EF2945954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999C9-4587-468D-9DAE-93529DA8F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9A7AC-8B63-4461-944A-4D77FE481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F1D55-1F64-4A08-B58E-A541F5A12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6A221-E00A-45FC-812C-17B6D3A33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976C8-B060-441F-AC33-D7B3F204D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8FB4B-4024-4969-94A8-084B2D879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559BD-CD23-4911-9922-39D3FFECA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7DBFE-527A-4101-8C2B-55CC67991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DBB48-CD60-4ECC-A679-E51FCA0E6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A405E-20A2-4222-BAF1-F63639F0D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DAF59-A68B-487E-A819-2EF3FCBCB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160CE-4A25-4008-B681-9FB56740F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48319-9478-4035-8230-0F7EC0BBA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E096B-9E3F-4235-81E7-BEDF5ADD9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24C6D-D52E-4B34-BB50-3CD746D74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26C79-6CF8-4BCE-B9D2-9B4713154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FC69C-4283-4743-8BB8-4EA793020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924B3-97F5-49E4-837F-5FC1A94E3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D8D19-3540-4E1B-9BFE-208761756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C75FB-415D-478F-8B08-762B54C56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00AC5-8D7D-4E9A-9D5D-A00DC7156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BDD1C-1227-4063-A874-2A40C15CA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016C9-A2F4-47B4-9B08-7B7568ADF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8081F-8BC5-406C-A9B7-7BDB4EF856B5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232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23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23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3760" cy="1123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2320" cy="1123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23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232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232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232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232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232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FF299-CE37-40F6-9569-84D9829883C7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0040" y="571320"/>
            <a:ext cx="8229600" cy="157140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Пожарная безопасность </a:t>
            </a:r>
            <a:br>
              <a:rPr sz="4800"/>
            </a:b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57" name="Picture 5" descr="潯_x0003_ঌঌԲ膠ㄇ΀芕"/>
          <p:cNvPicPr/>
          <p:nvPr/>
        </p:nvPicPr>
        <p:blipFill>
          <a:blip r:embed="rId1"/>
          <a:stretch/>
        </p:blipFill>
        <p:spPr>
          <a:xfrm>
            <a:off x="2643120" y="2214720"/>
            <a:ext cx="3359160" cy="464328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ff0066"/>
                </a:solidFill>
                <a:latin typeface="Arial"/>
              </a:rPr>
              <a:t>Правило №4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76" name="Picture 4" descr="эвакуируйтесь"/>
          <p:cNvPicPr/>
          <p:nvPr/>
        </p:nvPicPr>
        <p:blipFill>
          <a:blip r:embed="rId1"/>
          <a:stretch/>
        </p:blipFill>
        <p:spPr>
          <a:xfrm>
            <a:off x="395280" y="1628640"/>
            <a:ext cx="5184720" cy="46497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77" name="Text Box 5"/>
          <p:cNvSpPr/>
          <p:nvPr/>
        </p:nvSpPr>
        <p:spPr>
          <a:xfrm>
            <a:off x="5796000" y="2781360"/>
            <a:ext cx="30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ВАКУИРУЙТЕСЬ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ff0066"/>
                </a:solidFill>
                <a:latin typeface="Arial"/>
              </a:rPr>
              <a:t>Правило №5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785920" y="1719000"/>
            <a:ext cx="3357720" cy="47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ЭТО НЕ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СТАВЛЯЕТ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АСНОСТИ,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ВОНИТЕ В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ЖАРНУЮ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ХРАНУ ИЗ ШКОЛЫ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 ИЗ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ИЖАЙШЕГО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СОФОНА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БЕРИТЕ 01, 121, И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ТКО СООБЩИТЕ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ДРЕС ШКОЛЫ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4" descr="позвоните"/>
          <p:cNvPicPr/>
          <p:nvPr/>
        </p:nvPicPr>
        <p:blipFill>
          <a:blip r:embed="rId1"/>
          <a:stretch/>
        </p:blipFill>
        <p:spPr>
          <a:xfrm>
            <a:off x="755640" y="1628640"/>
            <a:ext cx="4897440" cy="48960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p:transition spd="slow">
    <p:newsflash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94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ff0066"/>
                </a:solidFill>
                <a:latin typeface="Arial"/>
              </a:rPr>
              <a:t>Правило №6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719360"/>
            <a:ext cx="8472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НЕ ВХОДИТЕ НАЗАД –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Ы МОЖЕТЕ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ГОРЕТЬ ПО 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УТИ!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4" descr="潯_x0003_ঌঌԲ膠ㄇ΀芕"/>
          <p:cNvPicPr/>
          <p:nvPr/>
        </p:nvPicPr>
        <p:blipFill>
          <a:blip r:embed="rId1"/>
          <a:stretch/>
        </p:blipFill>
        <p:spPr>
          <a:xfrm>
            <a:off x="214200" y="2571840"/>
            <a:ext cx="3214800" cy="395928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4" descr="9606E9FA"/>
          <p:cNvPicPr/>
          <p:nvPr/>
        </p:nvPicPr>
        <p:blipFill>
          <a:blip r:embed="rId1"/>
          <a:srcRect l="0" t="15915" r="55636" b="11648"/>
          <a:stretch/>
        </p:blipFill>
        <p:spPr>
          <a:xfrm>
            <a:off x="339840" y="214200"/>
            <a:ext cx="3784320" cy="64296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185" name="Picture 5" descr="9606E9FA"/>
          <p:cNvPicPr/>
          <p:nvPr/>
        </p:nvPicPr>
        <p:blipFill>
          <a:blip r:embed="rId2"/>
          <a:srcRect l="44368" t="28973" r="7471" b="48208"/>
          <a:stretch/>
        </p:blipFill>
        <p:spPr>
          <a:xfrm>
            <a:off x="4286160" y="3714840"/>
            <a:ext cx="4649760" cy="292896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186" name="Picture 6" descr="潯_x0003_ঌঌԲ膠ㄇ΀芕"/>
          <p:cNvPicPr/>
          <p:nvPr/>
        </p:nvPicPr>
        <p:blipFill>
          <a:blip r:embed="rId3"/>
          <a:stretch/>
        </p:blipFill>
        <p:spPr>
          <a:xfrm>
            <a:off x="5072040" y="214200"/>
            <a:ext cx="2714760" cy="334332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4" descr="9606E9FA"/>
          <p:cNvPicPr/>
          <p:nvPr/>
        </p:nvPicPr>
        <p:blipFill>
          <a:blip r:embed="rId1"/>
          <a:srcRect l="44368" t="51817" r="7471" b="1743"/>
          <a:stretch/>
        </p:blipFill>
        <p:spPr>
          <a:xfrm>
            <a:off x="357120" y="357120"/>
            <a:ext cx="4097520" cy="61848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188" name="Picture 5" descr="2B6FB418"/>
          <p:cNvPicPr/>
          <p:nvPr/>
        </p:nvPicPr>
        <p:blipFill>
          <a:blip r:embed="rId2"/>
          <a:srcRect l="3994" t="2124" r="54839" b="70304"/>
          <a:stretch/>
        </p:blipFill>
        <p:spPr>
          <a:xfrm>
            <a:off x="4643280" y="2806560"/>
            <a:ext cx="4286520" cy="37134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189" name="Picture 6" descr="潯_x0003_ঌঌԲ膠ㄇ΀芕"/>
          <p:cNvPicPr/>
          <p:nvPr/>
        </p:nvPicPr>
        <p:blipFill>
          <a:blip r:embed="rId3"/>
          <a:stretch/>
        </p:blipFill>
        <p:spPr>
          <a:xfrm>
            <a:off x="5710320" y="260280"/>
            <a:ext cx="1935000" cy="238284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4" descr="2B6FB418"/>
          <p:cNvPicPr/>
          <p:nvPr/>
        </p:nvPicPr>
        <p:blipFill>
          <a:blip r:embed="rId1">
            <a:lum contrast="18000"/>
          </a:blip>
          <a:srcRect l="3979" t="29015" r="52879" b="50715"/>
          <a:stretch/>
        </p:blipFill>
        <p:spPr>
          <a:xfrm>
            <a:off x="214200" y="285840"/>
            <a:ext cx="3382920" cy="30240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191" name="Picture 5" descr="2B6FB418"/>
          <p:cNvPicPr/>
          <p:nvPr/>
        </p:nvPicPr>
        <p:blipFill>
          <a:blip r:embed="rId2"/>
          <a:srcRect l="47124" t="2854" r="9593" b="50739"/>
          <a:stretch/>
        </p:blipFill>
        <p:spPr>
          <a:xfrm>
            <a:off x="3862440" y="333360"/>
            <a:ext cx="4054320" cy="63104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192" name="Picture 6" descr="潯_x0003_ঌঌԲ膠ㄇ΀芕"/>
          <p:cNvPicPr/>
          <p:nvPr/>
        </p:nvPicPr>
        <p:blipFill>
          <a:blip r:embed="rId3"/>
          <a:stretch/>
        </p:blipFill>
        <p:spPr>
          <a:xfrm>
            <a:off x="571680" y="3500280"/>
            <a:ext cx="2571480" cy="316728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-360" y="83664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РОССИЙСКАЯ ФЕДЕРАЦИЯ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ФЕДЕРАЛЬНЫЙ ЗАКОН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О ПОЖАРНОЙ БЕЗОПАСНОСТИ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                                                          Принят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                                           Государственной Думой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                                            18 ноября 1994 года</a:t>
            </a:r>
            <a:endParaRPr b="1" lang="en-US" sz="2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0" y="1719360"/>
            <a:ext cx="91440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чение мерам пожарной безопасности работни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й проводится администраци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обственниками) этих организаций в соответствии 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рмативными документами по пожарной безопас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специальным программам, утвержденны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ответствующими руководителями федеральн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ов исполнительной власти и согласованными 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ядке, установленном федеральным орган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нительной власти, уполномоченным на реш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 в области пожарной безопас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в ред. Федерального закона от 22.08.2004 N 122-ФЗ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 algn="just">
              <a:lnSpc>
                <a:spcPct val="100000"/>
              </a:lnSpc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8"/>
          <p:cNvSpPr/>
          <p:nvPr/>
        </p:nvSpPr>
        <p:spPr>
          <a:xfrm>
            <a:off x="0" y="260280"/>
            <a:ext cx="9144000" cy="643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Статья 34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Права и обязанности граждан в области пожарной безопас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Граждане обязан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блюдать требования пожарной безопасност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еть в помещениях и строениях, находящихся в их собственности (пользовании), первичные средства тушения пожаров и противопожарный инвентарь в соответствии с правилами пожарной безопасности и перечнями, утвержденными соответствующими органами местного самоуправл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обнаружении пожаров немедленно уведомлять о них пожарную охран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 прибытия пожарной охраны принимать посильные меры по спасению людей, имущества и тушению пожар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азывать содействие пожарной охране при тушении пожар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ять предписания, постановления и иные законные требования должностных лиц государственного пожарного надзор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в ред. Федерального закона от 22.08.2004 N 122-ФЗ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WordArt 5"/>
          <p:cNvSpPr txBox="1"/>
          <p:nvPr/>
        </p:nvSpPr>
        <p:spPr>
          <a:xfrm>
            <a:off x="2071800" y="0"/>
            <a:ext cx="4228920" cy="39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62" name="Text Box 14"/>
          <p:cNvSpPr/>
          <p:nvPr/>
        </p:nvSpPr>
        <p:spPr>
          <a:xfrm>
            <a:off x="0" y="0"/>
            <a:ext cx="8215200" cy="62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ЧТО ДЕЛАТЬ В СЛУЧАЕ ПОЖАРА В ШКОЛ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 как в школе находится много людей, эвакуация займ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ьше времени, чем эвакуация из квартиры. Поэтому пр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наружении пожара в школе следует придерживать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гой последовательности принимаемых ме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ое, что надо сделать - это закрыть дверь того помещения, где горит огонь. Если вы увидите горящее помещение через окно, не пытайтесь войти в это помещение. Открытая дверь не только выпустит дым и помешает эвакуации; внезапное поступление дополнительного воздуха может привести к распространению пожара с большей скорость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едует немедленно поднять тревогу, громко крича о пожар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общите о пожаре находящемуся поблизости члену персонала, который примет меры по немедленной эвакуации всех людей из здания школ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обязаны явиться к заранее согласованному сборному пункту, где должна быть произведена перекличка для того, чтобы выяснить, все ли эвакуировались из школ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 тревоги нужно как можно скорее вызвать пожарную охран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214200" y="404640"/>
            <a:ext cx="7715520" cy="645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 прибытии пожарной охраны в первую очередь нужно знать следующее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аком помещении пожар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ли эвакуирован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рядок эвакуации при пожаре в школе: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вог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зов пожарной охран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вакуац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бор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кличк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РЕВОГ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юбой человек (ученик или член персонала) пр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наружении пожара должен без колебаний поднять тревогу 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жаре. </a:t>
            </a:r>
            <a:br>
              <a:rPr sz="2000"/>
            </a:br>
            <a:r>
              <a:rPr b="1" lang="ru-RU" sz="2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ВЫЗОВ ПОЖАРНОЙ ОХРАНЫ.</a:t>
            </a:r>
            <a:r>
              <a:rPr b="0" lang="ru-RU" sz="2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любом возникновении пожара, даже самого небольшого, или же 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озрении на пожар нужно немедленно сообщить пожарной охра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иболее быстрым способом. </a:t>
            </a:r>
            <a:br>
              <a:rPr sz="2000"/>
            </a:br>
            <a:br>
              <a:rPr sz="17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324000" y="333360"/>
            <a:ext cx="763272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ЭВАКУАЦИЯ.</a:t>
            </a:r>
            <a:r>
              <a:rPr b="0" lang="ru-RU" sz="2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br>
              <a:rPr sz="21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лышав тревогу, ученики должны встать у своих парт и по указанию учителя, ответственного за класс, покинуть классную комнату по одному и идти к сборному пункту. Классы должны идти ровным, размеренным шагом. Необходимо закрыть дверь классной комнаты и все остальные двери по пути эвакуации, которыми во время эвакуации больше никто не будет пользоваться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БОР.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сто сбора должно быть заранее согласовано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дя на место сбора, каждый отдельный класс или группа людей должны занять определенное место и находиться там, не расходясь. </a:t>
            </a:r>
            <a:br>
              <a:rPr sz="2100"/>
            </a:b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ЕРЕКЛИЧКА.</a:t>
            </a:r>
            <a:r>
              <a:rPr b="0" lang="ru-RU" sz="2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br>
              <a:rPr sz="21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медленно по прибытии классов на место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бора должна быть проведена перекличка. </a:t>
            </a:r>
            <a:br>
              <a:rPr sz="2100"/>
            </a:br>
            <a:br>
              <a:rPr sz="2100"/>
            </a:b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734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авила поведения при пожаре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66" name="Picture 6" descr="закройте все двери"/>
          <p:cNvPicPr/>
          <p:nvPr/>
        </p:nvPicPr>
        <p:blipFill>
          <a:blip r:embed="rId1"/>
          <a:stretch/>
        </p:blipFill>
        <p:spPr>
          <a:xfrm>
            <a:off x="395280" y="1484280"/>
            <a:ext cx="4897440" cy="48974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67" name="Text Box 7"/>
          <p:cNvSpPr/>
          <p:nvPr/>
        </p:nvSpPr>
        <p:spPr>
          <a:xfrm>
            <a:off x="5580000" y="1357200"/>
            <a:ext cx="3240000" cy="54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РОЙТЕ ВС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ЕРИ ПО ПУТИ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ИМ В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ГРАДИ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РОГУ ОГН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ЗАКРЫТАЯ ДВЕР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ЕРЖИВА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ЖАР НА 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НУТ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8"/>
          <p:cNvSpPr/>
          <p:nvPr/>
        </p:nvSpPr>
        <p:spPr>
          <a:xfrm>
            <a:off x="5500800" y="1071720"/>
            <a:ext cx="32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Правило №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94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ff0066"/>
                </a:solidFill>
                <a:latin typeface="Arial"/>
              </a:rPr>
              <a:t>Правило №2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70" name="Picture 4" descr="предупредите всех"/>
          <p:cNvPicPr/>
          <p:nvPr/>
        </p:nvPicPr>
        <p:blipFill>
          <a:blip r:embed="rId1"/>
          <a:stretch/>
        </p:blipFill>
        <p:spPr>
          <a:xfrm>
            <a:off x="611280" y="1628640"/>
            <a:ext cx="4968720" cy="49690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71" name="Text Box 5"/>
          <p:cNvSpPr/>
          <p:nvPr/>
        </p:nvSpPr>
        <p:spPr>
          <a:xfrm>
            <a:off x="5796000" y="1844640"/>
            <a:ext cx="30621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БЕГАЯ О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ЖАР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УПРЕДИТЕ О НЕМ  ВСЕХ. (НИЧЕ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ИЩИТ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ХОДИТЕ СКОРЕ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 ОГНЯ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91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ff0066"/>
                </a:solidFill>
                <a:latin typeface="Arial"/>
              </a:rPr>
              <a:t>Правило №3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73" name="Picture 4" descr="сообщите учителю"/>
          <p:cNvPicPr/>
          <p:nvPr/>
        </p:nvPicPr>
        <p:blipFill>
          <a:blip r:embed="rId1"/>
          <a:stretch/>
        </p:blipFill>
        <p:spPr>
          <a:xfrm>
            <a:off x="468360" y="1628640"/>
            <a:ext cx="4751280" cy="47516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74" name="Text Box 5"/>
          <p:cNvSpPr/>
          <p:nvPr/>
        </p:nvSpPr>
        <p:spPr>
          <a:xfrm>
            <a:off x="5651640" y="2133720"/>
            <a:ext cx="2952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ОБЩИТЕ УЧИТЕЛЮ О ПОЖАР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3T12:13:22Z</dcterms:created>
  <dc:creator>Я</dc:creator>
  <dc:description/>
  <dc:language>en-US</dc:language>
  <cp:lastModifiedBy>admin</cp:lastModifiedBy>
  <dcterms:modified xsi:type="dcterms:W3CDTF">2017-08-01T03:23:32Z</dcterms:modified>
  <cp:revision>11</cp:revision>
  <dc:subject/>
  <dc:title>Пожарная безопасность  в школе </dc:title>
</cp:coreProperties>
</file>