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EA1-633D-48BE-B845-DF1F7216B8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AFCE-7A72-4B2E-A2DE-65262123B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4C6-0EE0-4895-AB5E-C3865C7D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7D4-2DD5-435A-A8C4-518274E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C04-A791-432F-A16D-EB3BB319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D79-FEE3-468D-841B-5FE9EAEA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F425-1269-4203-969D-CD5A2D2D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02A4-ED37-49EB-A4C9-F0051B1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917-275E-418C-8B45-05AC086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A64-2192-487F-AA07-1B481FF6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811-5C08-4048-9803-F3D07DB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EB6-2D7E-4834-A69F-2F0CE266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74F-892D-44DA-B35F-03E1D00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D6B-AAC2-455C-988F-83C0861D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6DF-786B-4126-85D2-C675BED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C4A-2F36-4B6C-8476-FCE65C2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EE3D-536D-481E-84AC-82FC6867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AE2-6E2B-4F00-A1BF-DB56BFF5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32F3-AF93-4E02-A3F4-91E9D4E2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B8B-5A1B-49E2-88B8-F0C86CE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E62-C8B8-4E2A-A235-4A00FF74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DD7-829A-4797-87F2-2CDD585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F3A-BBD3-41FD-90CD-EF1CBE8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D72-DE50-4396-8EAB-98A8376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22D-975D-4456-96A1-9512FA4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34B-9DC4-452B-9CD3-DD982D4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F00-99BB-4890-8B8C-A472E0BCDE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83A-1316-4DE5-94AE-59F270DC57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57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жарная безопасность 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5" descr="潯_x0003_ঌঌԲ膠ㄇ΀芕"/>
          <p:cNvPicPr/>
          <p:nvPr/>
        </p:nvPicPr>
        <p:blipFill>
          <a:blip r:embed="rId1"/>
          <a:stretch/>
        </p:blipFill>
        <p:spPr>
          <a:xfrm>
            <a:off x="2643120" y="2214720"/>
            <a:ext cx="33591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4" descr="эвакуируйтесь"/>
          <p:cNvPicPr/>
          <p:nvPr/>
        </p:nvPicPr>
        <p:blipFill>
          <a:blip r:embed="rId1"/>
          <a:stretch/>
        </p:blipFill>
        <p:spPr>
          <a:xfrm>
            <a:off x="395280" y="1628640"/>
            <a:ext cx="5184720" cy="46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Text Box 5"/>
          <p:cNvSpPr/>
          <p:nvPr/>
        </p:nvSpPr>
        <p:spPr>
          <a:xfrm>
            <a:off x="5796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УЙ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85920" y="1719000"/>
            <a:ext cx="335772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НИТЕ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У ИЗ ШКОЛ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И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Е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ОФОН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ЕРИТЕ 01, 121, 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ООБЩИ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ШКОЛ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позвоните"/>
          <p:cNvPicPr/>
          <p:nvPr/>
        </p:nvPicPr>
        <p:blipFill>
          <a:blip r:embed="rId1"/>
          <a:stretch/>
        </p:blipFill>
        <p:spPr>
          <a:xfrm>
            <a:off x="755640" y="1628640"/>
            <a:ext cx="4897440" cy="489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72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ВХОДИТЕ НАЗА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 МОЖЕ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ГОРЕТЬ ПО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潯_x0003_ঌঌԲ膠ㄇ΀芕"/>
          <p:cNvPicPr/>
          <p:nvPr/>
        </p:nvPicPr>
        <p:blipFill>
          <a:blip r:embed="rId1"/>
          <a:stretch/>
        </p:blipFill>
        <p:spPr>
          <a:xfrm>
            <a:off x="214200" y="2571840"/>
            <a:ext cx="321480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9606E9FA"/>
          <p:cNvPicPr/>
          <p:nvPr/>
        </p:nvPicPr>
        <p:blipFill>
          <a:blip r:embed="rId1"/>
          <a:srcRect l="0" t="15915" r="55636" b="11648"/>
          <a:stretch/>
        </p:blipFill>
        <p:spPr>
          <a:xfrm>
            <a:off x="339840" y="214200"/>
            <a:ext cx="3784320" cy="642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5" name="Picture 5" descr="9606E9FA"/>
          <p:cNvPicPr/>
          <p:nvPr/>
        </p:nvPicPr>
        <p:blipFill>
          <a:blip r:embed="rId2"/>
          <a:srcRect l="44368" t="28973" r="7471" b="48208"/>
          <a:stretch/>
        </p:blipFill>
        <p:spPr>
          <a:xfrm>
            <a:off x="4286160" y="3714840"/>
            <a:ext cx="4649760" cy="292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6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072040" y="214200"/>
            <a:ext cx="271476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9606E9FA"/>
          <p:cNvPicPr/>
          <p:nvPr/>
        </p:nvPicPr>
        <p:blipFill>
          <a:blip r:embed="rId1"/>
          <a:srcRect l="44368" t="51817" r="7471" b="1743"/>
          <a:stretch/>
        </p:blipFill>
        <p:spPr>
          <a:xfrm>
            <a:off x="357120" y="357120"/>
            <a:ext cx="4097520" cy="618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8" name="Picture 5" descr="2B6FB418"/>
          <p:cNvPicPr/>
          <p:nvPr/>
        </p:nvPicPr>
        <p:blipFill>
          <a:blip r:embed="rId2"/>
          <a:srcRect l="3994" t="2124" r="54839" b="70304"/>
          <a:stretch/>
        </p:blipFill>
        <p:spPr>
          <a:xfrm>
            <a:off x="4643280" y="2806560"/>
            <a:ext cx="4286520" cy="371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9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710320" y="260280"/>
            <a:ext cx="193500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B6FB418"/>
          <p:cNvPicPr/>
          <p:nvPr/>
        </p:nvPicPr>
        <p:blipFill>
          <a:blip r:embed="rId1">
            <a:lum contrast="18000"/>
          </a:blip>
          <a:srcRect l="3979" t="29015" r="52879" b="50715"/>
          <a:stretch/>
        </p:blipFill>
        <p:spPr>
          <a:xfrm>
            <a:off x="214200" y="285840"/>
            <a:ext cx="338292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Picture 5" descr="2B6FB418"/>
          <p:cNvPicPr/>
          <p:nvPr/>
        </p:nvPicPr>
        <p:blipFill>
          <a:blip r:embed="rId2"/>
          <a:srcRect l="47124" t="2854" r="9593" b="50739"/>
          <a:stretch/>
        </p:blipFill>
        <p:spPr>
          <a:xfrm>
            <a:off x="3862440" y="333360"/>
            <a:ext cx="4054320" cy="631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2" name="Picture 6" descr="潯_x0003_ঌঌԲ膠ㄇ΀芕"/>
          <p:cNvPicPr/>
          <p:nvPr/>
        </p:nvPicPr>
        <p:blipFill>
          <a:blip r:embed="rId3"/>
          <a:stretch/>
        </p:blipFill>
        <p:spPr>
          <a:xfrm>
            <a:off x="571680" y="3500280"/>
            <a:ext cx="257148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ССИЙСКАЯ ФЕДЕРАЦ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ПОЖАРНОЙ БЕЗОПАСНОСТ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Приня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Государственной Дум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18 ноября 1994 года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мерам пожарной безопасности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й проводится администр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ственниками) этих организаций в соответстви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ми документами по 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ым программам, утвержд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и руководителями федер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исполнительной власти и согласованным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, установленном федеральным орга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ой власти, уполномоченным на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 в области пожарн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Федерального закона от 22.08.2004 N 122-Ф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8"/>
          <p:cNvSpPr/>
          <p:nvPr/>
        </p:nvSpPr>
        <p:spPr>
          <a:xfrm>
            <a:off x="0" y="26028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атья 3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а и обязанности граждан в области пожар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ждане обяз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в помещениях и строениях, находящихся в их собственности (пользовании), первичные средства тушения пожаров и противопожарный инвентарь в соответствии с правилами пожарной безопасности и перечнями, утвержденными соответствующими органами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наружении пожаров немедленно уведомлять о них пожарную охр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содействие пожарной охране при тушении пож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предписания, постановления и иные законные требования должностных лиц государственного пожарного надз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Федерального закона от 22.08.2004 N 1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2071800" y="0"/>
            <a:ext cx="4228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0" y="0"/>
            <a:ext cx="82152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 ДЕЛАТЬ В СЛУЧАЕ ПОЖАРА В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в школе находится много людей, эвакуация зай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ремени, чем эвакуация из квартиры. Поэтому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и пожара в школе следует придерж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последовательности принимаемых 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, что надо сделать - это закрыть дверь того помещения, где горит огонь. Если вы увидите горящее помещение через окно, не пытайтесь войти в это помещение. Открытая дверь не только выпустит дым и помешает эвакуации; внезапное поступление дополнительного воздуха может привести к распространению пожара с большей скор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немедленно поднять тревогу, громко крича о пож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о пожаре находящемуся поблизости члену персонала, который примет меры по немедленной эвакуации всех людей из здания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бязаны явиться к заранее согласованному сборному пункту, где должна быть произведена перекличка для того, чтобы выяснить, все ли эвакуировались из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ревоги нужно как можно скорее вызвать пожарную ох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14200" y="404640"/>
            <a:ext cx="77155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прибытии пожарной охраны в первую очередь нужно знать следующе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помещении пож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эвакуиров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эвакуации при пожаре в школе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пожарной охр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кл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В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человек (ученик или член персонала)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и пожара должен без колебаний поднять тревогу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е. </a:t>
            </a:r>
            <a:br>
              <a:rPr sz="20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ЗОВ ПОЖАРНОЙ ОХРАНЫ.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юбом возникновении пожара, даже самого небольшого, или же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ении на пожар нужно немедленно сообщить пожарной о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быстрым способом. </a:t>
            </a:r>
            <a:br>
              <a:rPr sz="2000"/>
            </a:b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АКУАЦИЯ.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ышав тревогу, ученики должны встать у своих парт и по указанию учителя, ответственного за класс, покинуть классную комнату по одному и идти к сборному пункту. Классы должны идти ровным, размеренным шагом. Необходимо закрыть дверь классной комнаты и все остальные двери по пути эвакуации, которыми во время эвакуации больше никто не будет пользовать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ОР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сбора должно быть заранее согласова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я на место сбора, каждый отдельный класс или группа людей должны занять определенное место и находиться там, не расходясь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КЛИЧКА.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1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 прибытии классов на мес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а должна быть проведена перекличка. 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поведения при пожар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6" descr="закройте все двери"/>
          <p:cNvPicPr/>
          <p:nvPr/>
        </p:nvPicPr>
        <p:blipFill>
          <a:blip r:embed="rId1"/>
          <a:stretch/>
        </p:blipFill>
        <p:spPr>
          <a:xfrm>
            <a:off x="395280" y="1484280"/>
            <a:ext cx="4897440" cy="489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7" name="Text Box 7"/>
          <p:cNvSpPr/>
          <p:nvPr/>
        </p:nvSpPr>
        <p:spPr>
          <a:xfrm>
            <a:off x="5580000" y="1357200"/>
            <a:ext cx="324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ОЙТ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 П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М 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РА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У ОГ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РЫТАЯ Д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 Н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500800" y="1071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авило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предупредите всех"/>
          <p:cNvPicPr/>
          <p:nvPr/>
        </p:nvPicPr>
        <p:blipFill>
          <a:blip r:embed="rId1"/>
          <a:stretch/>
        </p:blipFill>
        <p:spPr>
          <a:xfrm>
            <a:off x="611280" y="1628640"/>
            <a:ext cx="4968720" cy="496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1" name="Text Box 5"/>
          <p:cNvSpPr/>
          <p:nvPr/>
        </p:nvSpPr>
        <p:spPr>
          <a:xfrm>
            <a:off x="5796000" y="1844640"/>
            <a:ext cx="30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ГАЯ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Е О НЕМ  ВСЕХ. (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Щ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ИТЕ СКО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ГН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Arial"/>
              </a:rPr>
              <a:t>Правило №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сообщите учителю"/>
          <p:cNvPicPr/>
          <p:nvPr/>
        </p:nvPicPr>
        <p:blipFill>
          <a:blip r:embed="rId1"/>
          <a:stretch/>
        </p:blipFill>
        <p:spPr>
          <a:xfrm>
            <a:off x="468360" y="1628640"/>
            <a:ext cx="4751280" cy="475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5651640" y="2133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ИТЕ УЧИТЕЛЮ О ПОЖ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13:22Z</dcterms:created>
  <dc:creator>Я</dc:creator>
  <dc:description/>
  <dc:language>en-US</dc:language>
  <cp:lastModifiedBy>admin</cp:lastModifiedBy>
  <dcterms:modified xsi:type="dcterms:W3CDTF">2017-08-01T03:23:32Z</dcterms:modified>
  <cp:revision>11</cp:revision>
  <dc:subject/>
  <dc:title>Пожарная безопасность  в школе </dc:title>
</cp:coreProperties>
</file>