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538-D8BB-4A01-85AA-1EAC4391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F34-ADF9-4510-AAF1-5D0F3D92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CED-BE63-4D18-98BD-6E102393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26D-1063-4C78-8E9E-14F98B5B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ADAE-BCFC-4198-85D0-DFC1B466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549F-F55E-46D9-A080-D26340C5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7038-29A8-4E90-9ADC-67ECF60F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C67B-6A79-4F5F-B52C-0DA07680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750E-187C-4903-A127-8735D899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3DE5-6BC7-477E-ACD6-FC2A4198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30B1-49FB-49DF-A203-3181B11B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9B2-6EE7-47CC-B641-77A50392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EE4B-ACC3-4F36-A28C-3E6ED0C6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3BCA-3CDD-40F4-A98F-E56A2688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94C8-A68A-4EB2-9A11-78801731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BED7-8230-49DD-8F07-02DE6783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CF0F-6C40-46F5-8AF6-2896B9F3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A5749-9478-487C-B7BB-A4CEA07B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76267-20B5-49C2-9263-B10A9207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2CD26-40E5-4702-AA01-6D0CCB01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912AC-F222-4D8A-9295-46CF539D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549F3-CA53-4D8E-BCB8-71C76971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0FF8-AEE3-415F-BC88-F2BCC97E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5A657-6AAC-4077-93B5-0224FBF7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7CD9F-1DFA-4B2C-8067-79960B51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2409C-A72B-4E5D-A7F3-BA6AD1F1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A6F0A-8268-4FB7-84AC-0C065109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EA47E-F669-49EA-8F33-D9E2771B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F9D06-B12C-4073-8A32-8557DEED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7BBC6-86AA-4CD2-994B-8CA388B8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9B92F-6E1C-4AA9-B204-1C5BD8F5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CBB10-7B80-47CE-886B-C876FAD3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BEA48-F6F0-4F2A-A361-A880F935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1EA-B83B-4C2F-B626-B8DDF97A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4FF4D-AD9D-40EE-B5FA-852A3E0D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52FE8-959A-464A-9B76-09AB4A66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D1133-77F1-4344-A1CE-62F0D4EE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009F9-F29E-4585-82B9-5F5FA73C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33FBB-8383-4DE6-ABB5-674DEAAB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E5B7F-E62B-4B85-8B05-D7067A67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4EF2A-C5B0-4453-AD23-C86D5F24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06CE8-62D1-428C-82C7-81262FFC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826AE-14D1-4FCA-A9F0-97E0B6FE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D3F53-04E9-4C28-95F6-1473EA93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9EC-AFAE-406F-820A-2B629A2B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5BD5E-66D1-4ADC-BAB8-F2E30378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0F7A8-EE3E-4687-AA8C-B9B6FB50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1B7FF-1E3B-456F-8725-0CA88847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55645-E7C1-4DAE-A634-3BC211B8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85129-A729-498B-A8CD-2DE88793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0C9CF-DCAF-4C28-8F83-880D928C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17B6F-85EB-4889-8C9C-EAE3E827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48F84-7646-4029-9CE9-173D6F0F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B8D61-23B2-4074-8546-6C7B3A7A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6F604-01F1-402A-9CED-893CC56F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D3B-B286-4D8B-8574-78A7EFE4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C40E0-4FC1-46E9-878D-8773341F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D7F-0D91-4049-877E-94D46145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052-1EB6-44F7-9EB1-0121D2AE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34F-74D5-4E1E-9AB1-35329E22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D801-E553-4E5E-9026-758A549F4FE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2A92-C30A-4296-ADAF-EA78013AEB0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0D12-6BD6-407B-A513-5D384766903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5CB8-F974-41A3-9A76-F7A036AD284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533C-E902-4DEC-822D-A21392C8B4E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755640" y="18900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авила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_54000026758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25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68360" y="1989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1332000" y="2276640"/>
            <a:ext cx="331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вижение разрешается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жешь переходить улиц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429022"/>
          <p:cNvPicPr/>
          <p:nvPr/>
        </p:nvPicPr>
        <p:blipFill>
          <a:blip r:embed="rId1"/>
          <a:stretch/>
        </p:blipFill>
        <p:spPr>
          <a:xfrm>
            <a:off x="4932360" y="1557360"/>
            <a:ext cx="34480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ользуйтесь подземным, надземным и наземным пере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dou_5"/>
          <p:cNvPicPr/>
          <p:nvPr/>
        </p:nvPicPr>
        <p:blipFill>
          <a:blip r:embed="rId1"/>
          <a:stretch/>
        </p:blipFill>
        <p:spPr>
          <a:xfrm>
            <a:off x="1500120" y="1428840"/>
            <a:ext cx="6013440" cy="4241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перебегай проезжую часть перед близко идущим транспор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pic8"/>
          <p:cNvPicPr/>
          <p:nvPr/>
        </p:nvPicPr>
        <p:blipFill>
          <a:blip r:embed="rId1"/>
          <a:stretch/>
        </p:blipFill>
        <p:spPr>
          <a:xfrm>
            <a:off x="684360" y="1989000"/>
            <a:ext cx="77580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65161"/>
          <p:cNvPicPr/>
          <p:nvPr/>
        </p:nvPicPr>
        <p:blipFill>
          <a:blip r:embed="rId1"/>
          <a:stretch/>
        </p:blipFill>
        <p:spPr>
          <a:xfrm>
            <a:off x="1050840" y="1700280"/>
            <a:ext cx="2729160" cy="3657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1(4)"/>
          <p:cNvPicPr/>
          <p:nvPr/>
        </p:nvPicPr>
        <p:blipFill>
          <a:blip r:embed="rId2"/>
          <a:stretch/>
        </p:blipFill>
        <p:spPr>
          <a:xfrm>
            <a:off x="4429080" y="2000160"/>
            <a:ext cx="379116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жидая транспорт, стойте только на посадочных площадках или обоч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131740"/>
          <p:cNvPicPr/>
          <p:nvPr/>
        </p:nvPicPr>
        <p:blipFill>
          <a:blip r:embed="rId1"/>
          <a:stretch/>
        </p:blipFill>
        <p:spPr>
          <a:xfrm>
            <a:off x="2786040" y="1643040"/>
            <a:ext cx="3713040" cy="3984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дходите для посадки только после полной остановки  транспортного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imgап"/>
          <p:cNvPicPr/>
          <p:nvPr/>
        </p:nvPicPr>
        <p:blipFill>
          <a:blip r:embed="rId1"/>
          <a:stretch/>
        </p:blipFill>
        <p:spPr>
          <a:xfrm>
            <a:off x="2071800" y="1500120"/>
            <a:ext cx="524340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обходимо пристегну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сли вы едете в легковом автомоби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title"/>
          <p:cNvPicPr/>
          <p:nvPr/>
        </p:nvPicPr>
        <p:blipFill>
          <a:blip r:embed="rId1"/>
          <a:stretch/>
        </p:blipFill>
        <p:spPr>
          <a:xfrm>
            <a:off x="1908000" y="1989000"/>
            <a:ext cx="524988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осипедистам не следует устраивать гонки на проезжей части и на троту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52149311_orig"/>
          <p:cNvPicPr/>
          <p:nvPr/>
        </p:nvPicPr>
        <p:blipFill>
          <a:blip r:embed="rId1"/>
          <a:stretch/>
        </p:blipFill>
        <p:spPr>
          <a:xfrm>
            <a:off x="2786040" y="1428840"/>
            <a:ext cx="3886200" cy="4362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дите велосипед рядом, если переходите улицу. Не рискуйте, переезжая дор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perekhod"/>
          <p:cNvPicPr/>
          <p:nvPr/>
        </p:nvPicPr>
        <p:blipFill>
          <a:blip r:embed="rId1"/>
          <a:stretch/>
        </p:blipFill>
        <p:spPr>
          <a:xfrm>
            <a:off x="2928960" y="1484280"/>
            <a:ext cx="4019400" cy="4456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500040" y="35712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тайтесь на роликах, скейтбордах и велосипедах в местах предназначенных дл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70000001"/>
          <p:cNvPicPr/>
          <p:nvPr/>
        </p:nvPicPr>
        <p:blipFill>
          <a:blip r:embed="rId1"/>
          <a:stretch/>
        </p:blipFill>
        <p:spPr>
          <a:xfrm>
            <a:off x="1143000" y="2357280"/>
            <a:ext cx="2644920" cy="2794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25"/>
          <p:cNvPicPr/>
          <p:nvPr/>
        </p:nvPicPr>
        <p:blipFill>
          <a:blip r:embed="rId2"/>
          <a:stretch/>
        </p:blipFill>
        <p:spPr>
          <a:xfrm>
            <a:off x="4214880" y="2286000"/>
            <a:ext cx="417996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179280" y="115920"/>
            <a:ext cx="839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оди по тротуару, придерживаясь правой стор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131736"/>
          <p:cNvPicPr/>
          <p:nvPr/>
        </p:nvPicPr>
        <p:blipFill>
          <a:blip r:embed="rId1"/>
          <a:stretch/>
        </p:blipFill>
        <p:spPr>
          <a:xfrm>
            <a:off x="3357720" y="2060640"/>
            <a:ext cx="3290760" cy="3530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53964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5"/>
          <p:cNvPicPr/>
          <p:nvPr/>
        </p:nvPicPr>
        <p:blipFill>
          <a:blip r:embed="rId1"/>
          <a:stretch/>
        </p:blipFill>
        <p:spPr>
          <a:xfrm>
            <a:off x="2786040" y="1268280"/>
            <a:ext cx="4545000" cy="439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428760" y="57168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 городом нужно идти по обочине дороги навстречу движущемуся транспорту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pic10"/>
          <p:cNvPicPr/>
          <p:nvPr/>
        </p:nvPicPr>
        <p:blipFill>
          <a:blip r:embed="rId1"/>
          <a:stretch/>
        </p:blipFill>
        <p:spPr>
          <a:xfrm>
            <a:off x="928800" y="3429000"/>
            <a:ext cx="3070080" cy="2189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Ildviz1"/>
          <p:cNvPicPr/>
          <p:nvPr/>
        </p:nvPicPr>
        <p:blipFill>
          <a:blip r:embed="rId2"/>
          <a:stretch/>
        </p:blipFill>
        <p:spPr>
          <a:xfrm>
            <a:off x="4857840" y="2357280"/>
            <a:ext cx="3544920" cy="276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0" y="33336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ходи улицу только по пешеходному перех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img"/>
          <p:cNvPicPr/>
          <p:nvPr/>
        </p:nvPicPr>
        <p:blipFill>
          <a:blip r:embed="rId1"/>
          <a:stretch/>
        </p:blipFill>
        <p:spPr>
          <a:xfrm>
            <a:off x="1857240" y="1785960"/>
            <a:ext cx="5668920" cy="4251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svet"/>
          <p:cNvPicPr/>
          <p:nvPr/>
        </p:nvPicPr>
        <p:blipFill>
          <a:blip r:embed="rId1"/>
          <a:stretch/>
        </p:blipFill>
        <p:spPr>
          <a:xfrm>
            <a:off x="1500120" y="1571760"/>
            <a:ext cx="6388200" cy="408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324000" y="26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131738"/>
          <p:cNvPicPr/>
          <p:nvPr/>
        </p:nvPicPr>
        <p:blipFill>
          <a:blip r:embed="rId1"/>
          <a:stretch/>
        </p:blipFill>
        <p:spPr>
          <a:xfrm>
            <a:off x="3071880" y="2500200"/>
            <a:ext cx="3089160" cy="3341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егда пропускайте автомобили с включенными спецсигна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129012"/>
          <p:cNvPicPr/>
          <p:nvPr/>
        </p:nvPicPr>
        <p:blipFill>
          <a:blip r:embed="rId1"/>
          <a:stretch/>
        </p:blipFill>
        <p:spPr>
          <a:xfrm>
            <a:off x="2071800" y="1928880"/>
            <a:ext cx="4790880" cy="3832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0920" y="260280"/>
            <a:ext cx="78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и улицу только на зеленый с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11378_1"/>
          <p:cNvPicPr/>
          <p:nvPr/>
        </p:nvPicPr>
        <p:blipFill>
          <a:blip r:embed="rId1"/>
          <a:stretch/>
        </p:blipFill>
        <p:spPr>
          <a:xfrm>
            <a:off x="2916360" y="155736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24000" y="2421000"/>
            <a:ext cx="496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становись и жд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svetofor3"/>
          <p:cNvPicPr/>
          <p:nvPr/>
        </p:nvPicPr>
        <p:blipFill>
          <a:blip r:embed="rId1"/>
          <a:stretch/>
        </p:blipFill>
        <p:spPr>
          <a:xfrm>
            <a:off x="5508720" y="1341360"/>
            <a:ext cx="23256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324000" y="2637000"/>
            <a:ext cx="367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дите нового сигна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umnye-dorogi-v-stolice-pochti-real-nost-"/>
          <p:cNvPicPr/>
          <p:nvPr/>
        </p:nvPicPr>
        <p:blipFill>
          <a:blip r:embed="rId1"/>
          <a:stretch/>
        </p:blipFill>
        <p:spPr>
          <a:xfrm>
            <a:off x="4322880" y="1557360"/>
            <a:ext cx="41148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1:32:17Z</dcterms:created>
  <dc:creator>Ershova</dc:creator>
  <dc:description/>
  <dc:language>en-US</dc:language>
  <cp:lastModifiedBy>Николай</cp:lastModifiedBy>
  <dcterms:modified xsi:type="dcterms:W3CDTF">2019-11-22T19:58:43Z</dcterms:modified>
  <cp:revision>67</cp:revision>
  <dc:subject/>
  <dc:title>Слайд 1</dc:title>
</cp:coreProperties>
</file>