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89C-84D1-4370-BD16-3877123F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785-62A0-4E7B-8C8C-41989F4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D63-1576-4859-A41B-7C06B270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492-D9D4-4F3C-90C0-F6CF65B5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B89A-E95B-4A91-A72C-26D19F75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D4D-17AB-45DE-A63A-F8EEB46A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EA4A-B078-4955-9E38-9D10880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FC4-C5AF-4275-A3C1-65ABE8F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E7F4-A8CC-445C-8862-4C9FC80A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AB0-5599-41E1-9EA5-C8A3BA5D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1294-804D-4A5C-8E74-5D7A685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FB1-0FFD-492A-8E4A-A2B4981C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D139-9CFE-4055-BEE5-8837EBB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42A-E75F-4BFE-AEB1-88446A20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A0D3-FD08-4BE4-AEAC-E1001196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E436-D212-4C36-887B-995CC93D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5034-548D-4CF9-82D4-989B742F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A1F2-4839-4846-9647-079D5960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3538-4854-4A7E-8C2C-74BDE46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6F15-4907-47D8-A287-4307CFD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5F87-F7C2-43D8-B27A-BC56DBD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BCF4-FA99-4CB5-A723-4413B14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FC1-09AC-4695-BD59-7338745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57F8-48FC-4D9C-B693-C2C19D1A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C8E1-33D7-4788-A57B-E13E48F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4408-FFFE-4A05-B08B-56B7DFF3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2914-9D0C-4949-B7DD-863F2F7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93E5-1D89-4327-A4A9-2E6DAF6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6015-2DB1-4815-8601-251EDD55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C49B-6AF3-4F2F-AF06-BA22BC6B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3ED7-FB21-4173-BCAC-333096C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CAE9-A424-4891-BE54-F1971629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CC36-FACB-4F54-BE4E-7DBCB58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810-8FC7-4908-BAB9-AA1077BB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5272-0BB4-42BD-977D-C36D921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56C9-319B-4EBA-87F4-6E7BD8D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0648-D894-4F7A-819F-62044020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89DC-4179-4D00-BB03-48727A9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0F65-C3EF-4084-B8F8-467D174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3CD2-F9E7-4E79-8C3B-A67A836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D3CE-1BD9-4BB5-A549-30FE1F1D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6F5A-ED48-4E2F-B8D7-ED4C3202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41A3-8C7B-431C-A6E1-20F25744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B178-FB96-4B4C-A82F-0DC10E8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754-0412-4ED5-A049-D8BF8C12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6045-4606-4B1A-BE44-262A6C47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6D47-FE89-4756-ACBD-4B4C3FF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FBBC-5C52-4B82-A45B-DD12C33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0309-390C-41E4-8E0D-923FC6C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A4F8C-88EE-40BD-A5FB-D8B965F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1362-D1AB-49CB-8FF8-B17CE5B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DC3A-D79A-4EAB-8D06-A5DA389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72C6-87DE-4B54-9014-25E2D20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A233-558A-43DD-B1F6-6B333CC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01CC-6F97-4B11-B4DE-E35A0D60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44F-4885-4CA3-A3B2-2DAEDD5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B02A-9B63-4005-828E-846625AC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6B0-E8DC-47D1-B215-96C0884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F29-5B4B-4D4E-87B1-EC03A379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DEF-657A-429C-AE8E-7713B23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67B-892E-43C6-9419-60D1167F94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627-EA5D-41AF-A80E-7557A3D2013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74C1-ED3A-453F-9270-6C03ED80E9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3AA-0B64-4877-8CC3-7E43284170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029-8976-4494-87BD-12D5035CAB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авила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dou_5"/>
          <p:cNvPicPr/>
          <p:nvPr/>
        </p:nvPicPr>
        <p:blipFill>
          <a:blip r:embed="rId1"/>
          <a:stretch/>
        </p:blipFill>
        <p:spPr>
          <a:xfrm>
            <a:off x="1500120" y="1428840"/>
            <a:ext cx="60134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65161"/>
          <p:cNvPicPr/>
          <p:nvPr/>
        </p:nvPicPr>
        <p:blipFill>
          <a:blip r:embed="rId1"/>
          <a:stretch/>
        </p:blipFill>
        <p:spPr>
          <a:xfrm>
            <a:off x="1050840" y="1700280"/>
            <a:ext cx="2729160" cy="3657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(4)"/>
          <p:cNvPicPr/>
          <p:nvPr/>
        </p:nvPicPr>
        <p:blipFill>
          <a:blip r:embed="rId2"/>
          <a:stretch/>
        </p:blipFill>
        <p:spPr>
          <a:xfrm>
            <a:off x="4429080" y="2000160"/>
            <a:ext cx="37911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131740"/>
          <p:cNvPicPr/>
          <p:nvPr/>
        </p:nvPicPr>
        <p:blipFill>
          <a:blip r:embed="rId1"/>
          <a:stretch/>
        </p:blipFill>
        <p:spPr>
          <a:xfrm>
            <a:off x="2786040" y="1643040"/>
            <a:ext cx="3713040" cy="398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imgап"/>
          <p:cNvPicPr/>
          <p:nvPr/>
        </p:nvPicPr>
        <p:blipFill>
          <a:blip r:embed="rId1"/>
          <a:stretch/>
        </p:blipFill>
        <p:spPr>
          <a:xfrm>
            <a:off x="2071800" y="150012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е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52149311_orig"/>
          <p:cNvPicPr/>
          <p:nvPr/>
        </p:nvPicPr>
        <p:blipFill>
          <a:blip r:embed="rId1"/>
          <a:stretch/>
        </p:blipFill>
        <p:spPr>
          <a:xfrm>
            <a:off x="2786040" y="1428840"/>
            <a:ext cx="388620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perekhod"/>
          <p:cNvPicPr/>
          <p:nvPr/>
        </p:nvPicPr>
        <p:blipFill>
          <a:blip r:embed="rId1"/>
          <a:stretch/>
        </p:blipFill>
        <p:spPr>
          <a:xfrm>
            <a:off x="2928960" y="1484280"/>
            <a:ext cx="40194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500040" y="3571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70000001"/>
          <p:cNvPicPr/>
          <p:nvPr/>
        </p:nvPicPr>
        <p:blipFill>
          <a:blip r:embed="rId1"/>
          <a:stretch/>
        </p:blipFill>
        <p:spPr>
          <a:xfrm>
            <a:off x="1143000" y="2357280"/>
            <a:ext cx="2644920" cy="2794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5"/>
          <p:cNvPicPr/>
          <p:nvPr/>
        </p:nvPicPr>
        <p:blipFill>
          <a:blip r:embed="rId2"/>
          <a:stretch/>
        </p:blipFill>
        <p:spPr>
          <a:xfrm>
            <a:off x="4214880" y="228600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79280" y="115920"/>
            <a:ext cx="839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131736"/>
          <p:cNvPicPr/>
          <p:nvPr/>
        </p:nvPicPr>
        <p:blipFill>
          <a:blip r:embed="rId1"/>
          <a:stretch/>
        </p:blipFill>
        <p:spPr>
          <a:xfrm>
            <a:off x="3357720" y="2060640"/>
            <a:ext cx="3290760" cy="353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5"/>
          <p:cNvPicPr/>
          <p:nvPr/>
        </p:nvPicPr>
        <p:blipFill>
          <a:blip r:embed="rId1"/>
          <a:stretch/>
        </p:blipFill>
        <p:spPr>
          <a:xfrm>
            <a:off x="2786040" y="1268280"/>
            <a:ext cx="4545000" cy="439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428760" y="5716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pic10"/>
          <p:cNvPicPr/>
          <p:nvPr/>
        </p:nvPicPr>
        <p:blipFill>
          <a:blip r:embed="rId1"/>
          <a:stretch/>
        </p:blipFill>
        <p:spPr>
          <a:xfrm>
            <a:off x="928800" y="3429000"/>
            <a:ext cx="3070080" cy="2189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Ildviz1"/>
          <p:cNvPicPr/>
          <p:nvPr/>
        </p:nvPicPr>
        <p:blipFill>
          <a:blip r:embed="rId2"/>
          <a:stretch/>
        </p:blipFill>
        <p:spPr>
          <a:xfrm>
            <a:off x="4857840" y="2357280"/>
            <a:ext cx="3544920" cy="276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img"/>
          <p:cNvPicPr/>
          <p:nvPr/>
        </p:nvPicPr>
        <p:blipFill>
          <a:blip r:embed="rId1"/>
          <a:stretch/>
        </p:blipFill>
        <p:spPr>
          <a:xfrm>
            <a:off x="1857240" y="1785960"/>
            <a:ext cx="5668920" cy="425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svet"/>
          <p:cNvPicPr/>
          <p:nvPr/>
        </p:nvPicPr>
        <p:blipFill>
          <a:blip r:embed="rId1"/>
          <a:stretch/>
        </p:blipFill>
        <p:spPr>
          <a:xfrm>
            <a:off x="1500120" y="1571760"/>
            <a:ext cx="6388200" cy="40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31738"/>
          <p:cNvPicPr/>
          <p:nvPr/>
        </p:nvPicPr>
        <p:blipFill>
          <a:blip r:embed="rId1"/>
          <a:stretch/>
        </p:blipFill>
        <p:spPr>
          <a:xfrm>
            <a:off x="3071880" y="2500200"/>
            <a:ext cx="3089160" cy="334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129012"/>
          <p:cNvPicPr/>
          <p:nvPr/>
        </p:nvPicPr>
        <p:blipFill>
          <a:blip r:embed="rId1"/>
          <a:stretch/>
        </p:blipFill>
        <p:spPr>
          <a:xfrm>
            <a:off x="2071800" y="1928880"/>
            <a:ext cx="479088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Николай</cp:lastModifiedBy>
  <dcterms:modified xsi:type="dcterms:W3CDTF">2019-11-22T19:58:43Z</dcterms:modified>
  <cp:revision>67</cp:revision>
  <dc:subject/>
  <dc:title>Слайд 1</dc:title>
</cp:coreProperties>
</file>