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97D-A140-4231-9F2F-A9FF43DC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53E-E9B4-4201-B7AB-4025BECE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EFE-6E19-4AD1-BEFE-5697D73D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582-F8D3-487B-8EFA-FC8F16B9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D75-7E4A-427B-87CE-0D94EED8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7394-0A5C-40B4-B665-03426E9A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2C5-1B41-4EE9-8239-263F10E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FA15-CF10-4ECF-8DC7-01717B50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885B-EE15-4CC3-B418-E3695A3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CB35-53CA-485C-B2D0-58FA00EA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D4B3-2DB3-42AA-8AFF-B052700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D6E-9114-4904-B00A-222D4AC7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939-E847-44B6-A0B9-E8E8C6E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45C4-F9E5-4DC1-87F4-A7AF771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BE54-DC30-494D-82BA-A7718EF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833-2F33-4915-9930-2A94C7B6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429-DA6B-44FA-951D-1FE5C169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FB10-613A-4E46-B47A-93710E79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6121-14B4-4FCD-B365-B8362408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27DD-6364-4E91-A3B4-35B317B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A781-FEBB-4156-8707-4FBE2D58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86E8-4706-474B-B45D-F02F279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008-5055-465E-9CBB-65F68F2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3EE5-84B8-4E36-9137-5F08984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1CDB-592B-41E5-852A-80D0CE3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711D-51D1-4A6E-9FBE-D613251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5BC7-B36F-4A29-B51B-9E51461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7205-815F-4BD7-BB65-7ED4D974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A54E-60F4-4F53-B13C-BA0021B9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3B72-8E31-4402-B1A2-CC6EDCA8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EF-BEF4-401D-8115-2382D25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107-9364-4B59-8B2D-3EBFFBB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A62-D9CA-4534-9AC8-5F4975D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16E-7A85-4CD3-8D66-93598A2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325-19FC-44B0-A816-59AC693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D51-824A-4309-A2B7-97D2655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A109-ADB7-453F-AB00-FDD2E88D5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354B-3D74-493D-9E8F-C5F87B5C1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878C-9F46-4F5A-9361-01FAA0D972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58920" y="178560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Выполнил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ГКОУ «Мантуровская школа-интерна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 Black"/>
              </a:rPr>
              <a:t>Полякова Ольг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755640" y="0"/>
            <a:ext cx="80643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ДОМАШНИЕ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327672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327672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j0149407"/>
          <p:cNvPicPr/>
          <p:nvPr/>
        </p:nvPicPr>
        <p:blipFill>
          <a:blip r:embed="rId1"/>
          <a:stretch/>
        </p:blipFill>
        <p:spPr>
          <a:xfrm>
            <a:off x="2786040" y="2857680"/>
            <a:ext cx="3857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5e"/>
            </a:gs>
            <a:gs pos="50000">
              <a:srgbClr val="ccffcc"/>
            </a:gs>
            <a:gs pos="100000">
              <a:srgbClr val="5e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rganization Chart 7"/>
          <p:cNvGrpSpPr/>
          <p:nvPr/>
        </p:nvGrpSpPr>
        <p:grpSpPr>
          <a:xfrm>
            <a:off x="442800" y="404640"/>
            <a:ext cx="8208360" cy="5672160"/>
            <a:chOff x="442800" y="404640"/>
            <a:chExt cx="8208360" cy="5672160"/>
          </a:xfrm>
        </p:grpSpPr>
        <p:cxnSp>
          <p:nvCxnSpPr>
            <p:cNvPr id="146" name="_s1028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5415840" y="1803240"/>
              <a:ext cx="113508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29"/>
            <p:cNvCxnSpPr>
              <a:stCxn id="150" idx="0"/>
              <a:endCxn id="148" idx="2"/>
            </p:cNvCxnSpPr>
            <p:nvPr/>
          </p:nvCxnSpPr>
          <p:spPr>
            <a:xfrm flipV="1">
              <a:off x="4547160" y="2672640"/>
              <a:ext cx="3600" cy="1135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030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2543040" y="1803600"/>
              <a:ext cx="1135080" cy="2873520"/>
            </a:xfrm>
            <a:prstGeom prst="bentConnector3">
              <a:avLst>
                <a:gd name="adj1" fmla="val 12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1031"/>
            <p:cNvSpPr/>
            <p:nvPr/>
          </p:nvSpPr>
          <p:spPr>
            <a:xfrm>
              <a:off x="3315600" y="40464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ЧЕЛОВЕ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>
              <a:off x="44280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ЖИЛЬ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31560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КОР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6188760" y="3808080"/>
              <a:ext cx="2462400" cy="2268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6600"/>
                  </a:solidFill>
                  <a:latin typeface="Arial"/>
                </a:rPr>
                <a:t>ПОЛЬЗ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16"/>
          <p:cNvSpPr/>
          <p:nvPr/>
        </p:nvSpPr>
        <p:spPr>
          <a:xfrm flipH="1">
            <a:off x="1619280" y="2708280"/>
            <a:ext cx="2952720" cy="1081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4572000" y="2708280"/>
            <a:ext cx="0" cy="1225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H="1" flipV="1">
            <a:off x="4500360" y="2565360"/>
            <a:ext cx="2950920" cy="1295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j0149627"/>
          <p:cNvPicPr/>
          <p:nvPr/>
        </p:nvPicPr>
        <p:blipFill>
          <a:blip r:embed="rId1"/>
          <a:stretch/>
        </p:blipFill>
        <p:spPr>
          <a:xfrm>
            <a:off x="0" y="1989000"/>
            <a:ext cx="4500720" cy="3918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Сама  пестр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Ест зелено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Arial"/>
              </a:rPr>
              <a:t>Дает  бел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55640" y="0"/>
            <a:ext cx="72010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РОВА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1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476360" y="333360"/>
            <a:ext cx="719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ЛИК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41300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120" y="1906560"/>
            <a:ext cx="873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0" y="1341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линное ухо, комочек пуха, прыгает  ловко  любит  морков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j0304933"/>
          <p:cNvPicPr/>
          <p:nvPr/>
        </p:nvPicPr>
        <p:blipFill>
          <a:blip r:embed="rId1"/>
          <a:stretch/>
        </p:blipFill>
        <p:spPr>
          <a:xfrm>
            <a:off x="3841920" y="2565360"/>
            <a:ext cx="53020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76"/>
            </a:gs>
            <a:gs pos="50000">
              <a:srgbClr val="33ccff"/>
            </a:gs>
            <a:gs pos="100000">
              <a:srgbClr val="185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4859280" y="907920"/>
            <a:ext cx="1873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п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6012000" y="2133720"/>
            <a:ext cx="1317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6227640" y="3213000"/>
            <a:ext cx="180828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6732720" y="4797360"/>
            <a:ext cx="208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0" y="3357720"/>
            <a:ext cx="608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то имеет пята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 зажатый в кулач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ногах его копы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Ест и пьет он из коры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dancaporco01"/>
          <p:cNvPicPr/>
          <p:nvPr/>
        </p:nvPicPr>
        <p:blipFill>
          <a:blip r:embed="rId1"/>
          <a:stretch/>
        </p:blipFill>
        <p:spPr>
          <a:xfrm>
            <a:off x="0" y="333360"/>
            <a:ext cx="4032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50920" y="549360"/>
            <a:ext cx="72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дверей она  л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м хозяйский сторо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859280" y="26028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Arial"/>
              </a:rPr>
              <a:t>СОБА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og22"/>
          <p:cNvPicPr/>
          <p:nvPr/>
        </p:nvPicPr>
        <p:blipFill>
          <a:blip r:embed="rId1"/>
          <a:stretch/>
        </p:blipFill>
        <p:spPr>
          <a:xfrm flipH="1" rot="21199200">
            <a:off x="755640" y="2707560"/>
            <a:ext cx="4967280" cy="28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a72"/>
          <p:cNvPicPr/>
          <p:nvPr/>
        </p:nvPicPr>
        <p:blipFill>
          <a:blip r:embed="rId2"/>
          <a:stretch/>
        </p:blipFill>
        <p:spPr>
          <a:xfrm>
            <a:off x="5796000" y="1413000"/>
            <a:ext cx="334800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6099120" y="6237360"/>
            <a:ext cx="27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БУ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50000">
              <a:srgbClr val="ffccff"/>
            </a:gs>
            <a:gs pos="100000">
              <a:srgbClr val="76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Arial"/>
              </a:rPr>
              <a:t>ПОЛЬ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image327"/>
          <p:cNvPicPr/>
          <p:nvPr/>
        </p:nvPicPr>
        <p:blipFill>
          <a:blip r:embed="rId1"/>
          <a:stretch/>
        </p:blipFill>
        <p:spPr>
          <a:xfrm>
            <a:off x="395280" y="1700280"/>
            <a:ext cx="1066680" cy="7617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1619280" y="2060640"/>
            <a:ext cx="29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619280" y="177336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Ы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M0svoafg"/>
          <p:cNvPicPr/>
          <p:nvPr/>
        </p:nvPicPr>
        <p:blipFill>
          <a:blip r:embed="rId2"/>
          <a:stretch/>
        </p:blipFill>
        <p:spPr>
          <a:xfrm>
            <a:off x="4643280" y="1628640"/>
            <a:ext cx="1873440" cy="1654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3"/>
          <p:cNvSpPr/>
          <p:nvPr/>
        </p:nvSpPr>
        <p:spPr>
          <a:xfrm>
            <a:off x="6135840" y="164772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П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М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image329"/>
          <p:cNvPicPr/>
          <p:nvPr/>
        </p:nvPicPr>
        <p:blipFill>
          <a:blip r:embed="rId3"/>
          <a:stretch/>
        </p:blipFill>
        <p:spPr>
          <a:xfrm>
            <a:off x="2050920" y="3789360"/>
            <a:ext cx="2481480" cy="1719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250920" y="4221000"/>
            <a:ext cx="163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К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doberman"/>
          <p:cNvPicPr/>
          <p:nvPr/>
        </p:nvPicPr>
        <p:blipFill>
          <a:blip r:embed="rId4"/>
          <a:stretch/>
        </p:blipFill>
        <p:spPr>
          <a:xfrm>
            <a:off x="5076720" y="3789360"/>
            <a:ext cx="3529080" cy="17445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7"/>
          <p:cNvSpPr/>
          <p:nvPr/>
        </p:nvSpPr>
        <p:spPr>
          <a:xfrm>
            <a:off x="5307120" y="6154560"/>
            <a:ext cx="34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СТОР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ИЕ 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ТУХ   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РОС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ТКА  ГУ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БАКА    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27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,-1)"/>
                                      </p:to>
                                    </p:set>
                                    <p:set>
                                      <p:cBhvr>
                                        <p:cTn id="228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8" dur="1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261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62" dur="1500" autoRev="1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11:29:24Z</dcterms:created>
  <dc:creator>User</dc:creator>
  <dc:description/>
  <dc:language>en-US</dc:language>
  <cp:lastModifiedBy>Пользователь</cp:lastModifiedBy>
  <dcterms:modified xsi:type="dcterms:W3CDTF">2019-11-21T07:04:25Z</dcterms:modified>
  <cp:revision>7</cp:revision>
  <dc:subject/>
  <dc:title>ДОМАШНИЕ  ЖИВОТНЫЕ</dc:title>
</cp:coreProperties>
</file>