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6D4-B98E-40EA-8EDF-46D32DE7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66E-FF2D-41E5-BCAE-980D0550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E6F-3551-47A9-B039-F6859B5D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DDC-D829-4327-BF79-E6B37DA5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6B64-8659-4221-A884-2BE24CDD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76C8-CBBA-4113-907D-1A6EE0EA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1A8E-4537-4F9E-8F61-85AE3E03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D4EC-7531-4848-839D-5583484B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983D-E398-4E18-B755-0DDAB475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19D4-E0CD-4579-82DA-E373BC83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DD40-C82E-4595-AF34-6252E25F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9A4-BEF8-449B-B0D0-7A592B64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5141-8B2C-425D-A3B8-B61985BA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A70D-A161-4726-8620-433B8581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F50D-9566-48FD-94F2-A3904CE7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5BAF-CAE3-496D-92B3-58CABDFD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201D-7D44-4AA0-87E1-5A5F1466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0E92-3A6E-4D79-8672-D4E1CE76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847C3-794E-44F7-A456-CCDC79C9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821C-5222-48E9-8FD9-1A28A48E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0C80D-8CB3-41AF-BF84-E8F04C73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4A2E5-F525-4715-BA43-E1416BFE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020-6193-4C98-840A-3EC7E499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DEB67-FC13-46CF-82A4-F23B6DB9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2889C-F87C-42F9-A81D-E4588A22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0E3B3-DE58-4E75-BB63-52CD3D20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40F4D-523A-4E7D-944B-BBA58BAC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D0405-9AFF-4FA8-9D1D-D7C38C68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35CAD-9A0C-4D65-9BBF-19D12FD1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863CF-2299-4C3B-820B-35B14506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03B-9AC9-4EE4-8776-7C85C7CF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39E-FB0A-4787-A7C8-8E45C291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3A0-66A1-43CB-892B-1A4A32B1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B96-51B3-4198-A215-563428A5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041-6917-43BA-AA05-B67D8FBA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E28-8E15-4F51-A906-6B09A1BC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9288-AD3F-421F-8FD2-EDEEA5670D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D9A4-7065-4DDC-A99C-F3C446C8E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B303-D9F4-4233-90D0-2B898436D1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7676"/>
            </a:gs>
            <a:gs pos="50000">
              <a:srgbClr val="ccffff"/>
            </a:gs>
            <a:gs pos="100000">
              <a:srgbClr val="5e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258920" y="1785600"/>
            <a:ext cx="6400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 Black"/>
              </a:rPr>
              <a:t>Выполнила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 Black"/>
              </a:rPr>
              <a:t>ГКОУ «Мантуровская школа-интерна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 Black"/>
              </a:rPr>
              <a:t>Полякова Ольг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755640" y="0"/>
            <a:ext cx="806436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ДОМАШНИЕ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ЖИВОТ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3276720" y="47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327672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j0149407"/>
          <p:cNvPicPr/>
          <p:nvPr/>
        </p:nvPicPr>
        <p:blipFill>
          <a:blip r:embed="rId1"/>
          <a:stretch/>
        </p:blipFill>
        <p:spPr>
          <a:xfrm>
            <a:off x="2786040" y="2857680"/>
            <a:ext cx="3857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1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5e"/>
            </a:gs>
            <a:gs pos="50000">
              <a:srgbClr val="ccffcc"/>
            </a:gs>
            <a:gs pos="100000">
              <a:srgbClr val="5e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Organization Chart 7"/>
          <p:cNvGrpSpPr/>
          <p:nvPr/>
        </p:nvGrpSpPr>
        <p:grpSpPr>
          <a:xfrm>
            <a:off x="442800" y="404640"/>
            <a:ext cx="8208360" cy="5672160"/>
            <a:chOff x="442800" y="404640"/>
            <a:chExt cx="8208360" cy="5672160"/>
          </a:xfrm>
        </p:grpSpPr>
        <p:cxnSp>
          <p:nvCxnSpPr>
            <p:cNvPr id="146" name="_s1028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5415840" y="1803240"/>
              <a:ext cx="1135080" cy="2873520"/>
            </a:xfrm>
            <a:prstGeom prst="bentConnector3">
              <a:avLst>
                <a:gd name="adj1" fmla="val 127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1029"/>
            <p:cNvCxnSpPr>
              <a:stCxn id="150" idx="0"/>
              <a:endCxn id="148" idx="2"/>
            </p:cNvCxnSpPr>
            <p:nvPr/>
          </p:nvCxnSpPr>
          <p:spPr>
            <a:xfrm flipV="1">
              <a:off x="4547160" y="2672640"/>
              <a:ext cx="3600" cy="1135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1030"/>
            <p:cNvCxnSpPr>
              <a:stCxn id="152" idx="0"/>
              <a:endCxn id="148" idx="2"/>
            </p:cNvCxnSpPr>
            <p:nvPr/>
          </p:nvCxnSpPr>
          <p:spPr>
            <a:xfrm flipH="1" flipV="1" rot="5400000">
              <a:off x="2543040" y="1803600"/>
              <a:ext cx="1135080" cy="2873520"/>
            </a:xfrm>
            <a:prstGeom prst="bentConnector3">
              <a:avLst>
                <a:gd name="adj1" fmla="val 127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" name="_s1031"/>
            <p:cNvSpPr/>
            <p:nvPr/>
          </p:nvSpPr>
          <p:spPr>
            <a:xfrm>
              <a:off x="3315600" y="404640"/>
              <a:ext cx="2462400" cy="2268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6600"/>
                  </a:solidFill>
                  <a:latin typeface="Arial"/>
                </a:rPr>
                <a:t>ЧЕЛОВЕ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32"/>
            <p:cNvSpPr/>
            <p:nvPr/>
          </p:nvSpPr>
          <p:spPr>
            <a:xfrm>
              <a:off x="442800" y="3808080"/>
              <a:ext cx="2462400" cy="2268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6600"/>
                  </a:solidFill>
                  <a:latin typeface="Arial"/>
                </a:rPr>
                <a:t>ЖИЛЬ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33"/>
            <p:cNvSpPr/>
            <p:nvPr/>
          </p:nvSpPr>
          <p:spPr>
            <a:xfrm>
              <a:off x="3315600" y="3808080"/>
              <a:ext cx="2462400" cy="2268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6600"/>
                  </a:solidFill>
                  <a:latin typeface="Arial"/>
                </a:rPr>
                <a:t>КОРМ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34"/>
            <p:cNvSpPr/>
            <p:nvPr/>
          </p:nvSpPr>
          <p:spPr>
            <a:xfrm>
              <a:off x="6188760" y="3808080"/>
              <a:ext cx="2462400" cy="2268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6600"/>
                  </a:solidFill>
                  <a:latin typeface="Arial"/>
                </a:rPr>
                <a:t>ПОЛЬЗ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Line 16"/>
          <p:cNvSpPr/>
          <p:nvPr/>
        </p:nvSpPr>
        <p:spPr>
          <a:xfrm flipH="1">
            <a:off x="1619280" y="2708280"/>
            <a:ext cx="2952720" cy="10810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4572000" y="2708280"/>
            <a:ext cx="0" cy="1225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 flipH="1" flipV="1">
            <a:off x="4500360" y="2565360"/>
            <a:ext cx="2950920" cy="12952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5e"/>
            </a:gs>
            <a:gs pos="50000">
              <a:srgbClr val="ffffcc"/>
            </a:gs>
            <a:gs pos="100000">
              <a:srgbClr val="76765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j0149627"/>
          <p:cNvPicPr/>
          <p:nvPr/>
        </p:nvPicPr>
        <p:blipFill>
          <a:blip r:embed="rId1"/>
          <a:stretch/>
        </p:blipFill>
        <p:spPr>
          <a:xfrm>
            <a:off x="0" y="1989000"/>
            <a:ext cx="4500720" cy="39182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Arial"/>
              </a:rPr>
              <a:t>Сама  пестра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Arial"/>
              </a:rPr>
              <a:t>Ест зелено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Arial"/>
              </a:rPr>
              <a:t>Дает  бело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755640" y="0"/>
            <a:ext cx="720108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РОВА 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3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7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51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5e"/>
            </a:gs>
            <a:gs pos="5000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1476360" y="333360"/>
            <a:ext cx="719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ОЛИК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95280" y="141300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11120" y="1906560"/>
            <a:ext cx="873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0" y="13413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линное ухо, комочек пуха, прыгает  ловко  любит  морков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j0304933"/>
          <p:cNvPicPr/>
          <p:nvPr/>
        </p:nvPicPr>
        <p:blipFill>
          <a:blip r:embed="rId1"/>
          <a:stretch/>
        </p:blipFill>
        <p:spPr>
          <a:xfrm>
            <a:off x="3841920" y="2565360"/>
            <a:ext cx="53020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5e76"/>
            </a:gs>
            <a:gs pos="50000">
              <a:srgbClr val="33ccff"/>
            </a:gs>
            <a:gs pos="100000">
              <a:srgbClr val="185e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5"/>
          <p:cNvSpPr txBox="1"/>
          <p:nvPr/>
        </p:nvSpPr>
        <p:spPr>
          <a:xfrm>
            <a:off x="4859280" y="907920"/>
            <a:ext cx="18734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п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166" name="WordArt 6"/>
          <p:cNvSpPr txBox="1"/>
          <p:nvPr/>
        </p:nvSpPr>
        <p:spPr>
          <a:xfrm>
            <a:off x="6012000" y="2133720"/>
            <a:ext cx="13176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6227640" y="3213000"/>
            <a:ext cx="1808280" cy="12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С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6732720" y="4797360"/>
            <a:ext cx="2087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Н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0" y="3357720"/>
            <a:ext cx="608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Кто имеет пятач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 зажатый в кулач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 ногах его копыт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Ест и пьет он из корыт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dancaporco01"/>
          <p:cNvPicPr/>
          <p:nvPr/>
        </p:nvPicPr>
        <p:blipFill>
          <a:blip r:embed="rId1"/>
          <a:stretch/>
        </p:blipFill>
        <p:spPr>
          <a:xfrm>
            <a:off x="0" y="333360"/>
            <a:ext cx="40323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50000">
              <a:srgbClr val="ffcc00"/>
            </a:gs>
            <a:gs pos="100000">
              <a:srgbClr val="765e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50920" y="549360"/>
            <a:ext cx="72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 дверей она  леж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ом хозяйский сторож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859280" y="260280"/>
            <a:ext cx="38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0000"/>
                </a:solidFill>
                <a:latin typeface="Arial"/>
              </a:rPr>
              <a:t>СОБА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dog22"/>
          <p:cNvPicPr/>
          <p:nvPr/>
        </p:nvPicPr>
        <p:blipFill>
          <a:blip r:embed="rId1"/>
          <a:stretch/>
        </p:blipFill>
        <p:spPr>
          <a:xfrm flipH="1" rot="21199200">
            <a:off x="755640" y="2707560"/>
            <a:ext cx="4967280" cy="287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a72"/>
          <p:cNvPicPr/>
          <p:nvPr/>
        </p:nvPicPr>
        <p:blipFill>
          <a:blip r:embed="rId2"/>
          <a:stretch/>
        </p:blipFill>
        <p:spPr>
          <a:xfrm>
            <a:off x="5796000" y="1413000"/>
            <a:ext cx="3348000" cy="4824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6099120" y="6237360"/>
            <a:ext cx="279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БУ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76"/>
            </a:gs>
            <a:gs pos="50000">
              <a:srgbClr val="ffccff"/>
            </a:gs>
            <a:gs pos="100000">
              <a:srgbClr val="76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ff"/>
                </a:solidFill>
                <a:latin typeface="Arial"/>
              </a:rPr>
              <a:t>ПОЛЬ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image327"/>
          <p:cNvPicPr/>
          <p:nvPr/>
        </p:nvPicPr>
        <p:blipFill>
          <a:blip r:embed="rId1"/>
          <a:stretch/>
        </p:blipFill>
        <p:spPr>
          <a:xfrm>
            <a:off x="395280" y="1700280"/>
            <a:ext cx="1066680" cy="7617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1619280" y="2060640"/>
            <a:ext cx="293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619280" y="1773360"/>
            <a:ext cx="273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МЕТ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А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Ы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2" descr="M0svoafg"/>
          <p:cNvPicPr/>
          <p:nvPr/>
        </p:nvPicPr>
        <p:blipFill>
          <a:blip r:embed="rId2"/>
          <a:stretch/>
        </p:blipFill>
        <p:spPr>
          <a:xfrm>
            <a:off x="4643280" y="1628640"/>
            <a:ext cx="1873440" cy="16542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3"/>
          <p:cNvSpPr/>
          <p:nvPr/>
        </p:nvSpPr>
        <p:spPr>
          <a:xfrm>
            <a:off x="6135840" y="1647720"/>
            <a:ext cx="261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П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МЕ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4" descr="image329"/>
          <p:cNvPicPr/>
          <p:nvPr/>
        </p:nvPicPr>
        <p:blipFill>
          <a:blip r:embed="rId3"/>
          <a:stretch/>
        </p:blipFill>
        <p:spPr>
          <a:xfrm>
            <a:off x="2050920" y="3789360"/>
            <a:ext cx="2481480" cy="1719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5"/>
          <p:cNvSpPr/>
          <p:nvPr/>
        </p:nvSpPr>
        <p:spPr>
          <a:xfrm>
            <a:off x="250920" y="4221000"/>
            <a:ext cx="1639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СА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КО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6" descr="doberman"/>
          <p:cNvPicPr/>
          <p:nvPr/>
        </p:nvPicPr>
        <p:blipFill>
          <a:blip r:embed="rId4"/>
          <a:stretch/>
        </p:blipFill>
        <p:spPr>
          <a:xfrm>
            <a:off x="5076720" y="3789360"/>
            <a:ext cx="3529080" cy="17445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7"/>
          <p:cNvSpPr/>
          <p:nvPr/>
        </p:nvSpPr>
        <p:spPr>
          <a:xfrm>
            <a:off x="5307120" y="6154560"/>
            <a:ext cx="344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СТОРО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МАШНИЕ  ЖИВОТН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ЕТУХ   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РОС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ТКА  ГУ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ОБАКА    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26" dur="3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227" dur="3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228" dur="3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1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38" dur="1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55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56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1500" autoRev="1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261" dur="1500" autoRev="1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62" dur="1500" autoRev="1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11:29:24Z</dcterms:created>
  <dc:creator>User</dc:creator>
  <dc:description/>
  <dc:language>en-US</dc:language>
  <cp:lastModifiedBy>Пользователь</cp:lastModifiedBy>
  <dcterms:modified xsi:type="dcterms:W3CDTF">2019-11-21T07:04:25Z</dcterms:modified>
  <cp:revision>7</cp:revision>
  <dc:subject/>
  <dc:title>ДОМАШНИЕ  ЖИВОТНЫЕ</dc:title>
</cp:coreProperties>
</file>