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3.png" ContentType="image/png"/>
  <Override PartName="/ppt/media/image12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6CE3-680C-4F70-80AA-5B0A9824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7360-8D69-4A54-8597-F85B242D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394A-A4B8-419A-86E9-54123A82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DB06-FB1D-4B8C-892C-58FE28FA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09A8-D523-4A65-B823-E5BA892C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8C95-1E1A-4038-AEC6-25C5AB3A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4A7F-2A1B-4BA7-B4EC-48875E67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F44B-FE22-4473-A277-D9A289FB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63B0-22D1-438C-9F9A-0F523899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9404-F0B7-4CBE-8830-9DBFEDBD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86AC-0921-424A-B69E-E6937292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9A87-F09D-4048-9A1F-36F0C767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3D6C-5D07-4AE5-8EAD-99229D8269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1e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catalog/res/7a9a9e29-0a01-01b2-01e3-bb60e0a23928/?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Картинки по запросу красивый фон для презентации вертикальный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295280" y="1447920"/>
            <a:ext cx="64771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890240" y="5410080"/>
            <a:ext cx="38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аджева Марина Эреджеповна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истории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нкт-Петербург 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цей 126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  <p:pic>
        <p:nvPicPr>
          <p:cNvPr id="44" name="Рисунок 1" descr=""/>
          <p:cNvPicPr/>
          <p:nvPr/>
        </p:nvPicPr>
        <p:blipFill>
          <a:blip r:embed="rId2"/>
          <a:stretch/>
        </p:blipFill>
        <p:spPr>
          <a:xfrm>
            <a:off x="533520" y="-19080"/>
            <a:ext cx="81946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ные интернет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360" y="1828800"/>
            <a:ext cx="899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hool-collection.edu.ru/catalog/res/7a9a9e29-0a01-01b2-01e3-bb60e0a23928/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schooL.edu.ru/ – Каталог Российского общеобразовательного пор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Картинки по запросу красивый фон для презентации вертикальный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366120" y="268200"/>
            <a:ext cx="46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e00"/>
                </a:solidFill>
                <a:latin typeface="Arial"/>
              </a:rPr>
              <a:t>2. Земледелие. Крестьянство</a:t>
            </a:r>
            <a:endParaRPr b="1" lang="en-US" sz="2400" spc="-1" strike="noStrike">
              <a:solidFill>
                <a:srgbClr val="001e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228600" y="914400"/>
            <a:ext cx="85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Основное занятие населения России в начале 16 века  - пашенное земледелие с трёхпольным севооборотом.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  <p:pic>
        <p:nvPicPr>
          <p:cNvPr id="48" name="Picture 2" descr="http://images.myshared.ru/7/784814/slide_8.jpg"/>
          <p:cNvPicPr/>
          <p:nvPr/>
        </p:nvPicPr>
        <p:blipFill>
          <a:blip r:embed="rId2"/>
          <a:stretch/>
        </p:blipFill>
        <p:spPr>
          <a:xfrm>
            <a:off x="914400" y="1828800"/>
            <a:ext cx="7313760" cy="448776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Картинки по запросу красивый фон для презентации вертикальный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2291040" y="304920"/>
            <a:ext cx="45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Набор засеваемых зерновых культур: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3225960" cy="244800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pic>
        <p:nvPicPr>
          <p:cNvPr id="52" name="Picture 6" descr=""/>
          <p:cNvPicPr/>
          <p:nvPr/>
        </p:nvPicPr>
        <p:blipFill>
          <a:blip r:embed="rId3"/>
          <a:srcRect l="0" t="0" r="756" b="0"/>
          <a:stretch/>
        </p:blipFill>
        <p:spPr>
          <a:xfrm>
            <a:off x="5867280" y="838080"/>
            <a:ext cx="2835360" cy="320040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0" t="0" r="591" b="0"/>
          <a:stretch/>
        </p:blipFill>
        <p:spPr>
          <a:xfrm>
            <a:off x="5257800" y="4191120"/>
            <a:ext cx="3494160" cy="224136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sp>
        <p:nvSpPr>
          <p:cNvPr id="54" name="Text Box 8"/>
          <p:cNvSpPr/>
          <p:nvPr/>
        </p:nvSpPr>
        <p:spPr>
          <a:xfrm>
            <a:off x="4114800" y="1752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Озимая рожь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114800" y="525780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Яровой овес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  <p:pic>
        <p:nvPicPr>
          <p:cNvPr id="56" name="Рисунок 1" descr=""/>
          <p:cNvPicPr/>
          <p:nvPr/>
        </p:nvPicPr>
        <p:blipFill>
          <a:blip r:embed="rId5"/>
          <a:stretch/>
        </p:blipFill>
        <p:spPr>
          <a:xfrm>
            <a:off x="289080" y="838080"/>
            <a:ext cx="3139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Картинки по запросу красивый фон для презентации вертикальный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ttp://clipground.com/images/ploughed-clipart-12.png"/>
          <p:cNvPicPr/>
          <p:nvPr/>
        </p:nvPicPr>
        <p:blipFill>
          <a:blip r:embed="rId2"/>
          <a:stretch/>
        </p:blipFill>
        <p:spPr>
          <a:xfrm>
            <a:off x="152280" y="533520"/>
            <a:ext cx="4267440" cy="2244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s://torange.biz/photo/28/28886/28886-FX-8-0-12-6-0-0.jpg"/>
          <p:cNvPicPr/>
          <p:nvPr/>
        </p:nvPicPr>
        <p:blipFill>
          <a:blip r:embed="rId3"/>
          <a:stretch/>
        </p:blipFill>
        <p:spPr>
          <a:xfrm>
            <a:off x="4648320" y="303120"/>
            <a:ext cx="4174920" cy="503100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pic>
        <p:nvPicPr>
          <p:cNvPr id="60" name="Picture 4" descr="https://konspekta.net/infopediasu/baza12/3080238595685.files/image012.jpg"/>
          <p:cNvPicPr/>
          <p:nvPr/>
        </p:nvPicPr>
        <p:blipFill>
          <a:blip r:embed="rId4"/>
          <a:stretch/>
        </p:blipFill>
        <p:spPr>
          <a:xfrm>
            <a:off x="457200" y="3657600"/>
            <a:ext cx="3314880" cy="170496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sp>
        <p:nvSpPr>
          <p:cNvPr id="61" name="Text Box 6"/>
          <p:cNvSpPr/>
          <p:nvPr/>
        </p:nvSpPr>
        <p:spPr>
          <a:xfrm>
            <a:off x="3506760" y="571500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Плуг и борона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Картинки по запросу красивый фон для презентации вертикальный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382680" y="38088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e00"/>
                </a:solidFill>
                <a:latin typeface="Arial"/>
              </a:rPr>
              <a:t>3. Казачество</a:t>
            </a:r>
            <a:endParaRPr b="1" lang="en-US" sz="2400" spc="-1" strike="noStrike">
              <a:solidFill>
                <a:srgbClr val="001e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93640" y="4684680"/>
            <a:ext cx="81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Казачество в основном состояло из беглых крестьян. Они защищали южные и восточные рубежи России от набегов крымских и казанских татар. Получали жалование деньгами, хлебом и боеприпасами.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  <p:pic>
        <p:nvPicPr>
          <p:cNvPr id="65" name="Рисунок 1" descr=""/>
          <p:cNvPicPr/>
          <p:nvPr/>
        </p:nvPicPr>
        <p:blipFill>
          <a:blip r:embed="rId2"/>
          <a:stretch/>
        </p:blipFill>
        <p:spPr>
          <a:xfrm>
            <a:off x="1058760" y="858960"/>
            <a:ext cx="7239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Картинки по запросу красивый фон для презентации вертикальный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www.moscowchronology.ru/sites/default/files/images/culture/culture_XVIII.jpg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523880" y="304920"/>
            <a:ext cx="6134400" cy="458784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sp>
        <p:nvSpPr>
          <p:cNvPr id="68" name="Text Box 4"/>
          <p:cNvSpPr/>
          <p:nvPr/>
        </p:nvSpPr>
        <p:spPr>
          <a:xfrm>
            <a:off x="441360" y="5141880"/>
            <a:ext cx="83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В городах жили: купцы, бояре, государевы наместники (судили горожан, следили за сбором пошлин и крепостными постройками). Основная часть населения – ремесленники, которые платили налоги и несли повинности в пользу государства – «черные» горожане.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Картинки по запросу красивый фон для презентации вертикальный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365400" y="26820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e00"/>
                </a:solidFill>
                <a:latin typeface="Arial"/>
              </a:rPr>
              <a:t>6. Торговля</a:t>
            </a:r>
            <a:endParaRPr b="1" lang="en-US" sz="2400" spc="-1" strike="noStrike">
              <a:solidFill>
                <a:srgbClr val="001e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974880" y="914400"/>
            <a:ext cx="816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1e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Россия избавилась от владычества Золотой Орды.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 marL="343080" indent="-343080">
              <a:buClr>
                <a:srgbClr val="001e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Формировалось единое государство: исчезли внутренние границы, таможни.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  <p:pic>
        <p:nvPicPr>
          <p:cNvPr id="72" name="Picture 4" descr="https://kostroma.today/wp-content/uploads/2017/09/1326190216_0_6d02_cb8f0577_XL-800x601.jpg"/>
          <p:cNvPicPr/>
          <p:nvPr/>
        </p:nvPicPr>
        <p:blipFill>
          <a:blip r:embed="rId2"/>
          <a:stretch/>
        </p:blipFill>
        <p:spPr>
          <a:xfrm>
            <a:off x="457200" y="2057400"/>
            <a:ext cx="5791320" cy="434988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sp>
        <p:nvSpPr>
          <p:cNvPr id="73" name="Text Box 7"/>
          <p:cNvSpPr/>
          <p:nvPr/>
        </p:nvSpPr>
        <p:spPr>
          <a:xfrm>
            <a:off x="6477120" y="2590920"/>
            <a:ext cx="2225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Торги, торжки (ремесленные изделия, овощи, мясо, рыба)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Ярмарки (хлеб, мёд, соль, скот, мясо, рыба, посуда, обувь, нарядные ткани)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Картинки по запросу красивый фон для презентации вертикальный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459360" y="30492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e00"/>
                </a:solidFill>
                <a:latin typeface="Arial"/>
              </a:rPr>
              <a:t>7. Денежная система</a:t>
            </a:r>
            <a:endParaRPr b="1" lang="en-US" sz="2400" spc="-1" strike="noStrike">
              <a:solidFill>
                <a:srgbClr val="001e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57200" y="914400"/>
            <a:ext cx="82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1535 – 1538 гг. – денежная реформа: хождение старых монет было запрещено, вводился московский рубль, появилась копейка, был основан казённый монетный двор.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  <p:pic>
        <p:nvPicPr>
          <p:cNvPr id="77" name="Picture 6" descr="https://utmagazine.ru/uploads/content/%D0%9C%D0%BE%D1%81%D0%BA%D0%BE%D0%B2%D1%81%D0%BA%D0%B0%D1%8F_%D0%B4%D0%B5%D0%BD%D1%8C%D0%B3%D0%B0.jpg"/>
          <p:cNvPicPr/>
          <p:nvPr/>
        </p:nvPicPr>
        <p:blipFill>
          <a:blip r:embed="rId2"/>
          <a:stretch/>
        </p:blipFill>
        <p:spPr>
          <a:xfrm>
            <a:off x="304920" y="1981080"/>
            <a:ext cx="4495680" cy="233208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pic>
        <p:nvPicPr>
          <p:cNvPr id="78" name="Picture 4" descr="http://vera-eskom.ru/wp-content/uploads/2015/04/Na_kopeyku_v_XVI_veke_mozhno_bylo_kupit_tri_kil.jpg"/>
          <p:cNvPicPr/>
          <p:nvPr/>
        </p:nvPicPr>
        <p:blipFill>
          <a:blip r:embed="rId3"/>
          <a:stretch/>
        </p:blipFill>
        <p:spPr>
          <a:xfrm>
            <a:off x="304920" y="4343400"/>
            <a:ext cx="4495680" cy="216684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sp>
        <p:nvSpPr>
          <p:cNvPr id="79" name="Text Box 7"/>
          <p:cNvSpPr/>
          <p:nvPr/>
        </p:nvSpPr>
        <p:spPr>
          <a:xfrm>
            <a:off x="5184720" y="2971800"/>
            <a:ext cx="2311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Московский рубль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00"/>
                </a:solidFill>
                <a:latin typeface="Arial"/>
              </a:rPr>
              <a:t>Копейка</a:t>
            </a:r>
            <a:endParaRPr b="1" lang="en-US" sz="1800" spc="-1" strike="noStrike">
              <a:solidFill>
                <a:srgbClr val="001e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Картинки по запросу красивый фон для презентации вертикальный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2668320" y="1752480"/>
            <a:ext cx="35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e00"/>
                </a:solidFill>
                <a:latin typeface="Arial"/>
              </a:rPr>
              <a:t>Домашнее задание:</a:t>
            </a:r>
            <a:endParaRPr b="1" lang="en-US" sz="2400" spc="-1" strike="noStrike">
              <a:solidFill>
                <a:srgbClr val="001e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e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e00"/>
                </a:solidFill>
                <a:latin typeface="Arial"/>
              </a:rPr>
              <a:t>стр. 14 пункт 1</a:t>
            </a:r>
            <a:endParaRPr b="1" lang="en-US" sz="2400" spc="-1" strike="noStrike">
              <a:solidFill>
                <a:srgbClr val="001e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e00"/>
                </a:solidFill>
                <a:latin typeface="Arial"/>
              </a:rPr>
              <a:t>стр. 15-16 пункты 2 - 3</a:t>
            </a:r>
            <a:endParaRPr b="1" lang="en-US" sz="2400" spc="-1" strike="noStrike">
              <a:solidFill>
                <a:srgbClr val="001e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e00"/>
                </a:solidFill>
                <a:latin typeface="Arial"/>
              </a:rPr>
              <a:t>стр. 18 пункт 7</a:t>
            </a:r>
            <a:endParaRPr b="1" lang="en-US" sz="2400" spc="-1" strike="noStrike">
              <a:solidFill>
                <a:srgbClr val="001e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e00"/>
                </a:solidFill>
                <a:latin typeface="Arial"/>
              </a:rPr>
              <a:t>записи в тетради</a:t>
            </a:r>
            <a:endParaRPr b="1" lang="en-US" sz="2400" spc="-1" strike="noStrike">
              <a:solidFill>
                <a:srgbClr val="001e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2T17:14:15Z</dcterms:created>
  <dc:creator>User</dc:creator>
  <dc:description/>
  <dc:language>en-US</dc:language>
  <cp:lastModifiedBy>Марина</cp:lastModifiedBy>
  <dcterms:modified xsi:type="dcterms:W3CDTF">2019-11-22T17:47:2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