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F4B-8C6F-41FF-B980-4A32D3B8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285-7BB6-400C-9123-D967D5B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406-292C-4291-B27E-2ED65CCE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49C-2464-4654-B2E7-A944D44A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385-8742-493B-8448-F4D0932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199-984B-4309-A5F4-568397D7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AE3-C32D-4E88-9DD3-44C7BF64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8BC-B9CA-465A-9986-9FA7CEDB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047-AA78-4063-A2B5-C480085B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479-4597-4BEA-8B2E-7C07976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D67-9A5A-4C85-98C7-BB9E57E9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234-1DA9-483C-B4D7-611F9D9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F5F-0D9D-4B8E-9E08-FDCBA3693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/res/7a9a9e29-0a01-01b2-01e3-bb60e0a23928/?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295280" y="1447920"/>
            <a:ext cx="64771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890240" y="5410080"/>
            <a:ext cx="38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аджева Марина Эреджеповн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ей 126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533520" y="-19080"/>
            <a:ext cx="819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18288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/res/7a9a9e29-0a01-01b2-01e3-bb60e0a23928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schooL.edu.ru/ – Каталог Российского общеобразовательного пор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66120" y="26820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2. Земледелие. Крестьянство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28600" y="91440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Основное занятие населения России в начале 16 века  - пашенное земледелие с трёхпольным севооборотом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48" name="Picture 2" descr="http://images.myshared.ru/7/784814/slide_8.jpg"/>
          <p:cNvPicPr/>
          <p:nvPr/>
        </p:nvPicPr>
        <p:blipFill>
          <a:blip r:embed="rId2"/>
          <a:stretch/>
        </p:blipFill>
        <p:spPr>
          <a:xfrm>
            <a:off x="914400" y="1828800"/>
            <a:ext cx="7313760" cy="4487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91040" y="3049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Набор засеваемых зерновых культур: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225960" cy="2448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52" name="Picture 6" descr=""/>
          <p:cNvPicPr/>
          <p:nvPr/>
        </p:nvPicPr>
        <p:blipFill>
          <a:blip r:embed="rId3"/>
          <a:srcRect l="0" t="0" r="756" b="0"/>
          <a:stretch/>
        </p:blipFill>
        <p:spPr>
          <a:xfrm>
            <a:off x="5867280" y="838080"/>
            <a:ext cx="2835360" cy="32004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0" t="0" r="591" b="0"/>
          <a:stretch/>
        </p:blipFill>
        <p:spPr>
          <a:xfrm>
            <a:off x="5257800" y="4191120"/>
            <a:ext cx="3494160" cy="22413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411480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Озимая рожь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525780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Яровой овес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5"/>
          <a:stretch/>
        </p:blipFill>
        <p:spPr>
          <a:xfrm>
            <a:off x="289080" y="838080"/>
            <a:ext cx="313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clipground.com/images/ploughed-clipart-12.png"/>
          <p:cNvPicPr/>
          <p:nvPr/>
        </p:nvPicPr>
        <p:blipFill>
          <a:blip r:embed="rId2"/>
          <a:stretch/>
        </p:blipFill>
        <p:spPr>
          <a:xfrm>
            <a:off x="152280" y="533520"/>
            <a:ext cx="4267440" cy="22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s://torange.biz/photo/28/28886/28886-FX-8-0-12-6-0-0.jpg"/>
          <p:cNvPicPr/>
          <p:nvPr/>
        </p:nvPicPr>
        <p:blipFill>
          <a:blip r:embed="rId3"/>
          <a:stretch/>
        </p:blipFill>
        <p:spPr>
          <a:xfrm>
            <a:off x="4648320" y="303120"/>
            <a:ext cx="4174920" cy="5031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60" name="Picture 4" descr="https://konspekta.net/infopediasu/baza12/3080238595685.files/image012.jpg"/>
          <p:cNvPicPr/>
          <p:nvPr/>
        </p:nvPicPr>
        <p:blipFill>
          <a:blip r:embed="rId4"/>
          <a:stretch/>
        </p:blipFill>
        <p:spPr>
          <a:xfrm>
            <a:off x="457200" y="3657600"/>
            <a:ext cx="3314880" cy="17049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3506760" y="5715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Плуг и борон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82680" y="3808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3. Казачество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93640" y="468468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Казачество в основном состояло из беглых крестьян. Они защищали южные и восточные рубежи России от набегов крымских и казанских татар. Получали жалование деньгами, хлебом и боеприпасами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1058760" y="85896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moscowchronology.ru/sites/default/files/images/culture/culture_XVIII.jp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3880" y="304920"/>
            <a:ext cx="6134400" cy="458784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68" name="Text Box 4"/>
          <p:cNvSpPr/>
          <p:nvPr/>
        </p:nvSpPr>
        <p:spPr>
          <a:xfrm>
            <a:off x="441360" y="5141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В городах жили: купцы, бояре, государевы наместники (судили горожан, следили за сбором пошлин и крепостными постройками). Основная часть населения – ремесленники, которые платили налоги и несли повинности в пользу государства – «черные» горожане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65400" y="2682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6. Торговля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74880" y="91440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1e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Россия избавилась от владычества Золотой Орды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 marL="343080" indent="-343080">
              <a:buClr>
                <a:srgbClr val="001e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Формировалось единое государство: исчезли внутренние границы, таможни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72" name="Picture 4" descr="https://kostroma.today/wp-content/uploads/2017/09/1326190216_0_6d02_cb8f0577_XL-800x601.jpg"/>
          <p:cNvPicPr/>
          <p:nvPr/>
        </p:nvPicPr>
        <p:blipFill>
          <a:blip r:embed="rId2"/>
          <a:stretch/>
        </p:blipFill>
        <p:spPr>
          <a:xfrm>
            <a:off x="457200" y="2057400"/>
            <a:ext cx="5791320" cy="43498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6477120" y="2590920"/>
            <a:ext cx="222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Торги, торжки (ремесленные изделия, овощи, мясо, рыба)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Ярмарки (хлеб, мёд, соль, скот, мясо, рыба, посуда, обувь, нарядные ткани)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9360" y="3049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7. Денежная система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9144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1535 – 1538 гг. – денежная реформа: хождение старых монет было запрещено, вводился московский рубль, появилась копейка, был основан казённый монетный двор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77" name="Picture 6" descr="https://utmagazine.ru/uploads/content/%D0%9C%D0%BE%D1%81%D0%BA%D0%BE%D0%B2%D1%81%D0%BA%D0%B0%D1%8F_%D0%B4%D0%B5%D0%BD%D1%8C%D0%B3%D0%B0.jpg"/>
          <p:cNvPicPr/>
          <p:nvPr/>
        </p:nvPicPr>
        <p:blipFill>
          <a:blip r:embed="rId2"/>
          <a:stretch/>
        </p:blipFill>
        <p:spPr>
          <a:xfrm>
            <a:off x="304920" y="1981080"/>
            <a:ext cx="4495680" cy="23320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78" name="Picture 4" descr="http://vera-eskom.ru/wp-content/uploads/2015/04/Na_kopeyku_v_XVI_veke_mozhno_bylo_kupit_tri_kil.jpg"/>
          <p:cNvPicPr/>
          <p:nvPr/>
        </p:nvPicPr>
        <p:blipFill>
          <a:blip r:embed="rId3"/>
          <a:stretch/>
        </p:blipFill>
        <p:spPr>
          <a:xfrm>
            <a:off x="304920" y="4343400"/>
            <a:ext cx="4495680" cy="216684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79" name="Text Box 7"/>
          <p:cNvSpPr/>
          <p:nvPr/>
        </p:nvSpPr>
        <p:spPr>
          <a:xfrm>
            <a:off x="5184720" y="2971800"/>
            <a:ext cx="231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Московский рубль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Копейк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668320" y="1752480"/>
            <a:ext cx="35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Домашнее задание: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4 пункт 1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5-16 пункты 2 - 3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8 пункт 7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записи в тетради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2T17:14:15Z</dcterms:created>
  <dc:creator>User</dc:creator>
  <dc:description/>
  <dc:language>en-US</dc:language>
  <cp:lastModifiedBy>Марина</cp:lastModifiedBy>
  <dcterms:modified xsi:type="dcterms:W3CDTF">2019-11-22T17:47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