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D28-FC41-4836-855A-2BEBC0A6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55D-E663-4BA1-A2FA-F62E005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F20-460A-4080-9600-556A54A5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809-990A-49F0-9F19-06607048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8FC-38B9-417D-B5BD-8A59FFB2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11F-C74B-4C9B-9F89-9F351089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49B-64D2-4251-8DBD-8AF6F010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F64-416B-423B-8A3A-08D1937D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471-A4F3-4A80-916F-5760716B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5B7-DB18-4726-81A3-61391F74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2CD-156A-4EA0-8B9D-1E308BB9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A0E-B09E-4577-8A13-5A80BA0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2A82-03E4-45E1-8839-3201ED5C1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2" name="Прямоугольник 6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0" y="645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"Несение креста“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XIX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ек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Художник Федор Антонович Молл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ds02.infourok.ru/uploads/ex/0c74/00016c03-96c14321/640/img23.jpg"/>
          <p:cNvPicPr/>
          <p:nvPr/>
        </p:nvPicPr>
        <p:blipFill>
          <a:blip r:embed="rId2"/>
          <a:stretch/>
        </p:blipFill>
        <p:spPr>
          <a:xfrm>
            <a:off x="0" y="135000"/>
            <a:ext cx="91566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s://ds02.infourok.ru/uploads/ex/0c74/00016c03-96c14321/640/img24.jpg"/>
          <p:cNvPicPr/>
          <p:nvPr/>
        </p:nvPicPr>
        <p:blipFill>
          <a:blip r:embed="rId2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G:\уроки_все\уроки2010\ОРКСЭ\крест\вор.jpg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43280" y="274320"/>
            <a:ext cx="259236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Почему первым из людей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рай вошёл разбой-н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Иисус Назарянин, царь иудейский "/>
          <p:cNvPicPr/>
          <p:nvPr/>
        </p:nvPicPr>
        <p:blipFill>
          <a:blip r:embed="rId2"/>
          <a:stretch/>
        </p:blipFill>
        <p:spPr>
          <a:xfrm>
            <a:off x="34920" y="152280"/>
            <a:ext cx="91090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000" y="1699920"/>
            <a:ext cx="4174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Для ме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«нести крес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это знач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G:\уроки_все\уроки2010\ОРКСЭ\картинки\нательный.jpg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ак ты считаешь, можно ли носить крест ради украшения? Почему? "/>
          <p:cNvPicPr/>
          <p:nvPr/>
        </p:nvPicPr>
        <p:blipFill>
          <a:blip r:embed="rId2"/>
          <a:stretch/>
        </p:blipFill>
        <p:spPr>
          <a:xfrm>
            <a:off x="250920" y="135000"/>
            <a:ext cx="864216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ds02.infourok.ru/uploads/ex/0c74/00016c03-96c14321/640/img19.jpg"/>
          <p:cNvPicPr/>
          <p:nvPr/>
        </p:nvPicPr>
        <p:blipFill>
          <a:blip r:embed="rId2"/>
          <a:stretch/>
        </p:blipFill>
        <p:spPr>
          <a:xfrm>
            <a:off x="179280" y="25560"/>
            <a:ext cx="8856720" cy="67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12000" y="274680"/>
            <a:ext cx="2674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Христос и Его крес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724000" y="5013360"/>
            <a:ext cx="32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«Несение креста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577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дрид. Прад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526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7" name="Picture 4" descr="G:\уроки_все\уроки2010\ОРКСЭ\картинки\нательный.jpg"/>
          <p:cNvPicPr/>
          <p:nvPr/>
        </p:nvPicPr>
        <p:blipFill>
          <a:blip r:embed="rId2"/>
          <a:stretch/>
        </p:blipFill>
        <p:spPr>
          <a:xfrm>
            <a:off x="6659640" y="2565360"/>
            <a:ext cx="14047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46144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«Нести свой крес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557360"/>
          <a:ext cx="8353440" cy="4586400"/>
        </p:xfrm>
        <a:graphic>
          <a:graphicData uri="http://schemas.openxmlformats.org/drawingml/2006/table">
            <a:tbl>
              <a:tblPr/>
              <a:tblGrid>
                <a:gridCol w="3421080"/>
                <a:gridCol w="4932360"/>
              </a:tblGrid>
              <a:tr h="1897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Зачем христиане нося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ательные крестик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рест напоминает нам о…</a:t>
                      </a:r>
                      <a:br>
                        <a:rPr sz="2800"/>
                      </a:b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nstantia"/>
                          <a:ea typeface="Times New Roman"/>
                        </a:rPr>
                        <a:t>казни Хри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nstantia"/>
                          <a:ea typeface="Times New Roman"/>
                        </a:rPr>
                        <a:t>и Его жертв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Что означает выражение: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нести свой крест?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Каждый должен</a:t>
                      </a:r>
                      <a:r>
                        <a:rPr b="1" lang="ru-RU" sz="2800" spc="-1" strike="noStrike">
                          <a:solidFill>
                            <a:srgbClr val="943634"/>
                          </a:solidFill>
                          <a:latin typeface="Constantia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nstantia"/>
                          <a:ea typeface="Times New Roman"/>
                        </a:rPr>
                        <a:t>выполнять свои обязанности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даже если </a:t>
                      </a: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nstantia"/>
                          <a:ea typeface="Times New Roman"/>
                        </a:rPr>
                        <a:t>это трудно, почти невозмож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Прямоугольник 12"/>
          <p:cNvSpPr/>
          <p:nvPr/>
        </p:nvSpPr>
        <p:spPr>
          <a:xfrm>
            <a:off x="4284720" y="2349360"/>
            <a:ext cx="3786120" cy="10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3"/>
          <p:cNvSpPr/>
          <p:nvPr/>
        </p:nvSpPr>
        <p:spPr>
          <a:xfrm>
            <a:off x="3924360" y="4653000"/>
            <a:ext cx="26337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4572000" y="4149720"/>
            <a:ext cx="33130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4356000" y="5084640"/>
            <a:ext cx="37861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G:\уроки_все\уроки2010\ОРКСЭ\крест\несение креста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823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0" y="115560"/>
            <a:ext cx="4103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Накануне ка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76360" y="907920"/>
            <a:ext cx="381636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5040" indent="2145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че Мой! Если возможно, да минует Меня чаша сия; впрочем, не так как Я хочу, но как Ты»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" indent="2145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Ещё, отойдя в другой раз, молился, говоря: Отче Мой! Если не может чаша сия миновать Меня, чтобы мне не пить её, да будет воля твоя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" indent="21456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nstantia"/>
              </a:rPr>
              <a:t>Евангелие от Матфея, глава 26 стихи 39, 4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40" indent="214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46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уроки_все\уроки2010\ОРКСЭ\крест\голгофа.jpg"/>
          <p:cNvPicPr/>
          <p:nvPr/>
        </p:nvPicPr>
        <p:blipFill>
          <a:blip r:embed="rId1"/>
          <a:srcRect l="1002" t="986" r="1243" b="9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14480" y="115560"/>
            <a:ext cx="52498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Дорога на Голгоф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G:\уроки_все\уроки2010\ОРКСЭ\крест\крест.jpg"/>
          <p:cNvPicPr/>
          <p:nvPr/>
        </p:nvPicPr>
        <p:blipFill>
          <a:blip r:embed="rId2"/>
          <a:stretch/>
        </p:blipFill>
        <p:spPr>
          <a:xfrm>
            <a:off x="108000" y="115920"/>
            <a:ext cx="2592360" cy="352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33498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Крест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– символ Люб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2133720"/>
            <a:ext cx="3456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120" indent="20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Верующие совершают свои подвиги, чтобы доказать свою любовь к Бог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0" indent="20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А как Бог доказал людям Свою любов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7" descr="s320x240(1).jpg"/>
          <p:cNvPicPr/>
          <p:nvPr/>
        </p:nvPicPr>
        <p:blipFill>
          <a:blip r:embed="rId1"/>
          <a:stretch/>
        </p:blipFill>
        <p:spPr>
          <a:xfrm>
            <a:off x="3687840" y="0"/>
            <a:ext cx="54561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G:\уроки_все\уроки2010\ОРКСЭ\крест\гроз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s://ds02.infourok.ru/uploads/ex/0c74/00016c03-96c14321/640/img22.jpg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1640" y="333360"/>
            <a:ext cx="41036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РАСП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56000" y="1125360"/>
            <a:ext cx="4608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Хор ангелов великий час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осславил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И небеса расплавились в ог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тцу сказал: «Почто Ме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ставил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А Матери: «О, не рыдай Мене..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Магдалина билась и рыдал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еник любимый каменел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А туда, где молча Мать стоял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Так никто взглянуть и 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сме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Анна  Ахмат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Documents and Settings\1\Рабочий стол\d01107.bmp"/>
          <p:cNvPicPr/>
          <p:nvPr/>
        </p:nvPicPr>
        <p:blipFill>
          <a:blip r:embed="rId1"/>
          <a:stretch/>
        </p:blipFill>
        <p:spPr>
          <a:xfrm>
            <a:off x="0" y="14400"/>
            <a:ext cx="4211640" cy="680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Picture 6" descr=""/>
          <p:cNvPicPr/>
          <p:nvPr/>
        </p:nvPicPr>
        <p:blipFill>
          <a:blip r:embed="rId2"/>
          <a:srcRect l="0" t="0" r="0" b="1299"/>
          <a:stretch/>
        </p:blipFill>
        <p:spPr>
          <a:xfrm>
            <a:off x="-612720" y="0"/>
            <a:ext cx="4797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6:31:40Z</dcterms:created>
  <dc:creator>Admin</dc:creator>
  <dc:description/>
  <dc:language>en-US</dc:language>
  <cp:lastModifiedBy>Dima</cp:lastModifiedBy>
  <dcterms:modified xsi:type="dcterms:W3CDTF">2019-11-17T16:40:29Z</dcterms:modified>
  <cp:revision>60</cp:revision>
  <dc:subject/>
  <dc:title>Слайд 1</dc:title>
</cp:coreProperties>
</file>