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3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7F79-2C0D-4240-BA71-A589F7136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7286-B9F8-4AA0-8D5B-F498909B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F1C2-8B79-494D-8E3B-F075B2309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A19C-58BA-4598-8D45-2207D54FC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BEFF-2FE6-48E7-A5F3-FD38F6D3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1DED-3B2A-4456-8419-D0C016B6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4284-D06C-4835-89E4-24AF1C25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BDF8-EA2A-44EF-98E6-957EC817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7650-8F04-44A4-8F73-AC575F31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A4FA-3B15-4E88-B0A8-FDF1DC99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1D4D-E1F9-4F12-B963-63217847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0AB1-CE5B-4A96-B4AA-FC66B9BA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E207-F5DA-4EA2-AF20-75126D31DA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rcRect l="0" t="0" r="0" b="346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42" name="Прямоугольник 6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0" y="6453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"Несение креста“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век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Художник Федор Антонович Молле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s://ds02.infourok.ru/uploads/ex/0c74/00016c03-96c14321/640/img23.jpg"/>
          <p:cNvPicPr/>
          <p:nvPr/>
        </p:nvPicPr>
        <p:blipFill>
          <a:blip r:embed="rId2"/>
          <a:stretch/>
        </p:blipFill>
        <p:spPr>
          <a:xfrm>
            <a:off x="0" y="135000"/>
            <a:ext cx="9156600" cy="66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https://ds02.infourok.ru/uploads/ex/0c74/00016c03-96c14321/640/img24.jpg"/>
          <p:cNvPicPr/>
          <p:nvPr/>
        </p:nvPicPr>
        <p:blipFill>
          <a:blip r:embed="rId2"/>
          <a:stretch/>
        </p:blipFill>
        <p:spPr>
          <a:xfrm>
            <a:off x="108000" y="115920"/>
            <a:ext cx="892800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G:\уроки_все\уроки2010\ОРКСЭ\крест\вор.jpg"/>
          <p:cNvPicPr/>
          <p:nvPr/>
        </p:nvPicPr>
        <p:blipFill>
          <a:blip r:embed="rId1"/>
          <a:stretch/>
        </p:blipFill>
        <p:spPr>
          <a:xfrm>
            <a:off x="0" y="0"/>
            <a:ext cx="762012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443280" y="274320"/>
            <a:ext cx="259236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</a:rPr>
              <a:t>Почему первым из людей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onstantia"/>
              </a:rPr>
              <a:t>в рай вошёл разбой-ник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Иисус Назарянин, царь иудейский "/>
          <p:cNvPicPr/>
          <p:nvPr/>
        </p:nvPicPr>
        <p:blipFill>
          <a:blip r:embed="rId2"/>
          <a:stretch/>
        </p:blipFill>
        <p:spPr>
          <a:xfrm>
            <a:off x="34920" y="152280"/>
            <a:ext cx="910908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432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onstantia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4000" y="1699920"/>
            <a:ext cx="41749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Для мен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«нести крест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это значи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G:\уроки_все\уроки2010\ОРКСЭ\картинки\нательный.jpg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Как ты считаешь, можно ли носить крест ради украшения? Почему? "/>
          <p:cNvPicPr/>
          <p:nvPr/>
        </p:nvPicPr>
        <p:blipFill>
          <a:blip r:embed="rId2"/>
          <a:stretch/>
        </p:blipFill>
        <p:spPr>
          <a:xfrm>
            <a:off x="250920" y="135000"/>
            <a:ext cx="8642160" cy="66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https://ds02.infourok.ru/uploads/ex/0c74/00016c03-96c14321/640/img19.jpg"/>
          <p:cNvPicPr/>
          <p:nvPr/>
        </p:nvPicPr>
        <p:blipFill>
          <a:blip r:embed="rId2"/>
          <a:stretch/>
        </p:blipFill>
        <p:spPr>
          <a:xfrm>
            <a:off x="179280" y="25560"/>
            <a:ext cx="8856720" cy="67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12000" y="274680"/>
            <a:ext cx="26748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Христос и Его крес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724000" y="5013360"/>
            <a:ext cx="3240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«Несение креста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1577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адрид. Прад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52600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7" name="Picture 4" descr="G:\уроки_все\уроки2010\ОРКСЭ\картинки\нательный.jpg"/>
          <p:cNvPicPr/>
          <p:nvPr/>
        </p:nvPicPr>
        <p:blipFill>
          <a:blip r:embed="rId2"/>
          <a:stretch/>
        </p:blipFill>
        <p:spPr>
          <a:xfrm>
            <a:off x="6659640" y="2565360"/>
            <a:ext cx="140472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461440" cy="62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«Нести свой крест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24000" y="1557360"/>
          <a:ext cx="8353440" cy="4586400"/>
        </p:xfrm>
        <a:graphic>
          <a:graphicData uri="http://schemas.openxmlformats.org/drawingml/2006/table">
            <a:tbl>
              <a:tblPr/>
              <a:tblGrid>
                <a:gridCol w="3421080"/>
                <a:gridCol w="4932360"/>
              </a:tblGrid>
              <a:tr h="18972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Зачем христиане нося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нательные крестики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Крест напоминает нам о…</a:t>
                      </a:r>
                      <a:br>
                        <a:rPr sz="2800"/>
                      </a:br>
                      <a:r>
                        <a:rPr b="1" i="1" lang="ru-RU" sz="2800" spc="-1" strike="noStrike">
                          <a:solidFill>
                            <a:srgbClr val="c00000"/>
                          </a:solidFill>
                          <a:latin typeface="Constantia"/>
                          <a:ea typeface="Times New Roman"/>
                        </a:rPr>
                        <a:t>казни Хрис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00000"/>
                          </a:solidFill>
                          <a:latin typeface="Constantia"/>
                          <a:ea typeface="Times New Roman"/>
                        </a:rPr>
                        <a:t>и Его жертв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92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Что означает выражение: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«нести свой крест?»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Каждый должен</a:t>
                      </a:r>
                      <a:r>
                        <a:rPr b="1" lang="ru-RU" sz="2800" spc="-1" strike="noStrike">
                          <a:solidFill>
                            <a:srgbClr val="943634"/>
                          </a:solidFill>
                          <a:latin typeface="Constantia"/>
                          <a:ea typeface="Times New Roman"/>
                        </a:rPr>
                        <a:t> </a:t>
                      </a:r>
                      <a:r>
                        <a:rPr b="1" i="1" lang="ru-RU" sz="2800" spc="-1" strike="noStrike">
                          <a:solidFill>
                            <a:srgbClr val="c00000"/>
                          </a:solidFill>
                          <a:latin typeface="Constantia"/>
                          <a:ea typeface="Times New Roman"/>
                        </a:rPr>
                        <a:t>выполнять свои обязанности,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даже если </a:t>
                      </a:r>
                      <a:r>
                        <a:rPr b="1" i="1" lang="ru-RU" sz="2800" spc="-1" strike="noStrike">
                          <a:solidFill>
                            <a:srgbClr val="c00000"/>
                          </a:solidFill>
                          <a:latin typeface="Constantia"/>
                          <a:ea typeface="Times New Roman"/>
                        </a:rPr>
                        <a:t>это трудно, почти невозможн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Прямоугольник 12"/>
          <p:cNvSpPr/>
          <p:nvPr/>
        </p:nvSpPr>
        <p:spPr>
          <a:xfrm>
            <a:off x="4284720" y="2349360"/>
            <a:ext cx="3786120" cy="10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3"/>
          <p:cNvSpPr/>
          <p:nvPr/>
        </p:nvSpPr>
        <p:spPr>
          <a:xfrm>
            <a:off x="3924360" y="4653000"/>
            <a:ext cx="263376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4"/>
          <p:cNvSpPr/>
          <p:nvPr/>
        </p:nvSpPr>
        <p:spPr>
          <a:xfrm>
            <a:off x="4572000" y="4149720"/>
            <a:ext cx="331308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5"/>
          <p:cNvSpPr/>
          <p:nvPr/>
        </p:nvSpPr>
        <p:spPr>
          <a:xfrm>
            <a:off x="4356000" y="5084640"/>
            <a:ext cx="3786120" cy="78588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G:\уроки_все\уроки2010\ОРКСЭ\крест\несение креста.jpg"/>
          <p:cNvPicPr/>
          <p:nvPr/>
        </p:nvPicPr>
        <p:blipFill>
          <a:blip r:embed="rId1"/>
          <a:stretch/>
        </p:blipFill>
        <p:spPr>
          <a:xfrm>
            <a:off x="250920" y="907920"/>
            <a:ext cx="8642160" cy="5823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32000" y="115560"/>
            <a:ext cx="4103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nstantia"/>
              </a:rPr>
              <a:t>Накануне казн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076360" y="907920"/>
            <a:ext cx="3816360" cy="45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5040" indent="2145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тче Мой! Если возможно, да минует Меня чаша сия; впрочем, не так как Я хочу, но как Ты»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40" indent="2145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«Ещё, отойдя в другой раз, молился, говоря: Отче Мой! Если не может чаша сия миновать Меня, чтобы мне не пить её, да будет воля твоя»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40" indent="214560"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onstantia"/>
              </a:rPr>
              <a:t>Евангелие от Матфея, глава 26 стихи 39, 42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040" indent="2145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6846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G:\уроки_все\уроки2010\ОРКСЭ\крест\голгофа.jpg"/>
          <p:cNvPicPr/>
          <p:nvPr/>
        </p:nvPicPr>
        <p:blipFill>
          <a:blip r:embed="rId1"/>
          <a:srcRect l="1002" t="986" r="1243" b="92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14480" y="115560"/>
            <a:ext cx="52498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Дорога на Голгоф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G:\уроки_все\уроки2010\ОРКСЭ\крест\крест.jpg"/>
          <p:cNvPicPr/>
          <p:nvPr/>
        </p:nvPicPr>
        <p:blipFill>
          <a:blip r:embed="rId2"/>
          <a:stretch/>
        </p:blipFill>
        <p:spPr>
          <a:xfrm>
            <a:off x="108000" y="115920"/>
            <a:ext cx="2592360" cy="3527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33498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nstantia"/>
              </a:rPr>
              <a:t>Крест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onstantia"/>
              </a:rPr>
              <a:t>– символ Любв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8000" y="2133720"/>
            <a:ext cx="3456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6120" indent="20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Верующие совершают свои подвиги, чтобы доказать свою любовь к Бог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120" indent="20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nstantia"/>
              </a:rPr>
              <a:t>А как Бог доказал людям Свою любов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7" descr="s320x240(1).jpg"/>
          <p:cNvPicPr/>
          <p:nvPr/>
        </p:nvPicPr>
        <p:blipFill>
          <a:blip r:embed="rId1"/>
          <a:stretch/>
        </p:blipFill>
        <p:spPr>
          <a:xfrm>
            <a:off x="3687840" y="0"/>
            <a:ext cx="545616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G:\уроки_все\уроки2010\ОРКСЭ\крест\гроз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https://ds02.infourok.ru/uploads/ex/0c74/00016c03-96c14321/640/img22.jpg"/>
          <p:cNvPicPr/>
          <p:nvPr/>
        </p:nvPicPr>
        <p:blipFill>
          <a:blip r:embed="rId1"/>
          <a:stretch/>
        </p:blipFill>
        <p:spPr>
          <a:xfrm>
            <a:off x="250920" y="476280"/>
            <a:ext cx="864216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1640" y="333360"/>
            <a:ext cx="410364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РАСПЯТ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356000" y="1125360"/>
            <a:ext cx="4608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Хор ангелов великий час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восславил,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И небеса расплавились в огн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Отцу сказал: «Почто Мен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оставил!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А Матери: «О, не рыдай Мене...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Магдалина билась и рыдала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Ученик любимый каменел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А туда, где молча Мать стояла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Так никто взглянуть и 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посме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Анна  Ахмат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C:\Documents and Settings\1\Рабочий стол\d01107.bmp"/>
          <p:cNvPicPr/>
          <p:nvPr/>
        </p:nvPicPr>
        <p:blipFill>
          <a:blip r:embed="rId1"/>
          <a:stretch/>
        </p:blipFill>
        <p:spPr>
          <a:xfrm>
            <a:off x="0" y="14400"/>
            <a:ext cx="4211640" cy="6805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0" name="Picture 6" descr=""/>
          <p:cNvPicPr/>
          <p:nvPr/>
        </p:nvPicPr>
        <p:blipFill>
          <a:blip r:embed="rId2"/>
          <a:srcRect l="0" t="0" r="0" b="1299"/>
          <a:stretch/>
        </p:blipFill>
        <p:spPr>
          <a:xfrm>
            <a:off x="-612720" y="0"/>
            <a:ext cx="479736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6:31:40Z</dcterms:created>
  <dc:creator>Admin</dc:creator>
  <dc:description/>
  <dc:language>en-US</dc:language>
  <cp:lastModifiedBy>Dima</cp:lastModifiedBy>
  <dcterms:modified xsi:type="dcterms:W3CDTF">2019-11-17T16:40:29Z</dcterms:modified>
  <cp:revision>60</cp:revision>
  <dc:subject/>
  <dc:title>Слайд 1</dc:title>
</cp:coreProperties>
</file>