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FE6B-EECF-45B0-AF49-375243C8A7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D618-A8DF-4D96-9ACF-D40322868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8A6-ECA8-4004-B1A5-30973320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F27-4957-4952-B6C2-340DC4D4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E16-819B-47BB-9C2E-A573694D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DB3-5261-41F4-B72F-4C3DF7B6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20C5-69BF-466E-95CC-0F1B0D28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6AED-9372-4337-82FE-087B18ED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BCDF-4D76-41C1-9515-C575A540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98AB-46F5-44E0-B982-9E122919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C22F-B6F3-4C8F-8FCF-D07A65BC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7DF6-9E42-4E7E-B331-65222F43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9980-5535-4829-9C39-404C4711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011-95EB-4D47-87BF-B2393BB3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213F-3AF4-4BFA-B88F-233E304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5443-E62F-449B-A765-24E8AE35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1F07-C7F8-4377-BC85-A152FBE9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C592-96C3-49CC-AB0C-2C286F3B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044B-7F90-40C8-B001-0E54DE35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58A4B-E74C-4C3E-86D4-8B8F9A23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B4DA-EC6B-4CC2-9225-EA3CE9FC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62F71-1F60-4542-9ED1-6F915B37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B4A83-3A0D-4160-ACEF-D6089A71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4C5F-23EE-491E-92A6-219E6E55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35D-C69F-4F60-9913-290D66F6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24F53-87C3-4911-99A3-116CD5FF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C243-AF2C-48A6-8BCD-323AA875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3F3F-3BDC-4F72-ABD4-A29CBBE8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2D79-0529-450B-A686-4195FAF6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D8A97-7C94-4D18-987E-3B6960CA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324A-D35A-4198-8B95-CD7939A0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DF1E-47FA-4475-A4D7-994010CB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FB6A-B9D3-4C02-BE09-B746C3A6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9FE80-0C7F-43BF-9551-86265F12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F805-B041-4628-8A7C-FE564B2D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301-0C6E-4E58-9C88-775F06F1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E14C-99FE-4E71-8261-993BBA72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867EA-69EB-434B-BFAE-F9C80295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19F4-D261-4721-82C2-684BC3BC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291E4-A542-460F-84E6-B29F005C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A853-8277-4278-A33F-AC812485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534BD-C441-418A-9CB8-1CEE276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A692-C691-4DE3-BC4F-01A1521A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A716-A4DA-4725-85F0-1C24C4DD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D0E5D-6BB8-45AF-8A61-CB444F5E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18E69-C59E-42D6-BBAF-A9F0C5BD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28A-D6D4-44F9-BE4E-ABB76DB5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74B5-4240-4B39-8DEB-D0AD9BA9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EE452-1D53-4B0E-A79C-DA8CC9F5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1220-B8D9-40AA-9943-BAC55DCE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9A83F-5A65-4CAE-B53F-4C67F040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2D934-1057-4CBC-B860-CB312F22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95862-0CCC-48AA-B567-386D98F3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7F038-C017-4EE4-BE55-17AA4A14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0A0CC-98FF-418B-B666-77B097AA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6CF14-487D-4626-AF44-1BFA8C84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EBEE1-AD6F-4158-8646-0FD0822E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FD3-C29A-434B-A301-97F3EBB3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6E682-73D0-444A-B048-D6F389D7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830-5AA9-4D44-A987-CB1463E7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901-6E51-4AA9-A279-159F23DF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C96-0303-4F25-9B7B-A02B94A0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9BAE-BAF2-4D72-9314-AFFDFA097EB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B25D-9EAA-4BEB-9CE9-D2CEB36CF16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F06A-CD97-468A-9505-415F2BA4552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3EBC-3B14-4724-9296-3B643BE27D6D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0620-7607-4F17-BEE1-40BA6782F49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03dd"/>
                </a:solidFill>
                <a:latin typeface="Arial"/>
              </a:rPr>
              <a:t>УТРЕННИЙ КРУГ ВО ВТОРОЙ МЛАДШЕЙ ГРУППЕ «ВАСИЛЬ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sova-2"/>
          <p:cNvPicPr/>
          <p:nvPr/>
        </p:nvPicPr>
        <p:blipFill>
          <a:blip r:embed="rId1"/>
          <a:stretch/>
        </p:blipFill>
        <p:spPr>
          <a:xfrm>
            <a:off x="755640" y="414972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0"/>
          <p:cNvSpPr/>
          <p:nvPr/>
        </p:nvSpPr>
        <p:spPr>
          <a:xfrm>
            <a:off x="2924280" y="4653000"/>
            <a:ext cx="43210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5123160" y="3933720"/>
            <a:ext cx="392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и: воспит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яненко И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кел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1332000" y="189000"/>
            <a:ext cx="67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РЕЖДЕНИЕ ДЕТСКИЙ САД № 22 «ЦВЕТИК-СЕМИЦВЕТИК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РАЗВИВАЮЩЕГО ВИДА ГОРОДСКОГО ОКРУГА ЩЁЛК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УТРЕННИЙ 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1880" y="1099800"/>
            <a:ext cx="7637400" cy="5065560"/>
          </a:xfrm>
          <a:prstGeom prst="rect">
            <a:avLst/>
          </a:prstGeom>
          <a:solidFill>
            <a:srgbClr val="fba67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Утренний круг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это режимный момент, являющийся формой организации образовательного процесса при совместной деятельности взрослых и детей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4c25"/>
                </a:solidFill>
                <a:latin typeface="Times New Roman"/>
              </a:rPr>
              <a:t>Большинство детей  (особенно младшего возраста) болезненно переживают приход в детский сад: их рано разбудили, оторвали от дома и любимых игрушек, то есть малыш обижен на всех. Таким образом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сновная цель проведения утреннего круг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— 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ть тон» всему дню, то есть создать положительный эмоциональный настрой и вселить в ребёнка уверенность, что среди сверстников ему будет хорошо, а день обещает быть интересным и насыщенны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f77bd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2703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03dd"/>
                </a:solidFill>
                <a:latin typeface="Times New Roman"/>
              </a:rPr>
              <a:t>Сплотить детский коллекти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2703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03dd"/>
                </a:solidFill>
                <a:latin typeface="Times New Roman"/>
              </a:rPr>
              <a:t>Формировать внимательное отношение к друг друг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2703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03dd"/>
                </a:solidFill>
                <a:latin typeface="Times New Roman"/>
              </a:rPr>
              <a:t>Снять раздражение, агрессию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2703d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03dd"/>
                </a:solidFill>
                <a:latin typeface="Times New Roman"/>
              </a:rPr>
              <a:t>Создать хорошее настроение на целый день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2F91-DBA7-4795-B2C6-7EE178899E3C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4" descr=""/>
          <p:cNvPicPr/>
          <p:nvPr/>
        </p:nvPicPr>
        <p:blipFill>
          <a:blip r:embed="rId1"/>
          <a:stretch/>
        </p:blipFill>
        <p:spPr>
          <a:xfrm>
            <a:off x="2571840" y="3357720"/>
            <a:ext cx="3600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77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УТРЕННЕГО КРУГА СОЗДАЕТ УСЛОВИЯ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42960" y="200016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Помогает адаптироваться в условиях детского сада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911160" y="1285920"/>
            <a:ext cx="64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Психического  и личностного роста детей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071720" y="2781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Развивает навыки социаль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1000080" y="4581360"/>
            <a:ext cx="76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Помогает решить задачи программы ДОУ 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1071720" y="5159520"/>
            <a:ext cx="7532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000080" y="364320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Развивает уверенность в себе, самосто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0" y="18864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ОТ ПРАВИЛЬНОЙ  ОРГАНИЗАЦИИ  УТРЕННЕГО КРУГА ЗАВИСИТ НАСТРОЕНИЕ, ЭМОЦИОНАЛЬНАЯ И ПОЗНАВАТЕЛЬНАЯ АКТИВНОСТЬ РЕБЁНКА, ЕГО ЖЕЛАНИЕ ОБЩАТЬСЯ С ВЗРОСЛЫМИ И СВЕРСТ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6308640" y="-100080"/>
            <a:ext cx="2857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476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ТРУКТУРА УТРЕННЕГО КРУГ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2821-9C40-49BD-BC25-2A6F70CDB03D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402120" y="1413000"/>
            <a:ext cx="2001960" cy="581400"/>
          </a:xfrm>
          <a:prstGeom prst="rect">
            <a:avLst/>
          </a:prstGeom>
          <a:solidFill>
            <a:srgbClr val="f77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зыв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2639160" y="1996920"/>
            <a:ext cx="3000240" cy="642600"/>
          </a:xfrm>
          <a:prstGeom prst="rect">
            <a:avLst/>
          </a:prstGeom>
          <a:gradFill rotWithShape="0">
            <a:gsLst>
              <a:gs pos="0">
                <a:srgbClr val="0081b8"/>
              </a:gs>
              <a:gs pos="100000">
                <a:srgbClr val="00adf7"/>
              </a:gs>
            </a:gsLst>
            <a:lin ang="16200000"/>
          </a:gradFill>
          <a:ln w="9360">
            <a:solidFill>
              <a:srgbClr val="797b7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ривет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"/>
          <p:cNvSpPr/>
          <p:nvPr/>
        </p:nvSpPr>
        <p:spPr>
          <a:xfrm>
            <a:off x="6171480" y="1577880"/>
            <a:ext cx="2119320" cy="947160"/>
          </a:xfrm>
          <a:prstGeom prst="rect">
            <a:avLst/>
          </a:prstGeom>
          <a:gradFill rotWithShape="0">
            <a:gsLst>
              <a:gs pos="0">
                <a:srgbClr val="ff9d7d"/>
              </a:gs>
              <a:gs pos="100000">
                <a:srgbClr val="ffe1d9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блем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иту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839160" y="3284640"/>
            <a:ext cx="2898000" cy="581400"/>
          </a:xfrm>
          <a:prstGeom prst="rect">
            <a:avLst/>
          </a:prstGeom>
          <a:gradFill rotWithShape="0">
            <a:gsLst>
              <a:gs pos="0">
                <a:srgbClr val="57595c"/>
              </a:gs>
              <a:gs pos="100000">
                <a:srgbClr val="75777b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Игры-трени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5535000" y="3225960"/>
            <a:ext cx="300024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альчиков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1353960" y="5265720"/>
            <a:ext cx="6436080" cy="520560"/>
          </a:xfrm>
          <a:prstGeom prst="rect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тихотворение не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00480" y="4149720"/>
            <a:ext cx="3240000" cy="825480"/>
          </a:xfrm>
          <a:prstGeom prst="rect">
            <a:avLst/>
          </a:prstGeom>
          <a:solidFill>
            <a:srgbClr val="506e94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Музыкальная иг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динамическая па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2"/>
          <p:cNvSpPr/>
          <p:nvPr/>
        </p:nvSpPr>
        <p:spPr>
          <a:xfrm flipH="1">
            <a:off x="1908000" y="476280"/>
            <a:ext cx="719280" cy="93672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5"/>
          <p:cNvSpPr/>
          <p:nvPr/>
        </p:nvSpPr>
        <p:spPr>
          <a:xfrm>
            <a:off x="4138560" y="692280"/>
            <a:ext cx="1800" cy="130464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7"/>
          <p:cNvSpPr/>
          <p:nvPr/>
        </p:nvSpPr>
        <p:spPr>
          <a:xfrm>
            <a:off x="6372360" y="692280"/>
            <a:ext cx="858600" cy="88560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6"/>
          <p:cNvSpPr/>
          <p:nvPr/>
        </p:nvSpPr>
        <p:spPr>
          <a:xfrm>
            <a:off x="5364000" y="692280"/>
            <a:ext cx="792360" cy="259236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8"/>
          <p:cNvSpPr/>
          <p:nvPr/>
        </p:nvSpPr>
        <p:spPr>
          <a:xfrm flipH="1">
            <a:off x="2288880" y="476280"/>
            <a:ext cx="1011240" cy="280836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2"/>
          <p:cNvSpPr/>
          <p:nvPr/>
        </p:nvSpPr>
        <p:spPr>
          <a:xfrm>
            <a:off x="4919760" y="476280"/>
            <a:ext cx="156960" cy="367344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4"/>
          <p:cNvSpPr/>
          <p:nvPr/>
        </p:nvSpPr>
        <p:spPr>
          <a:xfrm flipH="1">
            <a:off x="3059280" y="549360"/>
            <a:ext cx="1512720" cy="471636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ВЕЧЕРНЕ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2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21F-8434-406E-A025-2931CE7BBB14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324000" y="5013360"/>
            <a:ext cx="8767440" cy="1892880"/>
          </a:xfrm>
          <a:prstGeom prst="rect">
            <a:avLst/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03a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черний круг помогает научиться осознавать и анализировать свои посту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оступки сверстников. Дети учатся справедливости, взаимному уваже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ю слушать и понимать друг друга.  Во время вечернего круга дети вспоминают  прошедший день, все самое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3565440" y="1258920"/>
            <a:ext cx="2833920" cy="368280"/>
          </a:xfrm>
          <a:prstGeom prst="rect">
            <a:avLst/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16200000"/>
          </a:gradFill>
          <a:ln w="9360">
            <a:solidFill>
              <a:srgbClr val="03a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ДАКТИЧЕСК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TextBox 9"/>
          <p:cNvGrpSpPr/>
          <p:nvPr/>
        </p:nvGrpSpPr>
        <p:grpSpPr>
          <a:xfrm>
            <a:off x="6089760" y="2639880"/>
            <a:ext cx="2987640" cy="596880"/>
            <a:chOff x="6089760" y="2639880"/>
            <a:chExt cx="2987640" cy="596880"/>
          </a:xfrm>
        </p:grpSpPr>
        <p:pic>
          <p:nvPicPr>
            <p:cNvPr id="264" name="TextBox 9" descr=""/>
            <p:cNvPicPr/>
            <p:nvPr/>
          </p:nvPicPr>
          <p:blipFill>
            <a:blip r:embed="rId1"/>
            <a:stretch/>
          </p:blipFill>
          <p:spPr>
            <a:xfrm>
              <a:off x="6089760" y="2639880"/>
              <a:ext cx="29876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199560" y="2698920"/>
              <a:ext cx="278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«ПРОПОЕМ СВОЕ ИМ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Прямая соединительная линия 11"/>
          <p:cNvSpPr/>
          <p:nvPr/>
        </p:nvSpPr>
        <p:spPr>
          <a:xfrm flipH="1">
            <a:off x="1258920" y="2182680"/>
            <a:ext cx="433440" cy="30960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1258920" y="26370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3852000" y="1738440"/>
            <a:ext cx="2382840" cy="109836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дактическая иг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закрепления 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реннего круг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973800" y="1738440"/>
            <a:ext cx="2725920" cy="368280"/>
          </a:xfrm>
          <a:prstGeom prst="rect">
            <a:avLst/>
          </a:prstGeom>
          <a:solidFill>
            <a:srgbClr val="f96a1b"/>
          </a:solidFill>
          <a:ln w="25560">
            <a:solidFill>
              <a:srgbClr val="b74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ХОРОШИЕ НОВ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468720" y="2344680"/>
            <a:ext cx="2896560" cy="9766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, сидя в круг, передав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ой-то предмет, отвечают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прос :«Что хорошего произош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ними за д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7"/>
          <p:cNvSpPr/>
          <p:nvPr/>
        </p:nvSpPr>
        <p:spPr>
          <a:xfrm>
            <a:off x="5651640" y="3359160"/>
            <a:ext cx="3336840" cy="106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и, сидя в кругу, п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вон колокольчика пропев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е имя. После этого дети пропевают это имя все вме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20"/>
          <p:cNvSpPr/>
          <p:nvPr/>
        </p:nvSpPr>
        <p:spPr>
          <a:xfrm>
            <a:off x="4708440" y="1628640"/>
            <a:ext cx="335160" cy="10980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22"/>
          <p:cNvSpPr/>
          <p:nvPr/>
        </p:nvSpPr>
        <p:spPr>
          <a:xfrm>
            <a:off x="6875640" y="3067200"/>
            <a:ext cx="217440" cy="433080"/>
          </a:xfrm>
          <a:prstGeom prst="line">
            <a:avLst/>
          </a:prstGeom>
          <a:ln w="9360">
            <a:solidFill>
              <a:srgbClr val="7678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1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5D24-D237-4B07-8167-89EC34CE8AFD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Прямоугольник 2" descr=""/>
          <p:cNvPicPr/>
          <p:nvPr/>
        </p:nvPicPr>
        <p:blipFill>
          <a:blip r:embed="rId1"/>
          <a:stretch/>
        </p:blipFill>
        <p:spPr>
          <a:xfrm>
            <a:off x="401760" y="2773440"/>
            <a:ext cx="83343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4:32:40Z</dcterms:created>
  <dc:creator>Шура</dc:creator>
  <dc:description/>
  <dc:language>en-US</dc:language>
  <cp:lastModifiedBy>Владелец</cp:lastModifiedBy>
  <dcterms:modified xsi:type="dcterms:W3CDTF">2019-11-09T08:54:38Z</dcterms:modified>
  <cp:revision>142</cp:revision>
  <dc:subject/>
  <dc:title>Учебники Образовательной системы «Школа 2100»</dc:title>
</cp:coreProperties>
</file>