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FB0-556F-4EFC-8197-2B097F3351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41C-E28F-4B4F-9A86-A07D3D0AD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FD4-60EE-42B7-A3F2-C2DB3333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4F6-1850-4D34-8FA6-2570EF1C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559-7702-45D2-A43A-879F6A61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3D6-BF58-48E7-A97C-2B470692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076F-1C7B-4A15-8114-3D1DCE2D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F542-3379-4E41-A582-6920B04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9247-298A-4043-A1C2-5B907FC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2DF-B327-4683-8BF6-4DB27CD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8ABC-092F-44BF-A2C9-021DD97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6289-59D3-4BBC-9E1D-B2D803C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03CC-2368-42BA-B989-24F4581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E0C-6DC3-4E7B-BF5E-6EAE69A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84E2-6DEE-4917-9493-EE2716C9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B32A-8A42-4744-BE2A-1E5C0FE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3525-0DF6-4C80-BBAB-9939A1B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6A4-87B4-48A2-9D3C-8D5895D0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FA3F-7171-4D85-B362-25EDA69D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7421-55CF-4EE8-AE59-906430D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3889-42B0-4CE9-B1CD-63DD1EA6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C5A8-75A8-4113-B2F5-951C110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2A61-D6DF-41CB-B5F0-18481AF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A59B-82E3-451C-A8DC-08CB303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C49-3B92-40A4-9ACC-1E58364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8F45-4E31-490E-9B6C-B9C3EB78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9648-D1C7-43CB-9D18-CE8893E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E03F-6E6D-484E-8691-7687BAE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BD2A-06F3-401F-9D2C-969FEE5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3327-3522-4974-A850-86AC5B0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E403-2E15-41FC-873E-D0ADEB19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2D1F-1CFB-454C-B7F2-E133D133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80F8-AA52-40FD-A13B-B65A3BD5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7D98-0FD3-4FB4-A133-0A11256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0BB9-8543-453B-984F-AB2EAF1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EA-532B-4F0A-92F2-2DF63DB3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DDD1-6097-480E-8F42-7FD6B5FD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6285-489E-496B-8D89-184108C5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9574-9C3B-48E5-8B09-40C1C39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BCB5-9855-48DC-A593-DF346CB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FC47-1FBC-4720-9E34-4D51105D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7045-F563-41D5-93C0-F9385BB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858D-983A-4D33-9F24-335AF941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845A-4980-422F-8BBC-6BB0599D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C19C-B38C-4B58-B090-3A9AF13B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15AF-A67E-4860-937E-6AAD47DB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678-1D23-46E4-BEA8-733F68C9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E06A-2645-41D0-9160-A558C4A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91BB-8110-4104-90CC-56883A5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33FB-B936-464B-8891-D58B0E62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FF6D-A336-47DA-BE27-1290CC2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1BED-0BE0-4FFE-B74A-0F1011F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4E2E-8CFE-4812-B37F-6578E67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BF71-C554-4AC0-A619-03F2C2F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064E-F2F5-4071-B29B-BDA048B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092D-20CA-4C31-B3EA-E6959C3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335F-FBEA-472D-8B43-F0F08D0C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DDE-BE51-4572-A58F-0D680152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E204-4479-4399-BDE4-38681689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C8D-CFBC-44EE-AD35-E3D46D1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9B-C480-4937-B7D6-1D00A31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517-AC7A-4CBE-ACEF-39D3050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3AF-E0F7-4FD0-9355-01E18EC20F1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2AB-5291-40FE-8175-82C7EDD3DDC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88F-8A5B-4F10-B25F-A47EE7AEBED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11E-9313-40FF-9A3C-187B8566C941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9AC-F120-4185-9387-61DDC459819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03dd"/>
                </a:solidFill>
                <a:latin typeface="Arial"/>
              </a:rPr>
              <a:t>УТРЕННИЙ КРУГ ВО ВТОРОЙ МЛАДШЕЙ ГРУППЕ «ВАСИЛЬ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sova-2"/>
          <p:cNvPicPr/>
          <p:nvPr/>
        </p:nvPicPr>
        <p:blipFill>
          <a:blip r:embed="rId1"/>
          <a:stretch/>
        </p:blipFill>
        <p:spPr>
          <a:xfrm>
            <a:off x="755640" y="414972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0"/>
          <p:cNvSpPr/>
          <p:nvPr/>
        </p:nvSpPr>
        <p:spPr>
          <a:xfrm>
            <a:off x="2924280" y="4653000"/>
            <a:ext cx="4321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5123160" y="3933720"/>
            <a:ext cx="39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и: воспит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яненко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ке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1332000" y="18900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РЕЖДЕНИЕ ДЕТСКИЙ САД № 22 «ЦВЕТИК-СЕМИЦВЕТИК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РАЗВИВАЮЩЕГО ВИДА ГОРОДСКОГО ОКРУГА ЩЁЛ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ТРЕННИЙ 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1880" y="1099800"/>
            <a:ext cx="7637400" cy="5065560"/>
          </a:xfrm>
          <a:prstGeom prst="rect">
            <a:avLst/>
          </a:prstGeom>
          <a:solidFill>
            <a:srgbClr val="fba67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Утренний круг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это режимный момент, являющийся формой организации образовательного процесса при совместной деятельности взрослых и дете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4c25"/>
                </a:solidFill>
                <a:latin typeface="Times New Roman"/>
              </a:rPr>
              <a:t>Большинство детей  (особенно младшего возраста) болезненно переживают приход в детский сад: их рано разбудили, оторвали от дома и любимых игрушек, то есть малыш обижен на всех. Таким образом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сновная цель проведения утреннего круг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ть тон» всему дню, то есть создать положительный эмоциональный настрой и вселить в ребёнка уверенность, что среди сверстников ему будет хорошо, а день обещает быть интересным и насыщенны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f77bd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плотить детский коллекти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Формировать внимательное отношение к друг друг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нять раздражение, агрессию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оздать хорошее настроение на целый ден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2CFE-91E4-4ECA-BC11-F8F459C5CC0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"/>
          <p:cNvPicPr/>
          <p:nvPr/>
        </p:nvPicPr>
        <p:blipFill>
          <a:blip r:embed="rId1"/>
          <a:stretch/>
        </p:blipFill>
        <p:spPr>
          <a:xfrm>
            <a:off x="2571840" y="3357720"/>
            <a:ext cx="3600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ТРЕННЕГО КРУГА СОЗДАЕТ УСЛОВИЯ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42960" y="2000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омогает адаптироваться в условиях детского сада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911160" y="128592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сихического  и личностного роста детей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071720" y="2781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азвивает навыки социаль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000080" y="458136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омогает решить задачи программы ДОУ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1071720" y="5159520"/>
            <a:ext cx="7532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000080" y="364320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азвивает уверенность в себе, самосто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ОТ ПРАВИЛЬНОЙ  ОРГАНИЗАЦИИ  УТРЕННЕГО КРУГА ЗАВИСИТ НАСТРОЕНИЕ, ЭМОЦИОНАЛЬНАЯ И ПОЗНАВАТЕЛЬНАЯ АКТИВНОСТЬ РЕБЁНКА, ЕГО ЖЕЛАНИЕ ОБЩАТЬСЯ С ВЗРОСЛЫМИ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6308640" y="-100080"/>
            <a:ext cx="2857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76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ТРУКТУРА УТРЕННЕГО КРУГ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17B8-3AA3-467D-AA97-272E1A2C5F52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02120" y="1413000"/>
            <a:ext cx="2001960" cy="581400"/>
          </a:xfrm>
          <a:prstGeom prst="rect">
            <a:avLst/>
          </a:prstGeom>
          <a:solidFill>
            <a:srgbClr val="f77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зыв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2639160" y="1996920"/>
            <a:ext cx="3000240" cy="642600"/>
          </a:xfrm>
          <a:prstGeom prst="rect">
            <a:avLst/>
          </a:prstGeom>
          <a:gradFill rotWithShape="0">
            <a:gsLst>
              <a:gs pos="0">
                <a:srgbClr val="0081b8"/>
              </a:gs>
              <a:gs pos="100000">
                <a:srgbClr val="00adf7"/>
              </a:gs>
            </a:gsLst>
            <a:lin ang="16200000"/>
          </a:gradFill>
          <a:ln w="9360">
            <a:solidFill>
              <a:srgbClr val="797b7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и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6171480" y="1577880"/>
            <a:ext cx="2119320" cy="94716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иту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839160" y="3284640"/>
            <a:ext cx="2898000" cy="581400"/>
          </a:xfrm>
          <a:prstGeom prst="rect">
            <a:avLst/>
          </a:prstGeom>
          <a:gradFill rotWithShape="0">
            <a:gsLst>
              <a:gs pos="0">
                <a:srgbClr val="57595c"/>
              </a:gs>
              <a:gs pos="100000">
                <a:srgbClr val="75777b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гры-трени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5535000" y="3225960"/>
            <a:ext cx="30002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1353960" y="5265720"/>
            <a:ext cx="6436080" cy="520560"/>
          </a:xfrm>
          <a:prstGeom prst="rect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ихотворение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00480" y="4149720"/>
            <a:ext cx="3240000" cy="825480"/>
          </a:xfrm>
          <a:prstGeom prst="rect">
            <a:avLst/>
          </a:prstGeom>
          <a:solidFill>
            <a:srgbClr val="506e94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узыкальная иг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нам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"/>
          <p:cNvSpPr/>
          <p:nvPr/>
        </p:nvSpPr>
        <p:spPr>
          <a:xfrm flipH="1">
            <a:off x="1908000" y="476280"/>
            <a:ext cx="719280" cy="93672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5"/>
          <p:cNvSpPr/>
          <p:nvPr/>
        </p:nvSpPr>
        <p:spPr>
          <a:xfrm>
            <a:off x="4138560" y="692280"/>
            <a:ext cx="1800" cy="130464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>
            <a:off x="6372360" y="692280"/>
            <a:ext cx="858600" cy="8856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6"/>
          <p:cNvSpPr/>
          <p:nvPr/>
        </p:nvSpPr>
        <p:spPr>
          <a:xfrm>
            <a:off x="5364000" y="692280"/>
            <a:ext cx="792360" cy="2592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8"/>
          <p:cNvSpPr/>
          <p:nvPr/>
        </p:nvSpPr>
        <p:spPr>
          <a:xfrm flipH="1">
            <a:off x="2288880" y="476280"/>
            <a:ext cx="1011240" cy="2808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2"/>
          <p:cNvSpPr/>
          <p:nvPr/>
        </p:nvSpPr>
        <p:spPr>
          <a:xfrm>
            <a:off x="4919760" y="476280"/>
            <a:ext cx="156960" cy="367344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4"/>
          <p:cNvSpPr/>
          <p:nvPr/>
        </p:nvSpPr>
        <p:spPr>
          <a:xfrm flipH="1">
            <a:off x="3059280" y="549360"/>
            <a:ext cx="1512720" cy="4716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ВЕЧЕРНЕ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0FB2-F2E3-4E74-9DB9-B1AE89D9D0D3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324000" y="5013360"/>
            <a:ext cx="8767440" cy="18928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ний круг помогает научиться осознавать и анализировать свои по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оступки сверстников. Дети учатся справедливости, взаимному уваж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ю слушать и понимать друг друга.  Во время вечернего круга дети вспоминают  прошедший день, все самое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565440" y="1258920"/>
            <a:ext cx="283392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TextBox 9"/>
          <p:cNvGrpSpPr/>
          <p:nvPr/>
        </p:nvGrpSpPr>
        <p:grpSpPr>
          <a:xfrm>
            <a:off x="6089760" y="2639880"/>
            <a:ext cx="2987640" cy="596880"/>
            <a:chOff x="6089760" y="2639880"/>
            <a:chExt cx="2987640" cy="596880"/>
          </a:xfrm>
        </p:grpSpPr>
        <p:pic>
          <p:nvPicPr>
            <p:cNvPr id="264" name="TextBox 9" descr=""/>
            <p:cNvPicPr/>
            <p:nvPr/>
          </p:nvPicPr>
          <p:blipFill>
            <a:blip r:embed="rId1"/>
            <a:stretch/>
          </p:blipFill>
          <p:spPr>
            <a:xfrm>
              <a:off x="6089760" y="2639880"/>
              <a:ext cx="29876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199560" y="2698920"/>
              <a:ext cx="278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«ПРОПОЕМ СВОЕ ИМ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Прямая соединительная линия 11"/>
          <p:cNvSpPr/>
          <p:nvPr/>
        </p:nvSpPr>
        <p:spPr>
          <a:xfrm flipH="1">
            <a:off x="1258920" y="2182680"/>
            <a:ext cx="433440" cy="3096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1258920" y="263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852000" y="1738440"/>
            <a:ext cx="2382840" cy="1098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закрепления 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еннего круг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973800" y="1738440"/>
            <a:ext cx="2725920" cy="368280"/>
          </a:xfrm>
          <a:prstGeom prst="rect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ХОРОШИЕ НОВ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468720" y="2344680"/>
            <a:ext cx="2896560" cy="976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, сидя в круг, передав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ой-то предмет, отвечают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 :«Что хорошего произош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ними за д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7"/>
          <p:cNvSpPr/>
          <p:nvPr/>
        </p:nvSpPr>
        <p:spPr>
          <a:xfrm>
            <a:off x="5651640" y="3359160"/>
            <a:ext cx="3336840" cy="106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, сидя в кругу, п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вон колокольчика пропе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е имя. После этого дети пропевают это имя все в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20"/>
          <p:cNvSpPr/>
          <p:nvPr/>
        </p:nvSpPr>
        <p:spPr>
          <a:xfrm>
            <a:off x="4708440" y="1628640"/>
            <a:ext cx="335160" cy="1098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6875640" y="3067200"/>
            <a:ext cx="217440" cy="43308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C665-7601-403A-8900-43E8C5536C1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2773440"/>
            <a:ext cx="833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Владелец</cp:lastModifiedBy>
  <dcterms:modified xsi:type="dcterms:W3CDTF">2019-11-09T08:54:38Z</dcterms:modified>
  <cp:revision>142</cp:revision>
  <dc:subject/>
  <dc:title>Учебники Образовательной системы «Школа 2100»</dc:title>
</cp:coreProperties>
</file>