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B55-D8BF-4278-BE73-CC1CCB75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458-EC79-4BC0-8CB8-81778DB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042-AEA0-42FC-8017-84AB6C4B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9DF-498A-44C6-B023-4D879B9A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484-D111-42C8-B516-7640A91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7ED-9FCE-464C-8922-3FA11321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BCE-DB89-4398-AAE5-5D962F2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327-3DF5-4FDC-BE36-E70FE85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4EE-E688-40CF-B9E4-C3C8263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8C4-389B-4CB3-836F-98D3C93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D82-BF83-48FD-8AD6-8943295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500-EC18-4F4C-9556-FF13CFC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B55D-2E4E-46D1-9F5C-36F4AD77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072720" cy="51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5280" y="278136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Здравствуй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1428480" cy="280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1809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40464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08720" y="4154400"/>
            <a:ext cx="27018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917800" cy="24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91780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2376360" cy="224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24000" y="3933720"/>
            <a:ext cx="27352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2560" y="438120"/>
            <a:ext cx="7238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77960" y="31417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51280" y="292428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1368360" cy="95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788000" y="2997360"/>
            <a:ext cx="1152360" cy="105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12:29:44Z</dcterms:created>
  <dc:creator>Максим</dc:creator>
  <dc:description/>
  <dc:language>en-US</dc:language>
  <cp:lastModifiedBy>Максим</cp:lastModifiedBy>
  <dcterms:modified xsi:type="dcterms:W3CDTF">2017-02-17T17:39:30Z</dcterms:modified>
  <cp:revision>3</cp:revision>
  <dc:subject/>
  <dc:title>Слайд 1</dc:title>
</cp:coreProperties>
</file>