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AF0-4735-4216-B26B-9DA72F98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831-E93E-49C6-A2FF-783D43A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A44-1B7B-4757-84BB-832D8675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7F1-8F2A-4093-B430-2DEDA553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196-72A9-4190-A755-FA2054B8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0AC-E816-45A5-A5B0-442E1ACD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219-D089-4808-AB99-8C39627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3B0-2854-476B-A5D4-98524CB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F16-18C2-488D-8C4D-19961E6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EAF-CDBC-4F60-87AA-F76A2B6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5FA-56C3-4224-AA3A-6871AE8A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894-1350-4EC8-B90B-288B253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348-B7AC-443C-8D8B-DEDF75C3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072720" cy="51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278136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Здравствуй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1428480" cy="280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180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08720" y="4154400"/>
            <a:ext cx="27018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917800" cy="24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91780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2376360" cy="224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24000" y="3933720"/>
            <a:ext cx="27352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77960" y="31417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51280" y="292428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1368360" cy="95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788000" y="2997360"/>
            <a:ext cx="1152360" cy="105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12:29:44Z</dcterms:created>
  <dc:creator>Максим</dc:creator>
  <dc:description/>
  <dc:language>en-US</dc:language>
  <cp:lastModifiedBy>Максим</cp:lastModifiedBy>
  <dcterms:modified xsi:type="dcterms:W3CDTF">2017-02-17T17:39:30Z</dcterms:modified>
  <cp:revision>3</cp:revision>
  <dc:subject/>
  <dc:title>Слайд 1</dc:title>
</cp:coreProperties>
</file>