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53B2-EB49-4429-ABA8-48C8EFBEC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FF2A-5748-4E22-8055-6EF724E90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1159-8311-4A8F-94D9-2CEB87E1E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78A4-5C15-4274-9E90-0C6C333B4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FAC7-A488-48BA-9569-D5B14E49B8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8E92-2E90-4D5B-AD77-64501A4BB0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4119-DEE0-403F-9BA5-9D07E16C41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D594-A878-429A-97A7-27F0F048A6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C6BD-36EF-494C-9F97-156CBFC0DD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15920" y="3263400"/>
            <a:ext cx="10972800" cy="14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5592-C996-4C75-B8B0-C6A67E9FE8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1969-7F39-4573-A2FD-DCEE7D8D6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58FF-2FE9-4C18-86EF-F30640AA5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FD3C-3F15-4DEA-9DD8-33FD0076FE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17EA-2BA1-4866-9321-D713A3E429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3D05-CDF4-498F-A7DA-009F8C3CB2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C9FF-75BF-4390-96B6-BA447DCE1E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D9E8-2634-4A25-BC21-DDD676776E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95F-8058-4D3B-B6B0-CFB537BE5F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0F3-8BF9-4B71-BCD2-092A404899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5B2-D2FF-45E0-9D81-D6FF378CD8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575-6C75-4065-9D58-BE87C00481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AAA-2ABD-4CE5-A1B9-206410E2F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94A3-90AA-4F0B-8AF4-D7BACE3A9D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15920" y="3263400"/>
            <a:ext cx="10972800" cy="14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559-BB13-4955-A311-54EF2E935E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401-EDD9-4168-8225-1C2BED5138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28A-A38E-4147-B8FF-EF31AD68CE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0E5-7E54-4370-AE2B-CC903AE31F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0F3-1C0B-47A6-93FA-13BEE0870A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ECD-5ADC-4FE9-9468-C2FD7D92CC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6F2-5FA1-409B-8A40-7E1AF3903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D063-3261-48A7-9B91-91CE4FB06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CAA0-2486-4134-A236-31132F757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15920" y="3263400"/>
            <a:ext cx="10972800" cy="14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0D58-55DE-464C-A8A0-50A7D0C10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BB99-34D8-4CE5-B433-0B779E80F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BD15-8E15-4E72-98EA-0BA6ABF0A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ECCE-E699-4580-9391-F0D418694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5920" y="1270080"/>
            <a:ext cx="10972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19040" indent="-41904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1" marL="838080" indent="-41904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2" marL="1181160" indent="-41904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3" marL="1562040" indent="-41904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4" marL="1943280" indent="-41940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5" marL="1943280" indent="-419400">
              <a:spcBef>
                <a:spcPts val="2999"/>
              </a:spcBef>
              <a:buClr>
                <a:srgbClr val="6f6a5a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6" marL="1943280" indent="-419400">
              <a:spcBef>
                <a:spcPts val="2999"/>
              </a:spcBef>
              <a:buClr>
                <a:srgbClr val="6f6a5a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f6a5a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3040" y="900396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ochin"/>
                <a:ea typeface="Coc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712363-292B-42AF-AE27-85496351BDD5}" type="slidenum">
              <a:rPr b="0" lang="en-US" sz="1800" spc="-1" strike="noStrike">
                <a:solidFill>
                  <a:srgbClr val="000000"/>
                </a:solidFill>
                <a:latin typeface="Cochin"/>
                <a:ea typeface="Cochi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15920" y="203148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f6a5a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15920" y="5359320"/>
            <a:ext cx="10972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marL="70920" indent="-709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1" marL="142200" indent="-709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2" marL="200520" indent="-709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3" marL="265320" indent="-709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4" marL="330120" indent="-7128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5" marL="330120" indent="-71280">
              <a:spcBef>
                <a:spcPts val="2999"/>
              </a:spcBef>
              <a:buClr>
                <a:srgbClr val="6f6a5a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6" marL="330120" indent="-71280">
              <a:spcBef>
                <a:spcPts val="2999"/>
              </a:spcBef>
              <a:buClr>
                <a:srgbClr val="6f6a5a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298920" y="9258120"/>
            <a:ext cx="392040" cy="32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fffcf2"/>
                </a:solidFill>
                <a:latin typeface="Copperplate"/>
                <a:ea typeface="Copperplat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3CF362-C1E1-47A6-8FB2-A8DF07A23243}" type="slidenum">
              <a:rPr b="0" lang="en-US" sz="1800" spc="-1" strike="noStrike">
                <a:solidFill>
                  <a:srgbClr val="fffcf2"/>
                </a:solidFill>
                <a:latin typeface="Copperplate"/>
                <a:ea typeface="Copperplat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f6a5a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298920" y="9258120"/>
            <a:ext cx="392040" cy="32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fffcf2"/>
                </a:solidFill>
                <a:latin typeface="Copperplate"/>
                <a:ea typeface="Copperplat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8CD967-3576-41EC-9E05-1F6D4D316962}" type="slidenum">
              <a:rPr b="0" lang="en-US" sz="1800" spc="-1" strike="noStrike">
                <a:solidFill>
                  <a:srgbClr val="fffcf2"/>
                </a:solidFill>
                <a:latin typeface="Copperplate"/>
                <a:ea typeface="Copperplat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89520" indent="-3895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1" marL="779400" indent="-3895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2" marL="1098360" indent="-3895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3" marL="1452600" indent="-3895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4" marL="1807200" indent="-38988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5" marL="1807200" indent="-389880">
              <a:spcBef>
                <a:spcPts val="1001"/>
              </a:spcBef>
              <a:buClr>
                <a:srgbClr val="6f6a5a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6" marL="1807200" indent="-389880">
              <a:spcBef>
                <a:spcPts val="1001"/>
              </a:spcBef>
              <a:buClr>
                <a:srgbClr val="6f6a5a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8d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15920" y="203148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0" lang="en-US" sz="7800" spc="-1" strike="noStrike">
                <a:solidFill>
                  <a:srgbClr val="ff7e79"/>
                </a:solidFill>
                <a:latin typeface="Copperplate"/>
              </a:rPr>
              <a:t>ИСТОРИЯ РАЗВИТИЯ ГЕОМЕТРИИ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8d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15920" y="306036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fffcf2"/>
                </a:solidFill>
                <a:latin typeface="Copperplate"/>
              </a:rPr>
              <a:t>Конец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53920" y="163152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При строительстве даже самых примитивных сооружений необходимо  уметь рассчитывать ,сколько материала пойдёт на постройку ,вычислять расстояния между точками в пространстве и углы между прямыми плоскостями , знать свойства простейших геометрических фигур. Так, египетские пирамиды, сооруженные за 2-3 тысячи лет до н. э., поражают точность своих метрических соотношений, доказывая ,что их строители знали многие геометрические положения и расчёты.</a:t>
            </a:r>
            <a:endParaRPr b="0" lang="en-US" sz="21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19" name="egipetskie-piramidy_35.jpg" descr=""/>
          <p:cNvPicPr/>
          <p:nvPr/>
        </p:nvPicPr>
        <p:blipFill>
          <a:blip r:embed="rId2"/>
          <a:stretch/>
        </p:blipFill>
        <p:spPr>
          <a:xfrm>
            <a:off x="6523200" y="1582560"/>
            <a:ext cx="5798880" cy="43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941751"/>
                </a:solidFill>
                <a:latin typeface="Copperplate"/>
              </a:rPr>
              <a:t>Древний Египет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15920" y="286992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Геометр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 наука, изучающая формы, размеры и взаимное расположение геометрических фигур. Она возникла и развивалась в связи с потребностями практической деятельности человека. С древних времён люди сталкивались с необходимостью находить расстояния между предметами, определять размеры участков земли, ориентироваться по расположению звёзд на небе и т. п. О зарождении геометрии в Древнем Египте около 2000 лет до н. э. древнегреческий историк Геродот писал :Сезострис, египетский фараон, разделил землю, дав каждому египтянину участок по жребию, и взимал соответствующим  образом налог с каждого участка. Случилось ,что Нил заливал тот или иной участок, тогда пострадавший обращался к царю ,а царь посылал землемеров, чтобы установить ,на сколько уменьшился участок, и соответствующим образом уменьшить налог. Так возникла геометрия в Египте, а оттуда перешла в Грецию"</a:t>
            </a:r>
            <a:endParaRPr b="0" lang="en-US" sz="24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73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9600" spc="-1" strike="noStrike">
                <a:solidFill>
                  <a:srgbClr val="005493"/>
                </a:solidFill>
                <a:latin typeface="Copperplate"/>
              </a:rPr>
              <a:t>Ученые</a:t>
            </a:r>
            <a:endParaRPr b="0" lang="en-US" sz="96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7320" y="2209680"/>
            <a:ext cx="10972800" cy="339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Начиная с 7 века до н. э. в Древней Греции создаются так называемые философские школы и приходит постепенный переход от практической к теоретической геометрии.</a:t>
            </a:r>
            <a:endParaRPr b="0" lang="en-US" sz="36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19040" y="1298160"/>
            <a:ext cx="6554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1680"/>
                <a:tab algn="l" pos="603360"/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Одной из первых школ была ионийская. Её основателем считаются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Фалес Милетский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 . Он мог находить высоту предмета по его тени, пользуясь тем, что треугольник определяется одной стороной и двумя прилегающими к ней углами.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Таким образом , Фелесу приписывают теорему о том, что равноугольные треугольники имеют пропорциональные стороны.</a:t>
            </a:r>
            <a:endParaRPr b="0" lang="en-US" sz="23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25" name="Unknown.jpeg" descr=""/>
          <p:cNvPicPr/>
          <p:nvPr/>
        </p:nvPicPr>
        <p:blipFill>
          <a:blip r:embed="rId2"/>
          <a:stretch/>
        </p:blipFill>
        <p:spPr>
          <a:xfrm>
            <a:off x="7813800" y="755640"/>
            <a:ext cx="4566960" cy="6311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255240" y="7914240"/>
            <a:ext cx="2347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Фалес Милетский</a:t>
            </a:r>
            <a:endParaRPr b="0" lang="en-US" sz="18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33360" y="1603080"/>
            <a:ext cx="71913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Другой знаменитой философской школой того времени была школа Платона (5-6 вв. до н. э.). </a:t>
            </a:r>
            <a:r>
              <a:rPr b="1" lang="en-US" sz="2800" spc="-1" strike="noStrike">
                <a:solidFill>
                  <a:srgbClr val="011993"/>
                </a:solidFill>
                <a:latin typeface="Verdana"/>
                <a:ea typeface="Verdana"/>
              </a:rPr>
              <a:t>Плато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не был математиком и не получил никаких результатов в этой науки, но в своих произведениях любил говорить о математике. В частности, в трактате "Тимей" он изложил ученья пифагорейцев о правильных многогранниках, которые благодаря этому впоследствие получили название "Платоновых тел».</a:t>
            </a:r>
            <a:endParaRPr b="0" lang="en-US" sz="28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28" name="Unknown-1.jpeg" descr=""/>
          <p:cNvPicPr/>
          <p:nvPr/>
        </p:nvPicPr>
        <p:blipFill>
          <a:blip r:embed="rId2"/>
          <a:stretch/>
        </p:blipFill>
        <p:spPr>
          <a:xfrm>
            <a:off x="7832880" y="1533600"/>
            <a:ext cx="479088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99680" y="1420560"/>
            <a:ext cx="7418520" cy="721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Более поздняя философская школа - Александрийская - интересна тем, что дала миру известного математика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Евклид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, который жил около 300 года до н. э. К сожалению, о жизни его мало что известно. В одном из своих сочинений математик Пап (3 век до н. э.) изображает его как человека исключительно честного, тихого и скромного, которому были чужды гордость и эгоизм. Насколько серьёзно и строго он относился к изучению математики, можно ссудить по следующий легенде: царь Птолемей спросил у Евклида, нельзя ли найти более короткий и менее утомительный путь к изучению геометрии, чем его "Начала"? Евклид ответил: "В геометрии нет царского пути".</a:t>
            </a:r>
            <a:endParaRPr b="0" lang="en-US" sz="25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30" name="images.jpeg" descr=""/>
          <p:cNvPicPr/>
          <p:nvPr/>
        </p:nvPicPr>
        <p:blipFill>
          <a:blip r:embed="rId2"/>
          <a:stretch/>
        </p:blipFill>
        <p:spPr>
          <a:xfrm>
            <a:off x="8682120" y="1852560"/>
            <a:ext cx="3521160" cy="4867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526320" y="7280640"/>
            <a:ext cx="22482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f6a5a"/>
                </a:solidFill>
                <a:latin typeface="Baskerville"/>
              </a:rPr>
              <a:t>Евкалид</a:t>
            </a:r>
            <a:endParaRPr b="0" lang="en-US" sz="42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9960" y="1439640"/>
            <a:ext cx="6151680" cy="721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Вслед за Евклидом Архимед занимался изучением правильных многогранников. Убедившись в том, что правильных многогранников только пять, Архимед стал строить многогранники, у которых гранями являются правильные, но не одноименные многоугольники, а в каждой вершине, как и у правильных многогранников, сходится одно и то же число рёбер. В результате были получены так называемые равноугольно полу правильные многогранники. До нас дошла работа ученого, которая называется «О многогранниках» , подробно описывающая тринадцать таких многогранников, получивших название « тела Архимеда».</a:t>
            </a:r>
            <a:endParaRPr b="0" lang="en-US" sz="24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33" name="Archimedes.jpg" descr=""/>
          <p:cNvPicPr/>
          <p:nvPr/>
        </p:nvPicPr>
        <p:blipFill>
          <a:blip r:embed="rId2"/>
          <a:stretch/>
        </p:blipFill>
        <p:spPr>
          <a:xfrm>
            <a:off x="7943760" y="1560600"/>
            <a:ext cx="4572000" cy="5079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235440" y="7198200"/>
            <a:ext cx="24033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f6a5a"/>
                </a:solidFill>
                <a:latin typeface="Baskerville"/>
              </a:rPr>
              <a:t>Архимед</a:t>
            </a:r>
            <a:endParaRPr b="0" lang="en-US" sz="42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15920" y="1270080"/>
            <a:ext cx="10972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Verdana"/>
              </a:rPr>
              <a:t>Учёный, по выражению современников, был околдован геометрией, и, хотя у него было много прекрасных открытий, он просил на своей могиле изобразить цилиндр со вписанным  в него шаром и указать соотношение объёмов этих тел. Позже именно по этому изображению была найдена могила Архимеда.</a:t>
            </a:r>
            <a:endParaRPr b="0" lang="en-US" sz="2900" spc="-1" strike="noStrike">
              <a:solidFill>
                <a:srgbClr val="6f6a5a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Verdana"/>
              </a:rPr>
              <a:t>В последние столетия возникли  и развивались новые направления геометрии, среди которых геометрия Лобачевского, топология, теория графов и др. Появились новые методы, в том числе координатный и векторный, позволяющий переводить геометрические задачи на язык алгебры и наоборот. Достижения геометрии широко используют в других науках: физике, химии, географии и т. д.</a:t>
            </a:r>
            <a:endParaRPr b="0" lang="en-US" sz="29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