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5780-AFFC-4420-8498-F3E6DAFFC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865B-5D15-41F5-9E26-EE63BB47F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FCF0-6DCB-4336-AFE8-9C661A2E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E0AA-A07F-4A0E-A4A6-4BE3FF468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6C99-EDF6-4D64-B2B8-A47B03FC4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3721-B3DD-4B06-84D5-BE0FC9FDA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ABEE-24E9-4BE9-A8D1-94FA0BB3D6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0BCA-C145-4F0F-97BD-2B1F3BD0D2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E9C8-0C70-4BA9-860E-C883FEDA7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E717-C4CA-4286-B498-73CCE334F6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E043-5E4C-42EE-B45A-261833C49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7678-4F1C-4BB1-9FF5-CB714405E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509C-E070-4644-AA2C-A40F7290E4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4372-C18C-483E-95BF-3F60E67E7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563D-BD24-4BBF-8985-52983BAB2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BFFE-C1E2-4342-BFAA-24F9607E4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847A-BA00-4B06-BCFD-BF0C05181F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17E-E7A2-4AAD-B14B-D5FB8B1FC9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E3E-1810-476B-8937-1517315BD2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DA2-2BA2-4794-A433-32577422C5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82D-2C0C-48E5-B34D-DB77F6D1B4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6FB-992C-49D0-9909-DDC3FCE0B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1A28-2D04-4A50-B92E-824191A43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210-CF3C-4A4B-9F4E-06E801FA64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2F0-29D4-4CC7-83FF-5B9E28B711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FF7-0ACB-4DFD-B472-FE6E773242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E6B-E8A7-4502-B372-2ED4F54570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066-5CED-4D85-B1EA-9643F2BE43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E2A-EA2C-4986-A4E1-2741D9873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AB3-63C8-48FF-9F9A-956810460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3C8C-B48A-459F-A992-D6E83E732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480A-1602-4C31-A33A-E4A65D490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15920" y="3263400"/>
            <a:ext cx="10972800" cy="14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79F3-0732-446C-A2F6-27D499992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1FD4-D25E-40E6-AE88-2A9B838A8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A486-0FA3-42D6-B8F7-8D2045DF0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D02D-CCC9-41E9-AFE6-EF2AF53A8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1904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83808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118116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1562040" indent="-41904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1943280" indent="-41940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1943280" indent="-41940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1943280" indent="-41940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3040" y="900396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chin"/>
                <a:ea typeface="Coc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61DD9C-CB47-4361-8D14-7764E5EC9738}" type="slidenum">
              <a:rPr b="0" lang="en-US" sz="1800" spc="-1" strike="noStrike">
                <a:solidFill>
                  <a:srgbClr val="000000"/>
                </a:solidFill>
                <a:latin typeface="Cochin"/>
                <a:ea typeface="Cochi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marL="709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14220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2005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265320" indent="-709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330120" indent="-7128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330120" indent="-7128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330120" indent="-71280">
              <a:spcBef>
                <a:spcPts val="2999"/>
              </a:spcBef>
              <a:buClr>
                <a:srgbClr val="6f6a5a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298920" y="9258120"/>
            <a:ext cx="392040" cy="3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12136D-5EB2-47F2-BFA0-B6EAD6E715A1}" type="slidenum">
              <a: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f6a5a"/>
                </a:solidFill>
                <a:latin typeface="Copperplate"/>
              </a:rPr>
              <a:t>Click to edit the title text format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8920" y="9258120"/>
            <a:ext cx="392040" cy="32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14AB3B-E6E0-4E4F-AB42-8C10F27DFE99}" type="slidenum">
              <a:rPr b="0" lang="en-US" sz="1800" spc="-1" strike="noStrike">
                <a:solidFill>
                  <a:srgbClr val="fffcf2"/>
                </a:solidFill>
                <a:latin typeface="Copperplate"/>
                <a:ea typeface="Copperplat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8952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Click to edit the outline text format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1" marL="77940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con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2" marL="109836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Third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3" marL="1452600" indent="-38952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our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4" marL="1807200" indent="-389880">
              <a:spcBef>
                <a:spcPts val="2999"/>
              </a:spcBef>
              <a:buClr>
                <a:srgbClr val="a29a85"/>
              </a:buClr>
              <a:buFont typeface="Baskerville"/>
              <a:buChar char="•"/>
              <a:tabLst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Fif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5" marL="1807200" indent="-389880">
              <a:spcBef>
                <a:spcPts val="1001"/>
              </a:spcBef>
              <a:buClr>
                <a:srgbClr val="6f6a5a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ix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  <a:p>
            <a:pPr lvl="6" marL="1807200" indent="-389880">
              <a:spcBef>
                <a:spcPts val="1001"/>
              </a:spcBef>
              <a:buClr>
                <a:srgbClr val="6f6a5a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a5a"/>
                </a:solidFill>
                <a:latin typeface="Baskerville"/>
              </a:rPr>
              <a:t>Seventh Outline Level</a:t>
            </a:r>
            <a:endParaRPr b="0" lang="en-US" sz="40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8d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7772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</a:tabLst>
            </a:pPr>
            <a:r>
              <a:rPr b="0" lang="en-US" sz="7800" spc="-1" strike="noStrike">
                <a:solidFill>
                  <a:srgbClr val="ff7e79"/>
                </a:solidFill>
                <a:latin typeface="Copperplate"/>
              </a:rPr>
              <a:t>ИСТОРИЯ РАЗВИТИЯ ГЕОМЕТРИИ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8d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15920" y="3060360"/>
            <a:ext cx="10972800" cy="322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fffcf2"/>
                </a:solidFill>
                <a:latin typeface="Copperplate"/>
              </a:rPr>
              <a:t>Конец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53920" y="16315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erdana"/>
              </a:rPr>
              <a:t>При строительстве даже самых примитивных сооружений необходимо  уметь рассчитывать ,сколько материала пойдёт на постройку ,вычислять расстояния между точками в пространстве и углы между прямыми плоскостями , знать свойства простейших геометрических фигур. Так, египетские пирамиды, сооруженные за 2-3 тысячи лет до н. э., поражают точность своих метрических соотношений, доказывая ,что их строители знали многие геометрические положения и расчёты.</a:t>
            </a:r>
            <a:endParaRPr b="0" lang="en-US" sz="21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19" name="egipetskie-piramidy_35.jpg" descr=""/>
          <p:cNvPicPr/>
          <p:nvPr/>
        </p:nvPicPr>
        <p:blipFill>
          <a:blip r:embed="rId2"/>
          <a:stretch/>
        </p:blipFill>
        <p:spPr>
          <a:xfrm>
            <a:off x="6523200" y="1582560"/>
            <a:ext cx="5798880" cy="43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941751"/>
                </a:solidFill>
                <a:latin typeface="Copperplate"/>
              </a:rPr>
              <a:t>Древний Египет</a:t>
            </a:r>
            <a:endParaRPr b="0" lang="en-US" sz="78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5920" y="286992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Геометр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 наука, изучающая формы, размеры и взаимное расположение геометрических фигур. Она возникла и развивалась в связи с потребностями практической деятельности человека. С древних времён люди сталкивались с необходимостью находить расстояния между предметами, определять размеры участков земли, ориентироваться по расположению звёзд на небе и т. п. О зарождении геометрии в Древнем Египте около 2000 лет до н. э. древнегреческий историк Геродот писал :Сезострис, египетский фараон, разделил землю, дав каждому египтянину участок по жребию, и взимал соответствующим  образом налог с каждого участка. Случилось ,что Нил заливал тот или иной участок, тогда пострадавший обращался к царю ,а царь посылал землемеров, чтобы установить ,на сколько уменьшился участок, и соответствующим образом уменьшить налог. Так возникла геометрия в Египте, а оттуда перешла в Грецию"</a:t>
            </a:r>
            <a:endParaRPr b="0" lang="en-US" sz="24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9600" spc="-1" strike="noStrike">
                <a:solidFill>
                  <a:srgbClr val="005493"/>
                </a:solidFill>
                <a:latin typeface="Copperplate"/>
              </a:rPr>
              <a:t>Ученые</a:t>
            </a:r>
            <a:endParaRPr b="0" lang="en-US" sz="9600" spc="-1" strike="noStrike">
              <a:solidFill>
                <a:srgbClr val="6f6a5a"/>
              </a:solidFill>
              <a:latin typeface="Copperplat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2209680"/>
            <a:ext cx="10972800" cy="339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Начиная с 7 века до н. э. в Древней Греции создаются так называемые философские школы и приходит постепенный переход от практической к теоретической геометрии.</a:t>
            </a:r>
            <a:endParaRPr b="0" lang="en-US" sz="36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19040" y="1298160"/>
            <a:ext cx="6554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1680"/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Одной из первых школ была ионийская. Её основателем считаются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Фалес Милетский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Verdana"/>
              </a:rPr>
              <a:t> . Он мог находить высоту предмета по его тени, пользуясь тем, что треугольник определяется одной стороной и двумя прилегающими к ней углами.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Таким образом , Фелесу приписывают теорему о том, что равноугольные треугольники имеют пропорциональные стороны.</a:t>
            </a:r>
            <a:endParaRPr b="0" lang="en-US" sz="23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25" name="Unknown.jpeg" descr=""/>
          <p:cNvPicPr/>
          <p:nvPr/>
        </p:nvPicPr>
        <p:blipFill>
          <a:blip r:embed="rId2"/>
          <a:stretch/>
        </p:blipFill>
        <p:spPr>
          <a:xfrm>
            <a:off x="7813800" y="755640"/>
            <a:ext cx="4566960" cy="6311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255240" y="7914240"/>
            <a:ext cx="2347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Фалес Милетский</a:t>
            </a:r>
            <a:endParaRPr b="0" lang="en-US" sz="18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33360" y="1603080"/>
            <a:ext cx="71913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Другой знаменитой философской школой того времени была школа Платона (5-6 вв. до н. э.). </a:t>
            </a:r>
            <a:r>
              <a:rPr b="1" lang="en-US" sz="2800" spc="-1" strike="noStrike">
                <a:solidFill>
                  <a:srgbClr val="011993"/>
                </a:solidFill>
                <a:latin typeface="Verdana"/>
                <a:ea typeface="Verdana"/>
              </a:rPr>
              <a:t>Плато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не был математиком и не получил никаких результатов в этой науки, но в своих произведениях любил говорить о математике. В частности, в трактате "Тимей" он изложил ученья пифагорейцев о правильных многогранниках, которые благодаря этому впоследствие получили название "Платоновых тел».</a:t>
            </a:r>
            <a:endParaRPr b="0" lang="en-US" sz="28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28" name="Unknown-1.jpeg" descr=""/>
          <p:cNvPicPr/>
          <p:nvPr/>
        </p:nvPicPr>
        <p:blipFill>
          <a:blip r:embed="rId2"/>
          <a:stretch/>
        </p:blipFill>
        <p:spPr>
          <a:xfrm>
            <a:off x="7832880" y="1533600"/>
            <a:ext cx="479088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99680" y="1420560"/>
            <a:ext cx="7418520" cy="721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Более поздняя философская школа - Александрийская - интересна тем, что дала миру известного математика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Евклид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, который жил около 300 года до н. э. К сожалению, о жизни его мало что известно. В одном из своих сочинений математик Пап (3 век до н. э.) изображает его как человека исключительно честного, тихого и скромного, которому были чужды гордость и эгоизм. Насколько серьёзно и строго он относился к изучению математики, можно ссудить по следующий легенде: царь Птолемей спросил у Евклида, нельзя ли найти более короткий и менее утомительный путь к изучению геометрии, чем его "Начала"? Евклид ответил: "В геометрии нет царского пути".</a:t>
            </a:r>
            <a:endParaRPr b="0" lang="en-US" sz="25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30" name="images.jpeg" descr=""/>
          <p:cNvPicPr/>
          <p:nvPr/>
        </p:nvPicPr>
        <p:blipFill>
          <a:blip r:embed="rId2"/>
          <a:stretch/>
        </p:blipFill>
        <p:spPr>
          <a:xfrm>
            <a:off x="8682120" y="1852560"/>
            <a:ext cx="3521160" cy="4867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526320" y="7280640"/>
            <a:ext cx="22482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f6a5a"/>
                </a:solidFill>
                <a:latin typeface="Baskerville"/>
              </a:rPr>
              <a:t>Евкалид</a:t>
            </a:r>
            <a:endParaRPr b="0" lang="en-US" sz="42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9960" y="1439640"/>
            <a:ext cx="6151680" cy="721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Вслед за Евклидом Архимед занимался изучением правильных многогранников. Убедившись в том, что правильных многогранников только пять, Архимед стал строить многогранники, у которых гранями являются правильные, но не одноименные многоугольники, а в каждой вершине, как и у правильных многогранников, сходится одно и то же число рёбер. В результате были получены так называемые равноугольно полу правильные многогранники. До нас дошла работа ученого, которая называется «О многогранниках» , подробно описывающая тринадцать таких многогранников, получивших название « тела Архимеда».</a:t>
            </a:r>
            <a:endParaRPr b="0" lang="en-US" sz="2400" spc="-1" strike="noStrike">
              <a:solidFill>
                <a:srgbClr val="6f6a5a"/>
              </a:solidFill>
              <a:latin typeface="Baskerville"/>
            </a:endParaRPr>
          </a:p>
        </p:txBody>
      </p:sp>
      <p:pic>
        <p:nvPicPr>
          <p:cNvPr id="133" name="Archimedes.jpg" descr=""/>
          <p:cNvPicPr/>
          <p:nvPr/>
        </p:nvPicPr>
        <p:blipFill>
          <a:blip r:embed="rId2"/>
          <a:stretch/>
        </p:blipFill>
        <p:spPr>
          <a:xfrm>
            <a:off x="7943760" y="1560600"/>
            <a:ext cx="4572000" cy="507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235440" y="7198200"/>
            <a:ext cx="24033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f6a5a"/>
                </a:solidFill>
                <a:latin typeface="Baskerville"/>
              </a:rPr>
              <a:t>Архимед</a:t>
            </a:r>
            <a:endParaRPr b="0" lang="en-US" sz="42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Verdana"/>
              </a:rPr>
              <a:t>Учёный, по выражению современников, был околдован геометрией, и, хотя у него было много прекрасных открытий, он просил на своей могиле изобразить цилиндр со вписанным  в него шаром и указать соотношение объёмов этих тел. Позже именно по этому изображению была найдена могила Архимеда.</a:t>
            </a:r>
            <a:endParaRPr b="0" lang="en-US" sz="2900" spc="-1" strike="noStrike">
              <a:solidFill>
                <a:srgbClr val="6f6a5a"/>
              </a:solidFill>
              <a:latin typeface="Baskervil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Verdana"/>
              </a:rPr>
              <a:t>В последние столетия возникли  и развивались новые направления геометрии, среди которых геометрия Лобачевского, топология, теория графов и др. Появились новые методы, в том числе координатный и векторный, позволяющий переводить геометрические задачи на язык алгебры и наоборот. Достижения геометрии широко используют в других науках: физике, химии, географии и т. д.</a:t>
            </a:r>
            <a:endParaRPr b="0" lang="en-US" sz="2900" spc="-1" strike="noStrike">
              <a:solidFill>
                <a:srgbClr val="6f6a5a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