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736F-94F9-492B-899C-8921A22C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4FE-B381-4689-A896-0B580326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DA7-D660-40C0-9EC8-9FDE6B6B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5ED3-6A81-46A6-8823-EED81EAC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4250-1985-40B6-85B7-959F654E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60F6-27C3-4B8C-B0D2-9EDCF961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8858-6111-4CEC-ADE5-DA9C097A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7378-73BF-4F07-8A19-4F5F5A02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B8A0-480C-4323-B904-0726F679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3C80-9526-445D-914C-098A4961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D9C6-633C-4D95-B9DF-06355B1D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F33A-C6F4-4B5E-A3BF-B9E5AA4F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CFA0-2BEA-4056-BAE3-CBD5D9A8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08E0-17F1-4CA8-B531-F553729A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D6F7-E146-466E-99AA-0C5375DD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0023-B5CB-4C35-B765-A805D7EF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8664-8566-475D-B1BA-A6E8D1FB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79B8-F3FD-4846-BF70-84FE3364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49D-4092-41BC-95DA-553ABD53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422-2C09-4B57-B5DC-D84C2779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D246-CCF7-433F-B04A-541C84D0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492-A0C4-4F2A-A696-19310FED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C2E-1EFB-4AA9-8700-93A50C24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A08D-5FCA-42C2-AC03-1383440A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Freeform 3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Group 6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>
                      <a:gd name="textAreaLeft" fmla="*/ 0 w 209520"/>
                      <a:gd name="textAreaRight" fmla="*/ 209880 w 209520"/>
                      <a:gd name="textAreaTop" fmla="*/ 0 h 379440"/>
                      <a:gd name="textAreaBottom" fmla="*/ 379800 h 379440"/>
                    </a:gdLst>
                    <a:ahLst/>
                    <a:rect l="textAreaLeft" t="textAreaTop" r="textAreaRight" b="textAreaBottom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>
                      <a:gd name="textAreaLeft" fmla="*/ 0 w 142920"/>
                      <a:gd name="textAreaRight" fmla="*/ 143280 w 142920"/>
                      <a:gd name="textAreaTop" fmla="*/ 0 h 927000"/>
                      <a:gd name="textAreaBottom" fmla="*/ 927360 h 927000"/>
                    </a:gdLst>
                    <a:ahLst/>
                    <a:rect l="textAreaLeft" t="textAreaTop" r="textAreaRight" b="textAreaBottom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9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420840"/>
                      <a:gd name="textAreaBottom" fmla="*/ 421200 h 420840"/>
                    </a:gdLst>
                    <a:ahLst/>
                    <a:rect l="textAreaLeft" t="textAreaTop" r="textAreaRight" b="textAreaBottom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>
                      <a:gd name="textAreaLeft" fmla="*/ 0 w 396720"/>
                      <a:gd name="textAreaRight" fmla="*/ 397080 w 396720"/>
                      <a:gd name="textAreaTop" fmla="*/ 0 h 997200"/>
                      <a:gd name="textAreaBottom" fmla="*/ 997560 h 997200"/>
                    </a:gdLst>
                    <a:ahLst/>
                    <a:rect l="textAreaLeft" t="textAreaTop" r="textAreaRight" b="textAreaBottom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Freeform 12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416160"/>
                    <a:gd name="textAreaBottom" fmla="*/ 416520 h 416160"/>
                  </a:gdLst>
                  <a:ahLst/>
                  <a:rect l="textAreaLeft" t="textAreaTop" r="textAreaRight" b="textAreaBottom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1015920"/>
                    <a:gd name="textAreaBottom" fmla="*/ 1016280 h 1015920"/>
                  </a:gdLst>
                  <a:ahLst/>
                  <a:rect l="textAreaLeft" t="textAreaTop" r="textAreaRight" b="textAreaBottom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>
                    <a:gd name="textAreaLeft" fmla="*/ 0 w 222480"/>
                    <a:gd name="textAreaRight" fmla="*/ 222840 w 222480"/>
                    <a:gd name="textAreaTop" fmla="*/ 0 h 1741680"/>
                    <a:gd name="textAreaBottom" fmla="*/ 1742040 h 1741680"/>
                  </a:gdLst>
                  <a:ahLst/>
                  <a:rect l="textAreaLeft" t="textAreaTop" r="textAreaRight" b="textAreaBottom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15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Freeform 16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>
                      <a:gd name="textAreaLeft" fmla="*/ 0 w 146160"/>
                      <a:gd name="textAreaRight" fmla="*/ 146520 w 146160"/>
                      <a:gd name="textAreaTop" fmla="*/ 0 h 612720"/>
                      <a:gd name="textAreaBottom" fmla="*/ 612720 h 612720"/>
                    </a:gdLst>
                    <a:ahLst/>
                    <a:rect l="textAreaLeft" t="textAreaTop" r="textAreaRight" b="textAreaBottom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>
                      <a:gd name="textAreaLeft" fmla="*/ 0 w 206280"/>
                      <a:gd name="textAreaRight" fmla="*/ 206640 w 206280"/>
                      <a:gd name="textAreaTop" fmla="*/ 0 h 2243160"/>
                      <a:gd name="textAreaBottom" fmla="*/ 2243520 h 2243160"/>
                    </a:gdLst>
                    <a:ahLst/>
                    <a:rect l="textAreaLeft" t="textAreaTop" r="textAreaRight" b="textAreaBottom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>
                      <a:gd name="textAreaLeft" fmla="*/ 0 w 168480"/>
                      <a:gd name="textAreaRight" fmla="*/ 168840 w 168480"/>
                      <a:gd name="textAreaTop" fmla="*/ 0 h 828720"/>
                      <a:gd name="textAreaBottom" fmla="*/ 829080 h 828720"/>
                    </a:gdLst>
                    <a:ahLst/>
                    <a:rect l="textAreaLeft" t="textAreaTop" r="textAreaRight" b="textAreaBottom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>
                      <a:gd name="textAreaLeft" fmla="*/ 0 w 76320"/>
                      <a:gd name="textAreaRight" fmla="*/ 76680 w 76320"/>
                      <a:gd name="textAreaTop" fmla="*/ 0 h 404640"/>
                      <a:gd name="textAreaBottom" fmla="*/ 405000 h 404640"/>
                    </a:gdLst>
                    <a:ahLst/>
                    <a:rect l="textAreaLeft" t="textAreaTop" r="textAreaRight" b="textAreaBottom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Freeform 20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>
                    <a:gd name="textAreaLeft" fmla="*/ 0 w 260640"/>
                    <a:gd name="textAreaRight" fmla="*/ 261000 w 26064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>
                    <a:gd name="textAreaLeft" fmla="*/ 0 w 346320"/>
                    <a:gd name="textAreaRight" fmla="*/ 346680 w 34632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547560"/>
                    <a:gd name="textAreaBottom" fmla="*/ 547920 h 547560"/>
                  </a:gdLst>
                  <a:ahLst/>
                  <a:rect l="textAreaLeft" t="textAreaTop" r="textAreaRight" b="textAreaBottom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>
                    <a:gd name="textAreaLeft" fmla="*/ 0 w 414360"/>
                    <a:gd name="textAreaRight" fmla="*/ 414720 w 414360"/>
                    <a:gd name="textAreaTop" fmla="*/ 0 h 495360"/>
                    <a:gd name="textAreaBottom" fmla="*/ 495720 h 495360"/>
                  </a:gdLst>
                  <a:ahLst/>
                  <a:rect l="textAreaLeft" t="textAreaTop" r="textAreaRight" b="textAreaBottom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760320"/>
                    <a:gd name="textAreaBottom" fmla="*/ 760680 h 760320"/>
                  </a:gdLst>
                  <a:ahLst/>
                  <a:rect l="textAreaLeft" t="textAreaTop" r="textAreaRight" b="textAreaBottom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>
                    <a:gd name="textAreaLeft" fmla="*/ 0 w 300240"/>
                    <a:gd name="textAreaRight" fmla="*/ 300600 w 30024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>
                    <a:gd name="textAreaLeft" fmla="*/ 0 w 144360"/>
                    <a:gd name="textAreaRight" fmla="*/ 144720 w 14436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>
                    <a:gd name="textAreaLeft" fmla="*/ 0 w 360360"/>
                    <a:gd name="textAreaRight" fmla="*/ 360720 w 360360"/>
                    <a:gd name="textAreaTop" fmla="*/ 0 h 1536480"/>
                    <a:gd name="textAreaBottom" fmla="*/ 1536840 h 1536480"/>
                  </a:gdLst>
                  <a:ahLst/>
                  <a:rect l="textAreaLeft" t="textAreaTop" r="textAreaRight" b="textAreaBottom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571320"/>
                    <a:gd name="textAreaBottom" fmla="*/ 571680 h 571320"/>
                  </a:gdLst>
                  <a:ahLst/>
                  <a:rect l="textAreaLeft" t="textAreaTop" r="textAreaRight" b="textAreaBottom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276120"/>
                    <a:gd name="textAreaBottom" fmla="*/ 276480 h 276120"/>
                  </a:gdLst>
                  <a:ahLst/>
                  <a:rect l="textAreaLeft" t="textAreaTop" r="textAreaRight" b="textAreaBottom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1277640"/>
                    <a:gd name="textAreaBottom" fmla="*/ 1277640 h 1277640"/>
                  </a:gdLst>
                  <a:ahLst/>
                  <a:rect l="textAreaLeft" t="textAreaTop" r="textAreaRight" b="textAreaBottom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Group 32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Freeform 33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326880"/>
                    <a:gd name="textAreaBottom" fmla="*/ 326880 h 326880"/>
                  </a:gdLst>
                  <a:ahLst/>
                  <a:rect l="textAreaLeft" t="textAreaTop" r="textAreaRight" b="textAreaBottom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325440"/>
                    <a:gd name="textAreaBottom" fmla="*/ 325800 h 325440"/>
                  </a:gdLst>
                  <a:ahLst/>
                  <a:rect l="textAreaLeft" t="textAreaTop" r="textAreaRight" b="textAreaBottom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585720"/>
                    <a:gd name="textAreaBottom" fmla="*/ 585720 h 585720"/>
                  </a:gdLst>
                  <a:ahLst/>
                  <a:rect l="textAreaLeft" t="textAreaTop" r="textAreaRight" b="textAreaBottom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Freeform 36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57480"/>
                  <a:gd name="textAreaBottom" fmla="*/ 357480 h 357480"/>
                </a:gdLst>
                <a:ahLst/>
                <a:rect l="textAreaLeft" t="textAreaTop" r="textAreaRight" b="textAreaBottom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641520"/>
                  <a:gd name="textAreaBottom" fmla="*/ 641520 h 641520"/>
                </a:gdLst>
                <a:ahLst/>
                <a:rect l="textAreaLeft" t="textAreaTop" r="textAreaRight" b="textAreaBottom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Freeform 39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405000"/>
                    <a:gd name="textAreaBottom" fmla="*/ 405360 h 405000"/>
                  </a:gdLst>
                  <a:ahLst/>
                  <a:rect l="textAreaLeft" t="textAreaTop" r="textAreaRight" b="textAreaBottom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>
                    <a:gd name="textAreaLeft" fmla="*/ 0 w 295200"/>
                    <a:gd name="textAreaRight" fmla="*/ 295560 w 295200"/>
                    <a:gd name="textAreaTop" fmla="*/ 0 h 517320"/>
                    <a:gd name="textAreaBottom" fmla="*/ 517680 h 517320"/>
                  </a:gdLst>
                  <a:ahLst/>
                  <a:rect l="textAreaLeft" t="textAreaTop" r="textAreaRight" b="textAreaBottom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Freeform 41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898560"/>
                  <a:gd name="textAreaBottom" fmla="*/ 898920 h 898560"/>
                </a:gdLst>
                <a:ahLst/>
                <a:rect l="textAreaLeft" t="textAreaTop" r="textAreaRight" b="textAreaBottom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Group 42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Freeform 43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588960"/>
                    <a:gd name="textAreaBottom" fmla="*/ 589320 h 588960"/>
                  </a:gdLst>
                  <a:ahLst/>
                  <a:rect l="textAreaLeft" t="textAreaTop" r="textAreaRight" b="textAreaBottom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714240"/>
                    <a:gd name="textAreaBottom" fmla="*/ 714600 h 714240"/>
                  </a:gdLst>
                  <a:ahLst/>
                  <a:rect l="textAreaLeft" t="textAreaTop" r="textAreaRight" b="textAreaBottom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Group 45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Freeform 46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1017360"/>
                      <a:gd name="textAreaBottom" fmla="*/ 1017720 h 1017360"/>
                    </a:gdLst>
                    <a:ahLst/>
                    <a:rect l="textAreaLeft" t="textAreaTop" r="textAreaRight" b="textAreaBottom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017360"/>
                      <a:gd name="textAreaBottom" fmla="*/ 1017720 h 1017360"/>
                    </a:gdLst>
                    <a:ahLst/>
                    <a:rect l="textAreaLeft" t="textAreaTop" r="textAreaRight" b="textAreaBottom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Freeform 48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777960"/>
                    <a:gd name="textAreaBottom" fmla="*/ 778320 h 777960"/>
                  </a:gdLst>
                  <a:ahLst/>
                  <a:rect l="textAreaLeft" t="textAreaTop" r="textAreaRight" b="textAreaBottom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>
                    <a:gd name="textAreaLeft" fmla="*/ 0 w 142920"/>
                    <a:gd name="textAreaRight" fmla="*/ 143280 w 14292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50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>
                  <a:gd name="textAreaLeft" fmla="*/ 0 w 311400"/>
                  <a:gd name="textAreaRight" fmla="*/ 311760 w 31140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241560"/>
                  <a:gd name="textAreaBottom" fmla="*/ 241920 h 241560"/>
                </a:gdLst>
                <a:ahLst/>
                <a:rect l="textAreaLeft" t="textAreaTop" r="textAreaRight" b="textAreaBottom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488880"/>
                  <a:gd name="textAreaBottom" fmla="*/ 489240 h 488880"/>
                </a:gdLst>
                <a:ahLst/>
                <a:rect l="textAreaLeft" t="textAreaTop" r="textAreaRight" b="textAreaBottom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Freeform 63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>
                    <a:gd name="textAreaLeft" fmla="*/ 0 w 336240"/>
                    <a:gd name="textAreaRight" fmla="*/ 336240 w 3362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698400"/>
                    <a:gd name="textAreaBottom" fmla="*/ 698760 h 698400"/>
                  </a:gdLst>
                  <a:ahLst/>
                  <a:rect l="textAreaLeft" t="textAreaTop" r="textAreaRight" b="textAreaBottom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65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916200"/>
                  <a:gd name="textAreaBottom" fmla="*/ 916560 h 916200"/>
                </a:gdLst>
                <a:ahLst/>
                <a:rect l="textAreaLeft" t="textAreaTop" r="textAreaRight" b="textAreaBottom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>
                  <a:gd name="textAreaLeft" fmla="*/ 0 w 250920"/>
                  <a:gd name="textAreaRight" fmla="*/ 250920 w 250920"/>
                  <a:gd name="textAreaTop" fmla="*/ 0 h 417240"/>
                  <a:gd name="textAreaBottom" fmla="*/ 417600 h 417240"/>
                </a:gdLst>
                <a:ahLst/>
                <a:rect l="textAreaLeft" t="textAreaTop" r="textAreaRight" b="textAreaBottom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511200"/>
                  <a:gd name="textAreaBottom" fmla="*/ 511200 h 511200"/>
                </a:gdLst>
                <a:ahLst/>
                <a:rect l="textAreaLeft" t="textAreaTop" r="textAreaRight" b="textAreaBottom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Freeform 72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>
                    <a:gd name="textAreaLeft" fmla="*/ 0 w 234720"/>
                    <a:gd name="textAreaRight" fmla="*/ 235080 w 23472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>
                    <a:gd name="textAreaLeft" fmla="*/ 0 w 185760"/>
                    <a:gd name="textAreaRight" fmla="*/ 186120 w 18576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>
                    <a:gd name="textAreaLeft" fmla="*/ 0 w 250920"/>
                    <a:gd name="textAreaRight" fmla="*/ 250920 w 250920"/>
                    <a:gd name="textAreaTop" fmla="*/ 0 h 1568160"/>
                    <a:gd name="textAreaBottom" fmla="*/ 1568520 h 1568160"/>
                  </a:gdLst>
                  <a:ahLst/>
                  <a:rect l="textAreaLeft" t="textAreaTop" r="textAreaRight" b="textAreaBottom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5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>
                    <a:gd name="textAreaLeft" fmla="*/ 0 w 258840"/>
                    <a:gd name="textAreaRight" fmla="*/ 259200 w 25884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550800"/>
                    <a:gd name="textAreaBottom" fmla="*/ 551160 h 550800"/>
                  </a:gdLst>
                  <a:ahLst/>
                  <a:rect l="textAreaLeft" t="textAreaTop" r="textAreaRight" b="textAreaBottom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>
                    <a:gd name="textAreaLeft" fmla="*/ 0 w 540000"/>
                    <a:gd name="textAreaRight" fmla="*/ 540360 w 540000"/>
                    <a:gd name="textAreaTop" fmla="*/ 0 h 834840"/>
                    <a:gd name="textAreaBottom" fmla="*/ 835200 h 834840"/>
                  </a:gdLst>
                  <a:ahLst/>
                  <a:rect l="textAreaLeft" t="textAreaTop" r="textAreaRight" b="textAreaBottom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>
                    <a:gd name="textAreaLeft" fmla="*/ 0 w 536400"/>
                    <a:gd name="textAreaRight" fmla="*/ 536760 w 536400"/>
                    <a:gd name="textAreaTop" fmla="*/ 0 h 1380960"/>
                    <a:gd name="textAreaBottom" fmla="*/ 1381320 h 1380960"/>
                  </a:gdLst>
                  <a:ahLst/>
                  <a:rect l="textAreaLeft" t="textAreaTop" r="textAreaRight" b="textAreaBottom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79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474840"/>
                    <a:gd name="textAreaBottom" fmla="*/ 475200 h 474840"/>
                  </a:gdLst>
                  <a:ahLst/>
                  <a:rect l="textAreaLeft" t="textAreaTop" r="textAreaRight" b="textAreaBottom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0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>
                    <a:gd name="textAreaLeft" fmla="*/ 0 w 189000"/>
                    <a:gd name="textAreaRight" fmla="*/ 189360 w 18900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911160"/>
                    <a:gd name="textAreaBottom" fmla="*/ 911520 h 911160"/>
                  </a:gdLst>
                  <a:ahLst/>
                  <a:rect l="textAreaLeft" t="textAreaTop" r="textAreaRight" b="textAreaBottom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>
                    <a:gd name="textAreaLeft" fmla="*/ 0 w 196920"/>
                    <a:gd name="textAreaRight" fmla="*/ 197280 w 196920"/>
                    <a:gd name="textAreaTop" fmla="*/ 0 h 255600"/>
                    <a:gd name="textAreaBottom" fmla="*/ 255600 h 255600"/>
                  </a:gdLst>
                  <a:ahLst/>
                  <a:rect l="textAreaLeft" t="textAreaTop" r="textAreaRight" b="textAreaBottom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635040"/>
                    <a:gd name="textAreaBottom" fmla="*/ 635040 h 635040"/>
                  </a:gdLst>
                  <a:ahLst/>
                  <a:rect l="textAreaLeft" t="textAreaTop" r="textAreaRight" b="textAreaBottom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239400"/>
                    <a:gd name="textAreaBottom" fmla="*/ 239760 h 239400"/>
                  </a:gdLst>
                  <a:ahLst/>
                  <a:rect l="textAreaLeft" t="textAreaTop" r="textAreaRight" b="textAreaBottom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>
                    <a:gd name="textAreaLeft" fmla="*/ 0 w 482760"/>
                    <a:gd name="textAreaRight" fmla="*/ 483120 w 482760"/>
                    <a:gd name="textAreaTop" fmla="*/ 0 h 833400"/>
                    <a:gd name="textAreaBottom" fmla="*/ 833760 h 833400"/>
                  </a:gdLst>
                  <a:ahLst/>
                  <a:rect l="textAreaLeft" t="textAreaTop" r="textAreaRight" b="textAreaBottom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685800"/>
                    <a:gd name="textAreaBottom" fmla="*/ 686160 h 685800"/>
                  </a:gdLst>
                  <a:ahLst/>
                  <a:rect l="textAreaLeft" t="textAreaTop" r="textAreaRight" b="textAreaBottom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87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Freeform 88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458640"/>
                  <a:gd name="textAreaBottom" fmla="*/ 459000 h 458640"/>
                </a:gdLst>
                <a:ahLst/>
                <a:rect l="textAreaLeft" t="textAreaTop" r="textAreaRight" b="textAreaBottom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936720"/>
                  <a:gd name="textAreaBottom" fmla="*/ 937080 h 936720"/>
                </a:gdLst>
                <a:ahLst/>
                <a:rect l="textAreaLeft" t="textAreaTop" r="textAreaRight" b="textAreaBottom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Freeform 92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Freeform 93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Freeform 98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Freeform 100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554040"/>
                  <a:gd name="textAreaBottom" fmla="*/ 554400 h 554040"/>
                </a:gdLst>
                <a:ahLst/>
                <a:rect l="textAreaLeft" t="textAreaTop" r="textAreaRight" b="textAreaBottom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>
                  <a:gd name="textAreaLeft" fmla="*/ 0 w 157320"/>
                  <a:gd name="textAreaRight" fmla="*/ 157320 w 15732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Freeform 104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Freeform 105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579600"/>
                  <a:gd name="textAreaBottom" fmla="*/ 579960 h 579600"/>
                </a:gdLst>
                <a:ahLst/>
                <a:rect l="textAreaLeft" t="textAreaTop" r="textAreaRight" b="textAreaBottom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Freeform 109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>
                  <a:gd name="textAreaLeft" fmla="*/ 0 w 444600"/>
                  <a:gd name="textAreaRight" fmla="*/ 444960 w 44460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D22D-27BF-461D-A9CA-B2C106D95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Freeform 3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Group 5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Group 6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Freeform 7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>
                      <a:gd name="textAreaLeft" fmla="*/ 0 w 327240"/>
                      <a:gd name="textAreaRight" fmla="*/ 327600 w 327240"/>
                      <a:gd name="textAreaTop" fmla="*/ 0 h 641160"/>
                      <a:gd name="textAreaBottom" fmla="*/ 641520 h 641160"/>
                    </a:gdLst>
                    <a:ahLst/>
                    <a:rect l="textAreaLeft" t="textAreaTop" r="textAreaRight" b="textAreaBottom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8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>
                      <a:gd name="textAreaLeft" fmla="*/ 0 w 222480"/>
                      <a:gd name="textAreaRight" fmla="*/ 222840 w 222480"/>
                      <a:gd name="textAreaTop" fmla="*/ 0 h 1569960"/>
                      <a:gd name="textAreaBottom" fmla="*/ 1570320 h 1569960"/>
                    </a:gdLst>
                    <a:ahLst/>
                    <a:rect l="textAreaLeft" t="textAreaTop" r="textAreaRight" b="textAreaBottom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9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Freeform 10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>
                      <a:gd name="textAreaLeft" fmla="*/ 0 w 408240"/>
                      <a:gd name="textAreaRight" fmla="*/ 408600 w 408240"/>
                      <a:gd name="textAreaTop" fmla="*/ 0 h 709560"/>
                      <a:gd name="textAreaBottom" fmla="*/ 709920 h 709560"/>
                    </a:gdLst>
                    <a:ahLst/>
                    <a:rect l="textAreaLeft" t="textAreaTop" r="textAreaRight" b="textAreaBottom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1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>
                      <a:gd name="textAreaLeft" fmla="*/ 0 w 619200"/>
                      <a:gd name="textAreaRight" fmla="*/ 619560 w 619200"/>
                      <a:gd name="textAreaTop" fmla="*/ 0 h 1684440"/>
                      <a:gd name="textAreaBottom" fmla="*/ 1684800 h 1684440"/>
                    </a:gdLst>
                    <a:ahLst/>
                    <a:rect l="textAreaLeft" t="textAreaTop" r="textAreaRight" b="textAreaBottom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12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>
                    <a:gd name="textAreaLeft" fmla="*/ 0 w 149400"/>
                    <a:gd name="textAreaRight" fmla="*/ 149760 w 149400"/>
                    <a:gd name="textAreaTop" fmla="*/ 0 h 706320"/>
                    <a:gd name="textAreaBottom" fmla="*/ 706320 h 706320"/>
                  </a:gdLst>
                  <a:ahLst/>
                  <a:rect l="textAreaLeft" t="textAreaTop" r="textAreaRight" b="textAreaBottom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3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719360"/>
                    <a:gd name="textAreaBottom" fmla="*/ 1719720 h 1719360"/>
                  </a:gdLst>
                  <a:ahLst/>
                  <a:rect l="textAreaLeft" t="textAreaTop" r="textAreaRight" b="textAreaBottom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4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>
                    <a:gd name="textAreaLeft" fmla="*/ 0 w 347400"/>
                    <a:gd name="textAreaRight" fmla="*/ 347760 w 347400"/>
                    <a:gd name="textAreaTop" fmla="*/ 0 h 2946600"/>
                    <a:gd name="textAreaBottom" fmla="*/ 2946960 h 2946600"/>
                  </a:gdLst>
                  <a:ahLst/>
                  <a:rect l="textAreaLeft" t="textAreaTop" r="textAreaRight" b="textAreaBottom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15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Freeform 16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>
                      <a:gd name="textAreaLeft" fmla="*/ 0 w 228600"/>
                      <a:gd name="textAreaRight" fmla="*/ 228960 w 228600"/>
                      <a:gd name="textAreaTop" fmla="*/ 0 h 1038240"/>
                      <a:gd name="textAreaBottom" fmla="*/ 1038600 h 1038240"/>
                    </a:gdLst>
                    <a:ahLst/>
                    <a:rect l="textAreaLeft" t="textAreaTop" r="textAreaRight" b="textAreaBottom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7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>
                      <a:gd name="textAreaLeft" fmla="*/ 0 w 322200"/>
                      <a:gd name="textAreaRight" fmla="*/ 322560 w 322200"/>
                      <a:gd name="textAreaTop" fmla="*/ 0 h 3795840"/>
                      <a:gd name="textAreaBottom" fmla="*/ 3795840 h 3795840"/>
                    </a:gdLst>
                    <a:ahLst/>
                    <a:rect l="textAreaLeft" t="textAreaTop" r="textAreaRight" b="textAreaBottom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8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>
                      <a:gd name="textAreaLeft" fmla="*/ 0 w 255600"/>
                      <a:gd name="textAreaRight" fmla="*/ 255600 w 255600"/>
                      <a:gd name="textAreaTop" fmla="*/ 0 h 1400040"/>
                      <a:gd name="textAreaBottom" fmla="*/ 1400400 h 1400040"/>
                    </a:gdLst>
                    <a:ahLst/>
                    <a:rect l="textAreaLeft" t="textAreaTop" r="textAreaRight" b="textAreaBottom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>
                      <a:gd name="textAreaLeft" fmla="*/ 0 w 117360"/>
                      <a:gd name="textAreaRight" fmla="*/ 117720 w 117360"/>
                      <a:gd name="textAreaTop" fmla="*/ 0 h 680760"/>
                      <a:gd name="textAreaBottom" fmla="*/ 681120 h 680760"/>
                    </a:gdLst>
                    <a:ahLst/>
                    <a:rect l="textAreaLeft" t="textAreaTop" r="textAreaRight" b="textAreaBottom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20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>
                    <a:gd name="textAreaLeft" fmla="*/ 0 w 406440"/>
                    <a:gd name="textAreaRight" fmla="*/ 406800 w 406440"/>
                    <a:gd name="textAreaTop" fmla="*/ 0 h 345960"/>
                    <a:gd name="textAreaBottom" fmla="*/ 346320 h 345960"/>
                  </a:gdLst>
                  <a:ahLst/>
                  <a:rect l="textAreaLeft" t="textAreaTop" r="textAreaRight" b="textAreaBottom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1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>
                    <a:gd name="textAreaLeft" fmla="*/ 0 w 539640"/>
                    <a:gd name="textAreaRight" fmla="*/ 540000 w 539640"/>
                    <a:gd name="textAreaTop" fmla="*/ 0 h 374760"/>
                    <a:gd name="textAreaBottom" fmla="*/ 375120 h 374760"/>
                  </a:gdLst>
                  <a:ahLst/>
                  <a:rect l="textAreaLeft" t="textAreaTop" r="textAreaRight" b="textAreaBottom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2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>
                    <a:gd name="textAreaLeft" fmla="*/ 0 w 370080"/>
                    <a:gd name="textAreaRight" fmla="*/ 370440 w 370080"/>
                    <a:gd name="textAreaTop" fmla="*/ 0 h 925560"/>
                    <a:gd name="textAreaBottom" fmla="*/ 925920 h 925560"/>
                  </a:gdLst>
                  <a:ahLst/>
                  <a:rect l="textAreaLeft" t="textAreaTop" r="textAreaRight" b="textAreaBottom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3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>
                    <a:gd name="textAreaLeft" fmla="*/ 0 w 647640"/>
                    <a:gd name="textAreaRight" fmla="*/ 648000 w 647640"/>
                    <a:gd name="textAreaTop" fmla="*/ 0 h 841320"/>
                    <a:gd name="textAreaBottom" fmla="*/ 841680 h 841320"/>
                  </a:gdLst>
                  <a:ahLst/>
                  <a:rect l="textAreaLeft" t="textAreaTop" r="textAreaRight" b="textAreaBottom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4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>
                    <a:gd name="textAreaLeft" fmla="*/ 0 w 585720"/>
                    <a:gd name="textAreaRight" fmla="*/ 585720 w 585720"/>
                    <a:gd name="textAreaTop" fmla="*/ 0 h 1287360"/>
                    <a:gd name="textAreaBottom" fmla="*/ 1287720 h 1287360"/>
                  </a:gdLst>
                  <a:ahLst/>
                  <a:rect l="textAreaLeft" t="textAreaTop" r="textAreaRight" b="textAreaBottom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5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>
                    <a:gd name="textAreaLeft" fmla="*/ 0 w 468000"/>
                    <a:gd name="textAreaRight" fmla="*/ 468360 w 468000"/>
                    <a:gd name="textAreaTop" fmla="*/ 0 h 476280"/>
                    <a:gd name="textAreaBottom" fmla="*/ 476640 h 476280"/>
                  </a:gdLst>
                  <a:ahLst/>
                  <a:rect l="textAreaLeft" t="textAreaTop" r="textAreaRight" b="textAreaBottom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>
                    <a:gd name="textAreaLeft" fmla="*/ 0 w 225720"/>
                    <a:gd name="textAreaRight" fmla="*/ 226080 w 225720"/>
                    <a:gd name="textAreaTop" fmla="*/ 0 h 230040"/>
                    <a:gd name="textAreaBottom" fmla="*/ 230400 h 230040"/>
                  </a:gdLst>
                  <a:ahLst/>
                  <a:rect l="textAreaLeft" t="textAreaTop" r="textAreaRight" b="textAreaBottom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7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>
                    <a:gd name="textAreaLeft" fmla="*/ 0 w 560520"/>
                    <a:gd name="textAreaRight" fmla="*/ 560880 w 560520"/>
                    <a:gd name="textAreaTop" fmla="*/ 0 h 2600280"/>
                    <a:gd name="textAreaBottom" fmla="*/ 2600640 h 2600280"/>
                  </a:gdLst>
                  <a:ahLst/>
                  <a:rect l="textAreaLeft" t="textAreaTop" r="textAreaRight" b="textAreaBottom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8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>
                    <a:gd name="textAreaLeft" fmla="*/ 0 w 441360"/>
                    <a:gd name="textAreaRight" fmla="*/ 441720 w 441360"/>
                    <a:gd name="textAreaTop" fmla="*/ 0 h 968400"/>
                    <a:gd name="textAreaBottom" fmla="*/ 968760 h 968400"/>
                  </a:gdLst>
                  <a:ahLst/>
                  <a:rect l="textAreaLeft" t="textAreaTop" r="textAreaRight" b="textAreaBottom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9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463680"/>
                    <a:gd name="textAreaBottom" fmla="*/ 464040 h 463680"/>
                  </a:gdLst>
                  <a:ahLst/>
                  <a:rect l="textAreaLeft" t="textAreaTop" r="textAreaRight" b="textAreaBottom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0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>
                    <a:gd name="textAreaLeft" fmla="*/ 0 w 304920"/>
                    <a:gd name="textAreaRight" fmla="*/ 305280 w 304920"/>
                    <a:gd name="textAreaTop" fmla="*/ 0 h 2166840"/>
                    <a:gd name="textAreaBottom" fmla="*/ 2167200 h 2166840"/>
                  </a:gdLst>
                  <a:ahLst/>
                  <a:rect l="textAreaLeft" t="textAreaTop" r="textAreaRight" b="textAreaBottom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31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598680"/>
                  <a:gd name="textAreaBottom" fmla="*/ 599040 h 598680"/>
                </a:gdLst>
                <a:ahLst/>
                <a:rect l="textAreaLeft" t="textAreaTop" r="textAreaRight" b="textAreaBottom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Group 32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Freeform 33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554040"/>
                    <a:gd name="textAreaBottom" fmla="*/ 554400 h 554040"/>
                  </a:gdLst>
                  <a:ahLst/>
                  <a:rect l="textAreaLeft" t="textAreaTop" r="textAreaRight" b="textAreaBottom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4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550800"/>
                    <a:gd name="textAreaBottom" fmla="*/ 551160 h 550800"/>
                  </a:gdLst>
                  <a:ahLst/>
                  <a:rect l="textAreaLeft" t="textAreaTop" r="textAreaRight" b="textAreaBottom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5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>
                    <a:gd name="textAreaLeft" fmla="*/ 0 w 374400"/>
                    <a:gd name="textAreaRight" fmla="*/ 374760 w 374400"/>
                    <a:gd name="textAreaTop" fmla="*/ 0 h 988920"/>
                    <a:gd name="textAreaBottom" fmla="*/ 988920 h 988920"/>
                  </a:gdLst>
                  <a:ahLst/>
                  <a:rect l="textAreaLeft" t="textAreaTop" r="textAreaRight" b="textAreaBottom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36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601920"/>
                  <a:gd name="textAreaBottom" fmla="*/ 602280 h 601920"/>
                </a:gdLst>
                <a:ahLst/>
                <a:rect l="textAreaLeft" t="textAreaTop" r="textAreaRight" b="textAreaBottom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Freeform 37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082520"/>
                  <a:gd name="textAreaBottom" fmla="*/ 1082520 h 1082520"/>
                </a:gdLst>
                <a:ahLst/>
                <a:rect l="textAreaLeft" t="textAreaTop" r="textAreaRight" b="textAreaBottom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Group 38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Freeform 39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687240"/>
                    <a:gd name="textAreaBottom" fmla="*/ 687600 h 687240"/>
                  </a:gdLst>
                  <a:ahLst/>
                  <a:rect l="textAreaLeft" t="textAreaTop" r="textAreaRight" b="textAreaBottom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0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>
                    <a:gd name="textAreaLeft" fmla="*/ 0 w 463680"/>
                    <a:gd name="textAreaRight" fmla="*/ 464040 w 463680"/>
                    <a:gd name="textAreaTop" fmla="*/ 0 h 874440"/>
                    <a:gd name="textAreaBottom" fmla="*/ 874800 h 874440"/>
                  </a:gdLst>
                  <a:ahLst/>
                  <a:rect l="textAreaLeft" t="textAreaTop" r="textAreaRight" b="textAreaBottom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Freeform 41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519560"/>
                  <a:gd name="textAreaBottom" fmla="*/ 1519920 h 1519560"/>
                </a:gdLst>
                <a:ahLst/>
                <a:rect l="textAreaLeft" t="textAreaTop" r="textAreaRight" b="textAreaBottom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Group 42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Freeform 43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998280"/>
                    <a:gd name="textAreaBottom" fmla="*/ 998640 h 998280"/>
                  </a:gdLst>
                  <a:ahLst/>
                  <a:rect l="textAreaLeft" t="textAreaTop" r="textAreaRight" b="textAreaBottom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4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>
                    <a:gd name="textAreaLeft" fmla="*/ 0 w 220680"/>
                    <a:gd name="textAreaRight" fmla="*/ 221040 w 220680"/>
                    <a:gd name="textAreaTop" fmla="*/ 0 h 1211400"/>
                    <a:gd name="textAreaBottom" fmla="*/ 1211760 h 1211400"/>
                  </a:gdLst>
                  <a:ahLst/>
                  <a:rect l="textAreaLeft" t="textAreaTop" r="textAreaRight" b="textAreaBottom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45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Freeform 46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>
                      <a:gd name="textAreaLeft" fmla="*/ 0 w 300240"/>
                      <a:gd name="textAreaRight" fmla="*/ 300600 w 300240"/>
                      <a:gd name="textAreaTop" fmla="*/ 0 h 1720800"/>
                      <a:gd name="textAreaBottom" fmla="*/ 1721160 h 1720800"/>
                    </a:gdLst>
                    <a:ahLst/>
                    <a:rect l="textAreaLeft" t="textAreaTop" r="textAreaRight" b="textAreaBottom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7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>
                      <a:gd name="textAreaLeft" fmla="*/ 0 w 285840"/>
                      <a:gd name="textAreaRight" fmla="*/ 286200 w 285840"/>
                      <a:gd name="textAreaTop" fmla="*/ 0 h 1722240"/>
                      <a:gd name="textAreaBottom" fmla="*/ 1722600 h 1722240"/>
                    </a:gdLst>
                    <a:ahLst/>
                    <a:rect l="textAreaLeft" t="textAreaTop" r="textAreaRight" b="textAreaBottom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48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1314720"/>
                    <a:gd name="textAreaBottom" fmla="*/ 1315080 h 1314720"/>
                  </a:gdLst>
                  <a:ahLst/>
                  <a:rect l="textAreaLeft" t="textAreaTop" r="textAreaRight" b="textAreaBottom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9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>
                    <a:gd name="textAreaLeft" fmla="*/ 0 w 223560"/>
                    <a:gd name="textAreaRight" fmla="*/ 223920 w 223560"/>
                    <a:gd name="textAreaTop" fmla="*/ 0 h 1177920"/>
                    <a:gd name="textAreaBottom" fmla="*/ 1178280 h 1177920"/>
                  </a:gdLst>
                  <a:ahLst/>
                  <a:rect l="textAreaLeft" t="textAreaTop" r="textAreaRight" b="textAreaBottom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50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Freeform 51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Freeform 52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>
                  <a:gd name="textAreaLeft" fmla="*/ 0 w 262080"/>
                  <a:gd name="textAreaRight" fmla="*/ 262440 w 26208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Freeform 53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>
                  <a:gd name="textAreaLeft" fmla="*/ 0 w 487440"/>
                  <a:gd name="textAreaRight" fmla="*/ 487800 w 48744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Freeform 54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>
                  <a:gd name="textAreaLeft" fmla="*/ 0 w 368280"/>
                  <a:gd name="textAreaRight" fmla="*/ 368640 w 36828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Freeform 55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Freeform 56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>
                  <a:gd name="textAreaLeft" fmla="*/ 0 w 423720"/>
                  <a:gd name="textAreaRight" fmla="*/ 424080 w 42372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Freeform 57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>
                  <a:gd name="textAreaLeft" fmla="*/ 0 w 559080"/>
                  <a:gd name="textAreaRight" fmla="*/ 559440 w 55908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Freeform 58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>
                  <a:gd name="textAreaLeft" fmla="*/ 0 w 538200"/>
                  <a:gd name="textAreaRight" fmla="*/ 538560 w 53820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Freeform 59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439920"/>
                  <a:gd name="textAreaBottom" fmla="*/ 440280 h 439920"/>
                </a:gdLst>
                <a:ahLst/>
                <a:rect l="textAreaLeft" t="textAreaTop" r="textAreaRight" b="textAreaBottom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Freeform 60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826920"/>
                  <a:gd name="textAreaBottom" fmla="*/ 827280 h 826920"/>
                </a:gdLst>
                <a:ahLst/>
                <a:rect l="textAreaLeft" t="textAreaTop" r="textAreaRight" b="textAreaBottom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Freeform 61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>
                  <a:gd name="textAreaLeft" fmla="*/ 0 w 396720"/>
                  <a:gd name="textAreaRight" fmla="*/ 397080 w 396720"/>
                  <a:gd name="textAreaTop" fmla="*/ 0 h 808200"/>
                  <a:gd name="textAreaBottom" fmla="*/ 808560 h 808200"/>
                </a:gdLst>
                <a:ahLst/>
                <a:rect l="textAreaLeft" t="textAreaTop" r="textAreaRight" b="textAreaBottom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Group 62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Freeform 63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>
                    <a:gd name="textAreaLeft" fmla="*/ 0 w 525240"/>
                    <a:gd name="textAreaRight" fmla="*/ 525600 w 525240"/>
                    <a:gd name="textAreaTop" fmla="*/ 0 h 1174680"/>
                    <a:gd name="textAreaBottom" fmla="*/ 1175040 h 1174680"/>
                  </a:gdLst>
                  <a:ahLst/>
                  <a:rect l="textAreaLeft" t="textAreaTop" r="textAreaRight" b="textAreaBottom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4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>
                    <a:gd name="textAreaLeft" fmla="*/ 0 w 511200"/>
                    <a:gd name="textAreaRight" fmla="*/ 511200 w 511200"/>
                    <a:gd name="textAreaTop" fmla="*/ 0 h 1181160"/>
                    <a:gd name="textAreaBottom" fmla="*/ 1181520 h 1181160"/>
                  </a:gdLst>
                  <a:ahLst/>
                  <a:rect l="textAreaLeft" t="textAreaTop" r="textAreaRight" b="textAreaBottom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65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901800"/>
                  <a:gd name="textAreaBottom" fmla="*/ 901800 h 901800"/>
                </a:gdLst>
                <a:ahLst/>
                <a:rect l="textAreaLeft" t="textAreaTop" r="textAreaRight" b="textAreaBottom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Freeform 66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Freeform 67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>
                  <a:gd name="textAreaLeft" fmla="*/ 0 w 1060560"/>
                  <a:gd name="textAreaRight" fmla="*/ 1060920 w 1060560"/>
                  <a:gd name="textAreaTop" fmla="*/ 0 h 1549440"/>
                  <a:gd name="textAreaBottom" fmla="*/ 1549800 h 1549440"/>
                </a:gdLst>
                <a:ahLst/>
                <a:rect l="textAreaLeft" t="textAreaTop" r="textAreaRight" b="textAreaBottom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Freeform 68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706320"/>
                  <a:gd name="textAreaBottom" fmla="*/ 706320 h 706320"/>
                </a:gdLst>
                <a:ahLst/>
                <a:rect l="textAreaLeft" t="textAreaTop" r="textAreaRight" b="textAreaBottom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Freeform 69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861840"/>
                  <a:gd name="textAreaBottom" fmla="*/ 862200 h 861840"/>
                </a:gdLst>
                <a:ahLst/>
                <a:rect l="textAreaLeft" t="textAreaTop" r="textAreaRight" b="textAreaBottom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0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Group 71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Freeform 72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>
                    <a:gd name="textAreaLeft" fmla="*/ 0 w 253800"/>
                    <a:gd name="textAreaRight" fmla="*/ 254160 w 253800"/>
                    <a:gd name="textAreaTop" fmla="*/ 0 h 636480"/>
                    <a:gd name="textAreaBottom" fmla="*/ 636840 h 636480"/>
                  </a:gdLst>
                  <a:ahLst/>
                  <a:rect l="textAreaLeft" t="textAreaTop" r="textAreaRight" b="textAreaBottom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>
                    <a:gd name="textAreaLeft" fmla="*/ 0 w 203400"/>
                    <a:gd name="textAreaRight" fmla="*/ 203760 w 203400"/>
                    <a:gd name="textAreaTop" fmla="*/ 0 h 1081080"/>
                    <a:gd name="textAreaBottom" fmla="*/ 1081080 h 1081080"/>
                  </a:gdLst>
                  <a:ahLst/>
                  <a:rect l="textAreaLeft" t="textAreaTop" r="textAreaRight" b="textAreaBottom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4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>
                    <a:gd name="textAreaLeft" fmla="*/ 0 w 273240"/>
                    <a:gd name="textAreaRight" fmla="*/ 273600 w 273240"/>
                    <a:gd name="textAreaTop" fmla="*/ 0 h 2736720"/>
                    <a:gd name="textAreaBottom" fmla="*/ 2736720 h 2736720"/>
                  </a:gdLst>
                  <a:ahLst/>
                  <a:rect l="textAreaLeft" t="textAreaTop" r="textAreaRight" b="textAreaBottom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75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>
                    <a:gd name="textAreaLeft" fmla="*/ 0 w 281160"/>
                    <a:gd name="textAreaRight" fmla="*/ 281520 w 28116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76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958680"/>
                    <a:gd name="textAreaBottom" fmla="*/ 959040 h 958680"/>
                  </a:gdLst>
                  <a:ahLst/>
                  <a:rect l="textAreaLeft" t="textAreaTop" r="textAreaRight" b="textAreaBottom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77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>
                    <a:gd name="textAreaLeft" fmla="*/ 0 w 582480"/>
                    <a:gd name="textAreaRight" fmla="*/ 582840 w 582480"/>
                    <a:gd name="textAreaTop" fmla="*/ 0 h 1452600"/>
                    <a:gd name="textAreaBottom" fmla="*/ 1452960 h 1452600"/>
                  </a:gdLst>
                  <a:ahLst/>
                  <a:rect l="textAreaLeft" t="textAreaTop" r="textAreaRight" b="textAreaBottom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8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>
                    <a:gd name="textAreaLeft" fmla="*/ 0 w 577800"/>
                    <a:gd name="textAreaRight" fmla="*/ 578160 w 577800"/>
                    <a:gd name="textAreaTop" fmla="*/ 0 h 2411280"/>
                    <a:gd name="textAreaBottom" fmla="*/ 2411640 h 2411280"/>
                  </a:gdLst>
                  <a:ahLst/>
                  <a:rect l="textAreaLeft" t="textAreaTop" r="textAreaRight" b="textAreaBottom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9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>
                    <a:gd name="textAreaLeft" fmla="*/ 0 w 426960"/>
                    <a:gd name="textAreaRight" fmla="*/ 427320 w 426960"/>
                    <a:gd name="textAreaTop" fmla="*/ 0 h 825480"/>
                    <a:gd name="textAreaBottom" fmla="*/ 825840 h 825480"/>
                  </a:gdLst>
                  <a:ahLst/>
                  <a:rect l="textAreaLeft" t="textAreaTop" r="textAreaRight" b="textAreaBottom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0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>
                    <a:gd name="textAreaLeft" fmla="*/ 0 w 203400"/>
                    <a:gd name="textAreaRight" fmla="*/ 203760 w 20340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1589040"/>
                    <a:gd name="textAreaBottom" fmla="*/ 1589400 h 1589040"/>
                  </a:gdLst>
                  <a:ahLst/>
                  <a:rect l="textAreaLeft" t="textAreaTop" r="textAreaRight" b="textAreaBottom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2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>
                    <a:gd name="textAreaLeft" fmla="*/ 0 w 209520"/>
                    <a:gd name="textAreaRight" fmla="*/ 209880 w 209520"/>
                    <a:gd name="textAreaTop" fmla="*/ 0 h 442800"/>
                    <a:gd name="textAreaBottom" fmla="*/ 443160 h 442800"/>
                  </a:gdLst>
                  <a:ahLst/>
                  <a:rect l="textAreaLeft" t="textAreaTop" r="textAreaRight" b="textAreaBottom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3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>
                    <a:gd name="textAreaLeft" fmla="*/ 0 w 141480"/>
                    <a:gd name="textAreaRight" fmla="*/ 141840 w 141480"/>
                    <a:gd name="textAreaTop" fmla="*/ 0 h 1108080"/>
                    <a:gd name="textAreaBottom" fmla="*/ 1108440 h 1108080"/>
                  </a:gdLst>
                  <a:ahLst/>
                  <a:rect l="textAreaLeft" t="textAreaTop" r="textAreaRight" b="textAreaBottom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4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>
                    <a:gd name="textAreaLeft" fmla="*/ 0 w 222480"/>
                    <a:gd name="textAreaRight" fmla="*/ 222840 w 222480"/>
                    <a:gd name="textAreaTop" fmla="*/ 0 h 415800"/>
                    <a:gd name="textAreaBottom" fmla="*/ 416160 h 415800"/>
                  </a:gdLst>
                  <a:ahLst/>
                  <a:rect l="textAreaLeft" t="textAreaTop" r="textAreaRight" b="textAreaBottom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5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>
                    <a:gd name="textAreaLeft" fmla="*/ 0 w 522360"/>
                    <a:gd name="textAreaRight" fmla="*/ 522720 w 522360"/>
                    <a:gd name="textAreaTop" fmla="*/ 0 h 1452600"/>
                    <a:gd name="textAreaBottom" fmla="*/ 1452960 h 1452600"/>
                  </a:gdLst>
                  <a:ahLst/>
                  <a:rect l="textAreaLeft" t="textAreaTop" r="textAreaRight" b="textAreaBottom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86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>
                    <a:gd name="textAreaLeft" fmla="*/ 0 w 216000"/>
                    <a:gd name="textAreaRight" fmla="*/ 216360 w 216000"/>
                    <a:gd name="textAreaTop" fmla="*/ 0 h 1197000"/>
                    <a:gd name="textAreaBottom" fmla="*/ 1197360 h 1197000"/>
                  </a:gdLst>
                  <a:ahLst/>
                  <a:rect l="textAreaLeft" t="textAreaTop" r="textAreaRight" b="textAreaBottom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87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745920"/>
                  <a:gd name="textAreaBottom" fmla="*/ 746280 h 745920"/>
                </a:gdLst>
                <a:ahLst/>
                <a:rect l="textAreaLeft" t="textAreaTop" r="textAreaRight" b="textAreaBottom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Freeform 88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771480"/>
                  <a:gd name="textAreaBottom" fmla="*/ 771840 h 771480"/>
                </a:gdLst>
                <a:ahLst/>
                <a:rect l="textAreaLeft" t="textAreaTop" r="textAreaRight" b="textAreaBottom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Freeform 89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>
                  <a:gd name="textAreaLeft" fmla="*/ 0 w 338040"/>
                  <a:gd name="textAreaRight" fmla="*/ 338400 w 338040"/>
                  <a:gd name="textAreaTop" fmla="*/ 0 h 917640"/>
                  <a:gd name="textAreaBottom" fmla="*/ 918000 h 917640"/>
                </a:gdLst>
                <a:ahLst/>
                <a:rect l="textAreaLeft" t="textAreaTop" r="textAreaRight" b="textAreaBottom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Freeform 90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797040"/>
                  <a:gd name="textAreaBottom" fmla="*/ 797400 h 797040"/>
                </a:gdLst>
                <a:ahLst/>
                <a:rect l="textAreaLeft" t="textAreaTop" r="textAreaRight" b="textAreaBottom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Freeform 91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633320"/>
                  <a:gd name="textAreaBottom" fmla="*/ 1633680 h 1633320"/>
                </a:gdLst>
                <a:ahLst/>
                <a:rect l="textAreaLeft" t="textAreaTop" r="textAreaRight" b="textAreaBottom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Freeform 92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Freeform 93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Freeform 94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561960"/>
                  <a:gd name="textAreaBottom" fmla="*/ 562320 h 561960"/>
                </a:gdLst>
                <a:ahLst/>
                <a:rect l="textAreaLeft" t="textAreaTop" r="textAreaRight" b="textAreaBottom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Freeform 95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Freeform 96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009440"/>
                  <a:gd name="textAreaBottom" fmla="*/ 1009440 h 1009440"/>
                </a:gdLst>
                <a:ahLst/>
                <a:rect l="textAreaLeft" t="textAreaTop" r="textAreaRight" b="textAreaBottom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Freeform 97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Freeform 98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Freeform 99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704880"/>
                  <a:gd name="textAreaBottom" fmla="*/ 705240 h 704880"/>
                </a:gdLst>
                <a:ahLst/>
                <a:rect l="textAreaLeft" t="textAreaTop" r="textAreaRight" b="textAreaBottom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Freeform 100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Freeform 101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687600"/>
                  <a:gd name="textAreaBottom" fmla="*/ 687960 h 687600"/>
                </a:gdLst>
                <a:ahLst/>
                <a:rect l="textAreaLeft" t="textAreaTop" r="textAreaRight" b="textAreaBottom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Freeform 102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>
                  <a:gd name="textAreaLeft" fmla="*/ 0 w 355320"/>
                  <a:gd name="textAreaRight" fmla="*/ 355680 w 35532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Freeform 103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671400"/>
                  <a:gd name="textAreaBottom" fmla="*/ 671760 h 671400"/>
                </a:gdLst>
                <a:ahLst/>
                <a:rect l="textAreaLeft" t="textAreaTop" r="textAreaRight" b="textAreaBottom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Freeform 104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722520"/>
                  <a:gd name="textAreaBottom" fmla="*/ 722880 h 722520"/>
                </a:gdLst>
                <a:ahLst/>
                <a:rect l="textAreaLeft" t="textAreaTop" r="textAreaRight" b="textAreaBottom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Freeform 105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>
                  <a:gd name="textAreaLeft" fmla="*/ 0 w 257040"/>
                  <a:gd name="textAreaRight" fmla="*/ 257040 w 257040"/>
                  <a:gd name="textAreaTop" fmla="*/ 0 h 657000"/>
                  <a:gd name="textAreaBottom" fmla="*/ 657360 h 657000"/>
                </a:gdLst>
                <a:ahLst/>
                <a:rect l="textAreaLeft" t="textAreaTop" r="textAreaRight" b="textAreaBottom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Freeform 106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>
                  <a:gd name="textAreaLeft" fmla="*/ 0 w 258840"/>
                  <a:gd name="textAreaRight" fmla="*/ 259200 w 25884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Freeform 107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011240"/>
                  <a:gd name="textAreaBottom" fmla="*/ 1011600 h 1011240"/>
                </a:gdLst>
                <a:ahLst/>
                <a:rect l="textAreaLeft" t="textAreaTop" r="textAreaRight" b="textAreaBottom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Freeform 108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749160"/>
                  <a:gd name="textAreaBottom" fmla="*/ 749520 h 749160"/>
                </a:gdLst>
                <a:ahLst/>
                <a:rect l="textAreaLeft" t="textAreaTop" r="textAreaRight" b="textAreaBottom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Freeform 109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Freeform 110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>
                  <a:gd name="textAreaLeft" fmla="*/ 0 w 371160"/>
                  <a:gd name="textAreaRight" fmla="*/ 371520 w 371160"/>
                  <a:gd name="textAreaTop" fmla="*/ 0 h 696960"/>
                  <a:gd name="textAreaBottom" fmla="*/ 697320 h 696960"/>
                </a:gdLst>
                <a:ahLst/>
                <a:rect l="textAreaLeft" t="textAreaTop" r="textAreaRight" b="textAreaBottom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Freeform 111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>
                  <a:gd name="textAreaLeft" fmla="*/ 0 w 480960"/>
                  <a:gd name="textAreaRight" fmla="*/ 481320 w 480960"/>
                  <a:gd name="textAreaTop" fmla="*/ 0 h 1012680"/>
                  <a:gd name="textAreaBottom" fmla="*/ 1013040 h 1012680"/>
                </a:gdLst>
                <a:ahLst/>
                <a:rect l="textAreaLeft" t="textAreaTop" r="textAreaRight" b="textAreaBottom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Freeform 112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>
                  <a:gd name="textAreaLeft" fmla="*/ 0 w 258840"/>
                  <a:gd name="textAreaRight" fmla="*/ 259200 w 25884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2A28-9519-4171-B6A5-367BF3F74DB0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6.xml"/><Relationship Id="rId4" Type="http://schemas.openxmlformats.org/officeDocument/2006/relationships/slide" Target="slide25.xml"/><Relationship Id="rId5" Type="http://schemas.openxmlformats.org/officeDocument/2006/relationships/slide" Target="slide27.xml"/><Relationship Id="rId6" Type="http://schemas.openxmlformats.org/officeDocument/2006/relationships/slide" Target="slide30.xml"/><Relationship Id="rId7" Type="http://schemas.openxmlformats.org/officeDocument/2006/relationships/slide" Target="slide33.xml"/><Relationship Id="rId8" Type="http://schemas.openxmlformats.org/officeDocument/2006/relationships/slide" Target="slide36.xml"/><Relationship Id="rId9" Type="http://schemas.openxmlformats.org/officeDocument/2006/relationships/slide" Target="slide39.xml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7500960" cy="1562040"/>
          </a:xfrm>
          <a:prstGeom prst="rect">
            <a:avLst/>
          </a:prstGeom>
          <a:noFill/>
          <a:ln w="25560">
            <a:solidFill>
              <a:srgbClr val="999933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dddddd"/>
                </a:solidFill>
                <a:latin typeface="Times New Roman"/>
              </a:rPr>
              <a:t>ИЗУЧАЕМ ПРАВА</a:t>
            </a:r>
            <a:endParaRPr b="0" i="1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143000" y="2349000"/>
            <a:ext cx="6786720" cy="424836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Arial"/>
              </a:rPr>
              <a:t>Дети – будущее каждого народа, каждого государства. И от того, как государство заботится о своем подрастающем поколении, зависит завтрашний день общества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(Конвенция о правах ребенка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461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Я расту на радость маме,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Но приходится признать, 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Чтоб я вырос лучшим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амым,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Как мне много нужно дать!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c00000"/>
                </a:solidFill>
                <a:latin typeface="Times New Roman"/>
              </a:rPr>
              <a:t>Статья 7</a:t>
            </a:r>
            <a:endParaRPr b="0" i="1" lang="en-US" sz="6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84204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984204"/>
                </a:solidFill>
                <a:latin typeface="Arial"/>
              </a:rPr>
              <a:t>Ребенок  имеет право на имя при рождении и гражданство </a:t>
            </a:r>
            <a:endParaRPr b="0" lang="en-US" sz="6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3,-53,-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3,-53,-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efefc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e36406"/>
                </a:solidFill>
                <a:latin typeface="Times New Roman"/>
              </a:rPr>
              <a:t>Право на имя</a:t>
            </a:r>
            <a:endParaRPr b="0" i="1" lang="en-US" sz="66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28" name="Picture 2" descr="C:\Documents and Settings\Admin\Мои документы\Декларация прав ребенка\Права ребенка_0012_новый размер.JPG"/>
          <p:cNvPicPr/>
          <p:nvPr/>
        </p:nvPicPr>
        <p:blipFill>
          <a:blip r:embed="rId1"/>
          <a:stretch/>
        </p:blipFill>
        <p:spPr>
          <a:xfrm>
            <a:off x="2556000" y="1773360"/>
            <a:ext cx="4444920" cy="4786200"/>
          </a:xfrm>
          <a:prstGeom prst="rect">
            <a:avLst/>
          </a:prstGeom>
          <a:ln w="0">
            <a:noFill/>
          </a:ln>
        </p:spPr>
      </p:pic>
      <p:sp>
        <p:nvSpPr>
          <p:cNvPr id="329" name="7-конечная звезда 3"/>
          <p:cNvSpPr/>
          <p:nvPr/>
        </p:nvSpPr>
        <p:spPr>
          <a:xfrm>
            <a:off x="8001000" y="564372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2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772400" cy="51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овочки  и  Леночки, 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Андрюшки  и  Аришки  - 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аждый  день  рождаются  девчонки  и  мальчишки,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ользуются  с  первых  дней  правами  своими – 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едь  с  пеленок  человек  получает  имя. 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33" name="Picture 5" descr="009"/>
          <p:cNvPicPr/>
          <p:nvPr/>
        </p:nvPicPr>
        <p:blipFill>
          <a:blip r:embed="rId1"/>
          <a:stretch/>
        </p:blipFill>
        <p:spPr>
          <a:xfrm>
            <a:off x="500040" y="500040"/>
            <a:ext cx="4287960" cy="56437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5"/>
          <p:cNvSpPr/>
          <p:nvPr/>
        </p:nvSpPr>
        <p:spPr>
          <a:xfrm>
            <a:off x="5435640" y="1484280"/>
            <a:ext cx="338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Папа, мама,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ты и я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            Называемся «семья».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И для нас семейный Кодекс 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                Выпускается, друзья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ccddee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df9307"/>
                </a:solidFill>
                <a:latin typeface="Times New Roman"/>
              </a:rPr>
              <a:t>Статья 9</a:t>
            </a:r>
            <a:endParaRPr b="0" i="1" lang="en-US" sz="6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790280"/>
            <a:ext cx="7772400" cy="3799080"/>
          </a:xfrm>
          <a:prstGeom prst="rect">
            <a:avLst/>
          </a:prstGeom>
          <a:solidFill>
            <a:srgbClr val="99bb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956205"/>
                </a:solidFill>
                <a:latin typeface="Arial"/>
              </a:rPr>
              <a:t>1. Ребенок имеет право жить вместе со своими родителями.</a:t>
            </a:r>
            <a:endParaRPr b="0" lang="en-US" sz="37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956205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956205"/>
                </a:solidFill>
                <a:latin typeface="Arial"/>
              </a:rPr>
              <a:t>2. Имеет право поддерживать отношения и прямые контакты с обоими родителями.</a:t>
            </a:r>
            <a:endParaRPr b="0" lang="en-US" sz="37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3" dur="indefinite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4" dur="indefinite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8" dur="indefinite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9" dur="indefinite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ccddee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df9307"/>
                </a:solidFill>
                <a:latin typeface="Times New Roman"/>
              </a:rPr>
              <a:t>Право на любовь и заботу</a:t>
            </a:r>
            <a:endParaRPr b="0" i="1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38" name="Picture 2" descr="C:\Documents and Settings\Admin\Мои документы\Декларация прав ребенка\Права ребенка_0010_новый размер.JPG"/>
          <p:cNvPicPr/>
          <p:nvPr/>
        </p:nvPicPr>
        <p:blipFill>
          <a:blip r:embed="rId1"/>
          <a:stretch/>
        </p:blipFill>
        <p:spPr>
          <a:xfrm>
            <a:off x="1571760" y="1919160"/>
            <a:ext cx="6000480" cy="4295880"/>
          </a:xfrm>
          <a:prstGeom prst="rect">
            <a:avLst/>
          </a:prstGeom>
          <a:ln w="0">
            <a:noFill/>
          </a:ln>
        </p:spPr>
      </p:pic>
      <p:sp>
        <p:nvSpPr>
          <p:cNvPr id="339" name="7-конечная звезда 3"/>
          <p:cNvSpPr/>
          <p:nvPr/>
        </p:nvSpPr>
        <p:spPr>
          <a:xfrm>
            <a:off x="8001000" y="564372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0.00138 L 0.17917 0.00138 E">
                                      <p:cBhvr>
                                        <p:cTn id="239" dur="3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41" name="Picture 6" descr="00227281"/>
          <p:cNvPicPr/>
          <p:nvPr/>
        </p:nvPicPr>
        <p:blipFill>
          <a:blip r:embed="rId1"/>
          <a:stretch/>
        </p:blipFill>
        <p:spPr>
          <a:xfrm>
            <a:off x="1187280" y="549360"/>
            <a:ext cx="3961080" cy="575928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5"/>
          <p:cNvSpPr/>
          <p:nvPr/>
        </p:nvSpPr>
        <p:spPr>
          <a:xfrm>
            <a:off x="5724360" y="1844640"/>
            <a:ext cx="316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БЕЗ СЕМЬИ НАДЕЖНОЙ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ЛЮДЯМ НЕ ПРОЖИТЬ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ПОМНИТЕ!  СЕМЬЕЮ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НУЖНО ДОРОЖИТЬ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f3f3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b050"/>
                </a:solidFill>
                <a:latin typeface="Times New Roman"/>
              </a:rPr>
              <a:t>Статья 19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solidFill>
            <a:srgbClr val="f9f9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3313"/>
                </a:solidFill>
                <a:latin typeface="Arial"/>
              </a:rPr>
              <a:t>Государство принимает все необходимые меры с целью защиты ребенка от всех форм физического или психологического насилия, оскорбления, отсутствия заботы или небрежного обращения, эксплуатации со стороны родителей или законных представителей, заботящихся о ребенке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f3f3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73313"/>
                </a:solidFill>
                <a:latin typeface="Times New Roman"/>
              </a:rPr>
              <a:t>Право на защиту от насилия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46" name="Picture 2" descr="C:\Documents and Settings\Admin\Мои документы\Декларация прав ребенка\Права ребенка_0011_новый размер.JPG"/>
          <p:cNvPicPr/>
          <p:nvPr/>
        </p:nvPicPr>
        <p:blipFill>
          <a:blip r:embed="rId1"/>
          <a:stretch/>
        </p:blipFill>
        <p:spPr>
          <a:xfrm>
            <a:off x="1898640" y="1919160"/>
            <a:ext cx="5531040" cy="4581720"/>
          </a:xfrm>
          <a:prstGeom prst="rect">
            <a:avLst/>
          </a:prstGeom>
          <a:ln w="0">
            <a:noFill/>
          </a:ln>
        </p:spPr>
      </p:pic>
      <p:sp>
        <p:nvSpPr>
          <p:cNvPr id="347" name="7-конечная звезда 3"/>
          <p:cNvSpPr/>
          <p:nvPr/>
        </p:nvSpPr>
        <p:spPr>
          <a:xfrm>
            <a:off x="8001000" y="564372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8" name="7-конечная звезда 3"/>
          <p:cNvSpPr/>
          <p:nvPr/>
        </p:nvSpPr>
        <p:spPr>
          <a:xfrm>
            <a:off x="8028000" y="566100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67 -0.02986 L -0.18333 -0.02986 E">
                                      <p:cBhvr>
                                        <p:cTn id="274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Пояснительная записка</a:t>
            </a:r>
            <a:endParaRPr b="0" i="1" lang="en-US" sz="5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1500120"/>
            <a:ext cx="640080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Детский мир отличается от мира взрослых. Ложно представление, что взрослые всегда правы, а дети лишь только учатся. У детей тоже есть права. Знание основ правового сознания позволит ребенку более комфортно чувствовать себя в жизни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549360"/>
            <a:ext cx="4030560" cy="57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Мой народец странный, глупый, деревянный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Кукольный владыка, вот кто я поди-ка!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Грозный Карабас, славный Карабас!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Куклы передо мною стелются травою: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У меня есть плетка, плетка в 7 хвостов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Пригрожу лишь плеткой мой народец кроткий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Песни распевает, денежки сбирает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 мой большой карман, в мой большой карман!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51" name="Picture 6" descr="i"/>
          <p:cNvPicPr/>
          <p:nvPr/>
        </p:nvPicPr>
        <p:blipFill>
          <a:blip r:embed="rId1"/>
          <a:stretch/>
        </p:blipFill>
        <p:spPr>
          <a:xfrm>
            <a:off x="6429240" y="3643200"/>
            <a:ext cx="2422800" cy="27147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5"/>
          <p:cNvSpPr/>
          <p:nvPr/>
        </p:nvSpPr>
        <p:spPr>
          <a:xfrm>
            <a:off x="5143680" y="1000080"/>
            <a:ext cx="36050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ети – не куклы, любой Карабас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удет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серьёзно наказан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 нас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1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10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10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10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10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10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f3f3d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c49500"/>
                </a:solidFill>
                <a:latin typeface="Times New Roman"/>
              </a:rPr>
              <a:t>Статья 23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5800" y="1790280"/>
            <a:ext cx="7772400" cy="4496040"/>
          </a:xfrm>
          <a:prstGeom prst="rect">
            <a:avLst/>
          </a:prstGeom>
          <a:solidFill>
            <a:srgbClr val="efefc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6406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e36406"/>
                </a:solidFill>
                <a:latin typeface="Arial"/>
              </a:rPr>
              <a:t>Государство признает, что ребенок с ограниченными возможностями должен вести полноценную и достойную жизнь в условиях, которые обеспечивают его достоинство, облегчают его активное участие в жизни общества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3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f9f9ee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000"/>
                </a:solidFill>
                <a:latin typeface="Times New Roman"/>
              </a:rPr>
              <a:t>Дети-инвалиды имеют право на заботу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56" name="Picture 2" descr="C:\Documents and Settings\Admin\Мои документы\Декларация прав ребенка\Права ребенка_0014_новый размер.JPG"/>
          <p:cNvPicPr/>
          <p:nvPr/>
        </p:nvPicPr>
        <p:blipFill>
          <a:blip r:embed="rId1"/>
          <a:stretch/>
        </p:blipFill>
        <p:spPr>
          <a:xfrm>
            <a:off x="2714760" y="2000160"/>
            <a:ext cx="4214520" cy="4500720"/>
          </a:xfrm>
          <a:prstGeom prst="rect">
            <a:avLst/>
          </a:prstGeom>
          <a:ln w="0">
            <a:noFill/>
          </a:ln>
        </p:spPr>
      </p:pic>
      <p:sp>
        <p:nvSpPr>
          <p:cNvPr id="357" name="7-конечная звезда 3"/>
          <p:cNvSpPr/>
          <p:nvPr/>
        </p:nvSpPr>
        <p:spPr>
          <a:xfrm>
            <a:off x="8001000" y="564372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8" name="7-конечная звезда 3"/>
          <p:cNvSpPr/>
          <p:nvPr/>
        </p:nvSpPr>
        <p:spPr>
          <a:xfrm>
            <a:off x="8028000" y="566100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87 -0.00417 L 0.19913 -0.00417 E">
                                      <p:cBhvr>
                                        <p:cTn id="337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Очень трудно быть  другим,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Непохожим,  не таким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Нос  не  вешай,  иди  вперед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Тебе  помогут,  успех  придет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60" name="Picture 5" descr="top"/>
          <p:cNvPicPr/>
          <p:nvPr/>
        </p:nvPicPr>
        <p:blipFill>
          <a:blip r:embed="rId1"/>
          <a:stretch/>
        </p:blipFill>
        <p:spPr>
          <a:xfrm>
            <a:off x="6877080" y="549360"/>
            <a:ext cx="1800360" cy="1373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инвал"/>
          <p:cNvPicPr/>
          <p:nvPr/>
        </p:nvPicPr>
        <p:blipFill>
          <a:blip r:embed="rId2"/>
          <a:stretch/>
        </p:blipFill>
        <p:spPr>
          <a:xfrm>
            <a:off x="4067280" y="4437000"/>
            <a:ext cx="2849400" cy="1903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logo"/>
          <p:cNvPicPr/>
          <p:nvPr/>
        </p:nvPicPr>
        <p:blipFill>
          <a:blip r:embed="rId3"/>
          <a:stretch/>
        </p:blipFill>
        <p:spPr>
          <a:xfrm>
            <a:off x="1187280" y="2602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000"/>
                            </p:stCondLst>
                            <p:childTnLst>
                              <p:par>
                                <p:cTn id="3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8000"/>
                            </p:stCondLst>
                            <p:childTnLst>
                              <p:par>
                                <p:cTn id="3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6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6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a34b73"/>
                </a:solidFill>
                <a:latin typeface="Times New Roman"/>
              </a:rPr>
              <a:t>Статья 24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85800" y="1790280"/>
            <a:ext cx="7772400" cy="45673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591f4d"/>
                </a:solidFill>
                <a:latin typeface="Arial"/>
              </a:rPr>
              <a:t>Государство признает право ребенка на пользование услугами здравоохранения, средствами лечения болезней, восстановления здоровья.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d488c5"/>
                </a:solidFill>
                <a:latin typeface="Times New Roman"/>
              </a:rPr>
              <a:t>Право на охрану здоровья</a:t>
            </a:r>
            <a:endParaRPr b="0" i="1" lang="en-US" sz="5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66" name="Picture 2" descr="C:\Documents and Settings\Admin\Мои документы\Декларация прав ребенка\Права ребенка_0004_новый размер.JPG"/>
          <p:cNvPicPr/>
          <p:nvPr/>
        </p:nvPicPr>
        <p:blipFill>
          <a:blip r:embed="rId1"/>
          <a:stretch/>
        </p:blipFill>
        <p:spPr>
          <a:xfrm>
            <a:off x="1898640" y="2214720"/>
            <a:ext cx="5316480" cy="4143240"/>
          </a:xfrm>
          <a:prstGeom prst="rect">
            <a:avLst/>
          </a:prstGeom>
          <a:ln w="0">
            <a:noFill/>
          </a:ln>
        </p:spPr>
      </p:pic>
      <p:sp>
        <p:nvSpPr>
          <p:cNvPr id="367" name="7-конечная звезда 3"/>
          <p:cNvSpPr/>
          <p:nvPr/>
        </p:nvSpPr>
        <p:spPr>
          <a:xfrm>
            <a:off x="8001000" y="564372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29 0.00093 L -0.16371 0.00093 E">
                                      <p:cBhvr>
                                        <p:cTn id="398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1f406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00"/>
                </a:solidFill>
                <a:latin typeface="Times New Roman"/>
              </a:rPr>
              <a:t>Статья 27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500120"/>
            <a:ext cx="8229600" cy="5143680"/>
          </a:xfrm>
          <a:prstGeom prst="rect">
            <a:avLst/>
          </a:prstGeom>
          <a:solidFill>
            <a:srgbClr val="99bb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4d1d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b24d1d"/>
                </a:solidFill>
                <a:latin typeface="Arial"/>
              </a:rPr>
              <a:t>Государство признает право за каждым ребенком на уровень жизни, необходимый для физического, умственного, духовного, нравственного и социального развития ребенка. Родители несут ответственность за обеспечение финансовых возможностей условий жизни, необходимых для развития ребенка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9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28840"/>
          </a:xfrm>
          <a:prstGeom prst="rect">
            <a:avLst/>
          </a:prstGeom>
          <a:solidFill>
            <a:srgbClr val="1f406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000"/>
                </a:solidFill>
                <a:latin typeface="Times New Roman"/>
              </a:rPr>
              <a:t>Право на хорошие условия жизни</a:t>
            </a:r>
            <a:endParaRPr b="0" i="1" lang="en-US" sz="5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71" name="Picture 2" descr="C:\Documents and Settings\Admin\Мои документы\Декларация прав ребенка\Права ребенка_0003_новый размер.JPG"/>
          <p:cNvPicPr/>
          <p:nvPr/>
        </p:nvPicPr>
        <p:blipFill>
          <a:blip r:embed="rId1"/>
          <a:stretch/>
        </p:blipFill>
        <p:spPr>
          <a:xfrm>
            <a:off x="1898640" y="2428920"/>
            <a:ext cx="5194440" cy="3857760"/>
          </a:xfrm>
          <a:prstGeom prst="rect">
            <a:avLst/>
          </a:prstGeom>
          <a:ln w="0">
            <a:noFill/>
          </a:ln>
        </p:spPr>
      </p:pic>
      <p:sp>
        <p:nvSpPr>
          <p:cNvPr id="372" name="7-конечная звезда 3"/>
          <p:cNvSpPr/>
          <p:nvPr/>
        </p:nvSpPr>
        <p:spPr>
          <a:xfrm>
            <a:off x="8001000" y="564372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3 0.00115 L 0.16337 0.00115 E">
                                      <p:cBhvr>
                                        <p:cTn id="419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8592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Ну-ка,  детки, 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поспешите,          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И  обед  не        пропустите,          Постарались  повара,     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Очень  вкусная  еда!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3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9" dur="3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3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5" dur="3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5959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7f7f7f"/>
                </a:solidFill>
                <a:latin typeface="Times New Roman"/>
              </a:rPr>
              <a:t>Статья 28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1790640"/>
            <a:ext cx="7772400" cy="4710240"/>
          </a:xfrm>
          <a:prstGeom prst="rect">
            <a:avLst/>
          </a:prstGeom>
          <a:solidFill>
            <a:srgbClr val="595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d0d0d"/>
                </a:solidFill>
                <a:latin typeface="Arial"/>
              </a:rPr>
              <a:t>Государство признает право ребенка на образование и принимает меры по содействию регулярному посещению школ и снижению числа учащихся, покинувших школу.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2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Права детей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764640"/>
            <a:ext cx="8229600" cy="64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Право на свободу мысли, совести религии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bcbcb"/>
                </a:solidFill>
                <a:uFillTx/>
                <a:latin typeface="Arial"/>
                <a:hlinkClick r:id="rId1" action="ppaction://hlinksldjump"/>
              </a:rPr>
              <a:t>Право на жизнь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bcbcb"/>
                </a:solidFill>
                <a:uFillTx/>
                <a:latin typeface="Arial"/>
                <a:hlinkClick r:id="rId2" action="ppaction://hlinksldjump"/>
              </a:rPr>
              <a:t>Право на имя и гражданство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bcbcb"/>
                </a:solidFill>
                <a:uFillTx/>
                <a:latin typeface="Arial"/>
                <a:hlinkClick r:id="rId3" action="ppaction://hlinksldjump"/>
              </a:rPr>
              <a:t>Право на любовь и заботу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Право на защиту от насилия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Право детей-инвалидов на заботу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bcbcb"/>
                </a:solidFill>
                <a:uFillTx/>
                <a:latin typeface="Arial"/>
                <a:hlinkClick r:id="rId4" action="ppaction://hlinksldjump"/>
              </a:rPr>
              <a:t>Право на охрану здоровья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bcbcb"/>
                </a:solidFill>
                <a:uFillTx/>
                <a:latin typeface="Arial"/>
                <a:hlinkClick r:id="rId5" action="ppaction://hlinksldjump"/>
              </a:rPr>
              <a:t>Право на хорошие условия жизни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bcbcb"/>
                </a:solidFill>
                <a:uFillTx/>
                <a:latin typeface="Arial"/>
                <a:hlinkClick r:id="rId6" action="ppaction://hlinksldjump"/>
              </a:rPr>
              <a:t>Право на образование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bcbcb"/>
                </a:solidFill>
                <a:uFillTx/>
                <a:latin typeface="Arial"/>
                <a:hlinkClick r:id="rId7" action="ppaction://hlinksldjump"/>
              </a:rPr>
              <a:t>Право на досуг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bcbcb"/>
                </a:solidFill>
                <a:uFillTx/>
                <a:latin typeface="Arial"/>
                <a:hlinkClick r:id="rId8" action="ppaction://hlinksldjump"/>
              </a:rPr>
              <a:t>Право на отдых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bcbcb"/>
                </a:solidFill>
                <a:uFillTx/>
                <a:latin typeface="Arial"/>
                <a:hlinkClick r:id="rId9" action="ppaction://hlinksldjump"/>
              </a:rPr>
              <a:t>Право на защиту от эксплуатации труда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2b2b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404040"/>
                </a:solidFill>
                <a:latin typeface="Times New Roman"/>
              </a:rPr>
              <a:t>Право на образование</a:t>
            </a:r>
            <a:endParaRPr b="0" i="1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78" name="Picture 2" descr="C:\Documents and Settings\Admin\Мои документы\Декларация прав ребенка\Права ребенка_0008_новый размер.JPG"/>
          <p:cNvPicPr/>
          <p:nvPr/>
        </p:nvPicPr>
        <p:blipFill>
          <a:blip r:embed="rId1"/>
          <a:stretch/>
        </p:blipFill>
        <p:spPr>
          <a:xfrm>
            <a:off x="1714680" y="1919160"/>
            <a:ext cx="5786280" cy="4295880"/>
          </a:xfrm>
          <a:prstGeom prst="rect">
            <a:avLst/>
          </a:prstGeom>
          <a:ln w="0">
            <a:noFill/>
          </a:ln>
        </p:spPr>
      </p:pic>
      <p:sp>
        <p:nvSpPr>
          <p:cNvPr id="379" name="7-конечная звезда 3"/>
          <p:cNvSpPr/>
          <p:nvPr/>
        </p:nvSpPr>
        <p:spPr>
          <a:xfrm>
            <a:off x="8001000" y="564372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12 0.01203 L -0.19288 0.01203 E">
                                      <p:cBhvr>
                                        <p:cTn id="456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70c0"/>
                </a:solidFill>
                <a:latin typeface="Times New Roman"/>
              </a:rPr>
              <a:t>Статья 29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800" y="1790640"/>
            <a:ext cx="7772400" cy="47815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Государство соглашается в том, что образование должно быть направлено на развитие личности, талантов, умственных и физических способностей ребенка.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6" dur="2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Arial"/>
              </a:rPr>
              <a:t>Очень  я  хочу  учиться</a:t>
            </a:r>
            <a:br>
              <a:rPr sz="4000"/>
            </a:br>
            <a:r>
              <a:rPr b="1" i="1" lang="en-US" sz="4000" spc="-1" strike="noStrike">
                <a:solidFill>
                  <a:srgbClr val="ff33cc"/>
                </a:solidFill>
                <a:latin typeface="Arial"/>
              </a:rPr>
              <a:t>Обещаю  не  лениться!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83" name="Picture 7" descr="sova24"/>
          <p:cNvPicPr/>
          <p:nvPr/>
        </p:nvPicPr>
        <p:blipFill>
          <a:blip r:embed="rId1"/>
          <a:stretch/>
        </p:blipFill>
        <p:spPr>
          <a:xfrm>
            <a:off x="611280" y="1916280"/>
            <a:ext cx="3889440" cy="3384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300px-holding_a_green_globe"/>
          <p:cNvPicPr/>
          <p:nvPr/>
        </p:nvPicPr>
        <p:blipFill>
          <a:blip r:embed="rId2"/>
          <a:stretch/>
        </p:blipFill>
        <p:spPr>
          <a:xfrm>
            <a:off x="6300720" y="3860640"/>
            <a:ext cx="2843280" cy="26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000"/>
                            </p:stCondLst>
                            <p:childTnLst>
                              <p:par>
                                <p:cTn id="4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70c0"/>
                </a:solidFill>
                <a:latin typeface="Times New Roman"/>
              </a:rPr>
              <a:t>Право на досуг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86" name="Picture 2" descr="C:\Documents and Settings\Admin\Мои документы\Декларация прав ребенка\Права ребенка_0007_новый размер.JPG"/>
          <p:cNvPicPr/>
          <p:nvPr/>
        </p:nvPicPr>
        <p:blipFill>
          <a:blip r:embed="rId2"/>
          <a:stretch/>
        </p:blipFill>
        <p:spPr>
          <a:xfrm>
            <a:off x="1571760" y="2214720"/>
            <a:ext cx="6000480" cy="4143240"/>
          </a:xfrm>
          <a:prstGeom prst="rect">
            <a:avLst/>
          </a:prstGeom>
          <a:ln w="0">
            <a:noFill/>
          </a:ln>
        </p:spPr>
      </p:pic>
      <p:sp>
        <p:nvSpPr>
          <p:cNvPr id="387" name="7-конечная звезда 3"/>
          <p:cNvSpPr/>
          <p:nvPr/>
        </p:nvSpPr>
        <p:spPr>
          <a:xfrm>
            <a:off x="8001000" y="564372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02 0.00093 L 0.18698 0.00093 E">
                                      <p:cBhvr>
                                        <p:cTn id="491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642960"/>
            <a:ext cx="7772400" cy="566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Пусть  знают  все на  свете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Мы  солнечные  дети.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Мы  в  садике  живем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Играем  и  рисуем,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читаем  и  танцуем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меемся  и  поем.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7" dur="250" autoRev="1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498" dur="250" autoRev="1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499" dur="250" autoRev="1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1" dur="250" autoRev="1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502" dur="250" autoRev="1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503" dur="250" autoRev="1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5" dur="250" autoRev="1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506" dur="250" autoRev="1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507" dur="250" autoRev="1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9" dur="250" autoRev="1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510" dur="250" autoRev="1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511" dur="250" autoRev="1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3" dur="250" autoRev="1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514" dur="250" autoRev="1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515" dur="250" autoRev="1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7" dur="250" autoRev="1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518" dur="250" autoRev="1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03)"/>
                                      </p:to>
                                    </p:set>
                                    <p:set>
                                      <p:cBhvr>
                                        <p:cTn id="519" dur="250" autoRev="1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gradFill rotWithShape="0">
            <a:gsLst>
              <a:gs pos="0">
                <a:srgbClr val="f3f38a"/>
              </a:gs>
              <a:gs pos="100000">
                <a:srgbClr val="fafadd"/>
              </a:gs>
            </a:gsLst>
            <a:lin ang="135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956205"/>
                </a:solidFill>
                <a:latin typeface="Times New Roman"/>
              </a:rPr>
              <a:t>Статья 31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800" y="1790280"/>
            <a:ext cx="7772400" cy="4853160"/>
          </a:xfrm>
          <a:prstGeom prst="rect">
            <a:avLst/>
          </a:prstGeom>
          <a:gradFill rotWithShape="0">
            <a:gsLst>
              <a:gs pos="0">
                <a:srgbClr val="f3f38a"/>
              </a:gs>
              <a:gs pos="100000">
                <a:srgbClr val="fafadd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984204"/>
                </a:solidFill>
                <a:latin typeface="Arial"/>
              </a:rPr>
              <a:t>     </a:t>
            </a:r>
            <a:endParaRPr b="0" lang="en-US" sz="37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984204"/>
                </a:solidFill>
                <a:latin typeface="Arial"/>
              </a:rPr>
              <a:t>    </a:t>
            </a:r>
            <a:r>
              <a:rPr b="0" lang="en-US" sz="3700" spc="-1" strike="noStrike">
                <a:solidFill>
                  <a:srgbClr val="984204"/>
                </a:solidFill>
                <a:latin typeface="Arial"/>
              </a:rPr>
              <a:t>Государство признает  ребенка на отдых и досуг, право участвовать в играх и развлекательных мероприятиях, соответствующих его возрасту, заниматься искусством. </a:t>
            </a:r>
            <a:endParaRPr b="0" lang="en-US" sz="37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29" dur="250" autoRev="1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530" dur="250" autoRev="1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531" dur="250" autoRev="1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450"/>
                            </p:stCondLst>
                            <p:childTnLst>
                              <p:par>
                                <p:cTn id="53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34" dur="250" autoRev="1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535" dur="250" autoRev="1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536" dur="250" autoRev="1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Заголовок 1"/>
          <p:cNvGrpSpPr/>
          <p:nvPr/>
        </p:nvGrpSpPr>
        <p:grpSpPr>
          <a:xfrm>
            <a:off x="450720" y="268200"/>
            <a:ext cx="8242560" cy="1158840"/>
            <a:chOff x="450720" y="268200"/>
            <a:chExt cx="8242560" cy="1158840"/>
          </a:xfrm>
        </p:grpSpPr>
        <p:pic>
          <p:nvPicPr>
            <p:cNvPr id="39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25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 Box 2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d488c5"/>
                  </a:solidFill>
                  <a:latin typeface="Calibri"/>
                </a:rPr>
                <a:t>Право на отдых</a:t>
              </a:r>
              <a:endParaRPr b="0" lang="en-US" sz="72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pic>
        <p:nvPicPr>
          <p:cNvPr id="395" name="Picture 2" descr="C:\Documents and Settings\Admin\Мои документы\Декларация прав ребенка\Права ребенка_0005_новый размер.JPG"/>
          <p:cNvPicPr/>
          <p:nvPr/>
        </p:nvPicPr>
        <p:blipFill>
          <a:blip r:embed="rId2"/>
          <a:stretch/>
        </p:blipFill>
        <p:spPr>
          <a:xfrm>
            <a:off x="1806480" y="2154240"/>
            <a:ext cx="5289480" cy="3637080"/>
          </a:xfrm>
          <a:prstGeom prst="rect">
            <a:avLst/>
          </a:prstGeom>
          <a:ln w="0">
            <a:noFill/>
          </a:ln>
        </p:spPr>
      </p:pic>
      <p:sp>
        <p:nvSpPr>
          <p:cNvPr id="396" name="7-конечная звезда 3"/>
          <p:cNvSpPr/>
          <p:nvPr/>
        </p:nvSpPr>
        <p:spPr>
          <a:xfrm>
            <a:off x="8001000" y="564372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19 0.0007 L -0.18281 0.0007 E">
                                      <p:cBhvr>
                                        <p:cTn id="546" dur="3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00000"/>
                </a:solidFill>
                <a:latin typeface="Arial"/>
              </a:rPr>
              <a:t>За день мы устали очень,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00000"/>
                </a:solidFill>
                <a:latin typeface="Arial"/>
              </a:rPr>
              <a:t>Скажем всем - спокойной ночи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c00000"/>
                </a:solidFill>
                <a:latin typeface="Arial"/>
              </a:rPr>
              <a:t>Глазки закрывай, 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00000"/>
                </a:solidFill>
                <a:latin typeface="Arial"/>
              </a:rPr>
              <a:t>Баю - бай.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00"/>
                </a:solidFill>
                <a:latin typeface="Times New Roman"/>
              </a:rPr>
              <a:t>Статья 32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85800" y="1790280"/>
            <a:ext cx="7772400" cy="4638600"/>
          </a:xfrm>
          <a:prstGeom prst="rect">
            <a:avLst/>
          </a:prstGeom>
          <a:gradFill rotWithShape="0">
            <a:gsLst>
              <a:gs pos="0">
                <a:srgbClr val="f3f38a"/>
              </a:gs>
              <a:gs pos="100000">
                <a:srgbClr val="fafadd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6699"/>
                </a:solidFill>
                <a:latin typeface="Arial"/>
              </a:rPr>
              <a:t>Государство признает право ребенка на защиту от зкономической эксплуатации и от выполнения любой работы, которая может представлять опасность для его здоровья.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Право на защиту от эксплуатации труда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02" name="Picture 2" descr="C:\Documents and Settings\Admin\Мои документы\Декларация прав ребенка\Права ребенка_0009_новый размер.JPG"/>
          <p:cNvPicPr/>
          <p:nvPr/>
        </p:nvPicPr>
        <p:blipFill>
          <a:blip r:embed="rId2"/>
          <a:stretch/>
        </p:blipFill>
        <p:spPr>
          <a:xfrm>
            <a:off x="1714680" y="2214720"/>
            <a:ext cx="5715000" cy="4214520"/>
          </a:xfrm>
          <a:prstGeom prst="rect">
            <a:avLst/>
          </a:prstGeom>
          <a:ln w="0">
            <a:noFill/>
          </a:ln>
        </p:spPr>
      </p:pic>
      <p:sp>
        <p:nvSpPr>
          <p:cNvPr id="403" name="7-конечная звезда 3"/>
          <p:cNvSpPr/>
          <p:nvPr/>
        </p:nvSpPr>
        <p:spPr>
          <a:xfrm>
            <a:off x="8001000" y="564372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455 -0.00416 L -0.16545 -0.00416 E">
                                      <p:cBhvr>
                                        <p:cTn id="580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dddddd"/>
                </a:solidFill>
                <a:latin typeface="Times New Roman"/>
              </a:rPr>
              <a:t>Статья 2</a:t>
            </a:r>
            <a:endParaRPr b="0" i="1" lang="en-US" sz="7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solidFill>
            <a:srgbClr val="f9f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591f4d"/>
                </a:solidFill>
                <a:latin typeface="Arial"/>
              </a:rPr>
              <a:t>Государство уважает и обеспечивает все права за каждым ребенком независимо от расы, цвета кожи, пола, языка, религии, состояния здоровья и рождения ребенка, социального происхождения, имущественного положения, его родителей.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85800" y="785520"/>
            <a:ext cx="7772400" cy="52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Корысти ради</a:t>
            </a:r>
            <a:endParaRPr b="0" lang="en-US" sz="5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Ты детей не тронь!</a:t>
            </a:r>
            <a:endParaRPr b="0" lang="en-US" sz="5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Их защищает наш</a:t>
            </a:r>
            <a:endParaRPr b="0" lang="en-US" sz="5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закон!</a:t>
            </a:r>
            <a:endParaRPr b="0" lang="en-US" sz="5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05" name="Picture 6" descr="doll01a"/>
          <p:cNvPicPr/>
          <p:nvPr/>
        </p:nvPicPr>
        <p:blipFill>
          <a:blip r:embed="rId1"/>
          <a:stretch/>
        </p:blipFill>
        <p:spPr>
          <a:xfrm>
            <a:off x="6786720" y="3357720"/>
            <a:ext cx="23572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3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3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1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1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117080" y="-2612880"/>
            <a:ext cx="642960" cy="746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964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Стихи о праве</a:t>
            </a:r>
            <a:endParaRPr b="0" lang="en-US" sz="5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826920" y="1571760"/>
            <a:ext cx="8102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По извилистой дорожке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Шли по миру чьи-то ножки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Вдаль смотря широкими  глазами,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Шел малыш знакомиться  с правами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Рядом мама крепко за руку  держала,                                     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В путь-дорогу умницу свою                    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сопровождала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нать должны и взрослые, и дети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 правах, что защищают  их на свете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06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800"/>
                            </p:stCondLst>
                            <p:childTnLst>
                              <p:par>
                                <p:cTn id="6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3800"/>
                            </p:stCondLst>
                            <p:childTnLst>
                              <p:par>
                                <p:cTn id="6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800"/>
                            </p:stCondLst>
                            <p:childTnLst>
                              <p:par>
                                <p:cTn id="6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800"/>
                            </p:stCondLst>
                            <p:childTnLst>
                              <p:par>
                                <p:cTn id="6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6800"/>
                            </p:stCondLst>
                            <p:childTnLst>
                              <p:par>
                                <p:cTn id="6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7800"/>
                            </p:stCondLst>
                            <p:childTnLst>
                              <p:par>
                                <p:cTn id="6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10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8800"/>
                            </p:stCondLst>
                            <p:childTnLst>
                              <p:par>
                                <p:cTn id="6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8" dur="10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9800"/>
                            </p:stCondLst>
                            <p:childTnLst>
                              <p:par>
                                <p:cTn id="6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800"/>
                            </p:stCondLst>
                            <p:childTnLst>
                              <p:par>
                                <p:cTn id="6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10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1800"/>
                            </p:stCondLst>
                            <p:childTnLst>
                              <p:par>
                                <p:cTn id="6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6" dur="1000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2800"/>
                            </p:stCondLst>
                            <p:childTnLst>
                              <p:par>
                                <p:cTn id="6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1000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1904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60093"/>
                </a:solidFill>
                <a:latin typeface="Times New Roman"/>
              </a:rPr>
              <a:t>Источники</a:t>
            </a:r>
            <a:endParaRPr b="0" i="1" lang="en-US" sz="5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42848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О правах ребенка: Конвенция ООН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принята и провозглашена Генеральной Ассамблеей ООН 20.11.1989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//</a:t>
            </a: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 Народное образование. – 1993.№5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Семейный кодекс Российской Федерации(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по состоянию на 15. 11.2008года</a:t>
            </a: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). – Новосибирск:Сиб.унив.изд-во, 2008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C:\Documents and Settings\Admin\Мои документы\Декларация прав ребенка\Права ребенка_0006_новый размер.JPG"/>
          <p:cNvPicPr/>
          <p:nvPr/>
        </p:nvPicPr>
        <p:blipFill>
          <a:blip r:embed="rId1"/>
          <a:stretch/>
        </p:blipFill>
        <p:spPr>
          <a:xfrm>
            <a:off x="1643040" y="1857240"/>
            <a:ext cx="5929200" cy="4438800"/>
          </a:xfrm>
          <a:prstGeom prst="rect">
            <a:avLst/>
          </a:prstGeom>
          <a:ln w="0">
            <a:noFill/>
          </a:ln>
        </p:spPr>
      </p:pic>
      <p:sp>
        <p:nvSpPr>
          <p:cNvPr id="313" name="7-конечная звезда 3"/>
          <p:cNvSpPr/>
          <p:nvPr/>
        </p:nvSpPr>
        <p:spPr>
          <a:xfrm>
            <a:off x="8028000" y="573408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50920" y="189000"/>
            <a:ext cx="867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Право на свободу мысли, совести, религии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871 2.77457E-006 L -0.16129 2.77457E-006 E">
                                      <p:cBhvr>
                                        <p:cTn id="8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cc"/>
                </a:solidFill>
                <a:latin typeface="Arial"/>
              </a:rPr>
              <a:t>Дружат дети на планете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16" name="Picture 4" descr="дружба"/>
          <p:cNvPicPr/>
          <p:nvPr/>
        </p:nvPicPr>
        <p:blipFill>
          <a:blip r:embed="rId1"/>
          <a:stretch/>
        </p:blipFill>
        <p:spPr>
          <a:xfrm>
            <a:off x="1476360" y="1790640"/>
            <a:ext cx="6264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3,-53,-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3,-53,-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042920" y="404640"/>
            <a:ext cx="7632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Я, ты, он, она –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Вместе -целая страна,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Вместе -дружная семья,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В слове "мы" -сто тысяч "я".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Большеглазых, озорных,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Черных, рыжих и льняных,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Грустных и веселых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В городах и селах.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solidFill>
            <a:srgbClr val="ccddee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dddddd"/>
                </a:solidFill>
                <a:latin typeface="Times New Roman"/>
              </a:rPr>
              <a:t>Статья 6</a:t>
            </a:r>
            <a:endParaRPr b="0" i="1" lang="en-US" sz="6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solidFill>
            <a:srgbClr val="99bbde"/>
          </a:solidFill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70000"/>
              </a:lnSpc>
              <a:spcBef>
                <a:spcPts val="75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504000" indent="-504000">
              <a:lnSpc>
                <a:spcPct val="70000"/>
              </a:lnSpc>
              <a:spcBef>
                <a:spcPts val="75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504000" indent="-504000">
              <a:lnSpc>
                <a:spcPct val="70000"/>
              </a:lnSpc>
              <a:spcBef>
                <a:spcPts val="924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336699"/>
                </a:solidFill>
                <a:latin typeface="Arial"/>
              </a:rPr>
              <a:t>Каждый ребенок имеет  неотъемлемое право  на жизнь.</a:t>
            </a:r>
            <a:endParaRPr b="0" lang="en-US" sz="3700" spc="-1" strike="noStrike">
              <a:solidFill>
                <a:srgbClr val="336699"/>
              </a:solidFill>
              <a:latin typeface="Arial"/>
            </a:endParaRPr>
          </a:p>
          <a:p>
            <a:pPr marL="504000" indent="-50400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336699"/>
              </a:solidFill>
              <a:latin typeface="Arial"/>
            </a:endParaRPr>
          </a:p>
          <a:p>
            <a:pPr marL="504000" indent="-50400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99"/>
                </a:solidFill>
                <a:latin typeface="Arial"/>
              </a:rPr>
              <a:t>2. Государство обязано обеспечить в максимально возможной степени выживание и здоровое развитие ребенка.</a:t>
            </a:r>
            <a:endParaRPr b="0" lang="en-US" sz="37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b050"/>
                </a:solidFill>
                <a:latin typeface="Times New Roman"/>
              </a:rPr>
              <a:t>Право на жизнь</a:t>
            </a:r>
            <a:endParaRPr b="0" i="1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22" name="Picture 2" descr="C:\Documents and Settings\Admin\Мои документы\Декларация прав ребенка\Права ребенка_0013_новый размер.JPG"/>
          <p:cNvPicPr/>
          <p:nvPr/>
        </p:nvPicPr>
        <p:blipFill>
          <a:blip r:embed="rId1"/>
          <a:stretch/>
        </p:blipFill>
        <p:spPr>
          <a:xfrm>
            <a:off x="2143080" y="1714680"/>
            <a:ext cx="5072040" cy="4857480"/>
          </a:xfrm>
          <a:prstGeom prst="rect">
            <a:avLst/>
          </a:prstGeom>
          <a:ln w="0">
            <a:noFill/>
          </a:ln>
        </p:spPr>
      </p:pic>
      <p:sp>
        <p:nvSpPr>
          <p:cNvPr id="323" name="7-конечная звезда 3"/>
          <p:cNvSpPr/>
          <p:nvPr/>
        </p:nvSpPr>
        <p:spPr>
          <a:xfrm>
            <a:off x="8001000" y="5643720"/>
            <a:ext cx="857160" cy="857160"/>
          </a:xfrm>
          <a:custGeom>
            <a:avLst/>
            <a:gdLst>
              <a:gd name="textAreaLeft" fmla="*/ 211680 w 857160"/>
              <a:gd name="textAreaRight" fmla="*/ 645480 w 857160"/>
              <a:gd name="textAreaTop" fmla="*/ 194400 h 857160"/>
              <a:gd name="textAreaBottom" fmla="*/ 628560 h 857160"/>
            </a:gdLst>
            <a:ahLst/>
            <a:rect l="textAreaLeft" t="textAreaTop" r="textAreaRight" b="textAreaBottom"/>
            <a:pathLst>
              <a:path w="857250" h="857250">
                <a:moveTo>
                  <a:pt x="-2" y="551303"/>
                </a:moveTo>
                <a:lnTo>
                  <a:pt x="158024" y="387605"/>
                </a:lnTo>
                <a:lnTo>
                  <a:pt x="84894" y="169790"/>
                </a:lnTo>
                <a:lnTo>
                  <a:pt x="308198" y="194452"/>
                </a:lnTo>
                <a:lnTo>
                  <a:pt x="428625" y="0"/>
                </a:lnTo>
                <a:lnTo>
                  <a:pt x="549052" y="194452"/>
                </a:lnTo>
                <a:lnTo>
                  <a:pt x="772356" y="169790"/>
                </a:lnTo>
                <a:lnTo>
                  <a:pt x="699226" y="387605"/>
                </a:lnTo>
                <a:lnTo>
                  <a:pt x="857252" y="551303"/>
                </a:lnTo>
                <a:lnTo>
                  <a:pt x="645629" y="628463"/>
                </a:lnTo>
                <a:lnTo>
                  <a:pt x="619380" y="857255"/>
                </a:lnTo>
                <a:lnTo>
                  <a:pt x="428625" y="735654"/>
                </a:lnTo>
                <a:lnTo>
                  <a:pt x="237870" y="857255"/>
                </a:lnTo>
                <a:lnTo>
                  <a:pt x="211621" y="628463"/>
                </a:lnTo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5 0.00092 L 0.17535 0.00092 E">
                                      <p:cBhvr>
                                        <p:cTn id="126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4:50:43Z</dcterms:created>
  <dc:creator>Admin</dc:creator>
  <dc:description/>
  <dc:language>en-US</dc:language>
  <cp:lastModifiedBy>Пользователь</cp:lastModifiedBy>
  <dcterms:modified xsi:type="dcterms:W3CDTF">2010-05-03T12:58:02Z</dcterms:modified>
  <cp:revision>79</cp:revision>
  <dc:subject/>
  <dc:title>ИЗУЧАЕМ ПРАВА</dc:title>
</cp:coreProperties>
</file>