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2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1" descr="cvbtrhgh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96115"/>
                </a:solidFill>
                <a:latin typeface="Arial"/>
              </a:rPr>
              <a:t>Page </a:t>
            </a:r>
            <a:fld id="{1CFB1E85-FED5-4B1C-B64E-4BCCBBE9C2BB}" type="slidenum">
              <a:rPr b="1" lang="fr-FR" sz="1800" spc="-1" strike="noStrike">
                <a:solidFill>
                  <a:srgbClr val="39611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7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Выращивание вьетнамских вислобрюхих свиней на домашнем подворье с целью получения экологически чистого продукта питания.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195640" y="4149360"/>
            <a:ext cx="406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втор работы: Шишкин Кирилл уче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-его класса МБОУ Байтеряковская С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итель: Муканова Татьяна Андре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 МБОУ Байтеряковская С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uykrfjhg"/>
          <p:cNvPicPr/>
          <p:nvPr/>
        </p:nvPicPr>
        <p:blipFill>
          <a:blip r:embed="rId2"/>
          <a:stretch/>
        </p:blipFill>
        <p:spPr>
          <a:xfrm>
            <a:off x="0" y="61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user\Desktop\животные зоопарка\вьетн свинья\хрюшки\DSCN8313.JPG"/>
          <p:cNvPicPr/>
          <p:nvPr/>
        </p:nvPicPr>
        <p:blipFill>
          <a:blip r:embed="rId3"/>
          <a:stretch/>
        </p:blipFill>
        <p:spPr>
          <a:xfrm>
            <a:off x="2359080" y="2249640"/>
            <a:ext cx="6769080" cy="4608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468360" y="1440"/>
            <a:ext cx="85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кономически выгодны, так как требуют мало затрат на кормление, и обходятся значительно дешевле наших домашних сви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 В рационе кормления большую долю составляет трава, сено, что также позволяет экономить дорогостоящий комбик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 Всеяд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uykrfjhg"/>
          <p:cNvPicPr/>
          <p:nvPr/>
        </p:nvPicPr>
        <p:blipFill>
          <a:blip r:embed="rId2"/>
          <a:stretch/>
        </p:blipFill>
        <p:spPr>
          <a:xfrm>
            <a:off x="648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user\Desktop\животные зоопарка\вьетн свинья\хрюшки\DSCN8314.JPG"/>
          <p:cNvPicPr/>
          <p:nvPr/>
        </p:nvPicPr>
        <p:blipFill>
          <a:blip r:embed="rId3"/>
          <a:stretch/>
        </p:blipFill>
        <p:spPr>
          <a:xfrm>
            <a:off x="2484360" y="2160720"/>
            <a:ext cx="6624720" cy="4725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71440" y="227160"/>
            <a:ext cx="8980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. По размеру свиньи компактны, что позволяет экономить место и в одном держать несколько 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5. Легко переносят наши з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 Отличаются хорошим иммунитетом и практически не бол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7. Чистоплотны. Не обладают "свиным" запахом. Испражняются в одном отвед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8. Мясо более нежное и сочное. Сало мягкое, без прожилок, вкусное, режется, как сливочное масло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2119320" y="952560"/>
            <a:ext cx="68403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user\Desktop\животные зоопарка\вьетн свинья\хрюшки\ppppp.jpg"/>
          <p:cNvPicPr/>
          <p:nvPr/>
        </p:nvPicPr>
        <p:blipFill>
          <a:blip r:embed="rId1"/>
          <a:stretch/>
        </p:blipFill>
        <p:spPr>
          <a:xfrm>
            <a:off x="0" y="-30240"/>
            <a:ext cx="91296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uykrfjh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611280" y="269064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Неприхотливы к содерж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Имеют спокойный норов, добры, умны и податливы к дрессир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. Не роют ям, не ломают вольеры и заг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7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uykrfjh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2286000" y="2550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684360" y="155736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Благодарю за  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user\Desktop\животные зоопарка\вьетн свинья\хрюшки\porosjata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696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Свое название вислобрюхая вьетнамская свинья получила из-за большого свисающего живота, который особенно бросается в глаза из-за коротких нож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268360" y="2481120"/>
            <a:ext cx="669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489040" y="2060640"/>
            <a:ext cx="6191280" cy="41241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2411280" y="0"/>
            <a:ext cx="634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Свиньи могут быть белого или черного ц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животные зоопарка\вьетн свинья\хрюшки\000006197387.jpg"/>
          <p:cNvPicPr/>
          <p:nvPr/>
        </p:nvPicPr>
        <p:blipFill>
          <a:blip r:embed="rId1"/>
          <a:stretch/>
        </p:blipFill>
        <p:spPr>
          <a:xfrm>
            <a:off x="2606760" y="2492280"/>
            <a:ext cx="6049800" cy="3719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2119320" y="141120"/>
            <a:ext cx="702468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27120" y="31680"/>
            <a:ext cx="6409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Есть особи мраморного окраса, сочетающего в себе оба эти отт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user\Desktop\животные зоопарка\вьетн свинья\хрюшки\DSCN8316.JPG"/>
          <p:cNvPicPr/>
          <p:nvPr/>
        </p:nvPicPr>
        <p:blipFill>
          <a:blip r:embed="rId1"/>
          <a:stretch/>
        </p:blipFill>
        <p:spPr>
          <a:xfrm>
            <a:off x="2484360" y="2781360"/>
            <a:ext cx="6480360" cy="4068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340000" y="333360"/>
            <a:ext cx="66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Verdana"/>
              </a:rPr>
              <a:t>Ножки короткие, спинка прогнута, животик почти касается земли, ушки маленькие, рыльца</a:t>
            </a:r>
            <a:r>
              <a:rPr b="1" i="1" lang="en-US" sz="28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Verdana"/>
              </a:rPr>
              <a:t>прямые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Verdana"/>
              </a:rPr>
              <a:t>гармошкой,  глаза узкие</a:t>
            </a:r>
            <a:r>
              <a:rPr b="1" i="1" lang="ru-RU" sz="2800" spc="-1" strike="noStrike">
                <a:solidFill>
                  <a:srgbClr val="7dd33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6395760" cy="4149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427120" y="115920"/>
            <a:ext cx="66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Свиньи вьетнамской вислобрюхой породы относятся к классу млекопитающих, отряду парнокопытных, семейству свиньи, подвид свинья домашня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73320" y="1922400"/>
            <a:ext cx="6840360" cy="49546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2143080" y="198360"/>
            <a:ext cx="685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Только при правильной организации откорма можно получить дешевую свинину очень высокого качества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232000" y="-100080"/>
            <a:ext cx="7020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Разведение вьетнамских свиней - выгодное дело. Для трудолюбивого хозяина уже после первого опороса вложенные средства окупаются в несколько раз, и появляется чистая прибы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32000" y="2754360"/>
            <a:ext cx="68040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ADMIN</cp:lastModifiedBy>
  <dcterms:modified xsi:type="dcterms:W3CDTF">2019-11-23T19:26:42Z</dcterms:modified>
  <cp:revision>60</cp:revision>
  <dc:subject/>
  <dc:title>Light in the forest</dc:title>
</cp:coreProperties>
</file>