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3.gif" ContentType="image/gif"/>
  <Override PartName="/ppt/media/image6.png" ContentType="image/png"/>
  <Override PartName="/ppt/media/image25.jpeg" ContentType="image/jpeg"/>
  <Override PartName="/ppt/media/image4.jpeg" ContentType="image/jpeg"/>
  <Override PartName="/ppt/media/image31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2.gif" ContentType="image/gif"/>
  <Override PartName="/ppt/media/image8.jpeg" ContentType="image/jpeg"/>
  <Override PartName="/ppt/media/image18.gif" ContentType="image/gif"/>
  <Override PartName="/ppt/media/image13.jpeg" ContentType="image/jpeg"/>
  <Override PartName="/ppt/media/image10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28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B89F-BE08-4C3C-A589-5778CA345C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54D6-8D53-4E36-82B9-19544840A2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5262-4823-4376-ABF9-A488C910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E8A9-52D5-4376-92CD-AF49C8CC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2D89-F267-4222-81AD-ED449EA2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2096-639C-4457-9FEC-B3E189BA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245-0E66-4C4D-8DE5-BBC0F809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AABE-984F-41EF-AF19-E719E676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402F-0646-4CF4-93B9-A0708051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53C3-AE74-43C0-95FA-2FC64449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10B-34F9-422A-8DD5-AAB73070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4E5C-AEB7-435C-A009-E1DF4FA2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8ADE-830D-4E0B-BC72-EDD31267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BD40-2BBF-40D6-8A94-5A042461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D52F-D330-41A3-9579-F5F4EA58B2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484360" y="907920"/>
            <a:ext cx="4240440" cy="494208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  <p:pic>
        <p:nvPicPr>
          <p:cNvPr id="49" name="Picture 5" descr="heart03"/>
          <p:cNvPicPr/>
          <p:nvPr/>
        </p:nvPicPr>
        <p:blipFill>
          <a:blip r:embed="rId2"/>
          <a:stretch/>
        </p:blipFill>
        <p:spPr>
          <a:xfrm>
            <a:off x="7164360" y="4869000"/>
            <a:ext cx="1655640" cy="157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eart04"/>
          <p:cNvPicPr/>
          <p:nvPr/>
        </p:nvPicPr>
        <p:blipFill>
          <a:blip r:embed="rId3"/>
          <a:stretch/>
        </p:blipFill>
        <p:spPr>
          <a:xfrm>
            <a:off x="468360" y="765000"/>
            <a:ext cx="170820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-152280"/>
            <a:ext cx="81536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Активное занят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Работа в группе «Добрые дел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Люба\Desktop\classe_0.jpg"/>
          <p:cNvPicPr/>
          <p:nvPr/>
        </p:nvPicPr>
        <p:blipFill>
          <a:blip r:embed="rId1"/>
          <a:stretch/>
        </p:blipFill>
        <p:spPr>
          <a:xfrm>
            <a:off x="5867280" y="3429000"/>
            <a:ext cx="227340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7" name="TextBox 4"/>
          <p:cNvSpPr/>
          <p:nvPr/>
        </p:nvSpPr>
        <p:spPr>
          <a:xfrm>
            <a:off x="304920" y="152388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ешить плач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304920" y="1981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оваться неудаче ближн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304920" y="23623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ать милосты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304920" y="28195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емиться быть богатым челове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304920" y="32767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гать ближ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304920" y="37339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ид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304920" y="41148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делать кормушку для п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304920" y="457200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упай старшим место в транспо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304920" y="50292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ижай слабых и младш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304920" y="54100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оровайся при встреч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304920" y="58672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зывай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5"/>
          <p:cNvSpPr/>
          <p:nvPr/>
        </p:nvSpPr>
        <p:spPr>
          <a:xfrm>
            <a:off x="304920" y="62485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режно относись к своим вещ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6"/>
          <p:cNvSpPr/>
          <p:nvPr/>
        </p:nvSpPr>
        <p:spPr>
          <a:xfrm>
            <a:off x="5943600" y="1219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чай живо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943600" y="1676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суй на пар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8"/>
          <p:cNvSpPr/>
          <p:nvPr/>
        </p:nvSpPr>
        <p:spPr>
          <a:xfrm>
            <a:off x="5943600" y="2133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рви цв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9"/>
          <p:cNvSpPr/>
          <p:nvPr/>
        </p:nvSpPr>
        <p:spPr>
          <a:xfrm>
            <a:off x="5943600" y="26668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ажай старш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1"/>
          <p:cNvSpPr/>
          <p:nvPr/>
        </p:nvSpPr>
        <p:spPr>
          <a:xfrm>
            <a:off x="304920" y="10666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умать о родител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Игорь Крутой.mp3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46454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895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РЕШИЛИ, ЧТО ДОБРЫЕ ДЕЛА – ЭТО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Ы ПРИШЛИ К ЕДИНОМУ МНЕНИЮ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М БЫЛО ЛЕГКО (ТРУДНО) ОБЩАТЬС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ГРУППЕ, ТАК КА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380520"/>
            <a:ext cx="5145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бсуждение в классе и эксперт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ц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Люба\Desktop\vospitatel-sad.png"/>
          <p:cNvPicPr/>
          <p:nvPr/>
        </p:nvPicPr>
        <p:blipFill>
          <a:blip r:embed="rId1"/>
          <a:stretch/>
        </p:blipFill>
        <p:spPr>
          <a:xfrm>
            <a:off x="5943600" y="304920"/>
            <a:ext cx="2743200" cy="243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стой в стороне равнодушно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гда у кого-то беда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вануться на выручку нуж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любую минуту, всег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Users\Люба\Desktop\экс.jpg"/>
          <p:cNvPicPr/>
          <p:nvPr/>
        </p:nvPicPr>
        <p:blipFill>
          <a:blip r:embed="rId1"/>
          <a:srcRect l="0" t="0" r="0" b="6453"/>
          <a:stretch/>
        </p:blipFill>
        <p:spPr>
          <a:xfrm>
            <a:off x="2286000" y="380880"/>
            <a:ext cx="4492800" cy="27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1143000" y="228600"/>
            <a:ext cx="7394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ценка «Ученик  час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паздывает  на  ур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книги на столе"/>
          <p:cNvPicPr/>
          <p:nvPr/>
        </p:nvPicPr>
        <p:blipFill>
          <a:blip r:embed="rId1"/>
          <a:stretch/>
        </p:blipFill>
        <p:spPr>
          <a:xfrm>
            <a:off x="2268360" y="4149720"/>
            <a:ext cx="2082960" cy="2521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книги и сердце"/>
          <p:cNvPicPr/>
          <p:nvPr/>
        </p:nvPicPr>
        <p:blipFill>
          <a:blip r:embed="rId2"/>
          <a:stretch/>
        </p:blipFill>
        <p:spPr>
          <a:xfrm>
            <a:off x="3203640" y="4724280"/>
            <a:ext cx="863640" cy="7542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3"/>
          <p:cNvSpPr/>
          <p:nvPr/>
        </p:nvSpPr>
        <p:spPr>
          <a:xfrm>
            <a:off x="250920" y="836640"/>
            <a:ext cx="2303280" cy="3811680"/>
          </a:xfrm>
          <a:prstGeom prst="rightArrowCallout">
            <a:avLst>
              <a:gd name="adj1" fmla="val 46908"/>
              <a:gd name="adj2" fmla="val 46904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Логическая задача"/>
          <p:cNvPicPr/>
          <p:nvPr/>
        </p:nvPicPr>
        <p:blipFill>
          <a:blip r:embed="rId3"/>
          <a:stretch/>
        </p:blipFill>
        <p:spPr>
          <a:xfrm>
            <a:off x="324000" y="1484280"/>
            <a:ext cx="1382400" cy="31687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5"/>
          <p:cNvSpPr/>
          <p:nvPr/>
        </p:nvSpPr>
        <p:spPr>
          <a:xfrm rot="1411800">
            <a:off x="3288960" y="2047680"/>
            <a:ext cx="2305080" cy="25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4221" y="0"/>
                </a:lnTo>
                <a:lnTo>
                  <a:pt x="21600" y="10800"/>
                </a:lnTo>
                <a:lnTo>
                  <a:pt x="142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6" descr="детский конкурс по математике"/>
          <p:cNvPicPr/>
          <p:nvPr/>
        </p:nvPicPr>
        <p:blipFill>
          <a:blip r:embed="rId4"/>
          <a:stretch/>
        </p:blipFill>
        <p:spPr>
          <a:xfrm>
            <a:off x="3635280" y="2421000"/>
            <a:ext cx="1438200" cy="16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7" name="AutoShape 17"/>
          <p:cNvSpPr/>
          <p:nvPr/>
        </p:nvSpPr>
        <p:spPr>
          <a:xfrm>
            <a:off x="6300720" y="2781360"/>
            <a:ext cx="2160720" cy="3313080"/>
          </a:xfrm>
          <a:prstGeom prst="wedgeRectCallout">
            <a:avLst>
              <a:gd name="adj1" fmla="val -132074"/>
              <a:gd name="adj2" fmla="val 537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8" descr="Копия ребята 002"/>
          <p:cNvPicPr/>
          <p:nvPr/>
        </p:nvPicPr>
        <p:blipFill>
          <a:blip r:embed="rId5"/>
          <a:srcRect l="20613" t="16687" r="11506" b="16503"/>
          <a:stretch/>
        </p:blipFill>
        <p:spPr>
          <a:xfrm>
            <a:off x="6477120" y="3200400"/>
            <a:ext cx="1801800" cy="252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9" name="Picture 2" descr="C:\Users\Люба\Desktop\ученик опаздывает на урок.jpg"/>
          <p:cNvPicPr/>
          <p:nvPr/>
        </p:nvPicPr>
        <p:blipFill>
          <a:blip r:embed="rId6"/>
          <a:stretch/>
        </p:blipFill>
        <p:spPr>
          <a:xfrm>
            <a:off x="304920" y="1447920"/>
            <a:ext cx="140472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800600"/>
            <a:ext cx="777240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МА: «ДОБРОТА ИСТИННАЯ.      ДОБРОТА ЛОЖНА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11" descr="082d39bb6e1453aed06b71b0bb882d81.jpg"/>
          <p:cNvPicPr/>
          <p:nvPr/>
        </p:nvPicPr>
        <p:blipFill>
          <a:blip r:embed="rId1"/>
          <a:stretch/>
        </p:blipFill>
        <p:spPr>
          <a:xfrm>
            <a:off x="1219320" y="304920"/>
            <a:ext cx="6629400" cy="419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1217479848_1.jpg"/>
          <p:cNvPicPr/>
          <p:nvPr/>
        </p:nvPicPr>
        <p:blipFill>
          <a:blip r:embed="rId1"/>
          <a:stretch/>
        </p:blipFill>
        <p:spPr>
          <a:xfrm>
            <a:off x="5421240" y="838080"/>
            <a:ext cx="2960640" cy="281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3" name="Прямоугольник 2"/>
          <p:cNvSpPr/>
          <p:nvPr/>
        </p:nvSpPr>
        <p:spPr>
          <a:xfrm>
            <a:off x="0" y="838080"/>
            <a:ext cx="5638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бро и зло творить всег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ласти всех людей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о зло творится без труд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бро творить трудне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А ЗАБОЛЕЛА. ДОКТОР ПРОПИСАЛ ЕЙ ГОРЬКОЕ ЛЕКАРСТВО. ДЕВОЧКА ПЛАКАЛА, КОМУ ПРИЯТНО ПИТЬ ЭТУ ГОРЕЧЬ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МЛАДШИЙ БРАТИШКА СЁМКА ПОЖАЛЕЛ СЕСТРЁНКУ: 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«НЕ ПЕЙ ЭТИ ТАБЛЕТКИ, ЛУЧШЕ СЪЕШЬ ВОТ ЭТУ ВИТАМИНКУ. ОНА ВКУСНАЯ!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УСЛЫШАЛА ЭТОТ РАЗГОВОР МАМА, ПОКАЧАЛА ГОЛОВОЙ И СТРОГО СКАЗАЛА: 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«ЧТОБЫ БЫСТРЕЕ ПОПРАВИТЬСЯ, НАДО ВЫПОЛНЯТЬ НАЗНАЧЕНИЕ ВРАЧА, ХОТЬ ТАБЛЕТКА И ГОРЬКАЯ. НЕ ЗРЯ В НАРОДЕ ГОВОРЯТ…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457200"/>
            <a:ext cx="4800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тение расск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Users\Люба\Desktop\depositphotos_7246541-Doctor-with-tablet.jpg"/>
          <p:cNvPicPr/>
          <p:nvPr/>
        </p:nvPicPr>
        <p:blipFill>
          <a:blip r:embed="rId1"/>
          <a:stretch/>
        </p:blipFill>
        <p:spPr>
          <a:xfrm>
            <a:off x="7543800" y="3429000"/>
            <a:ext cx="160020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7" name="Picture 38" descr="16"/>
          <p:cNvPicPr/>
          <p:nvPr/>
        </p:nvPicPr>
        <p:blipFill>
          <a:blip r:embed="rId2"/>
          <a:stretch/>
        </p:blipFill>
        <p:spPr>
          <a:xfrm>
            <a:off x="5867280" y="304920"/>
            <a:ext cx="2160720" cy="162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«БУДЕМ ДЕЛАТЬ ХОРОШО И НЕ БУДЕМ ПЛОХ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3045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Твори добро, чтобы, любя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Добро тебя нашло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Зла не верши, чтобы теб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Не погубило зл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5" descr="hands.jpg"/>
          <p:cNvPicPr/>
          <p:nvPr/>
        </p:nvPicPr>
        <p:blipFill>
          <a:blip r:embed="rId1"/>
          <a:stretch/>
        </p:blipFill>
        <p:spPr>
          <a:xfrm>
            <a:off x="3505320" y="3505320"/>
            <a:ext cx="2143080" cy="30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7150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ачества, определяющие добро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5" descr="d409a04841ff.jpg"/>
          <p:cNvPicPr/>
          <p:nvPr/>
        </p:nvPicPr>
        <p:blipFill>
          <a:blip r:embed="rId1"/>
          <a:stretch/>
        </p:blipFill>
        <p:spPr>
          <a:xfrm>
            <a:off x="6593040" y="304920"/>
            <a:ext cx="2112840" cy="21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3" name=""/>
          <p:cNvSpPr txBox="1"/>
          <p:nvPr/>
        </p:nvSpPr>
        <p:spPr>
          <a:xfrm>
            <a:off x="152280" y="1676520"/>
            <a:ext cx="73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еловека, у которого доброе сердце, называют….. 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еловек, который желает другим только добра, называют…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еловека, на которого всегда и во всём можно положиться, называют…. 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еловека с доброй душой и мягким характером, незлопамятного, называют… 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еловека, обладающего добрым, хорошим нравом, называют…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2133720" y="2057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обросердеч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2209680" y="31240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оброжелате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3962520" y="40384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обропорядоч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4495680" y="5105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обродуш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3429000" y="60958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обронрав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8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://i02.fsimg.ru/1/tlog_box/1487/1487757.jpg"/>
          <p:cNvPicPr/>
          <p:nvPr/>
        </p:nvPicPr>
        <p:blipFill>
          <a:blip r:embed="rId1"/>
          <a:stretch/>
        </p:blipFill>
        <p:spPr>
          <a:xfrm>
            <a:off x="5791320" y="3124080"/>
            <a:ext cx="2819160" cy="274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0" name="Прямоугольник 3"/>
          <p:cNvSpPr/>
          <p:nvPr/>
        </p:nvSpPr>
        <p:spPr>
          <a:xfrm>
            <a:off x="304920" y="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Ресурсный круг. Рефлекс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2286000" y="-47419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 Доме Доброты я чувствую…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слышу…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вижу.. 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6"/>
          <p:cNvSpPr/>
          <p:nvPr/>
        </p:nvSpPr>
        <p:spPr>
          <a:xfrm>
            <a:off x="380880" y="685800"/>
            <a:ext cx="807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«В Доме Добро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я чувствую…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я слышу…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я вижу.. 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C:\Users\Люба\Desktop\за руки.jpg"/>
          <p:cNvPicPr/>
          <p:nvPr/>
        </p:nvPicPr>
        <p:blipFill>
          <a:blip r:embed="rId2"/>
          <a:stretch/>
        </p:blipFill>
        <p:spPr>
          <a:xfrm>
            <a:off x="304920" y="3124080"/>
            <a:ext cx="2895480" cy="273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Прямоугольник 8"/>
          <p:cNvSpPr/>
          <p:nvPr/>
        </p:nvSpPr>
        <p:spPr>
          <a:xfrm>
            <a:off x="380880" y="5943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Будем делать хорошо и не будем плох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001_Ennio Morricone - Chi Mai.mp3" descr=""/>
          <p:cNvPicPr/>
          <p:nvPr/>
        </p:nvPicPr>
        <p:blipFill>
          <a:blip r:embed="rId3"/>
          <a:stretch/>
        </p:blipFill>
        <p:spPr>
          <a:xfrm>
            <a:off x="8381880" y="228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304730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есурсный круг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гра «Домино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Люба\Desktop\за руки.jpg"/>
          <p:cNvPicPr/>
          <p:nvPr/>
        </p:nvPicPr>
        <p:blipFill>
          <a:blip r:embed="rId1"/>
          <a:stretch/>
        </p:blipFill>
        <p:spPr>
          <a:xfrm>
            <a:off x="685800" y="1523880"/>
            <a:ext cx="3429000" cy="27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3" descr="C:\Users\Люба\Desktop\домино.jpg"/>
          <p:cNvPicPr/>
          <p:nvPr/>
        </p:nvPicPr>
        <p:blipFill>
          <a:blip r:embed="rId2"/>
          <a:stretch/>
        </p:blipFill>
        <p:spPr>
          <a:xfrm>
            <a:off x="4343400" y="1523880"/>
            <a:ext cx="3809880" cy="27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" name="Прямоугольник 4"/>
          <p:cNvSpPr/>
          <p:nvPr/>
        </p:nvSpPr>
        <p:spPr>
          <a:xfrm>
            <a:off x="380880" y="434340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то в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увствуе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, когда  произносите слов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то вы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ыши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то в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ите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001_Ennio Morricone - Chi Mai.mp3" descr=""/>
          <p:cNvPicPr/>
          <p:nvPr/>
        </p:nvPicPr>
        <p:blipFill>
          <a:blip r:embed="rId3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0473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C:\Users\Люба\Desktop\экс.jpg"/>
          <p:cNvPicPr/>
          <p:nvPr/>
        </p:nvPicPr>
        <p:blipFill>
          <a:blip r:embed="rId1"/>
          <a:srcRect l="0" t="0" r="0" b="7498"/>
          <a:stretch/>
        </p:blipFill>
        <p:spPr>
          <a:xfrm>
            <a:off x="1676520" y="228600"/>
            <a:ext cx="5715000" cy="289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7" name="Picture 3" descr="C:\Users\Администратор\Pictures\бабушка\1_r.jpg"/>
          <p:cNvPicPr/>
          <p:nvPr/>
        </p:nvPicPr>
        <p:blipFill>
          <a:blip r:embed="rId2"/>
          <a:stretch/>
        </p:blipFill>
        <p:spPr>
          <a:xfrm>
            <a:off x="2895480" y="3276720"/>
            <a:ext cx="3276720" cy="33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осстановить пословицы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1920" y="990360"/>
            <a:ext cx="8610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Жизнь дана на       ….           дела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Мир не без          …        люде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  …       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желаешь –    …        и дела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Нет худа без       …        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     …  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слово человеку – что дождь в засух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     …       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омни, а зло забыв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ищи красоты, а ищи      …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инное      …        всегда про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удо тому, кто  не делает        …         ником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Users\Люба\Desktop\в паре.jpg"/>
          <p:cNvPicPr/>
          <p:nvPr/>
        </p:nvPicPr>
        <p:blipFill>
          <a:blip r:embed="rId1"/>
          <a:stretch/>
        </p:blipFill>
        <p:spPr>
          <a:xfrm>
            <a:off x="7086600" y="228600"/>
            <a:ext cx="1752480" cy="180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TextBox 4"/>
          <p:cNvSpPr/>
          <p:nvPr/>
        </p:nvSpPr>
        <p:spPr>
          <a:xfrm>
            <a:off x="3352680" y="990720"/>
            <a:ext cx="18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добры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2819520" y="1523880"/>
            <a:ext cx="1523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добры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380880" y="2057400"/>
            <a:ext cx="18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Добр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3962520" y="2057400"/>
            <a:ext cx="144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добр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3048120" y="2514600"/>
            <a:ext cx="144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доб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04920" y="3048120"/>
            <a:ext cx="144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Добро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380880" y="3581280"/>
            <a:ext cx="18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Добр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4724280" y="4038480"/>
            <a:ext cx="16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доброт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2286000" y="4572000"/>
            <a:ext cx="18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добр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5181480" y="5181480"/>
            <a:ext cx="18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доб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Игорь Крутой.mp3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4645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абота в группе. Обсуж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Что такое, в вашем понимании, добро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Users\Люба\Desktop\группа.jpg"/>
          <p:cNvPicPr/>
          <p:nvPr/>
        </p:nvPicPr>
        <p:blipFill>
          <a:blip r:embed="rId1"/>
          <a:stretch/>
        </p:blipFill>
        <p:spPr>
          <a:xfrm>
            <a:off x="2590920" y="2971800"/>
            <a:ext cx="403848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Игорь Крутой.mp3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346454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брот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заботливое, внимательное отношение. Отзывчивость, душевное расположение к людям, стремление делать добро други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Люба\Desktop\img2.jpg"/>
          <p:cNvPicPr/>
          <p:nvPr/>
        </p:nvPicPr>
        <p:blipFill>
          <a:blip r:embed="rId1"/>
          <a:stretch/>
        </p:blipFill>
        <p:spPr>
          <a:xfrm>
            <a:off x="1600200" y="1981080"/>
            <a:ext cx="5867280" cy="381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2057400" cy="304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" name="Прямоугольник 2"/>
          <p:cNvSpPr/>
          <p:nvPr/>
        </p:nvSpPr>
        <p:spPr>
          <a:xfrm>
            <a:off x="2514600" y="1523880"/>
            <a:ext cx="6019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е ищи красот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 ищи добро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ир не без добрых люд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Скругленный прямоугольник 3"/>
          <p:cNvSpPr/>
          <p:nvPr/>
        </p:nvSpPr>
        <p:spPr>
          <a:xfrm>
            <a:off x="3352680" y="304920"/>
            <a:ext cx="236232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Добро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4"/>
          <p:cNvSpPr/>
          <p:nvPr/>
        </p:nvSpPr>
        <p:spPr>
          <a:xfrm>
            <a:off x="3352680" y="1752480"/>
            <a:ext cx="236232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Любв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5"/>
          <p:cNvSpPr/>
          <p:nvPr/>
        </p:nvSpPr>
        <p:spPr>
          <a:xfrm>
            <a:off x="838080" y="3124080"/>
            <a:ext cx="236232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Любви к человек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6"/>
          <p:cNvSpPr/>
          <p:nvPr/>
        </p:nvSpPr>
        <p:spPr>
          <a:xfrm>
            <a:off x="5943600" y="3200400"/>
            <a:ext cx="236232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Любви к приро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7"/>
          <p:cNvSpPr/>
          <p:nvPr/>
        </p:nvSpPr>
        <p:spPr>
          <a:xfrm>
            <a:off x="533520" y="4572000"/>
            <a:ext cx="304776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Окружающих люд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8"/>
          <p:cNvSpPr/>
          <p:nvPr/>
        </p:nvSpPr>
        <p:spPr>
          <a:xfrm>
            <a:off x="5638680" y="4648320"/>
            <a:ext cx="29718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Живое, что окружает на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Прямая со стрелкой 10"/>
          <p:cNvCxnSpPr/>
          <p:nvPr/>
        </p:nvCxnSpPr>
        <p:spPr>
          <a:xfrm flipH="1">
            <a:off x="4417200" y="1144440"/>
            <a:ext cx="3960" cy="534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" name="Прямая со стрелкой 13"/>
          <p:cNvCxnSpPr/>
          <p:nvPr/>
        </p:nvCxnSpPr>
        <p:spPr>
          <a:xfrm flipH="1">
            <a:off x="2361600" y="2590920"/>
            <a:ext cx="1526040" cy="4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6" name="Прямая со стрелкой 15"/>
          <p:cNvCxnSpPr/>
          <p:nvPr/>
        </p:nvCxnSpPr>
        <p:spPr>
          <a:xfrm>
            <a:off x="5106960" y="2590560"/>
            <a:ext cx="16754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Прямая со стрелкой 17"/>
          <p:cNvCxnSpPr/>
          <p:nvPr/>
        </p:nvCxnSpPr>
        <p:spPr>
          <a:xfrm flipH="1">
            <a:off x="1904760" y="3962520"/>
            <a:ext cx="2160" cy="535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8" name="Прямая со стрелкой 18"/>
          <p:cNvCxnSpPr/>
          <p:nvPr/>
        </p:nvCxnSpPr>
        <p:spPr>
          <a:xfrm flipH="1">
            <a:off x="7162560" y="4038480"/>
            <a:ext cx="2160" cy="535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28600" y="1694160"/>
            <a:ext cx="64008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Физ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С добрым утром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С добрым утром, глазки (</a:t>
            </a:r>
            <a:r>
              <a:rPr b="1" lang="ru-RU" sz="21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глаживают веки глаз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Вы проснулись? (</a:t>
            </a:r>
            <a:r>
              <a:rPr b="1" lang="ru-RU" sz="2100" spc="-1" strike="noStrike">
                <a:solidFill>
                  <a:srgbClr val="ff0000"/>
                </a:solidFill>
                <a:latin typeface="Calibri"/>
                <a:ea typeface="Times New Roman"/>
              </a:rPr>
              <a:t>смотрим в бинокль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С добрым утром, ручки! (</a:t>
            </a:r>
            <a:r>
              <a:rPr b="1" lang="ru-RU" sz="21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глаживаем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Вы проснулись? (</a:t>
            </a:r>
            <a:r>
              <a:rPr b="1" lang="ru-RU" sz="2100" spc="-1" strike="noStrike">
                <a:solidFill>
                  <a:srgbClr val="ff0000"/>
                </a:solidFill>
                <a:latin typeface="Calibri"/>
                <a:ea typeface="Times New Roman"/>
              </a:rPr>
              <a:t>хлопаем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С добрым утром, ножки! (</a:t>
            </a:r>
            <a:r>
              <a:rPr b="1" lang="ru-RU" sz="2100" spc="-1" strike="noStrike">
                <a:solidFill>
                  <a:srgbClr val="ff0000"/>
                </a:solidFill>
                <a:latin typeface="Calibri"/>
                <a:ea typeface="Times New Roman"/>
              </a:rPr>
              <a:t>смотрим на свои ножки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Вы проснулись? (</a:t>
            </a:r>
            <a:r>
              <a:rPr b="1" lang="ru-RU" sz="2100" spc="-1" strike="noStrike">
                <a:solidFill>
                  <a:srgbClr val="ff0000"/>
                </a:solidFill>
                <a:latin typeface="Calibri"/>
                <a:ea typeface="Times New Roman"/>
              </a:rPr>
              <a:t>топают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С добрым утром, солнце! (</a:t>
            </a:r>
            <a:r>
              <a:rPr b="1" lang="ru-RU" sz="2100" spc="-1" strike="noStrike">
                <a:solidFill>
                  <a:srgbClr val="ff0000"/>
                </a:solidFill>
                <a:latin typeface="Calibri"/>
                <a:ea typeface="Times New Roman"/>
              </a:rPr>
              <a:t>раскрывают руки навстречу солнцу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docu000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715000" y="3924360"/>
            <a:ext cx="3249720" cy="269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Picture 4" descr="C:\Users\Люба\Desktop\солнышко.jpg"/>
          <p:cNvPicPr/>
          <p:nvPr/>
        </p:nvPicPr>
        <p:blipFill>
          <a:blip r:embed="rId2"/>
          <a:stretch/>
        </p:blipFill>
        <p:spPr>
          <a:xfrm>
            <a:off x="3200400" y="152280"/>
            <a:ext cx="2438280" cy="19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БРОТА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jesus&amp;child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cp:lastPrinted>2018-02-28T06:09:29Z</cp:lastPrinted>
  <dcterms:modified xsi:type="dcterms:W3CDTF">2018-02-28T06:13:11Z</dcterms:modified>
  <cp:revision>1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