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E03-B541-45F7-BDC2-6CA4FA34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3DD-B937-4F4D-8BD2-B7DF9E2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C0C-F918-47D7-9B64-C4E84F5E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066-A1B4-491D-BA4E-06A2D053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BAD-4390-4701-87A7-8EAF0CF5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E76-6FE7-4324-8C35-3DE322E0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46A-910E-47E6-A785-FBD6A9A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B18-2517-4A95-AF4F-190F280F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F97-63B4-442C-AF69-FC67BF0A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96D-0C1F-4945-BABE-5EFF4C28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C86-7A69-4CAE-9BF2-84496824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8FF-8173-49D9-9BE8-B841AD1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FD96-A39D-4EFE-9657-FBBF7FF84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-36360" y="31680"/>
            <a:ext cx="9563040" cy="682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35280" y="4544640"/>
            <a:ext cx="370836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Ионычева Л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Воспитатель </a:t>
            </a: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МДОУ № 49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г. Новосибир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768240" y="-60480"/>
            <a:ext cx="8034480" cy="2608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3"/>
          <a:stretch/>
        </p:blipFill>
        <p:spPr>
          <a:xfrm>
            <a:off x="33480" y="2217600"/>
            <a:ext cx="485748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214200" y="1214280"/>
            <a:ext cx="8715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го простота. Синквейн могут составить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оставлении синквейна каждый ребенок может реализовать свои творческие, интеллектуальные возмо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квейн является игровым прие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инквейна используется как заключительное задание по пройденному матери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инквейна используется для проведения рефлексии, анализа и синтеза получен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573120" y="146160"/>
            <a:ext cx="7858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50920" y="1052640"/>
            <a:ext cx="896436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французское пятистишие, похожее на японские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помогает пополни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 краткому переск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 находить и выделять в большом объеме информации главную мыс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чинение синквей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творческий. Это интересное занятие помогает самовыражению детей, через сочинение собственных нерифмованных сти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ся у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развить речь и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облегчает процесс усвоения понятий и их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квей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также способ контроля и самоконтро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мог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ь синквейны и оценива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36360"/>
            <a:ext cx="8205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-157320" y="23760"/>
            <a:ext cx="9366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0" y="9079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СПАСИБО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ЗА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ВНИМАНИЕ</a:t>
            </a: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1276200" y="2637000"/>
            <a:ext cx="61912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1243080" y="36360"/>
            <a:ext cx="7980120" cy="1517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14680" y="1000080"/>
            <a:ext cx="7429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то ясно мыслит – тот ясно изла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(Античная поговор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14200" y="1928880"/>
            <a:ext cx="8929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 и практикующие педагоги отмечают, что у старших дошкольников часто имеются нарушения речи, бедный словарный запас, дети не умеют составлять рассказ по картинке, пересказать прочитанное, им трудно выучить наизусть стихотво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ление синквей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ин из способов частичного решения эти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квей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используются современными педагогами для занятий в детском саду. Уже в дошкольном возрасте можно учить детей составля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нквей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форм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428760" y="500040"/>
            <a:ext cx="8929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ово французское, в переводе означает «стихотворение из пяти стр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синквейна была разработана американской поэтессой Аделаидой Крэп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214720"/>
            <a:ext cx="8501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тихотворение, без рифмы в пять строк, написанное по определенному прав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413080" y="3500280"/>
            <a:ext cx="650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авнительно недавно педагоги стали применять синквейн для активизации познавательной деятельности и стали использовать его как метод развити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rcRect l="74216" t="24180" r="1723" b="51644"/>
          <a:stretch/>
        </p:blipFill>
        <p:spPr>
          <a:xfrm>
            <a:off x="539640" y="3409920"/>
            <a:ext cx="1744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79280" y="260280"/>
            <a:ext cx="878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оставит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ужно научиться находить в тексте, в материале главные элементы, делать выводы и заключения, высказывать своё мнение, анализировать, обобщать, вычленять, объединять и кратко изла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79280" y="2590920"/>
            <a:ext cx="71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технология не требует особых условий его применения и хорошо вписывается в работу по развитию речи, уточняет содержание понятий, оценивает уровень усвоение детьми пройденного материала, способствует развитию памяти, внимания, мышления, позволяет ребенку быть активным, творческим участником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"/>
          <p:cNvPicPr/>
          <p:nvPr/>
        </p:nvPicPr>
        <p:blipFill>
          <a:blip r:embed="rId2"/>
          <a:srcRect l="0" t="23982" r="76680" b="52044"/>
          <a:stretch/>
        </p:blipFill>
        <p:spPr>
          <a:xfrm>
            <a:off x="7236000" y="2744640"/>
            <a:ext cx="1728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71680" y="178596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квейн состоит из 5 стр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форма напоминает ёлоч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690560" y="3429000"/>
            <a:ext cx="2160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7" descr=""/>
          <p:cNvPicPr/>
          <p:nvPr/>
        </p:nvPicPr>
        <p:blipFill>
          <a:blip r:embed="rId2"/>
          <a:stretch/>
        </p:blipFill>
        <p:spPr>
          <a:xfrm>
            <a:off x="317520" y="36360"/>
            <a:ext cx="857736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3" name="Группа 20"/>
          <p:cNvGrpSpPr/>
          <p:nvPr/>
        </p:nvGrpSpPr>
        <p:grpSpPr>
          <a:xfrm>
            <a:off x="5143680" y="3429000"/>
            <a:ext cx="2705040" cy="2862360"/>
            <a:chOff x="5143680" y="3429000"/>
            <a:chExt cx="2705040" cy="2862360"/>
          </a:xfrm>
        </p:grpSpPr>
        <p:grpSp>
          <p:nvGrpSpPr>
            <p:cNvPr id="64" name="Группа 23"/>
            <p:cNvGrpSpPr/>
            <p:nvPr/>
          </p:nvGrpSpPr>
          <p:grpSpPr>
            <a:xfrm>
              <a:off x="5143680" y="3429000"/>
              <a:ext cx="2705040" cy="2304720"/>
              <a:chOff x="5143680" y="3429000"/>
              <a:chExt cx="2705040" cy="2304720"/>
            </a:xfrm>
          </p:grpSpPr>
          <p:sp>
            <p:nvSpPr>
              <p:cNvPr id="65" name="Равнобедренный треугольник 7"/>
              <p:cNvSpPr/>
              <p:nvPr/>
            </p:nvSpPr>
            <p:spPr>
              <a:xfrm>
                <a:off x="720108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Равнобедренный треугольник 8"/>
              <p:cNvSpPr/>
              <p:nvPr/>
            </p:nvSpPr>
            <p:spPr>
              <a:xfrm>
                <a:off x="6480360" y="5157720"/>
                <a:ext cx="64908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Равнобедренный треугольник 9"/>
              <p:cNvSpPr/>
              <p:nvPr/>
            </p:nvSpPr>
            <p:spPr>
              <a:xfrm>
                <a:off x="6151680" y="342900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Равнобедренный треугольник 10"/>
              <p:cNvSpPr/>
              <p:nvPr/>
            </p:nvSpPr>
            <p:spPr>
              <a:xfrm>
                <a:off x="5862600" y="4005000"/>
                <a:ext cx="64908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Равнобедренный треугольник 11"/>
              <p:cNvSpPr/>
              <p:nvPr/>
            </p:nvSpPr>
            <p:spPr>
              <a:xfrm>
                <a:off x="6512040" y="400500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Равнобедренный треугольник 12"/>
              <p:cNvSpPr/>
              <p:nvPr/>
            </p:nvSpPr>
            <p:spPr>
              <a:xfrm>
                <a:off x="687096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Равнобедренный треугольник 13"/>
              <p:cNvSpPr/>
              <p:nvPr/>
            </p:nvSpPr>
            <p:spPr>
              <a:xfrm>
                <a:off x="615168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Равнобедренный треугольник 14"/>
              <p:cNvSpPr/>
              <p:nvPr/>
            </p:nvSpPr>
            <p:spPr>
              <a:xfrm>
                <a:off x="5504040" y="458136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Равнобедренный треугольник 15"/>
              <p:cNvSpPr/>
              <p:nvPr/>
            </p:nvSpPr>
            <p:spPr>
              <a:xfrm>
                <a:off x="514368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Равнобедренный треугольник 16"/>
              <p:cNvSpPr/>
              <p:nvPr/>
            </p:nvSpPr>
            <p:spPr>
              <a:xfrm>
                <a:off x="5791320" y="5157720"/>
                <a:ext cx="647640" cy="5760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Равнобедренный треугольник 18"/>
            <p:cNvSpPr/>
            <p:nvPr/>
          </p:nvSpPr>
          <p:spPr>
            <a:xfrm>
              <a:off x="6143760" y="5715360"/>
              <a:ext cx="647640" cy="5760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42920" y="428760"/>
            <a:ext cx="8572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ая строка синквей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головок, тема, состоящие из одного слова (обычно существительное, означающее предмет или действие, о котором идёт реч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ая ст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два слова. Прилагательные. Это описание признаков предмета или его свойства, раскрывающие тему синкве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тья 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ычно состоит из трёх глаголов или деепричастий, описывающих действия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вёртая ст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словосочетание или предложение, состоящее из нескольких слов, которые отражают личное отношение автора синквейна к тому, о чем говорится в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ятая стро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оследняя. Одно слово – существительное для выражения своих чувств, ассоциаций, связанных с предметом, о котором говорится в синквейне, то есть это личное выражение автора к теме или повторение сути, сино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6df73023ff92862cacd80578dd92648b_ae59e32c0e6b650b11462577bb816a8b.jpg"/>
          <p:cNvPicPr/>
          <p:nvPr/>
        </p:nvPicPr>
        <p:blipFill>
          <a:blip r:embed="rId2"/>
          <a:stretch/>
        </p:blipFill>
        <p:spPr>
          <a:xfrm>
            <a:off x="571680" y="571680"/>
            <a:ext cx="3260520" cy="3894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643200" y="1928880"/>
            <a:ext cx="52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1. Арб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2. Круглый, вку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3. Катится, растет, з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4. Арбуз – это большая я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5.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182192586.jpg"/>
          <p:cNvPicPr/>
          <p:nvPr/>
        </p:nvPicPr>
        <p:blipFill>
          <a:blip r:embed="rId2"/>
          <a:stretch/>
        </p:blipFill>
        <p:spPr>
          <a:xfrm>
            <a:off x="1785960" y="0"/>
            <a:ext cx="5032440" cy="3786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357200" y="3857760"/>
            <a:ext cx="657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1. Кот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2. Черненький, пушистен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3. Играет, спит, 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4. Он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5. Домашнее живо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domik86.jpg"/>
          <p:cNvPicPr/>
          <p:nvPr/>
        </p:nvPicPr>
        <p:blipFill>
          <a:blip r:embed="rId2"/>
          <a:stretch/>
        </p:blipFill>
        <p:spPr>
          <a:xfrm>
            <a:off x="2428920" y="0"/>
            <a:ext cx="412740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571760" y="3571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1.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2. Большой, крас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3. Защищает, г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4. Нужен все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5. Убеж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8:09:41Z</dcterms:created>
  <dc:creator>1</dc:creator>
  <dc:description/>
  <dc:language>en-US</dc:language>
  <cp:lastModifiedBy>Admin</cp:lastModifiedBy>
  <dcterms:modified xsi:type="dcterms:W3CDTF">2016-02-03T14:16:42Z</dcterms:modified>
  <cp:revision>19</cp:revision>
  <dc:subject/>
  <dc:title>Слайд 1</dc:title>
</cp:coreProperties>
</file>