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29.jpeg" ContentType="image/jpeg"/>
  <Override PartName="/ppt/media/image4.png" ContentType="image/png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7.jpeg" ContentType="image/jpeg"/>
  <Override PartName="/ppt/media/image23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27.gif" ContentType="image/gif"/>
  <Override PartName="/ppt/media/image3.jpeg" ContentType="image/jpeg"/>
  <Override PartName="/ppt/media/image26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CE5-6275-4A24-8ACF-8FDB5633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F93-EFD5-4AE9-A4B9-1F255742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28B-A557-493B-8CAF-0253A9B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658-9EFB-41C4-A169-7368AE98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9AB-40CB-4388-A221-8631B4EA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2B3-6A95-4982-9320-E223F9C3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6D2-E3B6-4A57-A41C-1F02E570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70C-33BB-4080-AD98-B7AAA687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D46-B4D0-422B-8286-CD25553A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8C2-CAC4-4106-AFA5-7BFDE641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5C6-FAC8-4E1E-BCBD-769B040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4AF-05BF-411A-AF78-A726D80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EC54-1FAF-45A2-952C-6B19FAB2E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dust.ucoz.ru/_nw/0/7217185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ma-gama.ru/Core/Thumbnail?width=600&amp;height=337&amp;crop=True&amp;path=Products%2F54%2Ftip_1.jpg&amp;time=-8588893878024775808&amp;isPrivate=Fals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reetorr.com/r/screenshot/20/5c/a78be375d4531b4a740dabdc0cf90cdd.jpg?resize=300x200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etskie-kartinki.ru/detskie203.gif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72171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468360" y="620640"/>
            <a:ext cx="460836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егодня рано вста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егодня не до сн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скворцы вернулись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пришла вес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улице мороз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летит колюч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зут по облак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ых шубах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дём, весна, давным-дав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бродишь где-то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ебя ведь не придё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 лет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Thumbnail?width=600&amp;height=337&amp;crop=True&amp;path=Products%2F54%2Ftip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04000" cy="458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1080" y="51577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313280" y="4743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387080" y="55357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844360" y="522936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050360" y="46720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068720" y="5587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726160" y="53006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7238160" y="47959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238160" y="55879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8778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8102520" y="1555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8174520" y="24192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V="1">
            <a:off x="900000" y="508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90000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V="1">
            <a:off x="3564000" y="5013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3564000" y="55897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6659640" y="5589720"/>
            <a:ext cx="649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 flipV="1">
            <a:off x="6659640" y="5157360"/>
            <a:ext cx="649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766764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7667640" y="234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k_558"/>
          <p:cNvPicPr/>
          <p:nvPr/>
        </p:nvPicPr>
        <p:blipFill>
          <a:blip r:embed="rId1"/>
          <a:stretch/>
        </p:blipFill>
        <p:spPr>
          <a:xfrm>
            <a:off x="3492360" y="333360"/>
            <a:ext cx="2032200" cy="295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?id=399158070-68-72"/>
          <p:cNvPicPr/>
          <p:nvPr/>
        </p:nvPicPr>
        <p:blipFill>
          <a:blip r:embed="rId2"/>
          <a:stretch/>
        </p:blipFill>
        <p:spPr>
          <a:xfrm>
            <a:off x="179280" y="3860640"/>
            <a:ext cx="280836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329254817-34-72"/>
          <p:cNvPicPr/>
          <p:nvPr/>
        </p:nvPicPr>
        <p:blipFill>
          <a:blip r:embed="rId3"/>
          <a:stretch/>
        </p:blipFill>
        <p:spPr>
          <a:xfrm>
            <a:off x="5724360" y="189000"/>
            <a:ext cx="322920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?id=459030434-49-72"/>
          <p:cNvPicPr/>
          <p:nvPr/>
        </p:nvPicPr>
        <p:blipFill>
          <a:blip r:embed="rId4"/>
          <a:stretch/>
        </p:blipFill>
        <p:spPr>
          <a:xfrm>
            <a:off x="179280" y="260280"/>
            <a:ext cx="309744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277fdfc580dd"/>
          <p:cNvPicPr/>
          <p:nvPr/>
        </p:nvPicPr>
        <p:blipFill>
          <a:blip r:embed="rId5"/>
          <a:stretch/>
        </p:blipFill>
        <p:spPr>
          <a:xfrm>
            <a:off x="6300720" y="3860640"/>
            <a:ext cx="2664000" cy="258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handle?act=image"/>
          <p:cNvPicPr/>
          <p:nvPr/>
        </p:nvPicPr>
        <p:blipFill>
          <a:blip r:embed="rId6"/>
          <a:stretch/>
        </p:blipFill>
        <p:spPr>
          <a:xfrm>
            <a:off x="3276720" y="3860640"/>
            <a:ext cx="27381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arg-3-25-trans-y"/>
          <p:cNvPicPr/>
          <p:nvPr/>
        </p:nvPicPr>
        <p:blipFill>
          <a:blip r:embed="rId1"/>
          <a:stretch/>
        </p:blipFill>
        <p:spPr>
          <a:xfrm>
            <a:off x="468360" y="3860640"/>
            <a:ext cx="2590920" cy="21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arg-1-25-trans-y"/>
          <p:cNvPicPr/>
          <p:nvPr/>
        </p:nvPicPr>
        <p:blipFill>
          <a:blip r:embed="rId2"/>
          <a:stretch/>
        </p:blipFill>
        <p:spPr>
          <a:xfrm>
            <a:off x="6443640" y="4076640"/>
            <a:ext cx="2440080" cy="194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rg-2-25-trans-y"/>
          <p:cNvPicPr/>
          <p:nvPr/>
        </p:nvPicPr>
        <p:blipFill>
          <a:blip r:embed="rId3"/>
          <a:stretch/>
        </p:blipFill>
        <p:spPr>
          <a:xfrm>
            <a:off x="3348000" y="162864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arg-4-25-trans-y"/>
          <p:cNvPicPr/>
          <p:nvPr/>
        </p:nvPicPr>
        <p:blipFill>
          <a:blip r:embed="rId4"/>
          <a:stretch/>
        </p:blipFill>
        <p:spPr>
          <a:xfrm>
            <a:off x="395280" y="404640"/>
            <a:ext cx="2664000" cy="226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arg-5-25-trans-y"/>
          <p:cNvPicPr/>
          <p:nvPr/>
        </p:nvPicPr>
        <p:blipFill>
          <a:blip r:embed="rId5"/>
          <a:stretch/>
        </p:blipFill>
        <p:spPr>
          <a:xfrm>
            <a:off x="5940360" y="476280"/>
            <a:ext cx="2592360" cy="240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arg-6-25-trans-y"/>
          <p:cNvPicPr/>
          <p:nvPr/>
        </p:nvPicPr>
        <p:blipFill>
          <a:blip r:embed="rId6"/>
          <a:stretch/>
        </p:blipFill>
        <p:spPr>
          <a:xfrm>
            <a:off x="3780000" y="479736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3_md_wht"/>
          <p:cNvPicPr/>
          <p:nvPr/>
        </p:nvPicPr>
        <p:blipFill>
          <a:blip r:embed="rId7"/>
          <a:stretch/>
        </p:blipFill>
        <p:spPr>
          <a:xfrm>
            <a:off x="2268360" y="2852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2"/>
          <p:cNvPicPr/>
          <p:nvPr/>
        </p:nvPicPr>
        <p:blipFill>
          <a:blip r:embed="rId8"/>
          <a:stretch/>
        </p:blipFill>
        <p:spPr>
          <a:xfrm>
            <a:off x="4500720" y="189000"/>
            <a:ext cx="1531800" cy="153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5t"/>
          <p:cNvPicPr/>
          <p:nvPr/>
        </p:nvPicPr>
        <p:blipFill>
          <a:blip r:embed="rId9"/>
          <a:stretch/>
        </p:blipFill>
        <p:spPr>
          <a:xfrm>
            <a:off x="5364000" y="3357720"/>
            <a:ext cx="11862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683360" y="2781360"/>
            <a:ext cx="573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1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6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0 + 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2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5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2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3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3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4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4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5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6 +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h28"/>
          <p:cNvPicPr/>
          <p:nvPr/>
        </p:nvPicPr>
        <p:blipFill>
          <a:blip r:embed="rId1"/>
          <a:stretch/>
        </p:blipFill>
        <p:spPr>
          <a:xfrm>
            <a:off x="7236000" y="4005360"/>
            <a:ext cx="1699920" cy="331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59"/>
          <p:cNvPicPr/>
          <p:nvPr/>
        </p:nvPicPr>
        <p:blipFill>
          <a:blip r:embed="rId2"/>
          <a:stretch/>
        </p:blipFill>
        <p:spPr>
          <a:xfrm>
            <a:off x="755640" y="40464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3348000" y="54936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  2  3  4  5  6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95684_126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1763640" y="5877000"/>
            <a:ext cx="5724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о встречи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63240" y="4762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хозяином дружит, дом сторо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ет под крылечком, хвост колечк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71"/>
          <p:cNvPicPr/>
          <p:nvPr/>
        </p:nvPicPr>
        <p:blipFill>
          <a:blip r:embed="rId1"/>
          <a:stretch/>
        </p:blipFill>
        <p:spPr>
          <a:xfrm>
            <a:off x="684360" y="2421000"/>
            <a:ext cx="47512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0694 L 0.17917 0.00694 E">
                                      <p:cBhvr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6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755640" y="501336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О - БА - К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7" descr="201442726"/>
          <p:cNvPicPr/>
          <p:nvPr/>
        </p:nvPicPr>
        <p:blipFill>
          <a:blip r:embed="rId2"/>
          <a:stretch/>
        </p:blipFill>
        <p:spPr>
          <a:xfrm>
            <a:off x="2556000" y="620640"/>
            <a:ext cx="4114800" cy="4114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41800" y="404640"/>
            <a:ext cx="54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ac6cd"/>
                </a:solidFill>
                <a:latin typeface="Times New Roman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ОБА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25800" y="2492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ac6cd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41"/>
          <p:cNvPicPr/>
          <p:nvPr/>
        </p:nvPicPr>
        <p:blipFill>
          <a:blip r:embed="rId1"/>
          <a:stretch/>
        </p:blipFill>
        <p:spPr>
          <a:xfrm>
            <a:off x="3780000" y="3357720"/>
            <a:ext cx="5184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_C.avi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6160" cy="56880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508464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НО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13440" y="5157720"/>
            <a:ext cx="29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О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78be375d4531b4a740dabdc0cf90c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37000"/>
            <a:ext cx="3898800" cy="233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685800" y="189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Н    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    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detskie203">
            <a:hlinkClick r:id="rId3"/>
          </p:cNvPr>
          <p:cNvPicPr/>
          <p:nvPr/>
        </p:nvPicPr>
        <p:blipFill>
          <a:blip r:embed="rId4"/>
          <a:stretch/>
        </p:blipFill>
        <p:spPr>
          <a:xfrm rot="524400">
            <a:off x="5003640" y="333360"/>
            <a:ext cx="3648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765000"/>
          <a:ext cx="7920000" cy="5616720"/>
        </p:xfrm>
        <a:graphic>
          <a:graphicData uri="http://schemas.openxmlformats.org/drawingml/2006/table">
            <a:tbl>
              <a:tblPr/>
              <a:tblGrid>
                <a:gridCol w="909360"/>
                <a:gridCol w="2938680"/>
                <a:gridCol w="4071960"/>
              </a:tblGrid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22" descr="h39"/>
          <p:cNvPicPr/>
          <p:nvPr/>
        </p:nvPicPr>
        <p:blipFill>
          <a:blip r:embed="rId1"/>
          <a:stretch/>
        </p:blipFill>
        <p:spPr>
          <a:xfrm>
            <a:off x="5148360" y="2708280"/>
            <a:ext cx="2519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36 -0.00532 L -0.34236 -0.00532 E">
                                      <p:cBhvr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-0.06824 L -0.00381 0.26487 E">
                                      <p:cBhvr>
                                        <p:cTn id="14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4360" y="765000"/>
          <a:ext cx="7920000" cy="5616720"/>
        </p:xfrm>
        <a:graphic>
          <a:graphicData uri="http://schemas.openxmlformats.org/drawingml/2006/table">
            <a:tbl>
              <a:tblPr/>
              <a:tblGrid>
                <a:gridCol w="909360"/>
                <a:gridCol w="2938680"/>
                <a:gridCol w="4071960"/>
              </a:tblGrid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20" descr="h39"/>
          <p:cNvPicPr/>
          <p:nvPr/>
        </p:nvPicPr>
        <p:blipFill>
          <a:blip r:embed="rId1"/>
          <a:stretch/>
        </p:blipFill>
        <p:spPr>
          <a:xfrm>
            <a:off x="5219640" y="4581360"/>
            <a:ext cx="2519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77 -0.00532 L -0.38177 -0.00532 E">
                                      <p:cBhvr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6547 L 0.00416 -0.26764 E">
                                      <p:cBhvr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18:20Z</dcterms:created>
  <dc:creator>1</dc:creator>
  <dc:description/>
  <dc:language>en-US</dc:language>
  <cp:lastModifiedBy>Абдуллина</cp:lastModifiedBy>
  <dcterms:modified xsi:type="dcterms:W3CDTF">2017-03-18T05:36:40Z</dcterms:modified>
  <cp:revision>7</cp:revision>
  <dc:subject/>
  <dc:title>Слайд 1</dc:title>
</cp:coreProperties>
</file>