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EF80-B889-47AE-9310-8A77D343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F6FF-0018-494E-B369-4719E95F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13F8-777C-433D-8318-1096BBBC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982E-1158-41C8-A203-6D872C1D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3496-779D-4991-93EE-F9094886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E0F1-4C44-464C-8A9D-3829A8C2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039E-F82F-40E3-B384-90DF3B6C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82AD-77D0-4FB3-9DA3-E5C33C3E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B9F3-CE76-46BD-86AF-5333FBB8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C312-A258-4109-A4A8-6A7A1210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F0D2-1589-46C4-9739-5ECE5530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E169-D40B-4634-BFED-F82948A2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738B-4346-4F09-907D-A3400DB155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380880" y="685800"/>
            <a:ext cx="723924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00"/>
                </a:solidFill>
                <a:latin typeface="Times New Roman"/>
              </a:rPr>
              <a:t>Старинные             </a:t>
            </a:r>
            <a:r>
              <a:rPr b="1" lang="ru-RU" sz="8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8000" spc="-1" strike="noStrike">
                <a:solidFill>
                  <a:srgbClr val="cc0000"/>
                </a:solidFill>
                <a:latin typeface="Times New Roman"/>
              </a:rPr>
              <a:t>меры        </a:t>
            </a:r>
            <a:r>
              <a:rPr b="1" lang="ru-RU" sz="8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8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8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8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8000" spc="-1" strike="noStrike">
                <a:solidFill>
                  <a:srgbClr val="cc0000"/>
                </a:solidFill>
                <a:latin typeface="Times New Roman"/>
              </a:rPr>
              <a:t>    дли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Царёва Вик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5Б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2"/>
          <a:stretch/>
        </p:blipFill>
        <p:spPr>
          <a:xfrm>
            <a:off x="762120" y="3124080"/>
            <a:ext cx="175248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математика шабл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3886200" y="2133720"/>
            <a:ext cx="3886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Ладонь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ширина  кисти  р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( 6 – 7 с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Загад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Поутру- в  саже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в  полдень – с ладонь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А  к  вечеру – через  поле   хватает.                                            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(Те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3048120" cy="3914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AutoShape 8"/>
          <p:cNvSpPr/>
          <p:nvPr/>
        </p:nvSpPr>
        <p:spPr>
          <a:xfrm>
            <a:off x="5029200" y="457200"/>
            <a:ext cx="1752480" cy="863640"/>
          </a:xfrm>
          <a:prstGeom prst="wedgeRoundRectCallout">
            <a:avLst>
              <a:gd name="adj1" fmla="val -194111"/>
              <a:gd name="adj2" fmla="val 152388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адо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математика шабл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4419720" y="1523880"/>
            <a:ext cx="3047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00"/>
                </a:solidFill>
                <a:uFillTx/>
                <a:latin typeface="Times New Roman"/>
              </a:rPr>
              <a:t>Ярд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– расстояние  от  носа  человека  до  среднего  паль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вытянутой 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( 91см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3024000" cy="374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AutoShape 10"/>
          <p:cNvSpPr/>
          <p:nvPr/>
        </p:nvSpPr>
        <p:spPr>
          <a:xfrm>
            <a:off x="5181480" y="533520"/>
            <a:ext cx="1828800" cy="685800"/>
          </a:xfrm>
          <a:prstGeom prst="wedgeRoundRectCallout">
            <a:avLst>
              <a:gd name="adj1" fmla="val -172916"/>
              <a:gd name="adj2" fmla="val 170370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Яр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математика шабл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4343400" y="1905120"/>
            <a:ext cx="312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Arial"/>
              </a:rPr>
              <a:t>Фут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длина  ступ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( 30см 5мм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3384720" cy="3809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AutoShape 8"/>
          <p:cNvSpPr/>
          <p:nvPr/>
        </p:nvSpPr>
        <p:spPr>
          <a:xfrm>
            <a:off x="4114800" y="533520"/>
            <a:ext cx="1752480" cy="685800"/>
          </a:xfrm>
          <a:prstGeom prst="wedgeRoundRectCallout">
            <a:avLst>
              <a:gd name="adj1" fmla="val -141212"/>
              <a:gd name="adj2" fmla="val 184490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математика шабл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762120" y="38088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чему старинные меры  длины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шли   в  прошл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380880" y="1600200"/>
            <a:ext cx="754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Люди  </a:t>
            </a: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разные</a:t>
            </a: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.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Старинные  единицы дли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тоже  будут  </a:t>
            </a: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разные</a:t>
            </a: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. Меры  эти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не  современные</a:t>
            </a: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не  точные</a:t>
            </a: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6248520" y="3581280"/>
            <a:ext cx="152388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математика шабл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762120" y="1600200"/>
            <a:ext cx="6858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У  нас 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десятичная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  система    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счис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Вот  наши  современные   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единицы  д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1см = 10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1дм = 10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1м = 10 дм  или 10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1км = 1 000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533520" y="4572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сятичная  система  счис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5943600" y="3124080"/>
            <a:ext cx="175248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математика шабл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304920" y="685800"/>
            <a:ext cx="7467480" cy="63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Times New Roman"/>
              </a:rPr>
              <a:t>Учи  и  знай</a:t>
            </a:r>
            <a:r>
              <a:rPr b="0" lang="ru-RU" sz="4800" spc="-1" strike="noStrike">
                <a:solidFill>
                  <a:srgbClr val="cc0000"/>
                </a:solidFill>
                <a:latin typeface="Times New Roman"/>
              </a:rPr>
              <a:t>  единицы  длин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cc0000"/>
                </a:solidFill>
                <a:latin typeface="Times New Roman"/>
              </a:rPr>
              <a:t>Они  точны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00"/>
                </a:solidFill>
                <a:latin typeface="Times New Roman"/>
              </a:rPr>
              <a:t>Они  </a:t>
            </a: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0" lang="ru-RU" sz="4800" spc="-1" strike="noStrike">
                <a:solidFill>
                  <a:srgbClr val="cc0000"/>
                </a:solidFill>
                <a:latin typeface="Times New Roman"/>
              </a:rPr>
              <a:t>помогают</a:t>
            </a: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”</a:t>
            </a:r>
            <a:r>
              <a:rPr b="0" lang="ru-RU" sz="48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00"/>
                </a:solidFill>
                <a:latin typeface="Times New Roman"/>
              </a:rPr>
              <a:t>строить  корабли,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00"/>
                </a:solidFill>
                <a:latin typeface="Times New Roman"/>
              </a:rPr>
              <a:t>летать  в  космос,  конструировать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математика шабл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0301"/>
          <p:cNvPicPr/>
          <p:nvPr/>
        </p:nvPicPr>
        <p:blipFill>
          <a:blip r:embed="rId2"/>
          <a:stretch/>
        </p:blipFill>
        <p:spPr>
          <a:xfrm>
            <a:off x="5562720" y="3581280"/>
            <a:ext cx="2057400" cy="27432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0"/>
          <p:cNvSpPr/>
          <p:nvPr/>
        </p:nvSpPr>
        <p:spPr>
          <a:xfrm>
            <a:off x="380880" y="144720"/>
            <a:ext cx="7239240" cy="64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овицы и погово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Аршин да кафтан, да два на запла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Борода с вершок, а слов с меш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Врёт семь верст до небес, и все лесом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За семь верст комара искали, а комар — на носу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  </a:t>
            </a: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На три аршина в землю видит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  </a:t>
            </a: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Охотник за семь верст ходит киселя хлебать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Ты от правды на пядень, а она от тебя на сажень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Тянись верстой, да не будь просто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Зернышко пуд береж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Два вершка  от горшка, а уже указчик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Уступишь на пядь, потеряешь сажень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Сам с ноготок, а борода с локоток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Каждый купец на свой аршин меря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На аршин борода, да ума на пяд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Москва верстой далека, а сердцу ря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8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8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8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8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8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8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8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8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8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800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800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800"/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00" fill="hold"/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800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800"/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800"/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800" fill="hold"/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800"/>
                                        <p:tgtEl>
                                          <p:spTgt spid="1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1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800" fill="hold"/>
                                        <p:tgtEl>
                                          <p:spTgt spid="1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00" fill="hold"/>
                                        <p:tgtEl>
                                          <p:spTgt spid="1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математика шабл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609480" y="838080"/>
            <a:ext cx="70106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Times New Roman"/>
              </a:rPr>
              <a:t>Как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Times New Roman"/>
              </a:rPr>
              <a:t>люди измеряли  </a:t>
            </a:r>
            <a:br>
              <a:rPr sz="6600"/>
            </a:br>
            <a:r>
              <a:rPr b="1" lang="ru-RU" sz="6600" spc="-1" strike="noStrike">
                <a:solidFill>
                  <a:srgbClr val="cc0000"/>
                </a:solidFill>
                <a:latin typeface="Times New Roman"/>
              </a:rPr>
              <a:t>длину  раньше  </a:t>
            </a:r>
            <a:br>
              <a:rPr sz="6600"/>
            </a:br>
            <a:r>
              <a:rPr b="1" lang="ru-RU" sz="6600" spc="-1" strike="noStrike">
                <a:solidFill>
                  <a:srgbClr val="cc0000"/>
                </a:solidFill>
                <a:latin typeface="Times New Roman"/>
              </a:rPr>
              <a:t>и  как измеряют  теперь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228600" y="304920"/>
            <a:ext cx="7162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Историческая  спра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  незапамятных  времён  человеку  приходилось  измерять  расстояние  в  связи  с  изготовлением  простейших  орудий  труда,  со  строительством  жилищ  и  добыванием  пищи.  Подобно  тому,  как  при  счёте 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льзовался   пальцами   рук  и   ног,  так  и  при  измер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расстояний  он  прибегал  к  рукам  и  ногам.  Вот  почему в  прошлом  мерами  длины  служи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аг,  ладонь,  локо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5"/>
          <p:cNvSpPr/>
          <p:nvPr/>
        </p:nvSpPr>
        <p:spPr>
          <a:xfrm>
            <a:off x="990720" y="609480"/>
            <a:ext cx="1447560" cy="533520"/>
          </a:xfrm>
          <a:prstGeom prst="wedgeEllipseCallout">
            <a:avLst>
              <a:gd name="adj1" fmla="val 53949"/>
              <a:gd name="adj2" fmla="val 3610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7010280" y="1600200"/>
            <a:ext cx="1447920" cy="609480"/>
          </a:xfrm>
          <a:prstGeom prst="wedgeEllipseCallout">
            <a:avLst>
              <a:gd name="adj1" fmla="val -55703"/>
              <a:gd name="adj2" fmla="val 2429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ко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3581280" y="533520"/>
            <a:ext cx="1295640" cy="609480"/>
          </a:xfrm>
          <a:prstGeom prst="wedgeEllipseCallout">
            <a:avLst>
              <a:gd name="adj1" fmla="val 490"/>
              <a:gd name="adj2" fmla="val 2325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юй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6400800" y="5486400"/>
            <a:ext cx="1676520" cy="609480"/>
          </a:xfrm>
          <a:prstGeom prst="wedgeEllipseCallout">
            <a:avLst>
              <a:gd name="adj1" fmla="val -57199"/>
              <a:gd name="adj2" fmla="val -2945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до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5791320" y="762120"/>
            <a:ext cx="1523880" cy="609480"/>
          </a:xfrm>
          <a:prstGeom prst="wedgeEllipseCallout">
            <a:avLst>
              <a:gd name="adj1" fmla="val -50416"/>
              <a:gd name="adj2" fmla="val 245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ж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3505320" y="5715000"/>
            <a:ext cx="1676160" cy="685800"/>
          </a:xfrm>
          <a:prstGeom prst="wedgeEllipseCallout">
            <a:avLst>
              <a:gd name="adj1" fmla="val 189"/>
              <a:gd name="adj2" fmla="val -2393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ш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380880" y="5410080"/>
            <a:ext cx="1828800" cy="609840"/>
          </a:xfrm>
          <a:prstGeom prst="wedgeEllipseCallout">
            <a:avLst>
              <a:gd name="adj1" fmla="val 55208"/>
              <a:gd name="adj2" fmla="val -27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304920" y="1523880"/>
            <a:ext cx="1295280" cy="685800"/>
          </a:xfrm>
          <a:prstGeom prst="wedgeEllipseCallout">
            <a:avLst>
              <a:gd name="adj1" fmla="val 40685"/>
              <a:gd name="adj2" fmla="val 203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380880" y="1905120"/>
            <a:ext cx="7772400" cy="28954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таринные  меры  д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"/>
          <p:cNvSpPr/>
          <p:nvPr/>
        </p:nvSpPr>
        <p:spPr>
          <a:xfrm>
            <a:off x="4495680" y="1447920"/>
            <a:ext cx="3200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c0000"/>
                </a:solidFill>
                <a:uFillTx/>
                <a:latin typeface="Times New Roman"/>
              </a:rPr>
              <a:t>Локоть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расстояние   от  локт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до  кон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среднего  паль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( от  38 до 46 см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Послов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“ 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Нос  с  локоть, а  ума  с  ноготь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Зага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Сам  с  ногот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А  борода  с  локо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(Веник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3829320" cy="5397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2" name="AutoShape 10"/>
          <p:cNvSpPr/>
          <p:nvPr/>
        </p:nvSpPr>
        <p:spPr>
          <a:xfrm>
            <a:off x="4952880" y="228600"/>
            <a:ext cx="2210040" cy="863640"/>
          </a:xfrm>
          <a:prstGeom prst="wedgeRoundRectCallout">
            <a:avLst>
              <a:gd name="adj1" fmla="val -122842"/>
              <a:gd name="adj2" fmla="val 160662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Локо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4267080" y="1066680"/>
            <a:ext cx="3429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Сажень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–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это  расстояние  от  мизинца  одной   рук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до  мизинца   друго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при  вытянут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в  сторону  ру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( 152 см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Поговорка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Косая  сажень  в  плеч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3533760" cy="446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AutoShape 7"/>
          <p:cNvSpPr/>
          <p:nvPr/>
        </p:nvSpPr>
        <p:spPr>
          <a:xfrm>
            <a:off x="5105520" y="380880"/>
            <a:ext cx="2286000" cy="914400"/>
          </a:xfrm>
          <a:prstGeom prst="wedgeRoundRectCallout">
            <a:avLst>
              <a:gd name="adj1" fmla="val -142430"/>
              <a:gd name="adj2" fmla="val 159550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аж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4572000" y="1447920"/>
            <a:ext cx="3200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cc0000"/>
                </a:solidFill>
                <a:uFillTx/>
                <a:latin typeface="Times New Roman"/>
              </a:rPr>
              <a:t>Вершок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длина  указательного  пальц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( 6 см. 5 мм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1.Загад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Сам  с  верш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А  голова  с  горш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( Ковш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2.Загад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Наш  зверёк  с  вершок, а  хвост  с  локо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( Иголка  с  нит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2923920" cy="426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AutoShape 7"/>
          <p:cNvSpPr/>
          <p:nvPr/>
        </p:nvSpPr>
        <p:spPr>
          <a:xfrm>
            <a:off x="4800600" y="304920"/>
            <a:ext cx="2133720" cy="914400"/>
          </a:xfrm>
          <a:prstGeom prst="wedgeRoundRectCallout">
            <a:avLst>
              <a:gd name="adj1" fmla="val -136384"/>
              <a:gd name="adj2" fmla="val 141842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ершо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4114800" y="914400"/>
            <a:ext cx="320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Пядь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расстояние  между  концами  растянутых  пальцев(указатель ного  и  большо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( 17см 8м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Поговор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“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Семь  пядей  во  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лбу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3181320" cy="3809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AutoShape 7"/>
          <p:cNvSpPr/>
          <p:nvPr/>
        </p:nvSpPr>
        <p:spPr>
          <a:xfrm>
            <a:off x="4876920" y="457200"/>
            <a:ext cx="1752480" cy="863640"/>
          </a:xfrm>
          <a:prstGeom prst="wedgeRoundRectCallout">
            <a:avLst>
              <a:gd name="adj1" fmla="val -158606"/>
              <a:gd name="adj2" fmla="val 205328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яд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3886200" y="1752480"/>
            <a:ext cx="4038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0" i="1" lang="ru-RU" sz="2800" spc="-1" strike="noStrike">
                <a:solidFill>
                  <a:srgbClr val="cc0000"/>
                </a:solidFill>
                <a:latin typeface="Times New Roman"/>
              </a:rPr>
              <a:t>Дюйм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расстояние  одной               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фаланги  большого  паль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( 2см. 5мм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Есть  в  сказке  девочка   Дюймовоч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3000240" cy="4343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AutoShape 7"/>
          <p:cNvSpPr/>
          <p:nvPr/>
        </p:nvSpPr>
        <p:spPr>
          <a:xfrm>
            <a:off x="3886200" y="304920"/>
            <a:ext cx="2133720" cy="863640"/>
          </a:xfrm>
          <a:prstGeom prst="wedgeRoundRectCallout">
            <a:avLst>
              <a:gd name="adj1" fmla="val -90995"/>
              <a:gd name="adj2" fmla="val 347976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Дюйм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8T19:10:17Z</dcterms:created>
  <dc:creator>ASUS</dc:creator>
  <dc:description/>
  <dc:language>en-US</dc:language>
  <cp:lastModifiedBy>16</cp:lastModifiedBy>
  <dcterms:modified xsi:type="dcterms:W3CDTF">2019-09-16T07:10:5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