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913-008D-449C-BE84-75CBEDFB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E8D-EDB2-4723-92CC-BA696CD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9BB-BD45-4FEE-B38B-5808F061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9B8-E1F2-4FC8-BABD-C0CEB13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7E7-AF37-47D0-88A5-FF921BE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AF4-010E-48EB-8B85-2AFE749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FA8-0427-4998-B243-22549DE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A20-7430-46EE-BE6F-5590F24C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EF2-9ECF-424E-B988-6F013F97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82B-AC7B-45F9-80B2-10FAAE7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64D-21A3-47DF-8BB1-A57AFE17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904-7945-4ED2-9298-238DF80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774-C0C4-49DF-A742-E619393CD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80880" y="685800"/>
            <a:ext cx="7239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Старинные             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меры        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    дл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Царёв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5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17524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886200" y="2133720"/>
            <a:ext cx="38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адонь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ширина  кисти 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6 – 7 с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Загад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утру- в  саж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  полдень – с ладонь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А  к  вечеру – через  поле   хватает.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Т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391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AutoShape 8"/>
          <p:cNvSpPr/>
          <p:nvPr/>
        </p:nvSpPr>
        <p:spPr>
          <a:xfrm>
            <a:off x="5029200" y="457200"/>
            <a:ext cx="1752480" cy="863640"/>
          </a:xfrm>
          <a:prstGeom prst="wedgeRoundRectCallout">
            <a:avLst>
              <a:gd name="adj1" fmla="val -194111"/>
              <a:gd name="adj2" fmla="val 15238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419720" y="1523880"/>
            <a:ext cx="304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Ярд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– расстояние  от  носа  человека  до  среднего 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ытянутой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( 91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02400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AutoShape 10"/>
          <p:cNvSpPr/>
          <p:nvPr/>
        </p:nvSpPr>
        <p:spPr>
          <a:xfrm>
            <a:off x="5181480" y="533520"/>
            <a:ext cx="1828800" cy="685800"/>
          </a:xfrm>
          <a:prstGeom prst="wedgeRoundRectCallout">
            <a:avLst>
              <a:gd name="adj1" fmla="val -172916"/>
              <a:gd name="adj2" fmla="val 17037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343400" y="1905120"/>
            <a:ext cx="312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Фут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длина  ступ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( 30см 5м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3847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AutoShape 8"/>
          <p:cNvSpPr/>
          <p:nvPr/>
        </p:nvSpPr>
        <p:spPr>
          <a:xfrm>
            <a:off x="4114800" y="533520"/>
            <a:ext cx="1752480" cy="685800"/>
          </a:xfrm>
          <a:prstGeom prst="wedgeRoundRectCallout">
            <a:avLst>
              <a:gd name="adj1" fmla="val -141212"/>
              <a:gd name="adj2" fmla="val 18449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762120" y="3808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ему старинные меры  длины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ли   в  прошл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80880" y="160020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Люди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Старинные  единицы дл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тоже  будут  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з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 Меры  эт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  современ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е  точные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248520" y="3581280"/>
            <a:ext cx="1523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762120" y="160020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У  нас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десятичная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система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сч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Вот  наши  современные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единицы  д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см = 1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дм = 10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м = 10 дм  или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1км = 1 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3520" y="4572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ичная  система  сч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943600" y="3124080"/>
            <a:ext cx="175248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04920" y="685800"/>
            <a:ext cx="746748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Учи  и  знай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 единицы  длин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Они  точ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Они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помогают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строить  корабли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летать  в  космос,  конструиров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301"/>
          <p:cNvPicPr/>
          <p:nvPr/>
        </p:nvPicPr>
        <p:blipFill>
          <a:blip r:embed="rId2"/>
          <a:stretch/>
        </p:blipFill>
        <p:spPr>
          <a:xfrm>
            <a:off x="5562720" y="35812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380880" y="144720"/>
            <a:ext cx="723924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ы и погов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Аршин да кафтан, да два на запла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Борода с вершок, а слов с меш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Врёт семь верст до небес, и все лес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За семь верст комара искали, а комар — на нос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 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На три аршина в землю видит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 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Охотник за семь верст ходит киселя хлебат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Ты от правды на пядень, а она от тебя на сажен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Тянись верстой, да не будь прост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Зернышко пуд бере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Два вершка  от горшка, а уже указчи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Уступишь на пядь, потеряешь сажен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Сам с ноготок, а борода с локото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Каждый купец на свой аршин мер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На аршин борода, да ума на пя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990033"/>
                </a:solidFill>
                <a:latin typeface="Monotype Corsiva"/>
              </a:rPr>
              <a:t>Москва верстой далека, а сердцу ря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8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математика 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09480" y="838080"/>
            <a:ext cx="7010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Как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люди измеряли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длину  раньше  </a:t>
            </a:r>
            <a:br>
              <a:rPr sz="6600"/>
            </a:br>
            <a:r>
              <a:rPr b="1" lang="ru-RU" sz="6600" spc="-1" strike="noStrike">
                <a:solidFill>
                  <a:srgbClr val="cc0000"/>
                </a:solidFill>
                <a:latin typeface="Times New Roman"/>
              </a:rPr>
              <a:t>и  как измеряют  тепер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304920"/>
            <a:ext cx="71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сторическая  спра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  незапамятных  времён  человеку  приходилось  измерять  расстояние  в  связи  с  изготовлением  простейших  орудий  труда,  со  строительством  жилищ  и  добыванием  пищи.  Подобно  тому,  как  при  счёте 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ьзовался   пальцами   рук  и   ног,  так  и  при  изме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стояний  он  прибегал  к  рукам  и  ногам.  Вот  почему в  прошлом  мерами  длины  служи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г,  ладонь,  лок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5"/>
          <p:cNvSpPr/>
          <p:nvPr/>
        </p:nvSpPr>
        <p:spPr>
          <a:xfrm>
            <a:off x="990720" y="609480"/>
            <a:ext cx="1447560" cy="533520"/>
          </a:xfrm>
          <a:prstGeom prst="wedgeEllipseCallout">
            <a:avLst>
              <a:gd name="adj1" fmla="val 53949"/>
              <a:gd name="adj2" fmla="val 361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7010280" y="1600200"/>
            <a:ext cx="1447920" cy="609480"/>
          </a:xfrm>
          <a:prstGeom prst="wedgeEllipseCallout">
            <a:avLst>
              <a:gd name="adj1" fmla="val -55703"/>
              <a:gd name="adj2" fmla="val 242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3581280" y="533520"/>
            <a:ext cx="1295640" cy="609480"/>
          </a:xfrm>
          <a:prstGeom prst="wedgeEllipseCallout">
            <a:avLst>
              <a:gd name="adj1" fmla="val 490"/>
              <a:gd name="adj2" fmla="val 232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6400800" y="5486400"/>
            <a:ext cx="1676520" cy="609480"/>
          </a:xfrm>
          <a:prstGeom prst="wedgeEllipseCallout">
            <a:avLst>
              <a:gd name="adj1" fmla="val -57199"/>
              <a:gd name="adj2" fmla="val -294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791320" y="762120"/>
            <a:ext cx="1523880" cy="609480"/>
          </a:xfrm>
          <a:prstGeom prst="wedgeEllipseCallout">
            <a:avLst>
              <a:gd name="adj1" fmla="val -50416"/>
              <a:gd name="adj2" fmla="val 245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3505320" y="5715000"/>
            <a:ext cx="1676160" cy="685800"/>
          </a:xfrm>
          <a:prstGeom prst="wedgeEllipseCallout">
            <a:avLst>
              <a:gd name="adj1" fmla="val 189"/>
              <a:gd name="adj2" fmla="val -23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380880" y="5410080"/>
            <a:ext cx="1828800" cy="609840"/>
          </a:xfrm>
          <a:prstGeom prst="wedgeEllipseCallout">
            <a:avLst>
              <a:gd name="adj1" fmla="val 55208"/>
              <a:gd name="adj2" fmla="val -27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304920" y="1523880"/>
            <a:ext cx="1295280" cy="685800"/>
          </a:xfrm>
          <a:prstGeom prst="wedgeEllipseCallout">
            <a:avLst>
              <a:gd name="adj1" fmla="val 40685"/>
              <a:gd name="adj2" fmla="val 203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380880" y="1905120"/>
            <a:ext cx="7772400" cy="28954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ринные  меры 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4495680" y="1447920"/>
            <a:ext cx="3200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Times New Roman"/>
              </a:rPr>
              <a:t>Локоть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расстояние   от  локт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до  ко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реднего  па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от  38 до 46 см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Послов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“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Нос  с  локоть, а  ума  с  ноготь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Зага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ам  с  ного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А  борода  с  лок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Вен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82932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AutoShape 10"/>
          <p:cNvSpPr/>
          <p:nvPr/>
        </p:nvSpPr>
        <p:spPr>
          <a:xfrm>
            <a:off x="4952880" y="228600"/>
            <a:ext cx="2210040" cy="863640"/>
          </a:xfrm>
          <a:prstGeom prst="wedgeRoundRectCallout">
            <a:avLst>
              <a:gd name="adj1" fmla="val -122842"/>
              <a:gd name="adj2" fmla="val 16066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око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267080" y="106668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ажень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это  расстояние  от  мизинца  одной   ру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до  мизинца   друг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ри  вытяну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  сторону  ру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152 см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говорка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осая  сажень  в  плеч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53376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AutoShape 7"/>
          <p:cNvSpPr/>
          <p:nvPr/>
        </p:nvSpPr>
        <p:spPr>
          <a:xfrm>
            <a:off x="5105520" y="380880"/>
            <a:ext cx="2286000" cy="914400"/>
          </a:xfrm>
          <a:prstGeom prst="wedgeRoundRectCallout">
            <a:avLst>
              <a:gd name="adj1" fmla="val -142430"/>
              <a:gd name="adj2" fmla="val 159550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572000" y="1447920"/>
            <a:ext cx="320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cc0000"/>
                </a:solidFill>
                <a:uFillTx/>
                <a:latin typeface="Times New Roman"/>
              </a:rPr>
              <a:t>Вершок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длина  указательного  пальц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6 см. 5 м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1.Загад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ам  с  верш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А  голова  с  горш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Ковш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2.Загад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Наш  зверёк  с  вершок, а  хвост  с  лок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( Иголка  с  ни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923920" cy="426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AutoShape 7"/>
          <p:cNvSpPr/>
          <p:nvPr/>
        </p:nvSpPr>
        <p:spPr>
          <a:xfrm>
            <a:off x="4800600" y="304920"/>
            <a:ext cx="2133720" cy="914400"/>
          </a:xfrm>
          <a:prstGeom prst="wedgeRoundRectCallout">
            <a:avLst>
              <a:gd name="adj1" fmla="val -136384"/>
              <a:gd name="adj2" fmla="val 141842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рш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114800" y="914400"/>
            <a:ext cx="320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Пядь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расстояние  между  концами  растянутых  пальцев(указатель ного  и  больш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( 17см 8м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оговор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“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емь  пядей  во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лб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18132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AutoShape 7"/>
          <p:cNvSpPr/>
          <p:nvPr/>
        </p:nvSpPr>
        <p:spPr>
          <a:xfrm>
            <a:off x="4876920" y="457200"/>
            <a:ext cx="1752480" cy="863640"/>
          </a:xfrm>
          <a:prstGeom prst="wedgeRoundRectCallout">
            <a:avLst>
              <a:gd name="adj1" fmla="val -158606"/>
              <a:gd name="adj2" fmla="val 205328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886200" y="175248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Дюйм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расстояние  одной            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фаланги  большого  паль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( 2см. 5м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Есть  в  сказке  девочка   Дюймов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0024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AutoShape 7"/>
          <p:cNvSpPr/>
          <p:nvPr/>
        </p:nvSpPr>
        <p:spPr>
          <a:xfrm>
            <a:off x="3886200" y="304920"/>
            <a:ext cx="2133720" cy="863640"/>
          </a:xfrm>
          <a:prstGeom prst="wedgeRoundRectCallout">
            <a:avLst>
              <a:gd name="adj1" fmla="val -90995"/>
              <a:gd name="adj2" fmla="val 347976"/>
              <a:gd name="adj3" fmla="val 16667"/>
            </a:avLst>
          </a:prstGeom>
          <a:blipFill rotWithShape="0">
            <a:blip r:embed="rId3"/>
            <a:srcRect/>
            <a:stretch/>
          </a:blipFill>
          <a:ln cap="sq"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юй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9:10:17Z</dcterms:created>
  <dc:creator>ASUS</dc:creator>
  <dc:description/>
  <dc:language>en-US</dc:language>
  <cp:lastModifiedBy>16</cp:lastModifiedBy>
  <dcterms:modified xsi:type="dcterms:W3CDTF">2019-09-16T07:10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