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4B9E-A938-4975-A8C8-4A2544CD3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6247-7743-4C4A-809B-FB37B795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F4594C-778A-463C-BE0E-8B36C096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E3C83C-9727-47C1-8BFA-82BE4D72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B749B3-154F-43C7-B84B-D1620991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891642-B450-4C92-9AEB-E36C32A4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04A5DE-1C79-42C6-800B-437831C0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0D8513-E421-42F5-AD0C-8DC2F1B1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DD0755-7699-4E43-9CD6-1B33DE85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8A6411-DB29-4354-84A0-85225C1A6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EA5D64-E627-443E-98E3-E8DFA704D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80B8-1BB8-4CB8-89F9-A763F57C8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5AB4-1406-403E-9494-322D1D183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FC91-0E87-43DE-A304-EB46BC0A9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020C-4995-4354-B514-28BD1B14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88EB-E74F-48E4-B39C-AB733E51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65D3-46B6-4A21-8E04-CB5CFD60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E47D-C6C1-4025-91FA-9272DD63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37D5-E355-423B-8AC5-230045D0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38A6-E2D6-4453-A6A7-6B61B421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DAFC-2470-4C1E-B201-BEEA3BAB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FA9B-1924-4B6F-9428-2DB8DD82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3438-0EFF-4178-8155-45D89BAD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E46B-DD86-466B-BA8B-10AD4FFF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5A10-4598-4393-A3F3-305D6E0A4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F728-75E6-4587-B968-C12BD59F0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4DA2D-8AC5-4C0F-BA16-15B01FC0E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16C9F-D8DB-42DA-9CCB-BBB39B13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AF1CF-8485-43E4-910D-B7E9DDDF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EE80D-ABB1-45A4-94C9-7AE3CA57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509D1-4BFD-47BE-BD86-BD0B1405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A4CE-47A6-4C85-BA18-0769D3B2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4870C-A302-4C83-8124-A4CA455D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F50C5-FC86-44D9-AE28-95A7FF4A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86517-1566-4749-8DAA-F656D39D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66741-500C-4125-93D6-40DA3357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1CF59-EA8D-4CA4-82C6-61CE76E9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1C500-2E49-41A3-AD53-ECB900FEE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0A19D-B62D-4DEB-AAF7-22C8D85BD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C4020-3E8E-47E0-A49A-4255081A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4987E-27AA-45C8-B98D-D574CC6D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68250-D2C2-4B0C-B543-FBCEE9FF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8079-4400-4D9A-A729-10A6D480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907FE-13E2-458E-80D4-C4625D85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70A8A-CCEB-43DF-B6F9-668B410B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82B8E-487A-4456-9257-2206BA4E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5B751-2AAD-44BB-B53A-1DD377EC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5E8D2-1150-4BFE-BD95-C891E85F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8D974-52C6-492F-9447-956E399E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F7D3E-BF5F-4C8D-8F6D-65018B28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8D897-AB50-4C26-A4D3-37B23E3E3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B81E6-200A-4172-A16C-222DC18A9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0DD87-4A4C-4942-80B4-F4421FD64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932C-4EBF-4D4B-A350-2959888A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B918F-7D87-4B9F-8D46-F3CD6CEF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8458D-713E-4153-8F78-F5D77813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0F633-EFF6-4DCD-9F91-917194E5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AC63C-E238-402B-9822-FF83DBA7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D2790-A7F7-4501-B717-C515527B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0B3EE-AEE0-4CD1-95A6-24FA13B4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646D6-B7ED-4459-8B0C-1CDB73C1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0BF6C-1246-4FFB-AB25-D6CFC3D6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7FA27-5B0D-4A5A-942B-A20F84A1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5E928-3B8F-42FD-88BE-486FC2FEE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AC8C-A705-4569-A8D8-597CB6BA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9E107-DFC6-40A2-A6DC-593D60FA8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05466-DBF7-403D-A8C9-A077908F8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B8F1D-53FA-4D3A-80F7-4F6F1D06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76B0F-CB68-4968-A762-EF80DED2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B9E4F-8630-4582-BD08-C962F2DA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5CF07-2B4C-4101-9F04-1031D9FB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1C33A-69B3-4C7A-8723-7F253C54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F08F6-3FA0-4965-879B-A63C5198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89838-64D3-4296-8561-DBB05B04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89F28-A1E9-4F5E-AD1E-76DE2C22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AFE1-4932-4261-B5AF-C91164BE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051D3-E4C1-4F6D-9E3A-00E08709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012C7-4DA0-4CAF-AD68-0BC4D95FA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189DF-C34A-4369-81AE-035BF9033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877CA-4F11-4B13-BD54-90A619D13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9129C-F1D2-43E8-BA91-A927A4BC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E8435-7F69-4485-A2E1-24F029FB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654DD-E163-46EB-8201-40109464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60894-FB65-40E9-AF08-997718FF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38107-4541-4D1C-ACEB-6DC2B48A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4B123-FB46-40C9-96AF-4379C057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ACB7-2BC3-4690-B1D6-AF71A5E7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6F540-E025-4D77-93C3-BE7044A0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47CCA-2F7D-41AA-8D26-7AF48569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39CFA-3E16-466E-9654-4C4C672B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527CE-2A8E-4F7B-AA82-09C8029CE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F1268-790C-4404-ACE2-F92BBD582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34F38-7403-48D0-AC02-BA184A11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192D3-D0CE-4BD9-A796-6A97BBE0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42FCE-7291-4420-95E3-1FB98517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84D60-D9B7-4195-A3C1-6C7FBAAA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72FEC-9DC3-475F-BA26-856F1735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FE08-D001-4EEF-A38C-1B500D79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6EE22-83C6-4836-89E9-097F2737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D533D-42F1-4230-BD98-88EA677A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15C0A-7469-4973-A01C-E25524DE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EF658-7194-4957-96BD-855A924E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8AF32-5288-443C-ABE1-32E91117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E3CD2-CA6A-458B-9591-A18664F97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FB131-AAC6-4E24-995D-96F211959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F25203-8C0D-4BD3-A162-BAFA005E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0819A0-BC2B-4AB4-B3BB-99746E59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A9725E-DAA7-482A-8AC7-377F5B32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74C8-A8A3-4E19-A553-A0D0D9400032}" type="slidenum">
              <a:rPr b="0" lang="ru-RU" sz="12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0376-7399-441A-B30B-4B8D0A87358C}" type="slidenum">
              <a:rPr b="0" lang="ru-RU" sz="12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7800-2ACA-4798-85DA-209AFF7E5FE1}" type="slidenum">
              <a:rPr b="0" lang="ru-RU" sz="12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6235-163E-4CAB-AECB-E7C58D37AD49}" type="slidenum">
              <a:rPr b="0" lang="ru-RU" sz="12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B520-D86A-4858-8C8A-D5D75724FFE7}" type="slidenum">
              <a:rPr b="0" lang="ru-RU" sz="12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ED02-9877-46AA-8412-979A12EAFDF4}" type="slidenum">
              <a:rPr b="0" lang="ru-RU" sz="12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C873-E572-49BD-A62D-C276CDB86878}" type="slidenum">
              <a:rPr b="0" lang="ru-RU" sz="12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357C-2DE9-4A6B-BAC5-CCBCAD5E38FB}" type="slidenum">
              <a:rPr b="0" lang="ru-RU" sz="12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8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6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2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sldNum" idx="2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996F-AE57-4764-BE6B-8778A45D1394}" type="slidenum">
              <a:rPr b="0" lang="ru-RU" sz="12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dt" idx="2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58560" y="765000"/>
            <a:ext cx="7489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Современные педагогические технологии 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художественно-эстетического развития ребенка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5" name="Подзаголовок 2"/>
          <p:cNvSpPr/>
          <p:nvPr/>
        </p:nvSpPr>
        <p:spPr>
          <a:xfrm>
            <a:off x="0" y="5033880"/>
            <a:ext cx="898992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Подзаголовок 2"/>
          <p:cNvSpPr/>
          <p:nvPr/>
        </p:nvSpPr>
        <p:spPr>
          <a:xfrm>
            <a:off x="1709640" y="582480"/>
            <a:ext cx="7458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80640"/>
            <a:ext cx="8964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развития творчества детей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.Г. Григорьева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179280" y="1752480"/>
            <a:ext cx="8785440" cy="47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тво должно стать стилем жизни всей группы детского сада или класса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интересной жизни, эмоционально насыщенные впечатления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ая позиция педагогов при обучении детей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ние с искусством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индивидуальный особенностей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рудничество, вера в силы ребенка, оказание поддержки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ое использование методов и приемов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ировка заданий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жное отношение процессу и результату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ьные условия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71280" y="198360"/>
            <a:ext cx="79930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факторами, определяющими своеобразие детского изобразительного творчества, являются:</a:t>
            </a: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971280" y="1773360"/>
            <a:ext cx="799308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творческого воображения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ащение сенсорного опыта ребенка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эмоциональной отзывчивости на окружающую действительность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художественно – творческих способностей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ие детьми способов художественно – творческой деятельности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«ситуации успеха» (Белкин А.С.) при оценке продуктов творческой деятельности  детей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-3600" y="33480"/>
            <a:ext cx="8967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творчества в изобразительной деятельности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971640" y="1699920"/>
            <a:ext cx="7416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новение, развитие, осознание, оформление замысла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создания изображения (вынашивание и реализация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зультатов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С.Комаров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ЕТОДЫ СОДЕЙСТВИЯ РАЗВИТИЮ ТВОРЧЕСТВА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71280" y="115920"/>
            <a:ext cx="79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А. Ветлугина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адиционной технологии выделяет «творческие задания»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042560" y="1928880"/>
            <a:ext cx="79218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группа – творческие задания по образцу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группа – творческие задания на сотворчество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группа – творческие задания на самостоятельное творчество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9218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нсорно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едование предмета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971640" y="1557360"/>
          <a:ext cx="7921440" cy="5121360"/>
        </p:xfrm>
        <a:graphic>
          <a:graphicData uri="http://schemas.openxmlformats.org/drawingml/2006/table">
            <a:tbl>
              <a:tblPr/>
              <a:tblGrid>
                <a:gridCol w="4076640"/>
                <a:gridCol w="3844800"/>
              </a:tblGrid>
              <a:tr h="438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f271c"/>
                          </a:solidFill>
                          <a:latin typeface="Times New Roman"/>
                          <a:ea typeface="Times New Roman"/>
                        </a:rPr>
                        <a:t>Этапы сенсорного обслед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f271c"/>
                          </a:solidFill>
                          <a:latin typeface="Times New Roman"/>
                          <a:ea typeface="Times New Roman"/>
                        </a:rPr>
                        <a:t>Речь педагог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Целостное восприятие (эмоциональное, с называнием эстетических характеристик предмет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мотрите, какой красивый мишка к нам пришел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1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Вычленение основных частей и их формы (с обязательным обрисовывающим жестом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есть у мишки? Какой оно формы? Еще что еще есть у мишки? и т.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Сравнение основных частей между собой по величине и месту поло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больше: туловище или голова? Где расположена голова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7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Вычленение дополнительных частей или деталей с вычленением и называнием их формы, количества, величины, местополож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язательно использовать обрисовывающий жест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еще есть у мишки? Сколько их? Какой формы? Где расположены? Какие больше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Целостное восприятие предмета с установкой на его изображе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т такого мишку мы сейчас будем рисова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«ТРИЗ»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.С.Альтшулле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042920" y="1980720"/>
            <a:ext cx="7632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универсальная методическая система, которая сочетает познавательную деятельность с методами активизации и развития мышления, что позволяет ребенку решать творческие и социальные задачи самостоятельно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72314"/>
                </a:solidFill>
                <a:latin typeface="Corbel"/>
              </a:rPr>
              <a:t>Принципы технологии ТРИЗ: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68000" y="2060280"/>
            <a:ext cx="8070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нятие психологического барьера перед неизвестными проблемами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гуманистический характер обучения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формирование нестандартного образа мышления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актико-ориентированное внедрение идей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572314"/>
                </a:solidFill>
                <a:latin typeface="Corbel"/>
              </a:rPr>
              <a:t>технология ТРИЗ </a:t>
            </a:r>
            <a:r>
              <a:rPr b="1" lang="ru-RU" sz="2700" spc="-1" strike="noStrike">
                <a:solidFill>
                  <a:srgbClr val="572314"/>
                </a:solidFill>
                <a:latin typeface="Corbel"/>
              </a:rPr>
              <a:t>формирует у детей такие мыслительные способности, как:</a:t>
            </a:r>
            <a:endParaRPr b="0" lang="en-US" sz="2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68000" y="2060280"/>
            <a:ext cx="8070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мение анализировать, рассуждать, обосновывать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мение  обобщать, делать выводы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мение оригинально и гибко мыслить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мение активно использовать воображение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921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«фокальных объектов»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1116000" y="1701720"/>
          <a:ext cx="7777080" cy="4973760"/>
        </p:xfrm>
        <a:graphic>
          <a:graphicData uri="http://schemas.openxmlformats.org/drawingml/2006/table">
            <a:tbl>
              <a:tblPr/>
              <a:tblGrid>
                <a:gridCol w="3887640"/>
                <a:gridCol w="3889440"/>
              </a:tblGrid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271c"/>
                          </a:solidFill>
                          <a:latin typeface="Times New Roman"/>
                          <a:ea typeface="Times New Roman"/>
                        </a:rPr>
                        <a:t>Качества объекта в фокус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271c"/>
                          </a:solidFill>
                          <a:latin typeface="Times New Roman"/>
                          <a:ea typeface="Times New Roman"/>
                        </a:rPr>
                        <a:t>(например: ель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271c"/>
                          </a:solidFill>
                          <a:latin typeface="Times New Roman"/>
                          <a:ea typeface="Times New Roman"/>
                        </a:rPr>
                        <a:t>Качества фантастического животно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2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971280" y="692280"/>
            <a:ext cx="76914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- это совокупность приемов, применяемых в каком-либо деле, мастерстве, искусстве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олковый словарь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ая технология - совокупность психолого-педагогических установок, определяющих специальный набор и компоновку форм, методов, способов, приемов обучения, воспитательных средств; она есть организационно-методический инструментарий педагогического процесс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.Т.Лихачев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ая технология - это содержательная техника реализации учебного процесс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.П.Беспалько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ая технология - это описание процесса достижения планируемых результатов обучения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.П.Волков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921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«фокальных объектов»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971640" y="1700280"/>
          <a:ext cx="7921440" cy="4975200"/>
        </p:xfrm>
        <a:graphic>
          <a:graphicData uri="http://schemas.openxmlformats.org/drawingml/2006/table">
            <a:tbl>
              <a:tblPr/>
              <a:tblGrid>
                <a:gridCol w="3960720"/>
                <a:gridCol w="3960720"/>
              </a:tblGrid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271c"/>
                          </a:solidFill>
                          <a:latin typeface="Times New Roman"/>
                          <a:ea typeface="Times New Roman"/>
                        </a:rPr>
                        <a:t>Качества объекта в фокус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271c"/>
                          </a:solidFill>
                          <a:latin typeface="Times New Roman"/>
                          <a:ea typeface="Times New Roman"/>
                        </a:rPr>
                        <a:t>(например: ель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271c"/>
                          </a:solidFill>
                          <a:latin typeface="Times New Roman"/>
                          <a:ea typeface="Times New Roman"/>
                        </a:rPr>
                        <a:t>Качества фантастического животно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юч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ойчив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яд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мат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921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«фокальных объектов»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042920" y="1197000"/>
          <a:ext cx="7850160" cy="5888160"/>
        </p:xfrm>
        <a:graphic>
          <a:graphicData uri="http://schemas.openxmlformats.org/drawingml/2006/table">
            <a:tbl>
              <a:tblPr/>
              <a:tblGrid>
                <a:gridCol w="3925800"/>
                <a:gridCol w="3924360"/>
              </a:tblGrid>
              <a:tr h="1500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271c"/>
                          </a:solidFill>
                          <a:latin typeface="Times New Roman"/>
                          <a:ea typeface="Times New Roman"/>
                        </a:rPr>
                        <a:t>Качества объекта в фокус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271c"/>
                          </a:solidFill>
                          <a:latin typeface="Times New Roman"/>
                          <a:ea typeface="Times New Roman"/>
                        </a:rPr>
                        <a:t>(например: ель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271c"/>
                          </a:solidFill>
                          <a:latin typeface="Times New Roman"/>
                          <a:ea typeface="Times New Roman"/>
                        </a:rPr>
                        <a:t>Качества фантастического животно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юч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ойчив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яд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мат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рыто колючками, жесткой шерсть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рсть зеленого цве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громные лапы, с трудом их передвигае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отное огромное, высо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шерсти яркие пят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рсть длинная, лохмат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931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рование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1042920" y="836280"/>
            <a:ext cx="78501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 для определения места линии горизонт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 для понимания способов передачи глубины пространств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 для понимания способов выделение в рисунке сюжетно – композиционного центр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ы взаимодействия героев в двухфигурной композиции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многофигурной композиции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 для определения времени года, погоды и др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71280" y="151920"/>
            <a:ext cx="79930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1</a:t>
            </a:r>
            <a:r>
              <a:rPr b="0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. Модели для определения места линий горизонта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457" name="Группа 1"/>
          <p:cNvGrpSpPr/>
          <p:nvPr/>
        </p:nvGrpSpPr>
        <p:grpSpPr>
          <a:xfrm>
            <a:off x="177840" y="2347920"/>
            <a:ext cx="2665440" cy="1657440"/>
            <a:chOff x="177840" y="2347920"/>
            <a:chExt cx="2665440" cy="1657440"/>
          </a:xfrm>
        </p:grpSpPr>
        <p:sp>
          <p:nvSpPr>
            <p:cNvPr id="458" name="Rectangle 5"/>
            <p:cNvSpPr/>
            <p:nvPr/>
          </p:nvSpPr>
          <p:spPr>
            <a:xfrm>
              <a:off x="177840" y="2347920"/>
              <a:ext cx="2664000" cy="165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" name="Line 8"/>
            <p:cNvSpPr/>
            <p:nvPr/>
          </p:nvSpPr>
          <p:spPr>
            <a:xfrm>
              <a:off x="177840" y="2852640"/>
              <a:ext cx="266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0" name="Группа 2"/>
          <p:cNvGrpSpPr/>
          <p:nvPr/>
        </p:nvGrpSpPr>
        <p:grpSpPr>
          <a:xfrm>
            <a:off x="3203640" y="2347920"/>
            <a:ext cx="2665440" cy="1657440"/>
            <a:chOff x="3203640" y="2347920"/>
            <a:chExt cx="2665440" cy="1657440"/>
          </a:xfrm>
        </p:grpSpPr>
        <p:sp>
          <p:nvSpPr>
            <p:cNvPr id="461" name="Rectangle 6"/>
            <p:cNvSpPr/>
            <p:nvPr/>
          </p:nvSpPr>
          <p:spPr>
            <a:xfrm>
              <a:off x="3203640" y="2347920"/>
              <a:ext cx="2664000" cy="165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" name="Line 9"/>
            <p:cNvSpPr/>
            <p:nvPr/>
          </p:nvSpPr>
          <p:spPr>
            <a:xfrm>
              <a:off x="3203640" y="2563560"/>
              <a:ext cx="266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3" name="Группа 3"/>
          <p:cNvGrpSpPr/>
          <p:nvPr/>
        </p:nvGrpSpPr>
        <p:grpSpPr>
          <a:xfrm>
            <a:off x="6227640" y="2347920"/>
            <a:ext cx="2665440" cy="1657440"/>
            <a:chOff x="6227640" y="2347920"/>
            <a:chExt cx="2665440" cy="1657440"/>
          </a:xfrm>
        </p:grpSpPr>
        <p:sp>
          <p:nvSpPr>
            <p:cNvPr id="464" name="Rectangle 7"/>
            <p:cNvSpPr/>
            <p:nvPr/>
          </p:nvSpPr>
          <p:spPr>
            <a:xfrm>
              <a:off x="6227640" y="2347920"/>
              <a:ext cx="2664000" cy="165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" name="Line 10"/>
            <p:cNvSpPr/>
            <p:nvPr/>
          </p:nvSpPr>
          <p:spPr>
            <a:xfrm>
              <a:off x="6227640" y="3645000"/>
              <a:ext cx="266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6" name="Text Box 11"/>
          <p:cNvSpPr/>
          <p:nvPr/>
        </p:nvSpPr>
        <p:spPr>
          <a:xfrm>
            <a:off x="179280" y="4456080"/>
            <a:ext cx="266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редняя линия горизон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12"/>
          <p:cNvSpPr/>
          <p:nvPr/>
        </p:nvSpPr>
        <p:spPr>
          <a:xfrm>
            <a:off x="3132000" y="445608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сокая линия горизон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Text Box 13"/>
          <p:cNvSpPr/>
          <p:nvPr/>
        </p:nvSpPr>
        <p:spPr>
          <a:xfrm>
            <a:off x="6229440" y="4456080"/>
            <a:ext cx="26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изкая линия горизон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41400"/>
            <a:ext cx="9036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2. Модели для понимания способов передачи глубины пространства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470" name="Группа 3"/>
          <p:cNvGrpSpPr/>
          <p:nvPr/>
        </p:nvGrpSpPr>
        <p:grpSpPr>
          <a:xfrm>
            <a:off x="5299200" y="4481640"/>
            <a:ext cx="3024000" cy="1224000"/>
            <a:chOff x="5299200" y="4481640"/>
            <a:chExt cx="3024000" cy="1224000"/>
          </a:xfrm>
        </p:grpSpPr>
        <p:sp>
          <p:nvSpPr>
            <p:cNvPr id="471" name="Rectangle 6"/>
            <p:cNvSpPr/>
            <p:nvPr/>
          </p:nvSpPr>
          <p:spPr>
            <a:xfrm>
              <a:off x="5299200" y="4481640"/>
              <a:ext cx="3024000" cy="122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Line 10"/>
            <p:cNvSpPr/>
            <p:nvPr/>
          </p:nvSpPr>
          <p:spPr>
            <a:xfrm>
              <a:off x="5299200" y="4697280"/>
              <a:ext cx="30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" name="Freeform 17"/>
            <p:cNvSpPr/>
            <p:nvPr/>
          </p:nvSpPr>
          <p:spPr>
            <a:xfrm>
              <a:off x="5875200" y="4768920"/>
              <a:ext cx="1376280" cy="836640"/>
            </a:xfrm>
            <a:custGeom>
              <a:avLst/>
              <a:gdLst>
                <a:gd name="textAreaLeft" fmla="*/ 0 w 1376280"/>
                <a:gd name="textAreaRight" fmla="*/ 1376640 w 1376280"/>
                <a:gd name="textAreaTop" fmla="*/ 0 h 836640"/>
                <a:gd name="textAreaBottom" fmla="*/ 837000 h 836640"/>
              </a:gdLst>
              <a:ahLst/>
              <a:rect l="textAreaLeft" t="textAreaTop" r="textAreaRight" b="textAreaBottom"/>
              <a:pathLst>
                <a:path w="867" h="508">
                  <a:moveTo>
                    <a:pt x="0" y="508"/>
                  </a:moveTo>
                  <a:cubicBezTo>
                    <a:pt x="20" y="477"/>
                    <a:pt x="22" y="435"/>
                    <a:pt x="47" y="407"/>
                  </a:cubicBezTo>
                  <a:cubicBezTo>
                    <a:pt x="47" y="407"/>
                    <a:pt x="98" y="356"/>
                    <a:pt x="108" y="346"/>
                  </a:cubicBezTo>
                  <a:cubicBezTo>
                    <a:pt x="114" y="340"/>
                    <a:pt x="116" y="331"/>
                    <a:pt x="122" y="325"/>
                  </a:cubicBezTo>
                  <a:cubicBezTo>
                    <a:pt x="158" y="293"/>
                    <a:pt x="205" y="277"/>
                    <a:pt x="244" y="251"/>
                  </a:cubicBezTo>
                  <a:cubicBezTo>
                    <a:pt x="274" y="231"/>
                    <a:pt x="291" y="202"/>
                    <a:pt x="325" y="190"/>
                  </a:cubicBezTo>
                  <a:cubicBezTo>
                    <a:pt x="404" y="111"/>
                    <a:pt x="530" y="114"/>
                    <a:pt x="630" y="82"/>
                  </a:cubicBezTo>
                  <a:cubicBezTo>
                    <a:pt x="659" y="73"/>
                    <a:pt x="683" y="53"/>
                    <a:pt x="711" y="41"/>
                  </a:cubicBezTo>
                  <a:cubicBezTo>
                    <a:pt x="754" y="22"/>
                    <a:pt x="820" y="0"/>
                    <a:pt x="86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4" name="Freeform 21"/>
            <p:cNvSpPr/>
            <p:nvPr/>
          </p:nvSpPr>
          <p:spPr>
            <a:xfrm>
              <a:off x="6745320" y="4745160"/>
              <a:ext cx="852480" cy="93672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537" h="590">
                  <a:moveTo>
                    <a:pt x="0" y="590"/>
                  </a:moveTo>
                  <a:cubicBezTo>
                    <a:pt x="15" y="542"/>
                    <a:pt x="8" y="563"/>
                    <a:pt x="20" y="529"/>
                  </a:cubicBezTo>
                  <a:cubicBezTo>
                    <a:pt x="22" y="522"/>
                    <a:pt x="27" y="509"/>
                    <a:pt x="27" y="509"/>
                  </a:cubicBezTo>
                  <a:cubicBezTo>
                    <a:pt x="34" y="460"/>
                    <a:pt x="46" y="420"/>
                    <a:pt x="74" y="380"/>
                  </a:cubicBezTo>
                  <a:cubicBezTo>
                    <a:pt x="86" y="345"/>
                    <a:pt x="105" y="326"/>
                    <a:pt x="135" y="305"/>
                  </a:cubicBezTo>
                  <a:cubicBezTo>
                    <a:pt x="154" y="278"/>
                    <a:pt x="183" y="275"/>
                    <a:pt x="210" y="258"/>
                  </a:cubicBezTo>
                  <a:cubicBezTo>
                    <a:pt x="245" y="201"/>
                    <a:pt x="200" y="264"/>
                    <a:pt x="243" y="231"/>
                  </a:cubicBezTo>
                  <a:cubicBezTo>
                    <a:pt x="284" y="199"/>
                    <a:pt x="313" y="159"/>
                    <a:pt x="365" y="143"/>
                  </a:cubicBezTo>
                  <a:cubicBezTo>
                    <a:pt x="395" y="123"/>
                    <a:pt x="411" y="94"/>
                    <a:pt x="440" y="75"/>
                  </a:cubicBezTo>
                  <a:cubicBezTo>
                    <a:pt x="459" y="49"/>
                    <a:pt x="486" y="28"/>
                    <a:pt x="515" y="14"/>
                  </a:cubicBezTo>
                  <a:cubicBezTo>
                    <a:pt x="537" y="3"/>
                    <a:pt x="535" y="15"/>
                    <a:pt x="5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5" name="Группа 1"/>
          <p:cNvGrpSpPr/>
          <p:nvPr/>
        </p:nvGrpSpPr>
        <p:grpSpPr>
          <a:xfrm>
            <a:off x="539640" y="2133720"/>
            <a:ext cx="3024360" cy="1224000"/>
            <a:chOff x="539640" y="2133720"/>
            <a:chExt cx="3024360" cy="1224000"/>
          </a:xfrm>
        </p:grpSpPr>
        <p:sp>
          <p:nvSpPr>
            <p:cNvPr id="476" name="Rectangle 5"/>
            <p:cNvSpPr/>
            <p:nvPr/>
          </p:nvSpPr>
          <p:spPr>
            <a:xfrm>
              <a:off x="539640" y="2133720"/>
              <a:ext cx="3024360" cy="122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" name="Line 9"/>
            <p:cNvSpPr/>
            <p:nvPr/>
          </p:nvSpPr>
          <p:spPr>
            <a:xfrm>
              <a:off x="539640" y="2565360"/>
              <a:ext cx="30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" name="AutoShape 22"/>
            <p:cNvSpPr/>
            <p:nvPr/>
          </p:nvSpPr>
          <p:spPr>
            <a:xfrm>
              <a:off x="971280" y="2349360"/>
              <a:ext cx="215640" cy="503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" name="AutoShape 23"/>
            <p:cNvSpPr/>
            <p:nvPr/>
          </p:nvSpPr>
          <p:spPr>
            <a:xfrm>
              <a:off x="1834920" y="2205000"/>
              <a:ext cx="504720" cy="863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" name="AutoShape 25"/>
            <p:cNvSpPr/>
            <p:nvPr/>
          </p:nvSpPr>
          <p:spPr>
            <a:xfrm>
              <a:off x="3132360" y="2276640"/>
              <a:ext cx="360360" cy="576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1" name="Группа 2"/>
          <p:cNvGrpSpPr/>
          <p:nvPr/>
        </p:nvGrpSpPr>
        <p:grpSpPr>
          <a:xfrm>
            <a:off x="5297400" y="2133720"/>
            <a:ext cx="3025800" cy="1224000"/>
            <a:chOff x="5297400" y="2133720"/>
            <a:chExt cx="3025800" cy="1224000"/>
          </a:xfrm>
        </p:grpSpPr>
        <p:sp>
          <p:nvSpPr>
            <p:cNvPr id="482" name="Rectangle 8"/>
            <p:cNvSpPr/>
            <p:nvPr/>
          </p:nvSpPr>
          <p:spPr>
            <a:xfrm>
              <a:off x="5297400" y="2133720"/>
              <a:ext cx="3025800" cy="122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" name="Line 12"/>
            <p:cNvSpPr/>
            <p:nvPr/>
          </p:nvSpPr>
          <p:spPr>
            <a:xfrm>
              <a:off x="5297400" y="2421000"/>
              <a:ext cx="302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" name="AutoShape 26"/>
            <p:cNvSpPr/>
            <p:nvPr/>
          </p:nvSpPr>
          <p:spPr>
            <a:xfrm>
              <a:off x="5800680" y="2205000"/>
              <a:ext cx="432000" cy="792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" name="AutoShape 27"/>
            <p:cNvSpPr/>
            <p:nvPr/>
          </p:nvSpPr>
          <p:spPr>
            <a:xfrm>
              <a:off x="7386120" y="2349360"/>
              <a:ext cx="360360" cy="792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6" name="Группа 4"/>
          <p:cNvGrpSpPr/>
          <p:nvPr/>
        </p:nvGrpSpPr>
        <p:grpSpPr>
          <a:xfrm>
            <a:off x="539640" y="4481640"/>
            <a:ext cx="3024360" cy="1224000"/>
            <a:chOff x="539640" y="4481640"/>
            <a:chExt cx="3024360" cy="1224000"/>
          </a:xfrm>
        </p:grpSpPr>
        <p:sp>
          <p:nvSpPr>
            <p:cNvPr id="487" name="Rectangle 7"/>
            <p:cNvSpPr/>
            <p:nvPr/>
          </p:nvSpPr>
          <p:spPr>
            <a:xfrm>
              <a:off x="539640" y="4481640"/>
              <a:ext cx="3024360" cy="122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" name="Line 11"/>
            <p:cNvSpPr/>
            <p:nvPr/>
          </p:nvSpPr>
          <p:spPr>
            <a:xfrm>
              <a:off x="539640" y="4913280"/>
              <a:ext cx="30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9" name="Freeform 15"/>
            <p:cNvSpPr/>
            <p:nvPr/>
          </p:nvSpPr>
          <p:spPr>
            <a:xfrm>
              <a:off x="752400" y="4552920"/>
              <a:ext cx="1947960" cy="288720"/>
            </a:xfrm>
            <a:custGeom>
              <a:avLst/>
              <a:gdLst>
                <a:gd name="textAreaLeft" fmla="*/ 0 w 1947960"/>
                <a:gd name="textAreaRight" fmla="*/ 1948320 w 194796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861" h="176">
                  <a:moveTo>
                    <a:pt x="0" y="0"/>
                  </a:moveTo>
                  <a:cubicBezTo>
                    <a:pt x="66" y="2"/>
                    <a:pt x="131" y="3"/>
                    <a:pt x="197" y="7"/>
                  </a:cubicBezTo>
                  <a:cubicBezTo>
                    <a:pt x="232" y="9"/>
                    <a:pt x="279" y="34"/>
                    <a:pt x="312" y="41"/>
                  </a:cubicBezTo>
                  <a:cubicBezTo>
                    <a:pt x="373" y="54"/>
                    <a:pt x="425" y="63"/>
                    <a:pt x="488" y="68"/>
                  </a:cubicBezTo>
                  <a:cubicBezTo>
                    <a:pt x="543" y="82"/>
                    <a:pt x="595" y="99"/>
                    <a:pt x="651" y="109"/>
                  </a:cubicBezTo>
                  <a:cubicBezTo>
                    <a:pt x="704" y="135"/>
                    <a:pt x="654" y="114"/>
                    <a:pt x="746" y="129"/>
                  </a:cubicBezTo>
                  <a:cubicBezTo>
                    <a:pt x="767" y="132"/>
                    <a:pt x="781" y="147"/>
                    <a:pt x="800" y="156"/>
                  </a:cubicBezTo>
                  <a:cubicBezTo>
                    <a:pt x="813" y="162"/>
                    <a:pt x="827" y="166"/>
                    <a:pt x="841" y="170"/>
                  </a:cubicBezTo>
                  <a:cubicBezTo>
                    <a:pt x="848" y="172"/>
                    <a:pt x="861" y="176"/>
                    <a:pt x="861" y="1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" name="AutoShape 28"/>
            <p:cNvSpPr/>
            <p:nvPr/>
          </p:nvSpPr>
          <p:spPr>
            <a:xfrm>
              <a:off x="1476360" y="4552920"/>
              <a:ext cx="287280" cy="504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1" name="Oval 29"/>
            <p:cNvSpPr/>
            <p:nvPr/>
          </p:nvSpPr>
          <p:spPr>
            <a:xfrm>
              <a:off x="1042920" y="4626000"/>
              <a:ext cx="288720" cy="43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" name="Line 33"/>
            <p:cNvSpPr/>
            <p:nvPr/>
          </p:nvSpPr>
          <p:spPr>
            <a:xfrm>
              <a:off x="1187280" y="50580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Line 34"/>
            <p:cNvSpPr/>
            <p:nvPr/>
          </p:nvSpPr>
          <p:spPr>
            <a:xfrm>
              <a:off x="1619280" y="50580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AutoShape 35"/>
            <p:cNvSpPr/>
            <p:nvPr/>
          </p:nvSpPr>
          <p:spPr>
            <a:xfrm>
              <a:off x="2843280" y="4552920"/>
              <a:ext cx="576360" cy="936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" name="Line 38"/>
            <p:cNvSpPr/>
            <p:nvPr/>
          </p:nvSpPr>
          <p:spPr>
            <a:xfrm>
              <a:off x="3132360" y="455292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" name="Freeform 41"/>
            <p:cNvSpPr/>
            <p:nvPr/>
          </p:nvSpPr>
          <p:spPr>
            <a:xfrm>
              <a:off x="2882880" y="5251680"/>
              <a:ext cx="247680" cy="13968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56" h="88">
                  <a:moveTo>
                    <a:pt x="0" y="88"/>
                  </a:moveTo>
                  <a:cubicBezTo>
                    <a:pt x="5" y="81"/>
                    <a:pt x="7" y="72"/>
                    <a:pt x="14" y="68"/>
                  </a:cubicBezTo>
                  <a:cubicBezTo>
                    <a:pt x="26" y="60"/>
                    <a:pt x="42" y="62"/>
                    <a:pt x="54" y="54"/>
                  </a:cubicBezTo>
                  <a:cubicBezTo>
                    <a:pt x="68" y="45"/>
                    <a:pt x="81" y="36"/>
                    <a:pt x="95" y="27"/>
                  </a:cubicBezTo>
                  <a:cubicBezTo>
                    <a:pt x="103" y="22"/>
                    <a:pt x="156" y="18"/>
                    <a:pt x="1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7" name="Freeform 42"/>
            <p:cNvSpPr/>
            <p:nvPr/>
          </p:nvSpPr>
          <p:spPr>
            <a:xfrm>
              <a:off x="3130560" y="5272200"/>
              <a:ext cx="258480" cy="7596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63" h="48">
                  <a:moveTo>
                    <a:pt x="0" y="0"/>
                  </a:moveTo>
                  <a:cubicBezTo>
                    <a:pt x="43" y="9"/>
                    <a:pt x="125" y="48"/>
                    <a:pt x="163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8" name="Freeform 43"/>
            <p:cNvSpPr/>
            <p:nvPr/>
          </p:nvSpPr>
          <p:spPr>
            <a:xfrm>
              <a:off x="2948040" y="5100840"/>
              <a:ext cx="171360" cy="745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8" h="47">
                  <a:moveTo>
                    <a:pt x="0" y="47"/>
                  </a:moveTo>
                  <a:cubicBezTo>
                    <a:pt x="29" y="41"/>
                    <a:pt x="43" y="33"/>
                    <a:pt x="68" y="20"/>
                  </a:cubicBezTo>
                  <a:cubicBezTo>
                    <a:pt x="74" y="17"/>
                    <a:pt x="82" y="16"/>
                    <a:pt x="88" y="13"/>
                  </a:cubicBezTo>
                  <a:cubicBezTo>
                    <a:pt x="95" y="9"/>
                    <a:pt x="108" y="0"/>
                    <a:pt x="10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9" name="Freeform 44"/>
            <p:cNvSpPr/>
            <p:nvPr/>
          </p:nvSpPr>
          <p:spPr>
            <a:xfrm>
              <a:off x="3130560" y="5100840"/>
              <a:ext cx="182520" cy="5364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15" h="34">
                  <a:moveTo>
                    <a:pt x="0" y="0"/>
                  </a:moveTo>
                  <a:cubicBezTo>
                    <a:pt x="36" y="13"/>
                    <a:pt x="76" y="34"/>
                    <a:pt x="115" y="3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" name="Freeform 45"/>
            <p:cNvSpPr/>
            <p:nvPr/>
          </p:nvSpPr>
          <p:spPr>
            <a:xfrm>
              <a:off x="3002040" y="4929120"/>
              <a:ext cx="139680" cy="63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88" h="40">
                  <a:moveTo>
                    <a:pt x="0" y="40"/>
                  </a:moveTo>
                  <a:cubicBezTo>
                    <a:pt x="31" y="29"/>
                    <a:pt x="54" y="0"/>
                    <a:pt x="8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" name="Freeform 46"/>
            <p:cNvSpPr/>
            <p:nvPr/>
          </p:nvSpPr>
          <p:spPr>
            <a:xfrm>
              <a:off x="3130560" y="4938840"/>
              <a:ext cx="139680" cy="53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88" h="34">
                  <a:moveTo>
                    <a:pt x="0" y="0"/>
                  </a:moveTo>
                  <a:cubicBezTo>
                    <a:pt x="19" y="7"/>
                    <a:pt x="71" y="17"/>
                    <a:pt x="88" y="3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2" name="Text Box 47"/>
          <p:cNvSpPr/>
          <p:nvPr/>
        </p:nvSpPr>
        <p:spPr>
          <a:xfrm>
            <a:off x="539640" y="3429000"/>
            <a:ext cx="302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даленные предметы уменьшаются в размерах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Text Box 49"/>
          <p:cNvSpPr/>
          <p:nvPr/>
        </p:nvSpPr>
        <p:spPr>
          <a:xfrm>
            <a:off x="5364000" y="5805360"/>
            <a:ext cx="302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даленные предметы уменьшаются в размерах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Text Box 50"/>
          <p:cNvSpPr/>
          <p:nvPr/>
        </p:nvSpPr>
        <p:spPr>
          <a:xfrm>
            <a:off x="4859280" y="3429000"/>
            <a:ext cx="4103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снования удаленных предметов расположены ближе к линии горизонта и дальше от нижнего края лист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Text Box 51"/>
          <p:cNvSpPr/>
          <p:nvPr/>
        </p:nvSpPr>
        <p:spPr>
          <a:xfrm>
            <a:off x="539640" y="580536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Чем дальше предмет, тем меньше деталей он имее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964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3. </a:t>
            </a: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одели для понимания способов выделение в рисунке сюжетно - композиционного центра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507" name="Группа 1"/>
          <p:cNvGrpSpPr/>
          <p:nvPr/>
        </p:nvGrpSpPr>
        <p:grpSpPr>
          <a:xfrm>
            <a:off x="1116000" y="1773360"/>
            <a:ext cx="1944720" cy="1512720"/>
            <a:chOff x="1116000" y="1773360"/>
            <a:chExt cx="1944720" cy="1512720"/>
          </a:xfrm>
        </p:grpSpPr>
        <p:sp>
          <p:nvSpPr>
            <p:cNvPr id="508" name="Rectangle 10"/>
            <p:cNvSpPr/>
            <p:nvPr/>
          </p:nvSpPr>
          <p:spPr>
            <a:xfrm>
              <a:off x="1116000" y="1773360"/>
              <a:ext cx="1944720" cy="151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" name="AutoShape 14"/>
            <p:cNvSpPr/>
            <p:nvPr/>
          </p:nvSpPr>
          <p:spPr>
            <a:xfrm>
              <a:off x="1908000" y="1844640"/>
              <a:ext cx="358560" cy="1008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0" name="Группа 2"/>
          <p:cNvGrpSpPr/>
          <p:nvPr/>
        </p:nvGrpSpPr>
        <p:grpSpPr>
          <a:xfrm>
            <a:off x="6012000" y="1773360"/>
            <a:ext cx="1944720" cy="1512720"/>
            <a:chOff x="6012000" y="1773360"/>
            <a:chExt cx="1944720" cy="1512720"/>
          </a:xfrm>
        </p:grpSpPr>
        <p:sp>
          <p:nvSpPr>
            <p:cNvPr id="511" name="Rectangle 13"/>
            <p:cNvSpPr/>
            <p:nvPr/>
          </p:nvSpPr>
          <p:spPr>
            <a:xfrm>
              <a:off x="6012000" y="1773360"/>
              <a:ext cx="1944720" cy="151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" name="AutoShape 15"/>
            <p:cNvSpPr/>
            <p:nvPr/>
          </p:nvSpPr>
          <p:spPr>
            <a:xfrm>
              <a:off x="7525080" y="1989000"/>
              <a:ext cx="358560" cy="1008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" name="AutoShape 16"/>
            <p:cNvSpPr/>
            <p:nvPr/>
          </p:nvSpPr>
          <p:spPr>
            <a:xfrm>
              <a:off x="6877080" y="1989000"/>
              <a:ext cx="358560" cy="1008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AutoShape 17"/>
            <p:cNvSpPr/>
            <p:nvPr/>
          </p:nvSpPr>
          <p:spPr>
            <a:xfrm>
              <a:off x="6156360" y="1989000"/>
              <a:ext cx="358560" cy="10080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5" name="Группа 3"/>
          <p:cNvGrpSpPr/>
          <p:nvPr/>
        </p:nvGrpSpPr>
        <p:grpSpPr>
          <a:xfrm>
            <a:off x="1042920" y="4363920"/>
            <a:ext cx="1944720" cy="1513080"/>
            <a:chOff x="1042920" y="4363920"/>
            <a:chExt cx="1944720" cy="1513080"/>
          </a:xfrm>
        </p:grpSpPr>
        <p:sp>
          <p:nvSpPr>
            <p:cNvPr id="516" name="Rectangle 12"/>
            <p:cNvSpPr/>
            <p:nvPr/>
          </p:nvSpPr>
          <p:spPr>
            <a:xfrm>
              <a:off x="1042920" y="4363920"/>
              <a:ext cx="1944720" cy="151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AutoShape 18"/>
            <p:cNvSpPr/>
            <p:nvPr/>
          </p:nvSpPr>
          <p:spPr>
            <a:xfrm>
              <a:off x="1187280" y="4508280"/>
              <a:ext cx="504720" cy="936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AutoShape 19"/>
            <p:cNvSpPr/>
            <p:nvPr/>
          </p:nvSpPr>
          <p:spPr>
            <a:xfrm>
              <a:off x="2124000" y="4508280"/>
              <a:ext cx="215640" cy="504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" name="AutoShape 20"/>
            <p:cNvSpPr/>
            <p:nvPr/>
          </p:nvSpPr>
          <p:spPr>
            <a:xfrm>
              <a:off x="2484360" y="4508280"/>
              <a:ext cx="215640" cy="504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0" name="Группа 4"/>
          <p:cNvGrpSpPr/>
          <p:nvPr/>
        </p:nvGrpSpPr>
        <p:grpSpPr>
          <a:xfrm>
            <a:off x="6083280" y="4363920"/>
            <a:ext cx="1944720" cy="1513080"/>
            <a:chOff x="6083280" y="4363920"/>
            <a:chExt cx="1944720" cy="1513080"/>
          </a:xfrm>
        </p:grpSpPr>
        <p:sp>
          <p:nvSpPr>
            <p:cNvPr id="521" name="Rectangle 11"/>
            <p:cNvSpPr/>
            <p:nvPr/>
          </p:nvSpPr>
          <p:spPr>
            <a:xfrm>
              <a:off x="6083280" y="4363920"/>
              <a:ext cx="1944720" cy="151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AutoShape 21"/>
            <p:cNvSpPr/>
            <p:nvPr/>
          </p:nvSpPr>
          <p:spPr>
            <a:xfrm>
              <a:off x="6225840" y="4436640"/>
              <a:ext cx="360360" cy="576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AutoShape 22"/>
            <p:cNvSpPr/>
            <p:nvPr/>
          </p:nvSpPr>
          <p:spPr>
            <a:xfrm>
              <a:off x="7450200" y="4581360"/>
              <a:ext cx="215640" cy="431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AutoShape 23"/>
            <p:cNvSpPr/>
            <p:nvPr/>
          </p:nvSpPr>
          <p:spPr>
            <a:xfrm>
              <a:off x="7739280" y="4581360"/>
              <a:ext cx="215640" cy="431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AutoShape 24"/>
            <p:cNvSpPr/>
            <p:nvPr/>
          </p:nvSpPr>
          <p:spPr>
            <a:xfrm>
              <a:off x="7594560" y="5013360"/>
              <a:ext cx="215640" cy="431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" name="AutoShape 25"/>
            <p:cNvSpPr/>
            <p:nvPr/>
          </p:nvSpPr>
          <p:spPr>
            <a:xfrm>
              <a:off x="7307280" y="5013360"/>
              <a:ext cx="215640" cy="431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7" name="Text Box 26"/>
          <p:cNvSpPr/>
          <p:nvPr/>
        </p:nvSpPr>
        <p:spPr>
          <a:xfrm>
            <a:off x="755640" y="3409920"/>
            <a:ext cx="252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Главный герой (предмет) может быть расположен в центр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Text Box 27"/>
          <p:cNvSpPr/>
          <p:nvPr/>
        </p:nvSpPr>
        <p:spPr>
          <a:xfrm>
            <a:off x="6083280" y="340992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Главный герой (предмет) выделен цветом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Text Box 28"/>
          <p:cNvSpPr/>
          <p:nvPr/>
        </p:nvSpPr>
        <p:spPr>
          <a:xfrm>
            <a:off x="684360" y="6093000"/>
            <a:ext cx="295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ыделен размером, величиной, занимает на листе больше мест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Text Box 29"/>
          <p:cNvSpPr/>
          <p:nvPr/>
        </p:nvSpPr>
        <p:spPr>
          <a:xfrm>
            <a:off x="4535640" y="6021360"/>
            <a:ext cx="442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именение приема изоляция главного героя (предмет): вокруг главного оставлено свободное пространств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964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4. </a:t>
            </a: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хемы взаимодействия героев в двухфигурной композиции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532" name="Группа 1"/>
          <p:cNvGrpSpPr/>
          <p:nvPr/>
        </p:nvGrpSpPr>
        <p:grpSpPr>
          <a:xfrm>
            <a:off x="934920" y="1665360"/>
            <a:ext cx="2376720" cy="1511280"/>
            <a:chOff x="934920" y="1665360"/>
            <a:chExt cx="2376720" cy="1511280"/>
          </a:xfrm>
        </p:grpSpPr>
        <p:sp>
          <p:nvSpPr>
            <p:cNvPr id="533" name="Rectangle 5"/>
            <p:cNvSpPr/>
            <p:nvPr/>
          </p:nvSpPr>
          <p:spPr>
            <a:xfrm>
              <a:off x="934920" y="1665360"/>
              <a:ext cx="2376720" cy="151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" name="AutoShape 9"/>
            <p:cNvSpPr/>
            <p:nvPr/>
          </p:nvSpPr>
          <p:spPr>
            <a:xfrm>
              <a:off x="1366560" y="2168640"/>
              <a:ext cx="431640" cy="863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" name="AutoShape 10"/>
            <p:cNvSpPr/>
            <p:nvPr/>
          </p:nvSpPr>
          <p:spPr>
            <a:xfrm>
              <a:off x="2448000" y="2168640"/>
              <a:ext cx="431640" cy="863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" name="Oval 23"/>
            <p:cNvSpPr/>
            <p:nvPr/>
          </p:nvSpPr>
          <p:spPr>
            <a:xfrm>
              <a:off x="2519640" y="1881000"/>
              <a:ext cx="288720" cy="28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" name="Oval 24"/>
            <p:cNvSpPr/>
            <p:nvPr/>
          </p:nvSpPr>
          <p:spPr>
            <a:xfrm>
              <a:off x="1439640" y="1881000"/>
              <a:ext cx="288720" cy="28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" name="AutoShape 29"/>
            <p:cNvSpPr/>
            <p:nvPr/>
          </p:nvSpPr>
          <p:spPr>
            <a:xfrm>
              <a:off x="1726920" y="1952640"/>
              <a:ext cx="142560" cy="14436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9" name="Группа 2"/>
          <p:cNvGrpSpPr/>
          <p:nvPr/>
        </p:nvGrpSpPr>
        <p:grpSpPr>
          <a:xfrm>
            <a:off x="6012000" y="1665360"/>
            <a:ext cx="2376360" cy="1511280"/>
            <a:chOff x="6012000" y="1665360"/>
            <a:chExt cx="2376360" cy="1511280"/>
          </a:xfrm>
        </p:grpSpPr>
        <p:sp>
          <p:nvSpPr>
            <p:cNvPr id="540" name="Rectangle 8"/>
            <p:cNvSpPr/>
            <p:nvPr/>
          </p:nvSpPr>
          <p:spPr>
            <a:xfrm>
              <a:off x="6012000" y="1665360"/>
              <a:ext cx="2376360" cy="151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AutoShape 15"/>
            <p:cNvSpPr/>
            <p:nvPr/>
          </p:nvSpPr>
          <p:spPr>
            <a:xfrm>
              <a:off x="7596360" y="2168640"/>
              <a:ext cx="431640" cy="863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" name="AutoShape 16"/>
            <p:cNvSpPr/>
            <p:nvPr/>
          </p:nvSpPr>
          <p:spPr>
            <a:xfrm>
              <a:off x="6588000" y="2168640"/>
              <a:ext cx="431640" cy="863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3" name="Oval 21"/>
            <p:cNvSpPr/>
            <p:nvPr/>
          </p:nvSpPr>
          <p:spPr>
            <a:xfrm>
              <a:off x="7667640" y="1881000"/>
              <a:ext cx="288720" cy="28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4" name="Oval 22"/>
            <p:cNvSpPr/>
            <p:nvPr/>
          </p:nvSpPr>
          <p:spPr>
            <a:xfrm>
              <a:off x="6659640" y="1881000"/>
              <a:ext cx="288720" cy="28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" name="AutoShape 28"/>
            <p:cNvSpPr/>
            <p:nvPr/>
          </p:nvSpPr>
          <p:spPr>
            <a:xfrm>
              <a:off x="6948360" y="1952640"/>
              <a:ext cx="142560" cy="14436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" name="AutoShape 31"/>
            <p:cNvSpPr/>
            <p:nvPr/>
          </p:nvSpPr>
          <p:spPr>
            <a:xfrm flipH="1">
              <a:off x="7524720" y="1952640"/>
              <a:ext cx="142560" cy="14436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7" name="Группа 3"/>
          <p:cNvGrpSpPr/>
          <p:nvPr/>
        </p:nvGrpSpPr>
        <p:grpSpPr>
          <a:xfrm>
            <a:off x="934920" y="4359240"/>
            <a:ext cx="2376720" cy="1511280"/>
            <a:chOff x="934920" y="4359240"/>
            <a:chExt cx="2376720" cy="1511280"/>
          </a:xfrm>
        </p:grpSpPr>
        <p:sp>
          <p:nvSpPr>
            <p:cNvPr id="548" name="Rectangle 7"/>
            <p:cNvSpPr/>
            <p:nvPr/>
          </p:nvSpPr>
          <p:spPr>
            <a:xfrm>
              <a:off x="934920" y="4359240"/>
              <a:ext cx="2376720" cy="151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9" name="AutoShape 11"/>
            <p:cNvSpPr/>
            <p:nvPr/>
          </p:nvSpPr>
          <p:spPr>
            <a:xfrm>
              <a:off x="2230560" y="4862520"/>
              <a:ext cx="431640" cy="863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0" name="AutoShape 12"/>
            <p:cNvSpPr/>
            <p:nvPr/>
          </p:nvSpPr>
          <p:spPr>
            <a:xfrm>
              <a:off x="1366560" y="4862520"/>
              <a:ext cx="431640" cy="863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1" name="Oval 17"/>
            <p:cNvSpPr/>
            <p:nvPr/>
          </p:nvSpPr>
          <p:spPr>
            <a:xfrm>
              <a:off x="1438200" y="4574880"/>
              <a:ext cx="288720" cy="28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" name="Oval 18"/>
            <p:cNvSpPr/>
            <p:nvPr/>
          </p:nvSpPr>
          <p:spPr>
            <a:xfrm>
              <a:off x="2301840" y="4574880"/>
              <a:ext cx="288720" cy="28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" name="AutoShape 32"/>
            <p:cNvSpPr/>
            <p:nvPr/>
          </p:nvSpPr>
          <p:spPr>
            <a:xfrm flipH="1">
              <a:off x="2158920" y="4646520"/>
              <a:ext cx="142560" cy="14436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4" name="AutoShape 33"/>
            <p:cNvSpPr/>
            <p:nvPr/>
          </p:nvSpPr>
          <p:spPr>
            <a:xfrm flipH="1">
              <a:off x="1293480" y="4646520"/>
              <a:ext cx="142560" cy="14436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5" name="Группа 4"/>
          <p:cNvGrpSpPr/>
          <p:nvPr/>
        </p:nvGrpSpPr>
        <p:grpSpPr>
          <a:xfrm>
            <a:off x="6012000" y="4359240"/>
            <a:ext cx="2376360" cy="1511280"/>
            <a:chOff x="6012000" y="4359240"/>
            <a:chExt cx="2376360" cy="1511280"/>
          </a:xfrm>
        </p:grpSpPr>
        <p:sp>
          <p:nvSpPr>
            <p:cNvPr id="556" name="Rectangle 6"/>
            <p:cNvSpPr/>
            <p:nvPr/>
          </p:nvSpPr>
          <p:spPr>
            <a:xfrm>
              <a:off x="6012000" y="4359240"/>
              <a:ext cx="2376360" cy="151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" name="AutoShape 13"/>
            <p:cNvSpPr/>
            <p:nvPr/>
          </p:nvSpPr>
          <p:spPr>
            <a:xfrm>
              <a:off x="7594560" y="4862520"/>
              <a:ext cx="431640" cy="863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" name="AutoShape 14"/>
            <p:cNvSpPr/>
            <p:nvPr/>
          </p:nvSpPr>
          <p:spPr>
            <a:xfrm>
              <a:off x="6515280" y="4862520"/>
              <a:ext cx="431640" cy="863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" name="Oval 19"/>
            <p:cNvSpPr/>
            <p:nvPr/>
          </p:nvSpPr>
          <p:spPr>
            <a:xfrm>
              <a:off x="7667640" y="4574880"/>
              <a:ext cx="288720" cy="28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Oval 20"/>
            <p:cNvSpPr/>
            <p:nvPr/>
          </p:nvSpPr>
          <p:spPr>
            <a:xfrm>
              <a:off x="6586560" y="4574880"/>
              <a:ext cx="288720" cy="28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" name="AutoShape 27"/>
            <p:cNvSpPr/>
            <p:nvPr/>
          </p:nvSpPr>
          <p:spPr>
            <a:xfrm>
              <a:off x="7955280" y="4646520"/>
              <a:ext cx="142560" cy="14436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2" name="AutoShape 34"/>
            <p:cNvSpPr/>
            <p:nvPr/>
          </p:nvSpPr>
          <p:spPr>
            <a:xfrm flipH="1">
              <a:off x="6443640" y="4646520"/>
              <a:ext cx="142560" cy="14436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3" name="Text Box 36"/>
          <p:cNvSpPr/>
          <p:nvPr/>
        </p:nvSpPr>
        <p:spPr>
          <a:xfrm>
            <a:off x="431640" y="3317760"/>
            <a:ext cx="338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лавный герой обращен лицом к зрителю, второй ориентирован на него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Text Box 37"/>
          <p:cNvSpPr/>
          <p:nvPr/>
        </p:nvSpPr>
        <p:spPr>
          <a:xfrm>
            <a:off x="5327640" y="3317760"/>
            <a:ext cx="37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ткрытое общение, диалог герое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Text Box 38"/>
          <p:cNvSpPr/>
          <p:nvPr/>
        </p:nvSpPr>
        <p:spPr>
          <a:xfrm>
            <a:off x="503280" y="6016680"/>
            <a:ext cx="345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дин из героев игнорирует общение (не хочет слушать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Text Box 39"/>
          <p:cNvSpPr/>
          <p:nvPr/>
        </p:nvSpPr>
        <p:spPr>
          <a:xfrm>
            <a:off x="5508720" y="6016680"/>
            <a:ext cx="33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ерои не желают общаться (поссорились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896472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5. </a:t>
            </a: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строение многофигурной композиции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568" name="Группа 1"/>
          <p:cNvGrpSpPr/>
          <p:nvPr/>
        </p:nvGrpSpPr>
        <p:grpSpPr>
          <a:xfrm>
            <a:off x="395280" y="1627200"/>
            <a:ext cx="2016000" cy="936720"/>
            <a:chOff x="395280" y="1627200"/>
            <a:chExt cx="2016000" cy="936720"/>
          </a:xfrm>
        </p:grpSpPr>
        <p:sp>
          <p:nvSpPr>
            <p:cNvPr id="569" name="Rectangle 5"/>
            <p:cNvSpPr/>
            <p:nvPr/>
          </p:nvSpPr>
          <p:spPr>
            <a:xfrm>
              <a:off x="395280" y="1627200"/>
              <a:ext cx="2016000" cy="93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" name="Oval 8"/>
            <p:cNvSpPr/>
            <p:nvPr/>
          </p:nvSpPr>
          <p:spPr>
            <a:xfrm>
              <a:off x="826920" y="1914480"/>
              <a:ext cx="1224000" cy="43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AutoShape 9"/>
            <p:cNvSpPr/>
            <p:nvPr/>
          </p:nvSpPr>
          <p:spPr>
            <a:xfrm>
              <a:off x="1258920" y="1627200"/>
              <a:ext cx="433080" cy="503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2" name="Freeform 13"/>
            <p:cNvSpPr/>
            <p:nvPr/>
          </p:nvSpPr>
          <p:spPr>
            <a:xfrm>
              <a:off x="882360" y="2156040"/>
              <a:ext cx="1163520" cy="234720"/>
            </a:xfrm>
            <a:custGeom>
              <a:avLst/>
              <a:gdLst>
                <a:gd name="textAreaLeft" fmla="*/ 0 w 1163520"/>
                <a:gd name="textAreaRight" fmla="*/ 1163880 w 11635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733" h="148">
                  <a:moveTo>
                    <a:pt x="20" y="58"/>
                  </a:moveTo>
                  <a:cubicBezTo>
                    <a:pt x="94" y="84"/>
                    <a:pt x="128" y="104"/>
                    <a:pt x="210" y="112"/>
                  </a:cubicBezTo>
                  <a:cubicBezTo>
                    <a:pt x="240" y="120"/>
                    <a:pt x="269" y="129"/>
                    <a:pt x="298" y="139"/>
                  </a:cubicBezTo>
                  <a:cubicBezTo>
                    <a:pt x="363" y="133"/>
                    <a:pt x="440" y="140"/>
                    <a:pt x="501" y="119"/>
                  </a:cubicBezTo>
                  <a:cubicBezTo>
                    <a:pt x="548" y="83"/>
                    <a:pt x="600" y="87"/>
                    <a:pt x="657" y="78"/>
                  </a:cubicBezTo>
                  <a:cubicBezTo>
                    <a:pt x="680" y="70"/>
                    <a:pt x="698" y="58"/>
                    <a:pt x="718" y="44"/>
                  </a:cubicBezTo>
                  <a:cubicBezTo>
                    <a:pt x="733" y="0"/>
                    <a:pt x="702" y="30"/>
                    <a:pt x="677" y="37"/>
                  </a:cubicBezTo>
                  <a:cubicBezTo>
                    <a:pt x="670" y="42"/>
                    <a:pt x="662" y="45"/>
                    <a:pt x="657" y="51"/>
                  </a:cubicBezTo>
                  <a:cubicBezTo>
                    <a:pt x="653" y="57"/>
                    <a:pt x="656" y="68"/>
                    <a:pt x="650" y="71"/>
                  </a:cubicBezTo>
                  <a:cubicBezTo>
                    <a:pt x="633" y="78"/>
                    <a:pt x="614" y="75"/>
                    <a:pt x="596" y="78"/>
                  </a:cubicBezTo>
                  <a:cubicBezTo>
                    <a:pt x="542" y="87"/>
                    <a:pt x="488" y="97"/>
                    <a:pt x="433" y="105"/>
                  </a:cubicBezTo>
                  <a:cubicBezTo>
                    <a:pt x="371" y="127"/>
                    <a:pt x="407" y="118"/>
                    <a:pt x="325" y="126"/>
                  </a:cubicBezTo>
                  <a:cubicBezTo>
                    <a:pt x="227" y="118"/>
                    <a:pt x="129" y="93"/>
                    <a:pt x="34" y="65"/>
                  </a:cubicBezTo>
                  <a:cubicBezTo>
                    <a:pt x="26" y="63"/>
                    <a:pt x="47" y="75"/>
                    <a:pt x="54" y="78"/>
                  </a:cubicBezTo>
                  <a:cubicBezTo>
                    <a:pt x="63" y="82"/>
                    <a:pt x="72" y="82"/>
                    <a:pt x="81" y="85"/>
                  </a:cubicBezTo>
                  <a:cubicBezTo>
                    <a:pt x="101" y="91"/>
                    <a:pt x="121" y="100"/>
                    <a:pt x="142" y="105"/>
                  </a:cubicBezTo>
                  <a:cubicBezTo>
                    <a:pt x="217" y="125"/>
                    <a:pt x="289" y="128"/>
                    <a:pt x="366" y="132"/>
                  </a:cubicBezTo>
                  <a:cubicBezTo>
                    <a:pt x="409" y="129"/>
                    <a:pt x="481" y="127"/>
                    <a:pt x="528" y="119"/>
                  </a:cubicBezTo>
                  <a:cubicBezTo>
                    <a:pt x="552" y="115"/>
                    <a:pt x="573" y="99"/>
                    <a:pt x="596" y="92"/>
                  </a:cubicBezTo>
                  <a:cubicBezTo>
                    <a:pt x="603" y="90"/>
                    <a:pt x="610" y="88"/>
                    <a:pt x="616" y="85"/>
                  </a:cubicBezTo>
                  <a:cubicBezTo>
                    <a:pt x="630" y="77"/>
                    <a:pt x="642" y="63"/>
                    <a:pt x="657" y="58"/>
                  </a:cubicBezTo>
                  <a:cubicBezTo>
                    <a:pt x="662" y="56"/>
                    <a:pt x="698" y="46"/>
                    <a:pt x="698" y="37"/>
                  </a:cubicBezTo>
                  <a:cubicBezTo>
                    <a:pt x="698" y="30"/>
                    <a:pt x="684" y="42"/>
                    <a:pt x="677" y="44"/>
                  </a:cubicBezTo>
                  <a:cubicBezTo>
                    <a:pt x="594" y="102"/>
                    <a:pt x="444" y="87"/>
                    <a:pt x="352" y="92"/>
                  </a:cubicBezTo>
                  <a:cubicBezTo>
                    <a:pt x="313" y="148"/>
                    <a:pt x="343" y="118"/>
                    <a:pt x="203" y="105"/>
                  </a:cubicBezTo>
                  <a:cubicBezTo>
                    <a:pt x="179" y="103"/>
                    <a:pt x="135" y="85"/>
                    <a:pt x="135" y="85"/>
                  </a:cubicBezTo>
                  <a:cubicBezTo>
                    <a:pt x="213" y="133"/>
                    <a:pt x="511" y="95"/>
                    <a:pt x="244" y="112"/>
                  </a:cubicBezTo>
                  <a:cubicBezTo>
                    <a:pt x="292" y="146"/>
                    <a:pt x="328" y="130"/>
                    <a:pt x="393" y="126"/>
                  </a:cubicBezTo>
                  <a:cubicBezTo>
                    <a:pt x="479" y="108"/>
                    <a:pt x="557" y="101"/>
                    <a:pt x="332" y="112"/>
                  </a:cubicBezTo>
                  <a:cubicBezTo>
                    <a:pt x="423" y="136"/>
                    <a:pt x="521" y="128"/>
                    <a:pt x="610" y="98"/>
                  </a:cubicBezTo>
                  <a:cubicBezTo>
                    <a:pt x="631" y="66"/>
                    <a:pt x="612" y="86"/>
                    <a:pt x="643" y="71"/>
                  </a:cubicBezTo>
                  <a:cubicBezTo>
                    <a:pt x="650" y="67"/>
                    <a:pt x="672" y="60"/>
                    <a:pt x="664" y="58"/>
                  </a:cubicBezTo>
                  <a:cubicBezTo>
                    <a:pt x="630" y="48"/>
                    <a:pt x="560" y="93"/>
                    <a:pt x="521" y="98"/>
                  </a:cubicBezTo>
                  <a:cubicBezTo>
                    <a:pt x="458" y="107"/>
                    <a:pt x="360" y="109"/>
                    <a:pt x="305" y="112"/>
                  </a:cubicBezTo>
                  <a:cubicBezTo>
                    <a:pt x="152" y="106"/>
                    <a:pt x="170" y="123"/>
                    <a:pt x="81" y="92"/>
                  </a:cubicBezTo>
                  <a:cubicBezTo>
                    <a:pt x="46" y="80"/>
                    <a:pt x="65" y="88"/>
                    <a:pt x="20" y="58"/>
                  </a:cubicBezTo>
                  <a:cubicBezTo>
                    <a:pt x="13" y="53"/>
                    <a:pt x="0" y="44"/>
                    <a:pt x="0" y="44"/>
                  </a:cubicBezTo>
                  <a:cubicBezTo>
                    <a:pt x="5" y="61"/>
                    <a:pt x="20" y="121"/>
                    <a:pt x="20" y="58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3" name="Freeform 14"/>
            <p:cNvSpPr/>
            <p:nvPr/>
          </p:nvSpPr>
          <p:spPr>
            <a:xfrm>
              <a:off x="1409760" y="2229120"/>
              <a:ext cx="473040" cy="160200"/>
            </a:xfrm>
            <a:custGeom>
              <a:avLst/>
              <a:gdLst>
                <a:gd name="textAreaLeft" fmla="*/ 0 w 473040"/>
                <a:gd name="textAreaRight" fmla="*/ 473040 w 47304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298" h="101">
                  <a:moveTo>
                    <a:pt x="0" y="80"/>
                  </a:moveTo>
                  <a:cubicBezTo>
                    <a:pt x="90" y="49"/>
                    <a:pt x="78" y="58"/>
                    <a:pt x="210" y="52"/>
                  </a:cubicBezTo>
                  <a:cubicBezTo>
                    <a:pt x="253" y="39"/>
                    <a:pt x="298" y="34"/>
                    <a:pt x="176" y="46"/>
                  </a:cubicBezTo>
                  <a:cubicBezTo>
                    <a:pt x="117" y="64"/>
                    <a:pt x="102" y="61"/>
                    <a:pt x="20" y="66"/>
                  </a:cubicBezTo>
                  <a:cubicBezTo>
                    <a:pt x="88" y="101"/>
                    <a:pt x="198" y="89"/>
                    <a:pt x="264" y="46"/>
                  </a:cubicBezTo>
                  <a:cubicBezTo>
                    <a:pt x="279" y="0"/>
                    <a:pt x="249" y="30"/>
                    <a:pt x="223" y="39"/>
                  </a:cubicBezTo>
                  <a:cubicBezTo>
                    <a:pt x="250" y="56"/>
                    <a:pt x="262" y="49"/>
                    <a:pt x="291" y="39"/>
                  </a:cubicBezTo>
                  <a:cubicBezTo>
                    <a:pt x="258" y="28"/>
                    <a:pt x="140" y="16"/>
                    <a:pt x="217" y="52"/>
                  </a:cubicBezTo>
                  <a:cubicBezTo>
                    <a:pt x="233" y="50"/>
                    <a:pt x="248" y="46"/>
                    <a:pt x="264" y="46"/>
                  </a:cubicBezTo>
                  <a:cubicBezTo>
                    <a:pt x="278" y="46"/>
                    <a:pt x="237" y="50"/>
                    <a:pt x="223" y="52"/>
                  </a:cubicBezTo>
                  <a:cubicBezTo>
                    <a:pt x="198" y="56"/>
                    <a:pt x="174" y="63"/>
                    <a:pt x="149" y="66"/>
                  </a:cubicBezTo>
                  <a:cubicBezTo>
                    <a:pt x="93" y="73"/>
                    <a:pt x="47" y="73"/>
                    <a:pt x="81" y="73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4" name="Группа 2"/>
          <p:cNvGrpSpPr/>
          <p:nvPr/>
        </p:nvGrpSpPr>
        <p:grpSpPr>
          <a:xfrm>
            <a:off x="3564000" y="1627200"/>
            <a:ext cx="2016000" cy="936720"/>
            <a:chOff x="3564000" y="1627200"/>
            <a:chExt cx="2016000" cy="936720"/>
          </a:xfrm>
        </p:grpSpPr>
        <p:sp>
          <p:nvSpPr>
            <p:cNvPr id="575" name="Rectangle 6"/>
            <p:cNvSpPr/>
            <p:nvPr/>
          </p:nvSpPr>
          <p:spPr>
            <a:xfrm>
              <a:off x="3564000" y="1627200"/>
              <a:ext cx="2016000" cy="93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6" name="Oval 15"/>
            <p:cNvSpPr/>
            <p:nvPr/>
          </p:nvSpPr>
          <p:spPr>
            <a:xfrm>
              <a:off x="4282920" y="1770120"/>
              <a:ext cx="647640" cy="57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7" name="AutoShape 16"/>
            <p:cNvSpPr/>
            <p:nvPr/>
          </p:nvSpPr>
          <p:spPr>
            <a:xfrm>
              <a:off x="4500720" y="1698480"/>
              <a:ext cx="215640" cy="432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8" name="Группа 3"/>
          <p:cNvGrpSpPr/>
          <p:nvPr/>
        </p:nvGrpSpPr>
        <p:grpSpPr>
          <a:xfrm>
            <a:off x="6585120" y="1627200"/>
            <a:ext cx="2016000" cy="936720"/>
            <a:chOff x="6585120" y="1627200"/>
            <a:chExt cx="2016000" cy="936720"/>
          </a:xfrm>
        </p:grpSpPr>
        <p:sp>
          <p:nvSpPr>
            <p:cNvPr id="579" name="Rectangle 7"/>
            <p:cNvSpPr/>
            <p:nvPr/>
          </p:nvSpPr>
          <p:spPr>
            <a:xfrm>
              <a:off x="6585120" y="1627200"/>
              <a:ext cx="2016000" cy="93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0" name="Oval 17"/>
            <p:cNvSpPr/>
            <p:nvPr/>
          </p:nvSpPr>
          <p:spPr>
            <a:xfrm>
              <a:off x="6945480" y="1770120"/>
              <a:ext cx="1366920" cy="64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1" name="AutoShape 18"/>
            <p:cNvSpPr/>
            <p:nvPr/>
          </p:nvSpPr>
          <p:spPr>
            <a:xfrm>
              <a:off x="8097840" y="1698480"/>
              <a:ext cx="215640" cy="216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2" name="Группа 4"/>
          <p:cNvGrpSpPr/>
          <p:nvPr/>
        </p:nvGrpSpPr>
        <p:grpSpPr>
          <a:xfrm>
            <a:off x="379440" y="4294080"/>
            <a:ext cx="1511280" cy="1295640"/>
            <a:chOff x="379440" y="4294080"/>
            <a:chExt cx="1511280" cy="1295640"/>
          </a:xfrm>
        </p:grpSpPr>
        <p:sp>
          <p:nvSpPr>
            <p:cNvPr id="583" name="Rectangle 19"/>
            <p:cNvSpPr/>
            <p:nvPr/>
          </p:nvSpPr>
          <p:spPr>
            <a:xfrm>
              <a:off x="379440" y="4294080"/>
              <a:ext cx="1511280" cy="129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4" name="AutoShape 23"/>
            <p:cNvSpPr/>
            <p:nvPr/>
          </p:nvSpPr>
          <p:spPr>
            <a:xfrm>
              <a:off x="523800" y="4294080"/>
              <a:ext cx="287280" cy="6476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5" name="AutoShape 24"/>
            <p:cNvSpPr/>
            <p:nvPr/>
          </p:nvSpPr>
          <p:spPr>
            <a:xfrm>
              <a:off x="1243080" y="4797360"/>
              <a:ext cx="287280" cy="647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6" name="AutoShape 25"/>
            <p:cNvSpPr/>
            <p:nvPr/>
          </p:nvSpPr>
          <p:spPr>
            <a:xfrm>
              <a:off x="1532160" y="4654440"/>
              <a:ext cx="287280" cy="647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AutoShape 33"/>
            <p:cNvSpPr/>
            <p:nvPr/>
          </p:nvSpPr>
          <p:spPr>
            <a:xfrm rot="2000400">
              <a:off x="882360" y="4725720"/>
              <a:ext cx="431640" cy="288720"/>
            </a:xfrm>
            <a:prstGeom prst="leftArrow">
              <a:avLst>
                <a:gd name="adj1" fmla="val 39704"/>
                <a:gd name="adj2" fmla="val 3023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8" name="Группа 5"/>
          <p:cNvGrpSpPr/>
          <p:nvPr/>
        </p:nvGrpSpPr>
        <p:grpSpPr>
          <a:xfrm>
            <a:off x="2612880" y="4294080"/>
            <a:ext cx="1511280" cy="1295640"/>
            <a:chOff x="2612880" y="4294080"/>
            <a:chExt cx="1511280" cy="1295640"/>
          </a:xfrm>
        </p:grpSpPr>
        <p:sp>
          <p:nvSpPr>
            <p:cNvPr id="589" name="Rectangle 20"/>
            <p:cNvSpPr/>
            <p:nvPr/>
          </p:nvSpPr>
          <p:spPr>
            <a:xfrm>
              <a:off x="2612880" y="4294080"/>
              <a:ext cx="1511280" cy="129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" name="AutoShape 26"/>
            <p:cNvSpPr/>
            <p:nvPr/>
          </p:nvSpPr>
          <p:spPr>
            <a:xfrm>
              <a:off x="2685600" y="4654440"/>
              <a:ext cx="287280" cy="6476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1" name="AutoShape 27"/>
            <p:cNvSpPr/>
            <p:nvPr/>
          </p:nvSpPr>
          <p:spPr>
            <a:xfrm>
              <a:off x="3693960" y="4654440"/>
              <a:ext cx="287280" cy="647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" name="AutoShape 34"/>
            <p:cNvSpPr/>
            <p:nvPr/>
          </p:nvSpPr>
          <p:spPr>
            <a:xfrm>
              <a:off x="3117600" y="4797360"/>
              <a:ext cx="431640" cy="288720"/>
            </a:xfrm>
            <a:prstGeom prst="leftArrow">
              <a:avLst>
                <a:gd name="adj1" fmla="val 39704"/>
                <a:gd name="adj2" fmla="val 3023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3" name="Группа 6"/>
          <p:cNvGrpSpPr/>
          <p:nvPr/>
        </p:nvGrpSpPr>
        <p:grpSpPr>
          <a:xfrm>
            <a:off x="4932360" y="4294080"/>
            <a:ext cx="1511280" cy="1295640"/>
            <a:chOff x="4932360" y="4294080"/>
            <a:chExt cx="1511280" cy="1295640"/>
          </a:xfrm>
        </p:grpSpPr>
        <p:sp>
          <p:nvSpPr>
            <p:cNvPr id="594" name="Rectangle 21"/>
            <p:cNvSpPr/>
            <p:nvPr/>
          </p:nvSpPr>
          <p:spPr>
            <a:xfrm>
              <a:off x="4932360" y="4294080"/>
              <a:ext cx="1511280" cy="129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" name="AutoShape 28"/>
            <p:cNvSpPr/>
            <p:nvPr/>
          </p:nvSpPr>
          <p:spPr>
            <a:xfrm>
              <a:off x="5003640" y="4581360"/>
              <a:ext cx="287280" cy="6476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6" name="AutoShape 29"/>
            <p:cNvSpPr/>
            <p:nvPr/>
          </p:nvSpPr>
          <p:spPr>
            <a:xfrm>
              <a:off x="6085080" y="4581360"/>
              <a:ext cx="287280" cy="647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7" name="AutoShape 35"/>
            <p:cNvSpPr/>
            <p:nvPr/>
          </p:nvSpPr>
          <p:spPr>
            <a:xfrm>
              <a:off x="5508720" y="4870440"/>
              <a:ext cx="503280" cy="215640"/>
            </a:xfrm>
            <a:prstGeom prst="rightArrow">
              <a:avLst>
                <a:gd name="adj1" fmla="val 50000"/>
                <a:gd name="adj2" fmla="val 5834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8" name="Группа 7"/>
          <p:cNvGrpSpPr/>
          <p:nvPr/>
        </p:nvGrpSpPr>
        <p:grpSpPr>
          <a:xfrm>
            <a:off x="7089840" y="4294080"/>
            <a:ext cx="1511280" cy="1295640"/>
            <a:chOff x="7089840" y="4294080"/>
            <a:chExt cx="1511280" cy="1295640"/>
          </a:xfrm>
        </p:grpSpPr>
        <p:sp>
          <p:nvSpPr>
            <p:cNvPr id="599" name="Rectangle 22"/>
            <p:cNvSpPr/>
            <p:nvPr/>
          </p:nvSpPr>
          <p:spPr>
            <a:xfrm>
              <a:off x="7089840" y="4294080"/>
              <a:ext cx="1511280" cy="129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0" name="AutoShape 30"/>
            <p:cNvSpPr/>
            <p:nvPr/>
          </p:nvSpPr>
          <p:spPr>
            <a:xfrm>
              <a:off x="7162560" y="4366800"/>
              <a:ext cx="287280" cy="6476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1" name="AutoShape 31"/>
            <p:cNvSpPr/>
            <p:nvPr/>
          </p:nvSpPr>
          <p:spPr>
            <a:xfrm>
              <a:off x="7954920" y="4870440"/>
              <a:ext cx="287280" cy="647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2" name="AutoShape 32"/>
            <p:cNvSpPr/>
            <p:nvPr/>
          </p:nvSpPr>
          <p:spPr>
            <a:xfrm>
              <a:off x="8242560" y="4582800"/>
              <a:ext cx="287280" cy="647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3" name="AutoShape 36"/>
            <p:cNvSpPr/>
            <p:nvPr/>
          </p:nvSpPr>
          <p:spPr>
            <a:xfrm rot="1734600">
              <a:off x="7521480" y="4870080"/>
              <a:ext cx="503280" cy="215640"/>
            </a:xfrm>
            <a:prstGeom prst="rightArrow">
              <a:avLst>
                <a:gd name="adj1" fmla="val 50000"/>
                <a:gd name="adj2" fmla="val 5834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04" name="Text Box 37"/>
          <p:cNvSpPr/>
          <p:nvPr/>
        </p:nvSpPr>
        <p:spPr>
          <a:xfrm>
            <a:off x="179280" y="2708280"/>
            <a:ext cx="2521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инцип триптиха, главный герой расположен в центре, остальные по бокам от него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Text Box 38"/>
          <p:cNvSpPr/>
          <p:nvPr/>
        </p:nvSpPr>
        <p:spPr>
          <a:xfrm>
            <a:off x="3382920" y="2708280"/>
            <a:ext cx="244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лавный герой расположен внутри кольца, в кругу других героев (хоровод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Text Box 40"/>
          <p:cNvSpPr/>
          <p:nvPr/>
        </p:nvSpPr>
        <p:spPr>
          <a:xfrm>
            <a:off x="6369120" y="2709720"/>
            <a:ext cx="252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лавный герой расположен в кольце среди других герое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Text Box 41"/>
          <p:cNvSpPr/>
          <p:nvPr/>
        </p:nvSpPr>
        <p:spPr>
          <a:xfrm>
            <a:off x="0" y="602136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нцип шествия к главному герою или от нег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4" descr="7SWScan000300094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788000" y="5373720"/>
            <a:ext cx="1185840" cy="1266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09" name="Picture 5" descr="41SWScan000300094"/>
          <p:cNvPicPr/>
          <p:nvPr/>
        </p:nvPicPr>
        <p:blipFill>
          <a:blip r:embed="rId2"/>
          <a:stretch/>
        </p:blipFill>
        <p:spPr>
          <a:xfrm>
            <a:off x="684360" y="3860640"/>
            <a:ext cx="1427040" cy="115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10" name="Picture 6" descr="6SWScan000300094"/>
          <p:cNvPicPr/>
          <p:nvPr/>
        </p:nvPicPr>
        <p:blipFill>
          <a:blip r:embed="rId3"/>
          <a:stretch/>
        </p:blipFill>
        <p:spPr>
          <a:xfrm>
            <a:off x="324000" y="5300640"/>
            <a:ext cx="1368360" cy="1185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11" name="Picture 7" descr="8SWScan000300094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7524720" y="4941720"/>
            <a:ext cx="1204920" cy="1297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12" name="Picture 8" descr="5SWScan000300094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5364000" y="3933720"/>
            <a:ext cx="1440000" cy="1185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13" name="Picture 9" descr="3SWScan000300094"/>
          <p:cNvPicPr/>
          <p:nvPr/>
        </p:nvPicPr>
        <p:blipFill>
          <a:blip r:embed="rId6">
            <a:lum bright="6000"/>
          </a:blip>
          <a:stretch/>
        </p:blipFill>
        <p:spPr>
          <a:xfrm>
            <a:off x="4498920" y="765000"/>
            <a:ext cx="1657440" cy="1019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14" name="Picture 10" descr="2SWScan000300094"/>
          <p:cNvPicPr/>
          <p:nvPr/>
        </p:nvPicPr>
        <p:blipFill>
          <a:blip r:embed="rId7">
            <a:lum bright="6000"/>
          </a:blip>
          <a:stretch/>
        </p:blipFill>
        <p:spPr>
          <a:xfrm>
            <a:off x="2530440" y="757080"/>
            <a:ext cx="1536840" cy="10875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615" name="Picture 11" descr="SWScan000300094"/>
          <p:cNvPicPr/>
          <p:nvPr/>
        </p:nvPicPr>
        <p:blipFill>
          <a:blip r:embed="rId8">
            <a:lum bright="6000"/>
          </a:blip>
          <a:stretch/>
        </p:blipFill>
        <p:spPr>
          <a:xfrm>
            <a:off x="826920" y="765000"/>
            <a:ext cx="1498680" cy="10083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616" name="Picture 12" descr="4SWScan000300094"/>
          <p:cNvPicPr/>
          <p:nvPr/>
        </p:nvPicPr>
        <p:blipFill>
          <a:blip r:embed="rId9">
            <a:lum bright="6000"/>
          </a:blip>
          <a:stretch/>
        </p:blipFill>
        <p:spPr>
          <a:xfrm>
            <a:off x="611280" y="2781360"/>
            <a:ext cx="5256000" cy="87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17" name="Rectangle 14"/>
          <p:cNvSpPr/>
          <p:nvPr/>
        </p:nvSpPr>
        <p:spPr>
          <a:xfrm>
            <a:off x="684360" y="1989000"/>
            <a:ext cx="758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ис. 1 Что изображено на переднем плане, справа, слева, на заднем плане? Какое время года изобразил художни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Rectangle 16"/>
          <p:cNvSpPr/>
          <p:nvPr/>
        </p:nvSpPr>
        <p:spPr>
          <a:xfrm>
            <a:off x="5939280" y="2734920"/>
            <a:ext cx="20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ис. 2 Какая погода?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Rectangle 20"/>
          <p:cNvSpPr/>
          <p:nvPr/>
        </p:nvSpPr>
        <p:spPr>
          <a:xfrm>
            <a:off x="2195640" y="3996360"/>
            <a:ext cx="34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ис 4 Какие деревья и кусты изобразил художник? Что можно рассказать о ни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Rectangle 22"/>
          <p:cNvSpPr/>
          <p:nvPr/>
        </p:nvSpPr>
        <p:spPr>
          <a:xfrm>
            <a:off x="6804000" y="4015080"/>
            <a:ext cx="2089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ис. 5 Расскажите о птицах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Rectangle 25"/>
          <p:cNvSpPr/>
          <p:nvPr/>
        </p:nvSpPr>
        <p:spPr>
          <a:xfrm>
            <a:off x="1835280" y="5256000"/>
            <a:ext cx="3168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ис. 6 Какие цвета использовал художник для передачи настроения, состояния погоды, времени года, времени суток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26"/>
          <p:cNvSpPr/>
          <p:nvPr/>
        </p:nvSpPr>
        <p:spPr>
          <a:xfrm>
            <a:off x="6012000" y="5328000"/>
            <a:ext cx="1655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ис. 7. Что вы слышит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27"/>
          <p:cNvSpPr/>
          <p:nvPr/>
        </p:nvSpPr>
        <p:spPr>
          <a:xfrm>
            <a:off x="6818040" y="6190920"/>
            <a:ext cx="23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ис. 8. Что вы видите?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147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Прием «Синквейн»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25" name="Объект 3" descr=""/>
          <p:cNvPicPr/>
          <p:nvPr/>
        </p:nvPicPr>
        <p:blipFill>
          <a:blip r:embed="rId1"/>
          <a:stretch/>
        </p:blipFill>
        <p:spPr>
          <a:xfrm>
            <a:off x="1414440" y="1444680"/>
            <a:ext cx="754056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1042920" y="620280"/>
            <a:ext cx="763272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ая технология - это системный метод создания, применения и определения всего процесса преподавания и усвоения знаний с учетом технических и человеческих ресурсов и их взаимодействия, ставящий своей за дачей оптимизацию форм образования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ЮНЕСКО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ая технология означает системную совокупность и порядок функционирования всех личностных, инструментальных и методологических средств, используемых для достижения педагогических целей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.В.Кларин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ая технология – содержательное  обобщение, вбирающим в себя смыслы всех определений различных авторов (источников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.К.Селевко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2"/>
          <p:cNvSpPr/>
          <p:nvPr/>
        </p:nvSpPr>
        <p:spPr>
          <a:xfrm>
            <a:off x="1042920" y="333360"/>
            <a:ext cx="7561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286000" indent="-4572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ила написания синквейнов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ой строчке тема называется одним словом (обычно существительным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286000" indent="-4572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торая строчка - это описание темы в двух словах (двумя прилагательными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286000" indent="-4572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Третья строчка - это описание действия в рамках этой темы тремя словами (глаголы, деепричастия..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286000" indent="-4572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Четвертая строчка - это фраза из четырех слов, показывающая отношение к тем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286000" indent="-4572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оследняя строчка - это синоним (метафора) из одного слова, который повторяет суть темы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07640" y="1915920"/>
            <a:ext cx="878508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Спасибо за внимание!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58560" y="44280"/>
            <a:ext cx="7705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ая деятельность </a:t>
            </a:r>
            <a:br>
              <a:rPr sz="3900"/>
            </a:b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а- это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1042920" y="1483920"/>
            <a:ext cx="7850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, в результате которой создается нечто новое, все равно будет ли это какой-нибудь вещью внешнего мира или известным построением ума, или чувства, живущим и обнаруживающимся только в самом человеке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С. Выготский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4920" y="-27000"/>
            <a:ext cx="8964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И.Я. Лернер определяет такие черты творческой деятельности:</a:t>
            </a:r>
            <a:endParaRPr b="0" lang="en-US" sz="31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79280" y="1628640"/>
            <a:ext cx="878544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амостоятельный перенос ранее усвоенных знаний в новую ситуацию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идение новой функции предмета (объекта)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идение проблемы в стандартной ситуации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идение структуры объекта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пособность к альтернативным решениям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омбинирование ранее известных способов деятельности в новый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8964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ое творчество</a:t>
            </a:r>
            <a:endParaRPr b="0" lang="en-US" sz="31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042920" y="1752120"/>
            <a:ext cx="78501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ы его (детское художественное творчество) рассматриваем в условиях общего эстетического воспитания скорее как метод наиболее  совершенного овладения определенным видом искусства и формирования эстетически развитой личности, чем как создание объективных художественных ценностей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Н. Шацкая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41400"/>
            <a:ext cx="8964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«Детское изобразительное творчество мы понимаем </a:t>
            </a:r>
            <a:endParaRPr b="0" lang="en-US" sz="31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1042560" y="1557000"/>
            <a:ext cx="792180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ознательное отражение ребенком окружающей действительности в рисунке, - отражение, которое построено на работе воображения, на отображении своих наблюдений, а также впечатлений, получаемых им через слово, картинку, другие виды искусства. Ребенок не пассивно копирует окружающее, а перерабатывает его в связи с накопленным опытом, отношением к искусству»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А. Флерина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11160" y="19080"/>
            <a:ext cx="89647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льное творчеств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07640" y="1125360"/>
            <a:ext cx="878508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algn="just">
              <a:lnSpc>
                <a:spcPct val="100000"/>
              </a:lnSpc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ребенком субъективно (значимого для ребенка прежде всего) нового продукта (рисунка, лепки, аппликации), придумывание к известному новых, ранее не используемых деталей, по – новому характеризующих создаваемый художественный образ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431640" algn="just">
              <a:lnSpc>
                <a:spcPct val="100000"/>
              </a:lnSpc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усвоенных ранее способов изображения или средств выразительности в новой ситуации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431640" algn="just">
              <a:lnSpc>
                <a:spcPct val="100000"/>
              </a:lnSpc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ление ребенком инициативы во всем, придумывание разных вариантов изображения.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43164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                                                             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179280" y="189000"/>
          <a:ext cx="8640720" cy="6435720"/>
        </p:xfrm>
        <a:graphic>
          <a:graphicData uri="http://schemas.openxmlformats.org/drawingml/2006/table">
            <a:tbl>
              <a:tblPr/>
              <a:tblGrid>
                <a:gridCol w="2355840"/>
                <a:gridCol w="3405240"/>
                <a:gridCol w="2879640"/>
              </a:tblGrid>
              <a:tr h="15984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 творческой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рче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и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ладеть тем, что есть в ИЗ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иск нового для передачи своих мыслей, чувств в создании новог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ача и  усвоение отработанного человечеством опы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новог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оение раннее найденных способов действи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етение своих способ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воение опыта, знаний,  умений, навык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чего -то нового, оригинальног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РОЗАЛИЯ МИХАЙЛОВА</cp:lastModifiedBy>
  <dcterms:modified xsi:type="dcterms:W3CDTF">2019-11-23T16:40:05Z</dcterms:modified>
  <cp:revision>123</cp:revision>
  <dc:subject/>
  <dc:title>PowerPoint Presentation</dc:title>
</cp:coreProperties>
</file>