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72E-2F72-4C13-A04E-596B503F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268-1BED-4192-B1FC-4575B68C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542593-13E5-48F0-8C2A-8402B920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0E99F6-1B6F-46C2-9C32-3449D8A5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20922A-335D-4FDA-9EDD-0D3A0E45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3612B6-ED31-4A08-A5BC-F3BA0097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681566-B95C-4F24-B8D7-11FD82A3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F5134D-F5CB-4DB2-95CD-387967DB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071B89-3C77-4B92-976C-D42901AC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6C5B22-8826-418C-A9AA-55BC8E4C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2BF0B6-7D28-4EBB-AB65-C45614BA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05B-5771-43C4-A6A6-D3C87CA2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460-328B-463C-96EA-2C8C80AC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4D7D-DA91-482B-BF42-C297FFFC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4FDB-9F65-4916-A3C6-B0C15665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4D13-272E-4153-A8A0-85A3EDE6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4702-FDA5-482F-991D-0CCAB783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370F-D349-4130-A139-FDBBF871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C136-6F7A-4DFB-8734-9212C375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50DE-ED34-4B42-8AC1-403CE244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3D3-E026-4E5B-A76B-9391A12E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7AB0-005D-4169-BB7D-5FE7C935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B000-13FD-4AE2-8E5F-65F3AE0B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C0AA-CBA4-4DFF-9F7A-15252A3D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D187-CCC6-436C-90CE-F0B4D105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2E06-999F-43B2-8D35-7A852A54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A7A1-E106-43A8-9659-778F2920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6A11-DFFF-4E6A-80EE-93DAA5A0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793B-146F-4F28-9EFC-B06214E4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C520-3532-4989-AFB7-772CD2E2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4C68-2411-4497-B046-80DE8F91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DBC-7E2A-492D-868C-0E4411A7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ACE8-04F8-43BF-8B57-4175701A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94059-2F9D-49AB-98C2-13BB7288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6206B-CFD5-4CE8-90D6-85573305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0DD0D-E3D8-4218-91DD-727D9031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C4C8-7B13-4BEF-B1CC-870B7BD7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5CCE-7745-4742-B0BC-AC08151E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7CCC-71B2-4936-8425-A1CE60BE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B953-19E5-4EE7-B135-087B2A2B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A7984-41BD-49B9-B655-D65E9EFF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E06C7-5109-4DE1-A8FE-19CD4119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082-7334-463C-A3F1-C51DFB72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CAD0E-9578-465E-A623-980D5AA6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96109-EA31-4354-AC0E-72C36358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A7B6-FB5A-49E4-B4F1-D8CDCF99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804C-4052-4566-92FE-F7FFE1E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ED3C-8A29-40D2-BE0E-EBF24FA4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9B48C-F3E6-403F-9BA8-BB85F163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BB39-D9CF-41F5-9C35-12A0D250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187BE-B2DB-41F7-A2E2-EBD9E4A6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7F17-CA72-47E2-A08A-09607D80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EAED7-5C91-46AD-8E3B-2DEBD624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00E-921E-4107-9A28-6569CB54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33B57-43D8-4E46-96C9-F772F1EA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08360-6249-473A-8F35-08091067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FCFB1-0A31-4F25-8724-2F1A6408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06384-1221-455F-BF4E-8125B3DE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9B0C5-40AD-452E-BC7C-57D0F36A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89344-8DF6-4C0B-9DE2-C7B646C0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3B7F0-14F6-4DA7-9237-67E2C596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92CD-E4AD-4D8D-808A-8D1D6A6B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DDB83-86FC-4E7A-B1BB-6DD6F9C4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9B9BB-91CB-450B-A9A5-5D0F3233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341-6000-4250-A6BE-9F296DA5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190AB-8283-4A5F-AD5B-68073F4E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AD373-89D4-4C69-A187-50DC7575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4F929-A13B-4B6B-9F70-359C7627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BED3C-E107-4103-B0A4-5D068ACD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04F28-DCA8-4843-8B75-FB60F9AE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89456-B972-4DBA-B1B3-BEBCA2A2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D6C20-9824-4104-9F00-D37C9EA9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58FBD-6D81-45BE-85A7-84566992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182F0-0A43-4EF7-BF3A-FDC07C90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CA9E9-26F8-454F-A5D9-E215C4EF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437-EC8B-4658-8BE2-1952F2C5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26653-8B5C-40AE-BFDB-DFE024E3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E4900-FADE-4F81-BC1C-E6F66D6D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EB2D8-4722-4571-B529-AFA19DA4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7E8AD-C9D3-44D9-8092-FDE93247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55B62-1AB1-4035-A509-F1015FDD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7FF15-15F8-4CF1-A7DC-140C886D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CD9BF-5BBE-45D8-82EF-9DC18311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879BE-CD5D-49B0-8B21-5201B7FE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0CB24-6B69-411D-8C44-79B35933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89D65-B35F-4A06-9146-633A0CDA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E56-3765-4434-A8D0-E149DA3D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8A257-B63D-4444-BD71-7AA43F08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6ED31-5409-422F-9D2B-6F555EE9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1184D-72C8-4A47-B651-AA695C7A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35A4B-EE3A-4659-A07A-54BB2211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43118-227D-49A2-917D-90C1F845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E947B-9C24-4A25-8837-6A95DDAD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2274E-2EEC-465E-9040-D62B97D8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3E324-FC26-4FD1-BD57-0DF47C36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85CED-3AE9-4679-9036-04431B88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C4514-9014-4056-8450-C8A769E8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7D2-69E5-4BAC-B6AC-512D1F36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3B5E4-F6FD-48F9-9D3E-80B056BE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90E4E-E7F6-41EF-8F04-B86AECC5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F76FC-CB35-4D27-BD3E-A6E62555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9CFD1-54C9-493F-9DE5-AAF929F5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37DF5-4CDE-4805-A132-D08A694A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9D090-E023-4F03-8442-443BEB60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38D3F-4CAB-4268-8B18-0B338C15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A0FBC8-2D0F-4C32-AC39-41BB408A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02AD15-3ED9-40F1-A17E-0BCDB6A3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B2BD20-823F-4F43-948B-2E30681F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40C3-F989-4FC8-B9BE-EA1CE0734319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A6E4-D651-4EBF-AC82-C4DC861F838E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BF85-7797-4F79-915E-6EB9A281AD3D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B696-2626-49DC-BC14-97AC73C62700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C546-4E1C-4DD5-B132-B4CF7DCAF5ED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4DB1-3432-4115-BCA1-F7284BC99709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2BF2-5CE0-40B3-953E-41353F16D499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E806-FE23-4BB8-A8BB-E720DBD5210E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EECD-10FA-4698-991C-B81FBA2B6E63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dt" idx="2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58560" y="765000"/>
            <a:ext cx="7489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овременные педагогические технологии 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художественно-эстетического развития ребенк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Подзаголовок 2"/>
          <p:cNvSpPr/>
          <p:nvPr/>
        </p:nvSpPr>
        <p:spPr>
          <a:xfrm>
            <a:off x="0" y="5033880"/>
            <a:ext cx="89899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Подзаголовок 2"/>
          <p:cNvSpPr/>
          <p:nvPr/>
        </p:nvSpPr>
        <p:spPr>
          <a:xfrm>
            <a:off x="1709640" y="582480"/>
            <a:ext cx="7458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80640"/>
            <a:ext cx="8964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развития творчества дете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Г. Григорьева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79280" y="1752480"/>
            <a:ext cx="878544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должно стать стилем жизни всей группы детского сада или класс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нтересной жизни, эмоционально насыщенные впечатления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позиция педагогов при обучении детей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искусством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дивидуальный особенностей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, вера в силы ребенка, оказание поддержк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е использование методов и приемов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ка заданий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ное отношение процессу и результату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е условия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1280" y="198360"/>
            <a:ext cx="79930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факторами, определяющими своеобразие детского изобразительного творчества, являются: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71280" y="1773360"/>
            <a:ext cx="799308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го воображения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сенсорного опыта ребенка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моциональной отзывчивости на окружающую действительность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художественно – творческих способностей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детьми способов художественно – творческой деятельност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«ситуации успеха» (Белкин А.С.) при оценке продуктов творческой деятельности  детей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0" y="33480"/>
            <a:ext cx="896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ворчества в изобразительной деятельности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71640" y="169992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е, развитие, осознание, оформление замысл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создания изображения (вынашивание и реализация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С.Комаров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ТОДЫ СОДЕЙСТВИЯ РАЗВИТИЮ ТВОРЧЕСТВА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9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А. Ветлугина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диционной технологии выделяет «творческие задания»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42560" y="1928880"/>
            <a:ext cx="79218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– творческие задания по образцу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– творческие задания на сотворчество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– творческие задания на самостоятельное творчество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9218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сорн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предмет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71640" y="1557360"/>
          <a:ext cx="7921440" cy="5121360"/>
        </p:xfrm>
        <a:graphic>
          <a:graphicData uri="http://schemas.openxmlformats.org/drawingml/2006/table">
            <a:tbl>
              <a:tblPr/>
              <a:tblGrid>
                <a:gridCol w="4076640"/>
                <a:gridCol w="3844800"/>
              </a:tblGrid>
              <a:tr h="438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Этапы сенсорного обслед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Речь педаго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Целостное восприятие (эмоциональное, с называнием эстетических характеристик предме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мотрите, какой красивый мишка к нам пришел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ычленение основных частей и их формы (с обязательным обрисовывающим жесто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есть у мишки? Какой оно формы? Еще что еще есть у мишки?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равнение основных частей между собой по величине и месту по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больше: туловище или голова? Где расположена голов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ычленение дополнительных частей или деталей с вычленением и называнием их формы, количества, величины, местополож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 использовать обрисовывающий жест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еще есть у мишки? Сколько их? Какой формы? Где расположены? Какие больш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Целостное восприятие предмета с установкой на его изображ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т такого мишку мы сейчас будем рисова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«ТРИЗ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С.Альтшулл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42920" y="1980720"/>
            <a:ext cx="7632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ниверсальная методическая система, которая сочетает познавательную деятельность с методами активизации и развития мышления, что позволяет ребенку решать творческие и социальные задачи самостоятельно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Принципы технологии ТРИЗ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8000" y="2060280"/>
            <a:ext cx="8070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нятие психологического барьера перед неизвестными проблемами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уманистический характер обучения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ормирование нестандартного образа мышления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актико-ориентированное внедрение идей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технология ТРИЗ </a:t>
            </a:r>
            <a:r>
              <a:rPr b="1" lang="ru-RU" sz="2700" spc="-1" strike="noStrike">
                <a:solidFill>
                  <a:srgbClr val="572314"/>
                </a:solidFill>
                <a:latin typeface="Corbel"/>
              </a:rPr>
              <a:t>формирует у детей такие мыслительные способности, как:</a:t>
            </a:r>
            <a:endParaRPr b="0" lang="en-US" sz="27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8000" y="2060280"/>
            <a:ext cx="8070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ние анализировать, рассуждать, обосновывать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ние  обобщать, делать выводы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ние оригинально и гибко мыслить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ние активно использовать воображени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921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«фокальных объектов»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116000" y="1701720"/>
          <a:ext cx="7777080" cy="4973760"/>
        </p:xfrm>
        <a:graphic>
          <a:graphicData uri="http://schemas.openxmlformats.org/drawingml/2006/table">
            <a:tbl>
              <a:tblPr/>
              <a:tblGrid>
                <a:gridCol w="3887640"/>
                <a:gridCol w="388944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Качества объекта в фокус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(например: ел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Качества фантастического живот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971280" y="692280"/>
            <a:ext cx="76914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- это совокупность приемов, применяемых в каком-либо деле, мастерстве, искусств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лковый словарь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 - совокупность психолого-педагогических установок, определяющих специальный набор и компоновку форм, методов, способов, приемов обучения, воспитательных средств; она есть организационно-методический инструментарий педагогического проце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.Т.Лихачев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 - это содержательная техника реализации учебного проце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П.Беспалько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 - это описание процесса достижения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.П.Волк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921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«фокальных объектов»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971640" y="1700280"/>
          <a:ext cx="7921440" cy="497520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Качества объекта в фокус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(например: ел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Качества фантастического живот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юч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я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мат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921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«фокальных объектов»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042920" y="1197000"/>
          <a:ext cx="7850160" cy="5888160"/>
        </p:xfrm>
        <a:graphic>
          <a:graphicData uri="http://schemas.openxmlformats.org/drawingml/2006/table">
            <a:tbl>
              <a:tblPr/>
              <a:tblGrid>
                <a:gridCol w="3925800"/>
                <a:gridCol w="3924360"/>
              </a:tblGrid>
              <a:tr h="150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Качества объекта в фокус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(например: ел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271c"/>
                          </a:solidFill>
                          <a:latin typeface="Times New Roman"/>
                          <a:ea typeface="Times New Roman"/>
                        </a:rPr>
                        <a:t>Качества фантастического живот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юч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я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мат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рыто колючками, жесткой шер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рсть зеленого ц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ромные лапы, с трудом их передвига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ое огромное, высо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шерсти яркие пят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рсть длинная, лохмат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31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42920" y="836280"/>
            <a:ext cx="7850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для определения места линии горизонт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для понимания способов передачи глубины пространств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для понимания способов выделение в рисунке сюжетно – композиционного центр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 взаимодействия героев в двухфигурной композици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многофигурной композици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для определения времени года, погоды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71280" y="151920"/>
            <a:ext cx="7993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1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. Модели для определения места линий горизонта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57" name="Группа 1"/>
          <p:cNvGrpSpPr/>
          <p:nvPr/>
        </p:nvGrpSpPr>
        <p:grpSpPr>
          <a:xfrm>
            <a:off x="177840" y="2347920"/>
            <a:ext cx="2665440" cy="1657440"/>
            <a:chOff x="177840" y="2347920"/>
            <a:chExt cx="2665440" cy="1657440"/>
          </a:xfrm>
        </p:grpSpPr>
        <p:sp>
          <p:nvSpPr>
            <p:cNvPr id="458" name="Rectangle 5"/>
            <p:cNvSpPr/>
            <p:nvPr/>
          </p:nvSpPr>
          <p:spPr>
            <a:xfrm>
              <a:off x="177840" y="2347920"/>
              <a:ext cx="2664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177840" y="2852640"/>
              <a:ext cx="26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0" name="Группа 2"/>
          <p:cNvGrpSpPr/>
          <p:nvPr/>
        </p:nvGrpSpPr>
        <p:grpSpPr>
          <a:xfrm>
            <a:off x="3203640" y="2347920"/>
            <a:ext cx="2665440" cy="1657440"/>
            <a:chOff x="3203640" y="2347920"/>
            <a:chExt cx="2665440" cy="1657440"/>
          </a:xfrm>
        </p:grpSpPr>
        <p:sp>
          <p:nvSpPr>
            <p:cNvPr id="461" name="Rectangle 6"/>
            <p:cNvSpPr/>
            <p:nvPr/>
          </p:nvSpPr>
          <p:spPr>
            <a:xfrm>
              <a:off x="3203640" y="2347920"/>
              <a:ext cx="2664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>
              <a:off x="3203640" y="2563560"/>
              <a:ext cx="26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Группа 3"/>
          <p:cNvGrpSpPr/>
          <p:nvPr/>
        </p:nvGrpSpPr>
        <p:grpSpPr>
          <a:xfrm>
            <a:off x="6227640" y="2347920"/>
            <a:ext cx="2665440" cy="1657440"/>
            <a:chOff x="6227640" y="2347920"/>
            <a:chExt cx="2665440" cy="1657440"/>
          </a:xfrm>
        </p:grpSpPr>
        <p:sp>
          <p:nvSpPr>
            <p:cNvPr id="464" name="Rectangle 7"/>
            <p:cNvSpPr/>
            <p:nvPr/>
          </p:nvSpPr>
          <p:spPr>
            <a:xfrm>
              <a:off x="6227640" y="2347920"/>
              <a:ext cx="2664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0"/>
            <p:cNvSpPr/>
            <p:nvPr/>
          </p:nvSpPr>
          <p:spPr>
            <a:xfrm>
              <a:off x="6227640" y="3645000"/>
              <a:ext cx="26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Text Box 11"/>
          <p:cNvSpPr/>
          <p:nvPr/>
        </p:nvSpPr>
        <p:spPr>
          <a:xfrm>
            <a:off x="179280" y="445608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яя линия горизон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3132000" y="44560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ая линия горизон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6229440" y="445608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зкая линия горизон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41400"/>
            <a:ext cx="9036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2. Модели для понимания способов передачи глубины пространств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70" name="Группа 3"/>
          <p:cNvGrpSpPr/>
          <p:nvPr/>
        </p:nvGrpSpPr>
        <p:grpSpPr>
          <a:xfrm>
            <a:off x="5299200" y="4481640"/>
            <a:ext cx="3024000" cy="1224000"/>
            <a:chOff x="5299200" y="4481640"/>
            <a:chExt cx="3024000" cy="1224000"/>
          </a:xfrm>
        </p:grpSpPr>
        <p:sp>
          <p:nvSpPr>
            <p:cNvPr id="471" name="Rectangle 6"/>
            <p:cNvSpPr/>
            <p:nvPr/>
          </p:nvSpPr>
          <p:spPr>
            <a:xfrm>
              <a:off x="5299200" y="4481640"/>
              <a:ext cx="302400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>
              <a:off x="5299200" y="4697280"/>
              <a:ext cx="30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Freeform 17"/>
            <p:cNvSpPr/>
            <p:nvPr/>
          </p:nvSpPr>
          <p:spPr>
            <a:xfrm>
              <a:off x="5875200" y="4768920"/>
              <a:ext cx="1376280" cy="836640"/>
            </a:xfrm>
            <a:custGeom>
              <a:avLst/>
              <a:gdLst>
                <a:gd name="textAreaLeft" fmla="*/ 0 w 1376280"/>
                <a:gd name="textAreaRight" fmla="*/ 1376640 w 137628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867" h="508">
                  <a:moveTo>
                    <a:pt x="0" y="508"/>
                  </a:moveTo>
                  <a:cubicBezTo>
                    <a:pt x="20" y="477"/>
                    <a:pt x="22" y="435"/>
                    <a:pt x="47" y="407"/>
                  </a:cubicBezTo>
                  <a:cubicBezTo>
                    <a:pt x="47" y="407"/>
                    <a:pt x="98" y="356"/>
                    <a:pt x="108" y="346"/>
                  </a:cubicBezTo>
                  <a:cubicBezTo>
                    <a:pt x="114" y="340"/>
                    <a:pt x="116" y="331"/>
                    <a:pt x="122" y="325"/>
                  </a:cubicBezTo>
                  <a:cubicBezTo>
                    <a:pt x="158" y="293"/>
                    <a:pt x="205" y="277"/>
                    <a:pt x="244" y="251"/>
                  </a:cubicBezTo>
                  <a:cubicBezTo>
                    <a:pt x="274" y="231"/>
                    <a:pt x="291" y="202"/>
                    <a:pt x="325" y="190"/>
                  </a:cubicBezTo>
                  <a:cubicBezTo>
                    <a:pt x="404" y="111"/>
                    <a:pt x="530" y="114"/>
                    <a:pt x="630" y="82"/>
                  </a:cubicBezTo>
                  <a:cubicBezTo>
                    <a:pt x="659" y="73"/>
                    <a:pt x="683" y="53"/>
                    <a:pt x="711" y="41"/>
                  </a:cubicBezTo>
                  <a:cubicBezTo>
                    <a:pt x="754" y="22"/>
                    <a:pt x="820" y="0"/>
                    <a:pt x="86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Freeform 21"/>
            <p:cNvSpPr/>
            <p:nvPr/>
          </p:nvSpPr>
          <p:spPr>
            <a:xfrm>
              <a:off x="6745320" y="4745160"/>
              <a:ext cx="852480" cy="93672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537" h="590">
                  <a:moveTo>
                    <a:pt x="0" y="590"/>
                  </a:moveTo>
                  <a:cubicBezTo>
                    <a:pt x="15" y="542"/>
                    <a:pt x="8" y="563"/>
                    <a:pt x="20" y="529"/>
                  </a:cubicBezTo>
                  <a:cubicBezTo>
                    <a:pt x="22" y="522"/>
                    <a:pt x="27" y="509"/>
                    <a:pt x="27" y="509"/>
                  </a:cubicBezTo>
                  <a:cubicBezTo>
                    <a:pt x="34" y="460"/>
                    <a:pt x="46" y="420"/>
                    <a:pt x="74" y="380"/>
                  </a:cubicBezTo>
                  <a:cubicBezTo>
                    <a:pt x="86" y="345"/>
                    <a:pt x="105" y="326"/>
                    <a:pt x="135" y="305"/>
                  </a:cubicBezTo>
                  <a:cubicBezTo>
                    <a:pt x="154" y="278"/>
                    <a:pt x="183" y="275"/>
                    <a:pt x="210" y="258"/>
                  </a:cubicBezTo>
                  <a:cubicBezTo>
                    <a:pt x="245" y="201"/>
                    <a:pt x="200" y="264"/>
                    <a:pt x="243" y="231"/>
                  </a:cubicBezTo>
                  <a:cubicBezTo>
                    <a:pt x="284" y="199"/>
                    <a:pt x="313" y="159"/>
                    <a:pt x="365" y="143"/>
                  </a:cubicBezTo>
                  <a:cubicBezTo>
                    <a:pt x="395" y="123"/>
                    <a:pt x="411" y="94"/>
                    <a:pt x="440" y="75"/>
                  </a:cubicBezTo>
                  <a:cubicBezTo>
                    <a:pt x="459" y="49"/>
                    <a:pt x="486" y="28"/>
                    <a:pt x="515" y="14"/>
                  </a:cubicBezTo>
                  <a:cubicBezTo>
                    <a:pt x="537" y="3"/>
                    <a:pt x="535" y="15"/>
                    <a:pt x="5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5" name="Группа 1"/>
          <p:cNvGrpSpPr/>
          <p:nvPr/>
        </p:nvGrpSpPr>
        <p:grpSpPr>
          <a:xfrm>
            <a:off x="539640" y="2133720"/>
            <a:ext cx="3024360" cy="1224000"/>
            <a:chOff x="539640" y="2133720"/>
            <a:chExt cx="3024360" cy="1224000"/>
          </a:xfrm>
        </p:grpSpPr>
        <p:sp>
          <p:nvSpPr>
            <p:cNvPr id="476" name="Rectangle 5"/>
            <p:cNvSpPr/>
            <p:nvPr/>
          </p:nvSpPr>
          <p:spPr>
            <a:xfrm>
              <a:off x="539640" y="2133720"/>
              <a:ext cx="30243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Line 9"/>
            <p:cNvSpPr/>
            <p:nvPr/>
          </p:nvSpPr>
          <p:spPr>
            <a:xfrm>
              <a:off x="539640" y="256536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AutoShape 22"/>
            <p:cNvSpPr/>
            <p:nvPr/>
          </p:nvSpPr>
          <p:spPr>
            <a:xfrm>
              <a:off x="971280" y="2349360"/>
              <a:ext cx="215640" cy="50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AutoShape 23"/>
            <p:cNvSpPr/>
            <p:nvPr/>
          </p:nvSpPr>
          <p:spPr>
            <a:xfrm>
              <a:off x="1834920" y="2205000"/>
              <a:ext cx="50472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AutoShape 25"/>
            <p:cNvSpPr/>
            <p:nvPr/>
          </p:nvSpPr>
          <p:spPr>
            <a:xfrm>
              <a:off x="3132360" y="2276640"/>
              <a:ext cx="360360" cy="57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1" name="Группа 2"/>
          <p:cNvGrpSpPr/>
          <p:nvPr/>
        </p:nvGrpSpPr>
        <p:grpSpPr>
          <a:xfrm>
            <a:off x="5297400" y="2133720"/>
            <a:ext cx="3025800" cy="1224000"/>
            <a:chOff x="5297400" y="2133720"/>
            <a:chExt cx="3025800" cy="1224000"/>
          </a:xfrm>
        </p:grpSpPr>
        <p:sp>
          <p:nvSpPr>
            <p:cNvPr id="482" name="Rectangle 8"/>
            <p:cNvSpPr/>
            <p:nvPr/>
          </p:nvSpPr>
          <p:spPr>
            <a:xfrm>
              <a:off x="5297400" y="2133720"/>
              <a:ext cx="302580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Line 12"/>
            <p:cNvSpPr/>
            <p:nvPr/>
          </p:nvSpPr>
          <p:spPr>
            <a:xfrm>
              <a:off x="5297400" y="242100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AutoShape 26"/>
            <p:cNvSpPr/>
            <p:nvPr/>
          </p:nvSpPr>
          <p:spPr>
            <a:xfrm>
              <a:off x="5800680" y="2205000"/>
              <a:ext cx="432000" cy="792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AutoShape 27"/>
            <p:cNvSpPr/>
            <p:nvPr/>
          </p:nvSpPr>
          <p:spPr>
            <a:xfrm>
              <a:off x="7386120" y="2349360"/>
              <a:ext cx="360360" cy="792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6" name="Группа 4"/>
          <p:cNvGrpSpPr/>
          <p:nvPr/>
        </p:nvGrpSpPr>
        <p:grpSpPr>
          <a:xfrm>
            <a:off x="539640" y="4481640"/>
            <a:ext cx="3024360" cy="1224000"/>
            <a:chOff x="539640" y="4481640"/>
            <a:chExt cx="3024360" cy="1224000"/>
          </a:xfrm>
        </p:grpSpPr>
        <p:sp>
          <p:nvSpPr>
            <p:cNvPr id="487" name="Rectangle 7"/>
            <p:cNvSpPr/>
            <p:nvPr/>
          </p:nvSpPr>
          <p:spPr>
            <a:xfrm>
              <a:off x="539640" y="4481640"/>
              <a:ext cx="30243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Line 11"/>
            <p:cNvSpPr/>
            <p:nvPr/>
          </p:nvSpPr>
          <p:spPr>
            <a:xfrm>
              <a:off x="539640" y="491328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Freeform 15"/>
            <p:cNvSpPr/>
            <p:nvPr/>
          </p:nvSpPr>
          <p:spPr>
            <a:xfrm>
              <a:off x="752400" y="4552920"/>
              <a:ext cx="1947960" cy="28872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61" h="176">
                  <a:moveTo>
                    <a:pt x="0" y="0"/>
                  </a:moveTo>
                  <a:cubicBezTo>
                    <a:pt x="66" y="2"/>
                    <a:pt x="131" y="3"/>
                    <a:pt x="197" y="7"/>
                  </a:cubicBezTo>
                  <a:cubicBezTo>
                    <a:pt x="232" y="9"/>
                    <a:pt x="279" y="34"/>
                    <a:pt x="312" y="41"/>
                  </a:cubicBezTo>
                  <a:cubicBezTo>
                    <a:pt x="373" y="54"/>
                    <a:pt x="425" y="63"/>
                    <a:pt x="488" y="68"/>
                  </a:cubicBezTo>
                  <a:cubicBezTo>
                    <a:pt x="543" y="82"/>
                    <a:pt x="595" y="99"/>
                    <a:pt x="651" y="109"/>
                  </a:cubicBezTo>
                  <a:cubicBezTo>
                    <a:pt x="704" y="135"/>
                    <a:pt x="654" y="114"/>
                    <a:pt x="746" y="129"/>
                  </a:cubicBezTo>
                  <a:cubicBezTo>
                    <a:pt x="767" y="132"/>
                    <a:pt x="781" y="147"/>
                    <a:pt x="800" y="156"/>
                  </a:cubicBezTo>
                  <a:cubicBezTo>
                    <a:pt x="813" y="162"/>
                    <a:pt x="827" y="166"/>
                    <a:pt x="841" y="170"/>
                  </a:cubicBezTo>
                  <a:cubicBezTo>
                    <a:pt x="848" y="172"/>
                    <a:pt x="861" y="176"/>
                    <a:pt x="861" y="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AutoShape 28"/>
            <p:cNvSpPr/>
            <p:nvPr/>
          </p:nvSpPr>
          <p:spPr>
            <a:xfrm>
              <a:off x="1476360" y="4552920"/>
              <a:ext cx="287280" cy="504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Oval 29"/>
            <p:cNvSpPr/>
            <p:nvPr/>
          </p:nvSpPr>
          <p:spPr>
            <a:xfrm>
              <a:off x="1042920" y="4626000"/>
              <a:ext cx="28872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1187280" y="5058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Line 34"/>
            <p:cNvSpPr/>
            <p:nvPr/>
          </p:nvSpPr>
          <p:spPr>
            <a:xfrm>
              <a:off x="1619280" y="5058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AutoShape 35"/>
            <p:cNvSpPr/>
            <p:nvPr/>
          </p:nvSpPr>
          <p:spPr>
            <a:xfrm>
              <a:off x="2843280" y="4552920"/>
              <a:ext cx="576360" cy="936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Line 38"/>
            <p:cNvSpPr/>
            <p:nvPr/>
          </p:nvSpPr>
          <p:spPr>
            <a:xfrm>
              <a:off x="3132360" y="45529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41"/>
            <p:cNvSpPr/>
            <p:nvPr/>
          </p:nvSpPr>
          <p:spPr>
            <a:xfrm>
              <a:off x="2882880" y="5251680"/>
              <a:ext cx="247680" cy="1396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56" h="88">
                  <a:moveTo>
                    <a:pt x="0" y="88"/>
                  </a:moveTo>
                  <a:cubicBezTo>
                    <a:pt x="5" y="81"/>
                    <a:pt x="7" y="72"/>
                    <a:pt x="14" y="68"/>
                  </a:cubicBezTo>
                  <a:cubicBezTo>
                    <a:pt x="26" y="60"/>
                    <a:pt x="42" y="62"/>
                    <a:pt x="54" y="54"/>
                  </a:cubicBezTo>
                  <a:cubicBezTo>
                    <a:pt x="68" y="45"/>
                    <a:pt x="81" y="36"/>
                    <a:pt x="95" y="27"/>
                  </a:cubicBezTo>
                  <a:cubicBezTo>
                    <a:pt x="103" y="22"/>
                    <a:pt x="156" y="18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Freeform 42"/>
            <p:cNvSpPr/>
            <p:nvPr/>
          </p:nvSpPr>
          <p:spPr>
            <a:xfrm>
              <a:off x="3130560" y="5272200"/>
              <a:ext cx="258480" cy="75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63" h="48">
                  <a:moveTo>
                    <a:pt x="0" y="0"/>
                  </a:moveTo>
                  <a:cubicBezTo>
                    <a:pt x="43" y="9"/>
                    <a:pt x="125" y="48"/>
                    <a:pt x="163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Freeform 43"/>
            <p:cNvSpPr/>
            <p:nvPr/>
          </p:nvSpPr>
          <p:spPr>
            <a:xfrm>
              <a:off x="2948040" y="5100840"/>
              <a:ext cx="171360" cy="745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8" h="47">
                  <a:moveTo>
                    <a:pt x="0" y="47"/>
                  </a:moveTo>
                  <a:cubicBezTo>
                    <a:pt x="29" y="41"/>
                    <a:pt x="43" y="33"/>
                    <a:pt x="68" y="20"/>
                  </a:cubicBezTo>
                  <a:cubicBezTo>
                    <a:pt x="74" y="17"/>
                    <a:pt x="82" y="16"/>
                    <a:pt x="88" y="13"/>
                  </a:cubicBezTo>
                  <a:cubicBezTo>
                    <a:pt x="95" y="9"/>
                    <a:pt x="108" y="0"/>
                    <a:pt x="1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Freeform 44"/>
            <p:cNvSpPr/>
            <p:nvPr/>
          </p:nvSpPr>
          <p:spPr>
            <a:xfrm>
              <a:off x="3130560" y="5100840"/>
              <a:ext cx="182520" cy="53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5" h="34">
                  <a:moveTo>
                    <a:pt x="0" y="0"/>
                  </a:moveTo>
                  <a:cubicBezTo>
                    <a:pt x="36" y="13"/>
                    <a:pt x="76" y="34"/>
                    <a:pt x="115" y="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Freeform 45"/>
            <p:cNvSpPr/>
            <p:nvPr/>
          </p:nvSpPr>
          <p:spPr>
            <a:xfrm>
              <a:off x="3002040" y="4929120"/>
              <a:ext cx="139680" cy="63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88" h="40">
                  <a:moveTo>
                    <a:pt x="0" y="40"/>
                  </a:moveTo>
                  <a:cubicBezTo>
                    <a:pt x="31" y="29"/>
                    <a:pt x="54" y="0"/>
                    <a:pt x="8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Freeform 46"/>
            <p:cNvSpPr/>
            <p:nvPr/>
          </p:nvSpPr>
          <p:spPr>
            <a:xfrm>
              <a:off x="3130560" y="4938840"/>
              <a:ext cx="139680" cy="53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8" h="34">
                  <a:moveTo>
                    <a:pt x="0" y="0"/>
                  </a:moveTo>
                  <a:cubicBezTo>
                    <a:pt x="19" y="7"/>
                    <a:pt x="71" y="17"/>
                    <a:pt x="88" y="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Text Box 47"/>
          <p:cNvSpPr/>
          <p:nvPr/>
        </p:nvSpPr>
        <p:spPr>
          <a:xfrm>
            <a:off x="539640" y="342900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даленные предметы уменьшаются в размер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49"/>
          <p:cNvSpPr/>
          <p:nvPr/>
        </p:nvSpPr>
        <p:spPr>
          <a:xfrm>
            <a:off x="5364000" y="580536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даленные предметы уменьшаются в размер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50"/>
          <p:cNvSpPr/>
          <p:nvPr/>
        </p:nvSpPr>
        <p:spPr>
          <a:xfrm>
            <a:off x="4859280" y="3429000"/>
            <a:ext cx="410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ания удаленных предметов расположены ближе к линии горизонта и дальше от нижнего края лис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51"/>
          <p:cNvSpPr/>
          <p:nvPr/>
        </p:nvSpPr>
        <p:spPr>
          <a:xfrm>
            <a:off x="539640" y="580536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ем дальше предмет, тем меньше деталей он име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3. </a:t>
            </a: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дели для понимания способов выделение в рисунке сюжетно - композиционного центр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507" name="Группа 1"/>
          <p:cNvGrpSpPr/>
          <p:nvPr/>
        </p:nvGrpSpPr>
        <p:grpSpPr>
          <a:xfrm>
            <a:off x="1116000" y="1773360"/>
            <a:ext cx="1944720" cy="1512720"/>
            <a:chOff x="1116000" y="1773360"/>
            <a:chExt cx="1944720" cy="1512720"/>
          </a:xfrm>
        </p:grpSpPr>
        <p:sp>
          <p:nvSpPr>
            <p:cNvPr id="508" name="Rectangle 10"/>
            <p:cNvSpPr/>
            <p:nvPr/>
          </p:nvSpPr>
          <p:spPr>
            <a:xfrm>
              <a:off x="1116000" y="1773360"/>
              <a:ext cx="194472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AutoShape 14"/>
            <p:cNvSpPr/>
            <p:nvPr/>
          </p:nvSpPr>
          <p:spPr>
            <a:xfrm>
              <a:off x="1908000" y="1844640"/>
              <a:ext cx="358560" cy="100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" name="Группа 2"/>
          <p:cNvGrpSpPr/>
          <p:nvPr/>
        </p:nvGrpSpPr>
        <p:grpSpPr>
          <a:xfrm>
            <a:off x="6012000" y="1773360"/>
            <a:ext cx="1944720" cy="1512720"/>
            <a:chOff x="6012000" y="1773360"/>
            <a:chExt cx="1944720" cy="1512720"/>
          </a:xfrm>
        </p:grpSpPr>
        <p:sp>
          <p:nvSpPr>
            <p:cNvPr id="511" name="Rectangle 13"/>
            <p:cNvSpPr/>
            <p:nvPr/>
          </p:nvSpPr>
          <p:spPr>
            <a:xfrm>
              <a:off x="6012000" y="1773360"/>
              <a:ext cx="194472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AutoShape 15"/>
            <p:cNvSpPr/>
            <p:nvPr/>
          </p:nvSpPr>
          <p:spPr>
            <a:xfrm>
              <a:off x="7525080" y="1989000"/>
              <a:ext cx="358560" cy="100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AutoShape 16"/>
            <p:cNvSpPr/>
            <p:nvPr/>
          </p:nvSpPr>
          <p:spPr>
            <a:xfrm>
              <a:off x="6877080" y="1989000"/>
              <a:ext cx="358560" cy="100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AutoShape 17"/>
            <p:cNvSpPr/>
            <p:nvPr/>
          </p:nvSpPr>
          <p:spPr>
            <a:xfrm>
              <a:off x="6156360" y="1989000"/>
              <a:ext cx="358560" cy="10080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5" name="Группа 3"/>
          <p:cNvGrpSpPr/>
          <p:nvPr/>
        </p:nvGrpSpPr>
        <p:grpSpPr>
          <a:xfrm>
            <a:off x="1042920" y="4363920"/>
            <a:ext cx="1944720" cy="1513080"/>
            <a:chOff x="1042920" y="4363920"/>
            <a:chExt cx="1944720" cy="1513080"/>
          </a:xfrm>
        </p:grpSpPr>
        <p:sp>
          <p:nvSpPr>
            <p:cNvPr id="516" name="Rectangle 12"/>
            <p:cNvSpPr/>
            <p:nvPr/>
          </p:nvSpPr>
          <p:spPr>
            <a:xfrm>
              <a:off x="1042920" y="4363920"/>
              <a:ext cx="194472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8"/>
            <p:cNvSpPr/>
            <p:nvPr/>
          </p:nvSpPr>
          <p:spPr>
            <a:xfrm>
              <a:off x="1187280" y="4508280"/>
              <a:ext cx="504720" cy="936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AutoShape 19"/>
            <p:cNvSpPr/>
            <p:nvPr/>
          </p:nvSpPr>
          <p:spPr>
            <a:xfrm>
              <a:off x="2124000" y="4508280"/>
              <a:ext cx="215640" cy="504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AutoShape 20"/>
            <p:cNvSpPr/>
            <p:nvPr/>
          </p:nvSpPr>
          <p:spPr>
            <a:xfrm>
              <a:off x="2484360" y="4508280"/>
              <a:ext cx="215640" cy="504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Группа 4"/>
          <p:cNvGrpSpPr/>
          <p:nvPr/>
        </p:nvGrpSpPr>
        <p:grpSpPr>
          <a:xfrm>
            <a:off x="6083280" y="4363920"/>
            <a:ext cx="1944720" cy="1513080"/>
            <a:chOff x="6083280" y="4363920"/>
            <a:chExt cx="1944720" cy="1513080"/>
          </a:xfrm>
        </p:grpSpPr>
        <p:sp>
          <p:nvSpPr>
            <p:cNvPr id="521" name="Rectangle 11"/>
            <p:cNvSpPr/>
            <p:nvPr/>
          </p:nvSpPr>
          <p:spPr>
            <a:xfrm>
              <a:off x="6083280" y="4363920"/>
              <a:ext cx="194472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AutoShape 21"/>
            <p:cNvSpPr/>
            <p:nvPr/>
          </p:nvSpPr>
          <p:spPr>
            <a:xfrm>
              <a:off x="6225840" y="4436640"/>
              <a:ext cx="360360" cy="57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AutoShape 22"/>
            <p:cNvSpPr/>
            <p:nvPr/>
          </p:nvSpPr>
          <p:spPr>
            <a:xfrm>
              <a:off x="7450200" y="4581360"/>
              <a:ext cx="215640" cy="43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3"/>
            <p:cNvSpPr/>
            <p:nvPr/>
          </p:nvSpPr>
          <p:spPr>
            <a:xfrm>
              <a:off x="7739280" y="4581360"/>
              <a:ext cx="215640" cy="43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AutoShape 24"/>
            <p:cNvSpPr/>
            <p:nvPr/>
          </p:nvSpPr>
          <p:spPr>
            <a:xfrm>
              <a:off x="7594560" y="5013360"/>
              <a:ext cx="215640" cy="43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AutoShape 25"/>
            <p:cNvSpPr/>
            <p:nvPr/>
          </p:nvSpPr>
          <p:spPr>
            <a:xfrm>
              <a:off x="7307280" y="5013360"/>
              <a:ext cx="215640" cy="43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7" name="Text Box 26"/>
          <p:cNvSpPr/>
          <p:nvPr/>
        </p:nvSpPr>
        <p:spPr>
          <a:xfrm>
            <a:off x="755640" y="3409920"/>
            <a:ext cx="25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лавный герой (предмет) может быть расположен в центр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6083280" y="340992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Главный герой (предмет) выделен цвето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28"/>
          <p:cNvSpPr/>
          <p:nvPr/>
        </p:nvSpPr>
        <p:spPr>
          <a:xfrm>
            <a:off x="684360" y="6093000"/>
            <a:ext cx="29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ыделен размером, величиной, занимает на листе больше мес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29"/>
          <p:cNvSpPr/>
          <p:nvPr/>
        </p:nvSpPr>
        <p:spPr>
          <a:xfrm>
            <a:off x="4535640" y="6021360"/>
            <a:ext cx="44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менение приема изоляция главного героя (предмет): вокруг главного оставлено свободное пространств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4. </a:t>
            </a: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хемы взаимодействия героев в двухфигурной композиции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532" name="Группа 1"/>
          <p:cNvGrpSpPr/>
          <p:nvPr/>
        </p:nvGrpSpPr>
        <p:grpSpPr>
          <a:xfrm>
            <a:off x="934920" y="1665360"/>
            <a:ext cx="2376720" cy="1511280"/>
            <a:chOff x="934920" y="1665360"/>
            <a:chExt cx="2376720" cy="1511280"/>
          </a:xfrm>
        </p:grpSpPr>
        <p:sp>
          <p:nvSpPr>
            <p:cNvPr id="533" name="Rectangle 5"/>
            <p:cNvSpPr/>
            <p:nvPr/>
          </p:nvSpPr>
          <p:spPr>
            <a:xfrm>
              <a:off x="934920" y="1665360"/>
              <a:ext cx="237672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AutoShape 9"/>
            <p:cNvSpPr/>
            <p:nvPr/>
          </p:nvSpPr>
          <p:spPr>
            <a:xfrm>
              <a:off x="1366560" y="216864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AutoShape 10"/>
            <p:cNvSpPr/>
            <p:nvPr/>
          </p:nvSpPr>
          <p:spPr>
            <a:xfrm>
              <a:off x="2448000" y="216864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23"/>
            <p:cNvSpPr/>
            <p:nvPr/>
          </p:nvSpPr>
          <p:spPr>
            <a:xfrm>
              <a:off x="2519640" y="188100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Oval 24"/>
            <p:cNvSpPr/>
            <p:nvPr/>
          </p:nvSpPr>
          <p:spPr>
            <a:xfrm>
              <a:off x="1439640" y="188100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AutoShape 29"/>
            <p:cNvSpPr/>
            <p:nvPr/>
          </p:nvSpPr>
          <p:spPr>
            <a:xfrm>
              <a:off x="1726920" y="195264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" name="Группа 2"/>
          <p:cNvGrpSpPr/>
          <p:nvPr/>
        </p:nvGrpSpPr>
        <p:grpSpPr>
          <a:xfrm>
            <a:off x="6012000" y="1665360"/>
            <a:ext cx="2376360" cy="1511280"/>
            <a:chOff x="6012000" y="1665360"/>
            <a:chExt cx="2376360" cy="1511280"/>
          </a:xfrm>
        </p:grpSpPr>
        <p:sp>
          <p:nvSpPr>
            <p:cNvPr id="540" name="Rectangle 8"/>
            <p:cNvSpPr/>
            <p:nvPr/>
          </p:nvSpPr>
          <p:spPr>
            <a:xfrm>
              <a:off x="6012000" y="1665360"/>
              <a:ext cx="237636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AutoShape 15"/>
            <p:cNvSpPr/>
            <p:nvPr/>
          </p:nvSpPr>
          <p:spPr>
            <a:xfrm>
              <a:off x="7596360" y="216864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AutoShape 16"/>
            <p:cNvSpPr/>
            <p:nvPr/>
          </p:nvSpPr>
          <p:spPr>
            <a:xfrm>
              <a:off x="6588000" y="216864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7667640" y="188100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6659640" y="188100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AutoShape 28"/>
            <p:cNvSpPr/>
            <p:nvPr/>
          </p:nvSpPr>
          <p:spPr>
            <a:xfrm>
              <a:off x="6948360" y="195264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AutoShape 31"/>
            <p:cNvSpPr/>
            <p:nvPr/>
          </p:nvSpPr>
          <p:spPr>
            <a:xfrm flipH="1">
              <a:off x="7524720" y="195264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7" name="Группа 3"/>
          <p:cNvGrpSpPr/>
          <p:nvPr/>
        </p:nvGrpSpPr>
        <p:grpSpPr>
          <a:xfrm>
            <a:off x="934920" y="4359240"/>
            <a:ext cx="2376720" cy="1511280"/>
            <a:chOff x="934920" y="4359240"/>
            <a:chExt cx="2376720" cy="1511280"/>
          </a:xfrm>
        </p:grpSpPr>
        <p:sp>
          <p:nvSpPr>
            <p:cNvPr id="548" name="Rectangle 7"/>
            <p:cNvSpPr/>
            <p:nvPr/>
          </p:nvSpPr>
          <p:spPr>
            <a:xfrm>
              <a:off x="934920" y="4359240"/>
              <a:ext cx="237672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AutoShape 11"/>
            <p:cNvSpPr/>
            <p:nvPr/>
          </p:nvSpPr>
          <p:spPr>
            <a:xfrm>
              <a:off x="2230560" y="486252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AutoShape 12"/>
            <p:cNvSpPr/>
            <p:nvPr/>
          </p:nvSpPr>
          <p:spPr>
            <a:xfrm>
              <a:off x="1366560" y="486252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17"/>
            <p:cNvSpPr/>
            <p:nvPr/>
          </p:nvSpPr>
          <p:spPr>
            <a:xfrm>
              <a:off x="1438200" y="457488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18"/>
            <p:cNvSpPr/>
            <p:nvPr/>
          </p:nvSpPr>
          <p:spPr>
            <a:xfrm>
              <a:off x="2301840" y="457488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AutoShape 32"/>
            <p:cNvSpPr/>
            <p:nvPr/>
          </p:nvSpPr>
          <p:spPr>
            <a:xfrm flipH="1">
              <a:off x="2158920" y="464652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AutoShape 33"/>
            <p:cNvSpPr/>
            <p:nvPr/>
          </p:nvSpPr>
          <p:spPr>
            <a:xfrm flipH="1">
              <a:off x="1293480" y="464652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Группа 4"/>
          <p:cNvGrpSpPr/>
          <p:nvPr/>
        </p:nvGrpSpPr>
        <p:grpSpPr>
          <a:xfrm>
            <a:off x="6012000" y="4359240"/>
            <a:ext cx="2376360" cy="1511280"/>
            <a:chOff x="6012000" y="4359240"/>
            <a:chExt cx="2376360" cy="1511280"/>
          </a:xfrm>
        </p:grpSpPr>
        <p:sp>
          <p:nvSpPr>
            <p:cNvPr id="556" name="Rectangle 6"/>
            <p:cNvSpPr/>
            <p:nvPr/>
          </p:nvSpPr>
          <p:spPr>
            <a:xfrm>
              <a:off x="6012000" y="4359240"/>
              <a:ext cx="237636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AutoShape 13"/>
            <p:cNvSpPr/>
            <p:nvPr/>
          </p:nvSpPr>
          <p:spPr>
            <a:xfrm>
              <a:off x="7594560" y="486252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AutoShape 14"/>
            <p:cNvSpPr/>
            <p:nvPr/>
          </p:nvSpPr>
          <p:spPr>
            <a:xfrm>
              <a:off x="6515280" y="4862520"/>
              <a:ext cx="431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9"/>
            <p:cNvSpPr/>
            <p:nvPr/>
          </p:nvSpPr>
          <p:spPr>
            <a:xfrm>
              <a:off x="7667640" y="457488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20"/>
            <p:cNvSpPr/>
            <p:nvPr/>
          </p:nvSpPr>
          <p:spPr>
            <a:xfrm>
              <a:off x="6586560" y="457488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AutoShape 27"/>
            <p:cNvSpPr/>
            <p:nvPr/>
          </p:nvSpPr>
          <p:spPr>
            <a:xfrm>
              <a:off x="7955280" y="464652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AutoShape 34"/>
            <p:cNvSpPr/>
            <p:nvPr/>
          </p:nvSpPr>
          <p:spPr>
            <a:xfrm flipH="1">
              <a:off x="6443640" y="4646520"/>
              <a:ext cx="142560" cy="144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3" name="Text Box 36"/>
          <p:cNvSpPr/>
          <p:nvPr/>
        </p:nvSpPr>
        <p:spPr>
          <a:xfrm>
            <a:off x="431640" y="3317760"/>
            <a:ext cx="33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лавный герой обращен лицом к зрителю, второй ориентирован на нег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Text Box 37"/>
          <p:cNvSpPr/>
          <p:nvPr/>
        </p:nvSpPr>
        <p:spPr>
          <a:xfrm>
            <a:off x="5327640" y="331776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крытое общение, диалог герое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8"/>
          <p:cNvSpPr/>
          <p:nvPr/>
        </p:nvSpPr>
        <p:spPr>
          <a:xfrm>
            <a:off x="503280" y="601668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дин из героев игнорирует общение (не хочет слушать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ext Box 39"/>
          <p:cNvSpPr/>
          <p:nvPr/>
        </p:nvSpPr>
        <p:spPr>
          <a:xfrm>
            <a:off x="5508720" y="6016680"/>
            <a:ext cx="33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рои не желают общаться (поссорились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964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5. </a:t>
            </a: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строение многофигурной композиции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568" name="Группа 1"/>
          <p:cNvGrpSpPr/>
          <p:nvPr/>
        </p:nvGrpSpPr>
        <p:grpSpPr>
          <a:xfrm>
            <a:off x="395280" y="1627200"/>
            <a:ext cx="2016000" cy="936720"/>
            <a:chOff x="395280" y="1627200"/>
            <a:chExt cx="2016000" cy="936720"/>
          </a:xfrm>
        </p:grpSpPr>
        <p:sp>
          <p:nvSpPr>
            <p:cNvPr id="569" name="Rectangle 5"/>
            <p:cNvSpPr/>
            <p:nvPr/>
          </p:nvSpPr>
          <p:spPr>
            <a:xfrm>
              <a:off x="395280" y="1627200"/>
              <a:ext cx="2016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Oval 8"/>
            <p:cNvSpPr/>
            <p:nvPr/>
          </p:nvSpPr>
          <p:spPr>
            <a:xfrm>
              <a:off x="826920" y="1914480"/>
              <a:ext cx="1224000" cy="43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AutoShape 9"/>
            <p:cNvSpPr/>
            <p:nvPr/>
          </p:nvSpPr>
          <p:spPr>
            <a:xfrm>
              <a:off x="1258920" y="1627200"/>
              <a:ext cx="433080" cy="50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Freeform 13"/>
            <p:cNvSpPr/>
            <p:nvPr/>
          </p:nvSpPr>
          <p:spPr>
            <a:xfrm>
              <a:off x="882360" y="2156040"/>
              <a:ext cx="1163520" cy="23472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33" h="148">
                  <a:moveTo>
                    <a:pt x="20" y="58"/>
                  </a:moveTo>
                  <a:cubicBezTo>
                    <a:pt x="94" y="84"/>
                    <a:pt x="128" y="104"/>
                    <a:pt x="210" y="112"/>
                  </a:cubicBezTo>
                  <a:cubicBezTo>
                    <a:pt x="240" y="120"/>
                    <a:pt x="269" y="129"/>
                    <a:pt x="298" y="139"/>
                  </a:cubicBezTo>
                  <a:cubicBezTo>
                    <a:pt x="363" y="133"/>
                    <a:pt x="440" y="140"/>
                    <a:pt x="501" y="119"/>
                  </a:cubicBezTo>
                  <a:cubicBezTo>
                    <a:pt x="548" y="83"/>
                    <a:pt x="600" y="87"/>
                    <a:pt x="657" y="78"/>
                  </a:cubicBezTo>
                  <a:cubicBezTo>
                    <a:pt x="680" y="70"/>
                    <a:pt x="698" y="58"/>
                    <a:pt x="718" y="44"/>
                  </a:cubicBezTo>
                  <a:cubicBezTo>
                    <a:pt x="733" y="0"/>
                    <a:pt x="702" y="30"/>
                    <a:pt x="677" y="37"/>
                  </a:cubicBezTo>
                  <a:cubicBezTo>
                    <a:pt x="670" y="42"/>
                    <a:pt x="662" y="45"/>
                    <a:pt x="657" y="51"/>
                  </a:cubicBezTo>
                  <a:cubicBezTo>
                    <a:pt x="653" y="57"/>
                    <a:pt x="656" y="68"/>
                    <a:pt x="650" y="71"/>
                  </a:cubicBezTo>
                  <a:cubicBezTo>
                    <a:pt x="633" y="78"/>
                    <a:pt x="614" y="75"/>
                    <a:pt x="596" y="78"/>
                  </a:cubicBezTo>
                  <a:cubicBezTo>
                    <a:pt x="542" y="87"/>
                    <a:pt x="488" y="97"/>
                    <a:pt x="433" y="105"/>
                  </a:cubicBezTo>
                  <a:cubicBezTo>
                    <a:pt x="371" y="127"/>
                    <a:pt x="407" y="118"/>
                    <a:pt x="325" y="126"/>
                  </a:cubicBezTo>
                  <a:cubicBezTo>
                    <a:pt x="227" y="118"/>
                    <a:pt x="129" y="93"/>
                    <a:pt x="34" y="65"/>
                  </a:cubicBezTo>
                  <a:cubicBezTo>
                    <a:pt x="26" y="63"/>
                    <a:pt x="47" y="75"/>
                    <a:pt x="54" y="78"/>
                  </a:cubicBezTo>
                  <a:cubicBezTo>
                    <a:pt x="63" y="82"/>
                    <a:pt x="72" y="82"/>
                    <a:pt x="81" y="85"/>
                  </a:cubicBezTo>
                  <a:cubicBezTo>
                    <a:pt x="101" y="91"/>
                    <a:pt x="121" y="100"/>
                    <a:pt x="142" y="105"/>
                  </a:cubicBezTo>
                  <a:cubicBezTo>
                    <a:pt x="217" y="125"/>
                    <a:pt x="289" y="128"/>
                    <a:pt x="366" y="132"/>
                  </a:cubicBezTo>
                  <a:cubicBezTo>
                    <a:pt x="409" y="129"/>
                    <a:pt x="481" y="127"/>
                    <a:pt x="528" y="119"/>
                  </a:cubicBezTo>
                  <a:cubicBezTo>
                    <a:pt x="552" y="115"/>
                    <a:pt x="573" y="99"/>
                    <a:pt x="596" y="92"/>
                  </a:cubicBezTo>
                  <a:cubicBezTo>
                    <a:pt x="603" y="90"/>
                    <a:pt x="610" y="88"/>
                    <a:pt x="616" y="85"/>
                  </a:cubicBezTo>
                  <a:cubicBezTo>
                    <a:pt x="630" y="77"/>
                    <a:pt x="642" y="63"/>
                    <a:pt x="657" y="58"/>
                  </a:cubicBezTo>
                  <a:cubicBezTo>
                    <a:pt x="662" y="56"/>
                    <a:pt x="698" y="46"/>
                    <a:pt x="698" y="37"/>
                  </a:cubicBezTo>
                  <a:cubicBezTo>
                    <a:pt x="698" y="30"/>
                    <a:pt x="684" y="42"/>
                    <a:pt x="677" y="44"/>
                  </a:cubicBezTo>
                  <a:cubicBezTo>
                    <a:pt x="594" y="102"/>
                    <a:pt x="444" y="87"/>
                    <a:pt x="352" y="92"/>
                  </a:cubicBezTo>
                  <a:cubicBezTo>
                    <a:pt x="313" y="148"/>
                    <a:pt x="343" y="118"/>
                    <a:pt x="203" y="105"/>
                  </a:cubicBezTo>
                  <a:cubicBezTo>
                    <a:pt x="179" y="103"/>
                    <a:pt x="135" y="85"/>
                    <a:pt x="135" y="85"/>
                  </a:cubicBezTo>
                  <a:cubicBezTo>
                    <a:pt x="213" y="133"/>
                    <a:pt x="511" y="95"/>
                    <a:pt x="244" y="112"/>
                  </a:cubicBezTo>
                  <a:cubicBezTo>
                    <a:pt x="292" y="146"/>
                    <a:pt x="328" y="130"/>
                    <a:pt x="393" y="126"/>
                  </a:cubicBezTo>
                  <a:cubicBezTo>
                    <a:pt x="479" y="108"/>
                    <a:pt x="557" y="101"/>
                    <a:pt x="332" y="112"/>
                  </a:cubicBezTo>
                  <a:cubicBezTo>
                    <a:pt x="423" y="136"/>
                    <a:pt x="521" y="128"/>
                    <a:pt x="610" y="98"/>
                  </a:cubicBezTo>
                  <a:cubicBezTo>
                    <a:pt x="631" y="66"/>
                    <a:pt x="612" y="86"/>
                    <a:pt x="643" y="71"/>
                  </a:cubicBezTo>
                  <a:cubicBezTo>
                    <a:pt x="650" y="67"/>
                    <a:pt x="672" y="60"/>
                    <a:pt x="664" y="58"/>
                  </a:cubicBezTo>
                  <a:cubicBezTo>
                    <a:pt x="630" y="48"/>
                    <a:pt x="560" y="93"/>
                    <a:pt x="521" y="98"/>
                  </a:cubicBezTo>
                  <a:cubicBezTo>
                    <a:pt x="458" y="107"/>
                    <a:pt x="360" y="109"/>
                    <a:pt x="305" y="112"/>
                  </a:cubicBezTo>
                  <a:cubicBezTo>
                    <a:pt x="152" y="106"/>
                    <a:pt x="170" y="123"/>
                    <a:pt x="81" y="92"/>
                  </a:cubicBezTo>
                  <a:cubicBezTo>
                    <a:pt x="46" y="80"/>
                    <a:pt x="65" y="88"/>
                    <a:pt x="20" y="58"/>
                  </a:cubicBezTo>
                  <a:cubicBezTo>
                    <a:pt x="13" y="53"/>
                    <a:pt x="0" y="44"/>
                    <a:pt x="0" y="44"/>
                  </a:cubicBezTo>
                  <a:cubicBezTo>
                    <a:pt x="5" y="61"/>
                    <a:pt x="20" y="121"/>
                    <a:pt x="20" y="5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Freeform 14"/>
            <p:cNvSpPr/>
            <p:nvPr/>
          </p:nvSpPr>
          <p:spPr>
            <a:xfrm>
              <a:off x="1409760" y="2229120"/>
              <a:ext cx="473040" cy="16020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98" h="101">
                  <a:moveTo>
                    <a:pt x="0" y="80"/>
                  </a:moveTo>
                  <a:cubicBezTo>
                    <a:pt x="90" y="49"/>
                    <a:pt x="78" y="58"/>
                    <a:pt x="210" y="52"/>
                  </a:cubicBezTo>
                  <a:cubicBezTo>
                    <a:pt x="253" y="39"/>
                    <a:pt x="298" y="34"/>
                    <a:pt x="176" y="46"/>
                  </a:cubicBezTo>
                  <a:cubicBezTo>
                    <a:pt x="117" y="64"/>
                    <a:pt x="102" y="61"/>
                    <a:pt x="20" y="66"/>
                  </a:cubicBezTo>
                  <a:cubicBezTo>
                    <a:pt x="88" y="101"/>
                    <a:pt x="198" y="89"/>
                    <a:pt x="264" y="46"/>
                  </a:cubicBezTo>
                  <a:cubicBezTo>
                    <a:pt x="279" y="0"/>
                    <a:pt x="249" y="30"/>
                    <a:pt x="223" y="39"/>
                  </a:cubicBezTo>
                  <a:cubicBezTo>
                    <a:pt x="250" y="56"/>
                    <a:pt x="262" y="49"/>
                    <a:pt x="291" y="39"/>
                  </a:cubicBezTo>
                  <a:cubicBezTo>
                    <a:pt x="258" y="28"/>
                    <a:pt x="140" y="16"/>
                    <a:pt x="217" y="52"/>
                  </a:cubicBezTo>
                  <a:cubicBezTo>
                    <a:pt x="233" y="50"/>
                    <a:pt x="248" y="46"/>
                    <a:pt x="264" y="46"/>
                  </a:cubicBezTo>
                  <a:cubicBezTo>
                    <a:pt x="278" y="46"/>
                    <a:pt x="237" y="50"/>
                    <a:pt x="223" y="52"/>
                  </a:cubicBezTo>
                  <a:cubicBezTo>
                    <a:pt x="198" y="56"/>
                    <a:pt x="174" y="63"/>
                    <a:pt x="149" y="66"/>
                  </a:cubicBezTo>
                  <a:cubicBezTo>
                    <a:pt x="93" y="73"/>
                    <a:pt x="47" y="73"/>
                    <a:pt x="81" y="7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" name="Группа 2"/>
          <p:cNvGrpSpPr/>
          <p:nvPr/>
        </p:nvGrpSpPr>
        <p:grpSpPr>
          <a:xfrm>
            <a:off x="3564000" y="1627200"/>
            <a:ext cx="2016000" cy="936720"/>
            <a:chOff x="3564000" y="1627200"/>
            <a:chExt cx="2016000" cy="936720"/>
          </a:xfrm>
        </p:grpSpPr>
        <p:sp>
          <p:nvSpPr>
            <p:cNvPr id="575" name="Rectangle 6"/>
            <p:cNvSpPr/>
            <p:nvPr/>
          </p:nvSpPr>
          <p:spPr>
            <a:xfrm>
              <a:off x="3564000" y="1627200"/>
              <a:ext cx="2016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Oval 15"/>
            <p:cNvSpPr/>
            <p:nvPr/>
          </p:nvSpPr>
          <p:spPr>
            <a:xfrm>
              <a:off x="4282920" y="1770120"/>
              <a:ext cx="647640" cy="57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AutoShape 16"/>
            <p:cNvSpPr/>
            <p:nvPr/>
          </p:nvSpPr>
          <p:spPr>
            <a:xfrm>
              <a:off x="4500720" y="1698480"/>
              <a:ext cx="215640" cy="432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Группа 3"/>
          <p:cNvGrpSpPr/>
          <p:nvPr/>
        </p:nvGrpSpPr>
        <p:grpSpPr>
          <a:xfrm>
            <a:off x="6585120" y="1627200"/>
            <a:ext cx="2016000" cy="936720"/>
            <a:chOff x="6585120" y="1627200"/>
            <a:chExt cx="2016000" cy="936720"/>
          </a:xfrm>
        </p:grpSpPr>
        <p:sp>
          <p:nvSpPr>
            <p:cNvPr id="579" name="Rectangle 7"/>
            <p:cNvSpPr/>
            <p:nvPr/>
          </p:nvSpPr>
          <p:spPr>
            <a:xfrm>
              <a:off x="6585120" y="1627200"/>
              <a:ext cx="2016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Oval 17"/>
            <p:cNvSpPr/>
            <p:nvPr/>
          </p:nvSpPr>
          <p:spPr>
            <a:xfrm>
              <a:off x="6945480" y="1770120"/>
              <a:ext cx="1366920" cy="64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AutoShape 18"/>
            <p:cNvSpPr/>
            <p:nvPr/>
          </p:nvSpPr>
          <p:spPr>
            <a:xfrm>
              <a:off x="8097840" y="1698480"/>
              <a:ext cx="215640" cy="216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2" name="Группа 4"/>
          <p:cNvGrpSpPr/>
          <p:nvPr/>
        </p:nvGrpSpPr>
        <p:grpSpPr>
          <a:xfrm>
            <a:off x="379440" y="4294080"/>
            <a:ext cx="1511280" cy="1295640"/>
            <a:chOff x="379440" y="4294080"/>
            <a:chExt cx="1511280" cy="1295640"/>
          </a:xfrm>
        </p:grpSpPr>
        <p:sp>
          <p:nvSpPr>
            <p:cNvPr id="583" name="Rectangle 19"/>
            <p:cNvSpPr/>
            <p:nvPr/>
          </p:nvSpPr>
          <p:spPr>
            <a:xfrm>
              <a:off x="379440" y="4294080"/>
              <a:ext cx="151128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AutoShape 23"/>
            <p:cNvSpPr/>
            <p:nvPr/>
          </p:nvSpPr>
          <p:spPr>
            <a:xfrm>
              <a:off x="523800" y="429408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AutoShape 24"/>
            <p:cNvSpPr/>
            <p:nvPr/>
          </p:nvSpPr>
          <p:spPr>
            <a:xfrm>
              <a:off x="1243080" y="479736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AutoShape 25"/>
            <p:cNvSpPr/>
            <p:nvPr/>
          </p:nvSpPr>
          <p:spPr>
            <a:xfrm>
              <a:off x="1532160" y="465444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AutoShape 33"/>
            <p:cNvSpPr/>
            <p:nvPr/>
          </p:nvSpPr>
          <p:spPr>
            <a:xfrm rot="2000400">
              <a:off x="882360" y="4725720"/>
              <a:ext cx="431640" cy="288720"/>
            </a:xfrm>
            <a:prstGeom prst="leftArrow">
              <a:avLst>
                <a:gd name="adj1" fmla="val 39704"/>
                <a:gd name="adj2" fmla="val 302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8" name="Группа 5"/>
          <p:cNvGrpSpPr/>
          <p:nvPr/>
        </p:nvGrpSpPr>
        <p:grpSpPr>
          <a:xfrm>
            <a:off x="2612880" y="4294080"/>
            <a:ext cx="1511280" cy="1295640"/>
            <a:chOff x="2612880" y="4294080"/>
            <a:chExt cx="1511280" cy="1295640"/>
          </a:xfrm>
        </p:grpSpPr>
        <p:sp>
          <p:nvSpPr>
            <p:cNvPr id="589" name="Rectangle 20"/>
            <p:cNvSpPr/>
            <p:nvPr/>
          </p:nvSpPr>
          <p:spPr>
            <a:xfrm>
              <a:off x="2612880" y="4294080"/>
              <a:ext cx="151128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AutoShape 26"/>
            <p:cNvSpPr/>
            <p:nvPr/>
          </p:nvSpPr>
          <p:spPr>
            <a:xfrm>
              <a:off x="2685600" y="465444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AutoShape 27"/>
            <p:cNvSpPr/>
            <p:nvPr/>
          </p:nvSpPr>
          <p:spPr>
            <a:xfrm>
              <a:off x="3693960" y="465444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AutoShape 34"/>
            <p:cNvSpPr/>
            <p:nvPr/>
          </p:nvSpPr>
          <p:spPr>
            <a:xfrm>
              <a:off x="3117600" y="4797360"/>
              <a:ext cx="431640" cy="288720"/>
            </a:xfrm>
            <a:prstGeom prst="leftArrow">
              <a:avLst>
                <a:gd name="adj1" fmla="val 39704"/>
                <a:gd name="adj2" fmla="val 302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3" name="Группа 6"/>
          <p:cNvGrpSpPr/>
          <p:nvPr/>
        </p:nvGrpSpPr>
        <p:grpSpPr>
          <a:xfrm>
            <a:off x="4932360" y="4294080"/>
            <a:ext cx="1511280" cy="1295640"/>
            <a:chOff x="4932360" y="4294080"/>
            <a:chExt cx="1511280" cy="1295640"/>
          </a:xfrm>
        </p:grpSpPr>
        <p:sp>
          <p:nvSpPr>
            <p:cNvPr id="594" name="Rectangle 21"/>
            <p:cNvSpPr/>
            <p:nvPr/>
          </p:nvSpPr>
          <p:spPr>
            <a:xfrm>
              <a:off x="4932360" y="4294080"/>
              <a:ext cx="151128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AutoShape 28"/>
            <p:cNvSpPr/>
            <p:nvPr/>
          </p:nvSpPr>
          <p:spPr>
            <a:xfrm>
              <a:off x="5003640" y="458136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AutoShape 29"/>
            <p:cNvSpPr/>
            <p:nvPr/>
          </p:nvSpPr>
          <p:spPr>
            <a:xfrm>
              <a:off x="6085080" y="458136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AutoShape 35"/>
            <p:cNvSpPr/>
            <p:nvPr/>
          </p:nvSpPr>
          <p:spPr>
            <a:xfrm>
              <a:off x="5508720" y="4870440"/>
              <a:ext cx="503280" cy="215640"/>
            </a:xfrm>
            <a:prstGeom prst="rightArrow">
              <a:avLst>
                <a:gd name="adj1" fmla="val 50000"/>
                <a:gd name="adj2" fmla="val 583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8" name="Группа 7"/>
          <p:cNvGrpSpPr/>
          <p:nvPr/>
        </p:nvGrpSpPr>
        <p:grpSpPr>
          <a:xfrm>
            <a:off x="7089840" y="4294080"/>
            <a:ext cx="1511280" cy="1295640"/>
            <a:chOff x="7089840" y="4294080"/>
            <a:chExt cx="1511280" cy="1295640"/>
          </a:xfrm>
        </p:grpSpPr>
        <p:sp>
          <p:nvSpPr>
            <p:cNvPr id="599" name="Rectangle 22"/>
            <p:cNvSpPr/>
            <p:nvPr/>
          </p:nvSpPr>
          <p:spPr>
            <a:xfrm>
              <a:off x="7089840" y="4294080"/>
              <a:ext cx="151128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AutoShape 30"/>
            <p:cNvSpPr/>
            <p:nvPr/>
          </p:nvSpPr>
          <p:spPr>
            <a:xfrm>
              <a:off x="7162560" y="436680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AutoShape 31"/>
            <p:cNvSpPr/>
            <p:nvPr/>
          </p:nvSpPr>
          <p:spPr>
            <a:xfrm>
              <a:off x="7954920" y="487044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AutoShape 32"/>
            <p:cNvSpPr/>
            <p:nvPr/>
          </p:nvSpPr>
          <p:spPr>
            <a:xfrm>
              <a:off x="8242560" y="4582800"/>
              <a:ext cx="287280" cy="64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AutoShape 36"/>
            <p:cNvSpPr/>
            <p:nvPr/>
          </p:nvSpPr>
          <p:spPr>
            <a:xfrm rot="1734600">
              <a:off x="7521480" y="4870080"/>
              <a:ext cx="503280" cy="215640"/>
            </a:xfrm>
            <a:prstGeom prst="rightArrow">
              <a:avLst>
                <a:gd name="adj1" fmla="val 50000"/>
                <a:gd name="adj2" fmla="val 583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Text Box 37"/>
          <p:cNvSpPr/>
          <p:nvPr/>
        </p:nvSpPr>
        <p:spPr>
          <a:xfrm>
            <a:off x="179280" y="2708280"/>
            <a:ext cx="252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нцип триптиха, главный герой расположен в центре, остальные по бокам от нег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38"/>
          <p:cNvSpPr/>
          <p:nvPr/>
        </p:nvSpPr>
        <p:spPr>
          <a:xfrm>
            <a:off x="3382920" y="270828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лавный герой расположен внутри кольца, в кругу других героев (хоровод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40"/>
          <p:cNvSpPr/>
          <p:nvPr/>
        </p:nvSpPr>
        <p:spPr>
          <a:xfrm>
            <a:off x="6369120" y="2709720"/>
            <a:ext cx="252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лавный герой расположен в кольце среди других герое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41"/>
          <p:cNvSpPr/>
          <p:nvPr/>
        </p:nvSpPr>
        <p:spPr>
          <a:xfrm>
            <a:off x="0" y="60213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нцип шествия к главному герою или от не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7SWScan000300094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788000" y="5373720"/>
            <a:ext cx="1185840" cy="1266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09" name="Picture 5" descr="41SWScan000300094"/>
          <p:cNvPicPr/>
          <p:nvPr/>
        </p:nvPicPr>
        <p:blipFill>
          <a:blip r:embed="rId2"/>
          <a:stretch/>
        </p:blipFill>
        <p:spPr>
          <a:xfrm>
            <a:off x="684360" y="3860640"/>
            <a:ext cx="1427040" cy="11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10" name="Picture 6" descr="6SWScan000300094"/>
          <p:cNvPicPr/>
          <p:nvPr/>
        </p:nvPicPr>
        <p:blipFill>
          <a:blip r:embed="rId3"/>
          <a:stretch/>
        </p:blipFill>
        <p:spPr>
          <a:xfrm>
            <a:off x="324000" y="5300640"/>
            <a:ext cx="1368360" cy="118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11" name="Picture 7" descr="8SWScan000300094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24720" y="4941720"/>
            <a:ext cx="1204920" cy="129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12" name="Picture 8" descr="5SWScan000300094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5364000" y="3933720"/>
            <a:ext cx="1440000" cy="118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13" name="Picture 9" descr="3SWScan000300094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4498920" y="765000"/>
            <a:ext cx="1657440" cy="10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14" name="Picture 10" descr="2SWScan000300094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2530440" y="757080"/>
            <a:ext cx="1536840" cy="1087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15" name="Picture 11" descr="SWScan000300094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826920" y="765000"/>
            <a:ext cx="1498680" cy="1008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16" name="Picture 12" descr="4SWScan000300094"/>
          <p:cNvPicPr/>
          <p:nvPr/>
        </p:nvPicPr>
        <p:blipFill>
          <a:blip r:embed="rId9">
            <a:lum bright="6000"/>
          </a:blip>
          <a:stretch/>
        </p:blipFill>
        <p:spPr>
          <a:xfrm>
            <a:off x="611280" y="2781360"/>
            <a:ext cx="5256000" cy="87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17" name="Rectangle 14"/>
          <p:cNvSpPr/>
          <p:nvPr/>
        </p:nvSpPr>
        <p:spPr>
          <a:xfrm>
            <a:off x="684360" y="1989000"/>
            <a:ext cx="758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 1 Что изображено на переднем плане, справа, слева, на заднем плане? Какое время года изобразил художни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16"/>
          <p:cNvSpPr/>
          <p:nvPr/>
        </p:nvSpPr>
        <p:spPr>
          <a:xfrm>
            <a:off x="5939280" y="273492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 2 Какая погода?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20"/>
          <p:cNvSpPr/>
          <p:nvPr/>
        </p:nvSpPr>
        <p:spPr>
          <a:xfrm>
            <a:off x="2195640" y="399636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 4 Какие деревья и кусты изобразил художник? Что можно рассказать о н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22"/>
          <p:cNvSpPr/>
          <p:nvPr/>
        </p:nvSpPr>
        <p:spPr>
          <a:xfrm>
            <a:off x="6804000" y="4015080"/>
            <a:ext cx="2089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 5 Расскажите о птица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Rectangle 25"/>
          <p:cNvSpPr/>
          <p:nvPr/>
        </p:nvSpPr>
        <p:spPr>
          <a:xfrm>
            <a:off x="1835280" y="5256000"/>
            <a:ext cx="3168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 6 Какие цвета использовал художник для передачи настроения, состояния погоды, времени года, времени суток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26"/>
          <p:cNvSpPr/>
          <p:nvPr/>
        </p:nvSpPr>
        <p:spPr>
          <a:xfrm>
            <a:off x="6012000" y="5328000"/>
            <a:ext cx="165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 7. Что вы слышит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27"/>
          <p:cNvSpPr/>
          <p:nvPr/>
        </p:nvSpPr>
        <p:spPr>
          <a:xfrm>
            <a:off x="6818040" y="6190920"/>
            <a:ext cx="23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 8. Что вы видите?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47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Прием «Синквейн»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25" name="Объект 3" descr=""/>
          <p:cNvPicPr/>
          <p:nvPr/>
        </p:nvPicPr>
        <p:blipFill>
          <a:blip r:embed="rId1"/>
          <a:stretch/>
        </p:blipFill>
        <p:spPr>
          <a:xfrm>
            <a:off x="1414440" y="1444680"/>
            <a:ext cx="75405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1042920" y="620280"/>
            <a:ext cx="76327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 - это системный метод создания, применения и определения всего процесса преподавания и усвоения знаний с учетом технических и человеческих ресурсов и их взаимодействия, ставящий своей за дачей оптимизацию форм образ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ЮНЕСКО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 означает системную совокупность и порядок функционирования всех личностных, инструментальных и методологических средств, используемых для достижения педагогических целей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В.Кларин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 – содержательное  обобщение, вбирающим в себя смыслы всех определений различных авторов (источников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К.Селевко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2"/>
          <p:cNvSpPr/>
          <p:nvPr/>
        </p:nvSpPr>
        <p:spPr>
          <a:xfrm>
            <a:off x="1042920" y="333360"/>
            <a:ext cx="756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а написания синквейн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строчке тема называется одним словом (обычно существительным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2860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торая строчка - это описание темы в двух словах (двумя прилагательным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2860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ретья строчка - это описание действия в рамках этой темы тремя словами (глаголы, деепричастия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2860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етвертая строчка - это фраза из четырех слов, показывающая отношение к 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2860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следняя строчка - это синоним (метафора) из одного слова, который повторяет суть тем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7640" y="1915920"/>
            <a:ext cx="87850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705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деятельность 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а- это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042920" y="1483920"/>
            <a:ext cx="7850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, в результате которой создается нечто новое, все равно будет ли это какой-нибудь вещью внешнего мира или известным построением ума, или чувства, живущим и обнаруживающимся только в самом человеке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С. Выготский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4920" y="-270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И.Я. Лернер определяет такие черты творческой деятельности: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79280" y="1628640"/>
            <a:ext cx="87854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амостоятельный перенос ранее усвоенных знаний в новую ситуацию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идение новой функции предмета (объекта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идение проблемы в стандартной ситуации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идение структуры объект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особность к альтернативным решениям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мбинирование ранее известных способов деятельности в новый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е творчество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42920" y="1752120"/>
            <a:ext cx="78501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его (детское художественное творчество) рассматриваем в условиях общего эстетического воспитания скорее как метод наиболее  совершенного овладения определенным видом искусства и формирования эстетически развитой личности, чем как создание объективных художественных ценносте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Н. Шацка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414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«Детское изобразительное творчество мы понимаем 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042560" y="1557000"/>
            <a:ext cx="79218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ознательное отражение ребенком окружающей действительности в рисунке, - отражение, которое построено на работе воображения, на отображении своих наблюдений, а также впечатлений, получаемых им через слово, картинку, другие виды искусства. Ребенок не пассивно копирует окружающее, а перерабатывает его в связи с накопленным опытом, отношением к искусству»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А. Флерин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11160" y="19080"/>
            <a:ext cx="89647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творчеств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07640" y="1125360"/>
            <a:ext cx="87850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algn="just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ебенком субъективно (значимого для ребенка прежде всего) нового продукта (рисунка, лепки, аппликации), придумывание к известному новых, ранее не используемых деталей, по – новому характеризующих создаваемый художественный образ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31640" algn="just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усвоенных ранее способов изображения или средств выразительности в новой ситуации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31640" algn="just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 ребенком инициативы во всем, придумывание разных вариантов изображения.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316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                                                    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79280" y="189000"/>
          <a:ext cx="8640720" cy="6435720"/>
        </p:xfrm>
        <a:graphic>
          <a:graphicData uri="http://schemas.openxmlformats.org/drawingml/2006/table">
            <a:tbl>
              <a:tblPr/>
              <a:tblGrid>
                <a:gridCol w="2355840"/>
                <a:gridCol w="3405240"/>
                <a:gridCol w="2879640"/>
              </a:tblGrid>
              <a:tr h="1598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творческой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ть тем, что есть в ИЗ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нового для передачи своих мыслей, чувств в создании ново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ча и  усвоение отработанного человечеством опы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ново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раннее найденных способов действ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етение своих способ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ие опыта, знаний,  умений, навы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чего -то нового, оригинально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ЗАЛИЯ МИХАЙЛОВА</cp:lastModifiedBy>
  <dcterms:modified xsi:type="dcterms:W3CDTF">2019-11-23T16:40:05Z</dcterms:modified>
  <cp:revision>123</cp:revision>
  <dc:subject/>
  <dc:title>PowerPoint Presentation</dc:title>
</cp:coreProperties>
</file>