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578-B9BD-4300-847F-9381631C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4CA-FE58-4817-90BD-AABF7024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D24-1551-4528-B014-B25CBB31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48B-0573-431C-92D0-D3C804B5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10D-7290-4EBC-AD8A-31464486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27F-5B0A-4830-87C5-79E1C25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AE5-7B1A-44A9-9360-36DE498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652-6938-49FF-A30D-24E491D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74E-FBC1-4979-8E18-2BC5D4CA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254-703D-482F-AF66-9B8CE57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E01-CF74-4771-B3EC-AFCE5B2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ECC-B8F5-41BF-ABD7-45BF406F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1727-46A1-48B4-967E-D2007DD24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omic Sans MS"/>
              </a:rPr>
              <a:t>Тропинка с препятствиям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1"/>
          <p:cNvPicPr/>
          <p:nvPr/>
        </p:nvPicPr>
        <p:blipFill>
          <a:blip r:embed="rId1"/>
          <a:stretch/>
        </p:blipFill>
        <p:spPr>
          <a:xfrm>
            <a:off x="1042920" y="1413000"/>
            <a:ext cx="698364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u_9f7d58b0086c8a5d220a5d0b15ecc0e2_800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7451400">
            <a:off x="4549320" y="1241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rc 6"/>
          <p:cNvSpPr/>
          <p:nvPr/>
        </p:nvSpPr>
        <p:spPr>
          <a:xfrm flipH="1">
            <a:off x="6172200" y="1981080"/>
            <a:ext cx="2286000" cy="3124440"/>
          </a:xfrm>
          <a:custGeom>
            <a:avLst/>
            <a:gdLst>
              <a:gd name="textAreaLeft" fmla="*/ 360 w 2286000"/>
              <a:gd name="textAreaRight" fmla="*/ 2286720 w 228600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8"/>
          <p:cNvSpPr/>
          <p:nvPr/>
        </p:nvSpPr>
        <p:spPr>
          <a:xfrm flipH="1" flipV="1" rot="9714000">
            <a:off x="6666480" y="2964960"/>
            <a:ext cx="799920" cy="230400"/>
          </a:xfrm>
          <a:custGeom>
            <a:avLst/>
            <a:gdLst>
              <a:gd name="textAreaLeft" fmla="*/ 360 w 799920"/>
              <a:gd name="textAreaRight" fmla="*/ 800640 w 79992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</a:path>
              <a:path stroke="0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  <a:lnTo>
                  <a:pt x="19638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9"/>
          <p:cNvSpPr/>
          <p:nvPr/>
        </p:nvSpPr>
        <p:spPr>
          <a:xfrm flipH="1" flipV="1" rot="9714000">
            <a:off x="7009920" y="2436840"/>
            <a:ext cx="800280" cy="224280"/>
          </a:xfrm>
          <a:custGeom>
            <a:avLst/>
            <a:gdLst>
              <a:gd name="textAreaLeft" fmla="*/ -360 w 800280"/>
              <a:gd name="textAreaRight" fmla="*/ 800280 w 800280"/>
              <a:gd name="textAreaTop" fmla="*/ -360 h 224280"/>
              <a:gd name="textAreaBottom" fmla="*/ 224280 h 224280"/>
            </a:gdLst>
            <a:ahLst/>
            <a:rect l="textAreaLeft" t="textAreaTop" r="textAreaRight" b="textAreaBottom"/>
            <a:pathLst>
              <a:path fill="none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</a:path>
              <a:path stroke="0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  <a:lnTo>
                  <a:pt x="19638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0"/>
          <p:cNvSpPr/>
          <p:nvPr/>
        </p:nvSpPr>
        <p:spPr>
          <a:xfrm flipH="1" flipV="1" rot="9714000">
            <a:off x="6323760" y="3809520"/>
            <a:ext cx="800280" cy="230760"/>
          </a:xfrm>
          <a:custGeom>
            <a:avLst/>
            <a:gdLst>
              <a:gd name="textAreaLeft" fmla="*/ -360 w 800280"/>
              <a:gd name="textAreaRight" fmla="*/ 800280 w 800280"/>
              <a:gd name="textAreaTop" fmla="*/ -360 h 230760"/>
              <a:gd name="textAreaBottom" fmla="*/ 230760 h 230760"/>
            </a:gdLst>
            <a:ahLst/>
            <a:rect l="textAreaLeft" t="textAreaTop" r="textAreaRight" b="textAreaBottom"/>
            <a:pathLst>
              <a:path fill="none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</a:path>
              <a:path stroke="0" w="41238" h="21600">
                <a:moveTo>
                  <a:pt x="0" y="12605"/>
                </a:moveTo>
                <a:cubicBezTo>
                  <a:pt x="3517" y="4924"/>
                  <a:pt x="11190" y="-1"/>
                  <a:pt x="19638" y="0"/>
                </a:cubicBezTo>
                <a:cubicBezTo>
                  <a:pt x="31567" y="0"/>
                  <a:pt x="41238" y="9670"/>
                  <a:pt x="41238" y="21600"/>
                </a:cubicBezTo>
                <a:lnTo>
                  <a:pt x="19638" y="21600"/>
                </a:lnTo>
                <a:close/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5541E-006 C -0.00209 -0.02845 -0.00625 -0.04903 -0.01406 -0.07493 C -0.02188 -0.10083 -0.03334 -0.13876 -0.04653 -0.15565 C -0.05972 -0.17253 -0.07344 -0.17692 -0.09288 -0.17623 C -0.11233 -0.17553 -0.14063 -0.17183 -0.16337 -0.15194 C -0.18611 -0.13206 -0.20868 -0.10847 -0.22952 -0.0562 C -0.25035 -0.00393 -0.279 0.09597 -0.28872 0.16142 C -0.29844 0.22687 -0.29323 0.28492 -0.28733 0.3358 C -0.28143 0.38668 -0.26806 0.43941 -0.25347 0.46716 C -0.23889 0.49491 -0.21945 0.50393 -0.2 0.50277 C -0.18056 0.50162 -0.16146 0.48913 -0.13663 0.45976 C -0.11181 0.43039 -0.07153 0.37095 -0.0507 0.32655 C -0.02986 0.28214 -0.01945 0.23173 -0.01129 0.19334 C -0.00313 0.15495 -0.00278 0.12766 -0.00139 0.09574 C 2.4999999999999E-006 0.06383 0.00208 0.02844 2.5E-006 2.15541E-006 Z">
                                      <p:cBhvr>
                                        <p:cTn id="23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ОМЕРА ЭКСТРЕННЫХ СЛУЖ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770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s1200"/>
          <p:cNvPicPr/>
          <p:nvPr/>
        </p:nvPicPr>
        <p:blipFill>
          <a:blip r:embed="rId1"/>
          <a:stretch/>
        </p:blipFill>
        <p:spPr>
          <a:xfrm>
            <a:off x="2484360" y="333360"/>
            <a:ext cx="4237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/>
          <p:cNvSpPr/>
          <p:nvPr/>
        </p:nvSpPr>
        <p:spPr>
          <a:xfrm>
            <a:off x="39528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6200" y="2587680"/>
            <a:ext cx="515520" cy="458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12400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98764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579600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58800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738036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8172360" y="2492280"/>
            <a:ext cx="720720" cy="6494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21164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13"/>
          <p:cNvCxnSpPr/>
          <p:nvPr/>
        </p:nvCxnSpPr>
        <p:spPr>
          <a:xfrm flipH="1" flipV="1">
            <a:off x="-1692720" y="1483920"/>
            <a:ext cx="288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Line 14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5148360" y="270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5148360" y="2997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500720" y="2492280"/>
            <a:ext cx="576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7928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133200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2411280" y="4292640"/>
            <a:ext cx="100836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867280" y="4292640"/>
            <a:ext cx="100836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2"/>
          <p:cNvSpPr/>
          <p:nvPr/>
        </p:nvSpPr>
        <p:spPr>
          <a:xfrm>
            <a:off x="687708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7956720" y="429264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356400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84720" y="4437000"/>
            <a:ext cx="576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50767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5076720" y="465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Л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6+ 0= 6                             8+0=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-0 = 7                              0+9=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0+ 10=  10                        1+0=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04146_original"/>
          <p:cNvPicPr/>
          <p:nvPr/>
        </p:nvPicPr>
        <p:blipFill>
          <a:blip r:embed="rId1"/>
          <a:stretch/>
        </p:blipFill>
        <p:spPr>
          <a:xfrm>
            <a:off x="1639800" y="260280"/>
            <a:ext cx="75042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027440" y="1268280"/>
            <a:ext cx="6474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-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= 5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– 2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- 1 = 3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5 + 1   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5 -    = 3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– 3  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476360" y="184464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24000" y="350028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1476360" y="508464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6875640" y="184464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6875640" y="3500280"/>
            <a:ext cx="5760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6804000" y="508464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24000" y="33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карточки перевёрнуты?(устно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835920" y="1268280"/>
            <a:ext cx="749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-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= 4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3 +    = 6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+ 5 = 6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4 +    = 5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3 +    = 5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6 –   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547640" y="1844640"/>
            <a:ext cx="57492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24000" y="350028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619280" y="508464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6156360" y="1844640"/>
            <a:ext cx="5745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156360" y="342900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6156360" y="5157720"/>
            <a:ext cx="57636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24000" y="333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карточки перевёрнуты?(записать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1187280" y="414972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>
            <a:off x="1332000" y="4005360"/>
            <a:ext cx="547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0" y="620640"/>
            <a:ext cx="223200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90800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90800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27672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27672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64328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64328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6012000" y="404640"/>
            <a:ext cx="1366560" cy="129564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6012000" y="1700280"/>
            <a:ext cx="1366560" cy="1295280"/>
          </a:xfrm>
          <a:custGeom>
            <a:avLst/>
            <a:gdLst>
              <a:gd name="textAreaLeft" fmla="*/ 311760 w 1366560"/>
              <a:gd name="textAreaRight" fmla="*/ 1054800 w 13665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7380360" y="404640"/>
            <a:ext cx="1366920" cy="129564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7380360" y="1700280"/>
            <a:ext cx="1366920" cy="1295280"/>
          </a:xfrm>
          <a:custGeom>
            <a:avLst/>
            <a:gdLst>
              <a:gd name="textAreaLeft" fmla="*/ 312120 w 1366920"/>
              <a:gd name="textAreaRight" fmla="*/ 1054800 w 136692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237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60576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97412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42480" y="404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709400" y="177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Bookman Old Style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8"/>
          <p:cNvSpPr txBox="1"/>
          <p:nvPr/>
        </p:nvSpPr>
        <p:spPr>
          <a:xfrm>
            <a:off x="1403280" y="4005360"/>
            <a:ext cx="547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EF7dXaJXYAMjPdu"/>
          <p:cNvPicPr/>
          <p:nvPr/>
        </p:nvPicPr>
        <p:blipFill>
          <a:blip r:embed="rId1"/>
          <a:stretch/>
        </p:blipFill>
        <p:spPr>
          <a:xfrm>
            <a:off x="324000" y="981000"/>
            <a:ext cx="8513640" cy="532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54c1dd65173d76256cfa0af68b2bcd98"/>
          <p:cNvPicPr/>
          <p:nvPr/>
        </p:nvPicPr>
        <p:blipFill>
          <a:blip r:embed="rId2"/>
          <a:stretch/>
        </p:blipFill>
        <p:spPr>
          <a:xfrm>
            <a:off x="324000" y="3357720"/>
            <a:ext cx="320508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Number-Zero-PNG-Transparent-Image"/>
          <p:cNvPicPr/>
          <p:nvPr/>
        </p:nvPicPr>
        <p:blipFill>
          <a:blip r:embed="rId1"/>
          <a:stretch/>
        </p:blipFill>
        <p:spPr>
          <a:xfrm>
            <a:off x="2700360" y="1628640"/>
            <a:ext cx="3303720" cy="4797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Нол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19:39Z</dcterms:created>
  <dc:creator>Синецкая Г.Г.</dc:creator>
  <dc:description/>
  <dc:language>en-US</dc:language>
  <cp:lastModifiedBy>2011</cp:lastModifiedBy>
  <dcterms:modified xsi:type="dcterms:W3CDTF">2019-11-24T15:15:37Z</dcterms:modified>
  <cp:revision>55</cp:revision>
  <dc:subject>Числа 6 и 7. Письмо цифры 7</dc:subject>
  <dc:title>Математика. 1 класс</dc:title>
</cp:coreProperties>
</file>