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ADE-CF85-475A-A83B-35E3FF92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B16-1EC4-4396-A40D-34BE8C52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B8D-B085-4DE1-A41C-8D0D2563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F2B-F676-4A55-B658-34A530E1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FDB-6B38-41EE-93B3-7D669B76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F7A-EF06-4D7B-A93D-13D7C72D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014-DD28-4D40-B3F9-21FCA293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BCC-9797-4128-9181-A701DC5D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E05-64B9-47DB-96D7-3EA4108B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6EF-6F38-4601-8FF0-AB0EA3FB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27D-3D45-4CD0-90A0-B3C1CDC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05F-EBE6-420A-9C0F-CB9AE85A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764-E309-4730-80AB-531D4CE5AF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omic Sans MS"/>
              </a:rPr>
              <a:t>Тропинка с препятствиям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1"/>
          <p:cNvPicPr/>
          <p:nvPr/>
        </p:nvPicPr>
        <p:blipFill>
          <a:blip r:embed="rId1"/>
          <a:stretch/>
        </p:blipFill>
        <p:spPr>
          <a:xfrm>
            <a:off x="1042920" y="1413000"/>
            <a:ext cx="698364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u_9f7d58b0086c8a5d220a5d0b15ecc0e2_800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 rot="7451400">
            <a:off x="4549320" y="1241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rc 6"/>
          <p:cNvSpPr/>
          <p:nvPr/>
        </p:nvSpPr>
        <p:spPr>
          <a:xfrm flipH="1">
            <a:off x="6172200" y="1981080"/>
            <a:ext cx="2286000" cy="3124440"/>
          </a:xfrm>
          <a:custGeom>
            <a:avLst/>
            <a:gdLst>
              <a:gd name="textAreaLeft" fmla="*/ 360 w 2286000"/>
              <a:gd name="textAreaRight" fmla="*/ 2286720 w 228600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8"/>
          <p:cNvSpPr/>
          <p:nvPr/>
        </p:nvSpPr>
        <p:spPr>
          <a:xfrm flipH="1" flipV="1" rot="9714000">
            <a:off x="6666480" y="2964960"/>
            <a:ext cx="799920" cy="230400"/>
          </a:xfrm>
          <a:custGeom>
            <a:avLst/>
            <a:gdLst>
              <a:gd name="textAreaLeft" fmla="*/ 360 w 799920"/>
              <a:gd name="textAreaRight" fmla="*/ 800640 w 79992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</a:path>
              <a:path stroke="0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  <a:lnTo>
                  <a:pt x="19638" y="21600"/>
                </a:lnTo>
                <a:close/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9"/>
          <p:cNvSpPr/>
          <p:nvPr/>
        </p:nvSpPr>
        <p:spPr>
          <a:xfrm flipH="1" flipV="1" rot="9714000">
            <a:off x="7009920" y="2436840"/>
            <a:ext cx="800280" cy="224280"/>
          </a:xfrm>
          <a:custGeom>
            <a:avLst/>
            <a:gdLst>
              <a:gd name="textAreaLeft" fmla="*/ -360 w 800280"/>
              <a:gd name="textAreaRight" fmla="*/ 800280 w 800280"/>
              <a:gd name="textAreaTop" fmla="*/ -360 h 224280"/>
              <a:gd name="textAreaBottom" fmla="*/ 224280 h 224280"/>
            </a:gdLst>
            <a:ahLst/>
            <a:rect l="textAreaLeft" t="textAreaTop" r="textAreaRight" b="textAreaBottom"/>
            <a:pathLst>
              <a:path fill="none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</a:path>
              <a:path stroke="0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  <a:lnTo>
                  <a:pt x="19638" y="21600"/>
                </a:lnTo>
                <a:close/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0"/>
          <p:cNvSpPr/>
          <p:nvPr/>
        </p:nvSpPr>
        <p:spPr>
          <a:xfrm flipH="1" flipV="1" rot="9714000">
            <a:off x="6323760" y="3809520"/>
            <a:ext cx="800280" cy="230760"/>
          </a:xfrm>
          <a:custGeom>
            <a:avLst/>
            <a:gdLst>
              <a:gd name="textAreaLeft" fmla="*/ -360 w 800280"/>
              <a:gd name="textAreaRight" fmla="*/ 800280 w 800280"/>
              <a:gd name="textAreaTop" fmla="*/ -360 h 230760"/>
              <a:gd name="textAreaBottom" fmla="*/ 230760 h 230760"/>
            </a:gdLst>
            <a:ahLst/>
            <a:rect l="textAreaLeft" t="textAreaTop" r="textAreaRight" b="textAreaBottom"/>
            <a:pathLst>
              <a:path fill="none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</a:path>
              <a:path stroke="0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  <a:lnTo>
                  <a:pt x="19638" y="21600"/>
                </a:lnTo>
                <a:close/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15541E-006 C -0.00209 -0.02845 -0.00625 -0.04903 -0.01406 -0.07493 C -0.02188 -0.10083 -0.03334 -0.13876 -0.04653 -0.15565 C -0.05972 -0.17253 -0.07344 -0.17692 -0.09288 -0.17623 C -0.11233 -0.17553 -0.14063 -0.17183 -0.16337 -0.15194 C -0.18611 -0.13206 -0.20868 -0.10847 -0.22952 -0.0562 C -0.25035 -0.00393 -0.279 0.09597 -0.28872 0.16142 C -0.29844 0.22687 -0.29323 0.28492 -0.28733 0.3358 C -0.28143 0.38668 -0.26806 0.43941 -0.25347 0.46716 C -0.23889 0.49491 -0.21945 0.50393 -0.2 0.50277 C -0.18056 0.50162 -0.16146 0.48913 -0.13663 0.45976 C -0.11181 0.43039 -0.07153 0.37095 -0.0507 0.32655 C -0.02986 0.28214 -0.01945 0.23173 -0.01129 0.19334 C -0.00313 0.15495 -0.00278 0.12766 -0.00139 0.09574 C 2.4999999999999E-006 0.06383 0.00208 0.02844 2.5E-006 2.15541E-006 Z">
                                      <p:cBhvr>
                                        <p:cTn id="237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ОМЕРА ЭКСТРЕННЫХ СЛУЖ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770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s1200"/>
          <p:cNvPicPr/>
          <p:nvPr/>
        </p:nvPicPr>
        <p:blipFill>
          <a:blip r:embed="rId1"/>
          <a:stretch/>
        </p:blipFill>
        <p:spPr>
          <a:xfrm>
            <a:off x="2484360" y="333360"/>
            <a:ext cx="4237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4"/>
          <p:cNvSpPr/>
          <p:nvPr/>
        </p:nvSpPr>
        <p:spPr>
          <a:xfrm>
            <a:off x="39528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6200" y="2587680"/>
            <a:ext cx="515520" cy="458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12400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98764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579600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658800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738036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817236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211640" y="25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13"/>
          <p:cNvCxnSpPr/>
          <p:nvPr/>
        </p:nvCxnSpPr>
        <p:spPr>
          <a:xfrm flipH="1" flipV="1">
            <a:off x="-1692720" y="1483920"/>
            <a:ext cx="2880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Line 14"/>
          <p:cNvSpPr/>
          <p:nvPr/>
        </p:nvSpPr>
        <p:spPr>
          <a:xfrm>
            <a:off x="3924360" y="285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5148360" y="270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5148360" y="2997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500720" y="2492280"/>
            <a:ext cx="576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79280" y="429264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1332000" y="429264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2411280" y="4292640"/>
            <a:ext cx="100836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5867280" y="4292640"/>
            <a:ext cx="100836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2"/>
          <p:cNvSpPr/>
          <p:nvPr/>
        </p:nvSpPr>
        <p:spPr>
          <a:xfrm>
            <a:off x="6877080" y="429264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7956720" y="429264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356400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284720" y="4437000"/>
            <a:ext cx="576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50767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5076720" y="465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Л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6+ 0= 6                             8+0=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7-0 = 7                              0+9=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0+ 10=  10                        1+0=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04146_original"/>
          <p:cNvPicPr/>
          <p:nvPr/>
        </p:nvPicPr>
        <p:blipFill>
          <a:blip r:embed="rId1"/>
          <a:stretch/>
        </p:blipFill>
        <p:spPr>
          <a:xfrm>
            <a:off x="1639800" y="260280"/>
            <a:ext cx="75042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1027440" y="1268280"/>
            <a:ext cx="6474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-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= 5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– 2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- 1 = 3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5 + 1   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5 -    = 3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– 3  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476360" y="184464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24000" y="350028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1476360" y="508464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6875640" y="184464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6875640" y="3500280"/>
            <a:ext cx="5760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6804000" y="508464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24000" y="333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ие карточки перевёрнуты?(устно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835920" y="1268280"/>
            <a:ext cx="749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-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= 4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3 +    = 6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+ 5 = 6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4 +    = 5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3 +    = 5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–   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1547640" y="1844640"/>
            <a:ext cx="57492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324000" y="350028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1619280" y="508464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6156360" y="184464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156360" y="342900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6156360" y="515772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24000" y="333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ие карточки перевёрнуты?(записать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1187280" y="4149720"/>
            <a:ext cx="547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738036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738036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7709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8"/>
          <p:cNvSpPr txBox="1"/>
          <p:nvPr/>
        </p:nvSpPr>
        <p:spPr>
          <a:xfrm>
            <a:off x="1332000" y="4005360"/>
            <a:ext cx="5473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738036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738036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709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8"/>
          <p:cNvSpPr txBox="1"/>
          <p:nvPr/>
        </p:nvSpPr>
        <p:spPr>
          <a:xfrm>
            <a:off x="1403280" y="4005360"/>
            <a:ext cx="547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EF7dXaJXYAMjPdu"/>
          <p:cNvPicPr/>
          <p:nvPr/>
        </p:nvPicPr>
        <p:blipFill>
          <a:blip r:embed="rId1"/>
          <a:stretch/>
        </p:blipFill>
        <p:spPr>
          <a:xfrm>
            <a:off x="324000" y="981000"/>
            <a:ext cx="8513640" cy="532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54c1dd65173d76256cfa0af68b2bcd98"/>
          <p:cNvPicPr/>
          <p:nvPr/>
        </p:nvPicPr>
        <p:blipFill>
          <a:blip r:embed="rId2"/>
          <a:stretch/>
        </p:blipFill>
        <p:spPr>
          <a:xfrm>
            <a:off x="324000" y="3357720"/>
            <a:ext cx="320508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Number-Zero-PNG-Transparent-Image"/>
          <p:cNvPicPr/>
          <p:nvPr/>
        </p:nvPicPr>
        <p:blipFill>
          <a:blip r:embed="rId1"/>
          <a:stretch/>
        </p:blipFill>
        <p:spPr>
          <a:xfrm>
            <a:off x="2700360" y="1628640"/>
            <a:ext cx="3303720" cy="4797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Нол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2011</cp:lastModifiedBy>
  <dcterms:modified xsi:type="dcterms:W3CDTF">2019-11-24T15:15:37Z</dcterms:modified>
  <cp:revision>55</cp:revision>
  <dc:subject>Числа 6 и 7. Письмо цифры 7</dc:subject>
  <dc:title>Математика. 1 класс</dc:title>
</cp:coreProperties>
</file>