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8.wmf" ContentType="image/x-wmf"/>
  <Override PartName="/ppt/media/image11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22.jpeg" ContentType="image/jpeg"/>
  <Override PartName="/ppt/media/image6.jpeg" ContentType="image/jpeg"/>
  <Override PartName="/ppt/media/image10.jpeg" ContentType="image/jpeg"/>
  <Override PartName="/ppt/media/image23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5.jpeg" ContentType="image/jpeg"/>
  <Override PartName="/ppt/media/image18.wmf" ContentType="image/x-wmf"/>
  <Override PartName="/ppt/media/image17.png" ContentType="image/png"/>
  <Override PartName="/ppt/media/image16.png" ContentType="image/png"/>
  <Override PartName="/ppt/media/image14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3.jpeg" ContentType="image/jpeg"/>
  <Override PartName="/ppt/media/image2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7D457-1CBA-4A61-959C-5B83238F0F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B86D4-07D9-49B0-874D-B87D2DEE68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10C7D-18CB-4437-9E51-287746930C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987280" y="620280"/>
            <a:ext cx="5977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50560" y="3885840"/>
            <a:ext cx="8713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87280" y="620280"/>
            <a:ext cx="5977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42523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6000" y="1628640"/>
            <a:ext cx="42523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50560" y="3885840"/>
            <a:ext cx="42523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6000" y="3885840"/>
            <a:ext cx="42523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987280" y="620280"/>
            <a:ext cx="5977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28054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6800" y="1628640"/>
            <a:ext cx="28054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42680" y="1628640"/>
            <a:ext cx="28054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50560" y="3885840"/>
            <a:ext cx="28054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6800" y="3885840"/>
            <a:ext cx="28054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42680" y="3885840"/>
            <a:ext cx="28054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87280" y="620280"/>
            <a:ext cx="5977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50560" y="1628640"/>
            <a:ext cx="87138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987280" y="620280"/>
            <a:ext cx="5977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987280" y="620280"/>
            <a:ext cx="5977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425232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16000" y="1628640"/>
            <a:ext cx="425232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987280" y="620280"/>
            <a:ext cx="5977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987280" y="620280"/>
            <a:ext cx="59770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987280" y="620280"/>
            <a:ext cx="5977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42523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6000" y="1628640"/>
            <a:ext cx="425232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50560" y="3885840"/>
            <a:ext cx="42523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987280" y="620280"/>
            <a:ext cx="5977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50560" y="1628640"/>
            <a:ext cx="87138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987280" y="620280"/>
            <a:ext cx="5977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425232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6000" y="1628640"/>
            <a:ext cx="42523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16000" y="3885840"/>
            <a:ext cx="42523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987280" y="620280"/>
            <a:ext cx="5977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42523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6000" y="1628640"/>
            <a:ext cx="42523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50560" y="3885840"/>
            <a:ext cx="8713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87280" y="620280"/>
            <a:ext cx="5977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50560" y="3885840"/>
            <a:ext cx="8713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987280" y="620280"/>
            <a:ext cx="5977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42523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6000" y="1628640"/>
            <a:ext cx="42523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50560" y="3885840"/>
            <a:ext cx="42523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16000" y="3885840"/>
            <a:ext cx="42523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87280" y="620280"/>
            <a:ext cx="5977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28054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6800" y="1628640"/>
            <a:ext cx="28054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42680" y="1628640"/>
            <a:ext cx="28054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50560" y="3885840"/>
            <a:ext cx="28054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6800" y="3885840"/>
            <a:ext cx="28054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42680" y="3885840"/>
            <a:ext cx="28054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0AEF-4181-47B2-924C-9842DCED9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987280" y="620280"/>
            <a:ext cx="5977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0560" y="1628640"/>
            <a:ext cx="87138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E60D-F238-45A7-81F5-CC45D26DA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987280" y="620280"/>
            <a:ext cx="5977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8DCC-6501-448E-A98E-4C40CEB7C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987280" y="620280"/>
            <a:ext cx="5977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425232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16000" y="1628640"/>
            <a:ext cx="425232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6FF6-3A6F-44BE-A800-8AD02AEFC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987280" y="620280"/>
            <a:ext cx="5977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E91F-21DD-44DB-8BD7-CF3BB7372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87280" y="620280"/>
            <a:ext cx="5977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2987280" y="620280"/>
            <a:ext cx="59770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0E46-75A4-40C2-AA71-32E230CA5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987280" y="620280"/>
            <a:ext cx="5977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42523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16000" y="1628640"/>
            <a:ext cx="425232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250560" y="3885840"/>
            <a:ext cx="42523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8F98-C43F-4CFF-B1F0-22CBF41D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87280" y="620280"/>
            <a:ext cx="5977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425232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16000" y="1628640"/>
            <a:ext cx="42523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716000" y="3885840"/>
            <a:ext cx="42523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6CF4-52BE-409C-B628-1D067E2B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87280" y="620280"/>
            <a:ext cx="5977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42523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16000" y="1628640"/>
            <a:ext cx="42523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250560" y="3885840"/>
            <a:ext cx="8713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578C-1F65-4042-829A-FF05835E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987280" y="620280"/>
            <a:ext cx="5977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250560" y="3885840"/>
            <a:ext cx="8713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14E7-0616-4B61-B65F-F14EC5D9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87280" y="620280"/>
            <a:ext cx="5977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42523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16000" y="1628640"/>
            <a:ext cx="42523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50560" y="3885840"/>
            <a:ext cx="42523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716000" y="3885840"/>
            <a:ext cx="42523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8618-07B0-46D9-B60B-660C02292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987280" y="620280"/>
            <a:ext cx="5977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28054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96800" y="1628640"/>
            <a:ext cx="28054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42680" y="1628640"/>
            <a:ext cx="28054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250560" y="3885840"/>
            <a:ext cx="28054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96800" y="3885840"/>
            <a:ext cx="28054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42680" y="3885840"/>
            <a:ext cx="28054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AC3B-1D2E-4CE7-AB16-33FB479C5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987280" y="620280"/>
            <a:ext cx="5977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425232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6000" y="1628640"/>
            <a:ext cx="425232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987280" y="620280"/>
            <a:ext cx="5977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987280" y="620280"/>
            <a:ext cx="59770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87280" y="620280"/>
            <a:ext cx="5977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42523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6000" y="1628640"/>
            <a:ext cx="425232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50560" y="3885840"/>
            <a:ext cx="42523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87280" y="620280"/>
            <a:ext cx="5977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425232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6000" y="1628640"/>
            <a:ext cx="42523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6000" y="3885840"/>
            <a:ext cx="42523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987280" y="620280"/>
            <a:ext cx="5977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42523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6000" y="1628640"/>
            <a:ext cx="42523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50560" y="3885840"/>
            <a:ext cx="8713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May9MasterSlaid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987280" y="620280"/>
            <a:ext cx="5977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0560" y="1628640"/>
            <a:ext cx="87138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9" descr="fire"/>
          <p:cNvPicPr/>
          <p:nvPr/>
        </p:nvPicPr>
        <p:blipFill>
          <a:blip r:embed="rId3"/>
          <a:stretch/>
        </p:blipFill>
        <p:spPr>
          <a:xfrm>
            <a:off x="0" y="4049640"/>
            <a:ext cx="2624040" cy="2808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7" descr="May9MasterTwo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87280" y="620280"/>
            <a:ext cx="5977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50560" y="1628640"/>
            <a:ext cx="87138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7" descr="May9MasterSlaid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fire"/>
          <p:cNvPicPr/>
          <p:nvPr/>
        </p:nvPicPr>
        <p:blipFill>
          <a:blip r:embed="rId3"/>
          <a:stretch/>
        </p:blipFill>
        <p:spPr>
          <a:xfrm>
            <a:off x="0" y="4049640"/>
            <a:ext cx="2624040" cy="28083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987280" y="620280"/>
            <a:ext cx="5977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250560" y="1628640"/>
            <a:ext cx="87138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9081D-7DFF-4EC6-A25B-DCCE219B87DA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1"/>
          <p:cNvSpPr/>
          <p:nvPr/>
        </p:nvSpPr>
        <p:spPr>
          <a:xfrm>
            <a:off x="428760" y="428760"/>
            <a:ext cx="8215200" cy="52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лные кавалеры ордена, то есть имеющие все четыре степени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 это четверо выдающихся русских полководце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нязь, генерал-фельдмарша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. И. Голенищев –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утузов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- Смоленски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нязь, генерал-фельдмарша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. Б. Барклай-де-Толли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раф, генерал-фельдмарша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. Ф. Паскевич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Эриванский княз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аршавски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раф, генерал-фельдмарш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. И. Дибич-Забалканский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7500960" y="2000160"/>
            <a:ext cx="1643040" cy="285768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131" name="Рисунок 4" descr="История создания георгиевской ленты"/>
          <p:cNvPicPr/>
          <p:nvPr/>
        </p:nvPicPr>
        <p:blipFill>
          <a:blip r:embed="rId2"/>
          <a:stretch/>
        </p:blipFill>
        <p:spPr>
          <a:xfrm>
            <a:off x="0" y="3929040"/>
            <a:ext cx="2571840" cy="292896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0" y="857160"/>
            <a:ext cx="3429000" cy="564372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133" name="TextBox 2"/>
          <p:cNvSpPr/>
          <p:nvPr/>
        </p:nvSpPr>
        <p:spPr>
          <a:xfrm>
            <a:off x="3643200" y="642960"/>
            <a:ext cx="5286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ихаил Илларион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ленищев-Кутуз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вый полный кавалер орде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вятого Геор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4017960" y="3500280"/>
            <a:ext cx="417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усский полководец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енерал-фельдмарша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вятейший княз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ерой Отечественной вой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812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2"/>
          <p:cNvSpPr/>
          <p:nvPr/>
        </p:nvSpPr>
        <p:spPr>
          <a:xfrm>
            <a:off x="3929040" y="78588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ихаил Богдан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арклай-де-Тол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лный кавалер ордена Святого Геор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4074480" y="3286080"/>
            <a:ext cx="4179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дающийся россий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лководец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енерал-фельдмарша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енный минист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няз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ерой Отечественной вой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812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285840" y="928800"/>
            <a:ext cx="3500280" cy="557208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</p:spTree>
  </p:cSld>
  <p:transition spd="slow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Object 2" descr=""/>
          <p:cNvPicPr/>
          <p:nvPr/>
        </p:nvPicPr>
        <p:blipFill>
          <a:blip r:embed="rId1"/>
          <a:stretch/>
        </p:blipFill>
        <p:spPr>
          <a:xfrm>
            <a:off x="433440" y="431640"/>
            <a:ext cx="8128080" cy="60962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"/>
          <p:cNvPicPr/>
          <p:nvPr/>
        </p:nvPicPr>
        <p:blipFill>
          <a:blip r:embed="rId2"/>
          <a:stretch/>
        </p:blipFill>
        <p:spPr>
          <a:xfrm>
            <a:off x="6000840" y="714240"/>
            <a:ext cx="2328840" cy="2646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"/>
          <p:cNvPicPr/>
          <p:nvPr/>
        </p:nvPicPr>
        <p:blipFill>
          <a:blip r:embed="rId3"/>
          <a:stretch/>
        </p:blipFill>
        <p:spPr>
          <a:xfrm>
            <a:off x="1285920" y="3071880"/>
            <a:ext cx="2324160" cy="281124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4"/>
          <p:cNvSpPr/>
          <p:nvPr/>
        </p:nvSpPr>
        <p:spPr>
          <a:xfrm>
            <a:off x="1143000" y="1285920"/>
            <a:ext cx="478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ф, генерал-фельдмарша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. Ф. Паскевич-Эриванск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нязь Варшавск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5"/>
          <p:cNvSpPr/>
          <p:nvPr/>
        </p:nvSpPr>
        <p:spPr>
          <a:xfrm flipV="1" rot="10800000">
            <a:off x="3857760" y="5294880"/>
            <a:ext cx="43574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6"/>
          <p:cNvSpPr/>
          <p:nvPr/>
        </p:nvSpPr>
        <p:spPr>
          <a:xfrm>
            <a:off x="3786120" y="50007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аф, генерал-фельдмарша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. И. Дибич-Забалканск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Object 2" descr=""/>
          <p:cNvPicPr/>
          <p:nvPr/>
        </p:nvPicPr>
        <p:blipFill>
          <a:blip r:embed="rId1"/>
          <a:stretch/>
        </p:blipFill>
        <p:spPr>
          <a:xfrm>
            <a:off x="285840" y="581040"/>
            <a:ext cx="8520120" cy="62769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"/>
          <p:cNvPicPr/>
          <p:nvPr/>
        </p:nvPicPr>
        <p:blipFill>
          <a:blip r:embed="rId2"/>
          <a:stretch/>
        </p:blipFill>
        <p:spPr>
          <a:xfrm>
            <a:off x="1928880" y="785880"/>
            <a:ext cx="1785960" cy="2214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"/>
          <p:cNvPicPr/>
          <p:nvPr/>
        </p:nvPicPr>
        <p:blipFill>
          <a:blip r:embed="rId3"/>
          <a:stretch/>
        </p:blipFill>
        <p:spPr>
          <a:xfrm>
            <a:off x="6643800" y="1785960"/>
            <a:ext cx="2214360" cy="2592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"/>
          <p:cNvPicPr/>
          <p:nvPr/>
        </p:nvPicPr>
        <p:blipFill>
          <a:blip r:embed="rId4"/>
          <a:stretch/>
        </p:blipFill>
        <p:spPr>
          <a:xfrm>
            <a:off x="1143000" y="3929040"/>
            <a:ext cx="1857240" cy="2127240"/>
          </a:xfrm>
          <a:prstGeom prst="rect">
            <a:avLst/>
          </a:prstGeom>
          <a:ln w="0">
            <a:noFill/>
          </a:ln>
        </p:spPr>
      </p:pic>
      <p:sp>
        <p:nvSpPr>
          <p:cNvPr id="148" name="Прямоугольник 5"/>
          <p:cNvSpPr/>
          <p:nvPr/>
        </p:nvSpPr>
        <p:spPr>
          <a:xfrm>
            <a:off x="3786120" y="928800"/>
            <a:ext cx="514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нязь, генерал-фельдмарша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 А. Потёмкин-Таврическ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6"/>
          <p:cNvSpPr/>
          <p:nvPr/>
        </p:nvSpPr>
        <p:spPr>
          <a:xfrm>
            <a:off x="3286080" y="3105000"/>
            <a:ext cx="471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нязь, генералиссиму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. В. Суворов-Рымник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8"/>
          <p:cNvSpPr/>
          <p:nvPr/>
        </p:nvSpPr>
        <p:spPr>
          <a:xfrm>
            <a:off x="3357720" y="5286240"/>
            <a:ext cx="55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ф, генерал от кавалерии Л. Л. Беннигс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Object 2" descr=""/>
          <p:cNvPicPr/>
          <p:nvPr/>
        </p:nvPicPr>
        <p:blipFill>
          <a:blip r:embed="rId1"/>
          <a:stretch/>
        </p:blipFill>
        <p:spPr>
          <a:xfrm>
            <a:off x="357120" y="428760"/>
            <a:ext cx="8209080" cy="61545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"/>
          <p:cNvPicPr/>
          <p:nvPr/>
        </p:nvPicPr>
        <p:blipFill>
          <a:blip r:embed="rId2"/>
          <a:stretch/>
        </p:blipFill>
        <p:spPr>
          <a:xfrm>
            <a:off x="1214280" y="642960"/>
            <a:ext cx="2143440" cy="24289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"/>
          <p:cNvPicPr/>
          <p:nvPr/>
        </p:nvPicPr>
        <p:blipFill>
          <a:blip r:embed="rId3"/>
          <a:stretch/>
        </p:blipFill>
        <p:spPr>
          <a:xfrm>
            <a:off x="1428840" y="3643200"/>
            <a:ext cx="1976400" cy="2500560"/>
          </a:xfrm>
          <a:prstGeom prst="rect">
            <a:avLst/>
          </a:prstGeom>
          <a:ln w="0">
            <a:noFill/>
          </a:ln>
        </p:spPr>
      </p:pic>
      <p:sp>
        <p:nvSpPr>
          <p:cNvPr id="154" name="Прямоугольник 4"/>
          <p:cNvSpPr/>
          <p:nvPr/>
        </p:nvSpPr>
        <p:spPr>
          <a:xfrm>
            <a:off x="3429000" y="1428840"/>
            <a:ext cx="485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рия София Амалия, короле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их  Сицилий.   21 февраля 1860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5"/>
          <p:cNvSpPr/>
          <p:nvPr/>
        </p:nvSpPr>
        <p:spPr>
          <a:xfrm flipV="1" rot="10800000">
            <a:off x="3714480" y="3873960"/>
            <a:ext cx="44290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7"/>
          <p:cNvSpPr/>
          <p:nvPr/>
        </p:nvSpPr>
        <p:spPr>
          <a:xfrm>
            <a:off x="3786120" y="5000760"/>
            <a:ext cx="474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мма Михайловна Иванова  (посмертно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стра милосердия, 17 сентября 1915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Object 2" descr=""/>
          <p:cNvPicPr/>
          <p:nvPr/>
        </p:nvPicPr>
        <p:blipFill>
          <a:blip r:embed="rId1"/>
          <a:stretch/>
        </p:blipFill>
        <p:spPr>
          <a:xfrm>
            <a:off x="500040" y="706320"/>
            <a:ext cx="8202600" cy="61516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"/>
          <p:cNvPicPr/>
          <p:nvPr/>
        </p:nvPicPr>
        <p:blipFill>
          <a:blip r:embed="rId2"/>
          <a:stretch/>
        </p:blipFill>
        <p:spPr>
          <a:xfrm>
            <a:off x="1071720" y="571680"/>
            <a:ext cx="3471840" cy="2592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"/>
          <p:cNvPicPr/>
          <p:nvPr/>
        </p:nvPicPr>
        <p:blipFill>
          <a:blip r:embed="rId3"/>
          <a:stretch/>
        </p:blipFill>
        <p:spPr>
          <a:xfrm>
            <a:off x="2500200" y="3357720"/>
            <a:ext cx="4597560" cy="2857320"/>
          </a:xfrm>
          <a:prstGeom prst="rect">
            <a:avLst/>
          </a:prstGeom>
          <a:ln w="0">
            <a:noFill/>
          </a:ln>
        </p:spPr>
      </p:pic>
      <p:sp>
        <p:nvSpPr>
          <p:cNvPr id="160" name="Прямоугольник 5"/>
          <p:cNvSpPr/>
          <p:nvPr/>
        </p:nvSpPr>
        <p:spPr>
          <a:xfrm>
            <a:off x="5000760" y="785880"/>
            <a:ext cx="33145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оргиевский з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мраморных досках между витых колон зала размещено свыше 11 тысяч фамилий офицеров, награждённых разными степенями ордена с 1769 по 1885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" descr=""/>
          <p:cNvPicPr/>
          <p:nvPr/>
        </p:nvPicPr>
        <p:blipFill>
          <a:blip r:embed="rId1"/>
          <a:stretch/>
        </p:blipFill>
        <p:spPr>
          <a:xfrm>
            <a:off x="428760" y="285840"/>
            <a:ext cx="1657080" cy="339084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162" name="TextBox 4"/>
          <p:cNvSpPr/>
          <p:nvPr/>
        </p:nvSpPr>
        <p:spPr>
          <a:xfrm>
            <a:off x="3643200" y="1000080"/>
            <a:ext cx="497844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ероизм советских людей в бо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 фашистами  оказался массов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вилась необходи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становить новую награ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5"/>
          <p:cNvSpPr/>
          <p:nvPr/>
        </p:nvSpPr>
        <p:spPr>
          <a:xfrm>
            <a:off x="3571920" y="2786040"/>
            <a:ext cx="50720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тот орден был утверждён 08.11.1943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статуту им награждали лиц рядового и сержантского состава Красной Арм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 личные подвиги на поле   бо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6"/>
          <p:cNvSpPr/>
          <p:nvPr/>
        </p:nvSpPr>
        <p:spPr>
          <a:xfrm>
            <a:off x="2286000" y="714240"/>
            <a:ext cx="24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рден Сла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Рисунок 5" descr="История создания георгиевской ленты"/>
          <p:cNvPicPr/>
          <p:nvPr/>
        </p:nvPicPr>
        <p:blipFill>
          <a:blip r:embed="rId2"/>
          <a:stretch/>
        </p:blipFill>
        <p:spPr>
          <a:xfrm>
            <a:off x="0" y="4143240"/>
            <a:ext cx="2786040" cy="242892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May9MasterSlai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56760" y="714240"/>
            <a:ext cx="6607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2"/>
          <a:stretch/>
        </p:blipFill>
        <p:spPr>
          <a:xfrm>
            <a:off x="5857920" y="357120"/>
            <a:ext cx="1361880" cy="2786040"/>
          </a:xfrm>
          <a:prstGeom prst="rect">
            <a:avLst/>
          </a:prstGeom>
          <a:ln w="0">
            <a:noFill/>
          </a:ln>
        </p:spPr>
      </p:pic>
      <p:sp>
        <p:nvSpPr>
          <p:cNvPr id="169" name="Прямоугольник 4"/>
          <p:cNvSpPr/>
          <p:nvPr/>
        </p:nvSpPr>
        <p:spPr>
          <a:xfrm>
            <a:off x="285840" y="928800"/>
            <a:ext cx="5500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 годы Великой Отечественной войн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продолжая боевые традиции русской армии, 8 ноября 1943 года был учрежден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рден Славы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ех степеней. Его статус так же, как и желто-черная расцветка ленты, напоминали о Георгиевском кресте. Затем георгиевская лента, подтверждая традиционные цвета российской воинской доблести, украсила многие солдатские и современные российские наградные медали и зна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Рисунок 6" descr="150px-OrderOfGlory3rdClass.jpg"/>
          <p:cNvPicPr/>
          <p:nvPr/>
        </p:nvPicPr>
        <p:blipFill>
          <a:blip r:embed="rId3"/>
          <a:stretch/>
        </p:blipFill>
        <p:spPr>
          <a:xfrm>
            <a:off x="6500880" y="3143160"/>
            <a:ext cx="1357200" cy="278784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7" descr="Order_of_Glory.jpg"/>
          <p:cNvPicPr/>
          <p:nvPr/>
        </p:nvPicPr>
        <p:blipFill>
          <a:blip r:embed="rId4"/>
          <a:stretch/>
        </p:blipFill>
        <p:spPr>
          <a:xfrm>
            <a:off x="7572240" y="357120"/>
            <a:ext cx="1347840" cy="278604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3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" dur="3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" dur="3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3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7T21:52:58Z</dcterms:created>
  <dc:creator>А 2007</dc:creator>
  <dc:description/>
  <dc:language>en-US</dc:language>
  <cp:lastModifiedBy>Елена</cp:lastModifiedBy>
  <dcterms:modified xsi:type="dcterms:W3CDTF">2019-11-24T14:53:46Z</dcterms:modified>
  <cp:revision>63</cp:revision>
  <dc:subject/>
  <dc:title>«Георгиевская ленточка»</dc:title>
</cp:coreProperties>
</file>