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jpeg" ContentType="image/jpeg"/>
  <Override PartName="/ppt/media/image10.jpeg" ContentType="image/jpeg"/>
  <Override PartName="/ppt/media/image23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6FAB-09A9-48AF-B28E-E260D4DDF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C534-C4A3-415F-A867-9089EB002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7E37-5F42-45C2-8A60-E3EBC2A820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80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268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056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80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268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87280" y="620280"/>
            <a:ext cx="5977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680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268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056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680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268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16D-98F3-4DE9-945C-7013D8EC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A15-778B-4756-8BE5-8BFACA26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290-0AD1-49CA-8028-96F91D9E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F70-1AC4-4D0C-B45B-C38CC6FC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4A6-D5EB-41EE-8BD7-9456E7D5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987280" y="620280"/>
            <a:ext cx="5977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072-1B28-4001-8C01-39391562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3CF-1B41-4CC7-B4FC-53A65A03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772-206A-49BB-905D-0D67E9D8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D1B-6F4E-46DE-98A2-1924E12E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019-2280-4A0B-B1A3-BDE75D04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260-3D86-4BA0-8A14-9C77B701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680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4268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5056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680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4268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19C-A85E-4F21-B768-E4944F14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87280" y="620280"/>
            <a:ext cx="5977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ay9Mast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fire"/>
          <p:cNvPicPr/>
          <p:nvPr/>
        </p:nvPicPr>
        <p:blipFill>
          <a:blip r:embed="rId3"/>
          <a:stretch/>
        </p:blipFill>
        <p:spPr>
          <a:xfrm>
            <a:off x="0" y="4049640"/>
            <a:ext cx="2624040" cy="280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May9MasterTwo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May9Mast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fire"/>
          <p:cNvPicPr/>
          <p:nvPr/>
        </p:nvPicPr>
        <p:blipFill>
          <a:blip r:embed="rId3"/>
          <a:stretch/>
        </p:blipFill>
        <p:spPr>
          <a:xfrm>
            <a:off x="0" y="4049640"/>
            <a:ext cx="2624040" cy="2808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5151-5B5E-4523-B546-07B15050226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428760" y="428760"/>
            <a:ext cx="8215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ые кавалеры ордена, то есть имеющие все четыре степени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это четверо выдающихся русских полководце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нязь, генерал-фельдмарш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. И. Голенищев –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тузов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- Смоленск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нязь, генерал-фельдмарш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. Б. Барклай-де-Толл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, генерал-фельдмарш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. Ф. Паскевич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Эриванский княз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аршавск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, генерал-фельдмарш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. И. Дибич-Забалканский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7500960" y="2000160"/>
            <a:ext cx="1643040" cy="28576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31" name="Рисунок 4" descr="История создания георгиевской ленты"/>
          <p:cNvPicPr/>
          <p:nvPr/>
        </p:nvPicPr>
        <p:blipFill>
          <a:blip r:embed="rId2"/>
          <a:stretch/>
        </p:blipFill>
        <p:spPr>
          <a:xfrm>
            <a:off x="0" y="3929040"/>
            <a:ext cx="257184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3429000" cy="56437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33" name="TextBox 2"/>
          <p:cNvSpPr/>
          <p:nvPr/>
        </p:nvSpPr>
        <p:spPr>
          <a:xfrm>
            <a:off x="3643200" y="642960"/>
            <a:ext cx="52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Илларио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ленищев-Кут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й полный кавалер орд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того Гео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4017960" y="3500280"/>
            <a:ext cx="417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ий полководец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л-фельдмарш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тейший княз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ой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1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3929040" y="7858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Богд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клай-де-Тол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ный кавалер ордена Святого Гео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4074480" y="3286080"/>
            <a:ext cx="417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дающийся росс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ководец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л-фельдмарш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енный минист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няз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ой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1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3500280" cy="55720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Object 2" descr=""/>
          <p:cNvPicPr/>
          <p:nvPr/>
        </p:nvPicPr>
        <p:blipFill>
          <a:blip r:embed="rId1"/>
          <a:stretch/>
        </p:blipFill>
        <p:spPr>
          <a:xfrm>
            <a:off x="433440" y="43164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6000840" y="714240"/>
            <a:ext cx="2328840" cy="264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1285920" y="3071880"/>
            <a:ext cx="2324160" cy="28112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>
            <a:off x="1143000" y="1285920"/>
            <a:ext cx="47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, генерал-фельдмарш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 Ф. Паскевич-Эрив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язь Варшав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5"/>
          <p:cNvSpPr/>
          <p:nvPr/>
        </p:nvSpPr>
        <p:spPr>
          <a:xfrm flipV="1" rot="10800000">
            <a:off x="3857760" y="5294880"/>
            <a:ext cx="4357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3786120" y="5000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, генерал-фельдмарш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И. Дибич-Забалка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Object 2" descr=""/>
          <p:cNvPicPr/>
          <p:nvPr/>
        </p:nvPicPr>
        <p:blipFill>
          <a:blip r:embed="rId1"/>
          <a:stretch/>
        </p:blipFill>
        <p:spPr>
          <a:xfrm>
            <a:off x="285840" y="581040"/>
            <a:ext cx="8520120" cy="6276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928880" y="785880"/>
            <a:ext cx="1785960" cy="221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6643800" y="1785960"/>
            <a:ext cx="221436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1143000" y="3929040"/>
            <a:ext cx="1857240" cy="2127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5"/>
          <p:cNvSpPr/>
          <p:nvPr/>
        </p:nvSpPr>
        <p:spPr>
          <a:xfrm>
            <a:off x="3786120" y="92880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язь, генерал-фельдмарш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. Потёмкин-Тавриче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6"/>
          <p:cNvSpPr/>
          <p:nvPr/>
        </p:nvSpPr>
        <p:spPr>
          <a:xfrm>
            <a:off x="3286080" y="3105000"/>
            <a:ext cx="47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язь, генералиссиму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В. Суворов-Рымник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3357720" y="5286240"/>
            <a:ext cx="55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, генерал от кавалерии Л. Л. Бенниг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09080" cy="6154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214280" y="642960"/>
            <a:ext cx="2143440" cy="2428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1428840" y="3643200"/>
            <a:ext cx="1976400" cy="25005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4"/>
          <p:cNvSpPr/>
          <p:nvPr/>
        </p:nvSpPr>
        <p:spPr>
          <a:xfrm>
            <a:off x="3429000" y="142884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ия София Амалия,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их  Сицилий.   21 февраля 186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/>
          <p:cNvSpPr/>
          <p:nvPr/>
        </p:nvSpPr>
        <p:spPr>
          <a:xfrm flipV="1" rot="10800000">
            <a:off x="3714480" y="3873960"/>
            <a:ext cx="4429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3786120" y="5000760"/>
            <a:ext cx="474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мма Михайловна Иванова  (посмертно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ра милосердия, 17 сентября 1915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ject 2" descr=""/>
          <p:cNvPicPr/>
          <p:nvPr/>
        </p:nvPicPr>
        <p:blipFill>
          <a:blip r:embed="rId1"/>
          <a:stretch/>
        </p:blipFill>
        <p:spPr>
          <a:xfrm>
            <a:off x="500040" y="706320"/>
            <a:ext cx="8202600" cy="6151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071720" y="571680"/>
            <a:ext cx="3471840" cy="259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2500200" y="3357720"/>
            <a:ext cx="4597560" cy="28573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5"/>
          <p:cNvSpPr/>
          <p:nvPr/>
        </p:nvSpPr>
        <p:spPr>
          <a:xfrm>
            <a:off x="5000760" y="785880"/>
            <a:ext cx="3314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ргиевский з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раморных досках между витых колон зала размещено свыше 11 тысяч фамилий офицеров, награждённых разными степенями ордена с 1769 по 188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1657080" cy="33908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62" name="TextBox 4"/>
          <p:cNvSpPr/>
          <p:nvPr/>
        </p:nvSpPr>
        <p:spPr>
          <a:xfrm>
            <a:off x="3643200" y="1000080"/>
            <a:ext cx="49784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оизм советских людей в бо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фашистами  оказался масс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вилась необход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ановить новую нагр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3571920" y="2786040"/>
            <a:ext cx="5072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т орден был утверждён 08.11.1943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статуту им награждали лиц рядового и сержантского состава Красной Арм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личные подвиги на поле   б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2286000" y="71424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ден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5" descr="История создания георгиевской ленты"/>
          <p:cNvPicPr/>
          <p:nvPr/>
        </p:nvPicPr>
        <p:blipFill>
          <a:blip r:embed="rId2"/>
          <a:stretch/>
        </p:blipFill>
        <p:spPr>
          <a:xfrm>
            <a:off x="0" y="4143240"/>
            <a:ext cx="27860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May9MasterSla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56760" y="714240"/>
            <a:ext cx="660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5857920" y="357120"/>
            <a:ext cx="1361880" cy="27860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4"/>
          <p:cNvSpPr/>
          <p:nvPr/>
        </p:nvSpPr>
        <p:spPr>
          <a:xfrm>
            <a:off x="285840" y="928800"/>
            <a:ext cx="5500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годы Великой Отечественной войн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родолжая боевые традиции русской армии, 8 ноября 1943 года был учрежден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рден Слав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 степеней. Его статус так же, как и желто-черная расцветка ленты, напоминали о Георгиевском кресте. Затем георгиевская лента, подтверждая традиционные цвета российской воинской доблести, украсила многие солдатские и современные российские наградные медали и 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6" descr="150px-OrderOfGlory3rdClass.jpg"/>
          <p:cNvPicPr/>
          <p:nvPr/>
        </p:nvPicPr>
        <p:blipFill>
          <a:blip r:embed="rId3"/>
          <a:stretch/>
        </p:blipFill>
        <p:spPr>
          <a:xfrm>
            <a:off x="6500880" y="3143160"/>
            <a:ext cx="1357200" cy="2787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Order_of_Glory.jpg"/>
          <p:cNvPicPr/>
          <p:nvPr/>
        </p:nvPicPr>
        <p:blipFill>
          <a:blip r:embed="rId4"/>
          <a:stretch/>
        </p:blipFill>
        <p:spPr>
          <a:xfrm>
            <a:off x="7572240" y="357120"/>
            <a:ext cx="134784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21:52:58Z</dcterms:created>
  <dc:creator>А 2007</dc:creator>
  <dc:description/>
  <dc:language>en-US</dc:language>
  <cp:lastModifiedBy>Елена</cp:lastModifiedBy>
  <dcterms:modified xsi:type="dcterms:W3CDTF">2019-11-24T14:53:46Z</dcterms:modified>
  <cp:revision>63</cp:revision>
  <dc:subject/>
  <dc:title>«Георгиевская ленточка»</dc:title>
</cp:coreProperties>
</file>